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3E6-8C20-4D65-A788-6F265B0A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962-414C-4568-9294-9912EBFD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34D-2944-4BE1-911C-1EDB20DF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0D7-C8DA-475D-AE5F-37EE1AFA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97D-623D-4E2F-B21A-1CE88D87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707-AEA7-43F6-A474-F4B1E1DF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2FD-9997-4089-9082-0CA99A0C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D7B-829C-4EBF-934A-DBAE5CF9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579-4782-4C44-A86D-0F1D6D74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CB5-3D46-4C04-8D75-20AD4DC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2B9-3853-4001-856E-00D60C18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208-F068-4F32-999E-425CB11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7EF9-9AFF-4296-AF11-B62114D8A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7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23.xml"/><Relationship Id="rId6" Type="http://schemas.openxmlformats.org/officeDocument/2006/relationships/slide" Target="slide26.xml"/><Relationship Id="rId7" Type="http://schemas.openxmlformats.org/officeDocument/2006/relationships/slide" Target="slide38.xml"/><Relationship Id="rId8" Type="http://schemas.openxmlformats.org/officeDocument/2006/relationships/slide" Target="slide42.xm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25146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ffff"/>
                </a:solidFill>
                <a:latin typeface="Times New Roman"/>
              </a:rPr>
              <a:t>서양미술 감상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ko-KR" sz="4400" spc="-1" strike="noStrike">
                <a:solidFill>
                  <a:srgbClr val="ffffff"/>
                </a:solidFill>
                <a:latin typeface="Times New Roman"/>
              </a:rPr>
              <a:t>세기 근대 미술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4400" spc="-1" strike="noStrike">
                <a:solidFill>
                  <a:srgbClr val="ffffff"/>
                </a:solidFill>
                <a:latin typeface="Times New Roman"/>
              </a:rPr>
              <a:t>회화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41760" y="4204080"/>
            <a:ext cx="5384160" cy="1650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d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진주여자중학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Times New Roman"/>
              </a:rPr>
              <a:t>이   명   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>
            <a:hlinkClick r:id="" action="ppaction://hlinkshowjump?jump=lastslide"/>
          </p:cNvPr>
          <p:cNvSpPr/>
          <p:nvPr/>
        </p:nvSpPr>
        <p:spPr>
          <a:xfrm>
            <a:off x="8478720" y="640080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18914" y="10800"/>
                </a:moveTo>
                <a:lnTo>
                  <a:pt x="8409" y="17806"/>
                </a:lnTo>
                <a:lnTo>
                  <a:pt x="8409" y="3794"/>
                </a:lnTo>
                <a:close/>
              </a:path>
              <a:path fill="darken" w="30831" h="21600">
                <a:moveTo>
                  <a:pt x="20759" y="3794"/>
                </a:moveTo>
                <a:lnTo>
                  <a:pt x="20759" y="17806"/>
                </a:lnTo>
                <a:lnTo>
                  <a:pt x="22422" y="17806"/>
                </a:lnTo>
                <a:lnTo>
                  <a:pt x="22422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" action="ppaction://hlinkshowjump?jump=nextslide"/>
          </p:cNvPr>
          <p:cNvSpPr/>
          <p:nvPr/>
        </p:nvSpPr>
        <p:spPr>
          <a:xfrm>
            <a:off x="8077320" y="640080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00800" y="4647960"/>
            <a:ext cx="2743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앵 그 르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Jean Auguste Ingres,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1780~1867,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발팽송의 욕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8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발팽송의 욕녀"/>
          <p:cNvPicPr/>
          <p:nvPr/>
        </p:nvPicPr>
        <p:blipFill>
          <a:blip r:embed="rId2"/>
          <a:stretch/>
        </p:blipFill>
        <p:spPr>
          <a:xfrm>
            <a:off x="1835280" y="189000"/>
            <a:ext cx="4314600" cy="6494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오달리스크"/>
          <p:cNvPicPr/>
          <p:nvPr/>
        </p:nvPicPr>
        <p:blipFill>
          <a:blip r:embed="rId1"/>
          <a:stretch/>
        </p:blipFill>
        <p:spPr>
          <a:xfrm>
            <a:off x="762120" y="1209600"/>
            <a:ext cx="7619760" cy="4438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916360" y="5805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앵그르의  “그랑드 오달리스크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670572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rial"/>
                <a:ea typeface="돋움"/>
              </a:rPr>
              <a:t>2. </a:t>
            </a:r>
            <a:r>
              <a:rPr b="1" lang="ko-KR" sz="4000" spc="-1" strike="noStrike">
                <a:solidFill>
                  <a:srgbClr val="010000"/>
                </a:solidFill>
                <a:latin typeface="Arial"/>
                <a:ea typeface="돋움"/>
              </a:rPr>
              <a:t>낭만주의 </a:t>
            </a:r>
            <a:r>
              <a:rPr b="1" lang="en-US" sz="4000" spc="-1" strike="noStrike">
                <a:solidFill>
                  <a:srgbClr val="010000"/>
                </a:solidFill>
                <a:latin typeface="Times New Roman"/>
                <a:ea typeface="돋움"/>
              </a:rPr>
              <a:t>(Romanticis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29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30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33">
            <a:hlinkClick r:id="rId1" action="ppaction://hlinksldjump"/>
          </p:cNvPr>
          <p:cNvSpPr/>
          <p:nvPr/>
        </p:nvSpPr>
        <p:spPr>
          <a:xfrm>
            <a:off x="77929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036"/>
          <p:cNvGrpSpPr/>
          <p:nvPr/>
        </p:nvGrpSpPr>
        <p:grpSpPr>
          <a:xfrm>
            <a:off x="1447920" y="1828800"/>
            <a:ext cx="6248160" cy="1981080"/>
            <a:chOff x="1447920" y="1828800"/>
            <a:chExt cx="6248160" cy="1981080"/>
          </a:xfrm>
        </p:grpSpPr>
        <p:sp>
          <p:nvSpPr>
            <p:cNvPr id="117" name="AutoShape 1026"/>
            <p:cNvSpPr/>
            <p:nvPr/>
          </p:nvSpPr>
          <p:spPr>
            <a:xfrm>
              <a:off x="1447920" y="1828800"/>
              <a:ext cx="624816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고전주의에 대립되며 화려한 색채를 사용 하여 격동적이며 정열적인 표현을 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1034"/>
            <p:cNvSpPr/>
            <p:nvPr/>
          </p:nvSpPr>
          <p:spPr>
            <a:xfrm>
              <a:off x="3886200" y="3200400"/>
              <a:ext cx="1066680" cy="609480"/>
            </a:xfrm>
            <a:prstGeom prst="downArrow">
              <a:avLst>
                <a:gd name="adj1" fmla="val 57444"/>
                <a:gd name="adj2" fmla="val 620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AutoShape 1028"/>
          <p:cNvSpPr/>
          <p:nvPr/>
        </p:nvSpPr>
        <p:spPr>
          <a:xfrm>
            <a:off x="457200" y="3809880"/>
            <a:ext cx="8229600" cy="236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f7ff"/>
              </a:gs>
              <a:gs pos="100000">
                <a:srgbClr val="f0f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들라크루아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민중을 이끄는 자유의 여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시오의 학살</a:t>
            </a:r>
            <a:br>
              <a:rPr sz="2800"/>
            </a:br>
            <a:r>
              <a:rPr b="1" lang="ko-KR" sz="28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제리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2" action="ppaction://hlinksldjump"/>
              </a:rPr>
              <a:t>메듀스호의 뗏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601992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들라크루아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(Ferdinand  Delacorix, 1798~1863,  </a:t>
            </a: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민중을 이끄는 자유의 여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민중을 이끄는 자유의 여신-들라크로와"/>
          <p:cNvPicPr/>
          <p:nvPr/>
        </p:nvPicPr>
        <p:blipFill>
          <a:blip r:embed="rId2"/>
          <a:stretch/>
        </p:blipFill>
        <p:spPr>
          <a:xfrm>
            <a:off x="304920" y="6336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7913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제 리 코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Theódore  Gericault, 1791~1824, 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메듀스호의 뗏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제리코의 메뒤스호의 뗏목"/>
          <p:cNvPicPr/>
          <p:nvPr/>
        </p:nvPicPr>
        <p:blipFill>
          <a:blip r:embed="rId2"/>
          <a:stretch/>
        </p:blipFill>
        <p:spPr>
          <a:xfrm>
            <a:off x="228600" y="426960"/>
            <a:ext cx="7696080" cy="53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670572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eb2b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000"/>
                </a:solidFill>
                <a:latin typeface="Arial"/>
                <a:ea typeface="돋움"/>
              </a:rPr>
              <a:t>3. </a:t>
            </a:r>
            <a:r>
              <a:rPr b="1" lang="ko-KR" sz="4400" spc="-1" strike="noStrike">
                <a:solidFill>
                  <a:srgbClr val="010000"/>
                </a:solidFill>
                <a:latin typeface="Arial"/>
                <a:ea typeface="돋움"/>
              </a:rPr>
              <a:t>자연주의 </a:t>
            </a:r>
            <a:r>
              <a:rPr b="1" lang="en-US" sz="4400" spc="-1" strike="noStrike">
                <a:solidFill>
                  <a:srgbClr val="010000"/>
                </a:solidFill>
                <a:latin typeface="Times New Roman"/>
                <a:ea typeface="돋움"/>
              </a:rPr>
              <a:t>(Naturalis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9">
            <a:hlinkClick r:id="rId1" action="ppaction://hlinksldjump"/>
          </p:cNvPr>
          <p:cNvSpPr/>
          <p:nvPr/>
        </p:nvSpPr>
        <p:spPr>
          <a:xfrm>
            <a:off x="77929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12"/>
          <p:cNvGrpSpPr/>
          <p:nvPr/>
        </p:nvGrpSpPr>
        <p:grpSpPr>
          <a:xfrm>
            <a:off x="1447920" y="1828800"/>
            <a:ext cx="6248160" cy="1676520"/>
            <a:chOff x="1447920" y="1828800"/>
            <a:chExt cx="6248160" cy="1676520"/>
          </a:xfrm>
        </p:grpSpPr>
        <p:sp>
          <p:nvSpPr>
            <p:cNvPr id="135" name="Rectangle 2"/>
            <p:cNvSpPr/>
            <p:nvPr/>
          </p:nvSpPr>
          <p:spPr>
            <a:xfrm>
              <a:off x="1447920" y="1828800"/>
              <a:ext cx="6248160" cy="114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4fff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대자연의 신비와 평화로운 농촌 풍경 표현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영국의 풍경화가와 프랑스의 바르비죵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10"/>
            <p:cNvSpPr/>
            <p:nvPr/>
          </p:nvSpPr>
          <p:spPr>
            <a:xfrm>
              <a:off x="3886200" y="2971800"/>
              <a:ext cx="1066680" cy="533520"/>
            </a:xfrm>
            <a:prstGeom prst="downArrow">
              <a:avLst>
                <a:gd name="adj1" fmla="val 57444"/>
                <a:gd name="adj2" fmla="val 620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AutoShape 4"/>
          <p:cNvSpPr/>
          <p:nvPr/>
        </p:nvSpPr>
        <p:spPr>
          <a:xfrm>
            <a:off x="685800" y="3505320"/>
            <a:ext cx="7772400" cy="266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f7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밀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만 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이삭 줍기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코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2" action="ppaction://hlinksldjump"/>
              </a:rPr>
              <a:t>진주를 단 여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이탈리아 여인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Webdings"/>
                <a:ea typeface="Webdings"/>
                <a:hlinkClick r:id="rId3" action="ppaction://hlinksldjump"/>
              </a:rPr>
              <a:t>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4" action="ppaction://hlinksldjump"/>
              </a:rPr>
              <a:t>컨스터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블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건초마차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터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5" action="ppaction://hlinksldjump"/>
              </a:rPr>
              <a:t>전함  테메레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밀레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Jean Francois Millet, 1814~1875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만 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C:\WORK\그림자료\감상\19세기\자연주의\밀레03.JPG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79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AutoShape 6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7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8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624852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밀레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Jean Francois Millet, 1814~1875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이삭 줍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053" descr="C:\WORK\그림자료\감상\19세기\자연주의\밀레02.JPG"/>
          <p:cNvPicPr/>
          <p:nvPr/>
        </p:nvPicPr>
        <p:blipFill>
          <a:blip r:embed="rId1"/>
          <a:stretch/>
        </p:blipFill>
        <p:spPr>
          <a:xfrm>
            <a:off x="762120" y="290520"/>
            <a:ext cx="7696080" cy="588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5" name="AutoShape 205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205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056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진주를 단 여인"/>
          <p:cNvPicPr/>
          <p:nvPr/>
        </p:nvPicPr>
        <p:blipFill>
          <a:blip r:embed="rId1"/>
          <a:stretch/>
        </p:blipFill>
        <p:spPr>
          <a:xfrm>
            <a:off x="2268360" y="333360"/>
            <a:ext cx="4464360" cy="568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342600" y="616572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코로의 “진주를 단 여인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19560" y="4419720"/>
            <a:ext cx="28191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코로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Camille Corot,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1796~1875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이탈리아 여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027" descr="C:\WORK\그림자료\감상\19세기\자연주의\코로03.JPG"/>
          <p:cNvPicPr/>
          <p:nvPr/>
        </p:nvPicPr>
        <p:blipFill>
          <a:blip r:embed="rId1"/>
          <a:stretch/>
        </p:blipFill>
        <p:spPr>
          <a:xfrm>
            <a:off x="1695600" y="0"/>
            <a:ext cx="40194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2" name="AutoShape 1028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29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30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8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0" y="1700280"/>
            <a:ext cx="9144000" cy="439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51080" y="315720"/>
            <a:ext cx="4536360" cy="10314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c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Times New Roman"/>
              </a:rPr>
              <a:t>학 습  목 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7">
            <a:hlinkClick r:id="" action="ppaction://hlinkshowjump?jump=previousslide"/>
          </p:cNvPr>
          <p:cNvSpPr/>
          <p:nvPr/>
        </p:nvSpPr>
        <p:spPr>
          <a:xfrm>
            <a:off x="7543800" y="64771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8">
            <a:hlinkClick r:id="" action="ppaction://hlinkshowjump?jump=nextslide"/>
          </p:cNvPr>
          <p:cNvSpPr/>
          <p:nvPr/>
        </p:nvSpPr>
        <p:spPr>
          <a:xfrm>
            <a:off x="7904160" y="64771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">
            <a:hlinkClick r:id="rId1" action="ppaction://hlinksldjump"/>
          </p:cNvPr>
          <p:cNvSpPr/>
          <p:nvPr/>
        </p:nvSpPr>
        <p:spPr>
          <a:xfrm>
            <a:off x="8305920" y="64771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95280" y="2708280"/>
            <a:ext cx="832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근대미술의 유파와 종류를 알고 그에 따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화가와 작품을 알게  한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화파에 따라 표현방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구도 등 기법의  다양 성을  이해한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6248520"/>
            <a:ext cx="654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컨스터블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Jhon Constable, 1776~1837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영국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건초마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9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0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2" descr="컨스터블의 건초마차"/>
          <p:cNvPicPr/>
          <p:nvPr/>
        </p:nvPicPr>
        <p:blipFill>
          <a:blip r:embed="rId2"/>
          <a:stretch/>
        </p:blipFill>
        <p:spPr>
          <a:xfrm>
            <a:off x="762120" y="757080"/>
            <a:ext cx="7619760" cy="5343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4419720"/>
            <a:ext cx="2971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컨스터블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 Jhon Constable,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1776~1837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영국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풍경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C:\WORK\그림자료\감상\19세기\자연주의\컨스터02.JPG"/>
          <p:cNvPicPr/>
          <p:nvPr/>
        </p:nvPicPr>
        <p:blipFill>
          <a:blip r:embed="rId1"/>
          <a:stretch/>
        </p:blipFill>
        <p:spPr>
          <a:xfrm>
            <a:off x="0" y="0"/>
            <a:ext cx="582768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2" name="AutoShape 5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6165720"/>
            <a:ext cx="6969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터 너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 William Turner, 1775~1851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영국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전함 테메레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6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7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8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전함 테메레르"/>
          <p:cNvPicPr/>
          <p:nvPr/>
        </p:nvPicPr>
        <p:blipFill>
          <a:blip r:embed="rId2"/>
          <a:stretch/>
        </p:blipFill>
        <p:spPr>
          <a:xfrm>
            <a:off x="905040" y="685800"/>
            <a:ext cx="7333920" cy="5486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670572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eb2b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000"/>
                </a:solidFill>
                <a:latin typeface="Arial"/>
                <a:ea typeface="돋움"/>
              </a:rPr>
              <a:t>4. </a:t>
            </a:r>
            <a:r>
              <a:rPr b="1" lang="ko-KR" sz="4400" spc="-1" strike="noStrike">
                <a:solidFill>
                  <a:srgbClr val="010000"/>
                </a:solidFill>
                <a:latin typeface="Arial"/>
                <a:ea typeface="돋움"/>
              </a:rPr>
              <a:t>사실주의 </a:t>
            </a:r>
            <a:r>
              <a:rPr b="1" lang="en-US" sz="4400" spc="-1" strike="noStrike">
                <a:solidFill>
                  <a:srgbClr val="010000"/>
                </a:solidFill>
                <a:latin typeface="Times New Roman"/>
                <a:ea typeface="돋움"/>
              </a:rPr>
              <a:t>( Realism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5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">
            <a:hlinkClick r:id="rId1" action="ppaction://hlinksldjump"/>
          </p:cNvPr>
          <p:cNvSpPr/>
          <p:nvPr/>
        </p:nvSpPr>
        <p:spPr>
          <a:xfrm>
            <a:off x="77929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12"/>
          <p:cNvGrpSpPr/>
          <p:nvPr/>
        </p:nvGrpSpPr>
        <p:grpSpPr>
          <a:xfrm>
            <a:off x="1447920" y="1828800"/>
            <a:ext cx="6248160" cy="1752480"/>
            <a:chOff x="1447920" y="1828800"/>
            <a:chExt cx="6248160" cy="1752480"/>
          </a:xfrm>
        </p:grpSpPr>
        <p:sp>
          <p:nvSpPr>
            <p:cNvPr id="175" name="Rectangle 2"/>
            <p:cNvSpPr/>
            <p:nvPr/>
          </p:nvSpPr>
          <p:spPr>
            <a:xfrm>
              <a:off x="1447920" y="1828800"/>
              <a:ext cx="6248160" cy="12952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4fff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4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현실을 있는 그대로 꾸밈 없이 표현하였으며 일상 생활 속에서 그림의 소재를 구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utoShape 10"/>
            <p:cNvSpPr/>
            <p:nvPr/>
          </p:nvSpPr>
          <p:spPr>
            <a:xfrm>
              <a:off x="3809880" y="3200400"/>
              <a:ext cx="1067040" cy="380880"/>
            </a:xfrm>
            <a:prstGeom prst="downArrow">
              <a:avLst>
                <a:gd name="adj1" fmla="val 57444"/>
                <a:gd name="adj2" fmla="val 620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AutoShape 4"/>
          <p:cNvSpPr/>
          <p:nvPr/>
        </p:nvSpPr>
        <p:spPr>
          <a:xfrm>
            <a:off x="457200" y="3581280"/>
            <a:ext cx="8229600" cy="236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쿠르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안녕하세요 쿠르베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해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도미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2" action="ppaction://hlinksldjump"/>
              </a:rPr>
              <a:t>삼등 열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쿠 르 베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Gustave Courbet, 1819~1877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해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안녕하세요  쿠르베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7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8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9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0" descr="안녕하세요 쿠르베씨"/>
          <p:cNvPicPr/>
          <p:nvPr/>
        </p:nvPicPr>
        <p:blipFill>
          <a:blip r:embed="rId2"/>
          <a:stretch/>
        </p:blipFill>
        <p:spPr>
          <a:xfrm>
            <a:off x="1187280" y="189000"/>
            <a:ext cx="6858000" cy="5897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62485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도 미 에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Honoré  Daumier, 1823~1891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삼등 열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1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2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3" descr="사실주의-도미에-삼등열차"/>
          <p:cNvPicPr/>
          <p:nvPr/>
        </p:nvPicPr>
        <p:blipFill>
          <a:blip r:embed="rId2"/>
          <a:stretch/>
        </p:blipFill>
        <p:spPr>
          <a:xfrm>
            <a:off x="228600" y="295200"/>
            <a:ext cx="7848720" cy="5662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사실주의-도미에-삼등열차"/>
          <p:cNvPicPr/>
          <p:nvPr/>
        </p:nvPicPr>
        <p:blipFill>
          <a:blip r:embed="rId3"/>
          <a:stretch/>
        </p:blipFill>
        <p:spPr>
          <a:xfrm>
            <a:off x="250920" y="260280"/>
            <a:ext cx="7848360" cy="566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eb2b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rial"/>
                <a:ea typeface="돋움"/>
              </a:rPr>
              <a:t>5. </a:t>
            </a:r>
            <a:r>
              <a:rPr b="1" lang="ko-KR" sz="4000" spc="-1" strike="noStrike">
                <a:solidFill>
                  <a:srgbClr val="010000"/>
                </a:solidFill>
                <a:latin typeface="Arial"/>
                <a:ea typeface="돋움"/>
              </a:rPr>
              <a:t>인상주의 </a:t>
            </a:r>
            <a:r>
              <a:rPr b="1" lang="en-US" sz="4000" spc="-1" strike="noStrike">
                <a:solidFill>
                  <a:srgbClr val="010000"/>
                </a:solidFill>
                <a:latin typeface="Times New Roman"/>
                <a:ea typeface="돋움"/>
              </a:rPr>
              <a:t>(Impressionis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9">
            <a:hlinkClick r:id="rId1" action="ppaction://hlinksldjump"/>
          </p:cNvPr>
          <p:cNvSpPr/>
          <p:nvPr/>
        </p:nvSpPr>
        <p:spPr>
          <a:xfrm>
            <a:off x="77929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1143000" y="1676520"/>
            <a:ext cx="6705720" cy="1676160"/>
            <a:chOff x="1143000" y="1676520"/>
            <a:chExt cx="6705720" cy="1676160"/>
          </a:xfrm>
        </p:grpSpPr>
        <p:sp>
          <p:nvSpPr>
            <p:cNvPr id="194" name="AutoShape 2"/>
            <p:cNvSpPr/>
            <p:nvPr/>
          </p:nvSpPr>
          <p:spPr>
            <a:xfrm>
              <a:off x="1143000" y="1676520"/>
              <a:ext cx="6705720" cy="121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f4fff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12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800000"/>
                  </a:solidFill>
                  <a:latin typeface="Arial"/>
                  <a:ea typeface="돋움"/>
                </a:rPr>
                <a:t>물체의 고유색을  부정하고  빛에  따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12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800000"/>
                  </a:solidFill>
                  <a:latin typeface="Arial"/>
                  <a:ea typeface="돋움"/>
                </a:rPr>
                <a:t>변하는 순간적인 느낌을 포착하여 그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3809880" y="2971800"/>
              <a:ext cx="1067040" cy="380880"/>
            </a:xfrm>
            <a:prstGeom prst="downArrow">
              <a:avLst>
                <a:gd name="adj1" fmla="val 57444"/>
                <a:gd name="adj2" fmla="val 620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Rectangle 4"/>
          <p:cNvSpPr/>
          <p:nvPr/>
        </p:nvSpPr>
        <p:spPr>
          <a:xfrm>
            <a:off x="304920" y="3352680"/>
            <a:ext cx="8458200" cy="274320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50000">
                <a:srgbClr val="ffffff"/>
              </a:gs>
              <a:gs pos="100000">
                <a:srgbClr val="d9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마네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피리부는 소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풀밭 위의 식사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모네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해돋이 인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수련     </a:t>
            </a: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드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발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발레 연습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르누아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목욕하는 여인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독서하는 소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테라스에서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피사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석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풍경             </a:t>
            </a: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시슬레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2" action="ppaction://hlinksldjump"/>
              </a:rPr>
              <a:t>홍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3" action="ppaction://hlinksldjump"/>
              </a:rPr>
              <a:t>풍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19560" y="4190760"/>
            <a:ext cx="2895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마 네</a:t>
            </a:r>
            <a:br>
              <a:rPr sz="2000"/>
            </a:b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Edouard  Manet,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1832~1883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피리부는 소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1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2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3" descr="피리부는 소년"/>
          <p:cNvPicPr/>
          <p:nvPr/>
        </p:nvPicPr>
        <p:blipFill>
          <a:blip r:embed="rId2"/>
          <a:stretch/>
        </p:blipFill>
        <p:spPr>
          <a:xfrm>
            <a:off x="2728800" y="95400"/>
            <a:ext cx="3686400" cy="666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624852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마 네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(Edouard  Manet, 1832~1883,  </a:t>
            </a: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풀밭 위의 식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1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2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3" descr="풀밭위의 식사"/>
          <p:cNvPicPr/>
          <p:nvPr/>
        </p:nvPicPr>
        <p:blipFill>
          <a:blip r:embed="rId2"/>
          <a:stretch/>
        </p:blipFill>
        <p:spPr>
          <a:xfrm>
            <a:off x="826920" y="333360"/>
            <a:ext cx="7507440" cy="5865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모 네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Claude  Monet, 1840~1926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해돋이 인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7" descr="C:\WORK\그림자료\감상\19세기\인상주의\모네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9" name="AutoShape 8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061">
            <a:hlinkClick r:id="" action="ppaction://hlinkshowjump?jump=previousslide"/>
          </p:cNvPr>
          <p:cNvSpPr/>
          <p:nvPr/>
        </p:nvSpPr>
        <p:spPr>
          <a:xfrm>
            <a:off x="8021520" y="652932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62">
            <a:hlinkClick r:id="" action="ppaction://hlinkshowjump?jump=nextslide"/>
          </p:cNvPr>
          <p:cNvSpPr/>
          <p:nvPr/>
        </p:nvSpPr>
        <p:spPr>
          <a:xfrm>
            <a:off x="8381880" y="652932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6">
            <a:hlinkClick r:id="rId1" action="ppaction://hlinksldjump"/>
          </p:cNvPr>
          <p:cNvSpPr/>
          <p:nvPr/>
        </p:nvSpPr>
        <p:spPr>
          <a:xfrm>
            <a:off x="762120" y="2496960"/>
            <a:ext cx="755640" cy="359892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3">
            <a:hlinkClick r:id="rId2" action="ppaction://hlinksldjump"/>
          </p:cNvPr>
          <p:cNvSpPr/>
          <p:nvPr/>
        </p:nvSpPr>
        <p:spPr>
          <a:xfrm>
            <a:off x="1746360" y="2496960"/>
            <a:ext cx="755640" cy="359892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34">
            <a:hlinkClick r:id="rId3" action="ppaction://hlinksldjump"/>
          </p:cNvPr>
          <p:cNvSpPr/>
          <p:nvPr/>
        </p:nvSpPr>
        <p:spPr>
          <a:xfrm>
            <a:off x="2736720" y="2496960"/>
            <a:ext cx="755640" cy="359892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35">
            <a:hlinkClick r:id="rId4" action="ppaction://hlinksldjump"/>
          </p:cNvPr>
          <p:cNvSpPr/>
          <p:nvPr/>
        </p:nvSpPr>
        <p:spPr>
          <a:xfrm>
            <a:off x="3727440" y="2496960"/>
            <a:ext cx="755640" cy="359892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36">
            <a:hlinkClick r:id="rId5" action="ppaction://hlinksldjump"/>
          </p:cNvPr>
          <p:cNvSpPr/>
          <p:nvPr/>
        </p:nvSpPr>
        <p:spPr>
          <a:xfrm>
            <a:off x="4719600" y="2496960"/>
            <a:ext cx="755640" cy="359892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37">
            <a:hlinkClick r:id="rId6" action="ppaction://hlinksldjump"/>
          </p:cNvPr>
          <p:cNvSpPr/>
          <p:nvPr/>
        </p:nvSpPr>
        <p:spPr>
          <a:xfrm>
            <a:off x="5708520" y="2496960"/>
            <a:ext cx="755640" cy="359892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38">
            <a:hlinkClick r:id="rId7" action="ppaction://hlinksldjump"/>
          </p:cNvPr>
          <p:cNvSpPr/>
          <p:nvPr/>
        </p:nvSpPr>
        <p:spPr>
          <a:xfrm>
            <a:off x="6699240" y="2496960"/>
            <a:ext cx="755640" cy="359892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39"/>
          <p:cNvSpPr/>
          <p:nvPr/>
        </p:nvSpPr>
        <p:spPr>
          <a:xfrm>
            <a:off x="1136520" y="2039760"/>
            <a:ext cx="693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048">
            <a:hlinkClick r:id="rId8" action="ppaction://hlinksldjump"/>
          </p:cNvPr>
          <p:cNvSpPr/>
          <p:nvPr/>
        </p:nvSpPr>
        <p:spPr>
          <a:xfrm>
            <a:off x="7691400" y="2496960"/>
            <a:ext cx="755640" cy="359892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52"/>
          <p:cNvSpPr/>
          <p:nvPr/>
        </p:nvSpPr>
        <p:spPr>
          <a:xfrm>
            <a:off x="1136520" y="203976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53"/>
          <p:cNvSpPr/>
          <p:nvPr/>
        </p:nvSpPr>
        <p:spPr>
          <a:xfrm>
            <a:off x="2127240" y="203976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54"/>
          <p:cNvSpPr/>
          <p:nvPr/>
        </p:nvSpPr>
        <p:spPr>
          <a:xfrm>
            <a:off x="3117960" y="203976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055"/>
          <p:cNvSpPr/>
          <p:nvPr/>
        </p:nvSpPr>
        <p:spPr>
          <a:xfrm>
            <a:off x="4108320" y="203976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56"/>
          <p:cNvSpPr/>
          <p:nvPr/>
        </p:nvSpPr>
        <p:spPr>
          <a:xfrm>
            <a:off x="5099040" y="203976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057"/>
          <p:cNvSpPr/>
          <p:nvPr/>
        </p:nvSpPr>
        <p:spPr>
          <a:xfrm>
            <a:off x="6089760" y="203976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58"/>
          <p:cNvSpPr/>
          <p:nvPr/>
        </p:nvSpPr>
        <p:spPr>
          <a:xfrm>
            <a:off x="7080120" y="203976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59"/>
          <p:cNvSpPr/>
          <p:nvPr/>
        </p:nvSpPr>
        <p:spPr>
          <a:xfrm>
            <a:off x="8070840" y="203976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60"/>
          <p:cNvSpPr/>
          <p:nvPr/>
        </p:nvSpPr>
        <p:spPr>
          <a:xfrm>
            <a:off x="4641840" y="158256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2680" y="640080"/>
            <a:ext cx="4018320" cy="893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Times New Roman"/>
              </a:rPr>
              <a:t>목          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모 네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Claude  Monet, 1840~1926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수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7" descr="C:\WORK\그림자료\감상\19세기\인상주의\모네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4" name="AutoShape 8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9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0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1760" y="6172200"/>
            <a:ext cx="6019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드가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Edgar  Degas, 1834~1917, 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발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3" descr="C:\WORK\그림자료\감상\19세기\인상주의\드가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3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9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드가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Edgar  Degas, 1834~1917, 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발레 연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C:\WORK\그림자료\감상\19세기\인상주의\드가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4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6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24852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3300"/>
                </a:solidFill>
                <a:latin typeface="Times New Roman"/>
              </a:rPr>
              <a:t>르누아르 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(Auguste  Renoir, 1841~1919,   </a:t>
            </a:r>
            <a:r>
              <a:rPr b="1" lang="ko-KR" sz="16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목욕하는 여인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C:\WORK\그림자료\감상\19세기\인상주의\르누알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9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6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48520" y="4495320"/>
            <a:ext cx="2666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르누아르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(Auguste  Renoir,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 1841~1919,   </a:t>
            </a: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독서하는 소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C:\WORK\그림자료\감상\19세기\인상주의\르누알08.JPG"/>
          <p:cNvPicPr/>
          <p:nvPr/>
        </p:nvPicPr>
        <p:blipFill>
          <a:blip r:embed="rId1"/>
          <a:stretch/>
        </p:blipFill>
        <p:spPr>
          <a:xfrm>
            <a:off x="1008000" y="228600"/>
            <a:ext cx="5164200" cy="6400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4" name="AutoShape 7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72200" y="4267080"/>
            <a:ext cx="28195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르누아르</a:t>
            </a:r>
            <a:br>
              <a:rPr sz="1800"/>
            </a:b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(Auguste  Renoir,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1841~1919,   </a:t>
            </a: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테라스에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3" descr="C:\WORK\그림자료\감상\19세기\인상주의\르누알12.JPG"/>
          <p:cNvPicPr/>
          <p:nvPr/>
        </p:nvPicPr>
        <p:blipFill>
          <a:blip r:embed="rId1"/>
          <a:stretch/>
        </p:blipFill>
        <p:spPr>
          <a:xfrm>
            <a:off x="776160" y="304920"/>
            <a:ext cx="5319720" cy="624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9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피 사 로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Camille  Pissarro, 1830~1903, 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풍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C:\WORK\그림자료\감상\19세기\인상주의\피사로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4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24852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시슬레이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Alfred  Sisley, 1839~1899, 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홍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C:\WORK\그림자료\감상\19세기\인상주의\시슬리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9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00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eb2b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rial"/>
                <a:ea typeface="돋움"/>
              </a:rPr>
              <a:t>6.</a:t>
            </a:r>
            <a:r>
              <a:rPr b="1" lang="ko-KR" sz="4000" spc="-1" strike="noStrike">
                <a:solidFill>
                  <a:srgbClr val="010000"/>
                </a:solidFill>
                <a:latin typeface="Arial"/>
                <a:ea typeface="돋움"/>
              </a:rPr>
              <a:t>신인상주의</a:t>
            </a:r>
            <a:r>
              <a:rPr b="1" lang="en-US" sz="4000" spc="-1" strike="noStrike">
                <a:solidFill>
                  <a:srgbClr val="010000"/>
                </a:solidFill>
                <a:latin typeface="Times New Roman"/>
                <a:ea typeface="돋움"/>
              </a:rPr>
              <a:t>(Neo-Impressionis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5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6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77929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1447920" y="1676520"/>
            <a:ext cx="6324480" cy="2057400"/>
            <a:chOff x="1447920" y="1676520"/>
            <a:chExt cx="6324480" cy="2057400"/>
          </a:xfrm>
        </p:grpSpPr>
        <p:sp>
          <p:nvSpPr>
            <p:cNvPr id="257" name="AutoShape 2"/>
            <p:cNvSpPr/>
            <p:nvPr/>
          </p:nvSpPr>
          <p:spPr>
            <a:xfrm>
              <a:off x="1447920" y="1676520"/>
              <a:ext cx="6324480" cy="144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f4fff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35000"/>
                </a:lnSpc>
                <a:spcBef>
                  <a:spcPts val="12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색을 과학적으로 분석하여 팔레트에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5000"/>
                </a:lnSpc>
                <a:spcBef>
                  <a:spcPts val="12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혼합하지  않고  점묘법으로  표현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>
              <a:off x="3962520" y="3124080"/>
              <a:ext cx="1066680" cy="609840"/>
            </a:xfrm>
            <a:prstGeom prst="downArrow">
              <a:avLst>
                <a:gd name="adj1" fmla="val 57444"/>
                <a:gd name="adj2" fmla="val 620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Rectangle 4"/>
          <p:cNvSpPr/>
          <p:nvPr/>
        </p:nvSpPr>
        <p:spPr>
          <a:xfrm>
            <a:off x="457200" y="3733920"/>
            <a:ext cx="8229600" cy="228600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50000">
                <a:srgbClr val="ffffff"/>
              </a:gs>
              <a:gs pos="100000">
                <a:srgbClr val="d9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쇠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그랑자트 섬의 일요일 오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수욕  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시냐크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항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석양의 항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5867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쇠 라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(Georges Pierre Seurat, 1859~1891,  </a:t>
            </a: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그랑쟈트 섬의 일요일 오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7" descr="쇠라-그랑자트섬의 일요일 오후"/>
          <p:cNvPicPr/>
          <p:nvPr/>
        </p:nvPicPr>
        <p:blipFill>
          <a:blip r:embed="rId1"/>
          <a:stretch/>
        </p:blipFill>
        <p:spPr>
          <a:xfrm>
            <a:off x="457200" y="228600"/>
            <a:ext cx="8255160" cy="560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026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027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040" y="761760"/>
            <a:ext cx="7620480" cy="101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ko-KR" sz="4400" spc="-1" strike="noStrike">
                <a:solidFill>
                  <a:srgbClr val="000000"/>
                </a:solidFill>
                <a:latin typeface="Times New Roman"/>
              </a:rPr>
              <a:t>세기 근대미술의 표현 특징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31"/>
          <p:cNvSpPr/>
          <p:nvPr/>
        </p:nvSpPr>
        <p:spPr>
          <a:xfrm>
            <a:off x="533520" y="2362320"/>
            <a:ext cx="8153280" cy="380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영국의 산업혁명과 프랑스의 시민혁명 에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의한 자유주의 사상과 왕권의 붕괴 등으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예술가들이 자유롭게 자기 개성과 주관에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따라  다양한 표현을 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62485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쇠 라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Georges Pierre Seurat, 1859~1891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수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C:\WORK\그림자료\감상\19세기\신인상파\쇠라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7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624852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시 냐 크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Paul  Signac, 1863~1935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항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4" descr="C:\WORK\그림자료\감상\19세기\신인상파\시냐크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2" name="AutoShape 7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8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00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eb2b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rial"/>
                <a:ea typeface="돋움"/>
              </a:rPr>
              <a:t>7.</a:t>
            </a:r>
            <a:r>
              <a:rPr b="1" lang="ko-KR" sz="4000" spc="-1" strike="noStrike">
                <a:solidFill>
                  <a:srgbClr val="010000"/>
                </a:solidFill>
                <a:latin typeface="Arial"/>
                <a:ea typeface="돋움"/>
              </a:rPr>
              <a:t>후기인상주의</a:t>
            </a:r>
            <a:r>
              <a:rPr b="1" lang="en-US" sz="4000" spc="-1" strike="noStrike">
                <a:solidFill>
                  <a:srgbClr val="010000"/>
                </a:solidFill>
                <a:latin typeface="Times New Roman"/>
                <a:ea typeface="돋움"/>
              </a:rPr>
              <a:t>(Post Impressionis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5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6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77929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12"/>
          <p:cNvGrpSpPr/>
          <p:nvPr/>
        </p:nvGrpSpPr>
        <p:grpSpPr>
          <a:xfrm>
            <a:off x="1219320" y="1676520"/>
            <a:ext cx="6629400" cy="2057400"/>
            <a:chOff x="1219320" y="1676520"/>
            <a:chExt cx="6629400" cy="2057400"/>
          </a:xfrm>
        </p:grpSpPr>
        <p:sp>
          <p:nvSpPr>
            <p:cNvPr id="280" name="AutoShape 2"/>
            <p:cNvSpPr/>
            <p:nvPr/>
          </p:nvSpPr>
          <p:spPr>
            <a:xfrm>
              <a:off x="1219320" y="1676520"/>
              <a:ext cx="6629400" cy="167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f4fff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인상파 화가들이  물체의 외부  색채에  너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집착하는데  반발하여  물체의  본질  파악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주관적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개성적  표현을  중시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10"/>
            <p:cNvSpPr/>
            <p:nvPr/>
          </p:nvSpPr>
          <p:spPr>
            <a:xfrm>
              <a:off x="3809880" y="3352680"/>
              <a:ext cx="1067040" cy="381240"/>
            </a:xfrm>
            <a:prstGeom prst="downArrow">
              <a:avLst>
                <a:gd name="adj1" fmla="val 57444"/>
                <a:gd name="adj2" fmla="val 620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Rectangle 4"/>
          <p:cNvSpPr/>
          <p:nvPr/>
        </p:nvSpPr>
        <p:spPr>
          <a:xfrm>
            <a:off x="457200" y="3733920"/>
            <a:ext cx="8229600" cy="2286000"/>
          </a:xfrm>
          <a:prstGeom prst="rect">
            <a:avLst/>
          </a:prstGeom>
          <a:gradFill rotWithShape="0">
            <a:gsLst>
              <a:gs pos="0">
                <a:srgbClr val="ebf7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세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붉은 조끼 입은 소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파이프를 문 남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정물 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고흐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해바라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,  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자화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별이 빛나는 밤에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고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아레아리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타이티의 여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,  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우리는 어디서 왔는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867280" y="388584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세  잔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Paul  Cézanne,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1839~1906, 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붉은 조끼 입은 소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5" descr="C:\WORK\그림자료\감상\19세기\후기인상\세잔01.JPG"/>
          <p:cNvPicPr/>
          <p:nvPr/>
        </p:nvPicPr>
        <p:blipFill>
          <a:blip r:embed="rId1"/>
          <a:stretch/>
        </p:blipFill>
        <p:spPr>
          <a:xfrm>
            <a:off x="0" y="0"/>
            <a:ext cx="530208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85" name="AutoShape 9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1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24852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세  잔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Paul  Cézanne, 1839~1906, 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정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7" descr="세잔의 사과바구니가 있는 정물"/>
          <p:cNvPicPr/>
          <p:nvPr/>
        </p:nvPicPr>
        <p:blipFill>
          <a:blip r:embed="rId1"/>
          <a:stretch/>
        </p:blipFill>
        <p:spPr>
          <a:xfrm>
            <a:off x="684360" y="173160"/>
            <a:ext cx="7627680" cy="6094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866920" y="4038120"/>
            <a:ext cx="29718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고 흐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Vincent Van Gogh,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1853~1890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네덜란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해바라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7" descr="해바라기"/>
          <p:cNvPicPr/>
          <p:nvPr/>
        </p:nvPicPr>
        <p:blipFill>
          <a:blip r:embed="rId1"/>
          <a:stretch/>
        </p:blipFill>
        <p:spPr>
          <a:xfrm>
            <a:off x="684360" y="190440"/>
            <a:ext cx="5033880" cy="640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4640" y="419076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고 흐</a:t>
            </a:r>
            <a:br>
              <a:rPr sz="2000"/>
            </a:b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Vincent Van Gogh,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1853~1890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네덜란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자화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3" descr="C:\WORK\그림자료\감상\19세기\후기인상\고흐02.JPG"/>
          <p:cNvPicPr/>
          <p:nvPr/>
        </p:nvPicPr>
        <p:blipFill>
          <a:blip r:embed="rId1"/>
          <a:stretch/>
        </p:blipFill>
        <p:spPr>
          <a:xfrm>
            <a:off x="-76320" y="0"/>
            <a:ext cx="488808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00" name="AutoShape 11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2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3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별이 빛나는 밤-고흐"/>
          <p:cNvPicPr/>
          <p:nvPr/>
        </p:nvPicPr>
        <p:blipFill>
          <a:blip r:embed="rId1"/>
          <a:stretch/>
        </p:blipFill>
        <p:spPr>
          <a:xfrm>
            <a:off x="1403280" y="765000"/>
            <a:ext cx="6624720" cy="4626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"/>
          <p:cNvSpPr/>
          <p:nvPr/>
        </p:nvSpPr>
        <p:spPr>
          <a:xfrm>
            <a:off x="3783600" y="5589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별이 빛나는 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고  갱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Paul  Gauguin, 1848~1903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아레아리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" descr="C:\WORK\그림자료\감상\19세기\후기인상\고갱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07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고 갱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Paul  Gauguin, 1848~1903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타이티의 여인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3" descr="C:\WORK\그림자료\감상\19세기\후기인상\고갱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12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693432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돋움"/>
              </a:rPr>
              <a:t>1. </a:t>
            </a:r>
            <a:r>
              <a:rPr b="1" lang="ko-KR" sz="4800" spc="-1" strike="noStrike">
                <a:solidFill>
                  <a:srgbClr val="000000"/>
                </a:solidFill>
                <a:latin typeface="Arial"/>
                <a:ea typeface="돋움"/>
              </a:rPr>
              <a:t>고전주의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돋움"/>
              </a:rPr>
              <a:t>(Classicism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105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106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109">
            <a:hlinkClick r:id="rId1" action="ppaction://hlinksldjump"/>
          </p:cNvPr>
          <p:cNvSpPr/>
          <p:nvPr/>
        </p:nvSpPr>
        <p:spPr>
          <a:xfrm>
            <a:off x="77929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4113"/>
          <p:cNvGrpSpPr/>
          <p:nvPr/>
        </p:nvGrpSpPr>
        <p:grpSpPr>
          <a:xfrm>
            <a:off x="1447920" y="1828800"/>
            <a:ext cx="6248160" cy="1752480"/>
            <a:chOff x="1447920" y="1828800"/>
            <a:chExt cx="6248160" cy="1752480"/>
          </a:xfrm>
        </p:grpSpPr>
        <p:sp>
          <p:nvSpPr>
            <p:cNvPr id="82" name="AutoShape 4098"/>
            <p:cNvSpPr/>
            <p:nvPr/>
          </p:nvSpPr>
          <p:spPr>
            <a:xfrm>
              <a:off x="1447920" y="1828800"/>
              <a:ext cx="6248160" cy="121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고대 미술에 대한 관심이 높아져 장중하며 엄숙한 형태와 구조로 화면을 구성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4110"/>
            <p:cNvSpPr/>
            <p:nvPr/>
          </p:nvSpPr>
          <p:spPr>
            <a:xfrm>
              <a:off x="3809880" y="3048120"/>
              <a:ext cx="1067040" cy="533160"/>
            </a:xfrm>
            <a:prstGeom prst="downArrow">
              <a:avLst>
                <a:gd name="adj1" fmla="val 57444"/>
                <a:gd name="adj2" fmla="val 620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AutoShape 4100"/>
          <p:cNvSpPr/>
          <p:nvPr/>
        </p:nvSpPr>
        <p:spPr>
          <a:xfrm>
            <a:off x="179280" y="3581280"/>
            <a:ext cx="8964720" cy="236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fff"/>
              </a:gs>
              <a:gs pos="100000">
                <a:srgbClr val="e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다비드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6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2" action="ppaction://hlinksldjump"/>
              </a:rPr>
              <a:t>소크라테스의 죽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0" lang="ko-KR" sz="26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3" action="ppaction://hlinksldjump"/>
              </a:rPr>
              <a:t>레카미에부인의 초상</a:t>
            </a:r>
            <a:br>
              <a:rPr sz="2600"/>
            </a:br>
            <a:r>
              <a:rPr b="1" lang="ko-KR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앵그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4" action="ppaction://hlinksldjump"/>
              </a:rPr>
              <a:t>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5" action="ppaction://hlinksldjump"/>
              </a:rPr>
              <a:t>욕녀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Arial"/>
                <a:ea typeface="돋움"/>
                <a:hlinkClick r:id="rId6" action="ppaction://hlinksldjump"/>
              </a:rPr>
              <a:t>오달리스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6"/>
          <p:cNvSpPr/>
          <p:nvPr/>
        </p:nvSpPr>
        <p:spPr>
          <a:xfrm>
            <a:off x="1879560" y="4917960"/>
            <a:ext cx="52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우리는 어디에서 왔는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우리는 누구인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우리는 어디로 가는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174760" y="5249880"/>
            <a:ext cx="20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갱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97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년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8" descr="우리는 누구인가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62920" cy="874800"/>
          </a:xfrm>
          <a:prstGeom prst="rect">
            <a:avLst/>
          </a:prstGeom>
          <a:solidFill>
            <a:srgbClr val="d9ffff"/>
          </a:solidFill>
          <a:ln w="0">
            <a:noFill/>
          </a:ln>
          <a:effectLst>
            <a:outerShdw dist="127008" dir="3183908" blurRad="0" rotWithShape="0">
              <a:srgbClr val="8299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C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의 조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건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세기 조각은 회화에서 인상파가 미술사의 정신 혁명이었던 것처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로댕의 출현으로 새로운 길로 들어 섰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건축도 기능 위주의 실용적 가치의 평가에 주안점을 두어 장식보다 실용성에 의한 다양한 건축이 나타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 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특색은 인간의 정신을 강조한 사실성과 견고함이 특색 조각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카노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카르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로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부르델 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건축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펠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샬그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트왈 개선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로댕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근대 조각의 기틀을 이루어서 근대 조각의 아버지로 불린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인간 정신을 강조한 그의 형태와 질감에서 사실성과 내면성의 조화가 극치를 이룬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(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생각하는 사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칼레의 시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지옥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입맞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다나이드 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부르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로댕의 제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로댕보다 거칠고 운동감이 강한 표현을 통해 조각의 특성에 하나인 기념비성을 강조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활을 당기는 헤라클레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카노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카르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23640" y="836280"/>
            <a:ext cx="8134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2600" y="-10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0" y="457200"/>
          <a:ext cx="6269040" cy="3382920"/>
        </p:xfrm>
        <a:graphic>
          <a:graphicData uri="http://schemas.openxmlformats.org/drawingml/2006/table">
            <a:tbl>
              <a:tblPr/>
              <a:tblGrid>
                <a:gridCol w="2152800"/>
                <a:gridCol w="1687320"/>
                <a:gridCol w="2428920"/>
              </a:tblGrid>
              <a:tr h="375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 </a:t>
                      </a:r>
                      <a:r>
                        <a:rPr b="0" lang="en-US" sz="15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29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12" descr="kk2"/>
          <p:cNvPicPr/>
          <p:nvPr/>
        </p:nvPicPr>
        <p:blipFill>
          <a:blip r:embed="rId1"/>
          <a:stretch/>
        </p:blipFill>
        <p:spPr>
          <a:xfrm>
            <a:off x="2050920" y="765000"/>
            <a:ext cx="4103640" cy="4896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3"/>
          <p:cNvSpPr/>
          <p:nvPr/>
        </p:nvSpPr>
        <p:spPr>
          <a:xfrm>
            <a:off x="3419640" y="59500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옥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3" descr="kk3"/>
          <p:cNvPicPr/>
          <p:nvPr/>
        </p:nvPicPr>
        <p:blipFill>
          <a:blip r:embed="rId1"/>
          <a:stretch/>
        </p:blipFill>
        <p:spPr>
          <a:xfrm>
            <a:off x="1258920" y="765000"/>
            <a:ext cx="6769080" cy="51609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3851280" y="5877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칼레의 시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4" descr="로댕의 다나이드"/>
          <p:cNvPicPr/>
          <p:nvPr/>
        </p:nvPicPr>
        <p:blipFill>
          <a:blip r:embed="rId1"/>
          <a:stretch/>
        </p:blipFill>
        <p:spPr>
          <a:xfrm>
            <a:off x="1187280" y="1052640"/>
            <a:ext cx="6409080" cy="41526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3528720" y="575316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댕의 다나이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그림 3" descr="3-8-bluehour64.jpg"/>
          <p:cNvPicPr/>
          <p:nvPr/>
        </p:nvPicPr>
        <p:blipFill>
          <a:blip r:embed="rId1"/>
          <a:stretch/>
        </p:blipFill>
        <p:spPr>
          <a:xfrm>
            <a:off x="2214720" y="357120"/>
            <a:ext cx="464328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kk4"/>
          <p:cNvPicPr/>
          <p:nvPr/>
        </p:nvPicPr>
        <p:blipFill>
          <a:blip r:embed="rId1"/>
          <a:stretch/>
        </p:blipFill>
        <p:spPr>
          <a:xfrm>
            <a:off x="468360" y="1628640"/>
            <a:ext cx="3024000" cy="337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"/>
          <p:cNvGraphicFramePr/>
          <p:nvPr/>
        </p:nvGraphicFramePr>
        <p:xfrm>
          <a:off x="0" y="0"/>
          <a:ext cx="4116240" cy="2651040"/>
        </p:xfrm>
        <a:graphic>
          <a:graphicData uri="http://schemas.openxmlformats.org/drawingml/2006/table">
            <a:tbl>
              <a:tblPr/>
              <a:tblGrid>
                <a:gridCol w="1687680"/>
                <a:gridCol w="2428560"/>
              </a:tblGrid>
              <a:tr h="302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10" descr="kk5"/>
          <p:cNvPicPr/>
          <p:nvPr/>
        </p:nvPicPr>
        <p:blipFill>
          <a:blip r:embed="rId2"/>
          <a:stretch/>
        </p:blipFill>
        <p:spPr>
          <a:xfrm>
            <a:off x="3924360" y="1700280"/>
            <a:ext cx="2200320" cy="3240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kk6"/>
          <p:cNvPicPr/>
          <p:nvPr/>
        </p:nvPicPr>
        <p:blipFill>
          <a:blip r:embed="rId3"/>
          <a:stretch/>
        </p:blipFill>
        <p:spPr>
          <a:xfrm>
            <a:off x="6227640" y="1557360"/>
            <a:ext cx="2500560" cy="3240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2"/>
          <p:cNvSpPr/>
          <p:nvPr/>
        </p:nvSpPr>
        <p:spPr>
          <a:xfrm>
            <a:off x="885600" y="573408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카노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큐피드와 프시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4344840" y="56610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카르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4643280" y="5229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부르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활을 당기는 헤라클레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696080" cy="1752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bf2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ko-KR" sz="7200" spc="-1" strike="noStrike">
                <a:solidFill>
                  <a:srgbClr val="000000"/>
                </a:solidFill>
                <a:latin typeface="Times New Roman"/>
              </a:rPr>
              <a:t>세기 미술 감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429000" y="3809520"/>
            <a:ext cx="2362320" cy="1600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600" spc="-1" strike="noStrike">
                <a:solidFill>
                  <a:srgbClr val="000000"/>
                </a:solidFill>
                <a:latin typeface="Times New Roman"/>
              </a:rPr>
              <a:t>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">
            <a:hlinkClick r:id="" action="ppaction://hlinkshowjump?jump=firstslide"/>
          </p:cNvPr>
          <p:cNvSpPr/>
          <p:nvPr/>
        </p:nvSpPr>
        <p:spPr>
          <a:xfrm>
            <a:off x="8299440" y="632448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12669" y="10800"/>
                </a:moveTo>
                <a:lnTo>
                  <a:pt x="23174" y="3794"/>
                </a:lnTo>
                <a:lnTo>
                  <a:pt x="23174" y="17806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10824" y="3794"/>
                </a:lnTo>
                <a:lnTo>
                  <a:pt x="10824" y="17806"/>
                </a:lnTo>
                <a:lnTo>
                  <a:pt x="916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5943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다 비 드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Jacques Louis David,  1748~1825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소크라테스의 죽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7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8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다비드의 소크라테스의 죽음"/>
          <p:cNvPicPr/>
          <p:nvPr/>
        </p:nvPicPr>
        <p:blipFill>
          <a:blip r:embed="rId2"/>
          <a:stretch/>
        </p:blipFill>
        <p:spPr>
          <a:xfrm>
            <a:off x="762120" y="947880"/>
            <a:ext cx="7619760" cy="4962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사비니 여인들의 중재"/>
          <p:cNvPicPr/>
          <p:nvPr/>
        </p:nvPicPr>
        <p:blipFill>
          <a:blip r:embed="rId1"/>
          <a:stretch/>
        </p:blipFill>
        <p:spPr>
          <a:xfrm>
            <a:off x="380880" y="0"/>
            <a:ext cx="8291520" cy="6064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722240" y="601992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다비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고전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사비느 여인들의 중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11640" y="4723920"/>
            <a:ext cx="26668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다 비 드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Jacques Louis David,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 1748~1825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레카미에부인의 초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7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9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레카미에부인의 초상"/>
          <p:cNvPicPr/>
          <p:nvPr/>
        </p:nvPicPr>
        <p:blipFill>
          <a:blip r:embed="rId2"/>
          <a:stretch/>
        </p:blipFill>
        <p:spPr>
          <a:xfrm>
            <a:off x="1187280" y="549360"/>
            <a:ext cx="676944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6920" y="4495320"/>
            <a:ext cx="30481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앵 그 르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(Jean Auguste Ingres,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1780~1867,  </a:t>
            </a:r>
            <a:r>
              <a:rPr b="1" lang="ko-KR" sz="2000" spc="-1" strike="noStrike">
                <a:solidFill>
                  <a:srgbClr val="003300"/>
                </a:solidFill>
                <a:latin typeface="Times New Roman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3200" spc="-1" strike="noStrike">
                <a:solidFill>
                  <a:srgbClr val="003300"/>
                </a:solidFill>
                <a:latin typeface="Times New Roman"/>
              </a:rPr>
              <a:t>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앵그르의 샘"/>
          <p:cNvPicPr/>
          <p:nvPr/>
        </p:nvPicPr>
        <p:blipFill>
          <a:blip r:embed="rId2"/>
          <a:stretch/>
        </p:blipFill>
        <p:spPr>
          <a:xfrm>
            <a:off x="1219320" y="0"/>
            <a:ext cx="3429000" cy="6629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1T11:09:10Z</dcterms:created>
  <dc:creator>맹범호</dc:creator>
  <dc:description/>
  <dc:language>en-US</dc:language>
  <cp:lastModifiedBy>user</cp:lastModifiedBy>
  <dcterms:modified xsi:type="dcterms:W3CDTF">2008-11-22T14:12:53Z</dcterms:modified>
  <cp:revision>112</cp:revision>
  <dc:subject>작품감상</dc:subject>
  <dc:title>서양미술감상2</dc:title>
</cp:coreProperties>
</file>