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BE6-5E72-4325-A11A-BA71BBEA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425-CAA6-479D-BE48-B8643541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037-73B7-4F2E-8D1A-AC6FA12C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2F5-6206-495A-937B-0EBA97E9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ED0-F402-4468-BF36-EC077BAF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B33-F01F-4BBE-9C92-AA8DCD9C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363-F653-4858-9401-58B7C5A2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480-00C0-4042-95C2-B39BF76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29F-25D4-4D49-BF96-8A6B6033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F77-6430-4C64-8299-562C9D41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7AE-04ED-4864-A5E8-EAA3A20F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FA8-313C-460E-9B68-1505C485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66A9-E39A-4371-8022-3E667F139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80040" y="2010240"/>
            <a:ext cx="495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실천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-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HY헤드라인M"/>
              </a:rPr>
              <a:t>혁신성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9880" y="684720"/>
            <a:ext cx="32191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 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재도전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희망 로드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89960" y="5515560"/>
            <a:ext cx="163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이노시스템연구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011-810-93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4440" y="115920"/>
            <a:ext cx="771516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제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4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단계인 의사소통의 중요성은 더 이상 강조할 필요조차 없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특히 최근에는 이메일을 많이 사용하는데 정보의 홍수 속에서 전사원들에게 제대로 전달될 수 있는 방법 강구에 주의해야 한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5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단계는 행동을 유발하는 것이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이는 권한 부여와는 다르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장애물을 제거해 주는 것이 훨씬 중요하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변화를 정말 원하고 해보려는 사람들이 여러가지 걸림돌 때문에 일을 못하는 경우가 많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프로세스 기술 사람들의 장벽들을 없애야 한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비효율적인 일들을 제거해 줘야 한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6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단계에선 단기적인 성과를 만들어내야 한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단기적인 성과는 시간상으로 적절해야 하고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(timely) 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의미있는 것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(meaningful)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이어야 하며 가시적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(visible)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이어야 한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단기적인 진전상황이 있어야 전사적인 에너지가 고양되고 변화에 가속도가 붙는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7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단계는 속도를 늦추지 말라는 것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(Don't let up)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이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평가하고 측정할 수 있는 것이 중요하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그런 지표가 없으면 무엇이 어떻게 되고 있는지 알 수 없고 결과적으로 주의를 기울이지 않는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책임감을 주지 않으면 또 관심도 없어진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마지막 단계의 변화를 정착시키는 것은 바로 행동을 모델화하는 것이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어떤 행동이 옳은 것이고 지속해야 하는 것인지를 명확히 하는 단계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행동을 다시 모델화하고 그런 행동에 대해 보상할 줄 알아야 한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혁신 –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항속에서도 이익을 지속하려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첫째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나의 변화가 먼저 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본인 스스로 목적의식을 확실히 하지 않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시간과 비용    의 낭비만을 초래할 뿐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성과는 없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교육이나 연수는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본인이 관심을 가지고 받아들이고자 할때 변화의 계기나 실마리를 제공할 뿐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그 이상의 도움이 되지 못한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變化를 멈추는 순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아무리 과거가 훌륭했다고 하더라도 고객이 변화하고 경쟁사가 변화하고 있기에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뒤쳐지는 수모를 당하게 된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혁신 –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항속에서도 이익을 지속하려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둘째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변화가 싫으면 물러나라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변화는 기득권을 과감히 포기할 때 얻을 수 있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매너리즘이란 변화를 멈춘 조직의 심각한 병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고여있는 물은 순식간에 썩어버린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경쟁이 치열한 시기가 오면 어제까지 큰 역할을 해오던 사람도 변화에 적응하는 노력을 멈추면 순식간에 한물간 사람이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그동안 엄청 부려먹고 필요가 없어지니까 헌신짝 버리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한다고 하는 불평을 하고 다니지만</a:t>
            </a: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필요없는  데 버리는 것은 당연하다</a:t>
            </a: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혁신 –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항속에서도 이익을 지속하려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셋째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변화는 목표와 행동력을 가질 때 가능하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시 하겠습니다 가 중요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패 경험에 빠져 도전을 포기하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얄팍한 지식에 묶여  안 된다고 하는 사고를 없애는 것이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익나는 기업’의 씨앗을 만드는 기초가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남이 먼저 변하기 전에 내가 스스로 변화를 하자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변화를 당하는 자가 아닌 변화를 이끄는 사람이 바로 리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혁신 –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항속에서도 이익을 지속하려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넷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생존 원가를 사수하라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신년도에 들어서자마자 도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대폭적인 가격 인하 요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우리의 대응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원가를 줄여 이익을 낼 수 있는 방법을 찾자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관리자는 원가삭감의 역할분담을 해야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생존원가를 달성하는 회사만이 살아 남는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는 사실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전사원과 함께 정보공유를 해야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적자회사에 가보면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간부는 부하가 일하는 것이 형편없다고 하고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부하는 상사가 무능하다고 한다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혁신 –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항속에서도 이익을 지속하려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다섯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혁신 리더의 핵심역량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가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혁신 리더는 지식이 필요하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하고자 하는 의욕으로 충전해야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혁신 리더는 끈기가 필요하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개선을 실시할 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가 필요하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.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인간적이 믿음을 줄 수 있는 품성이 필요하다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경영혁신 성공 기반 만들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혁신을 한자의 뜻 그대로 본다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가죽 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새로울 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큰 고통이 함께 한다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미가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생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rvival)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업의 목적은 이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혁신은 이익이 줄거나 매출이 줄때 반드시 거쳐야 하는 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變化가 아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革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고객만족 중심으로 바꾸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낭비요소의 최소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상급자 솔선수범—말이 아니라 행동으로 하는 것이 혁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혁신에는 마찰과 고통이 따르게 마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혁신에 대한 저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800000"/>
                </a:solidFill>
                <a:latin typeface="Times New Roman"/>
              </a:rPr>
              <a:t>공정불량손실금액 </a:t>
            </a:r>
            <a:r>
              <a:rPr b="0" lang="ko-KR" sz="3200" spc="-1" strike="noStrike">
                <a:solidFill>
                  <a:srgbClr val="800000"/>
                </a:solidFill>
                <a:latin typeface="Times New Roman"/>
              </a:rPr>
              <a:t>&amp; </a:t>
            </a:r>
            <a:r>
              <a:rPr b="0" lang="ko-KR" sz="3200" spc="-1" strike="noStrike">
                <a:solidFill>
                  <a:srgbClr val="800000"/>
                </a:solidFill>
                <a:latin typeface="Times New Roman"/>
              </a:rPr>
              <a:t>공정불량율 추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38080" y="1600200"/>
          <a:ext cx="7848720" cy="45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8487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ko-KR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새굴림"/>
              </a:rPr>
              <a:t>자동반 공정불량현황</a:t>
            </a:r>
            <a:r>
              <a:rPr b="0" lang="ko-KR" sz="44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447920"/>
          <a:ext cx="7924680" cy="379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924680" cy="37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2895480"/>
            <a:ext cx="2333520" cy="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438280"/>
            <a:ext cx="971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048120"/>
            <a:ext cx="1523880" cy="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2590920"/>
            <a:ext cx="971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3352680"/>
            <a:ext cx="3810240" cy="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2971800"/>
            <a:ext cx="971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9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143000" y="1600200"/>
          <a:ext cx="6939000" cy="45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9390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62120" y="380880"/>
            <a:ext cx="4867200" cy="542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월 불량내용별 파레토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동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방치하면 기업은 반드시 도산한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4114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호황을 기뻐하지 말고 불황을 두려워하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호황이라고 해서 들뜨면 안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황이라고 두려워하여 위축되어서도 안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천후형의 내재된 힘을 기르면 기업은 언제나 성장하는 법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회사는 도산을 향하여 나아가고 있다</a:t>
            </a:r>
            <a:r>
              <a:rPr b="0" lang="ko-KR" sz="24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기업은 도산을 향하여 나아가는 숙명을 내포하고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방치하면 기업은 반드시 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경영이란 이 숙명의 방향을 바꾸어놓는 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426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자기 회사를 평가하여 어쩌자는 것인가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기업에 평론가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필요없다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.  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필요한 것은 실천가이다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간부가 평론가가 되면 회사는 끝장이다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酒席이 벌어지면 경제평론가라도 된 듯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기네 회사를 이 것 저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비판하는 사람이 있는데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그런 사람은  다분히 실천가로서 활약할 수 없는 주제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입으로만 그럴듯한 말을 하는 사람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가 해내지 않으면 안 된다고 하는 절박한 감정이 좋은 발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낳는 것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가 하지 않으면 누가 하느냐는 마음가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 간부에게는 필수 조건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20520" y="1035000"/>
            <a:ext cx="30427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2b2b2"/>
                </a:solidFill>
                <a:latin typeface="굴림"/>
              </a:rPr>
              <a:t>기업은 실천가를 원한다</a:t>
            </a:r>
            <a:r>
              <a:rPr b="1" lang="en-US" sz="3200" spc="-1" strike="noStrike">
                <a:solidFill>
                  <a:srgbClr val="b2b2b2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공부란 책상 앞에 앉아서 책을 읽는 것만은 아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컨데 일요일엔 백화점을 순례하며 상품의 변화를 포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는 것도 공부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람 위에 서서 일하는 사람은 무엇보다도 먼저 자신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책임을 표명할 일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부서의 목표를 달성하지 못했다는 것은 결코 다른 사함 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이 아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간부가 자신을 정당화시키려고 변명을 함부로 늘어놓는 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어리석기 한이 없는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34280" y="1184400"/>
            <a:ext cx="343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굴림"/>
              </a:rPr>
              <a:t> </a:t>
            </a:r>
            <a:r>
              <a:rPr b="1" lang="zh-CN" sz="3200" spc="-1" strike="noStrike">
                <a:solidFill>
                  <a:srgbClr val="b2b2b2"/>
                </a:solidFill>
                <a:latin typeface="굴림"/>
              </a:rPr>
              <a:t>최선의 노력이란 공부이다</a:t>
            </a:r>
            <a:r>
              <a:rPr b="1" lang="en-US" sz="3200" spc="-1" strike="noStrike">
                <a:solidFill>
                  <a:srgbClr val="b2b2b2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2b2b2"/>
                </a:solidFill>
                <a:latin typeface="Times New Roman"/>
              </a:rPr>
              <a:t>항상 能動的으로 활동하라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86800" cy="419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간부가 좋은 의자에 떡 버티고 앉아있는 것은 이미 시대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뒤진 일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-</a:t>
            </a: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책상을 떠나서 현장으로 가라</a:t>
            </a: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능동적으로 활동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것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세기에 활약해야 할 간부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습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제조나 개발부문의 간부라면 시장 정보를 수집해 나가는 것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중요하다</a:t>
            </a: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앞으로는 밖을 향하여 행동하는 간부가 경영자로부터 높이 평가받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부하들로부터 신뢰 받는 시대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53400" y="689040"/>
            <a:ext cx="1398240" cy="398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혁신 성공요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828800"/>
            <a:ext cx="541008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혁신 목표 명확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438280"/>
            <a:ext cx="533412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위기의식 고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124080"/>
            <a:ext cx="53341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P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의 확고한 의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733920"/>
            <a:ext cx="5486400" cy="53316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객관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공정한 평가 체계 및 성과에 대한 보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495680"/>
            <a:ext cx="655344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의식 개혁 지속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타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관행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형식주의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및 이기주의 타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181480"/>
            <a:ext cx="678204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조직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개인간 끊임없는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굴림체"/>
                <a:ea typeface="굴림체"/>
              </a:rPr>
              <a:t>혁신의 성공포인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26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P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의 결심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의욕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무엇을 남기고 싶은가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기대치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----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목표를 명확히 설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Vision(3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년 후 모습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정하고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실행하는 것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기결전은 실패의 원인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한걸음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한걸음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사람과 설비의 체질을 개선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4,5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개별개선을 끊임없이 실행하는 것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질타하기 보다는 칭찬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여러 가지 기회를 갖고 포상하는 것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활성화의 지름길이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 계층 리더의 의욕적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적극적인 역할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철저하고도 지속적인 활동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---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방심은 금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기업의 특색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독자성을 발휘하는 것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기업경영은 고객이 있을 때 비로소 성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489880" cy="419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시장지향성이 철저하지 못한 기업은 반드시 쓰러진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업경영은 고객이 있을 때 비로소 성립되는 것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 경영의 원점을 잊고 있는 기업이 있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잊고 있는 간부도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시장지향성에 철저하지 못한 기업에 내일은 없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조직은 붕괴될 운명을 갖고 있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조직은 방치해 두면 붕괴될 수 밖에 없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동료애로 단결이 되어 있는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그것이 자연붕괴를 방지하는 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쇠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규율이 붕괴를 막는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규율이나 예의에 대한 지도를 게을리하지 않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스스로도 모범을 보인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110800" cy="4724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제일 무서운 적은 내부에 있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외부의 적보다 내부의 적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붕괴는 향상 내부에서 일어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간부들이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부에 대한 날카로운 주시를 태만히 하지 마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부의 적을 배제하는 데는 社風이 중요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율이나 예의에 대한 지도를 게을리하지 않고 스스로도 모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보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상품을 팔기 전에 회사를 팔아라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품의 가치뿐만 아니라 회사의 가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념이나 경영의 자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팔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노력해야 하는 부문은 모든 곳에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화의 第一聲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레임에 대한 대처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거리를 걸어갈 때의 태도 등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객이나 사회와 접하는 기회 모두가 그러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전사일체가 되어 고객이 만족하게끔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노력하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110440" cy="43434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고객에 대하여 전사 일체가 되라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업이 제일 중요하게 다루어야 될 것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고객의 만족감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한 사람 한 사람의 고객에 대하여 제조부터 납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비스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르기 까지 전사일체가 되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고객이 만족하게끔 노력하는 것이 중요하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불친절 사례 찾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9339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항상 새로운 의식혁명과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능력혁신이 필요하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시대는 시시각각 변화하고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어제까지의 체험은 벌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낡았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시대가 변화된다면 자신의 마음도 변해가야 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업은 끊임없이 변화하는 것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변화는 살아있다는 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거이며 변화가 없으면 끝장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변화가 없는 상태로 가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히 있다는 것은 이미 노쇠의 단계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업이 변화되지 않으면 안 된다는 것은 두말할 것도 없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사원 한 사람 한 사람이 변화하지 않으면 안 된다는 말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6880" y="685800"/>
            <a:ext cx="58676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변화경영에 실패하는 회사나 조직에는 이런 말들이 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이것이 정말 좋다면 왜 예전부터 안했겠나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"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우리 부서는 직원들을 교육과정에 보낼 만큼 한가롭지 않아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"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나는 괜찮은데 다른 사람들이 싫어할 거야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변화를 성공으로 이끄는 핵심 요인은 이런 부정적인 태도와는 거리가 멀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명심할 것은 종업원들의 마음이 중요하다고 해서 오로지 감정적인 접근법만이 옳다는 것은 아니라는 사실이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문제는 정확히 보되 해결책을 강구하기 위해서는 무엇보다 사원들의 흔쾌한 동참이 중요하다는 얘기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77920" y="191916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변화 필요성 절실히 느껴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5840" y="609480"/>
            <a:ext cx="84772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두려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자기만족 등 극복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변화를 성공적으로 이끌기 위한 과정은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단계로 나눠볼 수 있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굴림"/>
              </a:rPr>
              <a:t>먼저 </a:t>
            </a:r>
            <a:r>
              <a:rPr b="0" lang="en-US" sz="1600" spc="-1" strike="noStrike">
                <a:solidFill>
                  <a:srgbClr val="ff0000"/>
                </a:solidFill>
                <a:latin typeface="굴림"/>
              </a:rPr>
              <a:t>1</a:t>
            </a:r>
            <a:r>
              <a:rPr b="0" lang="zh-CN" sz="1600" spc="-1" strike="noStrike">
                <a:solidFill>
                  <a:srgbClr val="ff0000"/>
                </a:solidFill>
                <a:latin typeface="굴림"/>
              </a:rPr>
              <a:t>단계에선 위기감을 고조시켜야 한다</a:t>
            </a:r>
            <a:r>
              <a:rPr b="0" lang="en-US" sz="16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600" spc="-1" strike="noStrike">
                <a:solidFill>
                  <a:srgbClr val="ff9900"/>
                </a:solidFill>
                <a:latin typeface="굴림"/>
              </a:rPr>
              <a:t>충분한 위기감이 없으면 기업 차원의 변화는 산 위쪽으로 바위 굴려올리기를 하는 것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굴림"/>
              </a:rPr>
              <a:t>    </a:t>
            </a:r>
            <a:r>
              <a:rPr b="0" lang="zh-CN" sz="1600" spc="-1" strike="noStrike">
                <a:solidFill>
                  <a:srgbClr val="ff9900"/>
                </a:solidFill>
                <a:latin typeface="굴림"/>
              </a:rPr>
              <a:t>마찬가지가 될 가능성이 높다</a:t>
            </a:r>
            <a:r>
              <a:rPr b="0" lang="en-US" sz="1600" spc="-1" strike="noStrike">
                <a:solidFill>
                  <a:srgbClr val="ff99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위기감을 고조시키기 위해선 무엇보다 먼저 종업원들의 심정적 저항 요인을 없애야 한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심정적 저항 요인은 변화경영을 통해 반드시 극복해야 할 것으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대표적인 것은  두려움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fea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분노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ang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자기만족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complacency)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등 세 가지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이런 저항을 없애거나 줄이는 것이 변화경영 성공의 지름길이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이런 저항감이 사라져야 열정이나 흥분 등의 상태가 가능해진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위기감을 고조시키는 방법 역시 감정에 호소해야 효과가 크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760" y="671400"/>
            <a:ext cx="8823240" cy="56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9900"/>
                </a:solidFill>
                <a:latin typeface="굴림"/>
              </a:rPr>
              <a:t>제</a:t>
            </a:r>
            <a:r>
              <a:rPr b="0" lang="ko-KR" sz="1600" spc="-1" strike="noStrike">
                <a:solidFill>
                  <a:srgbClr val="ff9900"/>
                </a:solidFill>
                <a:latin typeface="굴림"/>
              </a:rPr>
              <a:t>2</a:t>
            </a:r>
            <a:r>
              <a:rPr b="0" lang="ko-KR" sz="1600" spc="-1" strike="noStrike">
                <a:solidFill>
                  <a:srgbClr val="ff9900"/>
                </a:solidFill>
                <a:latin typeface="굴림"/>
              </a:rPr>
              <a:t>단계는 변화 선도 팀을 구성하는 것이다</a:t>
            </a:r>
            <a:r>
              <a:rPr b="0" lang="ko-KR" sz="1600" spc="-1" strike="noStrike">
                <a:solidFill>
                  <a:srgbClr val="ff99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팀이 하나일 필요는 없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사내에 여러 팀들이 있을 수 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이 팀의 역할 역시 두려움 분노 자기만족 등 저항을 제거하는 것이 중요하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변화선도팀에 가장 필요한 덕목은 바로 신뢰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(trust)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믿음을 쌓고 존경받지 못하면 전사적인 변화를 이끌 수 없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변화속도 늦추지 말아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변화선도팀이 제대로 활동하면  제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단계 비전 정립작업도 쉽게 이뤄질 수 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비전은 세 가지 중요한 요건이 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달성할 만해야 하고 명확해야 하며 영감을 자극하는 것이어야 한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비전은 미래에 대한 그림이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전략도 아니고 프로젝트도 예산도 아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모두가 달성하고 싶어하는 그 무엇이어야 한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단어가 아니라 그림으로 명확히 표현될 수 있어야 한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05:17:28Z</dcterms:created>
  <dc:creator>정경원</dc:creator>
  <dc:description/>
  <dc:language>en-US</dc:language>
  <cp:lastModifiedBy>.</cp:lastModifiedBy>
  <dcterms:modified xsi:type="dcterms:W3CDTF">2008-09-28T06:01:44Z</dcterms:modified>
  <cp:revision>39</cp:revision>
  <dc:subject>실천-혁신성공</dc:subject>
  <dc:title>슬라이드 제목 없음</dc:title>
</cp:coreProperties>
</file>