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5AB-0DC6-449E-959E-08E37220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93E-4771-461E-A611-5FBF3560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3FF-8E2B-4CD9-9257-EB2CF47E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D2D-77BE-46A3-90E4-AEB9AC48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65F-1913-46D7-B774-B62B6992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628-DE3C-4443-86F1-CBEBF75B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BD5-0F4E-4CC8-A82F-EC2E3C50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3AF-7A34-4D43-BC04-B05412DF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214-F6F4-40FD-8D0D-540A2410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AA0-F4E1-44FF-8919-A3B633F0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5CD-873F-480E-8D48-1F6281F9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D8C-CEBD-4732-97F4-1FCF2BEA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1009-538C-47EA-B0E0-C26217E0C9D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5.xml"/><Relationship Id="rId3" Type="http://schemas.openxmlformats.org/officeDocument/2006/relationships/slide" Target="slide18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" Target="slide35.xml"/><Relationship Id="rId9" Type="http://schemas.openxmlformats.org/officeDocument/2006/relationships/slide" Target="slide28.xml"/><Relationship Id="rId10" Type="http://schemas.openxmlformats.org/officeDocument/2006/relationships/slide" Target="slide44.xml"/><Relationship Id="rId11" Type="http://schemas.openxmlformats.org/officeDocument/2006/relationships/slide" Target="slide4.xml"/><Relationship Id="rId12" Type="http://schemas.openxmlformats.org/officeDocument/2006/relationships/slide" Target=""/><Relationship Id="rId13" Type="http://schemas.openxmlformats.org/officeDocument/2006/relationships/slide" Target="slide11.xml"/><Relationship Id="rId14" Type="http://schemas.openxmlformats.org/officeDocument/2006/relationships/slide" Target=""/><Relationship Id="rId15" Type="http://schemas.openxmlformats.org/officeDocument/2006/relationships/slide" Target="slide13.xml"/><Relationship Id="rId16" Type="http://schemas.openxmlformats.org/officeDocument/2006/relationships/slide" Target=""/><Relationship Id="rId17" Type="http://schemas.openxmlformats.org/officeDocument/2006/relationships/slide" Target="slide18.xml"/><Relationship Id="rId1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467840" cy="2514600"/>
          </a:xfrm>
          <a:prstGeom prst="rect">
            <a:avLst/>
          </a:prstGeom>
          <a:gradFill rotWithShape="0">
            <a:gsLst>
              <a:gs pos="0">
                <a:srgbClr val="000a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0" spc="-1" strike="noStrike">
                <a:solidFill>
                  <a:srgbClr val="ffffff"/>
                </a:solidFill>
                <a:latin typeface="굴림"/>
              </a:rPr>
              <a:t>서양미술 감상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굴림"/>
              </a:rPr>
              <a:t>( 20</a:t>
            </a:r>
            <a:r>
              <a:rPr b="1" lang="ko-KR" sz="3600" spc="-1" strike="noStrike">
                <a:solidFill>
                  <a:srgbClr val="ffffff"/>
                </a:solidFill>
                <a:latin typeface="굴림"/>
              </a:rPr>
              <a:t>세기 현대 미술 </a:t>
            </a:r>
            <a:r>
              <a:rPr b="1" lang="en-US" sz="36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4114800"/>
            <a:ext cx="5562720" cy="1828800"/>
          </a:xfrm>
          <a:prstGeom prst="rect">
            <a:avLst/>
          </a:prstGeom>
          <a:gradFill rotWithShape="0">
            <a:gsLst>
              <a:gs pos="0">
                <a:srgbClr val="fafffd"/>
              </a:gs>
              <a:gs pos="50000">
                <a:srgbClr val="66ffcc"/>
              </a:gs>
              <a:gs pos="100000">
                <a:srgbClr val="fafffd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진주여자중학교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이   명   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AutoShape 4">
            <a:hlinkClick r:id="" action="ppaction://hlinkshowjump?jump=lastslide"/>
          </p:cNvPr>
          <p:cNvSpPr/>
          <p:nvPr/>
        </p:nvSpPr>
        <p:spPr>
          <a:xfrm>
            <a:off x="83818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19705" y="10800"/>
                </a:moveTo>
                <a:lnTo>
                  <a:pt x="9200" y="17806"/>
                </a:lnTo>
                <a:lnTo>
                  <a:pt x="9200" y="3794"/>
                </a:lnTo>
                <a:close/>
              </a:path>
              <a:path fill="darken" w="32413" h="21600">
                <a:moveTo>
                  <a:pt x="21550" y="3794"/>
                </a:moveTo>
                <a:lnTo>
                  <a:pt x="21550" y="17806"/>
                </a:lnTo>
                <a:lnTo>
                  <a:pt x="23213" y="17806"/>
                </a:lnTo>
                <a:lnTo>
                  <a:pt x="23213" y="3794"/>
                </a:lnTo>
                <a:close/>
              </a:path>
            </a:pathLst>
          </a:custGeom>
          <a:solidFill>
            <a:srgbClr val="e7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447920" y="1523880"/>
            <a:ext cx="6248160" cy="914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4ff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세잔의 기하학적인 이론에 영향을 받아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대상을  분해하고  재구성하여  표현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556236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eb2b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rial"/>
                <a:ea typeface="돋움"/>
              </a:rPr>
              <a:t>2. </a:t>
            </a:r>
            <a:r>
              <a:rPr b="1" lang="ko-KR" sz="4000" spc="-1" strike="noStrike">
                <a:solidFill>
                  <a:srgbClr val="010000"/>
                </a:solidFill>
                <a:latin typeface="Arial"/>
                <a:ea typeface="돋움"/>
              </a:rPr>
              <a:t>입체파 </a:t>
            </a:r>
            <a:r>
              <a:rPr b="1" lang="en-US" sz="4000" spc="-1" strike="noStrike">
                <a:solidFill>
                  <a:srgbClr val="010000"/>
                </a:solidFill>
                <a:latin typeface="굴림"/>
                <a:ea typeface="돋움"/>
              </a:rPr>
              <a:t>(Cubism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57200" y="2895480"/>
            <a:ext cx="8229600" cy="3276720"/>
          </a:xfrm>
          <a:prstGeom prst="rect">
            <a:avLst/>
          </a:prstGeom>
          <a:gradFill rotWithShape="0">
            <a:gsLst>
              <a:gs pos="0">
                <a:srgbClr val="e7f6ff"/>
              </a:gs>
              <a:gs pos="50000">
                <a:srgbClr val="f3fbff"/>
              </a:gs>
              <a:gs pos="100000">
                <a:srgbClr val="e7f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피카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400" spc="-1" strike="noStrike" u="sng">
                <a:solidFill>
                  <a:srgbClr val="009999"/>
                </a:solidFill>
                <a:uFillTx/>
                <a:latin typeface="Arial"/>
                <a:ea typeface="돋움"/>
                <a:hlinkClick r:id="rId1" action="ppaction://hlinksldjump"/>
              </a:rPr>
              <a:t>아비뇽의 처녀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0" lang="ko-KR" sz="2400" spc="-1" strike="noStrike" u="sng">
                <a:solidFill>
                  <a:srgbClr val="009999"/>
                </a:solidFill>
                <a:uFillTx/>
                <a:latin typeface="Times New Roman"/>
                <a:ea typeface="돋움"/>
                <a:hlinkClick r:id="rId2" action="ppaction://hlinksldjump"/>
              </a:rPr>
              <a:t>게르니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브라크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400" spc="-1" strike="noStrike" u="sng">
                <a:solidFill>
                  <a:srgbClr val="009999"/>
                </a:solidFill>
                <a:uFillTx/>
                <a:latin typeface="Times New Roman"/>
                <a:ea typeface="돋움"/>
                <a:hlinkClick r:id="rId3" action="ppaction://hlinksldjump"/>
              </a:rPr>
              <a:t>기타를 치는 여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2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레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400" spc="-1" strike="noStrike" u="sng">
                <a:solidFill>
                  <a:srgbClr val="009999"/>
                </a:solidFill>
                <a:uFillTx/>
                <a:latin typeface="Times New Roman"/>
                <a:ea typeface="돋움"/>
                <a:hlinkClick r:id="rId4" action="ppaction://hlinksldjump"/>
              </a:rPr>
              <a:t>공을  가진  어린이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AutoShape 5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AutoShape 6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AutoShape 7">
            <a:hlinkClick r:id="rId5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1992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피 카 소 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(Pablo  Picasso, 1881~1973  </a:t>
            </a: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스페인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아비뇽의 처녀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Picture 3" descr="C:\WORK\그림자료\감상\20세기\입체파\피카소18.JPG"/>
          <p:cNvPicPr/>
          <p:nvPr/>
        </p:nvPicPr>
        <p:blipFill>
          <a:blip r:embed="rId1"/>
          <a:stretch/>
        </p:blipFill>
        <p:spPr>
          <a:xfrm>
            <a:off x="2052720" y="228600"/>
            <a:ext cx="5043240" cy="571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5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AutoShape 6">
            <a:hlinkClick r:id="rId2" action="ppaction://hlinksldjump"/>
          </p:cNvPr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피 카 소 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(Pablo  Picasso, 1881~1973  </a:t>
            </a: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스페인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게르니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Picture 3" descr="C:\WORK\그림자료\감상\20세기\입체파\피카소16.JPG"/>
          <p:cNvPicPr/>
          <p:nvPr/>
        </p:nvPicPr>
        <p:blipFill>
          <a:blip r:embed="rId1"/>
          <a:stretch/>
        </p:blipFill>
        <p:spPr>
          <a:xfrm>
            <a:off x="228600" y="1112760"/>
            <a:ext cx="8686800" cy="3992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0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AutoShape 6">
            <a:hlinkClick r:id="rId2" action="ppaction://hlinksldjump"/>
          </p:cNvPr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199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00"/>
                </a:solidFill>
                <a:latin typeface="굴림"/>
              </a:rPr>
              <a:t>브 라 크 </a:t>
            </a:r>
            <a:r>
              <a:rPr b="1" lang="en-US" sz="1800" spc="-1" strike="noStrike">
                <a:solidFill>
                  <a:srgbClr val="003300"/>
                </a:solidFill>
                <a:latin typeface="굴림"/>
              </a:rPr>
              <a:t>(Georges  Braque, 1882~1963   </a:t>
            </a:r>
            <a:r>
              <a:rPr b="1" lang="ko-KR" sz="1800" spc="-1" strike="noStrike">
                <a:solidFill>
                  <a:srgbClr val="003300"/>
                </a:solidFill>
                <a:latin typeface="굴림"/>
              </a:rPr>
              <a:t>프랑스</a:t>
            </a:r>
            <a:r>
              <a:rPr b="1" lang="en-US" sz="1800" spc="-1" strike="noStrike">
                <a:solidFill>
                  <a:srgbClr val="003300"/>
                </a:solidFill>
                <a:latin typeface="굴림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타를 치는 여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Picture 3" descr="C:\WORK\그림자료\감상\20세기\입체파\브라크01.JPG"/>
          <p:cNvPicPr/>
          <p:nvPr/>
        </p:nvPicPr>
        <p:blipFill>
          <a:blip r:embed="rId1"/>
          <a:stretch/>
        </p:blipFill>
        <p:spPr>
          <a:xfrm>
            <a:off x="3124080" y="152280"/>
            <a:ext cx="3311640" cy="571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5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AutoShape 6">
            <a:hlinkClick r:id="rId2" action="ppaction://hlinksldjump"/>
          </p:cNvPr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601992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레제 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(Fernand  L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ger, 1881~1955  </a:t>
            </a: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을  가진  어린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Picture 3" descr="C:\WORK\그림자료\감상\20세기\입체파\레제03.JPG"/>
          <p:cNvPicPr/>
          <p:nvPr/>
        </p:nvPicPr>
        <p:blipFill>
          <a:blip r:embed="rId1"/>
          <a:stretch/>
        </p:blipFill>
        <p:spPr>
          <a:xfrm>
            <a:off x="2286000" y="228600"/>
            <a:ext cx="4359240" cy="571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AutoShape 6">
            <a:hlinkClick r:id="rId2" action="ppaction://hlinksldjump"/>
          </p:cNvPr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447920" y="1600200"/>
            <a:ext cx="6095880" cy="838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색채를  강조하고  형태를 과장하여  작가 의 극단적인 내면 세계를 표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독일중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10280" cy="838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rial"/>
                <a:ea typeface="돋움"/>
              </a:rPr>
              <a:t>3. </a:t>
            </a:r>
            <a:r>
              <a:rPr b="1" lang="ko-KR" sz="4000" spc="-1" strike="noStrike">
                <a:solidFill>
                  <a:srgbClr val="010000"/>
                </a:solidFill>
                <a:latin typeface="Arial"/>
                <a:ea typeface="돋움"/>
              </a:rPr>
              <a:t>표현파 </a:t>
            </a:r>
            <a:r>
              <a:rPr b="1" lang="en-US" sz="4000" spc="-1" strike="noStrike">
                <a:solidFill>
                  <a:srgbClr val="010000"/>
                </a:solidFill>
                <a:latin typeface="굴림"/>
                <a:ea typeface="돋움"/>
              </a:rPr>
              <a:t>(Expressionism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38080" y="2895480"/>
            <a:ext cx="7543800" cy="3276720"/>
          </a:xfrm>
          <a:prstGeom prst="rect">
            <a:avLst/>
          </a:prstGeom>
          <a:gradFill rotWithShape="0">
            <a:gsLst>
              <a:gs pos="0">
                <a:srgbClr val="e7f6ff"/>
              </a:gs>
              <a:gs pos="50000">
                <a:srgbClr val="f0f9ff"/>
              </a:gs>
              <a:gs pos="100000">
                <a:srgbClr val="e7f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뭉크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Arial"/>
                <a:ea typeface="돋움"/>
                <a:hlinkClick r:id="rId1" action="ppaction://hlinksldjump"/>
              </a:rPr>
              <a:t>절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Times New Roman"/>
                <a:ea typeface="돋움"/>
                <a:hlinkClick r:id="rId2" action="ppaction://hlinksldjump"/>
              </a:rPr>
              <a:t>마돈나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ko-KR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놀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Times New Roman"/>
                <a:ea typeface="돋움"/>
                <a:hlinkClick r:id="rId3" action="ppaction://hlinksldjump"/>
              </a:rPr>
              <a:t>석양의 바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ko-KR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코코쉬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자화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AutoShape 5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AutoShape 6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뭉  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 Edvard  Munch, 1863~194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노르웨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절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3" descr="C:\WORK\그림자료\감상\20세기\표현파\뭉크02.jpg"/>
          <p:cNvPicPr/>
          <p:nvPr/>
        </p:nvPicPr>
        <p:blipFill>
          <a:blip r:embed="rId1"/>
          <a:stretch/>
        </p:blipFill>
        <p:spPr>
          <a:xfrm>
            <a:off x="2279520" y="304920"/>
            <a:ext cx="4368960" cy="5790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1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뭉  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 Edvard  Munch, 1863~194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노르웨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마돈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Picture 3" descr="C:\WORK\그림자료\감상\20세기\표현파\뭉크06.JPG"/>
          <p:cNvPicPr/>
          <p:nvPr/>
        </p:nvPicPr>
        <p:blipFill>
          <a:blip r:embed="rId1"/>
          <a:stretch/>
        </p:blipFill>
        <p:spPr>
          <a:xfrm>
            <a:off x="2392200" y="228600"/>
            <a:ext cx="4465800" cy="57913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219320" y="1219320"/>
            <a:ext cx="6858000" cy="914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공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환상  등 비현실적인  세계나  무의식의 세계를  표현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91520" cy="7621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rial"/>
                <a:ea typeface="돋움"/>
              </a:rPr>
              <a:t>4. </a:t>
            </a:r>
            <a:r>
              <a:rPr b="1" lang="ko-KR" sz="4000" spc="-1" strike="noStrike">
                <a:solidFill>
                  <a:srgbClr val="010000"/>
                </a:solidFill>
                <a:latin typeface="Arial"/>
                <a:ea typeface="돋움"/>
              </a:rPr>
              <a:t>초현실파 </a:t>
            </a:r>
            <a:r>
              <a:rPr b="1" lang="en-US" sz="4000" spc="-1" strike="noStrike">
                <a:solidFill>
                  <a:srgbClr val="010000"/>
                </a:solidFill>
                <a:latin typeface="굴림"/>
                <a:ea typeface="돋움"/>
              </a:rPr>
              <a:t>(Sur Realism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0880" y="2514600"/>
            <a:ext cx="8382240" cy="3809880"/>
          </a:xfrm>
          <a:prstGeom prst="rect">
            <a:avLst/>
          </a:prstGeom>
          <a:gradFill rotWithShape="0">
            <a:gsLst>
              <a:gs pos="0">
                <a:srgbClr val="e7f6ff"/>
              </a:gs>
              <a:gs pos="50000">
                <a:srgbClr val="f1faff"/>
              </a:gs>
              <a:gs pos="100000">
                <a:srgbClr val="e7f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샤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나와  마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미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종달새를 쫓는 붉은 원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달리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기억의  집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내란의  예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키리코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거리의  우수와  신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에른스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수풀과  태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마그리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물체의 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5">
            <a:hlinkClick r:id="" action="ppaction://hlinkshowjump?jump=previousslide"/>
          </p:cNvPr>
          <p:cNvSpPr/>
          <p:nvPr/>
        </p:nvSpPr>
        <p:spPr>
          <a:xfrm>
            <a:off x="8001000" y="652932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6">
            <a:hlinkClick r:id="" action="ppaction://hlinkshowjump?jump=nextslide"/>
          </p:cNvPr>
          <p:cNvSpPr/>
          <p:nvPr/>
        </p:nvSpPr>
        <p:spPr>
          <a:xfrm>
            <a:off x="8381880" y="652932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564320" y="652932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609588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샤 갈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 Marc  Chagall, 1887~1985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러시아</a:t>
            </a:r>
            <a:r>
              <a:rPr b="1" lang="ko-KR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랑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나와  마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7" name="Picture 3" descr="C:\WORK\그림자료\감상\20세기\초현실파\샤갈01.jpg"/>
          <p:cNvPicPr/>
          <p:nvPr/>
        </p:nvPicPr>
        <p:blipFill>
          <a:blip r:embed="rId1"/>
          <a:stretch/>
        </p:blipFill>
        <p:spPr>
          <a:xfrm>
            <a:off x="2209680" y="228600"/>
            <a:ext cx="4740480" cy="571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8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80880" y="1752480"/>
            <a:ext cx="8458200" cy="44960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돋움체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돋움체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돋움체"/>
              </a:rPr>
              <a:t>20</a:t>
            </a:r>
            <a:r>
              <a:rPr b="1" lang="ko-KR" sz="4000" spc="-1" strike="noStrike">
                <a:solidFill>
                  <a:srgbClr val="000000"/>
                </a:solidFill>
                <a:latin typeface="Times New Roman"/>
                <a:ea typeface="돋움체"/>
              </a:rPr>
              <a:t>세기 현대</a:t>
            </a:r>
            <a:r>
              <a:rPr b="1" lang="ko-KR" sz="4000" spc="-1" strike="noStrike">
                <a:solidFill>
                  <a:srgbClr val="000000"/>
                </a:solidFill>
                <a:latin typeface="Arial"/>
                <a:ea typeface="돋움"/>
              </a:rPr>
              <a:t>미술의  변천과정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4000" spc="-1" strike="noStrike">
                <a:solidFill>
                  <a:srgbClr val="000000"/>
                </a:solidFill>
                <a:latin typeface="Arial"/>
                <a:ea typeface="돋움"/>
              </a:rPr>
              <a:t>각 유파별  표현  특징을 안다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돋움체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돋움체"/>
              </a:rPr>
              <a:t>. </a:t>
            </a:r>
            <a:r>
              <a:rPr b="1" lang="ko-KR" sz="4000" spc="-1" strike="noStrike">
                <a:solidFill>
                  <a:srgbClr val="000000"/>
                </a:solidFill>
                <a:latin typeface="Arial"/>
                <a:ea typeface="돋움"/>
              </a:rPr>
              <a:t>각 유파별 대표작품을 감상하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4000" spc="-1" strike="noStrike">
                <a:solidFill>
                  <a:srgbClr val="000000"/>
                </a:solidFill>
                <a:latin typeface="Arial"/>
                <a:ea typeface="돋움"/>
              </a:rPr>
              <a:t>작가의 창의성을 알아본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AutoShape 3">
            <a:hlinkClick r:id="" action="ppaction://hlinkshowjump?jump=previousslide"/>
          </p:cNvPr>
          <p:cNvSpPr/>
          <p:nvPr/>
        </p:nvSpPr>
        <p:spPr>
          <a:xfrm>
            <a:off x="7848720" y="64008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AutoShape 4">
            <a:hlinkClick r:id="" action="ppaction://hlinkshowjump?jump=nextslide"/>
          </p:cNvPr>
          <p:cNvSpPr/>
          <p:nvPr/>
        </p:nvSpPr>
        <p:spPr>
          <a:xfrm>
            <a:off x="8250120" y="64008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4648320" cy="990720"/>
          </a:xfrm>
          <a:prstGeom prst="rect">
            <a:avLst/>
          </a:prstGeom>
          <a:gradFill rotWithShape="0">
            <a:gsLst>
              <a:gs pos="0">
                <a:srgbClr val="7676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000000"/>
                </a:solidFill>
                <a:latin typeface="굴림"/>
              </a:rPr>
              <a:t>학 습 목 표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AutoShape 6">
            <a:hlinkClick r:id="rId1" action="ppaction://hlinksldjump"/>
          </p:cNvPr>
          <p:cNvSpPr/>
          <p:nvPr/>
        </p:nvSpPr>
        <p:spPr>
          <a:xfrm>
            <a:off x="8631360" y="64008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7043" y="10800"/>
                </a:moveTo>
                <a:lnTo>
                  <a:pt x="6537" y="17806"/>
                </a:lnTo>
                <a:lnTo>
                  <a:pt x="6537" y="3794"/>
                </a:lnTo>
                <a:close/>
              </a:path>
              <a:path fill="darken" w="27088" h="21600">
                <a:moveTo>
                  <a:pt x="18888" y="3794"/>
                </a:moveTo>
                <a:lnTo>
                  <a:pt x="18888" y="17806"/>
                </a:lnTo>
                <a:lnTo>
                  <a:pt x="20550" y="17806"/>
                </a:lnTo>
                <a:lnTo>
                  <a:pt x="20550" y="3794"/>
                </a:lnTo>
                <a:close/>
              </a:path>
            </a:pathLst>
          </a:custGeom>
          <a:solidFill>
            <a:srgbClr val="dd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62485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  로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 Jean Miro, 1893~     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스페인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종달새를 쫓는 붉은 원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3" descr="C:\WORK\그림자료\감상\20세기\초현실파\미로06.jpg"/>
          <p:cNvPicPr/>
          <p:nvPr/>
        </p:nvPicPr>
        <p:blipFill>
          <a:blip r:embed="rId1"/>
          <a:stretch/>
        </p:blipFill>
        <p:spPr>
          <a:xfrm>
            <a:off x="2305080" y="304920"/>
            <a:ext cx="4552920" cy="5790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3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624852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달   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 Salvador Dali, 1904~      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스페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의  집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Picture 3" descr="C:\WORK\그림자료\감상\20세기\초현실파\달리05.jpg"/>
          <p:cNvPicPr/>
          <p:nvPr/>
        </p:nvPicPr>
        <p:blipFill>
          <a:blip r:embed="rId1"/>
          <a:stretch/>
        </p:blipFill>
        <p:spPr>
          <a:xfrm>
            <a:off x="838080" y="838080"/>
            <a:ext cx="7086600" cy="484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8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6172200"/>
            <a:ext cx="7921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달   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 Salvador Dali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스페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내란의  예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3" descr="C:\WORK\그림자료\감상\20세기\초현실파\달리04.jpg"/>
          <p:cNvPicPr/>
          <p:nvPr/>
        </p:nvPicPr>
        <p:blipFill>
          <a:blip r:embed="rId1"/>
          <a:stretch/>
        </p:blipFill>
        <p:spPr>
          <a:xfrm>
            <a:off x="1447920" y="233280"/>
            <a:ext cx="6324480" cy="5786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601992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키리코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Giorgio de Chirico, 1888~ 1978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랑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불안케 하는  여신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7" name="Picture 3" descr="C:\WORK-2\그림자\감상\20세기\초현실파\키리코02.jpg"/>
          <p:cNvPicPr/>
          <p:nvPr/>
        </p:nvPicPr>
        <p:blipFill>
          <a:blip r:embed="rId1"/>
          <a:stretch/>
        </p:blipFill>
        <p:spPr>
          <a:xfrm>
            <a:off x="2743200" y="304920"/>
            <a:ext cx="3846600" cy="571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8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62485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른스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 Max Ernst, 1891~      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독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풀과  태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2" name="Picture 3" descr="C:\WORK\그림자료\감상\ERNST.JPG"/>
          <p:cNvPicPr/>
          <p:nvPr/>
        </p:nvPicPr>
        <p:blipFill>
          <a:blip r:embed="rId1"/>
          <a:stretch/>
        </p:blipFill>
        <p:spPr>
          <a:xfrm>
            <a:off x="2824200" y="228600"/>
            <a:ext cx="3500280" cy="586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59436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마그리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 R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Magritte, 1898~1967,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벨기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물체의 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Picture 3" descr="C:\Work\그림자료\감상\20세기\초현실파\마그리02.JPG"/>
          <p:cNvPicPr/>
          <p:nvPr/>
        </p:nvPicPr>
        <p:blipFill>
          <a:blip r:embed="rId1"/>
          <a:stretch/>
        </p:blipFill>
        <p:spPr>
          <a:xfrm>
            <a:off x="838080" y="228600"/>
            <a:ext cx="7010640" cy="54291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4">
            <a:hlinkClick r:id="" action="ppaction://hlinkshowjump?jump=previousslide"/>
          </p:cNvPr>
          <p:cNvSpPr/>
          <p:nvPr/>
        </p:nvSpPr>
        <p:spPr>
          <a:xfrm>
            <a:off x="80978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AutoShape 5">
            <a:hlinkClick r:id="" action="ppaction://hlinkshowjump?jump=nextslide"/>
          </p:cNvPr>
          <p:cNvSpPr/>
          <p:nvPr/>
        </p:nvSpPr>
        <p:spPr>
          <a:xfrm>
            <a:off x="84787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7661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4859280" y="620640"/>
            <a:ext cx="3960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다다이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차대전 중 유럽에서 일어난 예술상의 반항운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모든 전통적인 조형이론을 부정하고 아무것에도 구애 받지 않는 자유로운 표현을 강조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부정과 파괴를 통해 합리주의에 반항한 운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3" descr="뒤샹의 샘"/>
          <p:cNvPicPr/>
          <p:nvPr/>
        </p:nvPicPr>
        <p:blipFill>
          <a:blip r:embed="rId1"/>
          <a:stretch/>
        </p:blipFill>
        <p:spPr>
          <a:xfrm>
            <a:off x="533520" y="457200"/>
            <a:ext cx="4012920" cy="457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뒤샹의 계단을 내려오는 나부"/>
          <p:cNvPicPr/>
          <p:nvPr/>
        </p:nvPicPr>
        <p:blipFill>
          <a:blip r:embed="rId2"/>
          <a:stretch/>
        </p:blipFill>
        <p:spPr>
          <a:xfrm>
            <a:off x="6248520" y="3200400"/>
            <a:ext cx="2438280" cy="33796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1537920" y="50292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뒤샹의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샘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80880" y="6019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뒤샹의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계단을 내려오는 나부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5562720" y="6095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7" name="이수영4집 - 라라라 - 18. 라라라 (Instrumental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7"/>
          <p:cNvSpPr/>
          <p:nvPr/>
        </p:nvSpPr>
        <p:spPr>
          <a:xfrm>
            <a:off x="5715000" y="685800"/>
            <a:ext cx="28954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미래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이탈리아 중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물체의 운동과 속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시간성을 표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역동적 속도의 미를 강조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9" name="Picture 8" descr="미래주의-자코모발라"/>
          <p:cNvPicPr/>
          <p:nvPr/>
        </p:nvPicPr>
        <p:blipFill>
          <a:blip r:embed="rId1"/>
          <a:stretch/>
        </p:blipFill>
        <p:spPr>
          <a:xfrm>
            <a:off x="6019920" y="3276720"/>
            <a:ext cx="2257200" cy="2895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9"/>
          <p:cNvSpPr/>
          <p:nvPr/>
        </p:nvSpPr>
        <p:spPr>
          <a:xfrm>
            <a:off x="4356000" y="5486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자코모 발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" name="Picture 10" descr="지노세베리니-미래주의"/>
          <p:cNvPicPr/>
          <p:nvPr/>
        </p:nvPicPr>
        <p:blipFill>
          <a:blip r:embed="rId2"/>
          <a:stretch/>
        </p:blipFill>
        <p:spPr>
          <a:xfrm>
            <a:off x="838080" y="380880"/>
            <a:ext cx="3110040" cy="39816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1"/>
          <p:cNvSpPr/>
          <p:nvPr/>
        </p:nvSpPr>
        <p:spPr>
          <a:xfrm>
            <a:off x="184572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세베리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219320" y="1600200"/>
            <a:ext cx="6858000" cy="914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차  대전  후부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차  대전  전까지  파리를 중심으로   활약한  국제적인  화가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400800" cy="7621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rial"/>
                <a:ea typeface="돋움"/>
              </a:rPr>
              <a:t>5. </a:t>
            </a:r>
            <a:r>
              <a:rPr b="1" lang="ko-KR" sz="4000" spc="-1" strike="noStrike">
                <a:solidFill>
                  <a:srgbClr val="010000"/>
                </a:solidFill>
                <a:latin typeface="Arial"/>
                <a:ea typeface="돋움"/>
              </a:rPr>
              <a:t>파리파 </a:t>
            </a:r>
            <a:r>
              <a:rPr b="1" lang="en-US" sz="4000" spc="-1" strike="noStrike">
                <a:solidFill>
                  <a:srgbClr val="010000"/>
                </a:solidFill>
                <a:latin typeface="굴림"/>
                <a:ea typeface="돋움"/>
              </a:rPr>
              <a:t>(Ecole de Paris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533520" y="3124080"/>
            <a:ext cx="8229600" cy="2362320"/>
          </a:xfrm>
          <a:prstGeom prst="rect">
            <a:avLst/>
          </a:prstGeom>
          <a:gradFill rotWithShape="0">
            <a:gsLst>
              <a:gs pos="0">
                <a:srgbClr val="e7f6ff"/>
              </a:gs>
              <a:gs pos="50000">
                <a:srgbClr val="eff9ff"/>
              </a:gs>
              <a:gs pos="100000">
                <a:srgbClr val="e7f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모딜리아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나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큰 모자를 쓴 쟌느 에뷔테르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수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심부름하는 소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로랑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두 소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AutoShape 5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AutoShape 6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77169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0199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딜리아니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 Amedeo Modigliani,1884~1920,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태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나 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0" name="Picture 3" descr="C:\Work\그림자료\감상\20세기\파리파\모딜랸03.JPG"/>
          <p:cNvPicPr/>
          <p:nvPr/>
        </p:nvPicPr>
        <p:blipFill>
          <a:blip r:embed="rId1"/>
          <a:stretch/>
        </p:blipFill>
        <p:spPr>
          <a:xfrm>
            <a:off x="2743200" y="228600"/>
            <a:ext cx="3527280" cy="57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1" name="AutoShape 4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AutoShape 5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77374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>
            <a:hlinkClick r:id="" action="ppaction://hlinkshowjump?jump=previousslide"/>
          </p:cNvPr>
          <p:cNvSpPr/>
          <p:nvPr/>
        </p:nvSpPr>
        <p:spPr>
          <a:xfrm>
            <a:off x="8271000" y="64184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AutoShape 3">
            <a:hlinkClick r:id="" action="ppaction://hlinkshowjump?jump=nextslide"/>
          </p:cNvPr>
          <p:cNvSpPr/>
          <p:nvPr/>
        </p:nvSpPr>
        <p:spPr>
          <a:xfrm>
            <a:off x="8631360" y="64184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AutoShape 4">
            <a:hlinkClick r:id="rId1" action="ppaction://hlinksldjump"/>
          </p:cNvPr>
          <p:cNvSpPr/>
          <p:nvPr/>
        </p:nvSpPr>
        <p:spPr>
          <a:xfrm>
            <a:off x="1258920" y="2133720"/>
            <a:ext cx="504720" cy="20160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AutoShape 5">
            <a:hlinkClick r:id="rId2" action="ppaction://hlinksldjump"/>
          </p:cNvPr>
          <p:cNvSpPr/>
          <p:nvPr/>
        </p:nvSpPr>
        <p:spPr>
          <a:xfrm>
            <a:off x="2700360" y="2133720"/>
            <a:ext cx="431640" cy="200484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AutoShape 6">
            <a:hlinkClick r:id="rId3" action="ppaction://hlinksldjump"/>
          </p:cNvPr>
          <p:cNvSpPr/>
          <p:nvPr/>
        </p:nvSpPr>
        <p:spPr>
          <a:xfrm>
            <a:off x="3348000" y="2133720"/>
            <a:ext cx="503280" cy="20160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AutoShape 7">
            <a:hlinkClick r:id="rId4" action="ppaction://hlinksldjump"/>
          </p:cNvPr>
          <p:cNvSpPr/>
          <p:nvPr/>
        </p:nvSpPr>
        <p:spPr>
          <a:xfrm>
            <a:off x="4067280" y="2133720"/>
            <a:ext cx="504720" cy="200484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AutoShape 8">
            <a:hlinkClick r:id="rId5" action="ppaction://hlinksldjump"/>
          </p:cNvPr>
          <p:cNvSpPr/>
          <p:nvPr/>
        </p:nvSpPr>
        <p:spPr>
          <a:xfrm>
            <a:off x="4788000" y="2133720"/>
            <a:ext cx="504720" cy="200484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Line 9"/>
          <p:cNvSpPr/>
          <p:nvPr/>
        </p:nvSpPr>
        <p:spPr>
          <a:xfrm>
            <a:off x="1136520" y="1957320"/>
            <a:ext cx="6934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AutoShape 10">
            <a:hlinkClick r:id="rId6" action="ppaction://hlinksldjump"/>
          </p:cNvPr>
          <p:cNvSpPr/>
          <p:nvPr/>
        </p:nvSpPr>
        <p:spPr>
          <a:xfrm>
            <a:off x="6948360" y="2133720"/>
            <a:ext cx="503280" cy="200484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136520" y="1957320"/>
            <a:ext cx="0" cy="474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2127240" y="1957320"/>
            <a:ext cx="0" cy="474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6089760" y="1957320"/>
            <a:ext cx="0" cy="474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8070840" y="1957320"/>
            <a:ext cx="0" cy="474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4641840" y="1482840"/>
            <a:ext cx="0" cy="474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634480" y="504000"/>
            <a:ext cx="4014720" cy="928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굴림"/>
              </a:rPr>
              <a:t>목          차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AutoShape 17">
            <a:hlinkClick r:id="rId7" action="ppaction://hlinksldjump"/>
          </p:cNvPr>
          <p:cNvSpPr/>
          <p:nvPr/>
        </p:nvSpPr>
        <p:spPr>
          <a:xfrm>
            <a:off x="1979640" y="2133720"/>
            <a:ext cx="431640" cy="20160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AutoShape 18">
            <a:hlinkClick r:id="rId8" action="ppaction://hlinksldjump"/>
          </p:cNvPr>
          <p:cNvSpPr/>
          <p:nvPr/>
        </p:nvSpPr>
        <p:spPr>
          <a:xfrm>
            <a:off x="6227640" y="2133720"/>
            <a:ext cx="503280" cy="20160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AutoShape 19">
            <a:hlinkClick r:id="rId9" action="ppaction://hlinksldjump"/>
          </p:cNvPr>
          <p:cNvSpPr/>
          <p:nvPr/>
        </p:nvSpPr>
        <p:spPr>
          <a:xfrm>
            <a:off x="5508720" y="2133720"/>
            <a:ext cx="504720" cy="20160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AutoShape 20">
            <a:hlinkClick r:id="rId10" action="ppaction://hlinksldjump"/>
          </p:cNvPr>
          <p:cNvSpPr/>
          <p:nvPr/>
        </p:nvSpPr>
        <p:spPr>
          <a:xfrm>
            <a:off x="7667640" y="2133720"/>
            <a:ext cx="503280" cy="200484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AutoShape 21">
            <a:hlinkClick r:id="rId11" action="ppaction://hlinksldjump"/>
          </p:cNvPr>
          <p:cNvSpPr/>
          <p:nvPr/>
        </p:nvSpPr>
        <p:spPr>
          <a:xfrm>
            <a:off x="611280" y="2133720"/>
            <a:ext cx="496800" cy="200484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•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AutoShape 22">
            <a:hlinkClick r:id="rId12" action="ppaction://hlinksldjump"/>
          </p:cNvPr>
          <p:cNvSpPr/>
          <p:nvPr/>
        </p:nvSpPr>
        <p:spPr>
          <a:xfrm>
            <a:off x="611280" y="4365720"/>
            <a:ext cx="504720" cy="20160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11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AutoShape 23">
            <a:hlinkClick r:id="rId13" action="ppaction://hlinksldjump"/>
          </p:cNvPr>
          <p:cNvSpPr/>
          <p:nvPr/>
        </p:nvSpPr>
        <p:spPr>
          <a:xfrm>
            <a:off x="1258920" y="4365720"/>
            <a:ext cx="504720" cy="20160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12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AutoShape 24">
            <a:hlinkClick r:id="rId14" action="ppaction://hlinksldjump"/>
          </p:cNvPr>
          <p:cNvSpPr/>
          <p:nvPr/>
        </p:nvSpPr>
        <p:spPr>
          <a:xfrm>
            <a:off x="1908000" y="4365720"/>
            <a:ext cx="505080" cy="20160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13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즘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AutoShape 25">
            <a:hlinkClick r:id="rId15" action="ppaction://hlinksldjump"/>
          </p:cNvPr>
          <p:cNvSpPr/>
          <p:nvPr/>
        </p:nvSpPr>
        <p:spPr>
          <a:xfrm>
            <a:off x="2627280" y="4365720"/>
            <a:ext cx="504720" cy="20160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AutoShape 26">
            <a:hlinkClick r:id="rId16" action="ppaction://hlinksldjump"/>
          </p:cNvPr>
          <p:cNvSpPr/>
          <p:nvPr/>
        </p:nvSpPr>
        <p:spPr>
          <a:xfrm>
            <a:off x="3348000" y="4365720"/>
            <a:ext cx="504720" cy="20160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15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AutoShape 27">
            <a:hlinkClick r:id="rId17" action="ppaction://hlinksldjump"/>
          </p:cNvPr>
          <p:cNvSpPr/>
          <p:nvPr/>
        </p:nvSpPr>
        <p:spPr>
          <a:xfrm>
            <a:off x="4067280" y="4365720"/>
            <a:ext cx="504720" cy="20160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16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돋움체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60199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   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 Chaim Soutine, 1894~1943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러시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심부름하는 소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" name="Picture 3" descr="C:\WORK\그림자료\감상\20세기\파리파\수틴02.jpg"/>
          <p:cNvPicPr/>
          <p:nvPr/>
        </p:nvPicPr>
        <p:blipFill>
          <a:blip r:embed="rId1"/>
          <a:stretch/>
        </p:blipFill>
        <p:spPr>
          <a:xfrm>
            <a:off x="2195640" y="228600"/>
            <a:ext cx="4763880" cy="571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6" name="AutoShape 4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AutoShape 5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77374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199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랑 생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 Marie  Laurencin, 1885~1956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랑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두 소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0" name="Picture 3" descr="C:\WORK\그림자료\감상\20세기\파리파\로랑생01.JPG"/>
          <p:cNvPicPr/>
          <p:nvPr/>
        </p:nvPicPr>
        <p:blipFill>
          <a:blip r:embed="rId1"/>
          <a:stretch/>
        </p:blipFill>
        <p:spPr>
          <a:xfrm>
            <a:off x="2133720" y="228600"/>
            <a:ext cx="4686120" cy="5638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1" name="AutoShape 4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AutoShape 5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77374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87280" y="907920"/>
            <a:ext cx="2900520" cy="58140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99192" dir="238194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HY동녘B"/>
                <a:ea typeface="HY동녘B"/>
              </a:rPr>
              <a:t>소   박   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68360" y="2621160"/>
            <a:ext cx="86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ï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 art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라고도 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문적인 미술교육을 받지 않은 채 널리 받아들여지고 있는 미학적 원칙에서 벗어난 형식을 창조해내는 미술가들의 작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재미로 그림을 그리는 취미화가나 일요화가와는 구별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들은 교육받은 미술가들과 마찬가지로 정열을 가지고 창작을 하지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표현방법에 대한 이론적인 지식이 없을 뿐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3200"/>
            </a:b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표적인 화가는 루소가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991240" y="1556280"/>
            <a:ext cx="51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333399"/>
                </a:solidFill>
                <a:latin typeface="굴림"/>
              </a:rPr>
              <a:t>素朴派</a:t>
            </a:r>
            <a:r>
              <a:rPr b="0" lang="en-US" sz="2400" spc="-1" strike="noStrike">
                <a:solidFill>
                  <a:srgbClr val="333399"/>
                </a:solidFill>
                <a:latin typeface="굴림"/>
              </a:rPr>
              <a:t>, naive art, </a:t>
            </a:r>
            <a:r>
              <a:rPr b="0" lang="ko-KR" sz="2400" spc="-1" strike="noStrike">
                <a:solidFill>
                  <a:srgbClr val="333399"/>
                </a:solidFill>
                <a:latin typeface="굴림"/>
              </a:rPr>
              <a:t>나이브 아트</a:t>
            </a:r>
            <a:r>
              <a:rPr b="0" lang="en-US" sz="2400" spc="-1" strike="noStrike">
                <a:solidFill>
                  <a:srgbClr val="33339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333399"/>
                </a:solidFill>
                <a:latin typeface="굴림"/>
              </a:rPr>
              <a:t>나이프 아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루소-사육제의밤"/>
          <p:cNvPicPr/>
          <p:nvPr/>
        </p:nvPicPr>
        <p:blipFill>
          <a:blip r:embed="rId1"/>
          <a:stretch/>
        </p:blipFill>
        <p:spPr>
          <a:xfrm>
            <a:off x="1476360" y="333360"/>
            <a:ext cx="4886280" cy="6191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6705000" y="422100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루소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육제의 밤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잠자는 집시여인"/>
          <p:cNvPicPr/>
          <p:nvPr/>
        </p:nvPicPr>
        <p:blipFill>
          <a:blip r:embed="rId1"/>
          <a:stretch/>
        </p:blipFill>
        <p:spPr>
          <a:xfrm>
            <a:off x="977760" y="1022400"/>
            <a:ext cx="7188480" cy="4813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3388680" y="580536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루소의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잠자는 집시여인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19320" y="1295280"/>
            <a:ext cx="6858000" cy="9144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구체적인 대상을 떠나서 작가의 사상과 감 정을 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색 등의 순수한  조형 요소로  표현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7621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rial"/>
                <a:ea typeface="돋움"/>
              </a:rPr>
              <a:t>6.</a:t>
            </a:r>
            <a:r>
              <a:rPr b="1" lang="ko-KR" sz="4000" spc="-1" strike="noStrike">
                <a:solidFill>
                  <a:srgbClr val="010000"/>
                </a:solidFill>
                <a:latin typeface="Arial"/>
                <a:ea typeface="돋움"/>
              </a:rPr>
              <a:t>추상파</a:t>
            </a:r>
            <a:r>
              <a:rPr b="1" lang="en-US" sz="4000" spc="-1" strike="noStrike">
                <a:solidFill>
                  <a:srgbClr val="010000"/>
                </a:solidFill>
                <a:latin typeface="굴림"/>
                <a:ea typeface="돋움"/>
              </a:rPr>
              <a:t>(Abstractionism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33520" y="2743200"/>
            <a:ext cx="8229600" cy="3429000"/>
          </a:xfrm>
          <a:prstGeom prst="rect">
            <a:avLst/>
          </a:prstGeom>
          <a:gradFill rotWithShape="0">
            <a:gsLst>
              <a:gs pos="0">
                <a:srgbClr val="e7f6ff"/>
              </a:gs>
              <a:gs pos="100000">
                <a:srgbClr val="eef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돋움"/>
              </a:rPr>
              <a:t>1. </a:t>
            </a:r>
            <a:r>
              <a:rPr b="1" lang="ko-KR" sz="2000" spc="-1" strike="noStrike">
                <a:solidFill>
                  <a:srgbClr val="cc0000"/>
                </a:solidFill>
                <a:latin typeface="Arial"/>
                <a:ea typeface="돋움"/>
              </a:rPr>
              <a:t>서정적 추상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돋움"/>
              </a:rPr>
              <a:t>( </a:t>
            </a:r>
            <a:r>
              <a:rPr b="1" lang="ko-KR" sz="2000" spc="-1" strike="noStrike">
                <a:solidFill>
                  <a:srgbClr val="cc0000"/>
                </a:solidFill>
                <a:latin typeface="Arial"/>
                <a:ea typeface="돋움"/>
              </a:rPr>
              <a:t>뜨거운 추상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돋움"/>
              </a:rPr>
              <a:t>) : </a:t>
            </a:r>
            <a:r>
              <a:rPr b="1" lang="ko-KR" sz="2000" spc="-1" strike="noStrike">
                <a:solidFill>
                  <a:srgbClr val="cc0000"/>
                </a:solidFill>
                <a:latin typeface="Arial"/>
                <a:ea typeface="돋움"/>
              </a:rPr>
              <a:t>열띤 감정을 표현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•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칸딘스키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흰 형체가 있는 작품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•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클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얼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•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폴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작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NO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돋움"/>
              </a:rPr>
              <a:t>2.</a:t>
            </a:r>
            <a:r>
              <a:rPr b="1" lang="ko-KR" sz="2000" spc="-1" strike="noStrike">
                <a:solidFill>
                  <a:srgbClr val="cc0000"/>
                </a:solidFill>
                <a:latin typeface="Arial"/>
                <a:ea typeface="돋움"/>
              </a:rPr>
              <a:t>기하학적 추상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돋움"/>
              </a:rPr>
              <a:t>(</a:t>
            </a:r>
            <a:r>
              <a:rPr b="1" lang="ko-KR" sz="2000" spc="-1" strike="noStrike">
                <a:solidFill>
                  <a:srgbClr val="cc0000"/>
                </a:solidFill>
                <a:latin typeface="Arial"/>
                <a:ea typeface="돋움"/>
              </a:rPr>
              <a:t>차가운 추상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돋움"/>
              </a:rPr>
              <a:t>) : </a:t>
            </a:r>
            <a:r>
              <a:rPr b="1" lang="ko-KR" sz="2000" spc="-1" strike="noStrike">
                <a:solidFill>
                  <a:srgbClr val="cc0000"/>
                </a:solidFill>
                <a:latin typeface="Arial"/>
                <a:ea typeface="돋움"/>
              </a:rPr>
              <a:t>기하학적이고 이지적인 감정을 표현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• 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몬드리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황적청과 흑의 구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Arial"/>
                <a:ea typeface="돋움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3.  </a:t>
            </a:r>
            <a:r>
              <a:rPr b="1" lang="ko-KR" sz="2000" spc="-1" strike="noStrike">
                <a:solidFill>
                  <a:srgbClr val="ff0000"/>
                </a:solidFill>
                <a:latin typeface="Arial"/>
                <a:ea typeface="돋움"/>
              </a:rPr>
              <a:t>공간주의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- 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폰타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빨강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AutoShape 5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AutoShape 6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5791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칸딘스키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Wassily Kandinsky,1866~1944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러시아</a:t>
            </a:r>
            <a:r>
              <a:rPr b="1" lang="ko-KR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독일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흰 형체가 있는 작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8" name="Picture 3" descr="C:\WORK\그림자료\감상\20세기\추상파\칸딘스16.jpg"/>
          <p:cNvPicPr/>
          <p:nvPr/>
        </p:nvPicPr>
        <p:blipFill>
          <a:blip r:embed="rId1"/>
          <a:stretch/>
        </p:blipFill>
        <p:spPr>
          <a:xfrm>
            <a:off x="1143000" y="1219320"/>
            <a:ext cx="6553080" cy="4039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9" name="AutoShape 4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AutoShape 5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7374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 레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 Paul Klee, 1879~1940 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스위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얼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3" name="Picture 3" descr="C:\WORK\그림자료\감상\20세기\추상파\클레05.jpg"/>
          <p:cNvPicPr/>
          <p:nvPr/>
        </p:nvPicPr>
        <p:blipFill>
          <a:blip r:embed="rId1"/>
          <a:stretch/>
        </p:blipFill>
        <p:spPr>
          <a:xfrm>
            <a:off x="1836720" y="228600"/>
            <a:ext cx="4905360" cy="5334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4" name="AutoShape 4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AutoShape 5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77374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폴  록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Jackson Pollock, 1912~1956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작품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O.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Picture 3" descr="C:\WORK\그림자료\감상\20세기\추상파\폴록04.JPG"/>
          <p:cNvPicPr/>
          <p:nvPr/>
        </p:nvPicPr>
        <p:blipFill>
          <a:blip r:embed="rId1"/>
          <a:stretch/>
        </p:blipFill>
        <p:spPr>
          <a:xfrm>
            <a:off x="762120" y="685800"/>
            <a:ext cx="7238880" cy="480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9" name="AutoShape 4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AutoShape 5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7374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563868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몬드리안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 Piet  Mondrian, 1872~1944 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덜란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황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적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청과 흑의 구성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3" name="Picture 3" descr="C:\WORK\그림자료\회화\구상화\몬드랸5.JPG"/>
          <p:cNvPicPr/>
          <p:nvPr/>
        </p:nvPicPr>
        <p:blipFill>
          <a:blip r:embed="rId1"/>
          <a:stretch/>
        </p:blipFill>
        <p:spPr>
          <a:xfrm>
            <a:off x="685800" y="685800"/>
            <a:ext cx="7010280" cy="449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4" name="AutoShape 4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AutoShape 5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77374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AutoShape 3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067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세기 현대미술의 표현 특징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76280"/>
            <a:ext cx="7925040" cy="3895560"/>
          </a:xfrm>
          <a:prstGeom prst="rect">
            <a:avLst/>
          </a:prstGeom>
          <a:gradFill rotWithShape="0">
            <a:gsLst>
              <a:gs pos="0">
                <a:srgbClr val="e7f6ff"/>
              </a:gs>
              <a:gs pos="100000">
                <a:srgbClr val="e9f7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1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후기인상파 화가들의 영향을 받아</a:t>
            </a:r>
            <a:r>
              <a:rPr b="1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작가  자신들의  주관적</a:t>
            </a:r>
            <a:r>
              <a:rPr b="1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개성적  표현이 강조되고  회화의 순수성을  확립하여 다양하고  참신한  작품이  제작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601992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폰 타 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Lucio Fontana, 1899~         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태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작품  빨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8" name="Picture 3" descr="C:\WORK\그림자료\감상\20세기\폰타나.JPG"/>
          <p:cNvPicPr/>
          <p:nvPr/>
        </p:nvPicPr>
        <p:blipFill>
          <a:blip r:embed="rId1"/>
          <a:stretch/>
        </p:blipFill>
        <p:spPr>
          <a:xfrm>
            <a:off x="3429000" y="228600"/>
            <a:ext cx="4365720" cy="556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9" name="AutoShape 4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AutoShape 5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77374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228600" y="1143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공간주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219320" y="1600200"/>
            <a:ext cx="6858000" cy="1447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1950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년대 미국에서 매스미디어와 광고 등 대중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문화적 시각 이미지를 미술에 수용하고자 하여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주로 유명 인사들의 사진을 그림에 이용했음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248160" cy="838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000"/>
                </a:solidFill>
                <a:latin typeface="Arial"/>
                <a:ea typeface="돋움"/>
              </a:rPr>
              <a:t>7. </a:t>
            </a:r>
            <a:r>
              <a:rPr b="1" lang="ko-KR" sz="4000" spc="-1" strike="noStrike">
                <a:solidFill>
                  <a:srgbClr val="010000"/>
                </a:solidFill>
                <a:latin typeface="Arial"/>
                <a:ea typeface="돋움"/>
              </a:rPr>
              <a:t>팝아트 </a:t>
            </a:r>
            <a:r>
              <a:rPr b="1" lang="en-US" sz="4000" spc="-1" strike="noStrike">
                <a:solidFill>
                  <a:srgbClr val="010000"/>
                </a:solidFill>
                <a:latin typeface="Arial"/>
                <a:ea typeface="돋움"/>
              </a:rPr>
              <a:t>( </a:t>
            </a:r>
            <a:r>
              <a:rPr b="1" lang="en-US" sz="4000" spc="-1" strike="noStrike">
                <a:solidFill>
                  <a:srgbClr val="003300"/>
                </a:solidFill>
                <a:latin typeface="굴림"/>
              </a:rPr>
              <a:t>Pop-Art 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57200" y="3505320"/>
            <a:ext cx="8229600" cy="1752480"/>
          </a:xfrm>
          <a:prstGeom prst="rect">
            <a:avLst/>
          </a:prstGeom>
          <a:gradFill rotWithShape="0">
            <a:gsLst>
              <a:gs pos="0">
                <a:srgbClr val="e7f6ff"/>
              </a:gs>
              <a:gs pos="50000">
                <a:srgbClr val="eff9ff"/>
              </a:gs>
              <a:gs pos="100000">
                <a:srgbClr val="e7f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워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: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마릴린몬로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리히텐슈타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알로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행복한 눈물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AutoShape 5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AutoShape 6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81320" y="4038120"/>
            <a:ext cx="221004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워 홀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(Andy  Warhol,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1927~     , </a:t>
            </a: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미국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) :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마릴린 몬로 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0" name="Picture 3" descr="C:\WORK\그림자료\감상\20세기\워홀01.JPG"/>
          <p:cNvPicPr/>
          <p:nvPr/>
        </p:nvPicPr>
        <p:blipFill>
          <a:blip r:embed="rId1"/>
          <a:stretch/>
        </p:blipFill>
        <p:spPr>
          <a:xfrm>
            <a:off x="380880" y="228600"/>
            <a:ext cx="5791320" cy="5757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1" name="AutoShape 4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AutoShape 5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77374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5880" y="44197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리히텐슈타인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( Roy Lichtenstein, </a:t>
            </a:r>
            <a:br>
              <a:rPr sz="2000"/>
            </a:b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1923~       ,  </a:t>
            </a: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미국 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AutoShape 3">
            <a:hlinkClick r:id="" action="ppaction://hlinkshowjump?jump=previousslide"/>
          </p:cNvPr>
          <p:cNvSpPr/>
          <p:nvPr/>
        </p:nvSpPr>
        <p:spPr>
          <a:xfrm>
            <a:off x="817416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AutoShape 4">
            <a:hlinkClick r:id="" action="ppaction://hlinkshowjump?jump=nextslide"/>
          </p:cNvPr>
          <p:cNvSpPr/>
          <p:nvPr/>
        </p:nvSpPr>
        <p:spPr>
          <a:xfrm>
            <a:off x="855504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77374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8" name="Picture 6" descr="팝아트-로이 리히덴슈타인-아마도"/>
          <p:cNvPicPr/>
          <p:nvPr/>
        </p:nvPicPr>
        <p:blipFill>
          <a:blip r:embed="rId1"/>
          <a:stretch/>
        </p:blipFill>
        <p:spPr>
          <a:xfrm>
            <a:off x="838080" y="457200"/>
            <a:ext cx="4881600" cy="5562720"/>
          </a:xfrm>
          <a:prstGeom prst="rect">
            <a:avLst/>
          </a:prstGeom>
          <a:ln w="0">
            <a:noFill/>
          </a:ln>
        </p:spPr>
      </p:pic>
      <p:sp>
        <p:nvSpPr>
          <p:cNvPr id="279" name="직사각형 8"/>
          <p:cNvSpPr/>
          <p:nvPr/>
        </p:nvSpPr>
        <p:spPr>
          <a:xfrm>
            <a:off x="5929200" y="1643040"/>
            <a:ext cx="292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알로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Aloha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962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년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제목 1"/>
          <p:cNvSpPr/>
          <p:nvPr/>
        </p:nvSpPr>
        <p:spPr>
          <a:xfrm>
            <a:off x="2214720" y="928800"/>
            <a:ext cx="4714560" cy="41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4224600" y="53578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리히텐슈타인의 </a:t>
            </a:r>
            <a:r>
              <a:rPr b="0" lang="ko-KR" sz="1800" spc="-1" strike="noStrike">
                <a:solidFill>
                  <a:srgbClr val="00b050"/>
                </a:solidFill>
                <a:latin typeface="굴림"/>
              </a:rPr>
              <a:t>행복한 눈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옵아트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 시각적인 작품을 제작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눈의 착시현상을 이용하며</a:t>
            </a:r>
            <a:br>
              <a:rPr sz="2800"/>
            </a:b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             감정이입을 거부하는 미술양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3" name="Picture 1027" descr="옵아트-바자렐리의-직녀성"/>
          <p:cNvPicPr/>
          <p:nvPr/>
        </p:nvPicPr>
        <p:blipFill>
          <a:blip r:embed="rId1"/>
          <a:stretch/>
        </p:blipFill>
        <p:spPr>
          <a:xfrm>
            <a:off x="304920" y="1905120"/>
            <a:ext cx="3962160" cy="3809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28" descr="옵아트-빅토르 바사렐리 - 0771-Ovrvegn"/>
          <p:cNvPicPr/>
          <p:nvPr/>
        </p:nvPicPr>
        <p:blipFill>
          <a:blip r:embed="rId2"/>
          <a:stretch/>
        </p:blipFill>
        <p:spPr>
          <a:xfrm>
            <a:off x="4876920" y="1905120"/>
            <a:ext cx="4038480" cy="37526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029"/>
          <p:cNvSpPr/>
          <p:nvPr/>
        </p:nvSpPr>
        <p:spPr>
          <a:xfrm>
            <a:off x="1414800" y="58672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바사렐리의 직녀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Text Box 1030"/>
          <p:cNvSpPr/>
          <p:nvPr/>
        </p:nvSpPr>
        <p:spPr>
          <a:xfrm>
            <a:off x="5924880" y="594360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바사렐리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077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키네틱아트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움직이는 미술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동력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빛 등을 이용하여 움직이는 작품을 시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8" name="Picture 3" descr="키네틱아트-알렉산드 칼더"/>
          <p:cNvPicPr/>
          <p:nvPr/>
        </p:nvPicPr>
        <p:blipFill>
          <a:blip r:embed="rId1"/>
          <a:stretch/>
        </p:blipFill>
        <p:spPr>
          <a:xfrm>
            <a:off x="2843280" y="1773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3429000" y="548640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알렉산드 콜더의 모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비디오 아트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4400"/>
            </a:b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비디오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V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를 표현매체로 사용하는 예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457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2" name="Picture 4" descr="UNIfff8f837002c"/>
          <p:cNvPicPr/>
          <p:nvPr/>
        </p:nvPicPr>
        <p:blipFill>
          <a:blip r:embed="rId1"/>
          <a:stretch/>
        </p:blipFill>
        <p:spPr>
          <a:xfrm>
            <a:off x="1219320" y="1447920"/>
            <a:ext cx="3973320" cy="49528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5866200" y="419112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백남준의 “다다익선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하이퍼 리얼리즘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3200"/>
            </a:b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사실주의라고 하며 주관과 감정을 배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대상에 대한 아무런 해석 없이 냉정하게 확대 묘사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5" name="Picture 3" descr="하이퍼리얼리즘-데이비드 패리쉬 -야마하"/>
          <p:cNvPicPr/>
          <p:nvPr/>
        </p:nvPicPr>
        <p:blipFill>
          <a:blip r:embed="rId1"/>
          <a:stretch/>
        </p:blipFill>
        <p:spPr>
          <a:xfrm>
            <a:off x="762120" y="1981080"/>
            <a:ext cx="4495680" cy="370548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3348000" y="5734080"/>
            <a:ext cx="54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데이비드 페리쉬 ”야마하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81120" y="266652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대지미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Land Art) :  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물질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로서의 예술을 부정하려는 경향과 반문명적인 문화현상이 뒤섞여 생겨난 미술로 미술 작품을 화랑과 문명사회로부터 떼어내어 자연 한 가운데 설치하려는 자연물을 소재로 하거나 혹은 자연에 인공적인 표현을  함으로써 자연과 인공의 관계를 탐구하는 미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Earth Work , Process Art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라고도 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환경미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설치미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8" name="Picture 3" descr="대지예술"/>
          <p:cNvPicPr/>
          <p:nvPr/>
        </p:nvPicPr>
        <p:blipFill>
          <a:blip r:embed="rId1"/>
          <a:stretch/>
        </p:blipFill>
        <p:spPr>
          <a:xfrm>
            <a:off x="609480" y="1143000"/>
            <a:ext cx="4267440" cy="51055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809880" y="457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크리스토 달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울타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066680" y="1295280"/>
            <a:ext cx="7086600" cy="83844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50000">
                <a:srgbClr val="ececff"/>
              </a:gs>
              <a:gs pos="100000">
                <a:srgbClr val="dddd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형태의 단순화와 변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강렬한 원색의  사용 으로  평면적이며  장식적인  표현을 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562360" cy="609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8eb2b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4000" spc="-1" strike="noStrike">
                <a:solidFill>
                  <a:srgbClr val="010000"/>
                </a:solidFill>
                <a:latin typeface="Arial"/>
                <a:ea typeface="돋움"/>
              </a:rPr>
              <a:t>야수파 </a:t>
            </a:r>
            <a:r>
              <a:rPr b="1" lang="en-US" sz="4000" spc="-1" strike="noStrike">
                <a:solidFill>
                  <a:srgbClr val="010000"/>
                </a:solidFill>
                <a:latin typeface="굴림"/>
                <a:ea typeface="돋움"/>
              </a:rPr>
              <a:t>(Fauvism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33520" y="2362320"/>
            <a:ext cx="8229600" cy="3809880"/>
          </a:xfrm>
          <a:prstGeom prst="rect">
            <a:avLst/>
          </a:prstGeom>
          <a:gradFill rotWithShape="0">
            <a:gsLst>
              <a:gs pos="0">
                <a:srgbClr val="e7f6ff"/>
              </a:gs>
              <a:gs pos="50000">
                <a:srgbClr val="ecf8ff"/>
              </a:gs>
              <a:gs pos="100000">
                <a:srgbClr val="e7f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마티스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800" spc="-1" strike="noStrike" u="sng">
                <a:solidFill>
                  <a:srgbClr val="009999"/>
                </a:solidFill>
                <a:uFillTx/>
                <a:latin typeface="Times New Roman"/>
                <a:ea typeface="돋움"/>
                <a:hlinkClick r:id="rId1" action="ppaction://hlinksldjump"/>
              </a:rPr>
              <a:t>루마니아 식의 블라우스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루오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잔 다르크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뒤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800" spc="-1" strike="noStrike" u="sng">
                <a:solidFill>
                  <a:srgbClr val="009999"/>
                </a:solidFill>
                <a:uFillTx/>
                <a:latin typeface="Times New Roman"/>
                <a:ea typeface="돋움"/>
                <a:hlinkClick r:id="rId3" action="ppaction://hlinksldjump"/>
              </a:rPr>
              <a:t>여인상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Webdings"/>
                <a:ea typeface="Webdings"/>
              </a:rPr>
              <a:t>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돋움"/>
              </a:rPr>
              <a:t>블라맹크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2800" spc="-1" strike="noStrike" u="sng">
                <a:solidFill>
                  <a:srgbClr val="009999"/>
                </a:solidFill>
                <a:uFillTx/>
                <a:latin typeface="Arial"/>
                <a:ea typeface="돋움"/>
                <a:hlinkClick r:id="rId4" action="ppaction://hlinksldjump"/>
              </a:rPr>
              <a:t>초가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AutoShape 5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AutoShape 6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5" name="AutoShape 7"/>
          <p:cNvCxnSpPr/>
          <p:nvPr/>
        </p:nvCxnSpPr>
        <p:spPr>
          <a:xfrm rot="5400000">
            <a:off x="-38520" y="2247840"/>
            <a:ext cx="1067400" cy="38160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sp>
        <p:nvSpPr>
          <p:cNvPr id="86" name="AutoShape 8">
            <a:hlinkClick r:id="rId5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62651" dir="2317211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4400" spc="-1" strike="noStrike">
                <a:solidFill>
                  <a:srgbClr val="000000"/>
                </a:solidFill>
                <a:latin typeface="굴림"/>
              </a:rPr>
              <a:t>세기 조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세기 조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특징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과학 기술의 발달과 새로운 소재의 개발로 표현이 다양해지고 작가의 개성이 강조되었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조각가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① 마이욜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부드러운 곡선과 풍부한 양감을 표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- 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중해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무어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단순화된 형과 양감의 표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- 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누워 있는 사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쟈코메티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양을 극도로 생략한 선적인 표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- 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서 있는 사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브랑쿠시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형태를 극도로 단순화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- 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간 속의 새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마리노 마리니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형태의 단순화와 긴장감을 표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- 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말과 기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콜더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움직이는 조소의 창시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- '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모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'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3403800" y="584676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마이욜의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중해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3" name="Picture 4" descr="8"/>
          <p:cNvPicPr/>
          <p:nvPr/>
        </p:nvPicPr>
        <p:blipFill>
          <a:blip r:embed="rId1"/>
          <a:stretch/>
        </p:blipFill>
        <p:spPr>
          <a:xfrm>
            <a:off x="1763640" y="657360"/>
            <a:ext cx="5184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3648960" y="5661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마이욜의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산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6"/>
          <p:cNvPicPr/>
          <p:nvPr/>
        </p:nvPicPr>
        <p:blipFill>
          <a:blip r:embed="rId1"/>
          <a:stretch/>
        </p:blipFill>
        <p:spPr>
          <a:xfrm>
            <a:off x="1547640" y="1090440"/>
            <a:ext cx="633744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3"/>
          <p:cNvSpPr/>
          <p:nvPr/>
        </p:nvSpPr>
        <p:spPr>
          <a:xfrm>
            <a:off x="3305880" y="59911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마이욜의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he Ai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7" name="Picture 4" descr="233"/>
          <p:cNvPicPr/>
          <p:nvPr/>
        </p:nvPicPr>
        <p:blipFill>
          <a:blip r:embed="rId1"/>
          <a:stretch/>
        </p:blipFill>
        <p:spPr>
          <a:xfrm>
            <a:off x="1258920" y="1417680"/>
            <a:ext cx="6626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"/>
          <p:cNvSpPr/>
          <p:nvPr/>
        </p:nvSpPr>
        <p:spPr>
          <a:xfrm>
            <a:off x="3559680" y="5630760"/>
            <a:ext cx="21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헨리 무어의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와상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9" name="Picture 4" descr="7"/>
          <p:cNvPicPr/>
          <p:nvPr/>
        </p:nvPicPr>
        <p:blipFill>
          <a:blip r:embed="rId1"/>
          <a:stretch/>
        </p:blipFill>
        <p:spPr>
          <a:xfrm>
            <a:off x="1476360" y="1023840"/>
            <a:ext cx="63356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2710440" y="570240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헨리 무어의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왕과 왕비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1" name="Picture 5" descr="11"/>
          <p:cNvPicPr/>
          <p:nvPr/>
        </p:nvPicPr>
        <p:blipFill>
          <a:blip r:embed="rId1"/>
          <a:stretch/>
        </p:blipFill>
        <p:spPr>
          <a:xfrm>
            <a:off x="1258920" y="836640"/>
            <a:ext cx="590544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브랑쿠시의 공간의 새"/>
          <p:cNvPicPr/>
          <p:nvPr/>
        </p:nvPicPr>
        <p:blipFill>
          <a:blip r:embed="rId1"/>
          <a:stretch/>
        </p:blipFill>
        <p:spPr>
          <a:xfrm>
            <a:off x="1403280" y="836640"/>
            <a:ext cx="3024360" cy="4680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브랑쿠시의 잠자는 뮤즈"/>
          <p:cNvPicPr/>
          <p:nvPr/>
        </p:nvPicPr>
        <p:blipFill>
          <a:blip r:embed="rId2"/>
          <a:stretch/>
        </p:blipFill>
        <p:spPr>
          <a:xfrm>
            <a:off x="4643280" y="1268280"/>
            <a:ext cx="4105440" cy="29797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1443960" y="587700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브랑쿠시의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공간속의 새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476320" y="450864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브랑쿠시의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잠자는 뮤즈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916360" y="6093000"/>
            <a:ext cx="36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브랑쿠시의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입맞춤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7" name="Picture 4" descr="444"/>
          <p:cNvPicPr/>
          <p:nvPr/>
        </p:nvPicPr>
        <p:blipFill>
          <a:blip r:embed="rId1"/>
          <a:stretch/>
        </p:blipFill>
        <p:spPr>
          <a:xfrm>
            <a:off x="2700360" y="692280"/>
            <a:ext cx="395928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코메티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스위스 조각가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901. 10. 10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스위스 보르고노보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~1966. 1. 11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쿠르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물을 가늘고 길게 표현하여 고독한 느낌을 주는 그의 조각은 실존주의 문학과 비교되기도 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요작품으로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대 위의 남자 두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Head of a Man on a Rod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〉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94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〈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명의 인물과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개의 두상이 있는 구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숲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) Composition with Seven Figures and a Head(The Forest)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〉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950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등이 있으며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196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년 새뮤얼 베케트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도를 기다리며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Waiting for Godot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무대장치를 설계했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3"/>
          <p:cNvSpPr/>
          <p:nvPr/>
        </p:nvSpPr>
        <p:spPr>
          <a:xfrm>
            <a:off x="3235680" y="596916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자코메티의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서 있는 사람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1" name="Picture 4" descr="Untitled-1 copy"/>
          <p:cNvPicPr/>
          <p:nvPr/>
        </p:nvPicPr>
        <p:blipFill>
          <a:blip r:embed="rId1"/>
          <a:stretch/>
        </p:blipFill>
        <p:spPr>
          <a:xfrm>
            <a:off x="2932200" y="981000"/>
            <a:ext cx="33019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60199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마티스 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enri  Matisse, 1869~1954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랑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루마니아 식의 블라우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" name="Picture 3" descr="C:\WORK\그림자료\감상\20세기\야수파\마티스05.JPG"/>
          <p:cNvPicPr/>
          <p:nvPr/>
        </p:nvPicPr>
        <p:blipFill>
          <a:blip r:embed="rId1"/>
          <a:stretch/>
        </p:blipFill>
        <p:spPr>
          <a:xfrm>
            <a:off x="2316240" y="228600"/>
            <a:ext cx="4275000" cy="571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9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AutoShape 6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2268360" y="692280"/>
            <a:ext cx="388800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마리노 마리니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55640" y="2678400"/>
            <a:ext cx="72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마리노 마리니는 사물을 재현해내는 구상 조각을 했지만 꼭 닮게 재현하는 것보다는 사물의 개성과 내면세계를 포착해 내는 데 치중했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그러면서 자신이 살았던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세기의 격동기와 인간군상의 아픔을 날카롭게 풍자했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말과 말을 타고 있는 기수를 표현한 그의 기마상은 장군이나 영웅을 화려하게 치장시켜 말 위에 올려놓은 전통적인 기마상과는 다르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장식 없는 말과 나체로 말 위에 앉은 기수는 신분과 계급이 배제된 채로 묘사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480760" y="1627920"/>
            <a:ext cx="47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99"/>
                </a:solidFill>
                <a:latin typeface="굴림"/>
              </a:rPr>
              <a:t>헨리무어와 함께 </a:t>
            </a:r>
            <a:r>
              <a:rPr b="0" lang="en-US" sz="1200" spc="-1" strike="noStrike">
                <a:solidFill>
                  <a:srgbClr val="333399"/>
                </a:solidFill>
                <a:latin typeface="굴림"/>
              </a:rPr>
              <a:t>20</a:t>
            </a:r>
            <a:r>
              <a:rPr b="0" lang="ko-KR" sz="1200" spc="-1" strike="noStrike">
                <a:solidFill>
                  <a:srgbClr val="333399"/>
                </a:solidFill>
                <a:latin typeface="굴림"/>
              </a:rPr>
              <a:t>세기 구상 조각계의 쌍두마차인 이탈리아 작가 마리노 마리니</a:t>
            </a:r>
            <a:r>
              <a:rPr b="0" lang="en-US" sz="1200" spc="-1" strike="noStrike">
                <a:solidFill>
                  <a:srgbClr val="333399"/>
                </a:solidFill>
                <a:latin typeface="굴림"/>
              </a:rPr>
              <a:t>(1901∼1980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말과 기수"/>
          <p:cNvPicPr/>
          <p:nvPr/>
        </p:nvPicPr>
        <p:blipFill>
          <a:blip r:embed="rId1"/>
          <a:stretch/>
        </p:blipFill>
        <p:spPr>
          <a:xfrm>
            <a:off x="2771640" y="549360"/>
            <a:ext cx="4453200" cy="496872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3419640" y="5661000"/>
            <a:ext cx="31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말과 기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3778200" y="8366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알렉산더 콜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8" name="Picture 3" descr="Resize of 알렉산더 칼더"/>
          <p:cNvPicPr/>
          <p:nvPr/>
        </p:nvPicPr>
        <p:blipFill>
          <a:blip r:embed="rId1"/>
          <a:stretch/>
        </p:blipFill>
        <p:spPr>
          <a:xfrm>
            <a:off x="2843280" y="1484280"/>
            <a:ext cx="3744720" cy="4176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"/>
          <p:cNvSpPr/>
          <p:nvPr/>
        </p:nvSpPr>
        <p:spPr>
          <a:xfrm>
            <a:off x="3369600" y="5805360"/>
            <a:ext cx="25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모빌과 스테빌의 결합작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7467480" cy="23623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0f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200" spc="-1" strike="noStrike">
                <a:solidFill>
                  <a:srgbClr val="000000"/>
                </a:solidFill>
                <a:latin typeface="굴림"/>
              </a:rPr>
              <a:t>서양 미술 감상 </a:t>
            </a: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2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(20</a:t>
            </a:r>
            <a:r>
              <a:rPr b="1" lang="ko-KR" sz="4400" spc="-1" strike="noStrike">
                <a:solidFill>
                  <a:srgbClr val="000000"/>
                </a:solidFill>
                <a:latin typeface="돋움"/>
                <a:ea typeface="돋움"/>
              </a:rPr>
              <a:t>세기 현대 미술</a:t>
            </a:r>
            <a:r>
              <a:rPr b="1" lang="en-US" sz="44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505320" y="4419360"/>
            <a:ext cx="2209680" cy="1523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0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600" spc="-1" strike="noStrike">
                <a:solidFill>
                  <a:srgbClr val="000000"/>
                </a:solidFill>
                <a:latin typeface="굴림"/>
              </a:rPr>
              <a:t>끝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AutoShape 4">
            <a:hlinkClick r:id="" action="ppaction://hlinkshowjump?jump=previousslide"/>
          </p:cNvPr>
          <p:cNvSpPr/>
          <p:nvPr/>
        </p:nvSpPr>
        <p:spPr>
          <a:xfrm>
            <a:off x="8056440" y="63244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AutoShape 5">
            <a:hlinkClick r:id="" action="ppaction://hlinkshowjump?jump=firstslide"/>
          </p:cNvPr>
          <p:cNvSpPr/>
          <p:nvPr/>
        </p:nvSpPr>
        <p:spPr>
          <a:xfrm>
            <a:off x="8478720" y="63244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0045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8200" y="3794"/>
                </a:lnTo>
                <a:lnTo>
                  <a:pt x="8200" y="17806"/>
                </a:lnTo>
                <a:lnTo>
                  <a:pt x="6537" y="17806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60199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루 오 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(Georges  Rouault, 1871~1958   </a:t>
            </a: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잔 다르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Picture 3" descr="C:\WORK\그림자료\감상\20세기\야수파\루오04.JPG"/>
          <p:cNvPicPr/>
          <p:nvPr/>
        </p:nvPicPr>
        <p:blipFill>
          <a:blip r:embed="rId1"/>
          <a:stretch/>
        </p:blipFill>
        <p:spPr>
          <a:xfrm>
            <a:off x="2484360" y="228600"/>
            <a:ext cx="3944880" cy="5484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4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AutoShape 6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60958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뒤 피 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(Raoul  Dufy, 1877~1953    </a:t>
            </a:r>
            <a:r>
              <a:rPr b="1" lang="ko-KR" sz="2000" spc="-1" strike="noStrike">
                <a:solidFill>
                  <a:srgbClr val="003300"/>
                </a:solidFill>
                <a:latin typeface="굴림"/>
              </a:rPr>
              <a:t>프랑스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여인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석판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Picture 3" descr="C:\WORK\그림자료\감상\20세기\야수파\뒤피03.JPG"/>
          <p:cNvPicPr/>
          <p:nvPr/>
        </p:nvPicPr>
        <p:blipFill>
          <a:blip r:embed="rId1"/>
          <a:stretch/>
        </p:blipFill>
        <p:spPr>
          <a:xfrm>
            <a:off x="2646360" y="152280"/>
            <a:ext cx="3906720" cy="586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AutoShape 6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5943600"/>
            <a:ext cx="7342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블라맹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 Maurice  de Vlaminck / 1876 </a:t>
            </a:r>
            <a:r>
              <a:rPr b="1" lang="en-US" sz="2000" spc="-1" strike="noStrike">
                <a:solidFill>
                  <a:srgbClr val="003300"/>
                </a:solidFill>
                <a:latin typeface="굴림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1958) 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초가집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3" descr="C:\Work\그림자료\감상\20세기\야수파\블라맹크.JPG"/>
          <p:cNvPicPr/>
          <p:nvPr/>
        </p:nvPicPr>
        <p:blipFill>
          <a:blip r:embed="rId1"/>
          <a:stretch/>
        </p:blipFill>
        <p:spPr>
          <a:xfrm>
            <a:off x="1066680" y="243000"/>
            <a:ext cx="6934320" cy="541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>
            <a:hlinkClick r:id="" action="ppaction://hlinkshowjump?jump=previousslide"/>
          </p:cNvPr>
          <p:cNvSpPr/>
          <p:nvPr/>
        </p:nvSpPr>
        <p:spPr>
          <a:xfrm>
            <a:off x="800100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10800"/>
                </a:moveTo>
                <a:lnTo>
                  <a:pt x="22422" y="3794"/>
                </a:lnTo>
                <a:lnTo>
                  <a:pt x="2242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AutoShape 5">
            <a:hlinkClick r:id="" action="ppaction://hlinkshowjump?jump=nextslide"/>
          </p:cNvPr>
          <p:cNvSpPr/>
          <p:nvPr/>
        </p:nvSpPr>
        <p:spPr>
          <a:xfrm>
            <a:off x="838188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3794"/>
                </a:moveTo>
                <a:lnTo>
                  <a:pt x="22422" y="10800"/>
                </a:lnTo>
                <a:lnTo>
                  <a:pt x="8409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AutoShape 6">
            <a:hlinkClick r:id="rId2" action="ppaction://hlinksldjump"/>
          </p:cNvPr>
          <p:cNvSpPr/>
          <p:nvPr/>
        </p:nvSpPr>
        <p:spPr>
          <a:xfrm>
            <a:off x="7564320" y="6453360"/>
            <a:ext cx="360360" cy="252360"/>
          </a:xfrm>
          <a:custGeom>
            <a:avLst/>
            <a:gdLst>
              <a:gd name="textAreaLeft" fmla="*/ 16200 w 360360"/>
              <a:gd name="textAreaRight" fmla="*/ 344160 w 360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30831" h="21600">
                <a:moveTo>
                  <a:pt x="0" y="0"/>
                </a:moveTo>
                <a:lnTo>
                  <a:pt x="30831" y="0"/>
                </a:lnTo>
                <a:lnTo>
                  <a:pt x="30831" y="21600"/>
                </a:lnTo>
                <a:lnTo>
                  <a:pt x="0" y="21600"/>
                </a:lnTo>
                <a:close/>
              </a:path>
              <a:path fill="lightenLess" w="30831" h="21600">
                <a:moveTo>
                  <a:pt x="0" y="0"/>
                </a:moveTo>
                <a:lnTo>
                  <a:pt x="30831" y="0"/>
                </a:lnTo>
                <a:lnTo>
                  <a:pt x="29431" y="1400"/>
                </a:lnTo>
                <a:lnTo>
                  <a:pt x="1400" y="1400"/>
                </a:lnTo>
                <a:close/>
              </a:path>
              <a:path fill="darken" w="30831" h="21600">
                <a:moveTo>
                  <a:pt x="30831" y="0"/>
                </a:moveTo>
                <a:lnTo>
                  <a:pt x="30831" y="21600"/>
                </a:lnTo>
                <a:lnTo>
                  <a:pt x="29431" y="20200"/>
                </a:lnTo>
                <a:lnTo>
                  <a:pt x="29431" y="1400"/>
                </a:lnTo>
                <a:close/>
              </a:path>
              <a:path fill="darkenLess" w="30831" h="21600">
                <a:moveTo>
                  <a:pt x="30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1" y="20200"/>
                </a:lnTo>
                <a:close/>
              </a:path>
              <a:path fill="lighten" w="30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1" h="21600">
                <a:moveTo>
                  <a:pt x="8409" y="7493"/>
                </a:moveTo>
                <a:lnTo>
                  <a:pt x="11916" y="7493"/>
                </a:lnTo>
                <a:lnTo>
                  <a:pt x="11916" y="12828"/>
                </a:lnTo>
                <a:cubicBezTo>
                  <a:pt x="11916" y="13751"/>
                  <a:pt x="12717" y="14482"/>
                  <a:pt x="13753" y="14482"/>
                </a:cubicBezTo>
                <a:lnTo>
                  <a:pt x="15415" y="14482"/>
                </a:lnTo>
                <a:cubicBezTo>
                  <a:pt x="16451" y="14482"/>
                  <a:pt x="17252" y="13751"/>
                  <a:pt x="17252" y="12828"/>
                </a:cubicBezTo>
                <a:lnTo>
                  <a:pt x="17252" y="7493"/>
                </a:lnTo>
                <a:lnTo>
                  <a:pt x="15415" y="7493"/>
                </a:lnTo>
                <a:lnTo>
                  <a:pt x="18923" y="3985"/>
                </a:lnTo>
                <a:lnTo>
                  <a:pt x="22596" y="7493"/>
                </a:lnTo>
                <a:lnTo>
                  <a:pt x="20759" y="7493"/>
                </a:lnTo>
                <a:lnTo>
                  <a:pt x="20759" y="12828"/>
                </a:lnTo>
                <a:cubicBezTo>
                  <a:pt x="20759" y="15596"/>
                  <a:pt x="18183" y="18155"/>
                  <a:pt x="15415" y="18155"/>
                </a:cubicBezTo>
                <a:lnTo>
                  <a:pt x="13753" y="18155"/>
                </a:lnTo>
                <a:cubicBezTo>
                  <a:pt x="10985" y="18155"/>
                  <a:pt x="8409" y="15596"/>
                  <a:pt x="8409" y="12828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5:58:27Z</dcterms:created>
  <dc:creator>BABU</dc:creator>
  <dc:description/>
  <dc:language>en-US</dc:language>
  <cp:lastModifiedBy>user</cp:lastModifiedBy>
  <dcterms:modified xsi:type="dcterms:W3CDTF">2008-11-20T11:18:55Z</dcterms:modified>
  <cp:revision>7</cp:revision>
  <dc:subject/>
  <dc:title>19C- 의 조각, 건축</dc:title>
</cp:coreProperties>
</file>