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A20-7007-4E34-99D9-890E025E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3F2-04CB-4EC2-9E54-1DE861F6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851-B970-4E4C-A476-3FED6508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C58-1B07-4B58-A6F3-62A3EA6B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69B7-BE0F-4230-80E8-D5FBBAFD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C21F-10C7-45A1-AA26-AC2F02FB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84BF-60AF-48D2-B122-E5E10CC8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BABD-0A5B-48FF-9B6B-4FA6D706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C554-ED64-4879-89FF-8B3EEB2C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B926-0209-46A2-9E53-8EB7E0F7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19A6-9E7A-4D84-BE82-371B8598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426-DB1C-4175-BE95-D68BC95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3730-2037-4B78-A0B4-6EF3559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3AA7-5FC4-4D2D-B098-B734593A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3B40-A962-4708-A3E8-42D96E28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4523-43DB-4644-B233-407A122E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98E7-A15A-45D9-9CAD-647E7A6D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EAB-8827-4269-9398-7383BEA1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584-5289-4AA3-BE41-510C49A4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0C4-7E92-466D-A432-2011038C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650-2A31-455F-AB9D-13B7114A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488-73B5-45F0-835D-D08A1940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208-C6F8-42C6-BA93-7BC3ED43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1A2-AF6F-4D61-A6DA-5BF5FCFB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6707-ABA1-496F-8F13-B38EF25394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9752-BBFC-4582-A9C8-A5DCB067E09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23-01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3-12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3-13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그림1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4000" y="2060280"/>
            <a:ext cx="7559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ww.weforum.or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23-04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23-05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3-06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3-07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3-08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3-09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23-10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3-11"/>
          <p:cNvPicPr/>
          <p:nvPr/>
        </p:nvPicPr>
        <p:blipFill>
          <a:blip r:embed="rId1"/>
          <a:stretch/>
        </p:blipFill>
        <p:spPr>
          <a:xfrm>
            <a:off x="119160" y="457200"/>
            <a:ext cx="890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9:15:26Z</dcterms:created>
  <dc:creator>SEAN</dc:creator>
  <dc:description/>
  <dc:language>en-US</dc:language>
  <cp:lastModifiedBy>SEAN</cp:lastModifiedBy>
  <dcterms:modified xsi:type="dcterms:W3CDTF">2007-03-01T13:31:02Z</dcterms:modified>
  <cp:revision>81</cp:revision>
  <dc:subject/>
  <dc:title>7 Core Messages  for Korea</dc:title>
</cp:coreProperties>
</file>