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9874250" cy="5878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150-9772-45D7-93BE-ADC82849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6800" y="274680"/>
            <a:ext cx="8912160" cy="1141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6800" y="160164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800" y="396504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E0D-FD00-4881-92EE-0B739522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6800" y="274680"/>
            <a:ext cx="8912160" cy="1141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6800" y="160164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164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6800" y="396504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504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4D0-356D-4ACF-83A0-9A68FBAF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6800" y="274680"/>
            <a:ext cx="8912160" cy="1141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6800" y="160164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360" y="160164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560" y="160164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6800" y="396504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360" y="396504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560" y="396504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08B-F36B-47AA-97FE-76C5CC29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6800" y="274680"/>
            <a:ext cx="8912160" cy="1141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6800" y="160164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1FD-722A-4C6B-AA74-53E8A15A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6800" y="274680"/>
            <a:ext cx="8912160" cy="1141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6800" y="160164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212-5F13-438B-97CE-0CD06086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6800" y="274680"/>
            <a:ext cx="8912160" cy="1141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6800" y="160164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164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095-484E-4A2C-B715-31355E91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6800" y="274680"/>
            <a:ext cx="8912160" cy="1141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199-9D92-4807-8F09-EE77884F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6800" y="274680"/>
            <a:ext cx="8912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13E-3779-4C7D-A5FD-FA804666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6800" y="274680"/>
            <a:ext cx="8912160" cy="1141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6800" y="160164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164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6800" y="396504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237-7044-4739-BFAE-4FAB879B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6800" y="274680"/>
            <a:ext cx="8912160" cy="1141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6800" y="160164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164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504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955-6679-4823-9B4A-2C844CE2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6800" y="274680"/>
            <a:ext cx="8912160" cy="1141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6800" y="160164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164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6800" y="396504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CC3-C6BF-4196-9A9F-3BD9FEA1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6800" y="274680"/>
            <a:ext cx="8912160" cy="1141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6800" y="160164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69360" indent="-369360">
              <a:spcBef>
                <a:spcPts val="901"/>
              </a:spcBef>
              <a:buClr>
                <a:srgbClr val="000000"/>
              </a:buClr>
              <a:buFont typeface="굴림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lvl="1" marL="803520" indent="-307800">
              <a:spcBef>
                <a:spcPts val="901"/>
              </a:spcBef>
              <a:buClr>
                <a:srgbClr val="000000"/>
              </a:buClr>
              <a:buFont typeface="굴림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lvl="2" marL="1236240" indent="-247680">
              <a:spcBef>
                <a:spcPts val="901"/>
              </a:spcBef>
              <a:buClr>
                <a:srgbClr val="000000"/>
              </a:buClr>
              <a:buFont typeface="굴림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lvl="3" marL="1732320" indent="-249120">
              <a:spcBef>
                <a:spcPts val="901"/>
              </a:spcBef>
              <a:buClr>
                <a:srgbClr val="000000"/>
              </a:buClr>
              <a:buFont typeface="굴림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lvl="4" marL="2221920" indent="-244440">
              <a:spcBef>
                <a:spcPts val="901"/>
              </a:spcBef>
              <a:buClr>
                <a:srgbClr val="000000"/>
              </a:buClr>
              <a:buFont typeface="굴림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lvl="5" marL="2221920" indent="-244440">
              <a:spcBef>
                <a:spcPts val="901"/>
              </a:spcBef>
              <a:buClr>
                <a:srgbClr val="000000"/>
              </a:buClr>
              <a:buFont typeface="굴림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lvl="6" marL="2221920" indent="-244440">
              <a:spcBef>
                <a:spcPts val="901"/>
              </a:spcBef>
              <a:buClr>
                <a:srgbClr val="000000"/>
              </a:buClr>
              <a:buFont typeface="굴림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6440" y="6245280"/>
            <a:ext cx="2311560" cy="473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5280"/>
            <a:ext cx="3136680" cy="473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0640" y="6245280"/>
            <a:ext cx="2307960" cy="473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303D-5703-4DDE-8E3B-330CF7ED0EBE}" type="slidenum">
              <a:rPr b="0" lang="en-US" sz="16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115920" y="115920"/>
            <a:ext cx="9674280" cy="662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AutoShape 27"/>
          <p:cNvSpPr/>
          <p:nvPr/>
        </p:nvSpPr>
        <p:spPr>
          <a:xfrm>
            <a:off x="2309760" y="857160"/>
            <a:ext cx="528660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ko-KR" sz="3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스템 비계 시공 계획서</a:t>
            </a:r>
            <a:endParaRPr b="1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1209600" y="26431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000000"/>
                </a:solidFill>
                <a:uFillTx/>
                <a:latin typeface="굴림"/>
              </a:rPr>
              <a:t>ㅇㅇㅇㅇ아파트 신축공사중 비계공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746760" y="1197000"/>
            <a:ext cx="3043440" cy="5095800"/>
          </a:xfrm>
          <a:prstGeom prst="rect">
            <a:avLst/>
          </a:prstGeom>
          <a:solidFill>
            <a:srgbClr val="808080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Y헤드라인M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811840" y="189000"/>
            <a:ext cx="35892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www.dsjh.co.kr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669000" y="642960"/>
            <a:ext cx="3041640" cy="43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작 업 방 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15920" y="622440"/>
            <a:ext cx="6397560" cy="43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) 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세부 설치도 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핸드브레이스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평재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57320" y="1123920"/>
            <a:ext cx="6433920" cy="518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15920" y="189000"/>
            <a:ext cx="45244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3. </a:t>
            </a:r>
            <a:r>
              <a:rPr b="1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부위별 시공순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669000" y="1123920"/>
            <a:ext cx="3043440" cy="510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설치 예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-</a:t>
            </a:r>
            <a:r>
              <a:rPr b="0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핸드브레이스 설치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       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        </a:t>
            </a:r>
            <a:r>
              <a:rPr b="0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비계 바깥쪽 난간대 역할 및 하중 분산 역할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-</a:t>
            </a:r>
            <a:r>
              <a:rPr b="0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수평재 설치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        </a:t>
            </a:r>
            <a:r>
              <a:rPr b="0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비계 안쪽 난간대 역할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        </a:t>
            </a:r>
            <a:r>
              <a:rPr b="0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비계 내부에 설치하여 안전발판 설치 역할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     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     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Picture 11" descr="수직재, 핸드브레이스 디테일"/>
          <p:cNvPicPr/>
          <p:nvPr/>
        </p:nvPicPr>
        <p:blipFill>
          <a:blip r:embed="rId1"/>
          <a:stretch/>
        </p:blipFill>
        <p:spPr>
          <a:xfrm>
            <a:off x="258840" y="1219320"/>
            <a:ext cx="6235560" cy="4979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2"/>
          <p:cNvSpPr/>
          <p:nvPr/>
        </p:nvSpPr>
        <p:spPr>
          <a:xfrm>
            <a:off x="0" y="212760"/>
            <a:ext cx="9906120" cy="4287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811840" y="189000"/>
            <a:ext cx="35892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ONETOP S.S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5920" y="189000"/>
            <a:ext cx="908532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3. </a:t>
            </a:r>
            <a:r>
              <a:rPr b="1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시스템 비계 구성도 및 시공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5811840" y="189000"/>
            <a:ext cx="35892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www.dsjh.co.kr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15920" y="696960"/>
            <a:ext cx="9551880" cy="43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) 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각 부분별 시공방안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15920" y="189000"/>
            <a:ext cx="45244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3. </a:t>
            </a:r>
            <a:r>
              <a:rPr b="1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부위별 시공순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212760"/>
            <a:ext cx="9906120" cy="4287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811840" y="189000"/>
            <a:ext cx="35892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ONETOP S.S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15920" y="189000"/>
            <a:ext cx="908532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3. </a:t>
            </a:r>
            <a:r>
              <a:rPr b="1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시스템 비계 구성도 및 시공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38360" y="1214280"/>
          <a:ext cx="8929440" cy="5143680"/>
        </p:xfrm>
        <a:graphic>
          <a:graphicData uri="http://schemas.openxmlformats.org/drawingml/2006/table">
            <a:tbl>
              <a:tblPr/>
              <a:tblGrid>
                <a:gridCol w="3000240"/>
                <a:gridCol w="5929200"/>
              </a:tblGrid>
              <a:tr h="596880">
                <a:tc>
                  <a:txBody>
                    <a:bodyPr lIns="90000" rIns="90000" tIns="108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시공 부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108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시공 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1652760">
                <a:tc>
                  <a:txBody>
                    <a:bodyPr lIns="90000" rIns="90000" tIns="108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양 계획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받아치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108000" bIns="720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1.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터 높이마다 설치된 발판에 작업자가 각 스판에 배치하여 부재를          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받아치기 방식으로 인양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양시 각 작업자는 안전벨트를 착용하고 안전고리를 수평재에 반드시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체결후 인양작업에 임한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고공작업자는 그네벨트를 착용하고 작업에 임한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782640">
                <a:tc>
                  <a:txBody>
                    <a:bodyPr lIns="90000" rIns="90000" tIns="108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 측면 화단 부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108000" bIns="720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경이 이미 되어 있는 현장 여건에 최대한 맞추어 흙바닦에 목재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45mm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깔고 조경수를 최대한 훼손하지 않도록하여 시공한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62240">
                <a:tc>
                  <a:txBody>
                    <a:bodyPr lIns="90000" rIns="90000" tIns="108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이스트 설치 부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108000" bIns="720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이스트 설치부위는 추후 호이스트가 해체된 이후 시스템 비계를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하도록 한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이스트로 인하여 연결이 단절되는 시스템 비계 부위는 수평재로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안전 난간대 마감처리 한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749160">
                <a:tc>
                  <a:txBody>
                    <a:bodyPr lIns="90000" rIns="90000" tIns="108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입구 부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108000" bIns="720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트러스를 이용하여 출입구를 확보하여 시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5811840" y="189000"/>
            <a:ext cx="35892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www.dsjh.co.kr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15920" y="768240"/>
            <a:ext cx="9551880" cy="43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) 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스템 비계 설치전 현장 선결조건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15920" y="189000"/>
            <a:ext cx="45244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3. </a:t>
            </a:r>
            <a:r>
              <a:rPr b="1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부위별 시공순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0" y="212760"/>
            <a:ext cx="9906120" cy="4287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5811840" y="189000"/>
            <a:ext cx="35892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ONETOP S.S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115920" y="189000"/>
            <a:ext cx="908532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3. </a:t>
            </a:r>
            <a:r>
              <a:rPr b="1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시스템 비계 구성도 및 시공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순서도: 문서 9"/>
          <p:cNvSpPr/>
          <p:nvPr/>
        </p:nvSpPr>
        <p:spPr>
          <a:xfrm>
            <a:off x="452520" y="1275120"/>
            <a:ext cx="8715240" cy="4224600"/>
          </a:xfrm>
          <a:prstGeom prst="flowChartDocument">
            <a:avLst/>
          </a:prstGeom>
          <a:gradFill rotWithShape="0">
            <a:gsLst>
              <a:gs pos="0">
                <a:srgbClr val="9ed3d7"/>
              </a:gs>
              <a:gs pos="100000">
                <a:srgbClr val="ffebfa"/>
              </a:gs>
            </a:gsLst>
            <a:lin ang="5400000"/>
          </a:gradFill>
          <a:ln w="0">
            <a:noFill/>
          </a:ln>
          <a:effectLst>
            <a:outerShdw dist="76367" dir="2700000" blurRad="0" rotWithShape="0">
              <a:srgbClr val="a6a6a6">
                <a:alpha val="4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300000"/>
              </a:lnSpc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외벽으로부터 최소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.5m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상 시스템 비계 설치를 위한 공간확보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300000"/>
              </a:lnSpc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시스템 비계 설치 높이 이하의 외벽 부착물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낙하방지망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광고판 등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해체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300000"/>
              </a:lnSpc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 설치된 안전통로 해체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계단부위 제외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300000"/>
              </a:lnSpc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시스템 비계 임시 자재 적재장소 확보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115920" y="115920"/>
            <a:ext cx="9674280" cy="662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AutoShape 27"/>
          <p:cNvSpPr/>
          <p:nvPr/>
        </p:nvSpPr>
        <p:spPr>
          <a:xfrm>
            <a:off x="3238560" y="78588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ko-KR" sz="3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목   차</a:t>
            </a:r>
            <a:endParaRPr b="1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양쪽 모서리가 둥근 사각형 9"/>
          <p:cNvSpPr/>
          <p:nvPr/>
        </p:nvSpPr>
        <p:spPr>
          <a:xfrm>
            <a:off x="1666800" y="1937160"/>
            <a:ext cx="6605640" cy="3971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 102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동 시스템 비계도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 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스템 비계 기본부재 목록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 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스템 비계 구성도 및 시공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 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스템 비계 시공사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237960"/>
            <a:ext cx="9906120" cy="37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5811840" y="189000"/>
            <a:ext cx="35892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ONETOP S.S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3440" y="768240"/>
            <a:ext cx="9549000" cy="43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02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동 비계 공사 기간 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2009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2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월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일 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~ 12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월 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일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5920" y="189000"/>
            <a:ext cx="45244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. 102</a:t>
            </a:r>
            <a:r>
              <a:rPr b="1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동 시스템 비계도면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57320" y="1387440"/>
            <a:ext cx="9555120" cy="518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수직재 자재리스트"/>
          <p:cNvPicPr/>
          <p:nvPr/>
        </p:nvPicPr>
        <p:blipFill>
          <a:blip r:embed="rId1"/>
          <a:srcRect l="20696" t="12365" r="18864" b="10846"/>
          <a:stretch/>
        </p:blipFill>
        <p:spPr>
          <a:xfrm>
            <a:off x="271440" y="1459080"/>
            <a:ext cx="5761080" cy="51130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0" y="237960"/>
            <a:ext cx="9906120" cy="37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811840" y="189000"/>
            <a:ext cx="35892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ONETOP S.S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63440" y="768240"/>
            <a:ext cx="9549000" cy="43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) 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직재 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 POST 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57320" y="1387440"/>
            <a:ext cx="9555120" cy="518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15920" y="189000"/>
            <a:ext cx="45244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 </a:t>
            </a:r>
            <a:r>
              <a:rPr b="1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시스템 비계 기본부재 목록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392880" y="4565520"/>
          <a:ext cx="2944800" cy="1659240"/>
        </p:xfrm>
        <a:graphic>
          <a:graphicData uri="http://schemas.openxmlformats.org/drawingml/2006/table">
            <a:tbl>
              <a:tblPr/>
              <a:tblGrid>
                <a:gridCol w="981000"/>
                <a:gridCol w="982800"/>
                <a:gridCol w="981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 격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 (mm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kg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-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6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-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7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-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8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-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.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-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Box 10"/>
          <p:cNvSpPr/>
          <p:nvPr/>
        </p:nvSpPr>
        <p:spPr>
          <a:xfrm>
            <a:off x="6238800" y="2049480"/>
            <a:ext cx="342900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◊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직재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계의 상부하중을 하부로 전달하는 부재로 비계를 조립할 때 수직으로 세우는 부재이며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비계의 기둥역할과 함께 각 부재 연결의 주틀이 된다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237960"/>
            <a:ext cx="9906120" cy="37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811840" y="189000"/>
            <a:ext cx="35892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ONETOP S.S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63440" y="768240"/>
            <a:ext cx="9549000" cy="43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) 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평재 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 HANDLE 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57320" y="1387440"/>
            <a:ext cx="9555120" cy="518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15920" y="189000"/>
            <a:ext cx="4524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 </a:t>
            </a:r>
            <a:r>
              <a:rPr b="1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시스템 비계 기본부재 목록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329520" y="4987800"/>
          <a:ext cx="2944800" cy="1106640"/>
        </p:xfrm>
        <a:graphic>
          <a:graphicData uri="http://schemas.openxmlformats.org/drawingml/2006/table">
            <a:tbl>
              <a:tblPr/>
              <a:tblGrid>
                <a:gridCol w="981000"/>
                <a:gridCol w="982440"/>
                <a:gridCol w="981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 격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 (mm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kg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H-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80.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-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51.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-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51.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40" descr="수평재 자재리스트"/>
          <p:cNvPicPr/>
          <p:nvPr/>
        </p:nvPicPr>
        <p:blipFill>
          <a:blip r:embed="rId1"/>
          <a:srcRect l="10261" t="5502" r="51273" b="52306"/>
          <a:stretch/>
        </p:blipFill>
        <p:spPr>
          <a:xfrm>
            <a:off x="344520" y="1725480"/>
            <a:ext cx="5761080" cy="4415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0"/>
          <p:cNvSpPr/>
          <p:nvPr/>
        </p:nvSpPr>
        <p:spPr>
          <a:xfrm>
            <a:off x="6095880" y="2192400"/>
            <a:ext cx="342900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◊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평재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직재와 수직재 사이를 연결하여 핸드브레이스와 함께 사각의 틀을 형성하는 주요부재로 수직재의 하중을 분산하며 특히 발판과 체결하여 발판을 지지하는 부재임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239760"/>
            <a:ext cx="9906120" cy="37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811840" y="189000"/>
            <a:ext cx="35892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ONETOP S.S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3440" y="785880"/>
            <a:ext cx="9549000" cy="43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) 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핸드브레이스 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 HAND BRACE 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57320" y="1387440"/>
            <a:ext cx="9555120" cy="518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15920" y="189000"/>
            <a:ext cx="45244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 </a:t>
            </a:r>
            <a:r>
              <a:rPr b="1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시스템 비계 기본부재 목록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Picture 32" descr="수평재 자재리스트"/>
          <p:cNvPicPr/>
          <p:nvPr/>
        </p:nvPicPr>
        <p:blipFill>
          <a:blip r:embed="rId1"/>
          <a:srcRect l="59083" t="5502" r="9855" b="62762"/>
          <a:stretch/>
        </p:blipFill>
        <p:spPr>
          <a:xfrm>
            <a:off x="523800" y="1763640"/>
            <a:ext cx="3816360" cy="272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811080" y="5295960"/>
          <a:ext cx="2376720" cy="552240"/>
        </p:xfrm>
        <a:graphic>
          <a:graphicData uri="http://schemas.openxmlformats.org/drawingml/2006/table">
            <a:tbl>
              <a:tblPr/>
              <a:tblGrid>
                <a:gridCol w="793800"/>
                <a:gridCol w="795600"/>
                <a:gridCol w="787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 격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 (mm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kg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HB-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80.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225"/>
          <p:cNvSpPr/>
          <p:nvPr/>
        </p:nvSpPr>
        <p:spPr>
          <a:xfrm>
            <a:off x="595440" y="4906800"/>
            <a:ext cx="1584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핸드브레이스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4809960" y="1906560"/>
            <a:ext cx="4071960" cy="20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◊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핸드 브레이스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직재에 연결되는 부재이며 안전난간대의 역할과 함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계에 작용하는 하중을 견딜 수 있도록 하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굴방지를 위하여 수직재와 수직재를 연결하여 고정하는 부재를 말한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평재와 가새재 두 부재의 조립으로 구성된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Rectangle 42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263520"/>
            <a:ext cx="9906120" cy="2858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811840" y="189000"/>
            <a:ext cx="35892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ONETOP S.S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63440" y="622440"/>
            <a:ext cx="9549000" cy="43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) 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안전발판 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 PLANK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57320" y="1123920"/>
            <a:ext cx="9555120" cy="518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15920" y="189000"/>
            <a:ext cx="45244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 </a:t>
            </a:r>
            <a:r>
              <a:rPr b="1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시스템 비계 기본부재 목록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311120" y="5246640"/>
          <a:ext cx="2376720" cy="552600"/>
        </p:xfrm>
        <a:graphic>
          <a:graphicData uri="http://schemas.openxmlformats.org/drawingml/2006/table">
            <a:tbl>
              <a:tblPr/>
              <a:tblGrid>
                <a:gridCol w="793800"/>
                <a:gridCol w="795600"/>
                <a:gridCol w="787320"/>
              </a:tblGrid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 격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 (mm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kg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S-5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82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225"/>
          <p:cNvSpPr/>
          <p:nvPr/>
        </p:nvSpPr>
        <p:spPr>
          <a:xfrm>
            <a:off x="1154160" y="4857840"/>
            <a:ext cx="1584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50040" bIns="50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 </a:t>
            </a:r>
            <a:r>
              <a:rPr b="1" lang="ko-KR" sz="16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안전발판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5095800" y="3714840"/>
            <a:ext cx="4071960" cy="17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◊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안전발판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소에서 추락이나 발이 빠질 위험이 있는 장소에 근로자가 안전하게 작업할 수 있는 공간과 자재운반 등 안전하게 이동할 수 있는 공간을 확보하기 위해 설치해 놓은 발판을 말한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Rectangle 42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Rectangle 44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_x263598352" descr="EMB0000090030e6"/>
          <p:cNvPicPr/>
          <p:nvPr/>
        </p:nvPicPr>
        <p:blipFill>
          <a:blip r:embed="rId1"/>
          <a:srcRect l="4438" t="4621" r="32030" b="62822"/>
          <a:stretch/>
        </p:blipFill>
        <p:spPr>
          <a:xfrm>
            <a:off x="928800" y="1357200"/>
            <a:ext cx="6524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212760"/>
            <a:ext cx="9906120" cy="4287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811840" y="189000"/>
            <a:ext cx="35892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ONETOP S.S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15920" y="189000"/>
            <a:ext cx="908532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3. </a:t>
            </a:r>
            <a:r>
              <a:rPr b="1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시스템 비계 구성도 및 시공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Picture 7" descr="정면도 도면"/>
          <p:cNvPicPr/>
          <p:nvPr/>
        </p:nvPicPr>
        <p:blipFill>
          <a:blip r:embed="rId1"/>
          <a:stretch/>
        </p:blipFill>
        <p:spPr>
          <a:xfrm>
            <a:off x="344520" y="1452600"/>
            <a:ext cx="5473800" cy="4064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측면도 도면"/>
          <p:cNvPicPr/>
          <p:nvPr/>
        </p:nvPicPr>
        <p:blipFill>
          <a:blip r:embed="rId2"/>
          <a:stretch/>
        </p:blipFill>
        <p:spPr>
          <a:xfrm>
            <a:off x="6904080" y="1413000"/>
            <a:ext cx="2657520" cy="4059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166680" y="750960"/>
            <a:ext cx="9551880" cy="43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) 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스템비계 구성도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2649600" y="573408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정 면 도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7547040" y="573408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측 면 도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57320" y="1244520"/>
            <a:ext cx="9555120" cy="518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212760"/>
            <a:ext cx="9906120" cy="4287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811840" y="189000"/>
            <a:ext cx="35892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ONETOP S.S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15920" y="189000"/>
            <a:ext cx="908532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3. </a:t>
            </a:r>
            <a:r>
              <a:rPr b="1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시스템 비계 구성도 및 시공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15920" y="750960"/>
            <a:ext cx="9661320" cy="43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) 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스템비계 </a:t>
            </a:r>
            <a:r>
              <a:rPr b="1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공일반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57320" y="1387440"/>
            <a:ext cx="9555120" cy="518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452520" y="1639800"/>
            <a:ext cx="892944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직재의 바닥은 작용한 하중을 안전하게 기초에 전달할 수 있도록 쟈키베이스를 사용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또한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직재의 바닥에 고저 차가있을 경우에는 쟈키베이스를 사용하여 각 수직재를 수평과 수직으로 유지하여야 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시스템비계의 모서리 부분에서는 수직재 상호간을 부재별 연결고리로 견고히 결속 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핸드브레이스는 각 단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각 스팬마다 설치하고 결속 부분은 진동 등으로 탈락하지 않 도록 이탈방지를 하여야 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작업상 부득이하게 일부의 핸드브레이스를 제거할 때에는 그 사이에 수평재를 설치하 고 벽 연결이 설치되어 있는 단은 해체하지 말아야 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벽 연결은 수직방향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m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하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평방향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8m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하로 설치하여야 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시스템비계 의 측면적 기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5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내마다 벽체 이내마다 벽체 및 구조물에 고정하여야 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안전발판은 높이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.8M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마다  설치하고 석공사에 맞게 폭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00MM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발판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장씩 설치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분진망은 일반 모기장으로 하며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외부비계 작업 완료후 설치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07:03:36Z</dcterms:created>
  <dc:creator>user</dc:creator>
  <dc:description/>
  <dc:language>en-US</dc:language>
  <cp:lastModifiedBy>pc</cp:lastModifiedBy>
  <dcterms:modified xsi:type="dcterms:W3CDTF">2020-12-10T05:21:31Z</dcterms:modified>
  <cp:revision>269</cp:revision>
  <dc:subject/>
  <dc:title>슬라이드 1</dc:title>
</cp:coreProperties>
</file>