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0F33-58DC-4F54-87E5-3F00479798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Encapsulation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딩시 메소드 호출 중심으로 멤버 변수를 감추는 것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Modularity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클래스라는 것을 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olymorphism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버로딩이나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virtua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함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Inheritance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전에 만들어 놓은 기능을 쉽게 가져다 쓰는 것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084-F54B-4753-B0B1-314DAAA9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ADB-9DF2-47F4-AF74-02CF6EFA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1D8-4DA5-480E-BFD6-56D28DD4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F18-4523-4C2B-8E4F-2A3C6F7A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3EA5-EAE6-46E8-A1D9-6B7358FA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CAED-C45F-4D73-BA43-CDBFFEC6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A243-59FF-4399-BCB3-9C63620E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23EA-2AC0-4FBA-82E7-F3470537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6035-047F-400B-990A-26269F77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5A78-1BAA-485E-B376-4691C1B6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9D60-2FCA-448B-ADB6-C79499C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6B2-A59D-4672-84BD-7C6534F8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5560-2859-46C4-953A-8708FD17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9A70-81B3-4700-A6FE-F2B7B64C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9001-E53E-4658-9210-8C08C76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A2EB-C0EF-4E8C-8A57-89667EB7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7FB7-E9D3-426D-A327-8BFF5923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F74-C14F-4A81-8F75-F017CDCF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C8E-B5A4-461A-AFC2-7E979159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0CD-EE75-40E4-AD5B-701FD6E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661-125A-4F5C-9C0C-54BFE675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049-C181-4701-8432-EA82EDFA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FB8-9218-4F37-BC48-21213EE0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790-67D6-49E3-B265-18FB433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6988-D2B2-4D9E-B596-3D4F922B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D167-B90E-447C-83EC-5B433B632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Component System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KASA 2008-06-22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김성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362320"/>
            <a:ext cx="685800" cy="6858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2362320"/>
            <a:ext cx="685800" cy="6858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2362320"/>
            <a:ext cx="685800" cy="6858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362320"/>
            <a:ext cx="685800" cy="68580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2362320"/>
            <a:ext cx="685800" cy="68580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876920" y="2362320"/>
            <a:ext cx="685800" cy="6858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2362320"/>
            <a:ext cx="685800" cy="6858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6553080" y="2362320"/>
            <a:ext cx="685800" cy="6858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2362320"/>
            <a:ext cx="685800" cy="685800"/>
          </a:xfrm>
          <a:prstGeom prst="ellipse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218960" y="2971800"/>
            <a:ext cx="19810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581280" y="3047760"/>
            <a:ext cx="5335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419720" y="30477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876920" y="3047760"/>
            <a:ext cx="3045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334120" y="3047760"/>
            <a:ext cx="609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3009600"/>
            <a:ext cx="110520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867280" y="2971800"/>
            <a:ext cx="1676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3020400" y="167652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es: Compon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2057400" y="2971440"/>
            <a:ext cx="1447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828880" y="3029040"/>
            <a:ext cx="90504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495680"/>
            <a:ext cx="3200400" cy="99072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2197080" y="129528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약간 복잡한 실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단계 이상 상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2133720"/>
            <a:ext cx="2057400" cy="6094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3581280"/>
            <a:ext cx="198108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raw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3581280"/>
            <a:ext cx="198144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ov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3581280"/>
            <a:ext cx="198108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di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5257800"/>
            <a:ext cx="198108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5257800"/>
            <a:ext cx="198108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5257800"/>
            <a:ext cx="198144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09680" y="281916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4956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257440" y="281916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286000" y="42670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495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4876920" y="4267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93432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2590920" y="4267080"/>
            <a:ext cx="3962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724280" y="41907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197080" y="129528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약간 복잡한 실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단계 이상 상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2133720"/>
            <a:ext cx="2057400" cy="6094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3581280"/>
            <a:ext cx="198108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raw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3581280"/>
            <a:ext cx="198144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ov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943600" y="3581280"/>
            <a:ext cx="1981080" cy="6098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di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3505320" y="5257800"/>
            <a:ext cx="198108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5257800"/>
            <a:ext cx="198108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5257800"/>
            <a:ext cx="1981440" cy="609480"/>
          </a:xfrm>
          <a:prstGeom prst="ellipse">
            <a:avLst/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209680" y="281916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4956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257440" y="281916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86000" y="42670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95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876920" y="4267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93432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590920" y="4267080"/>
            <a:ext cx="3962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724280" y="41907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 rot="3510000">
            <a:off x="1562040" y="1028520"/>
            <a:ext cx="3352680" cy="58672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1981080"/>
            <a:ext cx="1066680" cy="914400"/>
          </a:xfrm>
          <a:prstGeom prst="wedgeEllipseCallout">
            <a:avLst>
              <a:gd name="adj1" fmla="val 78569"/>
              <a:gd name="adj2" fmla="val 39759"/>
            </a:avLst>
          </a:prstGeom>
          <a:solidFill>
            <a:srgbClr val="f1e7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HY견고딕"/>
                <a:ea typeface="HY견고딕"/>
              </a:rPr>
              <a:t>!!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he Diamond of Death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2133720"/>
            <a:ext cx="762120" cy="76176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5029200"/>
            <a:ext cx="762120" cy="76212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1143000" y="4266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43000" y="2819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220968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286000" y="4266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236232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274320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236232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274320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677840" y="1981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7046640" y="1981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267080" y="411480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4495680"/>
            <a:ext cx="1828800" cy="38124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4674240" y="373392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4267080" y="487692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4267080" y="5257800"/>
            <a:ext cx="1828800" cy="380880"/>
          </a:xfrm>
          <a:prstGeom prst="rect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6837480" y="4343400"/>
            <a:ext cx="10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이렇게 되기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바라지만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he Diamond of Death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1600200" y="2133720"/>
            <a:ext cx="762120" cy="76176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5029200"/>
            <a:ext cx="762120" cy="76212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1143000" y="4266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43000" y="2819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220968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286000" y="4266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236232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274320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2362320"/>
            <a:ext cx="182880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274320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4677840" y="1981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7046640" y="1981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4038480"/>
            <a:ext cx="1828800" cy="3812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6629400" y="4419720"/>
            <a:ext cx="1828800" cy="38088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7036200" y="36576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ass 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800600"/>
            <a:ext cx="1828800" cy="380880"/>
          </a:xfrm>
          <a:prstGeom prst="rect">
            <a:avLst/>
          </a:prstGeom>
          <a:solidFill>
            <a:srgbClr val="eb933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?? A ?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5181480"/>
            <a:ext cx="1828800" cy="38124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5562720"/>
            <a:ext cx="1828800" cy="380880"/>
          </a:xfrm>
          <a:prstGeom prst="rect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3657600"/>
            <a:ext cx="381240" cy="3808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4572000"/>
            <a:ext cx="381240" cy="3808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5410080" y="4572000"/>
            <a:ext cx="381240" cy="3808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448240"/>
            <a:ext cx="381240" cy="38124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723920" y="5029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686480" y="41338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600880" y="411444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257800" y="5029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657600"/>
            <a:ext cx="381240" cy="380880"/>
          </a:xfrm>
          <a:prstGeom prst="ellipse">
            <a:avLst/>
          </a:prstGeom>
          <a:solidFill>
            <a:srgbClr val="eb933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4646160" y="594360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이것이 현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he Diamond of Death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133720"/>
            <a:ext cx="762120" cy="76176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5029200"/>
            <a:ext cx="762120" cy="76212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1143000" y="4266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143000" y="2819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220968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286000" y="4266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2565360" cy="14349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581280" y="3200400"/>
            <a:ext cx="2514600" cy="1428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6477120" y="3200400"/>
            <a:ext cx="2425680" cy="1360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3581280" y="5029200"/>
            <a:ext cx="3733920" cy="14209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72000" y="4876920"/>
            <a:ext cx="2895480" cy="5331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he Diamond of Death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2133720"/>
            <a:ext cx="762120" cy="76176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3505320"/>
            <a:ext cx="761760" cy="76176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1600200" y="5029200"/>
            <a:ext cx="762120" cy="762120"/>
          </a:xfrm>
          <a:prstGeom prst="ellipse">
            <a:avLst/>
          </a:prstGeom>
          <a:solidFill>
            <a:srgbClr val="bb93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1143000" y="42667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43000" y="2819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20968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286000" y="42667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165560" cy="2882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648320" y="4191120"/>
            <a:ext cx="3886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3667320" y="5334120"/>
            <a:ext cx="47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: error C2385: ambiguous access of 'FuncA'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1&gt; could be the 'FuncA' in base 'A'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1&gt; or could be the 'FuncA' in base 'A'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45417 -4.44444E-006 E">
                                      <p:cBhvr>
                                        <p:cTn id="254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Virtual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114800" cy="34876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4114800" cy="3476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371600" y="3048120"/>
            <a:ext cx="2819520" cy="5331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2819520"/>
            <a:ext cx="2895840" cy="5331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5410080"/>
            <a:ext cx="152280" cy="1526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510552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571500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1828800" y="571500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571500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1295280" y="5105520"/>
            <a:ext cx="15264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2057400" y="5410080"/>
            <a:ext cx="152280" cy="15264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601992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2666880" y="5334120"/>
            <a:ext cx="15264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1961640" y="5857560"/>
            <a:ext cx="10980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185920" y="5852880"/>
            <a:ext cx="19548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490840" y="5457600"/>
            <a:ext cx="19512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505240" y="5229000"/>
            <a:ext cx="171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2185560" y="5538600"/>
            <a:ext cx="19044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938240" y="5538600"/>
            <a:ext cx="13824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1728360" y="5547960"/>
            <a:ext cx="1285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709640" y="5238720"/>
            <a:ext cx="14760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428840" y="5234040"/>
            <a:ext cx="18072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523880" y="578160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124000" y="5562360"/>
            <a:ext cx="4680" cy="46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1956960" y="5238720"/>
            <a:ext cx="1335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2829960" y="542592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Inheritance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평가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다중 상속이 문제일 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실세계 모델링 방법으로 여전히 훌륭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Java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C#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등 다중상속이 금지된 언어들도 잘 쓰이는 것을 보면 상속 자체가 나쁜 것은 아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하지만 상속 기법으로 프로젝트를 크게 진행하다 보면 다음과 같은 문제점들을 만나게 된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해결해버리면 되지만 많은 노력과 시행 착오가 필요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emplate Method Pattern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C++ template&lt;&gt;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과는 관계 없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Base class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는 함수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interface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를 정의하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Derived class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에서 함수 본체를 구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변수만이 아닌 메소드 들이 포함된 상위 클래스를 상속하는 경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런 식의 디자인이 많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System?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재사용 가능한 모듈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컴포넌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반으로 프로그램을 조립하듯이 만드는 것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이미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Visual Basic, Delphi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등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RAD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툴로 익숙한 개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OOP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에서 상속의 개념으로 이러한 모듈의 조립식 프로그래밍이 가능한 것처럼 말하지만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C++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에서는 문제가 많다는데…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emplate Method Pattern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937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emplate Method Pattern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emplate Method Pattern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3341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Interface Blo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프로그램이 복잡해 질 수록 상위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Base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클래스는 빈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virtual function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들로 가득 차는 경향이 있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문제가 되는 것은 아니지만 코드를 보고 있으면 정신이 혼란스럽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머리 속이 복잡하면 버그 유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Pass-thru Enforcemen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생성자와 소멸자는 클래스 상속 순서에 맞게 자동으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chain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을 이루어 호출되지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일반 메소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virtual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건 아니건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는 상황에 적당한 한 개만 호출된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팀 내부적으로 룰을 만들어 일반 메소드 작성 가이드 라인을 만드는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실수로 안지키면 버그 유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Pass-thru Enforcemen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직접 상위클래스의 메소드를 호출하지 않는 빈 함수들이지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클래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C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의 인스턴스가 생성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소멸될 때 호출되는 메소드 순서는…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bb9321"/>
                </a:solidFill>
                <a:latin typeface="굴림"/>
              </a:rPr>
              <a:t>(virtual ~A(); </a:t>
            </a:r>
            <a:r>
              <a:rPr b="0" lang="ko-KR" sz="3000" spc="-1" strike="noStrike">
                <a:solidFill>
                  <a:srgbClr val="bb9321"/>
                </a:solidFill>
                <a:latin typeface="굴림"/>
              </a:rPr>
              <a:t>가 무슨 효과가 있는지는 다들 아시죠</a:t>
            </a:r>
            <a:r>
              <a:rPr b="0" lang="ko-KR" sz="3000" spc="-1" strike="noStrike">
                <a:solidFill>
                  <a:srgbClr val="bb9321"/>
                </a:solidFill>
                <a:latin typeface="굴림"/>
              </a:rPr>
              <a:t>?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20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Pass-thru Enforcemen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00800" cy="38671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193280" y="5257800"/>
            <a:ext cx="369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래스 설계자의 의도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nitialize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메소드는 생성자 호출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hain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처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parent class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의 같은 메소드를 호출하시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Pass-thru Enforcemen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943600" cy="3305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173600" y="4876920"/>
            <a:ext cx="69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그래머의 작은 실수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함수틀을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래스에서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opy&amp;paste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하다보니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::Initialize(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호출을 까먹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456200" y="5638680"/>
            <a:ext cx="60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그러나 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Compiler 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는 자동으로 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chain 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호출을 만들어주지도 않고 에러도 안낸다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동작 중 버그를 일찍 발견하기를 바라는 수밖에</a:t>
            </a:r>
            <a:r>
              <a:rPr b="0" lang="ko-KR" sz="1800" spc="-1" strike="noStrike">
                <a:solidFill>
                  <a:srgbClr val="ff0000"/>
                </a:solidFill>
                <a:latin typeface="굴림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3352680"/>
            <a:ext cx="3429000" cy="381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Unintended Consequences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특정 오브젝트의 오동작 버그의 원인을 찾아 메소드를 고쳤는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고칠 때는 미처 몰랐던 다른 오브젝트에서 그 클래스를 상속하고 있었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잘 되던 것이 이상해짐…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그러나 진짜 큰 문제는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..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속적인 기능 추가 요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완전히 독립적인 클래스의 추가는 쉽겠지만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다른 클래스와 기능이 겹치면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. (^C,^V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금지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;;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만들어 놨더니 빼달라고 요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빼려고 하는 요소가 클래스 단위가 아니라면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뺐더니 다시 넣자고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소스컨트롤 롤백만으로 쉽게 되진 않고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상속에 의한 모듈들의 관계는 의존성이 너무 커서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코드의 한 두 군데만 고쳐서 해결되는 경우가 참 적습니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Agenda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복잡한 최근 게임과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OOP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++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상속 리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++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상속 문제점 살펴보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omponent System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omponent System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응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Q&amp;A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System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상속으로 인한 문제점을 피하면서 컴포넌트 조립식 프로그래밍을 하려면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..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포함” 기법 사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간단히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필요한 클래스들을 멤버 변수로 잡아 포함할 수도 있겠지만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하드코딩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…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 u="sng">
                <a:solidFill>
                  <a:srgbClr val="cc6600"/>
                </a:solidFill>
                <a:uFillTx/>
                <a:latin typeface="굴림"/>
              </a:rPr>
              <a:t>다수의 컴포넌트 클래스들을 포함할 수 있고</a:t>
            </a:r>
            <a:r>
              <a:rPr b="0" i="1" lang="en-US" sz="2600" spc="-1" strike="noStrike" u="sng">
                <a:solidFill>
                  <a:srgbClr val="cc6600"/>
                </a:solidFill>
                <a:uFillTx/>
                <a:latin typeface="굴림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 u="sng">
                <a:solidFill>
                  <a:srgbClr val="cc6600"/>
                </a:solidFill>
                <a:uFillTx/>
                <a:latin typeface="굴림"/>
              </a:rPr>
              <a:t>컴포넌트 간의 통신이 가능할 수 있도록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600" spc="-1" strike="noStrike" u="sng">
                <a:solidFill>
                  <a:srgbClr val="cc6600"/>
                </a:solidFill>
                <a:uFillTx/>
                <a:latin typeface="굴림"/>
              </a:rPr>
              <a:t>표준적인 방법을 구축하는 것…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컴포넌트 시스템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(GPG 6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권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6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이런 개념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..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1905120"/>
            <a:ext cx="4343400" cy="38862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User Obj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3505320"/>
            <a:ext cx="198108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3886200"/>
            <a:ext cx="198108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4267080"/>
            <a:ext cx="1981080" cy="3812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4648320"/>
            <a:ext cx="198108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5029200"/>
            <a:ext cx="1981080" cy="38088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onent 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238720" y="198108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포함을 하기 때문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bstract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클래스가 아닌 한 문제 없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5376240" y="533412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컴포넌트들을 포함하고 있는 오브젝트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가리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라고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37339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144" y="28"/>
                  <a:pt x="288" y="56"/>
                  <a:pt x="288" y="96"/>
                </a:cubicBezTo>
                <a:cubicBezTo>
                  <a:pt x="288" y="136"/>
                  <a:pt x="8" y="224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S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세부사항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기능상 비슷하지만 똑같지 않은 컴포넌트들을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Family (Category)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로 분류할 수 있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같은 분류의 컴포넌트는 다른 것으로 교체 가능해야 한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한 분류 내에 후보가 유일하여 무언가 교체해볼 여지가 없다면 컴포넌트 프로그래밍이라 할 수 없을 듯…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컴포넌트를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nterface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로 정의하고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를 부여한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Entity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개의 컴포넌트만 가질 수 있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동시에 두 개 이상 컴포넌트가 필요하다면 그들을 포함하는 새로운 컴포넌트를 개발한다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S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세부사항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컴포넌트간의 통신…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딱히 기발한 해결책은 없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모든 컴포넌트가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Owner (Parent)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의 포인터를 저장해서 활용함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예제 코드 참조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GPG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코드 보기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GameObjec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상속 없이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GameObject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클래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개로 게임내 다양한 오브젝트를 표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가지고 있는 컴포넌트의 종류에 따라 오브젝트의 성격이 변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상속의 경우 해당 클래스를 가지고 있는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dynamic_cast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를 썼겠지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포함된 컴포넌트는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Family ID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에 따라 바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static_cast (C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스타일 캐스팅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로 변환하여 쓸 수 있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GameObjec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GPG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예제의 구현 방법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tring 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map&lt;string, component*&gt;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로 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생각해 볼 문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tring 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Debug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시에 도움을 줄 수 있지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성능 면에서 정수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용도 고려해 볼만함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컴포넌트 종류가 적다면 정수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array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를 써서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map lookup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을 피할 수도 있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인터페이스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 flipH="1" flipV="1">
            <a:off x="2971440" y="3657600"/>
            <a:ext cx="12193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Hierarchy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1523880"/>
            <a:ext cx="2286000" cy="53352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ompon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124080"/>
            <a:ext cx="1600200" cy="533520"/>
          </a:xfrm>
          <a:prstGeom prst="rect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Visu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124080"/>
            <a:ext cx="1600200" cy="533520"/>
          </a:xfrm>
          <a:prstGeom prst="rect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A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5943600" y="3124080"/>
            <a:ext cx="1600200" cy="533520"/>
          </a:xfrm>
          <a:prstGeom prst="rect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Heal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4876920"/>
            <a:ext cx="1905120" cy="45720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VisualSphe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4876920"/>
            <a:ext cx="1905120" cy="45720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VisualCub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5562720"/>
            <a:ext cx="3200400" cy="457200"/>
          </a:xfrm>
          <a:prstGeom prst="rect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cVisualSphereAndCub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>
            <a:off x="441720" y="3200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familyID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>
            <a:off x="291960" y="51814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omponentID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743200" y="2057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23720" y="205704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885840" y="2057040"/>
            <a:ext cx="2895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819520" y="3657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3200040" y="3657240"/>
            <a:ext cx="1981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7858080" y="323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7492680" y="51055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05160" y="365760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특정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(Visual) Family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인터페이스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최근 게임 경향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매우 다양한 게임 오브젝트 출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인공과 게임 오브젝트간의 풍부한 인터랙션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이런 것 까지 될 줄이야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!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전문화 고도화되는 비 프로그래머의 게임 레벨 설정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툴 만들어줘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~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어쨌거나 이런 요구 사항들을 구현해 내야 하는데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소프트웨어 설계 능력이 중요하겠죠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일단은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OOP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적인 접근은 필수…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Family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내 특정 컴포넌트 구현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8672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컴포넌트의 사용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컴포넌트간 통신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omponent System 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응용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게임 에디터와 연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게임 오브젝트 타입이 상속으로 분화되지 않기 때문에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화면에 표시하고 속성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컴포넌트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을 편집하는 에디터를 만들기 좋다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오브젝트 초기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상속의 경우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최말단 클래스 타입이 무엇인지 판단하여 생성 후 데이터 초기화를 해야 하고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초기화 코드의 분화가 어렵지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컴포넌트 방식은 일단 생성 후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점진적으로 개별 컴포넌트들을 추가하며 초기화를 할 수 있고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컴포넌트 별로 초기화 코드를 골라 쓰기 쉽다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데이터 파일로부터 읽어 초기화하기에 수월하다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그러나 여전히…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오브젝트 표현 방법일 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당연하게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구체적인 코딩 스킬을 향상시켜 주지는 않는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어떠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Family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로 컴포넌트들을 나누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각 컴포넌트간의 조합으로 로직을 만드는 능력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경험으로 터득하는 수 밖에 없습니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;;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끝 – 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Q&amp;A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Object-oriented Programming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대략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. Object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를 중심 개념으로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필요한 행동들을 붙여 나가는 프로그래밍 패러다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주요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OOP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법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Modularity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Encapsulation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Polymorphism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Inheritance !!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이론적으로는 문제가 없습니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굴림"/>
              </a:rPr>
              <a:t>C++ 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굴림"/>
              </a:rPr>
              <a:t>이라서 생기는 문제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를 알아봅시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905120"/>
            <a:ext cx="2209680" cy="13716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114800"/>
            <a:ext cx="2209680" cy="13716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905120"/>
            <a:ext cx="2209680" cy="13716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114800"/>
            <a:ext cx="2209680" cy="13716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029200" cy="2443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5105520" cy="2529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019920" y="3733920"/>
            <a:ext cx="2590560" cy="6094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1905120"/>
            <a:ext cx="2209680" cy="13716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114800"/>
            <a:ext cx="2209680" cy="1371600"/>
          </a:xfrm>
          <a:prstGeom prst="ellipse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905120"/>
            <a:ext cx="2209680" cy="13716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4114800"/>
            <a:ext cx="2209680" cy="137160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5334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447920" y="2286000"/>
            <a:ext cx="12189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143000" y="2437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2666880" cy="1517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66688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038480"/>
            <a:ext cx="1828800" cy="99072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371600"/>
            <a:ext cx="1752480" cy="10666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1371600"/>
            <a:ext cx="1752480" cy="10666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362320" y="4648320"/>
            <a:ext cx="6386400" cy="1639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419720" y="4495680"/>
            <a:ext cx="4419360" cy="6098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++ Multiple Inheritanc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447920" y="2286000"/>
            <a:ext cx="12189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143000" y="2437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038480"/>
            <a:ext cx="1828800" cy="99072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riv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71600"/>
            <a:ext cx="1752480" cy="10666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1371600"/>
            <a:ext cx="1752480" cy="1066680"/>
          </a:xfrm>
          <a:prstGeom prst="ellipse">
            <a:avLst/>
          </a:prstGeom>
          <a:solidFill>
            <a:srgbClr val="f3c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ase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26668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3:05:30Z</dcterms:created>
  <dc:creator>name</dc:creator>
  <dc:description/>
  <dc:language>en-US</dc:language>
  <cp:lastModifiedBy>name</cp:lastModifiedBy>
  <dcterms:modified xsi:type="dcterms:W3CDTF">2008-06-21T21:29:48Z</dcterms:modified>
  <cp:revision>9</cp:revision>
  <dc:subject/>
  <dc:title>C++ Component System</dc:title>
</cp:coreProperties>
</file>