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F75C-1A26-4F98-A0D7-F9894117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58E-575D-48C8-B893-602B58F1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E7D-AD12-4296-8711-BEB565D3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25F-F108-4952-BB7C-333D007A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44C2-6DBE-4F3A-AFF9-DA200C68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F94D-2ED6-46E7-9844-06913D82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846F-7C58-4A71-988A-C96A3530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2E08-50C5-41FD-8F3C-3869C84F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C289-9B95-4298-A946-840EF81F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5698-AB84-44B6-9974-C943F04D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55988-4180-41F1-8B08-DE404521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1723-89BA-4CF2-B936-1167C221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253F-9BB6-4953-8093-87F6B3DB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77CB-70B0-44AF-BBDB-C9DF9DFA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AC97-2F5F-4D5C-82B1-57AB2DE3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CA1C-ADF7-4EE4-BCE6-F080919F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7555-3A17-4EA3-8ECA-9D4B2CA1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BB9E-F4A9-415C-8234-BAFE0900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452-97BF-4BEF-A222-4A0CE286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8E68-A229-465F-97BA-B4E57C9A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142-2DAD-47AF-B986-DE9BD872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4BA-6C9F-4EB2-89EF-6D9A1192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404-1EB9-403B-8F41-B7234724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1E4-51D9-4CAD-AE4B-9019CE9E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228600"/>
            <a:ext cx="8153280" cy="115884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d3e3e1"/>
              </a:gs>
              <a:gs pos="100000">
                <a:srgbClr val="91bb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7846-61BE-4C62-9593-9E63B7515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2273400"/>
            <a:ext cx="7772400" cy="115884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c8ddda"/>
              </a:gs>
              <a:gs pos="100000">
                <a:srgbClr val="91bb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A07B-DE4F-493E-B61B-08820A3C1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671400" algn="ctr">
              <a:spcBef>
                <a:spcPts val="60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023840" algn="ctr">
              <a:spcBef>
                <a:spcPts val="499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341360" algn="ctr">
              <a:spcBef>
                <a:spcPts val="499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지역사회복지에 관한 이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복지 관련 주요 용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복지 개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복지 주요 이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복지의 가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지역사회조직</a:t>
            </a: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(community organization)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에 관한 여러 개념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프리들랜더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주민의 욕구와 그 지역 자원간에 상호 조정을 확립하는 사회사업의 과정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구린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인간관계나 사회제도에 바람직한 변화를 일으키기 위해 행해지는 사회사업 개입 과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로스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동사회가 스스로 그 필요성과 목표를 발견하고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그것들의 순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priority)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를 분류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그것을 달성하는 확신과 의지를 개발하여 필요한 자원을 구하여 실제행동을 일으키는 것이며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또한 공동사회가 조직화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결 협력하여 실행하는 태도를 기르는 과정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=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과정목표 달성에 관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O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에 대한 두 가지 관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자원의 조직화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의 여러 가지 자원의 연락 조정 및 연대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공통성을 강조하여 조직화하고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통합화를 증진시켜 나가는 것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주민의 참가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주민의 욕구나 기대를 존중하면서 자발적인 활동과 주체성을 높여 지역주민의 참가를 조장시키는 활동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지역사회조직의 개념 정의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주민의 공통적인 욕구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(needs)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를 해결하기 위하여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 내의 물적․인적․정보 자원을 활용하여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 주민들의 욕구와 연계를 통하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의 상부상조 활동이 일어나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가 활력 있고 바람직한 방향으로 발전해 나가도록 조직화하는 활동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지역사회사업</a:t>
            </a: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(community social work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정의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자원을 활용하여 지역사회 주민의 문제를 해결하는 데 중점을 둘 뿐 아니라 지역사회 주민의 특정 계층의 욕구나 문제에도 관심을 두는 사회사업 개입방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특성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의 특성과 사회보호의 의미에 초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조직에서 한층 확대된 개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지역사회보호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(community care)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가능한 사회적 보호를 필요로 하는 사람의 가정이나 가정과 유사한 지역사회 내 일정한 환경에서 서비스를 제공하는 사회적 보호 형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대두된 배경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정신장애인 치료와 처우에서 시설 수용 방식에 대한 반성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약물요법의 진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예산 삭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지역사회 만들기</a:t>
            </a: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(community building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고연령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저소득층의 이웃들을 생산적인 경제의 자립적인 일원으로 만들기 위한 조직화된 노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주민들이 민간 자원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경제 자원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제도 자원을 습득하여 활용할 수 있도록 하는 것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를 클라이언트로 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지역사회개발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(community development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개념 정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역주민들의 공동 참여를 전제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역주민들의 자발적∙자조적 노력에 의해 주민들의 공통 욕구를 해결하고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민들의 공동 운명의식을 토대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제적∙사회적∙문화적 발전을 도모하는 주민 생활 향상을 위한 대운동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활동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로스만의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대 지역사회조직사업의 하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지역사회실천</a:t>
            </a: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(community practice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첫째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를 사회복지실천의 클라이언트로 간주한다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둘째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사회복지사의 개입 목표는 지역사회가 지니는 욕구나 문제의 예방이나 해결에 있다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셋째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실천은 철저히 사회복지실천의 전문 지식과 기술을 토대로 이루어지나 필요한 타 분야의 지식과 기술을 응용하여 활용한다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유사용어 정리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복지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모든 관련 개념 포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조직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복지 전문직의 차원에서 지역사회복지에 접근하는 실천방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보호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 자원을 활용하여 사회적 보호를 필요로 하는 지역사회 주민에게 통합적 서비스를 제공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사업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실천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를 클라이언트로 간주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조직으로부터 확대된 개념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개발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주민참여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협동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토착적 지도자의 리더십 강조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주민들의 공동 또는 협동적 노력으로 지역 전반의 복지수준을 높이려는 과정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지역사회복지에 대한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긍정론과 부정론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긍정론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한국 사회복지역사 과정에서 지역사회복지를 발견 가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자조집단의 형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사회복지협의회 결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자원봉사운동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사회운동단체와의 연대 활동 등 활발한 전개가 이루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부정론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사회복지기관이나 단체에서 지역사회복지활동 미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거시적 차원의 정책 및 제도 변화를 위한 조직적 활동에 참여 저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공동사회와 이익사회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1628640"/>
            <a:ext cx="1800000" cy="2521080"/>
          </a:xfrm>
          <a:prstGeom prst="rect">
            <a:avLst/>
          </a:prstGeom>
          <a:solidFill>
            <a:srgbClr val="91b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공동사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1628640"/>
            <a:ext cx="1800360" cy="2521080"/>
          </a:xfrm>
          <a:prstGeom prst="rect">
            <a:avLst/>
          </a:prstGeom>
          <a:solidFill>
            <a:srgbClr val="91b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이익사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916280"/>
            <a:ext cx="194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419640" y="2565360"/>
            <a:ext cx="1728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3348000" y="3500280"/>
            <a:ext cx="2089080" cy="1008360"/>
          </a:xfrm>
          <a:prstGeom prst="ellipse">
            <a:avLst/>
          </a:prstGeom>
          <a:solidFill>
            <a:srgbClr val="91b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지역사회복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356000" y="27810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1187280" y="49417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동사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Gemeinschaft)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규모의 대면적 관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정서적이고 전통적인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이익사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Gesellschaft)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규모의 비대면적 관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개인주의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계약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합리적인 이익의 추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자선조직화 운동</a:t>
            </a: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(charity Organization Society: COS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1869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 영국에서 시작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1877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 미국 버펄로에서 창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설립 취지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당시 빈민을 대상으로 하는 수많은 구호단체들의 업무를 조정하기 위함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의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사업기관들의 서비스 조정을 통해 합리적인 서비스 전달체계 구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공동모금회와 사회복지협의회로 발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접적인 구호와 서비스 제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인보관 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인보관 운동의 의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빈민들의 열악한 환경을 파악하고 그들에게 교육하고 환경 개선하기 위해 빈민 지역에서 정착하여 활동함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빈민 지역에 거주하고 있는 자들을 위해 적절한 자립 방안을 모색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대학생 자원봉사자과 후원자들을 활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인보관과 인보정신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최초의 인보관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settlement house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영국 토인비홀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1884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국 헐하우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1889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본 킹스레이관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1897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한국 사회복지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인보정신의 계승 중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인보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隣保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 [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명사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] 1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이웃집과 이웃 사람들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 [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중국 당나라 때 한 집의 이웃 네 집을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인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隣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'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이라 하고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그 집을 보탠 다섯 집을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'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보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保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'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라 하는 주민 조직이 있었던 데서 유래함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] 2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이웃끼리 서로 힘을 합해 돕는 일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또는 그러한 조직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COS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와 인보관 비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484280"/>
          <a:ext cx="8229600" cy="4502160"/>
        </p:xfrm>
        <a:graphic>
          <a:graphicData uri="http://schemas.openxmlformats.org/drawingml/2006/table">
            <a:tbl>
              <a:tblPr/>
              <a:tblGrid>
                <a:gridCol w="1738440"/>
                <a:gridCol w="2881080"/>
                <a:gridCol w="361008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bb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선조직협회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.O.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bbb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보관운동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Settlement Movement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1bbb6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력의 참여형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우애방문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빈민들과 거주하는 자원봉사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문제의 원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인적 속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환경적 요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데올로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진화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유주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급진주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주도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류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류층과 대학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문제 접근 및 해결방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빈민개조와 역기능의 수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치있는 빈민과 가치없는 빈민으로 구분하여 원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빈민과의 거주와 빈민생활에 동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존 사회질서 비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용주의 및 개혁주의 노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움제공 유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기간 자선구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심 향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부상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 및 정치적인 행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영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조직 실천방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동모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협의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,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별사회사업 모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복지관 형성에 영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-4523400" y="251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구  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지역사회중심 재활 이론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지역사회 중심 재활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(Community Based Rehabilitation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：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CBR) :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장애인의 재활을 장애인 본인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그의 가족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이웃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지역사회 주민들이 서로 이해하고 협력하여 장애인 재활문제를 공동으로 해결해 보자는 취지에서 생긴 이론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의의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자조∙자립의 정신을 제공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스스로 문제를 해결하는 기회를 제공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지역사회의 인력 자원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장애인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그 가족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지역의 인력 자원 등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을 활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각종 기관 단체의 하위체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의료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교육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사회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심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직업재활 등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를 프로그램에 연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주요 사업 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: ①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지역 장애인의 실태 파악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②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지역 자원의 동원과 조직화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③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지역사회 재활 환경 조성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④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통합적 재활서비스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⑤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장애인 순회 진단사업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⑥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가정방문 상담사업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⑦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가정방문 진단․치료사업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⑧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가정방문 교육사업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가상공동체 이론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가상공동체 의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 초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새로운 공동체 형성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이버 모임이 집단화되면서 현실 사회에 영향력을 행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이버 족의 소외 문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고민 문제 해결을 위한 프로그램 개발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지역사회기반조직 이론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기반조직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Community-Based Organizations:CBO) 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에 기반을 두고 있는 인가 및 비인가 단체를 의미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특성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창조적이고 비전이 있는 리더십 발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비스 개선을 위한 계획에 적절한 기구와 시설 및 직원 보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단점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예산의 관리 회계 보고 미흡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지역화폐운동</a:t>
            </a: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(community currency)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화폐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일정 지역사회 내에서만 통용되는 화폐를 통해 주민들 서로가 소유한 자원을 교환하게 하는 제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유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Local Exchange and Trading System:LETS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아워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HOURS) 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역 주민 모두 참여 가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타임달러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자원봉사인력은행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시사점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공동체 운동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품앗이 운동 유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지역사회복지의 가치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지역사회 맥락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지역사회의 욕구와 문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지역사회 문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지역사회의 능력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스스로 문제를 해결해 나가는 자정 능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조직과 단체 맥락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뚜렷한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분명한 위계와 역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연대와 연계 가능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지역사회 주민 맥락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궁극 목표는 주민의 행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공통된 주민의 욕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지역사회 구성요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회복지 패러다임의 변화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방법론으로서의 지역사회조직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회사업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 방법론 중의 하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개인이 속한 지역사회를 대상으로 하는 차원 → 사회환경의 자원 개발 및 사회운동의 차원으로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시 영역과 거시 영역에서 다루지 못하는 중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mezzo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뉴 패러다임으로서의 지역사회복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국의 지역사회조직 이론과 일본의 지역복지 이론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가복지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+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자원 개발 및 사회운동 이론 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003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도 사회복지사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급 국가시험 시행 이후 지역사회복지의 학습내용이 보편화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회복지의 뉴 패러다임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440000" y="1758960"/>
            <a:ext cx="6189480" cy="3297240"/>
            <a:chOff x="1440000" y="1758960"/>
            <a:chExt cx="6189480" cy="3297240"/>
          </a:xfrm>
        </p:grpSpPr>
        <p:sp>
          <p:nvSpPr>
            <p:cNvPr id="98" name="_s9227"/>
            <p:cNvSpPr/>
            <p:nvPr/>
          </p:nvSpPr>
          <p:spPr>
            <a:xfrm>
              <a:off x="3699000" y="2344680"/>
              <a:ext cx="1673280" cy="1674720"/>
            </a:xfrm>
            <a:prstGeom prst="ellipse">
              <a:avLst/>
            </a:prstGeom>
            <a:solidFill>
              <a:srgbClr val="598779">
                <a:alpha val="50000"/>
              </a:srgbClr>
            </a:solidFill>
            <a:ln w="4680">
              <a:solidFill>
                <a:srgbClr val="5987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_s9228"/>
            <p:cNvSpPr/>
            <p:nvPr/>
          </p:nvSpPr>
          <p:spPr>
            <a:xfrm>
              <a:off x="3699000" y="17589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굴림"/>
                </a:rPr>
                <a:t>사회복지실천 및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굴림"/>
                </a:rPr>
                <a:t>기술 영역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_s9229"/>
            <p:cNvSpPr/>
            <p:nvPr/>
          </p:nvSpPr>
          <p:spPr>
            <a:xfrm>
              <a:off x="4249800" y="3298680"/>
              <a:ext cx="1673280" cy="1675080"/>
            </a:xfrm>
            <a:prstGeom prst="ellipse">
              <a:avLst/>
            </a:prstGeom>
            <a:solidFill>
              <a:srgbClr val="657a56">
                <a:alpha val="50000"/>
              </a:srgbClr>
            </a:solidFill>
            <a:ln w="4680">
              <a:solidFill>
                <a:srgbClr val="657a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_s9230"/>
            <p:cNvSpPr/>
            <p:nvPr/>
          </p:nvSpPr>
          <p:spPr>
            <a:xfrm>
              <a:off x="5956200" y="463860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굴림"/>
                </a:rPr>
                <a:t>지역사회복지 영역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_s9231"/>
            <p:cNvSpPr/>
            <p:nvPr/>
          </p:nvSpPr>
          <p:spPr>
            <a:xfrm>
              <a:off x="3147840" y="3298680"/>
              <a:ext cx="1673280" cy="1675080"/>
            </a:xfrm>
            <a:prstGeom prst="ellipse">
              <a:avLst/>
            </a:prstGeom>
            <a:solidFill>
              <a:srgbClr val="777777">
                <a:alpha val="50000"/>
              </a:srgbClr>
            </a:solidFill>
            <a:ln w="46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_s9232"/>
            <p:cNvSpPr/>
            <p:nvPr/>
          </p:nvSpPr>
          <p:spPr>
            <a:xfrm>
              <a:off x="1440000" y="4637160"/>
              <a:ext cx="16729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굴림"/>
                </a:rPr>
                <a:t>사회복지 정책 영역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지역사회 개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Community 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공동체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어원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cum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함께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서로간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+ munus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물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, munere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주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= ‘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서로 간에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물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주는 것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=&gt; communis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동료나 성곽 내에 거주하는 사람들의 총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 개념의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4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영역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리를 중심으로 하는 지역사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각종 구성원들의 모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즉 의식과 뜻을 함께 하는 지역사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동체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각종 기관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체를 하나의 지역사회로 구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가상공동체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virtual community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지리적 지역사회 </a:t>
            </a: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기능적 지역사회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리적 지역사회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geographic community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리적 공간을 공유하며 밀접한 상호작용을 하는 사람들의 집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근린지역사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단위 아파트단지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숙인들이 모여 있는 공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기능적 지역사회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functional community)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간과 상관없이 특정한 공동의 관심과 기능을 공유하는 사람들의 집단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동체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이익집단 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회복지학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미한인공동체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독교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경보호운동조직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장애부모회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지역사회복지의 발생 배경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첫째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 및 가족 기능의 변화에 따라 가족과 지역공동체가 지니고 있던 복지적 기능이 약화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이를 보완하는 서비스 필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둘째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복지 욕구가 경제적인 면에서 비경제적인 복지서비스로 변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셋째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종래의 시설 수용 위주의 복지에서 탈피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가정과 이웃과의 정상적 생활 속에서 클라이언트에게 서비스를 제공하는 재가복지서비스 등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넷째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의 중요성 점차 인식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지역사회복지</a:t>
            </a: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(community welfare)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개념 정의 및 영역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사회복지 개념의 변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목적 개념으로서의 지역사회복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구체적 상황에서의 과제를 해결하고 실천서비스를 제공하는 방법으로서의 지역사회복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사회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사회복지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사회를 중심으로 하는 사회복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개념 정의 정리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재가복지서비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 주민의 조직화 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를 중심으로 지역사회 주민에 대한 생활문제의 전반적인 것을 도모하는 사회복지 제반 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+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방복지행정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조직 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(organization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개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전적 정의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두 명 이상의 인간이 모여 같은 목표를 달성하고자 어떤 일을 하여 그 성과나 업적을 이루는 것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운동적 관점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위원회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클럽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노동조합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정당의 형태를 취하면서 합당한 권위를 행사할 수 있는 체계를 갖춘 사람의 집합체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적 실체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Weic) 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생성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소멸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조직구성원의 역할과 상하위 조직간 관계성 중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서비스조직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소비자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클라이언트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들에게 직접 서비스를 전달하며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서비스 제공자와 받는 자 간에 인간관계를 중요시 하며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소비자의 복지 향상을 목표로 함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02:12:20Z</dcterms:created>
  <dc:creator>^^</dc:creator>
  <dc:description/>
  <dc:language>en-US</dc:language>
  <cp:lastModifiedBy>^^</cp:lastModifiedBy>
  <dcterms:modified xsi:type="dcterms:W3CDTF">2009-08-25T08:55:28Z</dcterms:modified>
  <cp:revision>16</cp:revision>
  <dc:subject/>
  <dc:title>지역사회복지에 관한 이해</dc:title>
</cp:coreProperties>
</file>