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6027-4D8E-454E-B9F0-20A554B0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3F0-5388-4F7F-BEB1-E8430522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807D-6360-4317-9B37-6B516EBE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B857-F481-4190-B1A4-D996C48B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B422-7060-44DC-8239-88848CCA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75D3-D896-4B8D-B6A1-32188B0F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5A99-C169-4A7A-BA34-E5B4A4B5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C0A9-E480-4BA7-AF4E-3A31234E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736B-7E5A-48D2-948A-630B2C63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FCC1-FD83-4BD0-912D-4DBF13B0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D57D-F188-4636-970A-95699037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0105-4E6F-4CCA-B75F-D2A9C536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4D7D-E952-47D5-9C68-1EE2CA37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658D-9422-456F-A6E2-2F8B742F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DDFD-17B4-4755-8FE3-BD37C42E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AFFC-36DD-48F7-8342-A8E522AE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49F7-0580-4B13-8BF0-8EA8D6F1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1089-89DD-4EFE-BB04-0EC4C1A8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40B2-88E8-4B72-A7F9-EF5A4D1B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A0A2-8381-40D8-99C1-47E2F43A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50DD-8064-44CC-A283-B255813A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4211-C7C2-49F0-901B-E8E8DEC4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63E2-9312-4749-84AA-6F2C429B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D618-D47C-48D2-800E-B323DC5E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7117-AB17-4B8C-B19D-15577D2F3D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228B-41A3-434E-814F-64B2C3DD46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0033"/>
                </a:solidFill>
                <a:latin typeface="굴림"/>
              </a:rPr>
              <a:t>지역사회복지관</a:t>
            </a:r>
            <a:endParaRPr b="0" lang="en-US" sz="48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굴림"/>
              </a:rPr>
              <a:t>사회복지관의 사업 및 대상</a:t>
            </a: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분야별 사업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가정복지사업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아동복지사업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청소년복지사업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복지사업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장애인복지사업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역복지사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사업의 분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가족복지사업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역사회보호사업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역사회조직사업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교육∙문화사업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자활사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서비스 대상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사회복지서비스 욕구를 가지고 있는 모든 지역주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우선사업 대상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8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굴림"/>
              </a:rPr>
              <a:t>국민기초생활보장 수급자 또는 차상위계층 등 저소득 주민     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8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굴림"/>
              </a:rPr>
              <a:t>장애인</a:t>
            </a:r>
            <a:r>
              <a:rPr b="0" lang="ko-KR" sz="23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굴림"/>
              </a:rPr>
              <a:t>노인 등 취약계층 주민     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8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굴림"/>
              </a:rPr>
              <a:t>직업․부업훈련 및 취업알선이 필요한 주민     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8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굴림"/>
              </a:rPr>
              <a:t>유아보호 및 교육이 필요한 주민 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굴림"/>
              </a:rPr>
              <a:t>법적 근거</a:t>
            </a: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복지사업법 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  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복지사업법시행규칙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복지부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복지관의 설치기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및 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복지관의 운영기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  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임대단지 사회복지관의 법적 근거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주택법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구 주택건설촉진법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조 제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호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주택건설기준등에관한규정 제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조 제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호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주택건설기준등에관한규칙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별표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1]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호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굴림"/>
              </a:rPr>
              <a:t>사회복지관의 운영 원칙</a:t>
            </a: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지역성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지역사회의 특성과 주민의 욕구 반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전문성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다양한 사회문제에 대한 전문적 대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임성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사업수행에 따른 효과성과 효율성 입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자율성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지역사회의 욕구에 적합한 사업에 대한 즉각적 대응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통합성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지역사회 내 공공 및 민간복지기관과의 연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자원활용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지역사회 내 복지자원을 최대한 동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활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중립성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정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영리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종교활동에 대한 중립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투명성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자원의 효율적 활용과 운영과정의 투명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굴림"/>
              </a:rPr>
              <a:t>사회복지관의 개요</a:t>
            </a: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복지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역사회내에서 일정한 시설과 전문인력을 갖추고 지역사회의 인적ㆍ물적자원을 동원하여 지역사회 문제를 해결하고 주민의 복지욕구를 충족시키기 위한 종합적인 사회복지사업을 수행하는 사회복지시설을 말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복지활동을 좀더 체계적이고 계획적으로 추진해 나가고자 하는 종합적인 사회복지센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굴림"/>
              </a:rPr>
              <a:t>사회복지관의 목표</a:t>
            </a: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회복지서비스 욕구를 가지고 있는 모든 지역사회주민을 대상으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보호서비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재가복지서비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립능력 배양을 위한 교육훈련 등 그들이 필요로 하는 복지서비스를 제공하고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가족기능 강화 및 주민상호간 연대감 조성을 통한 각종 지역사회문제를 예방․치료하는 종합적인 복지서비스 전달기구로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지역사회 주민의 복지증진을 위한 중심적 역할을 수행하여야 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굴림"/>
              </a:rPr>
              <a:t>사회복지관의 역할</a:t>
            </a: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사회서비스 센터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서비스를 주민의 욕구와 문제에 맞추어 조정하고 통합하여 효과적인 서비스 체계를 구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공동이용센터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주민이 모여 집단활동을 하거나 토론을 할 수 있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직업안정센터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직업훈련과 부업의 알선 및 중개를 하는 매개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사회교육센터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주민이 필요로 하는 정보와 평생교육을 위한 프로그램을 계획하고 실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국민총화의 장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지역사회에 살고 있는 다양한 배경의 주민의 생활향상과 지역사회발전을 추구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330033"/>
                </a:solidFill>
                <a:latin typeface="굴림"/>
              </a:rPr>
              <a:t>종합복지관과 단종복지관의 논쟁</a:t>
            </a:r>
            <a:endParaRPr b="0" lang="en-US" sz="38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종합복지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종합적 서비스 제공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전문성 약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종복지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전문성 강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재정의 효율성 저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향후 노인복지관과 종합사회복지관 통합시설 시행도 고려해볼 만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다양한 형태를 통해 지역 실정에 맞는 프로그램 전개 필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굴림"/>
              </a:rPr>
              <a:t>사회복지관의 경영모형</a:t>
            </a: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립관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官立官營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립관민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官立官民營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립민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官立民營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민립민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民立民營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민립관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民立官營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굴림"/>
              </a:rPr>
              <a:t>지역모형과 프로그램 모형</a:t>
            </a: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역모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농촌형 사회복지관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중소도시형 사회복지관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대도시형 사회복지관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프로그램 모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경제개발 촉진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문제 예방 및 치료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경제 및 사회 균형 개발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330033"/>
                </a:solidFill>
                <a:latin typeface="굴림"/>
              </a:rPr>
              <a:t>사회복지관의 발달과정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1906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년 원산 『반열방』인보관 설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1921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년 태화여자관 설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1956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년 이화여대 사회관 설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1964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년 최초로 건립된 ‘사회복지관’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목포사회복지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1983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년 사회복지사업법 개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198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년 사회복지관 건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운영 국고보조 시작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1989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년 사회복지관 설치∙운영규정 제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주택건설촉진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현 주택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에 따라 영구임대주택 사회복지관 건립 의무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199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년대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사회복지관 급격 증가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한국사회복지관협회 조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1989)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재가복지봉사센터 설치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1992)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사회복지관 운영 주체의 변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사회복지관 평가제도 도입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노숙인 자립지원사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2009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월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414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개 운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200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년 사회복지재정의 지방이양에 의해 지자체 예산으로 운영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지방교부세법 및 지방재정법 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굴림"/>
              </a:rPr>
              <a:t>사회복지관의 설치현황</a:t>
            </a:r>
            <a:endParaRPr b="0" lang="en-US" sz="4200" spc="-1" strike="noStrike">
              <a:solidFill>
                <a:srgbClr val="330033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설치 우선순위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시도지사 및 시장군수구청장이 사회복지관을 설치하고자 할 때에는 저소득층 밀집지역에 우선 설치하되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사회복지관이 일부지역에 편중되지 않도록 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설치 운영주체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방자치단체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사회복지법인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타 비영리법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시설 규모에 따른 유형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2009. 5. 41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종합사회복지관 가형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(170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개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) : 2,000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㎡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종합사회복지관 나형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(203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개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) : 1,000-2,000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㎡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사회복지관형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(38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개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) : 500-1,000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㎡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5:19:06Z</dcterms:created>
  <dc:creator>손주희</dc:creator>
  <dc:description/>
  <dc:language>en-US</dc:language>
  <cp:lastModifiedBy>^^</cp:lastModifiedBy>
  <dcterms:modified xsi:type="dcterms:W3CDTF">2009-08-26T06:36:45Z</dcterms:modified>
  <cp:revision>9</cp:revision>
  <dc:subject/>
  <dc:title>사회복지관과 재가복지봉사센터</dc:title>
</cp:coreProperties>
</file>