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0B94-8152-4AF8-BC44-079D927F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6800-6068-42C4-896B-1E4A0DE2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FE65-D61F-4878-BF45-B4443938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814E-C8D5-4071-A190-DB7A525C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99D7-01F4-4B3C-9EAA-56319958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D950-4460-40B5-90F4-FB2C3237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44FB-9091-44DB-9027-F89EDB71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14E2-E76A-4268-927B-0CCD1598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4E1B-338F-47AB-A260-846932EB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AF07-4D0F-4CF5-A693-05947A5A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0B97-214F-4D7D-8077-5F0749F4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6B01-BBC8-487B-B908-9FF927B2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F4BA-CBF4-4297-8422-12C0CFEE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2818-F97D-46B1-B75B-113C0C5B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4FDD-2881-4C15-AAAB-83FB405F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AF90-53C1-4809-9737-D601374A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9F01-D835-405D-8AA4-0EC1F8910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4C0D-8063-43E3-B231-3821F7C2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6C33-97EE-4EFE-A64E-6979093E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CDF9-81FA-4FB0-A609-30A963ED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A214-7982-4DDD-B475-EFC91956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4921-501B-486A-BBCB-7ABF4C04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5C96-647B-4699-9DAA-50AC5EB9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E331-8446-48CC-9023-31BDC38D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228600"/>
            <a:ext cx="8153280" cy="1158840"/>
          </a:xfrm>
          <a:custGeom>
            <a:avLst/>
            <a:gdLst/>
            <a:ahLst/>
            <a:rect l="l" t="t" r="r" b="b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d3e3e1"/>
              </a:gs>
              <a:gs pos="100000">
                <a:srgbClr val="91bbb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75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022400" indent="-351000">
              <a:spcBef>
                <a:spcPts val="751"/>
              </a:spcBef>
              <a:buClr>
                <a:srgbClr val="657a56"/>
              </a:buClr>
              <a:buSzPct val="6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339920" indent="-316080">
              <a:spcBef>
                <a:spcPts val="751"/>
              </a:spcBef>
              <a:buClr>
                <a:srgbClr val="59877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681200" indent="-339840">
              <a:spcBef>
                <a:spcPts val="751"/>
              </a:spcBef>
              <a:buClr>
                <a:srgbClr val="657a56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B692-45DC-41C0-9621-2C1AD8C2C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2273400"/>
            <a:ext cx="7772400" cy="1158840"/>
          </a:xfrm>
          <a:custGeom>
            <a:avLst/>
            <a:gdLst/>
            <a:ahLst/>
            <a:rect l="l" t="t" r="r" b="b"/>
            <a:pathLst>
              <a:path w="4864" h="769">
                <a:moveTo>
                  <a:pt x="306" y="4"/>
                </a:moveTo>
                <a:cubicBezTo>
                  <a:pt x="265" y="21"/>
                  <a:pt x="307" y="25"/>
                  <a:pt x="266" y="42"/>
                </a:cubicBezTo>
                <a:cubicBezTo>
                  <a:pt x="228" y="27"/>
                  <a:pt x="225" y="21"/>
                  <a:pt x="167" y="42"/>
                </a:cubicBezTo>
                <a:cubicBezTo>
                  <a:pt x="141" y="52"/>
                  <a:pt x="142" y="90"/>
                  <a:pt x="107" y="103"/>
                </a:cubicBezTo>
                <a:cubicBezTo>
                  <a:pt x="84" y="130"/>
                  <a:pt x="69" y="156"/>
                  <a:pt x="46" y="182"/>
                </a:cubicBezTo>
                <a:cubicBezTo>
                  <a:pt x="53" y="188"/>
                  <a:pt x="61" y="196"/>
                  <a:pt x="69" y="200"/>
                </a:cubicBezTo>
                <a:cubicBezTo>
                  <a:pt x="76" y="204"/>
                  <a:pt x="94" y="200"/>
                  <a:pt x="91" y="209"/>
                </a:cubicBezTo>
                <a:cubicBezTo>
                  <a:pt x="89" y="218"/>
                  <a:pt x="47" y="232"/>
                  <a:pt x="38" y="235"/>
                </a:cubicBezTo>
                <a:cubicBezTo>
                  <a:pt x="20" y="298"/>
                  <a:pt x="37" y="278"/>
                  <a:pt x="0" y="306"/>
                </a:cubicBezTo>
                <a:cubicBezTo>
                  <a:pt x="5" y="314"/>
                  <a:pt x="11" y="322"/>
                  <a:pt x="15" y="332"/>
                </a:cubicBezTo>
                <a:cubicBezTo>
                  <a:pt x="27" y="345"/>
                  <a:pt x="65" y="366"/>
                  <a:pt x="69" y="385"/>
                </a:cubicBezTo>
                <a:cubicBezTo>
                  <a:pt x="71" y="398"/>
                  <a:pt x="28" y="428"/>
                  <a:pt x="38" y="447"/>
                </a:cubicBezTo>
                <a:cubicBezTo>
                  <a:pt x="28" y="480"/>
                  <a:pt x="110" y="494"/>
                  <a:pt x="129" y="499"/>
                </a:cubicBezTo>
                <a:cubicBezTo>
                  <a:pt x="157" y="521"/>
                  <a:pt x="162" y="579"/>
                  <a:pt x="198" y="587"/>
                </a:cubicBezTo>
                <a:cubicBezTo>
                  <a:pt x="275" y="607"/>
                  <a:pt x="321" y="631"/>
                  <a:pt x="400" y="635"/>
                </a:cubicBezTo>
                <a:cubicBezTo>
                  <a:pt x="471" y="643"/>
                  <a:pt x="513" y="654"/>
                  <a:pt x="568" y="655"/>
                </a:cubicBezTo>
                <a:cubicBezTo>
                  <a:pt x="628" y="661"/>
                  <a:pt x="700" y="664"/>
                  <a:pt x="760" y="671"/>
                </a:cubicBezTo>
                <a:cubicBezTo>
                  <a:pt x="817" y="693"/>
                  <a:pt x="869" y="677"/>
                  <a:pt x="928" y="699"/>
                </a:cubicBezTo>
                <a:cubicBezTo>
                  <a:pt x="1070" y="753"/>
                  <a:pt x="1355" y="693"/>
                  <a:pt x="1355" y="693"/>
                </a:cubicBezTo>
                <a:cubicBezTo>
                  <a:pt x="1539" y="731"/>
                  <a:pt x="1520" y="737"/>
                  <a:pt x="1751" y="746"/>
                </a:cubicBezTo>
                <a:cubicBezTo>
                  <a:pt x="1912" y="769"/>
                  <a:pt x="1924" y="727"/>
                  <a:pt x="2228" y="743"/>
                </a:cubicBezTo>
                <a:cubicBezTo>
                  <a:pt x="2298" y="752"/>
                  <a:pt x="2337" y="736"/>
                  <a:pt x="2388" y="739"/>
                </a:cubicBezTo>
                <a:cubicBezTo>
                  <a:pt x="2439" y="742"/>
                  <a:pt x="2496" y="758"/>
                  <a:pt x="2535" y="762"/>
                </a:cubicBezTo>
                <a:cubicBezTo>
                  <a:pt x="2574" y="766"/>
                  <a:pt x="2586" y="753"/>
                  <a:pt x="2624" y="761"/>
                </a:cubicBezTo>
                <a:cubicBezTo>
                  <a:pt x="2654" y="767"/>
                  <a:pt x="2674" y="747"/>
                  <a:pt x="2710" y="746"/>
                </a:cubicBezTo>
                <a:cubicBezTo>
                  <a:pt x="2816" y="740"/>
                  <a:pt x="2923" y="740"/>
                  <a:pt x="3030" y="737"/>
                </a:cubicBezTo>
                <a:cubicBezTo>
                  <a:pt x="3165" y="698"/>
                  <a:pt x="3192" y="700"/>
                  <a:pt x="3372" y="693"/>
                </a:cubicBezTo>
                <a:cubicBezTo>
                  <a:pt x="3491" y="677"/>
                  <a:pt x="3585" y="649"/>
                  <a:pt x="3707" y="640"/>
                </a:cubicBezTo>
                <a:cubicBezTo>
                  <a:pt x="3778" y="612"/>
                  <a:pt x="3647" y="661"/>
                  <a:pt x="3814" y="623"/>
                </a:cubicBezTo>
                <a:cubicBezTo>
                  <a:pt x="3939" y="593"/>
                  <a:pt x="3882" y="589"/>
                  <a:pt x="4057" y="579"/>
                </a:cubicBezTo>
                <a:cubicBezTo>
                  <a:pt x="4154" y="551"/>
                  <a:pt x="4197" y="549"/>
                  <a:pt x="4316" y="543"/>
                </a:cubicBezTo>
                <a:cubicBezTo>
                  <a:pt x="4293" y="535"/>
                  <a:pt x="4233" y="529"/>
                  <a:pt x="4225" y="526"/>
                </a:cubicBezTo>
                <a:cubicBezTo>
                  <a:pt x="4217" y="523"/>
                  <a:pt x="4240" y="518"/>
                  <a:pt x="4247" y="517"/>
                </a:cubicBezTo>
                <a:cubicBezTo>
                  <a:pt x="4275" y="513"/>
                  <a:pt x="4303" y="511"/>
                  <a:pt x="4331" y="508"/>
                </a:cubicBezTo>
                <a:cubicBezTo>
                  <a:pt x="4303" y="505"/>
                  <a:pt x="4275" y="504"/>
                  <a:pt x="4247" y="499"/>
                </a:cubicBezTo>
                <a:cubicBezTo>
                  <a:pt x="4240" y="498"/>
                  <a:pt x="4221" y="499"/>
                  <a:pt x="4225" y="491"/>
                </a:cubicBezTo>
                <a:cubicBezTo>
                  <a:pt x="4230" y="480"/>
                  <a:pt x="4245" y="485"/>
                  <a:pt x="4255" y="482"/>
                </a:cubicBezTo>
                <a:cubicBezTo>
                  <a:pt x="4318" y="494"/>
                  <a:pt x="4297" y="507"/>
                  <a:pt x="4346" y="526"/>
                </a:cubicBezTo>
                <a:cubicBezTo>
                  <a:pt x="4398" y="511"/>
                  <a:pt x="4453" y="470"/>
                  <a:pt x="4506" y="464"/>
                </a:cubicBezTo>
                <a:cubicBezTo>
                  <a:pt x="4552" y="460"/>
                  <a:pt x="4598" y="458"/>
                  <a:pt x="4643" y="455"/>
                </a:cubicBezTo>
                <a:cubicBezTo>
                  <a:pt x="4690" y="420"/>
                  <a:pt x="4742" y="423"/>
                  <a:pt x="4795" y="411"/>
                </a:cubicBezTo>
                <a:cubicBezTo>
                  <a:pt x="4834" y="382"/>
                  <a:pt x="4813" y="403"/>
                  <a:pt x="4849" y="341"/>
                </a:cubicBezTo>
                <a:cubicBezTo>
                  <a:pt x="4854" y="332"/>
                  <a:pt x="4864" y="314"/>
                  <a:pt x="4864" y="314"/>
                </a:cubicBezTo>
                <a:cubicBezTo>
                  <a:pt x="4803" y="279"/>
                  <a:pt x="4742" y="285"/>
                  <a:pt x="4674" y="279"/>
                </a:cubicBezTo>
                <a:cubicBezTo>
                  <a:pt x="4490" y="287"/>
                  <a:pt x="4499" y="279"/>
                  <a:pt x="4384" y="306"/>
                </a:cubicBezTo>
                <a:cubicBezTo>
                  <a:pt x="4293" y="303"/>
                  <a:pt x="4202" y="303"/>
                  <a:pt x="4110" y="297"/>
                </a:cubicBezTo>
                <a:cubicBezTo>
                  <a:pt x="4103" y="297"/>
                  <a:pt x="4126" y="288"/>
                  <a:pt x="4133" y="288"/>
                </a:cubicBezTo>
                <a:cubicBezTo>
                  <a:pt x="4187" y="288"/>
                  <a:pt x="4240" y="294"/>
                  <a:pt x="4293" y="297"/>
                </a:cubicBezTo>
                <a:cubicBezTo>
                  <a:pt x="4391" y="282"/>
                  <a:pt x="4444" y="268"/>
                  <a:pt x="4552" y="262"/>
                </a:cubicBezTo>
                <a:cubicBezTo>
                  <a:pt x="4601" y="247"/>
                  <a:pt x="4610" y="232"/>
                  <a:pt x="4651" y="200"/>
                </a:cubicBezTo>
                <a:cubicBezTo>
                  <a:pt x="4609" y="188"/>
                  <a:pt x="4562" y="193"/>
                  <a:pt x="4521" y="174"/>
                </a:cubicBezTo>
                <a:cubicBezTo>
                  <a:pt x="4514" y="171"/>
                  <a:pt x="4516" y="156"/>
                  <a:pt x="4514" y="147"/>
                </a:cubicBezTo>
                <a:cubicBezTo>
                  <a:pt x="4141" y="166"/>
                  <a:pt x="4291" y="156"/>
                  <a:pt x="4065" y="174"/>
                </a:cubicBezTo>
                <a:cubicBezTo>
                  <a:pt x="4015" y="182"/>
                  <a:pt x="3972" y="194"/>
                  <a:pt x="3920" y="174"/>
                </a:cubicBezTo>
                <a:cubicBezTo>
                  <a:pt x="3911" y="171"/>
                  <a:pt x="3935" y="160"/>
                  <a:pt x="3943" y="156"/>
                </a:cubicBezTo>
                <a:cubicBezTo>
                  <a:pt x="3951" y="152"/>
                  <a:pt x="3958" y="150"/>
                  <a:pt x="3966" y="147"/>
                </a:cubicBezTo>
                <a:cubicBezTo>
                  <a:pt x="3918" y="110"/>
                  <a:pt x="3968" y="135"/>
                  <a:pt x="3935" y="77"/>
                </a:cubicBezTo>
                <a:cubicBezTo>
                  <a:pt x="3812" y="86"/>
                  <a:pt x="3702" y="113"/>
                  <a:pt x="3578" y="121"/>
                </a:cubicBezTo>
                <a:cubicBezTo>
                  <a:pt x="3524" y="128"/>
                  <a:pt x="3477" y="135"/>
                  <a:pt x="3425" y="156"/>
                </a:cubicBezTo>
                <a:cubicBezTo>
                  <a:pt x="3342" y="188"/>
                  <a:pt x="3248" y="162"/>
                  <a:pt x="3159" y="165"/>
                </a:cubicBezTo>
                <a:cubicBezTo>
                  <a:pt x="2928" y="254"/>
                  <a:pt x="2813" y="169"/>
                  <a:pt x="2544" y="191"/>
                </a:cubicBezTo>
                <a:cubicBezTo>
                  <a:pt x="2445" y="200"/>
                  <a:pt x="2305" y="198"/>
                  <a:pt x="2260" y="187"/>
                </a:cubicBezTo>
                <a:cubicBezTo>
                  <a:pt x="2172" y="153"/>
                  <a:pt x="2149" y="194"/>
                  <a:pt x="2056" y="195"/>
                </a:cubicBezTo>
                <a:cubicBezTo>
                  <a:pt x="1964" y="187"/>
                  <a:pt x="1913" y="188"/>
                  <a:pt x="1880" y="175"/>
                </a:cubicBezTo>
                <a:cubicBezTo>
                  <a:pt x="1790" y="181"/>
                  <a:pt x="1677" y="212"/>
                  <a:pt x="1591" y="191"/>
                </a:cubicBezTo>
                <a:cubicBezTo>
                  <a:pt x="1548" y="181"/>
                  <a:pt x="1503" y="186"/>
                  <a:pt x="1460" y="175"/>
                </a:cubicBezTo>
                <a:cubicBezTo>
                  <a:pt x="1435" y="185"/>
                  <a:pt x="1426" y="155"/>
                  <a:pt x="1401" y="165"/>
                </a:cubicBezTo>
                <a:cubicBezTo>
                  <a:pt x="1252" y="156"/>
                  <a:pt x="1118" y="135"/>
                  <a:pt x="967" y="130"/>
                </a:cubicBezTo>
                <a:cubicBezTo>
                  <a:pt x="926" y="125"/>
                  <a:pt x="836" y="116"/>
                  <a:pt x="799" y="103"/>
                </a:cubicBezTo>
                <a:cubicBezTo>
                  <a:pt x="798" y="103"/>
                  <a:pt x="754" y="62"/>
                  <a:pt x="746" y="59"/>
                </a:cubicBezTo>
                <a:cubicBezTo>
                  <a:pt x="686" y="39"/>
                  <a:pt x="609" y="39"/>
                  <a:pt x="548" y="33"/>
                </a:cubicBezTo>
                <a:cubicBezTo>
                  <a:pt x="523" y="22"/>
                  <a:pt x="497" y="17"/>
                  <a:pt x="472" y="6"/>
                </a:cubicBezTo>
                <a:cubicBezTo>
                  <a:pt x="441" y="9"/>
                  <a:pt x="411" y="11"/>
                  <a:pt x="381" y="15"/>
                </a:cubicBezTo>
                <a:cubicBezTo>
                  <a:pt x="353" y="15"/>
                  <a:pt x="325" y="0"/>
                  <a:pt x="306" y="4"/>
                </a:cubicBezTo>
                <a:close/>
              </a:path>
            </a:pathLst>
          </a:custGeom>
          <a:gradFill rotWithShape="0">
            <a:gsLst>
              <a:gs pos="0">
                <a:srgbClr val="c8ddda"/>
              </a:gs>
              <a:gs pos="100000">
                <a:srgbClr val="91bbb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41EF-0605-4502-97B6-8036535F2C10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671400" algn="ctr">
              <a:spcBef>
                <a:spcPts val="601"/>
              </a:spcBef>
              <a:buClr>
                <a:srgbClr val="657a56"/>
              </a:buClr>
              <a:buSzPct val="65000"/>
              <a:buFont typeface="Wingdings 2" charset="2"/>
              <a:buChar char="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023840" algn="ctr">
              <a:spcBef>
                <a:spcPts val="499"/>
              </a:spcBef>
              <a:buClr>
                <a:srgbClr val="598779"/>
              </a:buClr>
              <a:buSzPct val="70000"/>
              <a:buFont typeface="Wingdings 2" charset="2"/>
              <a:buChar char="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341360" algn="ctr">
              <a:spcBef>
                <a:spcPts val="499"/>
              </a:spcBef>
              <a:buClr>
                <a:srgbClr val="657a56"/>
              </a:buClr>
              <a:buSzPct val="75000"/>
              <a:buFont typeface="Wingdings 2" charset="2"/>
              <a:buChar char="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재가복지센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노인재가시설의 설치 현황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주간보호사업기관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260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여개소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단기보호사업기관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70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여개소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가정봉사원파견기관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490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개소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재가복지센터의 시설별 사업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회복지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저소득층 가정 대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애인복지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애인에 대한 순회 재활 서비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복지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독노인세대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거동불편 노인 재가복지서비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한국사회복지관협회와 지방 시도사회복지협의회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재가복지를 위한 자원봉사자 양성과 공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재가복지봉사센터의 기능과 역할</a:t>
            </a: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기본운영원칙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기능과 역할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조사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진단의 역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서비스 제공의 역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지역사회자원 동원 및 활용의 역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사업평가의 역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교육기관의 역할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자원봉사자 및 지역주민 대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지역사회 연대의식 고취의 역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기본운영원칙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적극성의 원칙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서비스 대상자의 요청을 기다리지 않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능률성의 원칙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연계성의 원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자립성의 원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재가복지봉사센터의 구성 요건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운영 주체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정부기관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회복지법인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복지공사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주택공사 등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협동조합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기업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전문 인력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유급 가정봉사원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(home helper=&gt;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요양보호사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회복지사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상호조정 역할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기타 전문가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재정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정부보조금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노인수발보장제도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프로그램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방문간호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간병인 프로그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가사원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식사제공서비스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밑반찬배달서비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시락배달서비스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목욕서비스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이동목욕서비스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세탁서비스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재가복지서비스의 내용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가사서비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간병서비스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정서적 서비스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결연서비스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의료서비스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자립지원서비스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주민교육서비스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기타 사회복지관내 시설을 활용한 서비스 등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적극적인 재가복지서비스 활동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SzPct val="1176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예방적인 재가복지서비스 프로그램을 병행하는 역할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176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적극적인 재가복지서비스 추진의 역할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이용자 발굴 및 활동 참여 유도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176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재가복지봉사센터의 자원봉사인력을 개발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훈련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업무배정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사후관리하는 역할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176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지역사회 내에서 후원자를 개발․관리하여 재가복지서비스 대상자에게 연결시켜 주는 역할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176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재가복지봉사센터의 업무내용을 지역사회 내에 홍보하는 역할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176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재가복지서비스 대상자들의 자립을 위한 훈련과 자조그룹을 조직하는 역할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176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재가복지봉사센터 업무의 비용편익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비용효과를 분석하는 평가의 역할 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재가복지의 개요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SzPct val="1176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재가복지봉사센터 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지역사회에서 일정한 시설과 전문인력 및 자원봉사자를 갖추고 필요한 재가복지서비스를 제공하는 사회복지시설을 말함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176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재가복지 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재가를 중심으로 통원으로 또는 집에서 서비스를 제공받는 것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176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재가복지서비스 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도움이 필요한 사람이 가정에서 도움을 받을 수 있도록 한 것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가족의 약화된 부분을 보완하는 보충적 서비스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176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제도화 과정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사회복지관 설치∙운영 규정 내 재가복지서비스 프로그램 규정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1989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재가복지센터 설치 ∙운영 지침 제정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1992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요양보호사제도 제도화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2008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재가복지서비스의 구성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전문적 재가서비스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의료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간호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재활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상담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재가서비스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가사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신변의 원조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정서적 안정 서비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예방적 재가서비스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요보호 대상자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일반주민 대상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건강교육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조기 검진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식생활 및 주생활 개선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장애인 발생 예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복지 증진 서비스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아동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장애인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노인의 사회참여 활동 촉진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여가활동 지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재가복지서비스의 원칙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효과성 원칙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서비스가 클라이언트의 욕구에 알맞게 대처해야 한다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효율성 원칙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자원을 유효 적절하게 이용하도록 해야 한다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공평성 원칙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필요한 사람에게 서비스가 적절히 전달되어야 한다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접근성 원칙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서비스를 언제라도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가까이서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손쉽게 이용할 수 있어야 한다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권리성 원칙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이용자가 선택할 수 있는 권리가 보장되어야 하고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소비자의 주권이 확립되어야 한다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화폐적 욕구와 비화폐적 욕구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폐적 욕구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현금이나 현물에 관한 욕구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비화폐적 욕구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현금이나 현물 외의 사회사업서비스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완적 욕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sidual need) 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족성원 상호간의 연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로 일상생활의 모든 면을 충족하는 욕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 욕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ocial need) 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족성원의 유무에 관계없이 사회적인 지원체계망에 의해 해결책을 구하는 욕구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&gt;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재가복지서비스 필요성 증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재가복지의 등장배경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시설복지에 대한 부정적인 면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시설병 예방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시설 개선을 위한 탈시설화 이론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가족 부양에 대한 사회적 변화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다양한 복지시설에서 책임을 갖고 부양 담당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정부의 예산 한계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시설 입소에 따른 비용 증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재가복지서비스의 유의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이용자 욕구에 대한 재가복지서비스의 적절성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서비스의 내용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프로그램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의 발전과 장래성이 있는지의 여부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주민들의 자발적인 참여와 조직화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운영주체에 대한 분석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대상자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범위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프로그램이 달라지기 때문에 운영조직의 구성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조직과정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주민참여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이용자들의 참여도를 고려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공공기관 및 민간단체 간의 협력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공공기관과 민간단체 간에 책임의 한계를 분명히 하여야 하며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공공기관과 민간기관이 공동으로 대처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노인장기요양보험제도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2008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월 노인장기요양보험제도가 실시됨에 따라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기존의 노인재가복지시설로 되어 있던 가정봉사원파견시설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주간보호시설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단기보호시설의 명칭이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방문요양서비스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방문목욕서비스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주야간보호서비스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단기보호서비스 등 재가노인복지시설 명칭을 통일하고 서비스 종류로 구분하는 것으로 변경됨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노인</a:t>
            </a: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재가복지의 </a:t>
            </a: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대 핵심 사업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SzPct val="1176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주간보호사업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요보호노인의 증가에 효율적으로 대처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보호제공자의 수고와 노력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동년배와의 교류 및 접촉 증가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고립 예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심신의 기능을 유지 또는 향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176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단기보호서비스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부양의무자가 병이나 여행 또는 개인적인 일로 보호를 할 수 없을 때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176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가정봉사원 파견사업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여러 가지로 도움이 필요한 노인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장애인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아동의 가정에 가정봉사원을 파견하여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다양한 재가서비스를 제공하는 사업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1987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년 한국노인복지회에서 처음 시작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서울 가정도우미 사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요양보호사 파견사업으로 제도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06:37:48Z</dcterms:created>
  <dc:creator>^^</dc:creator>
  <dc:description/>
  <dc:language>en-US</dc:language>
  <cp:lastModifiedBy>^^</cp:lastModifiedBy>
  <dcterms:modified xsi:type="dcterms:W3CDTF">2009-08-26T06:50:55Z</dcterms:modified>
  <cp:revision>2</cp:revision>
  <dc:subject/>
  <dc:title>재가복지센터</dc:title>
</cp:coreProperties>
</file>