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A1A-32C8-4646-95E4-F3C60208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D38-1364-4C67-98AC-27CF2443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8B4A-9EA0-45FF-9FBC-9F1FF743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067-406E-42A6-BC5C-FA31B918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DBF9-F252-4869-9B8B-4067248D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650A-2DF3-4B12-A9C3-5F9F072B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475A-A270-4A3E-95EC-3B1FB357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E0AF-FD4A-4B9D-B1F8-CACFAFD5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D6AA-5D83-4A87-AD43-3386EBB1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8DCA-9C34-484D-A847-E8E43103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99F0-DA7C-4ECD-AE4E-A7C1C9C0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5D8-01E3-4B1A-8387-AAA95BB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CE18-7078-4AB1-93C7-96A9AAED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A311-2A73-49DC-9322-4A3AB77E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08A8-98B6-43B3-9FB0-DF82F085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597-A11C-4ED9-A9D8-44B74070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0B1A-D6BD-4686-BBD2-24986582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1601-1726-48F2-9F45-BB68FA42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4A8-0E0F-45F2-B1EC-80C506FD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9F9-DF15-4BC5-B3BF-7BDB3E6E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1E9-7A82-4AE7-A6A5-A7F15C91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467-9B0F-4D3E-94D2-C55EA665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577-15D3-46F6-9EE3-BADE3C9E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AD3-2244-4942-9A7B-DA01E81A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D46E-3609-487C-B946-21DBF8B2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0A89-95E3-46BA-89A6-F68402C6A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굴림"/>
              </a:rPr>
              <a:t>사회복지협의회와 지역사회복지협의체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협의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복지협의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사회복지협의체의 개요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75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추진 경과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675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2003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년 사회복지사업법 개정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조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에 따라 설치근거 마련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675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2005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31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일 본격적인 시행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75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조직 구성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675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대표협의체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사회복지 및 보건의료 학식과 경험 풍부한 자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기관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단체 대표자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공익단체에서 추천한 자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공무원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675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실무협의체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각 기관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단체 실무자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공무원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75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조직구성의 특징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민관 협력체계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광범위한 참여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다층적 구성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실무협의체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사회복지협의체의 기본 원칙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성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관할지역 내의 사회복지현안에 집중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참여성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공과 민간의 적극적이고 자발적인 참여가 선행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내에서 대표성을 가진 참여가 전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협의성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네트워크형 조직구조를 통해 당면한 지역사회복지 시스템 구축의 현안을 해결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사회복지협의체의 기능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75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사회복지부문의 중요사항 심의기능 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관할지역 내 사회복지사업에 관한 중요사항과 지역사회복지계획을 심의하고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개선이 필요한 사항을 시장․군수․구청장에 건의 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75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서비스 부문간 연계 강화기능 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사회복지∙보건의료서비스의 연계․협력을 강화하기 위한 민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관협력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보건 등 관련부문간 연계 및 협력 강화 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75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굴림"/>
              </a:rPr>
              <a:t>지역사회 복지자원의 개발과 발굴기능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협의체 기능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(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법적 조항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복지계획의 심의 및 건의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․보건의료 관련 기관․단체가 제공하는 사회복지서비스 및 보건의료서비스의 연계․협력 제고를 위한 건의 및 공동 사업시행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의 복지문제 전반에 대한 협의 및 건의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복지자원의 개발과 관련된 협의 및 건의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협의된 사항의 시행에 대한 모니터링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타 지역사회복지에 관한 정책건의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사회복지협의체 기능체계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3454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역사회복지협의체 구조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8434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대표협의체 구성 사례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지방자치단체의 대표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시‧군‧구 자치단체장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보건 및 관련영역 공공부문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담당국장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군지역 과장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보건소장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이용시설 대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종합사회복지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복지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원봉사센터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활지원센터 등 지역사회에 소재하는 사회복지이용시설의 시설장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생활시설 대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노인양로 및 요양시설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장애인생활시설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영․육아생활시설 등 사회복지관련 유․무료 입소시설의 시설장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고용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주거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문화분야 등 관련영역 대표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고용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주거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문화 분야 등 관련 영역의 대표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지역사회 내 관련 전문가로서 학계 및 연구기관 종사자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공익단체에서 추천 및 공모한 자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주민조직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부녀회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노인회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원봉사회 등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의 대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공익단체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환경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경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고용 관련 단체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및 사회복지 활동에 참여하는 종교계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협의회 대표 등    ∙ 실무협의체 대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실무협의체 위원장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상근간사는 협의체를 지원하는 대상으로 협의체 간의 연계기능을 함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대표 협의체 구성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2643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실무협의체 구성 사례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보건 및 관련영역 공공부문 실무자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담당과장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군지역 계장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보건소담당계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장 등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이용시설 실무자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종합사회복지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복지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원봉사센터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ㅈ역자활센터 등 지역사회에 소재하는 사회복지이용시설의 실무자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생활시설 실무자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노인양로 및 요양시설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장애인생활시설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영․육아생활시설 등 사회복지관련 유․무료 입소시설의 실무자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고용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주거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문화분야 등 관련영역 실무자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고용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주거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문화 분야 등 관련 영역의 실무자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지역사회 내 관련 전문가로서 학계 및 연구기관 종사자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공익단체에서 추천 및 공모한 자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주민조직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부녀회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노인회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자원봉사회 등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의 실무자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공익단체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환경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경제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고용 관련 단체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및 사회복지 활동에 참여하는 종교계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사회복지협의회 실무자등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실무분과 위원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각 실무분과의 대표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476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ko-KR" sz="1900" spc="-1" strike="noStrike">
                <a:solidFill>
                  <a:srgbClr val="000000"/>
                </a:solidFill>
                <a:latin typeface="굴림"/>
              </a:rPr>
              <a:t>상근간사는 협의체를 지원하는 대상으로 협의체 간의 연계기능을 함 </a:t>
            </a:r>
            <a:endParaRPr b="0" lang="en-US" sz="1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실무협의체 구성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12144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기관의 유형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차적인 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primary setting)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을 대상으로 직접적인 서비스를 수행하는 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장애인복지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노인복지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생활시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그룹홈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아동상담소 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차적인 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secondary setting)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각종 협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연합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단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차적 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council)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협의회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차적인 서비스기관과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차적인 협회나 단체를 총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실무분과 구성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(</a:t>
            </a: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례</a:t>
            </a: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4007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협의회의 정의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여러 기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단체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시설들이 함께 모여 지역사회의 사회복지문제를 함께 협의하고 조정하는 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조직과 사회복지행정의 이론을 근거로 설립되어 수행하는 기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복지 활동을 추진하기 위해 사회복지협의회가 존재한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사회복지협의회는 관청이 아니며 민간단체이다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또한 주민 주체의 운동단체이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협의회의 성격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욕구의 기본 원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 활동 주체 원칙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주적인 활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민간성 원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사 협동 원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문성 원칙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사 계획 등에 관련하여 전문성을 발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협의회의 기능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민 욕구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복지 과제의 명확화 및 주민활동의 추진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공사 사회복지사업 등의 조직화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연락 조정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복지활동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업의 기획 및 실시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조사 연구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발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계획 책정 및 제언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선 운동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계발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복지 활동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업의 지원 기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협의회의 조직화 현황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한국사회복지협의회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52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최초 설립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1983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사회복지사업법 개정 법정단체로 규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6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 시도 광역단위 지방사회복지협의회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98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사회복지사업법 개정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법인 인정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독립 운영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군구 사회복지협의회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95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원주시 최초 조직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2003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사회복지사업법 개정에 따라 사회복지법인 인정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독립 운영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협의회와 재정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회복지협의회 운영비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무국 운영비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직원 인건비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업 추진비 등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원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자체의 보조금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공동모금회의 지원금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회비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후원금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수익사업비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자체의 이해도에 따라 일부 정부보조금을 지원받기도 하거나 못 받기도 함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정자립 방안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도력있는 민간인의 참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이사회의 정례화와 역할 분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새로운 복지과제에 민첩하게 대응할 수 있는 운영회의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전문성을 가진 사무국 직원의 충원과 계속적 교육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굴림"/>
              </a:rPr>
              <a:t>기초자치단체 사회복지협의회 참여 구성원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 전문가 집단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시설 및 기관에 종사하는 복지 전문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시설 및 단체 등 사회복지법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민 사회단체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치인 등 지역사회 인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민자치조직 등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관계 공무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전문요원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타 지역복지 발전에 필요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관심있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단체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굴림"/>
              </a:rPr>
              <a:t>지방사회복지협의회의 활성화 과제</a:t>
            </a:r>
            <a:endParaRPr b="1" lang="en-US" sz="32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복지계획의 수립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가복지서비스의 운영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홈헬프서비스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급식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입욕서비스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주간서비스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복지활동의 기초를 이루는 조직화 활동 강화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자원봉사자의 조직화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클라이언트 가족의 조직화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케어 시스템 조성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소지역 원조활동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위원 설치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교육의 추진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소지역 간담회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연수강좌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상담활동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정보 제공 활동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종합상담창구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정보 수집 제공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뉴스 정보 발견 시스템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협동활동의 촉진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시설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보건의료기관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전문요원 아동위원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등에 초점을 맞추어 활동 추진 시도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5:42:10Z</dcterms:created>
  <dc:creator>SEC</dc:creator>
  <dc:description/>
  <dc:language>en-US</dc:language>
  <cp:lastModifiedBy>^^</cp:lastModifiedBy>
  <dcterms:modified xsi:type="dcterms:W3CDTF">2009-08-26T07:21:17Z</dcterms:modified>
  <cp:revision>10</cp:revision>
  <dc:subject/>
  <dc:title>사회복지협의회와 지역사회복지협의체</dc:title>
</cp:coreProperties>
</file>