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3228-FBC5-43C8-B092-E93D5E3A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A90-110F-4D76-8AB1-0AFC07B0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7C7-F560-4134-B02C-EB08F44D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F5F4-6625-4F9D-937E-576BA81E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97F6-87FD-48BC-88A7-6DBE15FB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74E2-CFFE-47B6-B579-E5B88510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C75A-05B2-4E8A-9D7A-428BF35F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24D1-855D-46C8-9392-40232112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8009-3C0B-4E64-B469-EEDA431F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C7AE-DAAD-42EE-9D94-F5062002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C659-F92C-4886-8A43-EB3BADC7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A42-C5CE-4925-A452-214633C6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B9F4-7171-4B3B-A159-61F5E34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EC3D-AB38-4E27-B1D7-F91FB23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B391-B145-4F33-9715-D1F9427C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77DE-F827-4BBC-B6B1-742EA741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D5B40-1DC8-4F00-8896-EB26C2F3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E19-D326-4448-84D2-B551C461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F4E6-9B83-44B1-8CA7-4A7F3477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69B-6DEB-4E90-AE26-E579FFCA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43A-7C27-42A0-AB4C-1DA69529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E6F-20CA-4B50-9835-08ECB13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B93-F97A-448B-BD6A-7CC8B95D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93D-2A91-4451-B8C4-29A4EC7B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3963-6640-4198-8218-7E68482018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8414-F3DD-4D4B-9662-B0734EFBB0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사회복지공동모금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84072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공동모금의 의의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동모금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사업의 필요한 재원을 조성하기 위하여 전국 또는 지역을 단위로 제도권 내에서 기부금품을 널리 모집하는 것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공동모금회법 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필요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산발적인 자선모금 활동 줄이고 제도적 틀 안에서 민간자원 동원 방법으로 인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동체 의식 함양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역문제에 대한 주민 참여 유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관들에게 복지 재원 분배의 기회 제공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서비스 수준 향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복지사업에 대한 국민 일반 인식 개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복지 발전을 위한 정부와 민간의 동반자 관계 형성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사회복지공동모금의 발전과정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95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기부금품모집금지법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민간의 모금 통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970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사회복지사업법 제정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공동모금에 관한 조항 포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97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한국사회복지공동모금회 구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983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사회복지사업법 개정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동모금 조항 삭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부기관 주도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불우이웃돕기운동 전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민간의 자발적 성금을 정부가 관리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비합리적 기금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996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기부금품모집규제법으로 개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997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사회복지공동모금법 제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1999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사회복지공동모금회법으로 개정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부주도 모금의 폐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민간의 자율성 확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사회복지공동모금회의 네 가지 기능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기획의 기능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기획분과실행위원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홍보의 기능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홍보분과실행위원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모금의 기능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모금분과실행위원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배분의 기능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배분분과실행위원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 중 가장 중요한 기능은 배분의 기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모금의 방법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말캠페인 모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집중모금기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개월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합모금 방법 전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급 자동공제모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매월 월급에서 일정액을 모금회에 기부금으로 납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장 중심 모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이나 단체의 구성원들이 모금 자원봉사자가 되어 자체적으로 모금 행사를 기획하고 금품을 거두어 기부금 전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벤트 모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포츠 이벤트 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두모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호별 모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랑의 봉투 모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각 가정별로 소정의 후원금 모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십자사회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배분의 기본 원칙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문성과 경험을 갖춘 시민들이 각종 배분실행위원회에 참여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투명성 확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앙에서 지방으로의 배분원칙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방모금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에 인센티브를 제공할 수 있는 배분이 되어야 함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모금 액수에 비례해서 차등 배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역별로 문제성있는 사업에 중점 지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생활시설 배분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생활시설 입소자들을 위한 월동대책비로 지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가의 책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배분 비율 감소 추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생활시설에 대한 지원금 신청과 심사는 일반 프로그램 신청과는 별도로 진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역에서 대규모의 영향력 있는 시설이 많은 자원 할당을 받을 가능성이 높고 그것이 관행화될 우려가 있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프로그램 배분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프로그램 신청의 범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생활시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용시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 시민단체 확대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프로그램의 신청 및 심사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프로그램 신청 접수 후 배분분과실행위원회와 운영위원회 심의를 통해 실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업 계획 작성 및 배분 시기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민간 재원의 수요를 파악하여 구체적인 배분 계획을 수립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합리적이고 객관적인 배분 방법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공공기금 사용에 대한 투명성 확보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업 내용의 적절성 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공동모금의 활성화 방안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말 이웃돕기 모금 기간을 위해 철저한 준비와 전략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말 집중모금기간을 활용하여 스포츠와 관련된 이벤트 모금을 기획 실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벤트 모금을 통하여 지역에서 선정한 사업에 지정기탁기부제도 확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말 이웃돕기모금에 적극 참여한 기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설에게 기여도에 따라 인센티브를 제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모금 전문가와 모금 자원봉사자 육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공동모금회의 직원들의 전문성 제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6:16:12Z</dcterms:created>
  <dc:creator>SEC</dc:creator>
  <dc:description/>
  <dc:language>en-US</dc:language>
  <cp:lastModifiedBy>^^</cp:lastModifiedBy>
  <dcterms:modified xsi:type="dcterms:W3CDTF">2009-08-27T06:47:52Z</dcterms:modified>
  <cp:revision>4</cp:revision>
  <dc:subject/>
  <dc:title>사회복지공동모금회</dc:title>
</cp:coreProperties>
</file>