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5D95-F06A-408F-9077-4D8A0D08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7E8D-ECC9-4374-8B53-52284723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2AA-B3F9-4DC3-8A00-FC1992DF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0A3-1014-4140-8685-ADE02E07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98E3-49E2-48F2-8FBE-535B0BD1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7A3B-08EB-46DE-9072-C7CD8CFD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FBCE-318F-4A48-ABC1-48BF6849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4BC5-7682-48B9-8932-F825AE2B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7732-7453-43C4-8912-632EEE59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8A9-28B7-4377-843A-D5876215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0D7F-99AB-4CC8-B340-A52E1378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5C6-A22C-406B-8880-CD38B32C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B058-4AAC-4CE8-8ED0-3019090A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17647-EDCC-47E5-A510-BA55D2D4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B56A-A2D4-4E74-9390-F39A1C8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698E-1E43-4618-9586-E3F40927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67C4-A1F3-4ABE-88A8-AB758D7A8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B1E1-3055-463A-A825-6D053456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BC5-B1CA-4B46-9320-0280BF00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594E-482D-4E29-A9C7-BB365325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3FD-9080-4C49-9995-70BDFBE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22B-5907-400D-BE70-352484E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7DE-609C-483B-99B4-D9217280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768-A50D-48A1-8BED-B44230C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186C-3C94-4A30-A2CF-D5771A6296F5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4BAD-E500-4CD7-8AF6-23D50D3E1A41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과 지역자활센터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사회적 일자리형 자활근로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적 일자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적 유용성을 가지고 있으나 수익성 때문에 시장에서 공급되지 못하는 사회서비스 분야의 일자리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업의 수익성은 떨어지나 사회적으로 유용한 일자리 제공으로 참여자의 자활능력 개발과 의지를 고취하여 향후 시장진입을 준비하는 사업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업 내용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적 일자리형 자활근로사업단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활사업 도우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복지 도우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복지시설 도우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보육지원 도우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급식 도우미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인턴형 자활근로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반기업체에서 자활사업대상자가 자활인턴사원으로 근로를 하면서 기술․경력을 쌓은 후 취업을 통한 자활을 도모하는 취업유도형 자활근로사업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수급자의 자활유도가 용이한 기술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용접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․미용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요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운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과․제빵 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습득이 가능한 업체에 인턴으로 참여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시장진입형 자활근로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투입예산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20%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상 수익금이 발생하고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정기간 내에 자활공동체 창업을 통한 시장진입을 지향하는 사업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 전국표준화사업으로 지정한 간병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집수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청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폐자원재활용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음식물재활용사업을 중점사업으로 추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실정에 맞는 특화된 사업을 적극 개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영농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도시락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세차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환경정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공동체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인 이상의 수급자 또는 저소득층이 상호․협력하여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조합 또는 공동사업자의 형태로 탈빈곤을 위한 자활사업을 운영하는 업체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원내용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동창업의 형식을 통해 시장에 진입할 수 있도록 지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사회자원과의 적극적인 연계를 통해 안정적인 일감을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상호출자의 조합방식 운영을 통해 공동체에 대한 소속감을 높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미래의 창업에 대한 비전 제시로 상대적인 저임금 등 제약요인을 극복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구체적 지원방식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자활을 위한 사업자금의 융자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국․공유지 우선 임대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국가 또는 지방자치단체가 실시하는 사업의 우선 위탁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국가 또는 지방자치단체의 조달구매 시 공동체 생산품의 우선 구매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자활센터 개요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념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근로능력 있는 저소득층에게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집중적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체계적인 자활지원서비스를 제공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자활의욕 고취 및 자립능력 향상을 지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초수급자 및 차상위계층의 자활촉진에 필요한 사업을 수행하는 민간자활사업실시기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1996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 자활지원센터로부터 출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소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-&gt; 2006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242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청소년자활지원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저소득층 청소년 등을 대상으로 취업 및 자활을 위한 지속적인 지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건전한 문화공간 제공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200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2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소 확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자활센터의 주요 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활의욕 고취를 위한 교육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활을 위한 정보제공․상담․직업교육 및 취업알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창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을 위한 자금융자 알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영창업 지원 및 기술․경영지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활공동체의 설립․운영지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서비스지원 사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장애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산모․신생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노인돌보미 바우처사업 등 사회서비스사업 위탁 수행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타 자활을 위한 각종 사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에서 해결해야 할 과제이면서 공익성이 강한 사회적 일자리를 적극적으로 개발하고 지원하는 사업을 추진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자활센터의 운영 원칙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참여주민 고유성과 존엄성의 원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민자발성의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독립성의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독립된 행정체계와 운영체계를 가짐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준시설 확보의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종합적인 서비스 제공에 적합한 일정한 규모의 기준시설 확보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가에 의한 사업수행의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현장 경험을 갖춘 전문적이고 헌신적인 인력에 의해 수행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 제반자원 활용의 원칙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업실행 평가의 원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의 의의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활사업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탈빈곤을 위한 사회복지정책으로서 지역사회 차원에서 공동으로 문제해결을 모색하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활의지를 고취시킴으로써 지역사회로의 통합과 사회적 연대를 강화하는 사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 자활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근로능력을 가진 빈곤층에 대해 지역사회에서 노동의 기회 및 다양한 서비스를 제공함으로써 빈곤으로부터 벗어나게 하려는 일련의 과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직적이고 체계적인 원조활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가 중요한 이유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빈곤과 실업이 존재하는 구체적 공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적 연대가 실현되는 구체적 공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의 유용한 서비스 제공 및 공공재 공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실천으로서의 의의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7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지역사회복지실천을 제도화하는 데 기여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빈민운동으로서의 자활사업이 법 제정을 통해 국가의 책임을 강화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7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지역사회의 자원동원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지역자활센터를 통해 지역사회에 있는 물적∙인적 자활을 활용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7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지역사회의 역량강화와 변화를 위한 지역사회조직화 사업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저소득층으로 하여금 노동에 참여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100" spc="-1" strike="noStrike">
                <a:solidFill>
                  <a:srgbClr val="000000"/>
                </a:solidFill>
                <a:latin typeface="굴림"/>
              </a:rPr>
              <a:t>지역문제 해결을 위한 네트워크 형성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의 역사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1999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국민기초생활보장법 공포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0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후견기관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50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개소 확대 지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1999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개소 →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0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70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개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시․군․구 자활기관협의체 구성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사업 실시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1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후견기관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157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개소로 확충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2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지방자치단체 자활사업 종합평가 실시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3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후견기관 자활사업 평가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4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근로사업 다양화 추진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취로․업그레이드형 → 시장진입․인턴․사회적일자리․근로유지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 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5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후견기관 규모별 차등지원제도 도입 시행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확대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표준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기본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특화․소규모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/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청소년자활지원관 신규지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3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개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6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중앙자활센터 설치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후견기관”을 “지역자활센터”로 명칭 변경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7. ‘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급여법안’ 제정 추진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2008. 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사업 프로그램 중 지역봉사 폐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지역에 따라 예외 인정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 대상자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건부 수급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근로능력 있는 수급자 중 자활사업 참여를 조건으로 생계급여를 받는 수급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활급여 특례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상위 계층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최저생계비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20%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하인 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※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무참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①, 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희망참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②③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※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수급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①②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※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참여우선순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①→②→③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 흐름도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34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자활사업 실시기관에 따른 자활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41708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디딤돌사업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(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적응 프로그램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근로능력은 있으나 근로의욕이 낮은 수급자 및 차상위계층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서비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문적인 상담 및 치료 등 사회적응에 필요한 서비스를 제공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례관리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내소상담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가정방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현장방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집단프로그램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알코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직업적응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근로의욕고취 및 사회적응교육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연계활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기관 방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근로유지형 자활근로사업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현재의 근로능력 및 자활의지를 유지하면서 향후 상위 자활사업 참여를 준비하는 형태의 사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대상자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노동강도가 낮은 사업참여가 가능하거나 간병․양육 등 가구여건상 관내 사업만이 가능한 자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주요 내용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노인․장애인 등에 대한 가사도우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환경정비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공공시설물관리 보조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31:16Z</dcterms:created>
  <dc:creator>^^</dc:creator>
  <dc:description/>
  <dc:language>en-US</dc:language>
  <cp:lastModifiedBy>^^</cp:lastModifiedBy>
  <dcterms:modified xsi:type="dcterms:W3CDTF">2009-08-27T07:41:54Z</dcterms:modified>
  <cp:revision>2</cp:revision>
  <dc:subject/>
  <dc:title>자활사업과 지역자활센터</dc:title>
</cp:coreProperties>
</file>