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0D74-CE17-4B12-A8FD-EDAA0936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ECA7-7442-4903-B5FA-52BF45BB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5E64-D82B-42D3-9A46-71C3B40A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662-7966-42A5-BCDC-DAE71EB7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7CA4-43B9-447E-89BE-536BC380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1784-FA35-48EA-8ADC-8F7AEF8F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62FC-32C6-43A4-9F25-2C54449C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F4D6-F089-41A3-8ED7-F9416575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C30B-513A-4DB9-9AFF-374397F4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DE63-B111-4F0B-AE9C-0414B4B6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1052-2456-4075-988C-B5C53842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C50F-03C7-4C33-9FE2-056E33B1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5D17-45D2-4215-B327-CA462CE8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35CF-7D81-4260-A866-88954BB8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2B0E-F31A-4DBC-ACB8-AE69F1C3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72FF-48CB-433E-904E-D51DC800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9971-8DA0-4C4F-8DD7-62EF66D0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2485-DE34-4897-80C5-D93B583F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617-5E52-4FD4-BDAD-196BD7A3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BEE-BFEB-442B-90F3-1D4124D7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34C3-9DE1-4B6C-A2E0-D20E3F21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082-6D4B-49FD-AB4A-844B9437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582-6D08-4D70-A433-AD42DBCF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A94-AE72-444C-ADC5-3746A661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733920"/>
          </a:xfrm>
          <a:prstGeom prst="rect">
            <a:avLst/>
          </a:prstGeom>
          <a:gradFill rotWithShape="0">
            <a:gsLst>
              <a:gs pos="0">
                <a:srgbClr val="b6d29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152280"/>
            <a:ext cx="8413920" cy="685800"/>
            <a:chOff x="152280" y="152280"/>
            <a:chExt cx="8413920" cy="685800"/>
          </a:xfrm>
        </p:grpSpPr>
        <p:sp>
          <p:nvSpPr>
            <p:cNvPr id="2" name=""/>
            <p:cNvSpPr/>
            <p:nvPr/>
          </p:nvSpPr>
          <p:spPr>
            <a:xfrm>
              <a:off x="3056040" y="46512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909880" y="557280"/>
              <a:ext cx="69840" cy="7128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752560" y="66528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49560" y="457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903400" y="549360"/>
              <a:ext cx="71640" cy="7128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440" y="657360"/>
              <a:ext cx="28872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56120" y="563400"/>
              <a:ext cx="33120" cy="3204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164040" y="569880"/>
              <a:ext cx="31680" cy="3168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214720" y="160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68560" y="252360"/>
              <a:ext cx="69840" cy="7164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911240" y="36036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208240" y="15228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062080" y="244440"/>
              <a:ext cx="71640" cy="7164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905120" y="352440"/>
              <a:ext cx="28872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14440" y="258840"/>
              <a:ext cx="33480" cy="3168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2360" y="264960"/>
              <a:ext cx="32040" cy="3204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01760" y="46512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55600" y="557280"/>
              <a:ext cx="69840" cy="7128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98640" y="665280"/>
              <a:ext cx="28872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95280" y="457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9480" y="549360"/>
              <a:ext cx="71280" cy="7128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92160" y="65736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401840" y="563400"/>
              <a:ext cx="33120" cy="3204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09760" y="569880"/>
              <a:ext cx="31680" cy="3168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61880" y="160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16080" y="252360"/>
              <a:ext cx="69840" cy="7164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58760" y="36036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55760" y="15228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09600" y="244440"/>
              <a:ext cx="71280" cy="7164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52280" y="35244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960" y="258840"/>
              <a:ext cx="33480" cy="3168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69880" y="264960"/>
              <a:ext cx="31680" cy="3204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967200" y="160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3821040" y="252360"/>
              <a:ext cx="69840" cy="7164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664080" y="360360"/>
              <a:ext cx="28872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960720" y="15228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3814920" y="244440"/>
              <a:ext cx="71280" cy="7164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657600" y="35244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067280" y="258840"/>
              <a:ext cx="33120" cy="3168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075200" y="264960"/>
              <a:ext cx="31680" cy="3204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805280" y="46512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659480" y="557280"/>
              <a:ext cx="69840" cy="7128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02160" y="66528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799160" y="457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53000" y="549360"/>
              <a:ext cx="71280" cy="7128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95680" y="65736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05360" y="563400"/>
              <a:ext cx="33480" cy="3204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13280" y="569880"/>
              <a:ext cx="31680" cy="3168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19680" y="160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3880" y="252360"/>
              <a:ext cx="69840" cy="7164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16560" y="36036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13560" y="15228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7400" y="244440"/>
              <a:ext cx="71280" cy="7164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10080" y="35244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819760" y="258840"/>
              <a:ext cx="33480" cy="3168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827680" y="264960"/>
              <a:ext cx="31680" cy="3204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58120" y="46512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411960" y="557280"/>
              <a:ext cx="69840" cy="7128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54640" y="66528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551640" y="457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5480" y="549360"/>
              <a:ext cx="71640" cy="7128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48520" y="657360"/>
              <a:ext cx="28872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657840" y="563400"/>
              <a:ext cx="33480" cy="3204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665760" y="569880"/>
              <a:ext cx="32040" cy="3168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72520" y="160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326360" y="252360"/>
              <a:ext cx="69840" cy="7164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69040" y="36036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466040" y="15228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19880" y="244440"/>
              <a:ext cx="71640" cy="7164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62920" y="352440"/>
              <a:ext cx="28872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572240" y="258840"/>
              <a:ext cx="33480" cy="3168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80160" y="264960"/>
              <a:ext cx="32040" cy="3204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310600" y="46512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64440" y="557280"/>
              <a:ext cx="69840" cy="7128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07480" y="665280"/>
              <a:ext cx="28872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304120" y="457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58320" y="549360"/>
              <a:ext cx="71280" cy="7128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01000" y="65736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410680" y="563400"/>
              <a:ext cx="33120" cy="3204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418600" y="569880"/>
              <a:ext cx="31680" cy="3168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838080" y="1143000"/>
            <a:ext cx="7696080" cy="533160"/>
            <a:chOff x="838080" y="1143000"/>
            <a:chExt cx="7696080" cy="533160"/>
          </a:xfrm>
        </p:grpSpPr>
        <p:sp>
          <p:nvSpPr>
            <p:cNvPr id="83" name=""/>
            <p:cNvSpPr/>
            <p:nvPr/>
          </p:nvSpPr>
          <p:spPr>
            <a:xfrm>
              <a:off x="838080" y="1447560"/>
              <a:ext cx="7426080" cy="112680"/>
            </a:xfrm>
            <a:custGeom>
              <a:avLst/>
              <a:gdLst/>
              <a:ahLst/>
              <a:rect l="l" t="t" r="r" b="b"/>
              <a:pathLst>
                <a:path w="4822" h="87">
                  <a:moveTo>
                    <a:pt x="4822" y="84"/>
                  </a:moveTo>
                  <a:lnTo>
                    <a:pt x="114" y="87"/>
                  </a:lnTo>
                  <a:lnTo>
                    <a:pt x="66" y="80"/>
                  </a:lnTo>
                  <a:lnTo>
                    <a:pt x="28" y="73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4" y="28"/>
                  </a:lnTo>
                  <a:lnTo>
                    <a:pt x="24" y="14"/>
                  </a:lnTo>
                  <a:lnTo>
                    <a:pt x="59" y="7"/>
                  </a:lnTo>
                  <a:lnTo>
                    <a:pt x="111" y="0"/>
                  </a:lnTo>
                  <a:lnTo>
                    <a:pt x="4812" y="0"/>
                  </a:lnTo>
                  <a:lnTo>
                    <a:pt x="4822" y="84"/>
                  </a:lnTo>
                  <a:close/>
                </a:path>
              </a:pathLst>
            </a:custGeom>
            <a:gradFill rotWithShape="0">
              <a:gsLst>
                <a:gs pos="0">
                  <a:srgbClr val="b6d29a"/>
                </a:gs>
                <a:gs pos="50000">
                  <a:srgbClr val="e5eedc"/>
                </a:gs>
                <a:gs pos="100000">
                  <a:srgbClr val="b6d2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8000640" y="1143000"/>
              <a:ext cx="533520" cy="533160"/>
              <a:chOff x="8000640" y="1143000"/>
              <a:chExt cx="533520" cy="533160"/>
            </a:xfrm>
          </p:grpSpPr>
          <p:sp>
            <p:nvSpPr>
              <p:cNvPr id="85" name=""/>
              <p:cNvSpPr/>
              <p:nvPr/>
            </p:nvSpPr>
            <p:spPr>
              <a:xfrm>
                <a:off x="8000640" y="1143000"/>
                <a:ext cx="533520" cy="533160"/>
              </a:xfrm>
              <a:prstGeom prst="ellipse">
                <a:avLst/>
              </a:prstGeom>
              <a:gradFill rotWithShape="0">
                <a:gsLst>
                  <a:gs pos="0">
                    <a:srgbClr val="79854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059680" y="1202040"/>
                <a:ext cx="415080" cy="414720"/>
              </a:xfrm>
              <a:prstGeom prst="ellipse">
                <a:avLst/>
              </a:prstGeom>
              <a:solidFill>
                <a:srgbClr val="798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178480" y="1320480"/>
                <a:ext cx="177840" cy="177480"/>
              </a:xfrm>
              <a:prstGeom prst="ellipse">
                <a:avLst/>
              </a:prstGeom>
              <a:gradFill rotWithShape="0">
                <a:gsLst>
                  <a:gs pos="0">
                    <a:srgbClr val="a3c67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8264880" y="1409760"/>
                <a:ext cx="177840" cy="173880"/>
              </a:xfrm>
              <a:custGeom>
                <a:avLst/>
                <a:gdLst/>
                <a:ahLst/>
                <a:rect l="l" t="t" r="r" b="b"/>
                <a:pathLst>
                  <a:path w="1072" h="1047">
                    <a:moveTo>
                      <a:pt x="477" y="627"/>
                    </a:moveTo>
                    <a:cubicBezTo>
                      <a:pt x="503" y="632"/>
                      <a:pt x="542" y="644"/>
                      <a:pt x="571" y="686"/>
                    </a:cubicBezTo>
                    <a:cubicBezTo>
                      <a:pt x="600" y="730"/>
                      <a:pt x="616" y="783"/>
                      <a:pt x="651" y="893"/>
                    </a:cubicBezTo>
                    <a:cubicBezTo>
                      <a:pt x="686" y="1003"/>
                      <a:pt x="793" y="1047"/>
                      <a:pt x="883" y="1041"/>
                    </a:cubicBezTo>
                    <a:cubicBezTo>
                      <a:pt x="973" y="1035"/>
                      <a:pt x="1054" y="963"/>
                      <a:pt x="1072" y="907"/>
                    </a:cubicBezTo>
                    <a:cubicBezTo>
                      <a:pt x="1003" y="927"/>
                      <a:pt x="892" y="939"/>
                      <a:pt x="805" y="876"/>
                    </a:cubicBezTo>
                    <a:cubicBezTo>
                      <a:pt x="723" y="817"/>
                      <a:pt x="675" y="631"/>
                      <a:pt x="555" y="521"/>
                    </a:cubicBezTo>
                    <a:cubicBezTo>
                      <a:pt x="451" y="421"/>
                      <a:pt x="304" y="397"/>
                      <a:pt x="243" y="372"/>
                    </a:cubicBezTo>
                    <a:cubicBezTo>
                      <a:pt x="182" y="347"/>
                      <a:pt x="120" y="267"/>
                      <a:pt x="115" y="201"/>
                    </a:cubicBezTo>
                    <a:cubicBezTo>
                      <a:pt x="110" y="135"/>
                      <a:pt x="135" y="55"/>
                      <a:pt x="160" y="0"/>
                    </a:cubicBezTo>
                    <a:cubicBezTo>
                      <a:pt x="60" y="52"/>
                      <a:pt x="0" y="162"/>
                      <a:pt x="12" y="264"/>
                    </a:cubicBezTo>
                    <a:cubicBezTo>
                      <a:pt x="24" y="366"/>
                      <a:pt x="88" y="419"/>
                      <a:pt x="172" y="452"/>
                    </a:cubicBezTo>
                    <a:cubicBezTo>
                      <a:pt x="256" y="485"/>
                      <a:pt x="392" y="479"/>
                      <a:pt x="447" y="546"/>
                    </a:cubicBezTo>
                    <a:cubicBezTo>
                      <a:pt x="309" y="591"/>
                      <a:pt x="268" y="673"/>
                      <a:pt x="268" y="734"/>
                    </a:cubicBezTo>
                    <a:cubicBezTo>
                      <a:pt x="268" y="795"/>
                      <a:pt x="303" y="851"/>
                      <a:pt x="345" y="869"/>
                    </a:cubicBezTo>
                    <a:cubicBezTo>
                      <a:pt x="387" y="887"/>
                      <a:pt x="475" y="895"/>
                      <a:pt x="534" y="839"/>
                    </a:cubicBezTo>
                    <a:cubicBezTo>
                      <a:pt x="459" y="840"/>
                      <a:pt x="416" y="828"/>
                      <a:pt x="385" y="785"/>
                    </a:cubicBezTo>
                    <a:cubicBezTo>
                      <a:pt x="354" y="742"/>
                      <a:pt x="363" y="701"/>
                      <a:pt x="381" y="674"/>
                    </a:cubicBezTo>
                    <a:cubicBezTo>
                      <a:pt x="399" y="647"/>
                      <a:pt x="451" y="622"/>
                      <a:pt x="477" y="6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090640" y="1409760"/>
                <a:ext cx="177840" cy="173880"/>
              </a:xfrm>
              <a:custGeom>
                <a:avLst/>
                <a:gdLst/>
                <a:ahLst/>
                <a:rect l="l" t="t" r="r" b="b"/>
                <a:pathLst>
                  <a:path w="1072" h="1047">
                    <a:moveTo>
                      <a:pt x="477" y="627"/>
                    </a:moveTo>
                    <a:cubicBezTo>
                      <a:pt x="503" y="632"/>
                      <a:pt x="542" y="644"/>
                      <a:pt x="571" y="686"/>
                    </a:cubicBezTo>
                    <a:cubicBezTo>
                      <a:pt x="600" y="730"/>
                      <a:pt x="616" y="783"/>
                      <a:pt x="651" y="893"/>
                    </a:cubicBezTo>
                    <a:cubicBezTo>
                      <a:pt x="686" y="1003"/>
                      <a:pt x="793" y="1047"/>
                      <a:pt x="883" y="1041"/>
                    </a:cubicBezTo>
                    <a:cubicBezTo>
                      <a:pt x="973" y="1035"/>
                      <a:pt x="1054" y="963"/>
                      <a:pt x="1072" y="907"/>
                    </a:cubicBezTo>
                    <a:cubicBezTo>
                      <a:pt x="1003" y="927"/>
                      <a:pt x="892" y="939"/>
                      <a:pt x="805" y="876"/>
                    </a:cubicBezTo>
                    <a:cubicBezTo>
                      <a:pt x="723" y="817"/>
                      <a:pt x="675" y="631"/>
                      <a:pt x="555" y="521"/>
                    </a:cubicBezTo>
                    <a:cubicBezTo>
                      <a:pt x="451" y="421"/>
                      <a:pt x="304" y="397"/>
                      <a:pt x="243" y="372"/>
                    </a:cubicBezTo>
                    <a:cubicBezTo>
                      <a:pt x="182" y="347"/>
                      <a:pt x="120" y="267"/>
                      <a:pt x="115" y="201"/>
                    </a:cubicBezTo>
                    <a:cubicBezTo>
                      <a:pt x="110" y="135"/>
                      <a:pt x="135" y="55"/>
                      <a:pt x="160" y="0"/>
                    </a:cubicBezTo>
                    <a:cubicBezTo>
                      <a:pt x="60" y="52"/>
                      <a:pt x="0" y="162"/>
                      <a:pt x="12" y="264"/>
                    </a:cubicBezTo>
                    <a:cubicBezTo>
                      <a:pt x="24" y="366"/>
                      <a:pt x="88" y="419"/>
                      <a:pt x="172" y="452"/>
                    </a:cubicBezTo>
                    <a:cubicBezTo>
                      <a:pt x="256" y="485"/>
                      <a:pt x="392" y="479"/>
                      <a:pt x="447" y="546"/>
                    </a:cubicBezTo>
                    <a:cubicBezTo>
                      <a:pt x="309" y="591"/>
                      <a:pt x="268" y="673"/>
                      <a:pt x="268" y="734"/>
                    </a:cubicBezTo>
                    <a:cubicBezTo>
                      <a:pt x="268" y="795"/>
                      <a:pt x="303" y="851"/>
                      <a:pt x="345" y="869"/>
                    </a:cubicBezTo>
                    <a:cubicBezTo>
                      <a:pt x="387" y="887"/>
                      <a:pt x="475" y="895"/>
                      <a:pt x="534" y="839"/>
                    </a:cubicBezTo>
                    <a:cubicBezTo>
                      <a:pt x="459" y="840"/>
                      <a:pt x="416" y="828"/>
                      <a:pt x="385" y="785"/>
                    </a:cubicBezTo>
                    <a:cubicBezTo>
                      <a:pt x="354" y="742"/>
                      <a:pt x="363" y="701"/>
                      <a:pt x="381" y="674"/>
                    </a:cubicBezTo>
                    <a:cubicBezTo>
                      <a:pt x="399" y="647"/>
                      <a:pt x="451" y="622"/>
                      <a:pt x="477" y="6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 flipV="1">
                <a:off x="8264880" y="1229760"/>
                <a:ext cx="177840" cy="173880"/>
              </a:xfrm>
              <a:custGeom>
                <a:avLst/>
                <a:gdLst/>
                <a:ahLst/>
                <a:rect l="l" t="t" r="r" b="b"/>
                <a:pathLst>
                  <a:path w="1072" h="1047">
                    <a:moveTo>
                      <a:pt x="477" y="627"/>
                    </a:moveTo>
                    <a:cubicBezTo>
                      <a:pt x="503" y="632"/>
                      <a:pt x="542" y="644"/>
                      <a:pt x="571" y="686"/>
                    </a:cubicBezTo>
                    <a:cubicBezTo>
                      <a:pt x="600" y="730"/>
                      <a:pt x="616" y="783"/>
                      <a:pt x="651" y="893"/>
                    </a:cubicBezTo>
                    <a:cubicBezTo>
                      <a:pt x="686" y="1003"/>
                      <a:pt x="793" y="1047"/>
                      <a:pt x="883" y="1041"/>
                    </a:cubicBezTo>
                    <a:cubicBezTo>
                      <a:pt x="973" y="1035"/>
                      <a:pt x="1054" y="963"/>
                      <a:pt x="1072" y="907"/>
                    </a:cubicBezTo>
                    <a:cubicBezTo>
                      <a:pt x="1003" y="927"/>
                      <a:pt x="892" y="939"/>
                      <a:pt x="805" y="876"/>
                    </a:cubicBezTo>
                    <a:cubicBezTo>
                      <a:pt x="723" y="817"/>
                      <a:pt x="675" y="631"/>
                      <a:pt x="555" y="521"/>
                    </a:cubicBezTo>
                    <a:cubicBezTo>
                      <a:pt x="451" y="421"/>
                      <a:pt x="304" y="397"/>
                      <a:pt x="243" y="372"/>
                    </a:cubicBezTo>
                    <a:cubicBezTo>
                      <a:pt x="182" y="347"/>
                      <a:pt x="120" y="267"/>
                      <a:pt x="115" y="201"/>
                    </a:cubicBezTo>
                    <a:cubicBezTo>
                      <a:pt x="110" y="135"/>
                      <a:pt x="135" y="55"/>
                      <a:pt x="160" y="0"/>
                    </a:cubicBezTo>
                    <a:cubicBezTo>
                      <a:pt x="60" y="52"/>
                      <a:pt x="0" y="162"/>
                      <a:pt x="12" y="264"/>
                    </a:cubicBezTo>
                    <a:cubicBezTo>
                      <a:pt x="24" y="366"/>
                      <a:pt x="88" y="419"/>
                      <a:pt x="172" y="452"/>
                    </a:cubicBezTo>
                    <a:cubicBezTo>
                      <a:pt x="256" y="485"/>
                      <a:pt x="392" y="479"/>
                      <a:pt x="447" y="546"/>
                    </a:cubicBezTo>
                    <a:cubicBezTo>
                      <a:pt x="309" y="591"/>
                      <a:pt x="268" y="673"/>
                      <a:pt x="268" y="734"/>
                    </a:cubicBezTo>
                    <a:cubicBezTo>
                      <a:pt x="268" y="795"/>
                      <a:pt x="303" y="851"/>
                      <a:pt x="345" y="869"/>
                    </a:cubicBezTo>
                    <a:cubicBezTo>
                      <a:pt x="387" y="887"/>
                      <a:pt x="475" y="895"/>
                      <a:pt x="534" y="839"/>
                    </a:cubicBezTo>
                    <a:cubicBezTo>
                      <a:pt x="459" y="840"/>
                      <a:pt x="416" y="828"/>
                      <a:pt x="385" y="785"/>
                    </a:cubicBezTo>
                    <a:cubicBezTo>
                      <a:pt x="354" y="742"/>
                      <a:pt x="363" y="701"/>
                      <a:pt x="381" y="674"/>
                    </a:cubicBezTo>
                    <a:cubicBezTo>
                      <a:pt x="399" y="647"/>
                      <a:pt x="451" y="622"/>
                      <a:pt x="477" y="6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8090640" y="1229760"/>
                <a:ext cx="177840" cy="173880"/>
              </a:xfrm>
              <a:custGeom>
                <a:avLst/>
                <a:gdLst/>
                <a:ahLst/>
                <a:rect l="l" t="t" r="r" b="b"/>
                <a:pathLst>
                  <a:path w="1072" h="1047">
                    <a:moveTo>
                      <a:pt x="477" y="627"/>
                    </a:moveTo>
                    <a:cubicBezTo>
                      <a:pt x="503" y="632"/>
                      <a:pt x="542" y="644"/>
                      <a:pt x="571" y="686"/>
                    </a:cubicBezTo>
                    <a:cubicBezTo>
                      <a:pt x="600" y="730"/>
                      <a:pt x="616" y="783"/>
                      <a:pt x="651" y="893"/>
                    </a:cubicBezTo>
                    <a:cubicBezTo>
                      <a:pt x="686" y="1003"/>
                      <a:pt x="793" y="1047"/>
                      <a:pt x="883" y="1041"/>
                    </a:cubicBezTo>
                    <a:cubicBezTo>
                      <a:pt x="973" y="1035"/>
                      <a:pt x="1054" y="963"/>
                      <a:pt x="1072" y="907"/>
                    </a:cubicBezTo>
                    <a:cubicBezTo>
                      <a:pt x="1003" y="927"/>
                      <a:pt x="892" y="939"/>
                      <a:pt x="805" y="876"/>
                    </a:cubicBezTo>
                    <a:cubicBezTo>
                      <a:pt x="723" y="817"/>
                      <a:pt x="675" y="631"/>
                      <a:pt x="555" y="521"/>
                    </a:cubicBezTo>
                    <a:cubicBezTo>
                      <a:pt x="451" y="421"/>
                      <a:pt x="304" y="397"/>
                      <a:pt x="243" y="372"/>
                    </a:cubicBezTo>
                    <a:cubicBezTo>
                      <a:pt x="182" y="347"/>
                      <a:pt x="120" y="267"/>
                      <a:pt x="115" y="201"/>
                    </a:cubicBezTo>
                    <a:cubicBezTo>
                      <a:pt x="110" y="135"/>
                      <a:pt x="135" y="55"/>
                      <a:pt x="160" y="0"/>
                    </a:cubicBezTo>
                    <a:cubicBezTo>
                      <a:pt x="60" y="52"/>
                      <a:pt x="0" y="162"/>
                      <a:pt x="12" y="264"/>
                    </a:cubicBezTo>
                    <a:cubicBezTo>
                      <a:pt x="24" y="366"/>
                      <a:pt x="88" y="419"/>
                      <a:pt x="172" y="452"/>
                    </a:cubicBezTo>
                    <a:cubicBezTo>
                      <a:pt x="256" y="485"/>
                      <a:pt x="392" y="479"/>
                      <a:pt x="447" y="546"/>
                    </a:cubicBezTo>
                    <a:cubicBezTo>
                      <a:pt x="309" y="591"/>
                      <a:pt x="268" y="673"/>
                      <a:pt x="268" y="734"/>
                    </a:cubicBezTo>
                    <a:cubicBezTo>
                      <a:pt x="268" y="795"/>
                      <a:pt x="303" y="851"/>
                      <a:pt x="345" y="869"/>
                    </a:cubicBezTo>
                    <a:cubicBezTo>
                      <a:pt x="387" y="887"/>
                      <a:pt x="475" y="895"/>
                      <a:pt x="534" y="839"/>
                    </a:cubicBezTo>
                    <a:cubicBezTo>
                      <a:pt x="459" y="840"/>
                      <a:pt x="416" y="828"/>
                      <a:pt x="385" y="785"/>
                    </a:cubicBezTo>
                    <a:cubicBezTo>
                      <a:pt x="354" y="742"/>
                      <a:pt x="363" y="701"/>
                      <a:pt x="381" y="674"/>
                    </a:cubicBezTo>
                    <a:cubicBezTo>
                      <a:pt x="399" y="647"/>
                      <a:pt x="451" y="622"/>
                      <a:pt x="477" y="6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442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798547"/>
              </a:buClr>
              <a:buSzPct val="7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00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00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5B9F-E897-43EE-B735-3572C8415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733920"/>
          </a:xfrm>
          <a:prstGeom prst="rect">
            <a:avLst/>
          </a:prstGeom>
          <a:gradFill rotWithShape="0">
            <a:gsLst>
              <a:gs pos="0">
                <a:srgbClr val="b6d29a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280" y="152280"/>
            <a:ext cx="8413920" cy="685800"/>
            <a:chOff x="152280" y="152280"/>
            <a:chExt cx="8413920" cy="685800"/>
          </a:xfrm>
        </p:grpSpPr>
        <p:sp>
          <p:nvSpPr>
            <p:cNvPr id="135" name=""/>
            <p:cNvSpPr/>
            <p:nvPr/>
          </p:nvSpPr>
          <p:spPr>
            <a:xfrm>
              <a:off x="3056040" y="46512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09880" y="557280"/>
              <a:ext cx="69840" cy="7128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52560" y="66528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49560" y="457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03400" y="549360"/>
              <a:ext cx="71640" cy="7128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46440" y="657360"/>
              <a:ext cx="28872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56120" y="563400"/>
              <a:ext cx="33120" cy="3204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64040" y="569880"/>
              <a:ext cx="31680" cy="3168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14720" y="160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68560" y="252360"/>
              <a:ext cx="69840" cy="7164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11240" y="36036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08240" y="15228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62080" y="244440"/>
              <a:ext cx="71640" cy="7164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05120" y="352440"/>
              <a:ext cx="28872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14440" y="258840"/>
              <a:ext cx="33480" cy="3168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22360" y="264960"/>
              <a:ext cx="32040" cy="3204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01760" y="46512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55600" y="557280"/>
              <a:ext cx="69840" cy="7128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98640" y="665280"/>
              <a:ext cx="28872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457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49480" y="549360"/>
              <a:ext cx="71280" cy="7128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92160" y="65736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01840" y="563400"/>
              <a:ext cx="33120" cy="3204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09760" y="569880"/>
              <a:ext cx="31680" cy="3168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1880" y="160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6080" y="252360"/>
              <a:ext cx="69840" cy="7164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8760" y="36036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5760" y="15228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9600" y="244440"/>
              <a:ext cx="71280" cy="7164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2280" y="35244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1960" y="258840"/>
              <a:ext cx="33480" cy="3168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9880" y="264960"/>
              <a:ext cx="31680" cy="3204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67200" y="160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21040" y="252360"/>
              <a:ext cx="69840" cy="7164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64080" y="360360"/>
              <a:ext cx="28872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0720" y="15228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14920" y="244440"/>
              <a:ext cx="71280" cy="7164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57600" y="35244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7280" y="258840"/>
              <a:ext cx="33120" cy="3168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75200" y="264960"/>
              <a:ext cx="31680" cy="3204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5280" y="46512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59480" y="557280"/>
              <a:ext cx="69840" cy="7128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02160" y="66528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99160" y="457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53000" y="549360"/>
              <a:ext cx="71280" cy="7128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95680" y="65736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05360" y="563400"/>
              <a:ext cx="33480" cy="3204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13280" y="569880"/>
              <a:ext cx="31680" cy="3168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19680" y="160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73880" y="252360"/>
              <a:ext cx="69840" cy="7164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16560" y="36036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13560" y="15228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67400" y="244440"/>
              <a:ext cx="71280" cy="7164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10080" y="35244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19760" y="258840"/>
              <a:ext cx="33480" cy="3168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27680" y="264960"/>
              <a:ext cx="31680" cy="3204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8120" y="46512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11960" y="557280"/>
              <a:ext cx="69840" cy="7128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54640" y="66528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1640" y="457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05480" y="549360"/>
              <a:ext cx="71640" cy="7128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48520" y="657360"/>
              <a:ext cx="28872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7840" y="563400"/>
              <a:ext cx="33480" cy="3204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65760" y="569880"/>
              <a:ext cx="32040" cy="3168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72520" y="160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26360" y="252360"/>
              <a:ext cx="69840" cy="7164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69040" y="360360"/>
              <a:ext cx="28908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66040" y="15228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19880" y="244440"/>
              <a:ext cx="71640" cy="7164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920" y="352440"/>
              <a:ext cx="288720" cy="17316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72240" y="258840"/>
              <a:ext cx="33480" cy="3168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80160" y="264960"/>
              <a:ext cx="32040" cy="3204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310600" y="46512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39">
                  <a:moveTo>
                    <a:pt x="2065" y="1539"/>
                  </a:moveTo>
                  <a:lnTo>
                    <a:pt x="1856" y="1497"/>
                  </a:lnTo>
                  <a:lnTo>
                    <a:pt x="1658" y="1479"/>
                  </a:lnTo>
                  <a:lnTo>
                    <a:pt x="1471" y="1481"/>
                  </a:lnTo>
                  <a:lnTo>
                    <a:pt x="1294" y="1503"/>
                  </a:lnTo>
                  <a:lnTo>
                    <a:pt x="1127" y="1544"/>
                  </a:lnTo>
                  <a:lnTo>
                    <a:pt x="973" y="1601"/>
                  </a:lnTo>
                  <a:lnTo>
                    <a:pt x="829" y="1674"/>
                  </a:lnTo>
                  <a:lnTo>
                    <a:pt x="697" y="1761"/>
                  </a:lnTo>
                  <a:lnTo>
                    <a:pt x="575" y="1863"/>
                  </a:lnTo>
                  <a:lnTo>
                    <a:pt x="465" y="1975"/>
                  </a:lnTo>
                  <a:lnTo>
                    <a:pt x="366" y="2098"/>
                  </a:lnTo>
                  <a:lnTo>
                    <a:pt x="279" y="2229"/>
                  </a:lnTo>
                  <a:lnTo>
                    <a:pt x="203" y="2370"/>
                  </a:lnTo>
                  <a:lnTo>
                    <a:pt x="140" y="2515"/>
                  </a:lnTo>
                  <a:lnTo>
                    <a:pt x="88" y="2667"/>
                  </a:lnTo>
                  <a:lnTo>
                    <a:pt x="48" y="2822"/>
                  </a:lnTo>
                  <a:lnTo>
                    <a:pt x="20" y="2980"/>
                  </a:lnTo>
                  <a:lnTo>
                    <a:pt x="4" y="3139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0"/>
                  </a:lnTo>
                  <a:lnTo>
                    <a:pt x="64" y="3761"/>
                  </a:lnTo>
                  <a:lnTo>
                    <a:pt x="110" y="3906"/>
                  </a:lnTo>
                  <a:lnTo>
                    <a:pt x="169" y="4045"/>
                  </a:lnTo>
                  <a:lnTo>
                    <a:pt x="241" y="4176"/>
                  </a:lnTo>
                  <a:lnTo>
                    <a:pt x="325" y="4298"/>
                  </a:lnTo>
                  <a:lnTo>
                    <a:pt x="423" y="4408"/>
                  </a:lnTo>
                  <a:lnTo>
                    <a:pt x="534" y="4506"/>
                  </a:lnTo>
                  <a:lnTo>
                    <a:pt x="658" y="4593"/>
                  </a:lnTo>
                  <a:lnTo>
                    <a:pt x="796" y="4663"/>
                  </a:lnTo>
                  <a:lnTo>
                    <a:pt x="946" y="4718"/>
                  </a:lnTo>
                  <a:lnTo>
                    <a:pt x="1110" y="4756"/>
                  </a:lnTo>
                  <a:lnTo>
                    <a:pt x="1009" y="4893"/>
                  </a:lnTo>
                  <a:lnTo>
                    <a:pt x="930" y="5031"/>
                  </a:lnTo>
                  <a:lnTo>
                    <a:pt x="872" y="5171"/>
                  </a:lnTo>
                  <a:lnTo>
                    <a:pt x="836" y="5310"/>
                  </a:lnTo>
                  <a:lnTo>
                    <a:pt x="818" y="5449"/>
                  </a:lnTo>
                  <a:lnTo>
                    <a:pt x="819" y="5588"/>
                  </a:lnTo>
                  <a:lnTo>
                    <a:pt x="838" y="5723"/>
                  </a:lnTo>
                  <a:lnTo>
                    <a:pt x="872" y="5856"/>
                  </a:lnTo>
                  <a:lnTo>
                    <a:pt x="922" y="5986"/>
                  </a:lnTo>
                  <a:lnTo>
                    <a:pt x="986" y="6111"/>
                  </a:lnTo>
                  <a:lnTo>
                    <a:pt x="1062" y="6232"/>
                  </a:lnTo>
                  <a:lnTo>
                    <a:pt x="1150" y="6347"/>
                  </a:lnTo>
                  <a:lnTo>
                    <a:pt x="1250" y="6457"/>
                  </a:lnTo>
                  <a:lnTo>
                    <a:pt x="1359" y="6558"/>
                  </a:lnTo>
                  <a:lnTo>
                    <a:pt x="1476" y="6652"/>
                  </a:lnTo>
                  <a:lnTo>
                    <a:pt x="1601" y="6738"/>
                  </a:lnTo>
                  <a:lnTo>
                    <a:pt x="1732" y="6814"/>
                  </a:lnTo>
                  <a:lnTo>
                    <a:pt x="1868" y="6881"/>
                  </a:lnTo>
                  <a:lnTo>
                    <a:pt x="2008" y="6936"/>
                  </a:lnTo>
                  <a:lnTo>
                    <a:pt x="2152" y="6982"/>
                  </a:lnTo>
                  <a:lnTo>
                    <a:pt x="2297" y="7014"/>
                  </a:lnTo>
                  <a:lnTo>
                    <a:pt x="2444" y="7033"/>
                  </a:lnTo>
                  <a:lnTo>
                    <a:pt x="2589" y="7039"/>
                  </a:lnTo>
                  <a:lnTo>
                    <a:pt x="2734" y="7031"/>
                  </a:lnTo>
                  <a:lnTo>
                    <a:pt x="2877" y="7008"/>
                  </a:lnTo>
                  <a:lnTo>
                    <a:pt x="3016" y="6969"/>
                  </a:lnTo>
                  <a:lnTo>
                    <a:pt x="3150" y="6913"/>
                  </a:lnTo>
                  <a:lnTo>
                    <a:pt x="3278" y="6841"/>
                  </a:lnTo>
                  <a:lnTo>
                    <a:pt x="3400" y="6751"/>
                  </a:lnTo>
                  <a:lnTo>
                    <a:pt x="3513" y="6641"/>
                  </a:lnTo>
                  <a:lnTo>
                    <a:pt x="3618" y="6513"/>
                  </a:lnTo>
                  <a:lnTo>
                    <a:pt x="3713" y="6364"/>
                  </a:lnTo>
                  <a:lnTo>
                    <a:pt x="3833" y="6508"/>
                  </a:lnTo>
                  <a:lnTo>
                    <a:pt x="3961" y="6632"/>
                  </a:lnTo>
                  <a:lnTo>
                    <a:pt x="4095" y="6738"/>
                  </a:lnTo>
                  <a:lnTo>
                    <a:pt x="4235" y="6826"/>
                  </a:lnTo>
                  <a:lnTo>
                    <a:pt x="4380" y="6897"/>
                  </a:lnTo>
                  <a:lnTo>
                    <a:pt x="4529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5"/>
                  </a:lnTo>
                  <a:lnTo>
                    <a:pt x="5138" y="7021"/>
                  </a:lnTo>
                  <a:lnTo>
                    <a:pt x="5290" y="7003"/>
                  </a:lnTo>
                  <a:lnTo>
                    <a:pt x="5439" y="6973"/>
                  </a:lnTo>
                  <a:lnTo>
                    <a:pt x="5584" y="6930"/>
                  </a:lnTo>
                  <a:lnTo>
                    <a:pt x="5725" y="6877"/>
                  </a:lnTo>
                  <a:lnTo>
                    <a:pt x="5860" y="6813"/>
                  </a:lnTo>
                  <a:lnTo>
                    <a:pt x="5990" y="6740"/>
                  </a:lnTo>
                  <a:lnTo>
                    <a:pt x="6112" y="6656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5"/>
                  </a:lnTo>
                  <a:lnTo>
                    <a:pt x="6504" y="6241"/>
                  </a:lnTo>
                  <a:lnTo>
                    <a:pt x="6573" y="6120"/>
                  </a:lnTo>
                  <a:lnTo>
                    <a:pt x="6629" y="5994"/>
                  </a:lnTo>
                  <a:lnTo>
                    <a:pt x="6670" y="5863"/>
                  </a:lnTo>
                  <a:lnTo>
                    <a:pt x="6696" y="5727"/>
                  </a:lnTo>
                  <a:lnTo>
                    <a:pt x="6705" y="5589"/>
                  </a:lnTo>
                  <a:lnTo>
                    <a:pt x="6697" y="5446"/>
                  </a:lnTo>
                  <a:lnTo>
                    <a:pt x="6670" y="5301"/>
                  </a:lnTo>
                  <a:lnTo>
                    <a:pt x="6624" y="5155"/>
                  </a:lnTo>
                  <a:lnTo>
                    <a:pt x="6558" y="5008"/>
                  </a:lnTo>
                  <a:lnTo>
                    <a:pt x="6469" y="4860"/>
                  </a:lnTo>
                  <a:lnTo>
                    <a:pt x="6359" y="4712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9" y="4467"/>
                  </a:lnTo>
                  <a:lnTo>
                    <a:pt x="6900" y="4363"/>
                  </a:lnTo>
                  <a:lnTo>
                    <a:pt x="6993" y="4250"/>
                  </a:lnTo>
                  <a:lnTo>
                    <a:pt x="7072" y="4127"/>
                  </a:lnTo>
                  <a:lnTo>
                    <a:pt x="7135" y="3997"/>
                  </a:lnTo>
                  <a:lnTo>
                    <a:pt x="7184" y="3861"/>
                  </a:lnTo>
                  <a:lnTo>
                    <a:pt x="7218" y="3720"/>
                  </a:lnTo>
                  <a:lnTo>
                    <a:pt x="7239" y="3574"/>
                  </a:lnTo>
                  <a:lnTo>
                    <a:pt x="7247" y="3426"/>
                  </a:lnTo>
                  <a:lnTo>
                    <a:pt x="7242" y="3277"/>
                  </a:lnTo>
                  <a:lnTo>
                    <a:pt x="7225" y="3127"/>
                  </a:lnTo>
                  <a:lnTo>
                    <a:pt x="7196" y="2978"/>
                  </a:lnTo>
                  <a:lnTo>
                    <a:pt x="7155" y="2829"/>
                  </a:lnTo>
                  <a:lnTo>
                    <a:pt x="7104" y="2685"/>
                  </a:lnTo>
                  <a:lnTo>
                    <a:pt x="7043" y="2543"/>
                  </a:lnTo>
                  <a:lnTo>
                    <a:pt x="6971" y="2408"/>
                  </a:lnTo>
                  <a:lnTo>
                    <a:pt x="6890" y="2277"/>
                  </a:lnTo>
                  <a:lnTo>
                    <a:pt x="6799" y="2155"/>
                  </a:lnTo>
                  <a:lnTo>
                    <a:pt x="6701" y="2041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1"/>
                  </a:lnTo>
                  <a:lnTo>
                    <a:pt x="6231" y="1693"/>
                  </a:lnTo>
                  <a:lnTo>
                    <a:pt x="6097" y="1638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0"/>
                  </a:lnTo>
                  <a:lnTo>
                    <a:pt x="5507" y="1583"/>
                  </a:lnTo>
                  <a:lnTo>
                    <a:pt x="5349" y="1616"/>
                  </a:lnTo>
                  <a:lnTo>
                    <a:pt x="5187" y="1669"/>
                  </a:lnTo>
                  <a:lnTo>
                    <a:pt x="5206" y="1467"/>
                  </a:lnTo>
                  <a:lnTo>
                    <a:pt x="5202" y="1279"/>
                  </a:lnTo>
                  <a:lnTo>
                    <a:pt x="5177" y="1104"/>
                  </a:lnTo>
                  <a:lnTo>
                    <a:pt x="5132" y="941"/>
                  </a:lnTo>
                  <a:lnTo>
                    <a:pt x="5069" y="792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6" y="422"/>
                  </a:lnTo>
                  <a:lnTo>
                    <a:pt x="4665" y="325"/>
                  </a:lnTo>
                  <a:lnTo>
                    <a:pt x="4534" y="240"/>
                  </a:lnTo>
                  <a:lnTo>
                    <a:pt x="4393" y="168"/>
                  </a:lnTo>
                  <a:lnTo>
                    <a:pt x="4245" y="109"/>
                  </a:lnTo>
                  <a:lnTo>
                    <a:pt x="4092" y="63"/>
                  </a:lnTo>
                  <a:lnTo>
                    <a:pt x="3934" y="29"/>
                  </a:lnTo>
                  <a:lnTo>
                    <a:pt x="3773" y="8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6" y="90"/>
                  </a:lnTo>
                  <a:lnTo>
                    <a:pt x="2829" y="144"/>
                  </a:lnTo>
                  <a:lnTo>
                    <a:pt x="2690" y="211"/>
                  </a:lnTo>
                  <a:lnTo>
                    <a:pt x="2561" y="289"/>
                  </a:lnTo>
                  <a:lnTo>
                    <a:pt x="2442" y="379"/>
                  </a:lnTo>
                  <a:lnTo>
                    <a:pt x="2336" y="482"/>
                  </a:lnTo>
                  <a:lnTo>
                    <a:pt x="2243" y="597"/>
                  </a:lnTo>
                  <a:lnTo>
                    <a:pt x="2166" y="723"/>
                  </a:lnTo>
                  <a:lnTo>
                    <a:pt x="2106" y="863"/>
                  </a:lnTo>
                  <a:lnTo>
                    <a:pt x="2064" y="1014"/>
                  </a:lnTo>
                  <a:lnTo>
                    <a:pt x="2043" y="1177"/>
                  </a:lnTo>
                  <a:lnTo>
                    <a:pt x="2042" y="1352"/>
                  </a:lnTo>
                  <a:lnTo>
                    <a:pt x="2065" y="1539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164440" y="557280"/>
              <a:ext cx="69840" cy="71280"/>
            </a:xfrm>
            <a:custGeom>
              <a:avLst/>
              <a:gdLst/>
              <a:ahLst/>
              <a:rect l="l" t="t" r="r" b="b"/>
              <a:pathLst>
                <a:path w="1994" h="2000">
                  <a:moveTo>
                    <a:pt x="997" y="0"/>
                  </a:moveTo>
                  <a:lnTo>
                    <a:pt x="1048" y="2"/>
                  </a:lnTo>
                  <a:lnTo>
                    <a:pt x="1099" y="5"/>
                  </a:lnTo>
                  <a:lnTo>
                    <a:pt x="1149" y="12"/>
                  </a:lnTo>
                  <a:lnTo>
                    <a:pt x="1198" y="21"/>
                  </a:lnTo>
                  <a:lnTo>
                    <a:pt x="1246" y="32"/>
                  </a:lnTo>
                  <a:lnTo>
                    <a:pt x="1293" y="45"/>
                  </a:lnTo>
                  <a:lnTo>
                    <a:pt x="1339" y="61"/>
                  </a:lnTo>
                  <a:lnTo>
                    <a:pt x="1385" y="79"/>
                  </a:lnTo>
                  <a:lnTo>
                    <a:pt x="1429" y="99"/>
                  </a:lnTo>
                  <a:lnTo>
                    <a:pt x="1472" y="121"/>
                  </a:lnTo>
                  <a:lnTo>
                    <a:pt x="1514" y="145"/>
                  </a:lnTo>
                  <a:lnTo>
                    <a:pt x="1555" y="171"/>
                  </a:lnTo>
                  <a:lnTo>
                    <a:pt x="1594" y="199"/>
                  </a:lnTo>
                  <a:lnTo>
                    <a:pt x="1631" y="228"/>
                  </a:lnTo>
                  <a:lnTo>
                    <a:pt x="1667" y="260"/>
                  </a:lnTo>
                  <a:lnTo>
                    <a:pt x="1702" y="294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2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3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7"/>
                  </a:lnTo>
                  <a:lnTo>
                    <a:pt x="1950" y="703"/>
                  </a:lnTo>
                  <a:lnTo>
                    <a:pt x="1963" y="750"/>
                  </a:lnTo>
                  <a:lnTo>
                    <a:pt x="1974" y="798"/>
                  </a:lnTo>
                  <a:lnTo>
                    <a:pt x="1983" y="848"/>
                  </a:lnTo>
                  <a:lnTo>
                    <a:pt x="1989" y="898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2"/>
                  </a:lnTo>
                  <a:lnTo>
                    <a:pt x="1974" y="1201"/>
                  </a:lnTo>
                  <a:lnTo>
                    <a:pt x="1963" y="1249"/>
                  </a:lnTo>
                  <a:lnTo>
                    <a:pt x="1950" y="1296"/>
                  </a:lnTo>
                  <a:lnTo>
                    <a:pt x="1934" y="1343"/>
                  </a:lnTo>
                  <a:lnTo>
                    <a:pt x="1916" y="1389"/>
                  </a:lnTo>
                  <a:lnTo>
                    <a:pt x="1896" y="1433"/>
                  </a:lnTo>
                  <a:lnTo>
                    <a:pt x="1874" y="1476"/>
                  </a:lnTo>
                  <a:lnTo>
                    <a:pt x="1850" y="1517"/>
                  </a:lnTo>
                  <a:lnTo>
                    <a:pt x="1824" y="1558"/>
                  </a:lnTo>
                  <a:lnTo>
                    <a:pt x="1796" y="1597"/>
                  </a:lnTo>
                  <a:lnTo>
                    <a:pt x="1766" y="1636"/>
                  </a:lnTo>
                  <a:lnTo>
                    <a:pt x="1735" y="1672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1"/>
                  </a:lnTo>
                  <a:lnTo>
                    <a:pt x="1594" y="1800"/>
                  </a:lnTo>
                  <a:lnTo>
                    <a:pt x="1555" y="1828"/>
                  </a:lnTo>
                  <a:lnTo>
                    <a:pt x="1514" y="1854"/>
                  </a:lnTo>
                  <a:lnTo>
                    <a:pt x="1472" y="1878"/>
                  </a:lnTo>
                  <a:lnTo>
                    <a:pt x="1429" y="1901"/>
                  </a:lnTo>
                  <a:lnTo>
                    <a:pt x="1385" y="1921"/>
                  </a:lnTo>
                  <a:lnTo>
                    <a:pt x="1339" y="1939"/>
                  </a:lnTo>
                  <a:lnTo>
                    <a:pt x="1293" y="1955"/>
                  </a:lnTo>
                  <a:lnTo>
                    <a:pt x="1246" y="1968"/>
                  </a:lnTo>
                  <a:lnTo>
                    <a:pt x="1198" y="1979"/>
                  </a:lnTo>
                  <a:lnTo>
                    <a:pt x="1149" y="1988"/>
                  </a:lnTo>
                  <a:lnTo>
                    <a:pt x="1099" y="1995"/>
                  </a:lnTo>
                  <a:lnTo>
                    <a:pt x="1048" y="1998"/>
                  </a:lnTo>
                  <a:lnTo>
                    <a:pt x="997" y="2000"/>
                  </a:lnTo>
                  <a:lnTo>
                    <a:pt x="946" y="1998"/>
                  </a:lnTo>
                  <a:lnTo>
                    <a:pt x="896" y="1995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9" y="1968"/>
                  </a:lnTo>
                  <a:lnTo>
                    <a:pt x="701" y="1955"/>
                  </a:lnTo>
                  <a:lnTo>
                    <a:pt x="655" y="1939"/>
                  </a:lnTo>
                  <a:lnTo>
                    <a:pt x="610" y="1921"/>
                  </a:lnTo>
                  <a:lnTo>
                    <a:pt x="566" y="1901"/>
                  </a:lnTo>
                  <a:lnTo>
                    <a:pt x="522" y="1878"/>
                  </a:lnTo>
                  <a:lnTo>
                    <a:pt x="480" y="1854"/>
                  </a:lnTo>
                  <a:lnTo>
                    <a:pt x="440" y="1828"/>
                  </a:lnTo>
                  <a:lnTo>
                    <a:pt x="401" y="1800"/>
                  </a:lnTo>
                  <a:lnTo>
                    <a:pt x="363" y="1771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2"/>
                  </a:lnTo>
                  <a:lnTo>
                    <a:pt x="228" y="1636"/>
                  </a:lnTo>
                  <a:lnTo>
                    <a:pt x="198" y="1597"/>
                  </a:lnTo>
                  <a:lnTo>
                    <a:pt x="170" y="1558"/>
                  </a:lnTo>
                  <a:lnTo>
                    <a:pt x="144" y="1517"/>
                  </a:lnTo>
                  <a:lnTo>
                    <a:pt x="120" y="1476"/>
                  </a:lnTo>
                  <a:lnTo>
                    <a:pt x="98" y="1433"/>
                  </a:lnTo>
                  <a:lnTo>
                    <a:pt x="78" y="1389"/>
                  </a:lnTo>
                  <a:lnTo>
                    <a:pt x="60" y="1343"/>
                  </a:lnTo>
                  <a:lnTo>
                    <a:pt x="45" y="1296"/>
                  </a:lnTo>
                  <a:lnTo>
                    <a:pt x="31" y="1249"/>
                  </a:lnTo>
                  <a:lnTo>
                    <a:pt x="20" y="1201"/>
                  </a:lnTo>
                  <a:lnTo>
                    <a:pt x="11" y="1152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8"/>
                  </a:lnTo>
                  <a:lnTo>
                    <a:pt x="11" y="848"/>
                  </a:lnTo>
                  <a:lnTo>
                    <a:pt x="20" y="798"/>
                  </a:lnTo>
                  <a:lnTo>
                    <a:pt x="31" y="750"/>
                  </a:lnTo>
                  <a:lnTo>
                    <a:pt x="45" y="703"/>
                  </a:lnTo>
                  <a:lnTo>
                    <a:pt x="60" y="657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3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2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4"/>
                  </a:lnTo>
                  <a:lnTo>
                    <a:pt x="327" y="260"/>
                  </a:lnTo>
                  <a:lnTo>
                    <a:pt x="363" y="228"/>
                  </a:lnTo>
                  <a:lnTo>
                    <a:pt x="401" y="199"/>
                  </a:lnTo>
                  <a:lnTo>
                    <a:pt x="440" y="171"/>
                  </a:lnTo>
                  <a:lnTo>
                    <a:pt x="480" y="145"/>
                  </a:lnTo>
                  <a:lnTo>
                    <a:pt x="522" y="121"/>
                  </a:lnTo>
                  <a:lnTo>
                    <a:pt x="566" y="99"/>
                  </a:lnTo>
                  <a:lnTo>
                    <a:pt x="610" y="79"/>
                  </a:lnTo>
                  <a:lnTo>
                    <a:pt x="655" y="61"/>
                  </a:lnTo>
                  <a:lnTo>
                    <a:pt x="701" y="45"/>
                  </a:lnTo>
                  <a:lnTo>
                    <a:pt x="749" y="32"/>
                  </a:lnTo>
                  <a:lnTo>
                    <a:pt x="797" y="21"/>
                  </a:lnTo>
                  <a:lnTo>
                    <a:pt x="846" y="12"/>
                  </a:lnTo>
                  <a:lnTo>
                    <a:pt x="896" y="5"/>
                  </a:lnTo>
                  <a:lnTo>
                    <a:pt x="946" y="2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07480" y="665280"/>
              <a:ext cx="28872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40" y="1653"/>
                  </a:lnTo>
                  <a:lnTo>
                    <a:pt x="7678" y="1608"/>
                  </a:lnTo>
                  <a:lnTo>
                    <a:pt x="7411" y="1570"/>
                  </a:lnTo>
                  <a:lnTo>
                    <a:pt x="7142" y="1540"/>
                  </a:lnTo>
                  <a:lnTo>
                    <a:pt x="6870" y="1520"/>
                  </a:lnTo>
                  <a:lnTo>
                    <a:pt x="6594" y="1508"/>
                  </a:lnTo>
                  <a:lnTo>
                    <a:pt x="6319" y="1505"/>
                  </a:lnTo>
                  <a:lnTo>
                    <a:pt x="6042" y="1511"/>
                  </a:lnTo>
                  <a:lnTo>
                    <a:pt x="5764" y="1526"/>
                  </a:lnTo>
                  <a:lnTo>
                    <a:pt x="5487" y="1552"/>
                  </a:lnTo>
                  <a:lnTo>
                    <a:pt x="5211" y="1586"/>
                  </a:lnTo>
                  <a:lnTo>
                    <a:pt x="4936" y="1631"/>
                  </a:lnTo>
                  <a:lnTo>
                    <a:pt x="4664" y="1685"/>
                  </a:lnTo>
                  <a:lnTo>
                    <a:pt x="4394" y="1750"/>
                  </a:lnTo>
                  <a:lnTo>
                    <a:pt x="4127" y="1826"/>
                  </a:lnTo>
                  <a:lnTo>
                    <a:pt x="3865" y="1912"/>
                  </a:lnTo>
                  <a:lnTo>
                    <a:pt x="3607" y="2009"/>
                  </a:lnTo>
                  <a:lnTo>
                    <a:pt x="3353" y="2118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2" y="2512"/>
                  </a:lnTo>
                  <a:lnTo>
                    <a:pt x="2405" y="2668"/>
                  </a:lnTo>
                  <a:lnTo>
                    <a:pt x="2188" y="2835"/>
                  </a:lnTo>
                  <a:lnTo>
                    <a:pt x="1979" y="3015"/>
                  </a:lnTo>
                  <a:lnTo>
                    <a:pt x="1778" y="3208"/>
                  </a:lnTo>
                  <a:lnTo>
                    <a:pt x="1589" y="3412"/>
                  </a:lnTo>
                  <a:lnTo>
                    <a:pt x="1410" y="3630"/>
                  </a:lnTo>
                  <a:lnTo>
                    <a:pt x="1242" y="3862"/>
                  </a:lnTo>
                  <a:lnTo>
                    <a:pt x="1086" y="4107"/>
                  </a:lnTo>
                  <a:lnTo>
                    <a:pt x="942" y="4365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78"/>
                  </a:lnTo>
                  <a:lnTo>
                    <a:pt x="700" y="4632"/>
                  </a:lnTo>
                  <a:lnTo>
                    <a:pt x="711" y="4482"/>
                  </a:lnTo>
                  <a:lnTo>
                    <a:pt x="728" y="4332"/>
                  </a:lnTo>
                  <a:lnTo>
                    <a:pt x="752" y="4181"/>
                  </a:lnTo>
                  <a:lnTo>
                    <a:pt x="781" y="4030"/>
                  </a:lnTo>
                  <a:lnTo>
                    <a:pt x="815" y="3877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3"/>
                  </a:lnTo>
                  <a:lnTo>
                    <a:pt x="1011" y="3274"/>
                  </a:lnTo>
                  <a:lnTo>
                    <a:pt x="1076" y="3125"/>
                  </a:lnTo>
                  <a:lnTo>
                    <a:pt x="1144" y="2979"/>
                  </a:lnTo>
                  <a:lnTo>
                    <a:pt x="1219" y="2835"/>
                  </a:lnTo>
                  <a:lnTo>
                    <a:pt x="1298" y="2694"/>
                  </a:lnTo>
                  <a:lnTo>
                    <a:pt x="1384" y="2554"/>
                  </a:lnTo>
                  <a:lnTo>
                    <a:pt x="1474" y="2420"/>
                  </a:lnTo>
                  <a:lnTo>
                    <a:pt x="1570" y="2287"/>
                  </a:lnTo>
                  <a:lnTo>
                    <a:pt x="1672" y="2160"/>
                  </a:lnTo>
                  <a:lnTo>
                    <a:pt x="1779" y="2035"/>
                  </a:lnTo>
                  <a:lnTo>
                    <a:pt x="1892" y="1917"/>
                  </a:lnTo>
                  <a:lnTo>
                    <a:pt x="2010" y="1802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4" y="1493"/>
                  </a:lnTo>
                  <a:lnTo>
                    <a:pt x="2532" y="1403"/>
                  </a:lnTo>
                  <a:lnTo>
                    <a:pt x="2676" y="1319"/>
                  </a:lnTo>
                  <a:lnTo>
                    <a:pt x="2825" y="1241"/>
                  </a:lnTo>
                  <a:lnTo>
                    <a:pt x="2979" y="1172"/>
                  </a:lnTo>
                  <a:lnTo>
                    <a:pt x="3137" y="1110"/>
                  </a:lnTo>
                  <a:lnTo>
                    <a:pt x="3301" y="1057"/>
                  </a:lnTo>
                  <a:lnTo>
                    <a:pt x="3471" y="1012"/>
                  </a:lnTo>
                  <a:lnTo>
                    <a:pt x="3437" y="975"/>
                  </a:lnTo>
                  <a:lnTo>
                    <a:pt x="3394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60" y="763"/>
                  </a:lnTo>
                  <a:lnTo>
                    <a:pt x="2971" y="729"/>
                  </a:lnTo>
                  <a:lnTo>
                    <a:pt x="2877" y="697"/>
                  </a:lnTo>
                  <a:lnTo>
                    <a:pt x="2777" y="666"/>
                  </a:lnTo>
                  <a:lnTo>
                    <a:pt x="2672" y="636"/>
                  </a:lnTo>
                  <a:lnTo>
                    <a:pt x="2561" y="608"/>
                  </a:lnTo>
                  <a:lnTo>
                    <a:pt x="2446" y="582"/>
                  </a:lnTo>
                  <a:lnTo>
                    <a:pt x="2328" y="557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3" y="497"/>
                  </a:lnTo>
                  <a:lnTo>
                    <a:pt x="1822" y="482"/>
                  </a:lnTo>
                  <a:lnTo>
                    <a:pt x="1690" y="468"/>
                  </a:lnTo>
                  <a:lnTo>
                    <a:pt x="1557" y="458"/>
                  </a:lnTo>
                  <a:lnTo>
                    <a:pt x="1422" y="451"/>
                  </a:lnTo>
                  <a:lnTo>
                    <a:pt x="1287" y="447"/>
                  </a:lnTo>
                  <a:lnTo>
                    <a:pt x="1152" y="447"/>
                  </a:lnTo>
                  <a:lnTo>
                    <a:pt x="1017" y="450"/>
                  </a:lnTo>
                  <a:lnTo>
                    <a:pt x="883" y="457"/>
                  </a:lnTo>
                  <a:lnTo>
                    <a:pt x="750" y="467"/>
                  </a:lnTo>
                  <a:lnTo>
                    <a:pt x="619" y="483"/>
                  </a:lnTo>
                  <a:lnTo>
                    <a:pt x="490" y="501"/>
                  </a:lnTo>
                  <a:lnTo>
                    <a:pt x="363" y="524"/>
                  </a:lnTo>
                  <a:lnTo>
                    <a:pt x="239" y="551"/>
                  </a:lnTo>
                  <a:lnTo>
                    <a:pt x="117" y="583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9" y="472"/>
                  </a:lnTo>
                  <a:lnTo>
                    <a:pt x="480" y="405"/>
                  </a:lnTo>
                  <a:lnTo>
                    <a:pt x="643" y="344"/>
                  </a:lnTo>
                  <a:lnTo>
                    <a:pt x="806" y="288"/>
                  </a:lnTo>
                  <a:lnTo>
                    <a:pt x="970" y="237"/>
                  </a:lnTo>
                  <a:lnTo>
                    <a:pt x="1135" y="190"/>
                  </a:lnTo>
                  <a:lnTo>
                    <a:pt x="1299" y="149"/>
                  </a:lnTo>
                  <a:lnTo>
                    <a:pt x="1463" y="113"/>
                  </a:lnTo>
                  <a:lnTo>
                    <a:pt x="1627" y="81"/>
                  </a:lnTo>
                  <a:lnTo>
                    <a:pt x="1790" y="55"/>
                  </a:lnTo>
                  <a:lnTo>
                    <a:pt x="1953" y="34"/>
                  </a:lnTo>
                  <a:lnTo>
                    <a:pt x="2114" y="18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7" y="0"/>
                  </a:lnTo>
                  <a:lnTo>
                    <a:pt x="2741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5"/>
                  </a:lnTo>
                  <a:lnTo>
                    <a:pt x="3327" y="69"/>
                  </a:lnTo>
                  <a:lnTo>
                    <a:pt x="3466" y="98"/>
                  </a:lnTo>
                  <a:lnTo>
                    <a:pt x="3601" y="132"/>
                  </a:lnTo>
                  <a:lnTo>
                    <a:pt x="3731" y="171"/>
                  </a:lnTo>
                  <a:lnTo>
                    <a:pt x="3857" y="216"/>
                  </a:lnTo>
                  <a:lnTo>
                    <a:pt x="3979" y="264"/>
                  </a:lnTo>
                  <a:lnTo>
                    <a:pt x="4096" y="318"/>
                  </a:lnTo>
                  <a:lnTo>
                    <a:pt x="4207" y="377"/>
                  </a:lnTo>
                  <a:lnTo>
                    <a:pt x="4314" y="441"/>
                  </a:lnTo>
                  <a:lnTo>
                    <a:pt x="4415" y="511"/>
                  </a:lnTo>
                  <a:lnTo>
                    <a:pt x="4509" y="584"/>
                  </a:lnTo>
                  <a:lnTo>
                    <a:pt x="4598" y="663"/>
                  </a:lnTo>
                  <a:lnTo>
                    <a:pt x="4716" y="663"/>
                  </a:lnTo>
                  <a:lnTo>
                    <a:pt x="4837" y="665"/>
                  </a:lnTo>
                  <a:lnTo>
                    <a:pt x="4958" y="667"/>
                  </a:lnTo>
                  <a:lnTo>
                    <a:pt x="5082" y="670"/>
                  </a:lnTo>
                  <a:lnTo>
                    <a:pt x="5206" y="675"/>
                  </a:lnTo>
                  <a:lnTo>
                    <a:pt x="5330" y="681"/>
                  </a:lnTo>
                  <a:lnTo>
                    <a:pt x="5455" y="689"/>
                  </a:lnTo>
                  <a:lnTo>
                    <a:pt x="5581" y="698"/>
                  </a:lnTo>
                  <a:lnTo>
                    <a:pt x="5707" y="708"/>
                  </a:lnTo>
                  <a:lnTo>
                    <a:pt x="5832" y="721"/>
                  </a:lnTo>
                  <a:lnTo>
                    <a:pt x="5959" y="736"/>
                  </a:lnTo>
                  <a:lnTo>
                    <a:pt x="6084" y="753"/>
                  </a:lnTo>
                  <a:lnTo>
                    <a:pt x="6208" y="772"/>
                  </a:lnTo>
                  <a:lnTo>
                    <a:pt x="6332" y="793"/>
                  </a:lnTo>
                  <a:lnTo>
                    <a:pt x="6455" y="817"/>
                  </a:lnTo>
                  <a:lnTo>
                    <a:pt x="6576" y="843"/>
                  </a:lnTo>
                  <a:lnTo>
                    <a:pt x="6697" y="872"/>
                  </a:lnTo>
                  <a:lnTo>
                    <a:pt x="6816" y="903"/>
                  </a:lnTo>
                  <a:lnTo>
                    <a:pt x="6932" y="938"/>
                  </a:lnTo>
                  <a:lnTo>
                    <a:pt x="7047" y="975"/>
                  </a:lnTo>
                  <a:lnTo>
                    <a:pt x="7160" y="1017"/>
                  </a:lnTo>
                  <a:lnTo>
                    <a:pt x="7270" y="1060"/>
                  </a:lnTo>
                  <a:lnTo>
                    <a:pt x="7377" y="1108"/>
                  </a:lnTo>
                  <a:lnTo>
                    <a:pt x="7483" y="1158"/>
                  </a:lnTo>
                  <a:lnTo>
                    <a:pt x="7585" y="1213"/>
                  </a:lnTo>
                  <a:lnTo>
                    <a:pt x="7683" y="1271"/>
                  </a:lnTo>
                  <a:lnTo>
                    <a:pt x="7779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4"/>
                  </a:lnTo>
                  <a:lnTo>
                    <a:pt x="8122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04120" y="457200"/>
              <a:ext cx="255600" cy="247680"/>
            </a:xfrm>
            <a:custGeom>
              <a:avLst/>
              <a:gdLst/>
              <a:ahLst/>
              <a:rect l="l" t="t" r="r" b="b"/>
              <a:pathLst>
                <a:path w="7247" h="7040">
                  <a:moveTo>
                    <a:pt x="2064" y="1540"/>
                  </a:moveTo>
                  <a:lnTo>
                    <a:pt x="1855" y="1499"/>
                  </a:lnTo>
                  <a:lnTo>
                    <a:pt x="1658" y="1479"/>
                  </a:lnTo>
                  <a:lnTo>
                    <a:pt x="1470" y="1482"/>
                  </a:lnTo>
                  <a:lnTo>
                    <a:pt x="1293" y="1505"/>
                  </a:lnTo>
                  <a:lnTo>
                    <a:pt x="1127" y="1545"/>
                  </a:lnTo>
                  <a:lnTo>
                    <a:pt x="973" y="1602"/>
                  </a:lnTo>
                  <a:lnTo>
                    <a:pt x="829" y="1675"/>
                  </a:lnTo>
                  <a:lnTo>
                    <a:pt x="696" y="1763"/>
                  </a:lnTo>
                  <a:lnTo>
                    <a:pt x="574" y="1863"/>
                  </a:lnTo>
                  <a:lnTo>
                    <a:pt x="464" y="1975"/>
                  </a:lnTo>
                  <a:lnTo>
                    <a:pt x="365" y="2098"/>
                  </a:lnTo>
                  <a:lnTo>
                    <a:pt x="278" y="2230"/>
                  </a:lnTo>
                  <a:lnTo>
                    <a:pt x="203" y="2370"/>
                  </a:lnTo>
                  <a:lnTo>
                    <a:pt x="139" y="2516"/>
                  </a:lnTo>
                  <a:lnTo>
                    <a:pt x="87" y="2668"/>
                  </a:lnTo>
                  <a:lnTo>
                    <a:pt x="47" y="2822"/>
                  </a:lnTo>
                  <a:lnTo>
                    <a:pt x="19" y="2981"/>
                  </a:lnTo>
                  <a:lnTo>
                    <a:pt x="4" y="3140"/>
                  </a:lnTo>
                  <a:lnTo>
                    <a:pt x="0" y="3298"/>
                  </a:lnTo>
                  <a:lnTo>
                    <a:pt x="9" y="3456"/>
                  </a:lnTo>
                  <a:lnTo>
                    <a:pt x="30" y="3611"/>
                  </a:lnTo>
                  <a:lnTo>
                    <a:pt x="63" y="3762"/>
                  </a:lnTo>
                  <a:lnTo>
                    <a:pt x="110" y="3907"/>
                  </a:lnTo>
                  <a:lnTo>
                    <a:pt x="169" y="4046"/>
                  </a:lnTo>
                  <a:lnTo>
                    <a:pt x="240" y="4176"/>
                  </a:lnTo>
                  <a:lnTo>
                    <a:pt x="325" y="4298"/>
                  </a:lnTo>
                  <a:lnTo>
                    <a:pt x="422" y="4408"/>
                  </a:lnTo>
                  <a:lnTo>
                    <a:pt x="533" y="4508"/>
                  </a:lnTo>
                  <a:lnTo>
                    <a:pt x="658" y="4593"/>
                  </a:lnTo>
                  <a:lnTo>
                    <a:pt x="795" y="4664"/>
                  </a:lnTo>
                  <a:lnTo>
                    <a:pt x="946" y="4718"/>
                  </a:lnTo>
                  <a:lnTo>
                    <a:pt x="1110" y="4757"/>
                  </a:lnTo>
                  <a:lnTo>
                    <a:pt x="1008" y="4893"/>
                  </a:lnTo>
                  <a:lnTo>
                    <a:pt x="929" y="5032"/>
                  </a:lnTo>
                  <a:lnTo>
                    <a:pt x="872" y="5171"/>
                  </a:lnTo>
                  <a:lnTo>
                    <a:pt x="835" y="5311"/>
                  </a:lnTo>
                  <a:lnTo>
                    <a:pt x="818" y="5450"/>
                  </a:lnTo>
                  <a:lnTo>
                    <a:pt x="819" y="5588"/>
                  </a:lnTo>
                  <a:lnTo>
                    <a:pt x="837" y="5723"/>
                  </a:lnTo>
                  <a:lnTo>
                    <a:pt x="872" y="5857"/>
                  </a:lnTo>
                  <a:lnTo>
                    <a:pt x="922" y="5986"/>
                  </a:lnTo>
                  <a:lnTo>
                    <a:pt x="985" y="6112"/>
                  </a:lnTo>
                  <a:lnTo>
                    <a:pt x="1062" y="6233"/>
                  </a:lnTo>
                  <a:lnTo>
                    <a:pt x="1150" y="6349"/>
                  </a:lnTo>
                  <a:lnTo>
                    <a:pt x="1249" y="6457"/>
                  </a:lnTo>
                  <a:lnTo>
                    <a:pt x="1358" y="6559"/>
                  </a:lnTo>
                  <a:lnTo>
                    <a:pt x="1476" y="6653"/>
                  </a:lnTo>
                  <a:lnTo>
                    <a:pt x="1600" y="6739"/>
                  </a:lnTo>
                  <a:lnTo>
                    <a:pt x="1731" y="6815"/>
                  </a:lnTo>
                  <a:lnTo>
                    <a:pt x="1867" y="6881"/>
                  </a:lnTo>
                  <a:lnTo>
                    <a:pt x="2008" y="6938"/>
                  </a:lnTo>
                  <a:lnTo>
                    <a:pt x="2151" y="6982"/>
                  </a:lnTo>
                  <a:lnTo>
                    <a:pt x="2297" y="7014"/>
                  </a:lnTo>
                  <a:lnTo>
                    <a:pt x="2443" y="7034"/>
                  </a:lnTo>
                  <a:lnTo>
                    <a:pt x="2589" y="7040"/>
                  </a:lnTo>
                  <a:lnTo>
                    <a:pt x="2734" y="7032"/>
                  </a:lnTo>
                  <a:lnTo>
                    <a:pt x="2876" y="7009"/>
                  </a:lnTo>
                  <a:lnTo>
                    <a:pt x="3015" y="6970"/>
                  </a:lnTo>
                  <a:lnTo>
                    <a:pt x="3149" y="6915"/>
                  </a:lnTo>
                  <a:lnTo>
                    <a:pt x="3278" y="6841"/>
                  </a:lnTo>
                  <a:lnTo>
                    <a:pt x="3399" y="6751"/>
                  </a:lnTo>
                  <a:lnTo>
                    <a:pt x="3513" y="6643"/>
                  </a:lnTo>
                  <a:lnTo>
                    <a:pt x="3617" y="6514"/>
                  </a:lnTo>
                  <a:lnTo>
                    <a:pt x="3712" y="6366"/>
                  </a:lnTo>
                  <a:lnTo>
                    <a:pt x="3833" y="6508"/>
                  </a:lnTo>
                  <a:lnTo>
                    <a:pt x="3961" y="6633"/>
                  </a:lnTo>
                  <a:lnTo>
                    <a:pt x="4095" y="6739"/>
                  </a:lnTo>
                  <a:lnTo>
                    <a:pt x="4235" y="6827"/>
                  </a:lnTo>
                  <a:lnTo>
                    <a:pt x="4380" y="6899"/>
                  </a:lnTo>
                  <a:lnTo>
                    <a:pt x="4528" y="6953"/>
                  </a:lnTo>
                  <a:lnTo>
                    <a:pt x="4680" y="6992"/>
                  </a:lnTo>
                  <a:lnTo>
                    <a:pt x="4832" y="7016"/>
                  </a:lnTo>
                  <a:lnTo>
                    <a:pt x="4985" y="7026"/>
                  </a:lnTo>
                  <a:lnTo>
                    <a:pt x="5138" y="7021"/>
                  </a:lnTo>
                  <a:lnTo>
                    <a:pt x="5289" y="7004"/>
                  </a:lnTo>
                  <a:lnTo>
                    <a:pt x="5439" y="6974"/>
                  </a:lnTo>
                  <a:lnTo>
                    <a:pt x="5584" y="6932"/>
                  </a:lnTo>
                  <a:lnTo>
                    <a:pt x="5725" y="6878"/>
                  </a:lnTo>
                  <a:lnTo>
                    <a:pt x="5860" y="6814"/>
                  </a:lnTo>
                  <a:lnTo>
                    <a:pt x="5989" y="6740"/>
                  </a:lnTo>
                  <a:lnTo>
                    <a:pt x="6111" y="6657"/>
                  </a:lnTo>
                  <a:lnTo>
                    <a:pt x="6225" y="6564"/>
                  </a:lnTo>
                  <a:lnTo>
                    <a:pt x="6329" y="6464"/>
                  </a:lnTo>
                  <a:lnTo>
                    <a:pt x="6422" y="6357"/>
                  </a:lnTo>
                  <a:lnTo>
                    <a:pt x="6504" y="6242"/>
                  </a:lnTo>
                  <a:lnTo>
                    <a:pt x="6573" y="6121"/>
                  </a:lnTo>
                  <a:lnTo>
                    <a:pt x="6629" y="5995"/>
                  </a:lnTo>
                  <a:lnTo>
                    <a:pt x="6670" y="5864"/>
                  </a:lnTo>
                  <a:lnTo>
                    <a:pt x="6696" y="5728"/>
                  </a:lnTo>
                  <a:lnTo>
                    <a:pt x="6705" y="5589"/>
                  </a:lnTo>
                  <a:lnTo>
                    <a:pt x="6697" y="5447"/>
                  </a:lnTo>
                  <a:lnTo>
                    <a:pt x="6670" y="5303"/>
                  </a:lnTo>
                  <a:lnTo>
                    <a:pt x="6624" y="5156"/>
                  </a:lnTo>
                  <a:lnTo>
                    <a:pt x="6557" y="5009"/>
                  </a:lnTo>
                  <a:lnTo>
                    <a:pt x="6469" y="4861"/>
                  </a:lnTo>
                  <a:lnTo>
                    <a:pt x="6358" y="4713"/>
                  </a:lnTo>
                  <a:lnTo>
                    <a:pt x="6519" y="4644"/>
                  </a:lnTo>
                  <a:lnTo>
                    <a:pt x="6662" y="4562"/>
                  </a:lnTo>
                  <a:lnTo>
                    <a:pt x="6788" y="4469"/>
                  </a:lnTo>
                  <a:lnTo>
                    <a:pt x="6898" y="4364"/>
                  </a:lnTo>
                  <a:lnTo>
                    <a:pt x="6992" y="4250"/>
                  </a:lnTo>
                  <a:lnTo>
                    <a:pt x="7071" y="4127"/>
                  </a:lnTo>
                  <a:lnTo>
                    <a:pt x="7135" y="3998"/>
                  </a:lnTo>
                  <a:lnTo>
                    <a:pt x="7183" y="3861"/>
                  </a:lnTo>
                  <a:lnTo>
                    <a:pt x="7218" y="3720"/>
                  </a:lnTo>
                  <a:lnTo>
                    <a:pt x="7239" y="3575"/>
                  </a:lnTo>
                  <a:lnTo>
                    <a:pt x="7247" y="3428"/>
                  </a:lnTo>
                  <a:lnTo>
                    <a:pt x="7242" y="3278"/>
                  </a:lnTo>
                  <a:lnTo>
                    <a:pt x="7224" y="3128"/>
                  </a:lnTo>
                  <a:lnTo>
                    <a:pt x="7195" y="2978"/>
                  </a:lnTo>
                  <a:lnTo>
                    <a:pt x="7155" y="2830"/>
                  </a:lnTo>
                  <a:lnTo>
                    <a:pt x="7104" y="2685"/>
                  </a:lnTo>
                  <a:lnTo>
                    <a:pt x="7042" y="2544"/>
                  </a:lnTo>
                  <a:lnTo>
                    <a:pt x="6970" y="2408"/>
                  </a:lnTo>
                  <a:lnTo>
                    <a:pt x="6889" y="2278"/>
                  </a:lnTo>
                  <a:lnTo>
                    <a:pt x="6799" y="2156"/>
                  </a:lnTo>
                  <a:lnTo>
                    <a:pt x="6700" y="2042"/>
                  </a:lnTo>
                  <a:lnTo>
                    <a:pt x="6594" y="1937"/>
                  </a:lnTo>
                  <a:lnTo>
                    <a:pt x="6480" y="1844"/>
                  </a:lnTo>
                  <a:lnTo>
                    <a:pt x="6359" y="1763"/>
                  </a:lnTo>
                  <a:lnTo>
                    <a:pt x="6231" y="1693"/>
                  </a:lnTo>
                  <a:lnTo>
                    <a:pt x="6096" y="1639"/>
                  </a:lnTo>
                  <a:lnTo>
                    <a:pt x="5956" y="1599"/>
                  </a:lnTo>
                  <a:lnTo>
                    <a:pt x="5811" y="1576"/>
                  </a:lnTo>
                  <a:lnTo>
                    <a:pt x="5661" y="1571"/>
                  </a:lnTo>
                  <a:lnTo>
                    <a:pt x="5507" y="1584"/>
                  </a:lnTo>
                  <a:lnTo>
                    <a:pt x="5348" y="1616"/>
                  </a:lnTo>
                  <a:lnTo>
                    <a:pt x="5187" y="1670"/>
                  </a:lnTo>
                  <a:lnTo>
                    <a:pt x="5206" y="1468"/>
                  </a:lnTo>
                  <a:lnTo>
                    <a:pt x="5202" y="1280"/>
                  </a:lnTo>
                  <a:lnTo>
                    <a:pt x="5176" y="1104"/>
                  </a:lnTo>
                  <a:lnTo>
                    <a:pt x="5132" y="941"/>
                  </a:lnTo>
                  <a:lnTo>
                    <a:pt x="5068" y="793"/>
                  </a:lnTo>
                  <a:lnTo>
                    <a:pt x="4989" y="656"/>
                  </a:lnTo>
                  <a:lnTo>
                    <a:pt x="4894" y="533"/>
                  </a:lnTo>
                  <a:lnTo>
                    <a:pt x="4785" y="423"/>
                  </a:lnTo>
                  <a:lnTo>
                    <a:pt x="4665" y="325"/>
                  </a:lnTo>
                  <a:lnTo>
                    <a:pt x="4533" y="241"/>
                  </a:lnTo>
                  <a:lnTo>
                    <a:pt x="4393" y="169"/>
                  </a:lnTo>
                  <a:lnTo>
                    <a:pt x="4245" y="109"/>
                  </a:lnTo>
                  <a:lnTo>
                    <a:pt x="4091" y="63"/>
                  </a:lnTo>
                  <a:lnTo>
                    <a:pt x="3933" y="30"/>
                  </a:lnTo>
                  <a:lnTo>
                    <a:pt x="3771" y="9"/>
                  </a:lnTo>
                  <a:lnTo>
                    <a:pt x="3609" y="0"/>
                  </a:lnTo>
                  <a:lnTo>
                    <a:pt x="3447" y="4"/>
                  </a:lnTo>
                  <a:lnTo>
                    <a:pt x="3286" y="20"/>
                  </a:lnTo>
                  <a:lnTo>
                    <a:pt x="3129" y="49"/>
                  </a:lnTo>
                  <a:lnTo>
                    <a:pt x="2975" y="91"/>
                  </a:lnTo>
                  <a:lnTo>
                    <a:pt x="2829" y="145"/>
                  </a:lnTo>
                  <a:lnTo>
                    <a:pt x="2690" y="211"/>
                  </a:lnTo>
                  <a:lnTo>
                    <a:pt x="2560" y="289"/>
                  </a:lnTo>
                  <a:lnTo>
                    <a:pt x="2442" y="379"/>
                  </a:lnTo>
                  <a:lnTo>
                    <a:pt x="2335" y="483"/>
                  </a:lnTo>
                  <a:lnTo>
                    <a:pt x="2243" y="597"/>
                  </a:lnTo>
                  <a:lnTo>
                    <a:pt x="2165" y="725"/>
                  </a:lnTo>
                  <a:lnTo>
                    <a:pt x="2105" y="863"/>
                  </a:lnTo>
                  <a:lnTo>
                    <a:pt x="2063" y="1015"/>
                  </a:lnTo>
                  <a:lnTo>
                    <a:pt x="2041" y="1177"/>
                  </a:lnTo>
                  <a:lnTo>
                    <a:pt x="2041" y="1353"/>
                  </a:lnTo>
                  <a:lnTo>
                    <a:pt x="2064" y="15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8320" y="549360"/>
              <a:ext cx="71280" cy="71280"/>
            </a:xfrm>
            <a:custGeom>
              <a:avLst/>
              <a:gdLst/>
              <a:ahLst/>
              <a:rect l="l" t="t" r="r" b="b"/>
              <a:pathLst>
                <a:path w="1994" h="1999">
                  <a:moveTo>
                    <a:pt x="997" y="0"/>
                  </a:moveTo>
                  <a:lnTo>
                    <a:pt x="1048" y="1"/>
                  </a:lnTo>
                  <a:lnTo>
                    <a:pt x="1098" y="5"/>
                  </a:lnTo>
                  <a:lnTo>
                    <a:pt x="1148" y="11"/>
                  </a:lnTo>
                  <a:lnTo>
                    <a:pt x="1197" y="20"/>
                  </a:lnTo>
                  <a:lnTo>
                    <a:pt x="1245" y="31"/>
                  </a:lnTo>
                  <a:lnTo>
                    <a:pt x="1293" y="45"/>
                  </a:lnTo>
                  <a:lnTo>
                    <a:pt x="1339" y="60"/>
                  </a:lnTo>
                  <a:lnTo>
                    <a:pt x="1384" y="78"/>
                  </a:lnTo>
                  <a:lnTo>
                    <a:pt x="1428" y="98"/>
                  </a:lnTo>
                  <a:lnTo>
                    <a:pt x="1471" y="120"/>
                  </a:lnTo>
                  <a:lnTo>
                    <a:pt x="1513" y="144"/>
                  </a:lnTo>
                  <a:lnTo>
                    <a:pt x="1554" y="170"/>
                  </a:lnTo>
                  <a:lnTo>
                    <a:pt x="1593" y="198"/>
                  </a:lnTo>
                  <a:lnTo>
                    <a:pt x="1631" y="229"/>
                  </a:lnTo>
                  <a:lnTo>
                    <a:pt x="1667" y="260"/>
                  </a:lnTo>
                  <a:lnTo>
                    <a:pt x="1702" y="293"/>
                  </a:lnTo>
                  <a:lnTo>
                    <a:pt x="1735" y="328"/>
                  </a:lnTo>
                  <a:lnTo>
                    <a:pt x="1766" y="364"/>
                  </a:lnTo>
                  <a:lnTo>
                    <a:pt x="1796" y="401"/>
                  </a:lnTo>
                  <a:lnTo>
                    <a:pt x="1824" y="441"/>
                  </a:lnTo>
                  <a:lnTo>
                    <a:pt x="1850" y="482"/>
                  </a:lnTo>
                  <a:lnTo>
                    <a:pt x="1874" y="524"/>
                  </a:lnTo>
                  <a:lnTo>
                    <a:pt x="1896" y="567"/>
                  </a:lnTo>
                  <a:lnTo>
                    <a:pt x="1916" y="611"/>
                  </a:lnTo>
                  <a:lnTo>
                    <a:pt x="1934" y="656"/>
                  </a:lnTo>
                  <a:lnTo>
                    <a:pt x="1949" y="702"/>
                  </a:lnTo>
                  <a:lnTo>
                    <a:pt x="1963" y="750"/>
                  </a:lnTo>
                  <a:lnTo>
                    <a:pt x="1974" y="799"/>
                  </a:lnTo>
                  <a:lnTo>
                    <a:pt x="1983" y="848"/>
                  </a:lnTo>
                  <a:lnTo>
                    <a:pt x="1989" y="897"/>
                  </a:lnTo>
                  <a:lnTo>
                    <a:pt x="1993" y="948"/>
                  </a:lnTo>
                  <a:lnTo>
                    <a:pt x="1994" y="999"/>
                  </a:lnTo>
                  <a:lnTo>
                    <a:pt x="1993" y="1051"/>
                  </a:lnTo>
                  <a:lnTo>
                    <a:pt x="1989" y="1102"/>
                  </a:lnTo>
                  <a:lnTo>
                    <a:pt x="1983" y="1151"/>
                  </a:lnTo>
                  <a:lnTo>
                    <a:pt x="1974" y="1200"/>
                  </a:lnTo>
                  <a:lnTo>
                    <a:pt x="1963" y="1248"/>
                  </a:lnTo>
                  <a:lnTo>
                    <a:pt x="1949" y="1297"/>
                  </a:lnTo>
                  <a:lnTo>
                    <a:pt x="1934" y="1343"/>
                  </a:lnTo>
                  <a:lnTo>
                    <a:pt x="1916" y="1388"/>
                  </a:lnTo>
                  <a:lnTo>
                    <a:pt x="1896" y="1432"/>
                  </a:lnTo>
                  <a:lnTo>
                    <a:pt x="1874" y="1475"/>
                  </a:lnTo>
                  <a:lnTo>
                    <a:pt x="1850" y="1517"/>
                  </a:lnTo>
                  <a:lnTo>
                    <a:pt x="1824" y="1557"/>
                  </a:lnTo>
                  <a:lnTo>
                    <a:pt x="1796" y="1597"/>
                  </a:lnTo>
                  <a:lnTo>
                    <a:pt x="1766" y="1635"/>
                  </a:lnTo>
                  <a:lnTo>
                    <a:pt x="1735" y="1671"/>
                  </a:lnTo>
                  <a:lnTo>
                    <a:pt x="1702" y="1706"/>
                  </a:lnTo>
                  <a:lnTo>
                    <a:pt x="1667" y="1739"/>
                  </a:lnTo>
                  <a:lnTo>
                    <a:pt x="1631" y="1770"/>
                  </a:lnTo>
                  <a:lnTo>
                    <a:pt x="1593" y="1800"/>
                  </a:lnTo>
                  <a:lnTo>
                    <a:pt x="1554" y="1829"/>
                  </a:lnTo>
                  <a:lnTo>
                    <a:pt x="1513" y="1855"/>
                  </a:lnTo>
                  <a:lnTo>
                    <a:pt x="1471" y="1879"/>
                  </a:lnTo>
                  <a:lnTo>
                    <a:pt x="1428" y="1901"/>
                  </a:lnTo>
                  <a:lnTo>
                    <a:pt x="1384" y="1921"/>
                  </a:lnTo>
                  <a:lnTo>
                    <a:pt x="1339" y="1939"/>
                  </a:lnTo>
                  <a:lnTo>
                    <a:pt x="1293" y="1954"/>
                  </a:lnTo>
                  <a:lnTo>
                    <a:pt x="1245" y="1968"/>
                  </a:lnTo>
                  <a:lnTo>
                    <a:pt x="1197" y="1979"/>
                  </a:lnTo>
                  <a:lnTo>
                    <a:pt x="1148" y="1988"/>
                  </a:lnTo>
                  <a:lnTo>
                    <a:pt x="1098" y="1994"/>
                  </a:lnTo>
                  <a:lnTo>
                    <a:pt x="1048" y="1998"/>
                  </a:lnTo>
                  <a:lnTo>
                    <a:pt x="997" y="1999"/>
                  </a:lnTo>
                  <a:lnTo>
                    <a:pt x="946" y="1998"/>
                  </a:lnTo>
                  <a:lnTo>
                    <a:pt x="895" y="1994"/>
                  </a:lnTo>
                  <a:lnTo>
                    <a:pt x="846" y="1988"/>
                  </a:lnTo>
                  <a:lnTo>
                    <a:pt x="797" y="1979"/>
                  </a:lnTo>
                  <a:lnTo>
                    <a:pt x="748" y="1968"/>
                  </a:lnTo>
                  <a:lnTo>
                    <a:pt x="700" y="1954"/>
                  </a:lnTo>
                  <a:lnTo>
                    <a:pt x="654" y="1939"/>
                  </a:lnTo>
                  <a:lnTo>
                    <a:pt x="609" y="1921"/>
                  </a:lnTo>
                  <a:lnTo>
                    <a:pt x="565" y="1901"/>
                  </a:lnTo>
                  <a:lnTo>
                    <a:pt x="522" y="1879"/>
                  </a:lnTo>
                  <a:lnTo>
                    <a:pt x="480" y="1855"/>
                  </a:lnTo>
                  <a:lnTo>
                    <a:pt x="439" y="1829"/>
                  </a:lnTo>
                  <a:lnTo>
                    <a:pt x="400" y="1800"/>
                  </a:lnTo>
                  <a:lnTo>
                    <a:pt x="363" y="1770"/>
                  </a:lnTo>
                  <a:lnTo>
                    <a:pt x="327" y="1739"/>
                  </a:lnTo>
                  <a:lnTo>
                    <a:pt x="292" y="1706"/>
                  </a:lnTo>
                  <a:lnTo>
                    <a:pt x="259" y="1671"/>
                  </a:lnTo>
                  <a:lnTo>
                    <a:pt x="228" y="1635"/>
                  </a:lnTo>
                  <a:lnTo>
                    <a:pt x="198" y="1597"/>
                  </a:lnTo>
                  <a:lnTo>
                    <a:pt x="170" y="1557"/>
                  </a:lnTo>
                  <a:lnTo>
                    <a:pt x="144" y="1517"/>
                  </a:lnTo>
                  <a:lnTo>
                    <a:pt x="120" y="1475"/>
                  </a:lnTo>
                  <a:lnTo>
                    <a:pt x="98" y="1432"/>
                  </a:lnTo>
                  <a:lnTo>
                    <a:pt x="78" y="1388"/>
                  </a:lnTo>
                  <a:lnTo>
                    <a:pt x="60" y="1343"/>
                  </a:lnTo>
                  <a:lnTo>
                    <a:pt x="45" y="1297"/>
                  </a:lnTo>
                  <a:lnTo>
                    <a:pt x="31" y="1248"/>
                  </a:lnTo>
                  <a:lnTo>
                    <a:pt x="20" y="1200"/>
                  </a:lnTo>
                  <a:lnTo>
                    <a:pt x="11" y="1151"/>
                  </a:lnTo>
                  <a:lnTo>
                    <a:pt x="5" y="1102"/>
                  </a:lnTo>
                  <a:lnTo>
                    <a:pt x="1" y="1051"/>
                  </a:lnTo>
                  <a:lnTo>
                    <a:pt x="0" y="999"/>
                  </a:lnTo>
                  <a:lnTo>
                    <a:pt x="1" y="948"/>
                  </a:lnTo>
                  <a:lnTo>
                    <a:pt x="5" y="897"/>
                  </a:lnTo>
                  <a:lnTo>
                    <a:pt x="11" y="848"/>
                  </a:lnTo>
                  <a:lnTo>
                    <a:pt x="20" y="799"/>
                  </a:lnTo>
                  <a:lnTo>
                    <a:pt x="31" y="750"/>
                  </a:lnTo>
                  <a:lnTo>
                    <a:pt x="45" y="702"/>
                  </a:lnTo>
                  <a:lnTo>
                    <a:pt x="60" y="656"/>
                  </a:lnTo>
                  <a:lnTo>
                    <a:pt x="78" y="611"/>
                  </a:lnTo>
                  <a:lnTo>
                    <a:pt x="98" y="567"/>
                  </a:lnTo>
                  <a:lnTo>
                    <a:pt x="120" y="524"/>
                  </a:lnTo>
                  <a:lnTo>
                    <a:pt x="144" y="482"/>
                  </a:lnTo>
                  <a:lnTo>
                    <a:pt x="170" y="441"/>
                  </a:lnTo>
                  <a:lnTo>
                    <a:pt x="198" y="401"/>
                  </a:lnTo>
                  <a:lnTo>
                    <a:pt x="228" y="364"/>
                  </a:lnTo>
                  <a:lnTo>
                    <a:pt x="259" y="328"/>
                  </a:lnTo>
                  <a:lnTo>
                    <a:pt x="292" y="293"/>
                  </a:lnTo>
                  <a:lnTo>
                    <a:pt x="327" y="260"/>
                  </a:lnTo>
                  <a:lnTo>
                    <a:pt x="363" y="229"/>
                  </a:lnTo>
                  <a:lnTo>
                    <a:pt x="400" y="198"/>
                  </a:lnTo>
                  <a:lnTo>
                    <a:pt x="439" y="170"/>
                  </a:lnTo>
                  <a:lnTo>
                    <a:pt x="480" y="144"/>
                  </a:lnTo>
                  <a:lnTo>
                    <a:pt x="522" y="120"/>
                  </a:lnTo>
                  <a:lnTo>
                    <a:pt x="565" y="98"/>
                  </a:lnTo>
                  <a:lnTo>
                    <a:pt x="609" y="78"/>
                  </a:lnTo>
                  <a:lnTo>
                    <a:pt x="654" y="60"/>
                  </a:lnTo>
                  <a:lnTo>
                    <a:pt x="700" y="45"/>
                  </a:lnTo>
                  <a:lnTo>
                    <a:pt x="748" y="31"/>
                  </a:lnTo>
                  <a:lnTo>
                    <a:pt x="797" y="20"/>
                  </a:lnTo>
                  <a:lnTo>
                    <a:pt x="846" y="11"/>
                  </a:lnTo>
                  <a:lnTo>
                    <a:pt x="895" y="5"/>
                  </a:lnTo>
                  <a:lnTo>
                    <a:pt x="946" y="1"/>
                  </a:lnTo>
                  <a:lnTo>
                    <a:pt x="9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01000" y="657360"/>
              <a:ext cx="289080" cy="172800"/>
            </a:xfrm>
            <a:custGeom>
              <a:avLst/>
              <a:gdLst/>
              <a:ahLst/>
              <a:rect l="l" t="t" r="r" b="b"/>
              <a:pathLst>
                <a:path w="8197" h="4924">
                  <a:moveTo>
                    <a:pt x="8197" y="1707"/>
                  </a:moveTo>
                  <a:lnTo>
                    <a:pt x="7939" y="1654"/>
                  </a:lnTo>
                  <a:lnTo>
                    <a:pt x="7678" y="1608"/>
                  </a:lnTo>
                  <a:lnTo>
                    <a:pt x="7411" y="1571"/>
                  </a:lnTo>
                  <a:lnTo>
                    <a:pt x="7141" y="1542"/>
                  </a:lnTo>
                  <a:lnTo>
                    <a:pt x="6869" y="1521"/>
                  </a:lnTo>
                  <a:lnTo>
                    <a:pt x="6594" y="1509"/>
                  </a:lnTo>
                  <a:lnTo>
                    <a:pt x="6318" y="1506"/>
                  </a:lnTo>
                  <a:lnTo>
                    <a:pt x="6042" y="1512"/>
                  </a:lnTo>
                  <a:lnTo>
                    <a:pt x="5764" y="1527"/>
                  </a:lnTo>
                  <a:lnTo>
                    <a:pt x="5487" y="1552"/>
                  </a:lnTo>
                  <a:lnTo>
                    <a:pt x="5211" y="1587"/>
                  </a:lnTo>
                  <a:lnTo>
                    <a:pt x="4936" y="1631"/>
                  </a:lnTo>
                  <a:lnTo>
                    <a:pt x="4663" y="1686"/>
                  </a:lnTo>
                  <a:lnTo>
                    <a:pt x="4393" y="1750"/>
                  </a:lnTo>
                  <a:lnTo>
                    <a:pt x="4127" y="1827"/>
                  </a:lnTo>
                  <a:lnTo>
                    <a:pt x="3864" y="1913"/>
                  </a:lnTo>
                  <a:lnTo>
                    <a:pt x="3607" y="2010"/>
                  </a:lnTo>
                  <a:lnTo>
                    <a:pt x="3353" y="2119"/>
                  </a:lnTo>
                  <a:lnTo>
                    <a:pt x="3106" y="2238"/>
                  </a:lnTo>
                  <a:lnTo>
                    <a:pt x="2866" y="2370"/>
                  </a:lnTo>
                  <a:lnTo>
                    <a:pt x="2631" y="2513"/>
                  </a:lnTo>
                  <a:lnTo>
                    <a:pt x="2405" y="2668"/>
                  </a:lnTo>
                  <a:lnTo>
                    <a:pt x="2187" y="2835"/>
                  </a:lnTo>
                  <a:lnTo>
                    <a:pt x="1977" y="3015"/>
                  </a:lnTo>
                  <a:lnTo>
                    <a:pt x="1778" y="3208"/>
                  </a:lnTo>
                  <a:lnTo>
                    <a:pt x="1588" y="3414"/>
                  </a:lnTo>
                  <a:lnTo>
                    <a:pt x="1409" y="3631"/>
                  </a:lnTo>
                  <a:lnTo>
                    <a:pt x="1242" y="3862"/>
                  </a:lnTo>
                  <a:lnTo>
                    <a:pt x="1085" y="4107"/>
                  </a:lnTo>
                  <a:lnTo>
                    <a:pt x="941" y="4366"/>
                  </a:lnTo>
                  <a:lnTo>
                    <a:pt x="811" y="4638"/>
                  </a:lnTo>
                  <a:lnTo>
                    <a:pt x="694" y="4924"/>
                  </a:lnTo>
                  <a:lnTo>
                    <a:pt x="694" y="4780"/>
                  </a:lnTo>
                  <a:lnTo>
                    <a:pt x="699" y="4632"/>
                  </a:lnTo>
                  <a:lnTo>
                    <a:pt x="711" y="4484"/>
                  </a:lnTo>
                  <a:lnTo>
                    <a:pt x="728" y="4333"/>
                  </a:lnTo>
                  <a:lnTo>
                    <a:pt x="751" y="4181"/>
                  </a:lnTo>
                  <a:lnTo>
                    <a:pt x="780" y="4030"/>
                  </a:lnTo>
                  <a:lnTo>
                    <a:pt x="815" y="3878"/>
                  </a:lnTo>
                  <a:lnTo>
                    <a:pt x="856" y="3726"/>
                  </a:lnTo>
                  <a:lnTo>
                    <a:pt x="902" y="3574"/>
                  </a:lnTo>
                  <a:lnTo>
                    <a:pt x="954" y="3424"/>
                  </a:lnTo>
                  <a:lnTo>
                    <a:pt x="1011" y="3274"/>
                  </a:lnTo>
                  <a:lnTo>
                    <a:pt x="1074" y="3126"/>
                  </a:lnTo>
                  <a:lnTo>
                    <a:pt x="1143" y="2980"/>
                  </a:lnTo>
                  <a:lnTo>
                    <a:pt x="1218" y="2835"/>
                  </a:lnTo>
                  <a:lnTo>
                    <a:pt x="1298" y="2694"/>
                  </a:lnTo>
                  <a:lnTo>
                    <a:pt x="1383" y="2555"/>
                  </a:lnTo>
                  <a:lnTo>
                    <a:pt x="1474" y="2420"/>
                  </a:lnTo>
                  <a:lnTo>
                    <a:pt x="1570" y="2288"/>
                  </a:lnTo>
                  <a:lnTo>
                    <a:pt x="1672" y="2160"/>
                  </a:lnTo>
                  <a:lnTo>
                    <a:pt x="1779" y="2036"/>
                  </a:lnTo>
                  <a:lnTo>
                    <a:pt x="1891" y="1917"/>
                  </a:lnTo>
                  <a:lnTo>
                    <a:pt x="2009" y="1804"/>
                  </a:lnTo>
                  <a:lnTo>
                    <a:pt x="2132" y="1694"/>
                  </a:lnTo>
                  <a:lnTo>
                    <a:pt x="2260" y="1591"/>
                  </a:lnTo>
                  <a:lnTo>
                    <a:pt x="2393" y="1494"/>
                  </a:lnTo>
                  <a:lnTo>
                    <a:pt x="2532" y="1403"/>
                  </a:lnTo>
                  <a:lnTo>
                    <a:pt x="2675" y="1319"/>
                  </a:lnTo>
                  <a:lnTo>
                    <a:pt x="2825" y="1243"/>
                  </a:lnTo>
                  <a:lnTo>
                    <a:pt x="2978" y="1172"/>
                  </a:lnTo>
                  <a:lnTo>
                    <a:pt x="3137" y="1111"/>
                  </a:lnTo>
                  <a:lnTo>
                    <a:pt x="3301" y="1057"/>
                  </a:lnTo>
                  <a:lnTo>
                    <a:pt x="3469" y="1012"/>
                  </a:lnTo>
                  <a:lnTo>
                    <a:pt x="3436" y="976"/>
                  </a:lnTo>
                  <a:lnTo>
                    <a:pt x="3393" y="939"/>
                  </a:lnTo>
                  <a:lnTo>
                    <a:pt x="3342" y="903"/>
                  </a:lnTo>
                  <a:lnTo>
                    <a:pt x="3283" y="867"/>
                  </a:lnTo>
                  <a:lnTo>
                    <a:pt x="3216" y="832"/>
                  </a:lnTo>
                  <a:lnTo>
                    <a:pt x="3141" y="797"/>
                  </a:lnTo>
                  <a:lnTo>
                    <a:pt x="3059" y="763"/>
                  </a:lnTo>
                  <a:lnTo>
                    <a:pt x="2971" y="730"/>
                  </a:lnTo>
                  <a:lnTo>
                    <a:pt x="2877" y="698"/>
                  </a:lnTo>
                  <a:lnTo>
                    <a:pt x="2776" y="666"/>
                  </a:lnTo>
                  <a:lnTo>
                    <a:pt x="2671" y="637"/>
                  </a:lnTo>
                  <a:lnTo>
                    <a:pt x="2561" y="609"/>
                  </a:lnTo>
                  <a:lnTo>
                    <a:pt x="2446" y="582"/>
                  </a:lnTo>
                  <a:lnTo>
                    <a:pt x="2328" y="558"/>
                  </a:lnTo>
                  <a:lnTo>
                    <a:pt x="2206" y="535"/>
                  </a:lnTo>
                  <a:lnTo>
                    <a:pt x="2081" y="515"/>
                  </a:lnTo>
                  <a:lnTo>
                    <a:pt x="1952" y="497"/>
                  </a:lnTo>
                  <a:lnTo>
                    <a:pt x="1822" y="482"/>
                  </a:lnTo>
                  <a:lnTo>
                    <a:pt x="1690" y="469"/>
                  </a:lnTo>
                  <a:lnTo>
                    <a:pt x="1556" y="459"/>
                  </a:lnTo>
                  <a:lnTo>
                    <a:pt x="1422" y="453"/>
                  </a:lnTo>
                  <a:lnTo>
                    <a:pt x="1287" y="449"/>
                  </a:lnTo>
                  <a:lnTo>
                    <a:pt x="1151" y="448"/>
                  </a:lnTo>
                  <a:lnTo>
                    <a:pt x="1017" y="451"/>
                  </a:lnTo>
                  <a:lnTo>
                    <a:pt x="883" y="458"/>
                  </a:lnTo>
                  <a:lnTo>
                    <a:pt x="750" y="469"/>
                  </a:lnTo>
                  <a:lnTo>
                    <a:pt x="618" y="483"/>
                  </a:lnTo>
                  <a:lnTo>
                    <a:pt x="489" y="502"/>
                  </a:lnTo>
                  <a:lnTo>
                    <a:pt x="361" y="524"/>
                  </a:lnTo>
                  <a:lnTo>
                    <a:pt x="238" y="552"/>
                  </a:lnTo>
                  <a:lnTo>
                    <a:pt x="117" y="584"/>
                  </a:lnTo>
                  <a:lnTo>
                    <a:pt x="0" y="620"/>
                  </a:lnTo>
                  <a:lnTo>
                    <a:pt x="158" y="544"/>
                  </a:lnTo>
                  <a:lnTo>
                    <a:pt x="318" y="473"/>
                  </a:lnTo>
                  <a:lnTo>
                    <a:pt x="480" y="406"/>
                  </a:lnTo>
                  <a:lnTo>
                    <a:pt x="642" y="345"/>
                  </a:lnTo>
                  <a:lnTo>
                    <a:pt x="805" y="288"/>
                  </a:lnTo>
                  <a:lnTo>
                    <a:pt x="969" y="237"/>
                  </a:lnTo>
                  <a:lnTo>
                    <a:pt x="1133" y="191"/>
                  </a:lnTo>
                  <a:lnTo>
                    <a:pt x="1299" y="150"/>
                  </a:lnTo>
                  <a:lnTo>
                    <a:pt x="1463" y="113"/>
                  </a:lnTo>
                  <a:lnTo>
                    <a:pt x="1627" y="82"/>
                  </a:lnTo>
                  <a:lnTo>
                    <a:pt x="1790" y="56"/>
                  </a:lnTo>
                  <a:lnTo>
                    <a:pt x="1952" y="35"/>
                  </a:lnTo>
                  <a:lnTo>
                    <a:pt x="2113" y="19"/>
                  </a:lnTo>
                  <a:lnTo>
                    <a:pt x="2273" y="7"/>
                  </a:lnTo>
                  <a:lnTo>
                    <a:pt x="2431" y="1"/>
                  </a:lnTo>
                  <a:lnTo>
                    <a:pt x="2586" y="0"/>
                  </a:lnTo>
                  <a:lnTo>
                    <a:pt x="2740" y="4"/>
                  </a:lnTo>
                  <a:lnTo>
                    <a:pt x="2892" y="13"/>
                  </a:lnTo>
                  <a:lnTo>
                    <a:pt x="3040" y="27"/>
                  </a:lnTo>
                  <a:lnTo>
                    <a:pt x="3185" y="46"/>
                  </a:lnTo>
                  <a:lnTo>
                    <a:pt x="3327" y="70"/>
                  </a:lnTo>
                  <a:lnTo>
                    <a:pt x="3465" y="99"/>
                  </a:lnTo>
                  <a:lnTo>
                    <a:pt x="3600" y="132"/>
                  </a:lnTo>
                  <a:lnTo>
                    <a:pt x="3731" y="172"/>
                  </a:lnTo>
                  <a:lnTo>
                    <a:pt x="3857" y="216"/>
                  </a:lnTo>
                  <a:lnTo>
                    <a:pt x="3979" y="265"/>
                  </a:lnTo>
                  <a:lnTo>
                    <a:pt x="4095" y="319"/>
                  </a:lnTo>
                  <a:lnTo>
                    <a:pt x="4207" y="377"/>
                  </a:lnTo>
                  <a:lnTo>
                    <a:pt x="4313" y="442"/>
                  </a:lnTo>
                  <a:lnTo>
                    <a:pt x="4415" y="511"/>
                  </a:lnTo>
                  <a:lnTo>
                    <a:pt x="4509" y="585"/>
                  </a:lnTo>
                  <a:lnTo>
                    <a:pt x="4598" y="663"/>
                  </a:lnTo>
                  <a:lnTo>
                    <a:pt x="4716" y="664"/>
                  </a:lnTo>
                  <a:lnTo>
                    <a:pt x="4836" y="665"/>
                  </a:lnTo>
                  <a:lnTo>
                    <a:pt x="4958" y="667"/>
                  </a:lnTo>
                  <a:lnTo>
                    <a:pt x="5081" y="671"/>
                  </a:lnTo>
                  <a:lnTo>
                    <a:pt x="5204" y="675"/>
                  </a:lnTo>
                  <a:lnTo>
                    <a:pt x="5330" y="681"/>
                  </a:lnTo>
                  <a:lnTo>
                    <a:pt x="5455" y="690"/>
                  </a:lnTo>
                  <a:lnTo>
                    <a:pt x="5581" y="699"/>
                  </a:lnTo>
                  <a:lnTo>
                    <a:pt x="5706" y="710"/>
                  </a:lnTo>
                  <a:lnTo>
                    <a:pt x="5832" y="722"/>
                  </a:lnTo>
                  <a:lnTo>
                    <a:pt x="5957" y="737"/>
                  </a:lnTo>
                  <a:lnTo>
                    <a:pt x="6084" y="754"/>
                  </a:lnTo>
                  <a:lnTo>
                    <a:pt x="6208" y="772"/>
                  </a:lnTo>
                  <a:lnTo>
                    <a:pt x="6332" y="794"/>
                  </a:lnTo>
                  <a:lnTo>
                    <a:pt x="6454" y="817"/>
                  </a:lnTo>
                  <a:lnTo>
                    <a:pt x="6576" y="843"/>
                  </a:lnTo>
                  <a:lnTo>
                    <a:pt x="6696" y="872"/>
                  </a:lnTo>
                  <a:lnTo>
                    <a:pt x="6815" y="903"/>
                  </a:lnTo>
                  <a:lnTo>
                    <a:pt x="6932" y="938"/>
                  </a:lnTo>
                  <a:lnTo>
                    <a:pt x="7047" y="976"/>
                  </a:lnTo>
                  <a:lnTo>
                    <a:pt x="7159" y="1017"/>
                  </a:lnTo>
                  <a:lnTo>
                    <a:pt x="7269" y="1061"/>
                  </a:lnTo>
                  <a:lnTo>
                    <a:pt x="7377" y="1108"/>
                  </a:lnTo>
                  <a:lnTo>
                    <a:pt x="7482" y="1159"/>
                  </a:lnTo>
                  <a:lnTo>
                    <a:pt x="7584" y="1213"/>
                  </a:lnTo>
                  <a:lnTo>
                    <a:pt x="7683" y="1272"/>
                  </a:lnTo>
                  <a:lnTo>
                    <a:pt x="7778" y="1334"/>
                  </a:lnTo>
                  <a:lnTo>
                    <a:pt x="7870" y="1400"/>
                  </a:lnTo>
                  <a:lnTo>
                    <a:pt x="7958" y="1470"/>
                  </a:lnTo>
                  <a:lnTo>
                    <a:pt x="8042" y="1545"/>
                  </a:lnTo>
                  <a:lnTo>
                    <a:pt x="8121" y="1624"/>
                  </a:lnTo>
                  <a:lnTo>
                    <a:pt x="8197" y="17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410680" y="563400"/>
              <a:ext cx="33120" cy="32040"/>
            </a:xfrm>
            <a:custGeom>
              <a:avLst/>
              <a:gdLst/>
              <a:ahLst/>
              <a:rect l="l" t="t" r="r" b="b"/>
              <a:pathLst>
                <a:path w="911" h="914">
                  <a:moveTo>
                    <a:pt x="455" y="0"/>
                  </a:moveTo>
                  <a:lnTo>
                    <a:pt x="478" y="1"/>
                  </a:lnTo>
                  <a:lnTo>
                    <a:pt x="501" y="3"/>
                  </a:lnTo>
                  <a:lnTo>
                    <a:pt x="524" y="6"/>
                  </a:lnTo>
                  <a:lnTo>
                    <a:pt x="546" y="10"/>
                  </a:lnTo>
                  <a:lnTo>
                    <a:pt x="568" y="15"/>
                  </a:lnTo>
                  <a:lnTo>
                    <a:pt x="590" y="21"/>
                  </a:lnTo>
                  <a:lnTo>
                    <a:pt x="611" y="28"/>
                  </a:lnTo>
                  <a:lnTo>
                    <a:pt x="631" y="36"/>
                  </a:lnTo>
                  <a:lnTo>
                    <a:pt x="652" y="45"/>
                  </a:lnTo>
                  <a:lnTo>
                    <a:pt x="671" y="56"/>
                  </a:lnTo>
                  <a:lnTo>
                    <a:pt x="690" y="66"/>
                  </a:lnTo>
                  <a:lnTo>
                    <a:pt x="709" y="78"/>
                  </a:lnTo>
                  <a:lnTo>
                    <a:pt x="727" y="92"/>
                  </a:lnTo>
                  <a:lnTo>
                    <a:pt x="744" y="106"/>
                  </a:lnTo>
                  <a:lnTo>
                    <a:pt x="760" y="120"/>
                  </a:lnTo>
                  <a:lnTo>
                    <a:pt x="776" y="135"/>
                  </a:lnTo>
                  <a:lnTo>
                    <a:pt x="792" y="151"/>
                  </a:lnTo>
                  <a:lnTo>
                    <a:pt x="806" y="167"/>
                  </a:lnTo>
                  <a:lnTo>
                    <a:pt x="820" y="184"/>
                  </a:lnTo>
                  <a:lnTo>
                    <a:pt x="833" y="202"/>
                  </a:lnTo>
                  <a:lnTo>
                    <a:pt x="845" y="221"/>
                  </a:lnTo>
                  <a:lnTo>
                    <a:pt x="855" y="240"/>
                  </a:lnTo>
                  <a:lnTo>
                    <a:pt x="866" y="259"/>
                  </a:lnTo>
                  <a:lnTo>
                    <a:pt x="875" y="280"/>
                  </a:lnTo>
                  <a:lnTo>
                    <a:pt x="883" y="300"/>
                  </a:lnTo>
                  <a:lnTo>
                    <a:pt x="890" y="321"/>
                  </a:lnTo>
                  <a:lnTo>
                    <a:pt x="896" y="343"/>
                  </a:lnTo>
                  <a:lnTo>
                    <a:pt x="901" y="366"/>
                  </a:lnTo>
                  <a:lnTo>
                    <a:pt x="905" y="388"/>
                  </a:lnTo>
                  <a:lnTo>
                    <a:pt x="908" y="411"/>
                  </a:lnTo>
                  <a:lnTo>
                    <a:pt x="910" y="434"/>
                  </a:lnTo>
                  <a:lnTo>
                    <a:pt x="911" y="457"/>
                  </a:lnTo>
                  <a:lnTo>
                    <a:pt x="910" y="481"/>
                  </a:lnTo>
                  <a:lnTo>
                    <a:pt x="908" y="504"/>
                  </a:lnTo>
                  <a:lnTo>
                    <a:pt x="905" y="526"/>
                  </a:lnTo>
                  <a:lnTo>
                    <a:pt x="901" y="549"/>
                  </a:lnTo>
                  <a:lnTo>
                    <a:pt x="896" y="571"/>
                  </a:lnTo>
                  <a:lnTo>
                    <a:pt x="890" y="592"/>
                  </a:lnTo>
                  <a:lnTo>
                    <a:pt x="883" y="613"/>
                  </a:lnTo>
                  <a:lnTo>
                    <a:pt x="875" y="635"/>
                  </a:lnTo>
                  <a:lnTo>
                    <a:pt x="866" y="655"/>
                  </a:lnTo>
                  <a:lnTo>
                    <a:pt x="855" y="675"/>
                  </a:lnTo>
                  <a:lnTo>
                    <a:pt x="845" y="694"/>
                  </a:lnTo>
                  <a:lnTo>
                    <a:pt x="833" y="712"/>
                  </a:lnTo>
                  <a:lnTo>
                    <a:pt x="820" y="730"/>
                  </a:lnTo>
                  <a:lnTo>
                    <a:pt x="806" y="747"/>
                  </a:lnTo>
                  <a:lnTo>
                    <a:pt x="792" y="764"/>
                  </a:lnTo>
                  <a:lnTo>
                    <a:pt x="776" y="780"/>
                  </a:lnTo>
                  <a:lnTo>
                    <a:pt x="760" y="795"/>
                  </a:lnTo>
                  <a:lnTo>
                    <a:pt x="744" y="809"/>
                  </a:lnTo>
                  <a:lnTo>
                    <a:pt x="727" y="823"/>
                  </a:lnTo>
                  <a:lnTo>
                    <a:pt x="709" y="835"/>
                  </a:lnTo>
                  <a:lnTo>
                    <a:pt x="690" y="847"/>
                  </a:lnTo>
                  <a:lnTo>
                    <a:pt x="671" y="858"/>
                  </a:lnTo>
                  <a:lnTo>
                    <a:pt x="652" y="868"/>
                  </a:lnTo>
                  <a:lnTo>
                    <a:pt x="631" y="877"/>
                  </a:lnTo>
                  <a:lnTo>
                    <a:pt x="611" y="885"/>
                  </a:lnTo>
                  <a:lnTo>
                    <a:pt x="590" y="893"/>
                  </a:lnTo>
                  <a:lnTo>
                    <a:pt x="568" y="900"/>
                  </a:lnTo>
                  <a:lnTo>
                    <a:pt x="546" y="905"/>
                  </a:lnTo>
                  <a:lnTo>
                    <a:pt x="524" y="909"/>
                  </a:lnTo>
                  <a:lnTo>
                    <a:pt x="501" y="912"/>
                  </a:lnTo>
                  <a:lnTo>
                    <a:pt x="478" y="914"/>
                  </a:lnTo>
                  <a:lnTo>
                    <a:pt x="455" y="914"/>
                  </a:lnTo>
                  <a:lnTo>
                    <a:pt x="431" y="914"/>
                  </a:lnTo>
                  <a:lnTo>
                    <a:pt x="408" y="912"/>
                  </a:lnTo>
                  <a:lnTo>
                    <a:pt x="386" y="909"/>
                  </a:lnTo>
                  <a:lnTo>
                    <a:pt x="363" y="905"/>
                  </a:lnTo>
                  <a:lnTo>
                    <a:pt x="341" y="900"/>
                  </a:lnTo>
                  <a:lnTo>
                    <a:pt x="320" y="893"/>
                  </a:lnTo>
                  <a:lnTo>
                    <a:pt x="299" y="885"/>
                  </a:lnTo>
                  <a:lnTo>
                    <a:pt x="278" y="877"/>
                  </a:lnTo>
                  <a:lnTo>
                    <a:pt x="258" y="868"/>
                  </a:lnTo>
                  <a:lnTo>
                    <a:pt x="238" y="858"/>
                  </a:lnTo>
                  <a:lnTo>
                    <a:pt x="219" y="847"/>
                  </a:lnTo>
                  <a:lnTo>
                    <a:pt x="201" y="835"/>
                  </a:lnTo>
                  <a:lnTo>
                    <a:pt x="183" y="823"/>
                  </a:lnTo>
                  <a:lnTo>
                    <a:pt x="166" y="809"/>
                  </a:lnTo>
                  <a:lnTo>
                    <a:pt x="149" y="795"/>
                  </a:lnTo>
                  <a:lnTo>
                    <a:pt x="133" y="780"/>
                  </a:lnTo>
                  <a:lnTo>
                    <a:pt x="118" y="764"/>
                  </a:lnTo>
                  <a:lnTo>
                    <a:pt x="104" y="747"/>
                  </a:lnTo>
                  <a:lnTo>
                    <a:pt x="90" y="730"/>
                  </a:lnTo>
                  <a:lnTo>
                    <a:pt x="78" y="712"/>
                  </a:lnTo>
                  <a:lnTo>
                    <a:pt x="66" y="694"/>
                  </a:lnTo>
                  <a:lnTo>
                    <a:pt x="55" y="675"/>
                  </a:lnTo>
                  <a:lnTo>
                    <a:pt x="45" y="655"/>
                  </a:lnTo>
                  <a:lnTo>
                    <a:pt x="36" y="635"/>
                  </a:lnTo>
                  <a:lnTo>
                    <a:pt x="28" y="613"/>
                  </a:lnTo>
                  <a:lnTo>
                    <a:pt x="20" y="592"/>
                  </a:lnTo>
                  <a:lnTo>
                    <a:pt x="14" y="571"/>
                  </a:lnTo>
                  <a:lnTo>
                    <a:pt x="9" y="549"/>
                  </a:lnTo>
                  <a:lnTo>
                    <a:pt x="5" y="526"/>
                  </a:lnTo>
                  <a:lnTo>
                    <a:pt x="2" y="504"/>
                  </a:lnTo>
                  <a:lnTo>
                    <a:pt x="0" y="481"/>
                  </a:lnTo>
                  <a:lnTo>
                    <a:pt x="0" y="457"/>
                  </a:lnTo>
                  <a:lnTo>
                    <a:pt x="0" y="434"/>
                  </a:lnTo>
                  <a:lnTo>
                    <a:pt x="2" y="411"/>
                  </a:lnTo>
                  <a:lnTo>
                    <a:pt x="5" y="388"/>
                  </a:lnTo>
                  <a:lnTo>
                    <a:pt x="9" y="366"/>
                  </a:lnTo>
                  <a:lnTo>
                    <a:pt x="14" y="343"/>
                  </a:lnTo>
                  <a:lnTo>
                    <a:pt x="20" y="321"/>
                  </a:lnTo>
                  <a:lnTo>
                    <a:pt x="28" y="300"/>
                  </a:lnTo>
                  <a:lnTo>
                    <a:pt x="36" y="280"/>
                  </a:lnTo>
                  <a:lnTo>
                    <a:pt x="45" y="259"/>
                  </a:lnTo>
                  <a:lnTo>
                    <a:pt x="55" y="240"/>
                  </a:lnTo>
                  <a:lnTo>
                    <a:pt x="66" y="221"/>
                  </a:lnTo>
                  <a:lnTo>
                    <a:pt x="78" y="202"/>
                  </a:lnTo>
                  <a:lnTo>
                    <a:pt x="90" y="184"/>
                  </a:lnTo>
                  <a:lnTo>
                    <a:pt x="104" y="167"/>
                  </a:lnTo>
                  <a:lnTo>
                    <a:pt x="118" y="151"/>
                  </a:lnTo>
                  <a:lnTo>
                    <a:pt x="133" y="135"/>
                  </a:lnTo>
                  <a:lnTo>
                    <a:pt x="149" y="120"/>
                  </a:lnTo>
                  <a:lnTo>
                    <a:pt x="166" y="106"/>
                  </a:lnTo>
                  <a:lnTo>
                    <a:pt x="183" y="92"/>
                  </a:lnTo>
                  <a:lnTo>
                    <a:pt x="201" y="78"/>
                  </a:lnTo>
                  <a:lnTo>
                    <a:pt x="219" y="66"/>
                  </a:lnTo>
                  <a:lnTo>
                    <a:pt x="238" y="56"/>
                  </a:lnTo>
                  <a:lnTo>
                    <a:pt x="258" y="45"/>
                  </a:lnTo>
                  <a:lnTo>
                    <a:pt x="278" y="36"/>
                  </a:lnTo>
                  <a:lnTo>
                    <a:pt x="299" y="28"/>
                  </a:lnTo>
                  <a:lnTo>
                    <a:pt x="320" y="21"/>
                  </a:lnTo>
                  <a:lnTo>
                    <a:pt x="341" y="15"/>
                  </a:lnTo>
                  <a:lnTo>
                    <a:pt x="363" y="10"/>
                  </a:lnTo>
                  <a:lnTo>
                    <a:pt x="386" y="6"/>
                  </a:lnTo>
                  <a:lnTo>
                    <a:pt x="408" y="3"/>
                  </a:lnTo>
                  <a:lnTo>
                    <a:pt x="431" y="1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b6d2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18600" y="569880"/>
              <a:ext cx="31680" cy="31680"/>
            </a:xfrm>
            <a:custGeom>
              <a:avLst/>
              <a:gdLst/>
              <a:ahLst/>
              <a:rect l="l" t="t" r="r" b="b"/>
              <a:pathLst>
                <a:path w="911" h="912">
                  <a:moveTo>
                    <a:pt x="455" y="0"/>
                  </a:moveTo>
                  <a:lnTo>
                    <a:pt x="479" y="0"/>
                  </a:lnTo>
                  <a:lnTo>
                    <a:pt x="502" y="2"/>
                  </a:lnTo>
                  <a:lnTo>
                    <a:pt x="524" y="5"/>
                  </a:lnTo>
                  <a:lnTo>
                    <a:pt x="547" y="9"/>
                  </a:lnTo>
                  <a:lnTo>
                    <a:pt x="569" y="14"/>
                  </a:lnTo>
                  <a:lnTo>
                    <a:pt x="591" y="20"/>
                  </a:lnTo>
                  <a:lnTo>
                    <a:pt x="612" y="27"/>
                  </a:lnTo>
                  <a:lnTo>
                    <a:pt x="633" y="36"/>
                  </a:lnTo>
                  <a:lnTo>
                    <a:pt x="653" y="45"/>
                  </a:lnTo>
                  <a:lnTo>
                    <a:pt x="673" y="55"/>
                  </a:lnTo>
                  <a:lnTo>
                    <a:pt x="692" y="66"/>
                  </a:lnTo>
                  <a:lnTo>
                    <a:pt x="710" y="78"/>
                  </a:lnTo>
                  <a:lnTo>
                    <a:pt x="728" y="90"/>
                  </a:lnTo>
                  <a:lnTo>
                    <a:pt x="745" y="104"/>
                  </a:lnTo>
                  <a:lnTo>
                    <a:pt x="762" y="118"/>
                  </a:lnTo>
                  <a:lnTo>
                    <a:pt x="778" y="133"/>
                  </a:lnTo>
                  <a:lnTo>
                    <a:pt x="793" y="149"/>
                  </a:lnTo>
                  <a:lnTo>
                    <a:pt x="807" y="166"/>
                  </a:lnTo>
                  <a:lnTo>
                    <a:pt x="821" y="184"/>
                  </a:lnTo>
                  <a:lnTo>
                    <a:pt x="833" y="202"/>
                  </a:lnTo>
                  <a:lnTo>
                    <a:pt x="845" y="220"/>
                  </a:lnTo>
                  <a:lnTo>
                    <a:pt x="856" y="239"/>
                  </a:lnTo>
                  <a:lnTo>
                    <a:pt x="866" y="259"/>
                  </a:lnTo>
                  <a:lnTo>
                    <a:pt x="875" y="279"/>
                  </a:lnTo>
                  <a:lnTo>
                    <a:pt x="883" y="299"/>
                  </a:lnTo>
                  <a:lnTo>
                    <a:pt x="891" y="321"/>
                  </a:lnTo>
                  <a:lnTo>
                    <a:pt x="897" y="342"/>
                  </a:lnTo>
                  <a:lnTo>
                    <a:pt x="902" y="364"/>
                  </a:lnTo>
                  <a:lnTo>
                    <a:pt x="906" y="386"/>
                  </a:lnTo>
                  <a:lnTo>
                    <a:pt x="909" y="409"/>
                  </a:lnTo>
                  <a:lnTo>
                    <a:pt x="911" y="432"/>
                  </a:lnTo>
                  <a:lnTo>
                    <a:pt x="911" y="457"/>
                  </a:lnTo>
                  <a:lnTo>
                    <a:pt x="911" y="480"/>
                  </a:lnTo>
                  <a:lnTo>
                    <a:pt x="909" y="503"/>
                  </a:lnTo>
                  <a:lnTo>
                    <a:pt x="906" y="526"/>
                  </a:lnTo>
                  <a:lnTo>
                    <a:pt x="902" y="548"/>
                  </a:lnTo>
                  <a:lnTo>
                    <a:pt x="897" y="570"/>
                  </a:lnTo>
                  <a:lnTo>
                    <a:pt x="891" y="592"/>
                  </a:lnTo>
                  <a:lnTo>
                    <a:pt x="883" y="613"/>
                  </a:lnTo>
                  <a:lnTo>
                    <a:pt x="875" y="633"/>
                  </a:lnTo>
                  <a:lnTo>
                    <a:pt x="866" y="653"/>
                  </a:lnTo>
                  <a:lnTo>
                    <a:pt x="856" y="673"/>
                  </a:lnTo>
                  <a:lnTo>
                    <a:pt x="845" y="692"/>
                  </a:lnTo>
                  <a:lnTo>
                    <a:pt x="833" y="711"/>
                  </a:lnTo>
                  <a:lnTo>
                    <a:pt x="821" y="729"/>
                  </a:lnTo>
                  <a:lnTo>
                    <a:pt x="807" y="747"/>
                  </a:lnTo>
                  <a:lnTo>
                    <a:pt x="793" y="763"/>
                  </a:lnTo>
                  <a:lnTo>
                    <a:pt x="778" y="779"/>
                  </a:lnTo>
                  <a:lnTo>
                    <a:pt x="762" y="794"/>
                  </a:lnTo>
                  <a:lnTo>
                    <a:pt x="745" y="808"/>
                  </a:lnTo>
                  <a:lnTo>
                    <a:pt x="728" y="822"/>
                  </a:lnTo>
                  <a:lnTo>
                    <a:pt x="710" y="835"/>
                  </a:lnTo>
                  <a:lnTo>
                    <a:pt x="692" y="846"/>
                  </a:lnTo>
                  <a:lnTo>
                    <a:pt x="673" y="857"/>
                  </a:lnTo>
                  <a:lnTo>
                    <a:pt x="653" y="867"/>
                  </a:lnTo>
                  <a:lnTo>
                    <a:pt x="633" y="877"/>
                  </a:lnTo>
                  <a:lnTo>
                    <a:pt x="612" y="885"/>
                  </a:lnTo>
                  <a:lnTo>
                    <a:pt x="591" y="892"/>
                  </a:lnTo>
                  <a:lnTo>
                    <a:pt x="569" y="898"/>
                  </a:lnTo>
                  <a:lnTo>
                    <a:pt x="547" y="903"/>
                  </a:lnTo>
                  <a:lnTo>
                    <a:pt x="524" y="907"/>
                  </a:lnTo>
                  <a:lnTo>
                    <a:pt x="502" y="910"/>
                  </a:lnTo>
                  <a:lnTo>
                    <a:pt x="479" y="912"/>
                  </a:lnTo>
                  <a:lnTo>
                    <a:pt x="455" y="912"/>
                  </a:lnTo>
                  <a:lnTo>
                    <a:pt x="432" y="912"/>
                  </a:lnTo>
                  <a:lnTo>
                    <a:pt x="409" y="910"/>
                  </a:lnTo>
                  <a:lnTo>
                    <a:pt x="386" y="907"/>
                  </a:lnTo>
                  <a:lnTo>
                    <a:pt x="364" y="903"/>
                  </a:lnTo>
                  <a:lnTo>
                    <a:pt x="342" y="898"/>
                  </a:lnTo>
                  <a:lnTo>
                    <a:pt x="320" y="892"/>
                  </a:lnTo>
                  <a:lnTo>
                    <a:pt x="299" y="885"/>
                  </a:lnTo>
                  <a:lnTo>
                    <a:pt x="279" y="877"/>
                  </a:lnTo>
                  <a:lnTo>
                    <a:pt x="258" y="867"/>
                  </a:lnTo>
                  <a:lnTo>
                    <a:pt x="239" y="857"/>
                  </a:lnTo>
                  <a:lnTo>
                    <a:pt x="220" y="846"/>
                  </a:lnTo>
                  <a:lnTo>
                    <a:pt x="201" y="835"/>
                  </a:lnTo>
                  <a:lnTo>
                    <a:pt x="183" y="822"/>
                  </a:lnTo>
                  <a:lnTo>
                    <a:pt x="166" y="808"/>
                  </a:lnTo>
                  <a:lnTo>
                    <a:pt x="150" y="794"/>
                  </a:lnTo>
                  <a:lnTo>
                    <a:pt x="134" y="779"/>
                  </a:lnTo>
                  <a:lnTo>
                    <a:pt x="119" y="763"/>
                  </a:lnTo>
                  <a:lnTo>
                    <a:pt x="105" y="747"/>
                  </a:lnTo>
                  <a:lnTo>
                    <a:pt x="91" y="729"/>
                  </a:lnTo>
                  <a:lnTo>
                    <a:pt x="78" y="711"/>
                  </a:lnTo>
                  <a:lnTo>
                    <a:pt x="66" y="692"/>
                  </a:lnTo>
                  <a:lnTo>
                    <a:pt x="55" y="673"/>
                  </a:lnTo>
                  <a:lnTo>
                    <a:pt x="45" y="653"/>
                  </a:lnTo>
                  <a:lnTo>
                    <a:pt x="36" y="633"/>
                  </a:lnTo>
                  <a:lnTo>
                    <a:pt x="28" y="613"/>
                  </a:lnTo>
                  <a:lnTo>
                    <a:pt x="21" y="592"/>
                  </a:lnTo>
                  <a:lnTo>
                    <a:pt x="15" y="570"/>
                  </a:lnTo>
                  <a:lnTo>
                    <a:pt x="10" y="548"/>
                  </a:lnTo>
                  <a:lnTo>
                    <a:pt x="6" y="526"/>
                  </a:lnTo>
                  <a:lnTo>
                    <a:pt x="3" y="503"/>
                  </a:lnTo>
                  <a:lnTo>
                    <a:pt x="1" y="480"/>
                  </a:lnTo>
                  <a:lnTo>
                    <a:pt x="0" y="457"/>
                  </a:lnTo>
                  <a:lnTo>
                    <a:pt x="1" y="432"/>
                  </a:lnTo>
                  <a:lnTo>
                    <a:pt x="3" y="409"/>
                  </a:lnTo>
                  <a:lnTo>
                    <a:pt x="6" y="386"/>
                  </a:lnTo>
                  <a:lnTo>
                    <a:pt x="10" y="364"/>
                  </a:lnTo>
                  <a:lnTo>
                    <a:pt x="15" y="342"/>
                  </a:lnTo>
                  <a:lnTo>
                    <a:pt x="21" y="321"/>
                  </a:lnTo>
                  <a:lnTo>
                    <a:pt x="28" y="299"/>
                  </a:lnTo>
                  <a:lnTo>
                    <a:pt x="36" y="279"/>
                  </a:lnTo>
                  <a:lnTo>
                    <a:pt x="45" y="259"/>
                  </a:lnTo>
                  <a:lnTo>
                    <a:pt x="55" y="239"/>
                  </a:lnTo>
                  <a:lnTo>
                    <a:pt x="66" y="220"/>
                  </a:lnTo>
                  <a:lnTo>
                    <a:pt x="78" y="202"/>
                  </a:lnTo>
                  <a:lnTo>
                    <a:pt x="91" y="184"/>
                  </a:lnTo>
                  <a:lnTo>
                    <a:pt x="105" y="166"/>
                  </a:lnTo>
                  <a:lnTo>
                    <a:pt x="119" y="149"/>
                  </a:lnTo>
                  <a:lnTo>
                    <a:pt x="134" y="133"/>
                  </a:lnTo>
                  <a:lnTo>
                    <a:pt x="150" y="118"/>
                  </a:lnTo>
                  <a:lnTo>
                    <a:pt x="166" y="104"/>
                  </a:lnTo>
                  <a:lnTo>
                    <a:pt x="183" y="90"/>
                  </a:lnTo>
                  <a:lnTo>
                    <a:pt x="201" y="78"/>
                  </a:lnTo>
                  <a:lnTo>
                    <a:pt x="220" y="66"/>
                  </a:lnTo>
                  <a:lnTo>
                    <a:pt x="239" y="55"/>
                  </a:lnTo>
                  <a:lnTo>
                    <a:pt x="258" y="45"/>
                  </a:lnTo>
                  <a:lnTo>
                    <a:pt x="279" y="36"/>
                  </a:lnTo>
                  <a:lnTo>
                    <a:pt x="299" y="27"/>
                  </a:lnTo>
                  <a:lnTo>
                    <a:pt x="320" y="20"/>
                  </a:lnTo>
                  <a:lnTo>
                    <a:pt x="342" y="14"/>
                  </a:lnTo>
                  <a:lnTo>
                    <a:pt x="364" y="9"/>
                  </a:lnTo>
                  <a:lnTo>
                    <a:pt x="386" y="5"/>
                  </a:lnTo>
                  <a:lnTo>
                    <a:pt x="409" y="2"/>
                  </a:lnTo>
                  <a:lnTo>
                    <a:pt x="432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762120" y="2743200"/>
            <a:ext cx="7696080" cy="533160"/>
            <a:chOff x="762120" y="2743200"/>
            <a:chExt cx="7696080" cy="533160"/>
          </a:xfrm>
        </p:grpSpPr>
        <p:sp>
          <p:nvSpPr>
            <p:cNvPr id="216" name=""/>
            <p:cNvSpPr/>
            <p:nvPr/>
          </p:nvSpPr>
          <p:spPr>
            <a:xfrm>
              <a:off x="762120" y="3047760"/>
              <a:ext cx="7426080" cy="112680"/>
            </a:xfrm>
            <a:custGeom>
              <a:avLst/>
              <a:gdLst/>
              <a:ahLst/>
              <a:rect l="l" t="t" r="r" b="b"/>
              <a:pathLst>
                <a:path w="4822" h="87">
                  <a:moveTo>
                    <a:pt x="4822" y="84"/>
                  </a:moveTo>
                  <a:lnTo>
                    <a:pt x="114" y="87"/>
                  </a:lnTo>
                  <a:lnTo>
                    <a:pt x="66" y="80"/>
                  </a:lnTo>
                  <a:lnTo>
                    <a:pt x="28" y="73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4" y="28"/>
                  </a:lnTo>
                  <a:lnTo>
                    <a:pt x="24" y="14"/>
                  </a:lnTo>
                  <a:lnTo>
                    <a:pt x="59" y="7"/>
                  </a:lnTo>
                  <a:lnTo>
                    <a:pt x="111" y="0"/>
                  </a:lnTo>
                  <a:lnTo>
                    <a:pt x="4812" y="0"/>
                  </a:lnTo>
                  <a:lnTo>
                    <a:pt x="4822" y="84"/>
                  </a:lnTo>
                  <a:close/>
                </a:path>
              </a:pathLst>
            </a:custGeom>
            <a:gradFill rotWithShape="0">
              <a:gsLst>
                <a:gs pos="0">
                  <a:srgbClr val="b6d29a"/>
                </a:gs>
                <a:gs pos="50000">
                  <a:srgbClr val="e5eedc"/>
                </a:gs>
                <a:gs pos="100000">
                  <a:srgbClr val="b6d2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924680" y="2743200"/>
              <a:ext cx="533520" cy="533160"/>
              <a:chOff x="7924680" y="2743200"/>
              <a:chExt cx="533520" cy="533160"/>
            </a:xfrm>
          </p:grpSpPr>
          <p:sp>
            <p:nvSpPr>
              <p:cNvPr id="218" name=""/>
              <p:cNvSpPr/>
              <p:nvPr/>
            </p:nvSpPr>
            <p:spPr>
              <a:xfrm>
                <a:off x="7924680" y="2743200"/>
                <a:ext cx="533520" cy="533160"/>
              </a:xfrm>
              <a:prstGeom prst="ellipse">
                <a:avLst/>
              </a:prstGeom>
              <a:gradFill rotWithShape="0">
                <a:gsLst>
                  <a:gs pos="0">
                    <a:srgbClr val="79854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83720" y="2802240"/>
                <a:ext cx="415080" cy="414720"/>
              </a:xfrm>
              <a:prstGeom prst="ellipse">
                <a:avLst/>
              </a:prstGeom>
              <a:solidFill>
                <a:srgbClr val="798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102520" y="2920680"/>
                <a:ext cx="177840" cy="177480"/>
              </a:xfrm>
              <a:prstGeom prst="ellipse">
                <a:avLst/>
              </a:prstGeom>
              <a:gradFill rotWithShape="0">
                <a:gsLst>
                  <a:gs pos="0">
                    <a:srgbClr val="a3c670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8188920" y="3009960"/>
                <a:ext cx="177840" cy="173880"/>
              </a:xfrm>
              <a:custGeom>
                <a:avLst/>
                <a:gdLst/>
                <a:ahLst/>
                <a:rect l="l" t="t" r="r" b="b"/>
                <a:pathLst>
                  <a:path w="1072" h="1047">
                    <a:moveTo>
                      <a:pt x="477" y="627"/>
                    </a:moveTo>
                    <a:cubicBezTo>
                      <a:pt x="503" y="632"/>
                      <a:pt x="542" y="644"/>
                      <a:pt x="571" y="686"/>
                    </a:cubicBezTo>
                    <a:cubicBezTo>
                      <a:pt x="600" y="730"/>
                      <a:pt x="616" y="783"/>
                      <a:pt x="651" y="893"/>
                    </a:cubicBezTo>
                    <a:cubicBezTo>
                      <a:pt x="686" y="1003"/>
                      <a:pt x="793" y="1047"/>
                      <a:pt x="883" y="1041"/>
                    </a:cubicBezTo>
                    <a:cubicBezTo>
                      <a:pt x="973" y="1035"/>
                      <a:pt x="1054" y="963"/>
                      <a:pt x="1072" y="907"/>
                    </a:cubicBezTo>
                    <a:cubicBezTo>
                      <a:pt x="1003" y="927"/>
                      <a:pt x="892" y="939"/>
                      <a:pt x="805" y="876"/>
                    </a:cubicBezTo>
                    <a:cubicBezTo>
                      <a:pt x="723" y="817"/>
                      <a:pt x="675" y="631"/>
                      <a:pt x="555" y="521"/>
                    </a:cubicBezTo>
                    <a:cubicBezTo>
                      <a:pt x="451" y="421"/>
                      <a:pt x="304" y="397"/>
                      <a:pt x="243" y="372"/>
                    </a:cubicBezTo>
                    <a:cubicBezTo>
                      <a:pt x="182" y="347"/>
                      <a:pt x="120" y="267"/>
                      <a:pt x="115" y="201"/>
                    </a:cubicBezTo>
                    <a:cubicBezTo>
                      <a:pt x="110" y="135"/>
                      <a:pt x="135" y="55"/>
                      <a:pt x="160" y="0"/>
                    </a:cubicBezTo>
                    <a:cubicBezTo>
                      <a:pt x="60" y="52"/>
                      <a:pt x="0" y="162"/>
                      <a:pt x="12" y="264"/>
                    </a:cubicBezTo>
                    <a:cubicBezTo>
                      <a:pt x="24" y="366"/>
                      <a:pt x="88" y="419"/>
                      <a:pt x="172" y="452"/>
                    </a:cubicBezTo>
                    <a:cubicBezTo>
                      <a:pt x="256" y="485"/>
                      <a:pt x="392" y="479"/>
                      <a:pt x="447" y="546"/>
                    </a:cubicBezTo>
                    <a:cubicBezTo>
                      <a:pt x="309" y="591"/>
                      <a:pt x="268" y="673"/>
                      <a:pt x="268" y="734"/>
                    </a:cubicBezTo>
                    <a:cubicBezTo>
                      <a:pt x="268" y="795"/>
                      <a:pt x="303" y="851"/>
                      <a:pt x="345" y="869"/>
                    </a:cubicBezTo>
                    <a:cubicBezTo>
                      <a:pt x="387" y="887"/>
                      <a:pt x="475" y="895"/>
                      <a:pt x="534" y="839"/>
                    </a:cubicBezTo>
                    <a:cubicBezTo>
                      <a:pt x="459" y="840"/>
                      <a:pt x="416" y="828"/>
                      <a:pt x="385" y="785"/>
                    </a:cubicBezTo>
                    <a:cubicBezTo>
                      <a:pt x="354" y="742"/>
                      <a:pt x="363" y="701"/>
                      <a:pt x="381" y="674"/>
                    </a:cubicBezTo>
                    <a:cubicBezTo>
                      <a:pt x="399" y="647"/>
                      <a:pt x="451" y="622"/>
                      <a:pt x="477" y="6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014680" y="3009960"/>
                <a:ext cx="177840" cy="173880"/>
              </a:xfrm>
              <a:custGeom>
                <a:avLst/>
                <a:gdLst/>
                <a:ahLst/>
                <a:rect l="l" t="t" r="r" b="b"/>
                <a:pathLst>
                  <a:path w="1072" h="1047">
                    <a:moveTo>
                      <a:pt x="477" y="627"/>
                    </a:moveTo>
                    <a:cubicBezTo>
                      <a:pt x="503" y="632"/>
                      <a:pt x="542" y="644"/>
                      <a:pt x="571" y="686"/>
                    </a:cubicBezTo>
                    <a:cubicBezTo>
                      <a:pt x="600" y="730"/>
                      <a:pt x="616" y="783"/>
                      <a:pt x="651" y="893"/>
                    </a:cubicBezTo>
                    <a:cubicBezTo>
                      <a:pt x="686" y="1003"/>
                      <a:pt x="793" y="1047"/>
                      <a:pt x="883" y="1041"/>
                    </a:cubicBezTo>
                    <a:cubicBezTo>
                      <a:pt x="973" y="1035"/>
                      <a:pt x="1054" y="963"/>
                      <a:pt x="1072" y="907"/>
                    </a:cubicBezTo>
                    <a:cubicBezTo>
                      <a:pt x="1003" y="927"/>
                      <a:pt x="892" y="939"/>
                      <a:pt x="805" y="876"/>
                    </a:cubicBezTo>
                    <a:cubicBezTo>
                      <a:pt x="723" y="817"/>
                      <a:pt x="675" y="631"/>
                      <a:pt x="555" y="521"/>
                    </a:cubicBezTo>
                    <a:cubicBezTo>
                      <a:pt x="451" y="421"/>
                      <a:pt x="304" y="397"/>
                      <a:pt x="243" y="372"/>
                    </a:cubicBezTo>
                    <a:cubicBezTo>
                      <a:pt x="182" y="347"/>
                      <a:pt x="120" y="267"/>
                      <a:pt x="115" y="201"/>
                    </a:cubicBezTo>
                    <a:cubicBezTo>
                      <a:pt x="110" y="135"/>
                      <a:pt x="135" y="55"/>
                      <a:pt x="160" y="0"/>
                    </a:cubicBezTo>
                    <a:cubicBezTo>
                      <a:pt x="60" y="52"/>
                      <a:pt x="0" y="162"/>
                      <a:pt x="12" y="264"/>
                    </a:cubicBezTo>
                    <a:cubicBezTo>
                      <a:pt x="24" y="366"/>
                      <a:pt x="88" y="419"/>
                      <a:pt x="172" y="452"/>
                    </a:cubicBezTo>
                    <a:cubicBezTo>
                      <a:pt x="256" y="485"/>
                      <a:pt x="392" y="479"/>
                      <a:pt x="447" y="546"/>
                    </a:cubicBezTo>
                    <a:cubicBezTo>
                      <a:pt x="309" y="591"/>
                      <a:pt x="268" y="673"/>
                      <a:pt x="268" y="734"/>
                    </a:cubicBezTo>
                    <a:cubicBezTo>
                      <a:pt x="268" y="795"/>
                      <a:pt x="303" y="851"/>
                      <a:pt x="345" y="869"/>
                    </a:cubicBezTo>
                    <a:cubicBezTo>
                      <a:pt x="387" y="887"/>
                      <a:pt x="475" y="895"/>
                      <a:pt x="534" y="839"/>
                    </a:cubicBezTo>
                    <a:cubicBezTo>
                      <a:pt x="459" y="840"/>
                      <a:pt x="416" y="828"/>
                      <a:pt x="385" y="785"/>
                    </a:cubicBezTo>
                    <a:cubicBezTo>
                      <a:pt x="354" y="742"/>
                      <a:pt x="363" y="701"/>
                      <a:pt x="381" y="674"/>
                    </a:cubicBezTo>
                    <a:cubicBezTo>
                      <a:pt x="399" y="647"/>
                      <a:pt x="451" y="622"/>
                      <a:pt x="477" y="6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 flipV="1">
                <a:off x="8188920" y="2829960"/>
                <a:ext cx="177840" cy="173880"/>
              </a:xfrm>
              <a:custGeom>
                <a:avLst/>
                <a:gdLst/>
                <a:ahLst/>
                <a:rect l="l" t="t" r="r" b="b"/>
                <a:pathLst>
                  <a:path w="1072" h="1047">
                    <a:moveTo>
                      <a:pt x="477" y="627"/>
                    </a:moveTo>
                    <a:cubicBezTo>
                      <a:pt x="503" y="632"/>
                      <a:pt x="542" y="644"/>
                      <a:pt x="571" y="686"/>
                    </a:cubicBezTo>
                    <a:cubicBezTo>
                      <a:pt x="600" y="730"/>
                      <a:pt x="616" y="783"/>
                      <a:pt x="651" y="893"/>
                    </a:cubicBezTo>
                    <a:cubicBezTo>
                      <a:pt x="686" y="1003"/>
                      <a:pt x="793" y="1047"/>
                      <a:pt x="883" y="1041"/>
                    </a:cubicBezTo>
                    <a:cubicBezTo>
                      <a:pt x="973" y="1035"/>
                      <a:pt x="1054" y="963"/>
                      <a:pt x="1072" y="907"/>
                    </a:cubicBezTo>
                    <a:cubicBezTo>
                      <a:pt x="1003" y="927"/>
                      <a:pt x="892" y="939"/>
                      <a:pt x="805" y="876"/>
                    </a:cubicBezTo>
                    <a:cubicBezTo>
                      <a:pt x="723" y="817"/>
                      <a:pt x="675" y="631"/>
                      <a:pt x="555" y="521"/>
                    </a:cubicBezTo>
                    <a:cubicBezTo>
                      <a:pt x="451" y="421"/>
                      <a:pt x="304" y="397"/>
                      <a:pt x="243" y="372"/>
                    </a:cubicBezTo>
                    <a:cubicBezTo>
                      <a:pt x="182" y="347"/>
                      <a:pt x="120" y="267"/>
                      <a:pt x="115" y="201"/>
                    </a:cubicBezTo>
                    <a:cubicBezTo>
                      <a:pt x="110" y="135"/>
                      <a:pt x="135" y="55"/>
                      <a:pt x="160" y="0"/>
                    </a:cubicBezTo>
                    <a:cubicBezTo>
                      <a:pt x="60" y="52"/>
                      <a:pt x="0" y="162"/>
                      <a:pt x="12" y="264"/>
                    </a:cubicBezTo>
                    <a:cubicBezTo>
                      <a:pt x="24" y="366"/>
                      <a:pt x="88" y="419"/>
                      <a:pt x="172" y="452"/>
                    </a:cubicBezTo>
                    <a:cubicBezTo>
                      <a:pt x="256" y="485"/>
                      <a:pt x="392" y="479"/>
                      <a:pt x="447" y="546"/>
                    </a:cubicBezTo>
                    <a:cubicBezTo>
                      <a:pt x="309" y="591"/>
                      <a:pt x="268" y="673"/>
                      <a:pt x="268" y="734"/>
                    </a:cubicBezTo>
                    <a:cubicBezTo>
                      <a:pt x="268" y="795"/>
                      <a:pt x="303" y="851"/>
                      <a:pt x="345" y="869"/>
                    </a:cubicBezTo>
                    <a:cubicBezTo>
                      <a:pt x="387" y="887"/>
                      <a:pt x="475" y="895"/>
                      <a:pt x="534" y="839"/>
                    </a:cubicBezTo>
                    <a:cubicBezTo>
                      <a:pt x="459" y="840"/>
                      <a:pt x="416" y="828"/>
                      <a:pt x="385" y="785"/>
                    </a:cubicBezTo>
                    <a:cubicBezTo>
                      <a:pt x="354" y="742"/>
                      <a:pt x="363" y="701"/>
                      <a:pt x="381" y="674"/>
                    </a:cubicBezTo>
                    <a:cubicBezTo>
                      <a:pt x="399" y="647"/>
                      <a:pt x="451" y="622"/>
                      <a:pt x="477" y="6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8014680" y="2829960"/>
                <a:ext cx="177840" cy="173880"/>
              </a:xfrm>
              <a:custGeom>
                <a:avLst/>
                <a:gdLst/>
                <a:ahLst/>
                <a:rect l="l" t="t" r="r" b="b"/>
                <a:pathLst>
                  <a:path w="1072" h="1047">
                    <a:moveTo>
                      <a:pt x="477" y="627"/>
                    </a:moveTo>
                    <a:cubicBezTo>
                      <a:pt x="503" y="632"/>
                      <a:pt x="542" y="644"/>
                      <a:pt x="571" y="686"/>
                    </a:cubicBezTo>
                    <a:cubicBezTo>
                      <a:pt x="600" y="730"/>
                      <a:pt x="616" y="783"/>
                      <a:pt x="651" y="893"/>
                    </a:cubicBezTo>
                    <a:cubicBezTo>
                      <a:pt x="686" y="1003"/>
                      <a:pt x="793" y="1047"/>
                      <a:pt x="883" y="1041"/>
                    </a:cubicBezTo>
                    <a:cubicBezTo>
                      <a:pt x="973" y="1035"/>
                      <a:pt x="1054" y="963"/>
                      <a:pt x="1072" y="907"/>
                    </a:cubicBezTo>
                    <a:cubicBezTo>
                      <a:pt x="1003" y="927"/>
                      <a:pt x="892" y="939"/>
                      <a:pt x="805" y="876"/>
                    </a:cubicBezTo>
                    <a:cubicBezTo>
                      <a:pt x="723" y="817"/>
                      <a:pt x="675" y="631"/>
                      <a:pt x="555" y="521"/>
                    </a:cubicBezTo>
                    <a:cubicBezTo>
                      <a:pt x="451" y="421"/>
                      <a:pt x="304" y="397"/>
                      <a:pt x="243" y="372"/>
                    </a:cubicBezTo>
                    <a:cubicBezTo>
                      <a:pt x="182" y="347"/>
                      <a:pt x="120" y="267"/>
                      <a:pt x="115" y="201"/>
                    </a:cubicBezTo>
                    <a:cubicBezTo>
                      <a:pt x="110" y="135"/>
                      <a:pt x="135" y="55"/>
                      <a:pt x="160" y="0"/>
                    </a:cubicBezTo>
                    <a:cubicBezTo>
                      <a:pt x="60" y="52"/>
                      <a:pt x="0" y="162"/>
                      <a:pt x="12" y="264"/>
                    </a:cubicBezTo>
                    <a:cubicBezTo>
                      <a:pt x="24" y="366"/>
                      <a:pt x="88" y="419"/>
                      <a:pt x="172" y="452"/>
                    </a:cubicBezTo>
                    <a:cubicBezTo>
                      <a:pt x="256" y="485"/>
                      <a:pt x="392" y="479"/>
                      <a:pt x="447" y="546"/>
                    </a:cubicBezTo>
                    <a:cubicBezTo>
                      <a:pt x="309" y="591"/>
                      <a:pt x="268" y="673"/>
                      <a:pt x="268" y="734"/>
                    </a:cubicBezTo>
                    <a:cubicBezTo>
                      <a:pt x="268" y="795"/>
                      <a:pt x="303" y="851"/>
                      <a:pt x="345" y="869"/>
                    </a:cubicBezTo>
                    <a:cubicBezTo>
                      <a:pt x="387" y="887"/>
                      <a:pt x="475" y="895"/>
                      <a:pt x="534" y="839"/>
                    </a:cubicBezTo>
                    <a:cubicBezTo>
                      <a:pt x="459" y="840"/>
                      <a:pt x="416" y="828"/>
                      <a:pt x="385" y="785"/>
                    </a:cubicBezTo>
                    <a:cubicBezTo>
                      <a:pt x="354" y="742"/>
                      <a:pt x="363" y="701"/>
                      <a:pt x="381" y="674"/>
                    </a:cubicBezTo>
                    <a:cubicBezTo>
                      <a:pt x="399" y="647"/>
                      <a:pt x="451" y="622"/>
                      <a:pt x="477" y="6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442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439D-F450-4E47-BCD2-A380BCE50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a3c670"/>
              </a:buClr>
              <a:buSzPct val="70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798547"/>
              </a:buClr>
              <a:buSzPct val="7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a3c670"/>
              </a:buClr>
              <a:buSzPct val="7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00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00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0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74420"/>
                </a:solidFill>
                <a:latin typeface="굴림"/>
              </a:rPr>
              <a:t>지역사회와 자원봉사의 실천</a:t>
            </a: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74420"/>
                </a:solidFill>
                <a:latin typeface="굴림"/>
              </a:rPr>
              <a:t>자원봉사의 도입 배경</a:t>
            </a: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산업화 사회와 사회문제의 발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회문제 해결을 위한 사회적 비용의 절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회복지기관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설의 인력과 재정의 부족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국가와 종교기관 원조의 틈새 메우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원봉사활동에 참여하는 사람들에게 기회제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회환경적인 측면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관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업의 동반자 관계 형성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민간단체의 활성화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은 예산으로 지역주민들에게 혜택 제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74420"/>
                </a:solidFill>
                <a:latin typeface="굴림"/>
              </a:rPr>
              <a:t>사회복지기관</a:t>
            </a:r>
            <a:r>
              <a:rPr b="0" lang="en-US" sz="4400" spc="-1" strike="noStrike">
                <a:solidFill>
                  <a:srgbClr val="374420"/>
                </a:solidFill>
                <a:latin typeface="굴림"/>
              </a:rPr>
              <a:t>(</a:t>
            </a:r>
            <a:r>
              <a:rPr b="0" lang="zh-CN" sz="4400" spc="-1" strike="noStrike">
                <a:solidFill>
                  <a:srgbClr val="374420"/>
                </a:solidFill>
                <a:latin typeface="굴림"/>
              </a:rPr>
              <a:t>시설</a:t>
            </a:r>
            <a:r>
              <a:rPr b="0" lang="en-US" sz="4400" spc="-1" strike="noStrike">
                <a:solidFill>
                  <a:srgbClr val="374420"/>
                </a:solidFill>
                <a:latin typeface="굴림"/>
              </a:rPr>
              <a:t>)</a:t>
            </a:r>
            <a:r>
              <a:rPr b="0" lang="zh-CN" sz="4400" spc="-1" strike="noStrike">
                <a:solidFill>
                  <a:srgbClr val="374420"/>
                </a:solidFill>
                <a:latin typeface="굴림"/>
              </a:rPr>
              <a:t>의 인력구조</a:t>
            </a: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사회복지사 및 행정직원의 부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공인된 기관으로부터의 인정을 받기 어려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대상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용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비자가 없는 경우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서비스의 문제 및 위치 선정의 문제 등 고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원봉사자와 후원자가 없는 경우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역사회로부터 신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문성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도력의 결함 의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74420"/>
                </a:solidFill>
                <a:latin typeface="굴림"/>
              </a:rPr>
              <a:t>자원봉사</a:t>
            </a:r>
            <a:r>
              <a:rPr b="0" lang="en-US" sz="4400" spc="-1" strike="noStrike">
                <a:solidFill>
                  <a:srgbClr val="374420"/>
                </a:solidFill>
                <a:latin typeface="굴림"/>
              </a:rPr>
              <a:t>, </a:t>
            </a:r>
            <a:r>
              <a:rPr b="0" lang="zh-CN" sz="4400" spc="-1" strike="noStrike">
                <a:solidFill>
                  <a:srgbClr val="374420"/>
                </a:solidFill>
                <a:latin typeface="굴림"/>
              </a:rPr>
              <a:t>자원봉사자의 의미</a:t>
            </a: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자원봉사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volunteer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어원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라틴어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voluntas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자유의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라는 단어에서 유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자원봉사자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역사회의 복지증진을 위해 노력하는 사회기관단체에서 무보수로 자발적인 노력을 하는 사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자원봉사활동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봉사활동에 참여를 원하는 자들이 자원봉사교육을 이수한 후 지역사회의 문제를 해결하기 위하여 일정 기간 최소 한 학기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개월 이상 계속해서 참여한 자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자원봉사자’를 대체하는 다른 용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볼룬티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란티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발룬티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자원복지활동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자원활동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자원활동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74420"/>
                </a:solidFill>
                <a:latin typeface="굴림"/>
              </a:rPr>
              <a:t>자원봉사 관련 용어</a:t>
            </a: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Voluntarism 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민간 영역의 자발적 활동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Volunteerism 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발적으로 무보수로 순수하게 자원봉사활동에 참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Voluntary action 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신의 의지나 선택에 의한 행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rivate sector(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사적 영역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)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비영리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의 영역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) +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영리 부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ommunity service(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사회봉사명령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) 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법원의 명령에 따라 참여하는 활동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74420"/>
                </a:solidFill>
                <a:latin typeface="굴림"/>
              </a:rPr>
              <a:t>자원봉사활동의 특성</a:t>
            </a: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자발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복지성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익성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무급성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봉사활동에 수행하는 데 소요되는 비용은 기관 측에서 제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속성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회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3-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시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6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개월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이타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자아실현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습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헌신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협동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문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74420"/>
                </a:solidFill>
                <a:latin typeface="굴림"/>
              </a:rPr>
              <a:t>자원봉사센터</a:t>
            </a: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련 법 규정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원봉사활동기본법 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9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시행령 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원봉사활동을 활성화하기 위한 일환으로 전국 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구에 자원봉사센터가 설립되어 운영되고 있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00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년말 현재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4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소 설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자치단체 직접 운영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61%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별도 법인 설립하여 운영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4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6%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비영리법인 위탁 운영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8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33%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74420"/>
                </a:solidFill>
                <a:latin typeface="굴림"/>
              </a:rPr>
              <a:t>자원봉사센터의 기능</a:t>
            </a: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자원봉사센터는 조직화된 자원봉사활동을 위해서 각 센터와 지역사회 조직 간의 교류 및 연계망의 구축 등을 수행하기 위하여 다음의 기능을 담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수급 조정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모집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상담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연결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안내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기록과 등록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활동 기록 작성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자원봉사활동의 지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고민 상담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기자재나 자료의 대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정보제공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자원봉사자 보험의 추진 등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양성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연수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자원봉사자 오리엔테이션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재교육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워크샵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홍보 계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홍보지 발생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자원봉사신문 발행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자원봉사 캠페인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자원봉사체험학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네트워크화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자원봉사 단체간의 협의체 구성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지역연대사업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798547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조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연구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욕구 조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지역조사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4420"/>
                </a:solidFill>
                <a:latin typeface="굴림"/>
              </a:rPr>
              <a:t>NGO</a:t>
            </a:r>
            <a:r>
              <a:rPr b="0" lang="zh-CN" sz="4400" spc="-1" strike="noStrike">
                <a:solidFill>
                  <a:srgbClr val="37442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374420"/>
                </a:solidFill>
                <a:latin typeface="굴림"/>
              </a:rPr>
              <a:t>NPO</a:t>
            </a:r>
            <a:endParaRPr b="0" lang="en-US" sz="4400" spc="-1" strike="noStrike">
              <a:solidFill>
                <a:srgbClr val="374420"/>
              </a:solidFill>
              <a:latin typeface="굴림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NGO : Non Governmental Organization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비정부기구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공식적 또는 비공식적으로 조직된 국제 또는 국내에서 활동하는 민간의 비정부기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a3c670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NPO : Non Profit Organization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비영리민간기구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시민공익단체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공권력에 의존하지 않고 영리적 활동을 하지 않는 단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4:15:15Z</dcterms:created>
  <dc:creator>sww</dc:creator>
  <dc:description/>
  <dc:language>en-US</dc:language>
  <cp:lastModifiedBy>^^</cp:lastModifiedBy>
  <dcterms:modified xsi:type="dcterms:W3CDTF">2009-08-27T07:54:10Z</dcterms:modified>
  <cp:revision>8</cp:revision>
  <dc:subject/>
  <dc:title>자원봉사센터, 자활후견기관, 주민참여</dc:title>
</cp:coreProperties>
</file>