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F43-26D6-48DC-8F1D-F57AE516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E54-28EA-45A0-9D65-32D8E8CA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FDC-C4ED-4BFE-B868-62D1F3F5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77C1-94F3-4F19-A175-9BC368D9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11A7-DB8C-42E0-98C5-3DC848AB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BFE-8507-4B99-91BA-7B9C6A74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AC41-FEB5-4675-830A-BE1C5A8D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259C-3531-49BE-8243-8B6A529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8466-2A09-44D6-A236-9FF9675C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A5AD-3B18-478A-A3C7-1AC8E8D7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497A-5B0C-47EC-8EFD-F21F2E9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663-769C-47B7-973E-4C87A004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12E4-601F-4AD8-BC26-5155BADF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8D8-6DDA-4198-A95A-3E20F91F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864A-7839-4AA9-A5FB-5B7C2205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35BA-C845-4153-92D5-B11EAC87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C3CB-788C-458F-9D1A-8D3D32F5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0813-9909-4C4E-86CC-CB7475C3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907-BAC5-4703-85D1-D52D3CEA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4C7-5739-4013-BAF0-1AE8BA8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852-D549-4C79-9FD3-51C91EE3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FAF-8236-42F9-A368-BB1078E7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674-52B9-4CE6-9B65-725D67B7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432-8E2A-462F-B82D-3F348EA2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7756-68AE-4835-B1E8-E2D4DE7419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C3FC-F996-4290-BA56-1D76C5E25B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굴림"/>
              </a:rPr>
              <a:t>지역사회복지의 역사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한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미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영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미국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자선조직협회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9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세기 말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도시집중화로 인해 도시문제 심각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877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뉴욕 주 버팔로 시에 자선조직협회 창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사회복지기관협의회로 발달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 내 복지서비스를 조직화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 문제 해결을 위한 공동모금 능력을 강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미국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헐하우스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헐하우스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1889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최초의 인보관 건립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주요 사업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여성과 소년 소녀의 클럽 조직 활동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보육원의 운영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거리청소 등 지역사회의 개선과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무료 목욕실의 제공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도서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일요학교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노동보호입법의 제안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민자 상담 및 교육서비스 등의 활동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근린지역사회센터 발달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 주민을 대상으로 하는 서비스 발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조직이론과 기술 강화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미국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대공황 이후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대공황 이후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공공사업 분야 확대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빈민구제 사업이 정부기관으로 이양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알린스키의 지역조직운동 활성화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민주적인 지역사회조직 확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조직활동가의 역할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갈등 전술 발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미국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: ‘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빈곤과의 전쟁’ 이후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행동 프로그램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 주민 조직화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당면 문제를 직접 해결하도록 유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=&gt;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풀뿌리 대중 조직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신보수주의 이념 확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조를 기반으로 하는 모델 강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조집단 형성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원봉사 조직화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복지기관의 계획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행정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조직발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평가개발 강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중심의 민간비영리조직 확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영국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자선조직협회와 토인비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자선조직협회 결성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목적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선활동의 중복과 누락 해결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새로운 재원의 확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근본이념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현존 자선단체들의 상호관계를 밀접하게 함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토인비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세계 최초의 인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바네트 목사가 건립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빈곤자에 대한 교육과 문화적인 활동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보건문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그리고 빈곤자 문제에 지역주민들이 관심을 갖도록 하는 활동에 주력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영국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지역사회보호 발달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1950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년대 이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보호사업 개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1951-1970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년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정신위생법 제정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(1959) 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재가복지서비스 규정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보건과 복지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재가복지서비스의 개발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(1966) 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재가복지서비스 정책 본격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노인주택 건설 본격화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탈시설화 이론 영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1971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년 이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시봄보고서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대인서비스에 지역사회를 중심으로 한 서비스와 주민 참가 등을 강조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1975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년 이후 노인주택의 다양화 정책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보건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복지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굴림"/>
              </a:rPr>
              <a:t>주택을 통합한 재가복지서비스가 구체적으로 전개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굴림"/>
              </a:rPr>
              <a:t>영국 </a:t>
            </a:r>
            <a:r>
              <a:rPr b="1" lang="en-US" sz="35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zh-CN" sz="3500" spc="-1" strike="noStrike">
                <a:solidFill>
                  <a:srgbClr val="330066"/>
                </a:solidFill>
                <a:latin typeface="굴림"/>
              </a:rPr>
              <a:t>지역사회보호의 동향</a:t>
            </a:r>
            <a:endParaRPr b="1" lang="en-US" sz="3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그리피스 보고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1988) 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보호를 위한 권한과 재정을 지방자치단체에 이양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책임 강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중앙정부 역할 축소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지역사회보호 개혁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1993) 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시장경제 원리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소비자의 선택과 제공자의 경쟁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을 통하여 지역사회보호서비스 수준 향상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케어 매니지먼트 도입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=&gt;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민간부문의 역할 강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케어의 혼합경제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복지다원주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복지다원주의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welfare pluralism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복지 제공의 네 주체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국가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시장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원봉사부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비공식부문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가운데 국가의 역할을 줄이고 다른 세 주체의 비중을 늘리자는 주장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복지 제공의 脫중앙화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복지서비스의 공급과정과 복지에 관한 주요 의사결정에서의 주민 참여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원봉사 부문의 역할 강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복지서비스의 제공주체에서 수익을 창출할 수 있는 민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기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도 포함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민간복지제도의 민영화를 통하여 정부의 복지 지출을 최대한 억제 ∙소비자 선택권을 강조함으로써 서비스 제공주체의 경쟁을 유도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한국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근대 이전의 지역사회복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촌락 단위의 협동관행이 중심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두레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촌락단위에 조직된 농민들의 상호협동체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공익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산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영리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친목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공제 목적의 모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품앗이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부락내 농민들이 노동력을 상호 차용 또는 교환하는 조직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향약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의 발전과 지역주민들의 순화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덕화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교화를 목적으로 한 지식인들간의 자치적인 협동조직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오가통제도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강제성을 지닌 조선시대 인보제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방행정의 운영을 돕는 제도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한국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근대화시기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인보관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반열방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1906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원산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최초의 인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태화여자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1921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일제 시대 인보관 설립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1927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동부 인보관 등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6∙25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전쟁 이후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외원 물자 및 서비스를 전달하는 활동 중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이화사회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1956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최초의 대학 인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한국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지역사회개발사업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새마을운동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1970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년 새마을 가꾸기 운동 개시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농촌 중심으로 시작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1977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년 공장 새마을 운동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1979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년 도시 새마을 운동으로 확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공화국 이후 민간주도의 새마을운동으로 전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새마을운동의 의의 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한국 농촌의 근대화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한국 경제발전의 초석</a:t>
            </a: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000000"/>
                </a:solidFill>
                <a:latin typeface="굴림"/>
              </a:rPr>
              <a:t>토착적 지도자 발굴 및 훈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한국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지역 중심의 서비스 제공 확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정부주도 하에 복지시책 추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복지관의 설립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1983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년 사회복지사업법 개정에 따라 공식적으로 국가지원 받게 됨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영구임대아파트단지 내 건립 법제화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복지관 설치∙운영 규정을 제정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재가복지서비스의 도입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가정봉사원파견사업 실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CBR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실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복지전담요원제도 실시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1987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년부터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사회행동모델의 확대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지역조직화사업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주민운동 전개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자조집단 출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한국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: </a:t>
            </a:r>
            <a:r>
              <a:rPr b="1" lang="zh-CN" sz="3900" spc="-1" strike="noStrike">
                <a:solidFill>
                  <a:srgbClr val="330066"/>
                </a:solidFill>
                <a:latin typeface="굴림"/>
              </a:rPr>
              <a:t>현재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새로운 전환기 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방자치단체의 부활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복지 확대 정책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경제위기 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복지관과 재가복지봉사센터 증가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복지기관평가 실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 자원봉사센터 건립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중심의 자활지원사업 전개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광역단체 및 기초자치단체 사회복지협의회의 독립법인화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복지협의체의 구성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지역사회복지계획수립</a:t>
            </a: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000000"/>
                </a:solidFill>
                <a:latin typeface="굴림"/>
              </a:rPr>
              <a:t>사회복지재정의 지방분권 등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0066"/>
                </a:solidFill>
                <a:latin typeface="굴림"/>
              </a:rPr>
              <a:t>자선조직화 운동</a:t>
            </a:r>
            <a:r>
              <a:rPr b="1" lang="en-US" sz="3500" spc="-1" strike="noStrike">
                <a:solidFill>
                  <a:srgbClr val="330066"/>
                </a:solidFill>
                <a:latin typeface="굴림"/>
              </a:rPr>
              <a:t>(Charity Organization Society: COS)</a:t>
            </a:r>
            <a:endParaRPr b="1" lang="en-US" sz="3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869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영국에서 시작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1877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년 미국 버펄로에서 창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설립 취지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당시 빈민을 대상으로 하는 수많은 구호단체들의 업무를 조정하기 위함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의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사회사업기관들의 서비스 조정을 통해 합리적인 서비스 전달체계 구축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공동모금회와 사회복지협의회로 발전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직접적인 구호와 서비스 제공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인보관 운동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(Social Settlement  Movement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인보관 운동의 의의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빈민들의 열악한 환경을 파악하고 그들에게 교육하고 환경 개선하기 위해 빈민 지역에서 정착하여 활동함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빈민 지역에 거주하고 있는 자들을 위해 적절한 자립 방안을 모색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굴림"/>
              </a:rPr>
              <a:t>대학생 자원봉사자과 후원자들을 활용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COS</a:t>
            </a: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와 인보관 비교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484280"/>
          <a:ext cx="8229600" cy="4475160"/>
        </p:xfrm>
        <a:graphic>
          <a:graphicData uri="http://schemas.openxmlformats.org/drawingml/2006/table">
            <a:tbl>
              <a:tblPr/>
              <a:tblGrid>
                <a:gridCol w="1738440"/>
                <a:gridCol w="2881080"/>
                <a:gridCol w="361008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선조직협회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.O.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보관운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Settlement Mo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력의 참여형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애방문원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빈민들과 거주하는 자원봉사자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문제의 원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적 속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환경적 요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데올로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진화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유주의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급진주의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참여주도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류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류층과 대학생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문제 접근 및 해결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빈민개조와 역기능의 수정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치있는 빈민과 가치없는 빈민으로 구분하여 원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빈민과의 거주와 빈민생활에 동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사회질서 비판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용주의 및 개혁주의 노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움제공 유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기간 자선구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심 향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부상조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 및 정치적인 행동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영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조직 실천방법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공동모금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협의회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,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별사회사업 모태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복지관 형성에 영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4:00:12Z</dcterms:created>
  <dc:creator>^^</dc:creator>
  <dc:description/>
  <dc:language>en-US</dc:language>
  <cp:lastModifiedBy>^^</cp:lastModifiedBy>
  <dcterms:modified xsi:type="dcterms:W3CDTF">2009-08-25T08:59:57Z</dcterms:modified>
  <cp:revision>8</cp:revision>
  <dc:subject/>
  <dc:title>지역사회복지의 역사</dc:title>
</cp:coreProperties>
</file>