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620-8FC6-4003-86E8-914CBB0FD63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사회복지사협회나 각종 사회복지단체들이 정치적 활동을 강화하여 지역 주민의 사회복지 욕구를 반영해 나가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의 노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시민단체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정당들과 견제와 협력을 할 수 있는 역량을 갖추고 연합할 수 있어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거버넌스가 정치적 성격의 장임을 고려할 때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주민의 지지를 얻고 유지하는데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언제나 노력을 기울여야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국가의 사회복지에 대한 책임이 약화되고 이에 따른 사회복지 예산이 축소될 가능성이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간 재정력의 격차로 인한 복지수준의 불균형을 초래 지방자치단체의 사업수행능력이 미비되어 상당 정도 혼란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조직의 효율성을 높이고 지역주민들이 지역사회 문제에 적극 참여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 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주민과 사회복지 대상자에 대한 접근성을 보장하고 관련 직원들의 창조성을 증진시킨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역주민과 정치가에게 주어졌던 책임이 전문직종의 직원에게 주어져 전문성을 향상시킬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넷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서비스 공급에 있어서 다양한 비정부기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민간기관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자원봉사단체 등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활용을 최대화할 수 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참여 주체가 지방 정부와 비영리단체는 물론 지방의 기업과 같은 영리단체의 참여를 포함하고 있다는 점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는 민․관의 이분법적 참여 주체를 넘어 삼자 이상의 협의 체계를 가능하게 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로컬 거버넌스는 수직적인 위계보다는 수직적․수평적 위계를 모두 포함하는 확산 구조를 가지고 있다는 점셋째 분권화를 중요한 기초로 하고 있다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1F8-855D-4023-BBB2-5780D2CA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CBF-998E-4FE4-A141-1244D944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A2C-87FC-4D6D-A7E3-9FB872722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14B-745C-42BC-BB5A-7AA30C92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18C-D834-460D-BB6A-7AAE03A2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293-0816-4AE6-9D9E-ABD1F991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2430-CB5D-40F3-9FCA-11A87480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F69C-D357-4989-895B-57D0CF6B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E2E8-B102-499B-8EA4-B3DC3699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160-37D2-43EA-8477-DDA55DDB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8C9B-A2A1-4F5A-97E5-32AFE59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CB1-8048-4263-965F-C7CF823F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0F8-1A58-4F68-8921-5571871F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460D-6A63-4B86-93C8-BD1874E0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9616-9F36-4032-B453-15C4377A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459A-E377-453C-96F3-B7F2A851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7DF-2CA4-4748-8834-965BAE4C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638-1A3C-4B7F-874F-8EE31104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A2B-F617-49A0-AE84-C699C1A9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4A2-9E5C-4E10-92D6-40DCE041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F5D-74F8-4587-B9CE-DDA15B2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4F3-AA35-41E7-BA5B-41A1EB40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268C-27E6-4A21-B455-EDFB930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345-8AAE-4843-809B-CF8E1A4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418C-A53F-4B38-BB48-6CA6AD77B7D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52C3-CC27-4F5F-BFF3-5A1B9C3BED8E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자치제와 지역사회복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방자치제의 개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방자치제 실시와 지역사회복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로컬 거버넌스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사회복지 재정분권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조직의 정치역량강화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사협회나 각종 사회복지단체들의 정치적 활동 강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 주민의 사회복지 욕구 반영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의 노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민단체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당들과 견제와 협력을 할 수 있는 역량 구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의 지지를 얻기 위한 노력 필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사회복지 재정분권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재정분권의 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재정의 효율성 및 투명성 강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특성에 맞는 복지정책 수립 및 집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국가보조사업의 지방이양 실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2005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67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개 국가보조사업 이양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예산규모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체 이양된 예산 중 보건복지분야는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62%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주요 사업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각종 사회복지시설 운영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관 운영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전담공무원인건비 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국고보조사업의 지방이양 과제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국가의 사회복지에 대한 책임 약화 및 사회복지 예산 축소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간 재정력의 격차로 인한 복지수준의 불균형 초래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재정자립도 차이 큼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단체의 사업수행능력 미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극복 과제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정책추진과정에의 참여 확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예산 확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단체의 사업수행능력 제고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자치제의 개념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방자치의 개념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일정한 지역을 기초로 하는 지방자치단체가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그 구성원인 지역주민의 직접 또는 간접의 자유로운 의사에 따라서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당해 지방자치단체 자신의 권능과 책임 아래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자기의 기관과 재원에 의하여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의 공공사무를 자치적으로 처리하는 제도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필수 요소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중앙정부로부터 독립된 자치권이 있는 지방자치단체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방분권사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방자치단체의 행정 사무가 지역주민의 참여에 의해 이루어져야 함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민주주의 사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자치의 두 가지 측면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자치제의 가치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정치적 측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방행정의 민주화 보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주민에 대한 민주주의 학교의 역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국가 권력의 비대화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전제화 통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중앙정부의 정권교체 시 행정상의 혼란 방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행정적 측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 발전에 이바지 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주민의 만족감 증대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지역적 창의성 발휘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행정의 효율성 향상</a:t>
            </a:r>
            <a:r>
              <a:rPr b="0" lang="en-US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200" spc="-1" strike="noStrike">
                <a:solidFill>
                  <a:srgbClr val="000000"/>
                </a:solidFill>
                <a:latin typeface="굴림"/>
              </a:rPr>
              <a:t>인력과 경비 절감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현실적 가치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 실정에 맞는 행정을 전개함으로써 지역주민의 복지 증진에 이바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한국 지방자치제의 발전과정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기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, 2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화국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법 제정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1949). 1952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실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기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3, 4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화국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 중단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기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화국 – 현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1990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실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자치제 실시와 지역사회복지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서비스의 전달체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역사회복지협의회의 기능 대폭 강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민관 협력체계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재원의 확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역복지사업의 수행을 위한 복지 자원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주민 자원 필요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역별 공동모금회 활성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649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전문인력 배치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지역사회 문제 해결 및 욕구 충족의 원인 및 상황에 대한 과학적이고 합리적인 조사 분석 필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550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다양하고 특수한 각 지역사회의 문제와 욕구에 따른 새로운 프로그램 개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정부의 지역사회복지 방향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의 긍정적 기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개인의 권리와 자유의 신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민 복지의 증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의 효율적 배분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방자치의 역기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 분배를 둘러싼 갈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적 형평성의 문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64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이기주의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NIMBY, PIMBY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굴림"/>
              </a:rPr>
              <a:t>지방분권의 긍정적 측면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첫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의 효율성 및 지역주민의 참여 제고 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둘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주민과 사회복지 대상자에 대한 접근성 보장 및 관련 직원들의 창조성 증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셋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문성 향상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넷째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다양한 비정부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민간기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원봉사단체 등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 활용 최대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cc6600"/>
                </a:solidFill>
                <a:latin typeface="굴림"/>
              </a:rPr>
              <a:t>로컬 거버넌스의 개념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로컬 거버넌스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지방협치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정부와 기업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학계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비정부기구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NGO), 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언론 등 사회구성인자간 협력적 네트워크 구축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거버넌스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(governance)</a:t>
            </a: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의 의미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조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안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공공활동에 관련된 다양한 조직과 기구의 연결 유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느슨한 결합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다중제도적 조직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새롭고 긍정적인 행정 이미지의 표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government)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와는 다른 개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524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100" spc="-1" strike="noStrike">
                <a:solidFill>
                  <a:srgbClr val="000000"/>
                </a:solidFill>
                <a:latin typeface="굴림"/>
              </a:rPr>
              <a:t>로컬 거버넌스의 정의 정리</a:t>
            </a:r>
            <a:endParaRPr b="0" lang="en-US" sz="21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참여 주체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지방 정부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비영리단체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영리단체의 참여를 포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구조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수직적인 위계보다는 수직적∙수평적 위계를 모두 포함하는 확산 구조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기초 원리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권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재정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제도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00:39Z</dcterms:created>
  <dc:creator>^^</dc:creator>
  <dc:description/>
  <dc:language>en-US</dc:language>
  <cp:lastModifiedBy>^^</cp:lastModifiedBy>
  <dcterms:modified xsi:type="dcterms:W3CDTF">2009-08-26T00:57:41Z</dcterms:modified>
  <cp:revision>8</cp:revision>
  <dc:subject/>
  <dc:title>지방자치제와 지역사회복지</dc:title>
</cp:coreProperties>
</file>