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BB5-8FA9-4929-9970-B103E9B4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152-61D8-4391-85A4-DC3C97F7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D77C-F92C-4F0C-8A30-C55809E6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6BF-EB2F-40C7-B0F8-6AD519A6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69D8-1052-4F1C-ACA4-D056C592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56E2-989A-4FA0-8598-DB48849B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AB4B-EF0D-417D-A509-443F6982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6076-BE64-47E0-B3C2-9974F053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5891-A2F8-47DD-A1B7-1038998E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94BB-8098-4B1E-975E-5843A11B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735D-BD76-42ED-88C0-B9B8A944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38D-E47E-4F48-A92A-EE8903A4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BB0B-48B5-4568-95B6-FC95B050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8A80-6884-4C4C-B350-B1C8C0DE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6B99F-03C3-46D3-A937-AB1AD942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A25A-6727-413E-83F5-997D354E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F36A-61F0-4F19-960C-4802E7FB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F3A5-7EE6-423C-8229-A8ED95C6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7DBC-2E74-4D58-AD85-6ADE6451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E14-A527-4885-9523-F83A1316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656-D941-44FE-A2B7-09E57B4E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465-19E1-4DFD-B138-7AA72A5F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71CC-01B1-4B2A-BAF9-905B5F48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D543-9986-43DB-A9B6-1454FC73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352C-29AC-4C8F-BDF7-DC4B8A1957C3}" type="slidenum"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6F22-07DE-47D0-9700-56125BF3301E}" type="slidenum"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지역사회복지의 이론적 기초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사회체계이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생태학이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갈등이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교환이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사회구성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굴림"/>
              </a:rPr>
              <a:t>갈등이론의 기초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맑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Karl Marx)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와 다렌도르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Ralf Darendorf)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에 의해 형성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본 가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사회체계는 갈등을 일으키며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갈등은 사회의 일반적 특징이다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갈등은 사회의 구조의 한 부분이 되는 상반되는 이익에 의해 발생된다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상반된 이익은 지배집단과 피지배집단 간에 제한된 자원과 권력의 불평등한 분배로부터 생겨나며 모든 사회는 다른 집단으로부터 억압을 가한다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다른 이익은 두 개의 갈등집단으로 양극화된다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갈등은 변증법적이다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즉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한 갈등의 해결은 새로운 상반된 이익을 만들어 내고 이는 어떤 조건하에서 또 다른 갈등을 일으킨다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계속되는 갈등의 결과로서 사회변화는 사회의 일반적 특징이 된다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굴림"/>
              </a:rPr>
              <a:t>갈등이론의 지역사회복지 적용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역사회 내 불평등에 대한 이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무산계급은 지역사회 내에서 자원과 권력에 접근할 수 있는 기회가 박탈되어 억압 받으며 불평등을 경험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역사회복지실천의 의미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외집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 권력과 자원에 대한 접근권을 확보하도록 함께 일하는 실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법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옹호와 조직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량강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사결정 접근권 향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등한 자원배분 노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린스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Alinsky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지역사회조직활동에 영향을 미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굴림"/>
              </a:rPr>
              <a:t>갈등이론의 사회복지에 대한 비판적 시각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국가에 대한 관점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국가는 유산계급의 유리한 입장을 옹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사회복지사의 역할 모순 발생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국가의 지원을 받으면서 지역사회 내 소외계층을 위한 일해야 함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할 모순의 극복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사회운동을 통하여 억압 받는 집단을 위한 복지지출 확대와 사회적 조건의 개선을 위해 노력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굴림"/>
              </a:rPr>
              <a:t>교환이론의 기초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합리주의 고전경제학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능주의 인류학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행위주의 심리학에서 출발한 이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교환이론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교환행동주의 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미시적 차원에서 인간의 소집단 간의 교환관계에 중점을 둠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교환구조주의 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거시적 차원에서 사회조직 간의 교환관계에 중점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교환형태주의 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미시적 및 거시적 입장의 통합적 접근으로서 교환의 형태 및 과정에 중점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교환이론의 기본 개념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보상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교환자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가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굴림"/>
              </a:rPr>
              <a:t>교환이론의 지역사회복지 적용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지역사회에 대한 관점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교환이 이루어지는 장을 의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교환자원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담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지역사회 조직 서비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정보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아이디어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정치적 영향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순종적인 행동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의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교환의 발생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거래 상태에 있는 양자가 비용에 대한 이익이나 보상이 극대화할 수 있는 교환을 선택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=&g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교환의  불균형으로 인해 지역사회 내 문제 발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굴림"/>
              </a:rPr>
              <a:t>교환이론의 권력관계 설명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정부조직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사회복지서비스조직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클라이언트 당사자 조직 등 지역사회 내 다양한 조직 간의 권력관계를 설명하는 데 유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권력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교환 상대방이 필요로 하는 자원을 통제할 수 있는 능력의 기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양자간의 권력관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독립적인 상태 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권력－의존적인 상태 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굴림"/>
              </a:rPr>
              <a:t>권력균형 전략</a:t>
            </a: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(power-balancing strategies) 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쟁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competition) : A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로 하여금 다른 방법을 찾도록 하는 것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재평가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re-evaluation) : A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의 자원에 대하여 관심을 덜 가지게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상호호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reciprocity) : A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가 선호하는 자원을 찾아준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연합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coalition) : A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와 연합하여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와의 관계에서 좀더 평등한 관계를 행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강압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coercion) 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신들이 원하는 행동을 하도록 물리적 힘 또는 위협을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000000"/>
                </a:solidFill>
                <a:latin typeface="굴림"/>
              </a:rPr>
              <a:t>사회구성론의 기초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 사회를 지배하는 주류 이데올로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교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치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문화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개인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 어떻게 만들어지고 유지되고 내재화되는지에 초점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포스트모더니즘과 연관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징적 상호작용주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symbolic interactionism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서 출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굴림"/>
              </a:rPr>
              <a:t>지식은 객관적인 것이 아니며 유일한 “진리”라는 것이 없다 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굴림"/>
              </a:rPr>
              <a:t>지식은 문화적 맥락</a:t>
            </a:r>
            <a:r>
              <a:rPr b="0" lang="ko-KR" sz="23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굴림"/>
              </a:rPr>
              <a:t>정치구조</a:t>
            </a:r>
            <a:r>
              <a:rPr b="0" lang="ko-KR" sz="23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굴림"/>
              </a:rPr>
              <a:t>경제</a:t>
            </a:r>
            <a:r>
              <a:rPr b="0" lang="ko-KR" sz="23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300" spc="-1" strike="noStrike">
                <a:solidFill>
                  <a:srgbClr val="000000"/>
                </a:solidFill>
                <a:latin typeface="굴림"/>
              </a:rPr>
              <a:t>역사적 영향 안에서 사회적 상호작용과 이야기를 통하여 구성 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굴림"/>
              </a:rPr>
              <a:t>사회구성론의 사회복지실천에 대한 관점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사회문제는 그것을 문제로 보는 집단에 의해 문제가 되는 것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지역사회 문제는 지역사회의 한 집단이 다른 집단이 설정한 의미에 동의하지 않아서 그 집단의 의미대로 행동하지 않는 현상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류적 시각에서 소외된 집단의 독특한 문화와 행동은 “비정상적”인 것 또는 “반사회적”인 문제로 해석되기 쉬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굴림"/>
              </a:rPr>
              <a:t>사회복지실천에 대한 비판적 시각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문가 중심의 전통적 사회복지실천에 대해 비판적 시각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사회복지사의 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개인의 행동을 규제하고 통제하려는 사회의 욕구에 대한 반응으로 사회적으로 구성됨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=&gt; ct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에 대한 선입견과 편견이 작용할 수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이상적인 방법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클라이언트들의 주체성을 인정하고 그들이 자신의 권익의 주선자로 서도록 도와야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사회복지사와의 교류에 있어서 새로운 의미 부여를 통해 사회적 현실을 창조하는 데 참여할 기회를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클라이언트의 세계를 이해하고 들어가기 위한 의사소통 기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클라이언트의 문제에 대해 좀더 민감하게 사정할 수 있어야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틀에 박히고 부적절한 진단적 용어 사용을 지양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권력 지배 세력의 억압적 영향을 이해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지역사회 내에서 활용가능한 대안들을 잘 알고 있어야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굴림"/>
              </a:rPr>
              <a:t>이론의 필요성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효과적인 실천에 대한 중요한 도구를 제공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지역사회복지실천의 사정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석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계획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행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평가 수행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천가로 하여금 효과적인 실천과 지식을 학습하고 실천하도록 도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변화하는 지식과 정보를 활용하도록 도움을 제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회정의를 위한 도움을 제공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지역사회 내 정의로운 사회와 사회적 과정들로 변화하는 데 필요한 요소들을 결정하고 실천하는 이론을 제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000000"/>
                </a:solidFill>
                <a:latin typeface="굴림"/>
              </a:rPr>
              <a:t>사회구성론의 실천원칙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사회적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정체적 구조가 개인 행동과 문화적 가치와 규범과 관련한 의미들을 어떻게 형성하는지를 이해해야 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실천에 영향을 미치는 문화적 상징과 의미를 결정하기 위하여 다른 전문가와 의견 교류를 해야 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지역사회가 현실을 어떻게 해석하는지 그리고 지배문화에 의한 억압을 어떻게 내재화하는지에 대한 통찰력을 얻기 위하여 주변화된 지역사회에 대한 공동 연구에 참여해야 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사회적 힘과 권력이 주변화된 집단의 구성원에게 어떻게 영향을 미치는지에 대한 새로운 지식과 이론을 개발해야 함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굴림"/>
              </a:rPr>
              <a:t>사회체계이론의 기초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사회체계이론의 핵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전체는 부분들의 집합 이상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부분들 간의 상호작용과 상호의존적 관계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체계의 한 부분의 변화는 전체로서의 체계와 체계 내의 모든 부분에 영향을 미침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요 개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구조적 특성 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경계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개방체계와 폐쇄체계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대상체계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상위체계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하위체계 등 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행동적 특성 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의사소통과 피드백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투입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전환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산출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균형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항상성</a:t>
            </a:r>
            <a:r>
              <a:rPr b="0" lang="en-US" sz="27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700" spc="-1" strike="noStrike">
                <a:solidFill>
                  <a:srgbClr val="000000"/>
                </a:solidFill>
                <a:latin typeface="굴림"/>
              </a:rPr>
              <a:t>안정상태 등  </a:t>
            </a:r>
            <a:endParaRPr b="0" lang="en-US" sz="27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굴림"/>
              </a:rPr>
              <a:t>사회체계이론의 사회복지실천 적용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클라이언트가 가지고 있는 문제에 대한 총체적인 이해를 제공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생태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계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사회적 관계망 지도 등 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의 도구를 제공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체 체계를 변화시키는 개입전략을 제공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체계를 한 단위로서 역할 및 기능을 이해하는 동시에 다른 체계와의 상호작용 관계를 이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굴림"/>
              </a:rPr>
              <a:t>사회체계이론의 지역사회복지 적용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체로서의 지역사회체계와 지역사회 내 다수의 사회적 단위로서 하위체계를 동시에 고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지역사회를 하나의 행위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actor)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보는 것을 의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지역사회체계의 총체적 시각을 가지고 하나의 행위자로서 지역사회가 작동하도록 개입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굴림"/>
              </a:rPr>
              <a:t>사회체계이론의 유용성 및 함의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위체계의 변화는 지역사회 생활에 어떤 영역에서의 반응을 만들어낸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위체계 지역사회의 행동은 그 체계의 요소뿐만 아니라 전체 지역사회에 영향을 미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지역사회는 그 기능을 수행한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조직화의 목표는 모든 주민들이 지역사회의 삶에 동참할 수 있는 안정적인 상태로 지역사회를 바꾸어가는 것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굴림"/>
              </a:rPr>
              <a:t>생태학이론의 기초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본 견해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간이 환경의 제 요소들과 끊임없이 상호교류를 하면서 적응하고 진화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회복지실천의 사회환경을 개념화하는 데 활용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회복지실천은 클라이언트를 돕기 위해 클라이언트의 생활공간 어디든 개입할 준비가 되어야 한다고 가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핵심 개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환경 속의 개인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(person-in-environment)’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굴림"/>
              </a:rPr>
              <a:t>개인과 환경에 대한 이중초점</a:t>
            </a: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(dual focus) 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굴림"/>
              </a:rPr>
              <a:t>생태학이론의 지역사회복지 적용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민들과 서비스의 지역사회 환경에 대한 상호의존성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해당 지역사회와 다른 지역사회와의 상호작용에 초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인구 이동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민과 이주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시의 성장 등 변화하는 지역사회의 역동성을 이해하는 기초를 제공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굴림"/>
              </a:rPr>
              <a:t>생태학이론의 유용성 및 함의</a:t>
            </a:r>
            <a:endParaRPr b="0" lang="en-US" sz="3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경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상황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은 지역사회복지실천의 매개 요인으로 매우 중요하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상호성과 상호의존성이 가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웃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국가를 넘어선 가치와 의무를 어떻게 의미하는지를 알아야 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지역사회가 주어진 장소에서 스스로 생존하기 위하여 조직하는 방법을 탐구해야 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간문제에 대하여 개인적 원인뿐만 아니라 생태학적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연과학적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객관적인 영향에 대해 고려하고 분석해야 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01:11:02Z</dcterms:created>
  <dc:creator>^^</dc:creator>
  <dc:description/>
  <dc:language>en-US</dc:language>
  <cp:lastModifiedBy>^^</cp:lastModifiedBy>
  <dcterms:modified xsi:type="dcterms:W3CDTF">2009-08-26T04:31:30Z</dcterms:modified>
  <cp:revision>7</cp:revision>
  <dc:subject/>
  <dc:title>지역사회복지의 이론적 기초</dc:title>
</cp:coreProperties>
</file>