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DB8D-5EE1-4101-834F-41CE8740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751-821F-49A0-B90E-2D3BD65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953-D0EB-46E2-B502-D59896EE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64D-3CDB-4C99-93A9-8B8BF1B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D6E1-1A0D-414E-85C4-7641FDC7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95D9-7283-4988-8C37-7D1C63B4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0FBC-5548-46E7-A957-D1E7619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C48-E757-4107-9D72-B9CB5FF8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FAAF-0794-4EA2-BA40-E19B760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69F2-47B8-47F9-B8A9-51CA15BC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7743-F414-436C-B87C-5D5C9C76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0F0D-955A-4BA2-9D2D-E231533C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357-95B8-41AA-B325-A5B3655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C045-A38F-4CEF-AF8F-19B5B296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2924-A4FD-4313-9740-D87474DB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66D7-633D-44C1-9011-F6CAD428B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CA90-09DA-4A77-8927-53303271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4902-DD48-4E5E-BA80-37B1E407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E8C-1A94-4ED1-A4B5-D3BEF15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EA5-4DC5-42D7-A132-D4E05B09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D18-EFDF-41AB-8C72-E2108C1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1BC-74DA-4B89-8F2F-61640216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FB12-7B23-4974-AECF-BF1A9C9A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00A4-0381-4629-B3FD-98D3400F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85800" y="228600"/>
            <a:ext cx="8153280" cy="1158840"/>
          </a:xfrm>
          <a:prstGeom prst="pie">
            <a:avLst/>
          </a:prstGeom>
          <a:gradFill rotWithShape="0">
            <a:gsLst>
              <a:gs pos="0">
                <a:srgbClr val="91bbb6"/>
              </a:gs>
              <a:gs pos="100000">
                <a:srgbClr val="d4e4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A81A-A33B-4DFD-BBAB-D66D7AA87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2"/>
          <p:cNvSpPr/>
          <p:nvPr/>
        </p:nvSpPr>
        <p:spPr>
          <a:xfrm>
            <a:off x="838080" y="2273400"/>
            <a:ext cx="7772400" cy="1158840"/>
          </a:xfrm>
          <a:prstGeom prst="pie">
            <a:avLst/>
          </a:prstGeom>
          <a:gradFill rotWithShape="0">
            <a:gsLst>
              <a:gs pos="0">
                <a:srgbClr val="91bbb6"/>
              </a:gs>
              <a:gs pos="100000">
                <a:srgbClr val="caded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75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022400" indent="-351000">
              <a:spcBef>
                <a:spcPts val="751"/>
              </a:spcBef>
              <a:buClr>
                <a:srgbClr val="657a56"/>
              </a:buClr>
              <a:buSzPct val="6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339920" indent="-316080">
              <a:spcBef>
                <a:spcPts val="751"/>
              </a:spcBef>
              <a:buClr>
                <a:srgbClr val="59877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681200" indent="-339840">
              <a:spcBef>
                <a:spcPts val="751"/>
              </a:spcBef>
              <a:buClr>
                <a:srgbClr val="657a56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8DE-DB37-4267-B3CB-B9E71BD19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지역사회복지의 실천 모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영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미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일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기본적인 변화 전략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함께 모여서 이야기해 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의사결정 과정 및 문제해결 과정 중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진상을 파악해서 논리적인 조치를 강구하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학적인 자료수집과 합리적인 대안 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우리들의 억압자를 분쇄하기 위해 규합하고 체계를 변화시키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변화시켜야 할 문제점과 목표를 정확히 파악하여 합법적인 표적으로 대상으로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변화전술과 기법의 성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토론을 통하여 합의점 도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실을 정확하게 파악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분석하는 기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변화표적에 대한 직면과 직접적 행동을 통한 갈등이나 대결의 전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실천가의 역할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력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촉매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정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민 상호간의 접촉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트워크 내의 멤버십 촉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파워먼트 개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문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진단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사기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타 지역사회에 대한 정보 확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동가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중개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협상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중 조직과 운동 창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치적 과정의 역량 필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변화의 매개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업지향적인 소집단 활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료조직과 공식적인 조직의 자료 수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중조직과 지역정치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권력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모든 하위조직 포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존 권력 집단도 협력자로 활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실천가를 후원하는 조직 및 고용기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협의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관 이사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당국 담당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의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부표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반대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억압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대상자의 범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 전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 전체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혹은 특정 대상층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소외 계층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역사회 구성원의 이해관계에 대한 가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양한 이해관계로 경쟁하고 있는 지역사회 집단들이 서로 화해하고 협력 가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선의의 경쟁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실용주의적인 입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한 권력이나 집단이 지역사회를 지배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내 이해관계는 쉽게 타협되지 않을 것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대상자 집단에 관한 견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보통의 지역주민으로서 많은 잠재능력을 소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발하지 못하고 있어 실천가의 도움 필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프로그램 및 서비스의 소비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행동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발전과정에서의 희생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낙오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대상자 역할에 대한 견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주민들은 상호간에 혹은 실천가와의 상호관계 과정에서 적극적으로 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집단 토의를 통해 스스로 욕구 발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목표 결정 과정에 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비스의 소비자나 고객으로 인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책이나 의사결정과정에는 참여시키지 않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상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들은 실천가를 고용하는 입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조직 운영을 위한 참여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혹은 집단 행동에서의 부분적 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임파워먼트 방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의 역량강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복지 실천과정을 통하여 지역주민들이 성장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제감 개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주민과 소비자들이 자신들의 욕구와 선호를 실천가에게 알리고 자신들이 필요로 하는 계획 및 정책을 수립하게 되면 임파워먼트 형성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 내에서 소외계층의 목적 또는 권력을 획득하는 것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책결정기구에 공식적으로 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영국의 지역사회복지실천 모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탈시설화 모형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생활시설을 지역사회에 개방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와 유기적인 활동을 맺도록 지원하는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보호 모형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대상자들이 생활시설에 입소하지 않고 지역사회 내에서 사회복지시설로부터 다양한 서비스를 제공받으며 자립적으로 생활해나갈 수 있도록 지원해 주는 것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민관 협동 지역사회복지서비스 모형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봄보고서 이후 각 지방자치단체에 의무적으로 설치된 사회복지서비스를 통해 민관 협동으로 지역사회복지서비스 제공되는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로스만 모델의 정리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각 모델의 구체적 비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교재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p. 100 &lt;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5-1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실제 지역사회복지실천의 개입전략에 있어서는 상호중복되고 혼합된 형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4" name="Diagram 4"/>
          <p:cNvGrpSpPr/>
          <p:nvPr/>
        </p:nvGrpSpPr>
        <p:grpSpPr>
          <a:xfrm>
            <a:off x="3026520" y="3670560"/>
            <a:ext cx="2981160" cy="1839240"/>
            <a:chOff x="3026520" y="3670560"/>
            <a:chExt cx="2981160" cy="1839240"/>
          </a:xfrm>
        </p:grpSpPr>
        <p:sp>
          <p:nvSpPr>
            <p:cNvPr id="125" name="_s1028"/>
            <p:cNvSpPr/>
            <p:nvPr/>
          </p:nvSpPr>
          <p:spPr>
            <a:xfrm>
              <a:off x="4114080" y="3996720"/>
              <a:ext cx="806040" cy="934200"/>
            </a:xfrm>
            <a:prstGeom prst="ellipse">
              <a:avLst/>
            </a:prstGeom>
            <a:solidFill>
              <a:srgbClr val="598779">
                <a:alpha val="50000"/>
              </a:srgbClr>
            </a:solidFill>
            <a:ln w="4680">
              <a:solidFill>
                <a:srgbClr val="5987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_s1029"/>
            <p:cNvSpPr/>
            <p:nvPr/>
          </p:nvSpPr>
          <p:spPr>
            <a:xfrm>
              <a:off x="4114080" y="3670560"/>
              <a:ext cx="806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개발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_s1030"/>
            <p:cNvSpPr/>
            <p:nvPr/>
          </p:nvSpPr>
          <p:spPr>
            <a:xfrm>
              <a:off x="4379760" y="4528080"/>
              <a:ext cx="806040" cy="934200"/>
            </a:xfrm>
            <a:prstGeom prst="ellipse">
              <a:avLst/>
            </a:prstGeom>
            <a:solidFill>
              <a:srgbClr val="657a56">
                <a:alpha val="50000"/>
              </a:srgbClr>
            </a:solidFill>
            <a:ln w="4680">
              <a:solidFill>
                <a:srgbClr val="657a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_s1031"/>
            <p:cNvSpPr/>
            <p:nvPr/>
          </p:nvSpPr>
          <p:spPr>
            <a:xfrm>
              <a:off x="5201640" y="5275440"/>
              <a:ext cx="806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_s1032"/>
            <p:cNvSpPr/>
            <p:nvPr/>
          </p:nvSpPr>
          <p:spPr>
            <a:xfrm>
              <a:off x="3848400" y="4529880"/>
              <a:ext cx="806040" cy="934200"/>
            </a:xfrm>
            <a:prstGeom prst="ellipse">
              <a:avLst/>
            </a:prstGeom>
            <a:solidFill>
              <a:srgbClr val="777777">
                <a:alpha val="50000"/>
              </a:srgbClr>
            </a:solidFill>
            <a:ln w="468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026520" y="5277240"/>
              <a:ext cx="806040" cy="23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000000"/>
                  </a:solidFill>
                  <a:latin typeface="굴림"/>
                </a:rPr>
                <a:t>계획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근린지역의 지역사회조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조직 실천의 초점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리적인 의미의 근접성과 그 지역사회의 현안문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목표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들의 조직 활동 개입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발전시키는 능력 확립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구체적인 과업들을 달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교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감독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촉진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기능적인 지역사회조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능적인 지역사회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 집단의 권익을 추구하는 공동체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초점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현안 이슈에 대한 옹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람들의 태도를 변화시키는 것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교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보전달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지역사회의 사회 경제 개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술적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치적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과정적 기술 개발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들의 관점을 반영한 계획과 개발 시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투자 유치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설득하여 지역의 낙후성 극복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중초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주민들의 능력 강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자원개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투자자 및 자원을 목록화 및 접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의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업체의 담당구성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초기 조직 단계에서의 단체 구성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욕구조사 기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발계획 결정 기술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협상 기술 필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사회계획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수행 방식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휴먼서비스 기관의 연합체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개별 조직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정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목표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서비스와 사회정책 개발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확장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정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현안문제에 대한 해결의 실천과 도입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의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사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욕구의 사정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평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업계획서 작성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사소통 기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프로그램 개발과 지역사회 연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심 범위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 인구집단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서비스 개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새로운 욕구에 따른 서비스 개발과정에서 지역주민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잠재적 클라이언트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관 스텝간의 상호작용 중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계획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업계획서의 작성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변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중개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촉진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리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감독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평가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정치 사회 행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목표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회 불평등에 도전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부당한 결정에 도전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의 능력에 대한 믿음 강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초점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이나 정책입안자의 변화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기업체의 행동 변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의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교육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연구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관리기술 활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연합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연합의 특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양한 조직들의 독립성을 유지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동의 목표를 위해 새로운 조직을 구성하거나 연대 체계 구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목표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중조직적인 힘의 기반을 구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표적 체계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선출직 공무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장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의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금 지원 재단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부기관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도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변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중개와 협상 기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사회운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운동의 의미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새로운 패러다임 제공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변화를 위한 행동을 자극하는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예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민권 운동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민주화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의 역할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의 스텝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특정 사회운동의 옹호자 혹은 촉진자 역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와일과 갬블 모델의 재분류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Oval 3"/>
          <p:cNvSpPr/>
          <p:nvPr/>
        </p:nvSpPr>
        <p:spPr>
          <a:xfrm>
            <a:off x="826920" y="1628640"/>
            <a:ext cx="2159280" cy="790560"/>
          </a:xfrm>
          <a:prstGeom prst="ellipse">
            <a:avLst/>
          </a:prstGeom>
          <a:solidFill>
            <a:srgbClr val="5987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26920" y="2637000"/>
            <a:ext cx="2159280" cy="790560"/>
          </a:xfrm>
          <a:prstGeom prst="ellipse">
            <a:avLst/>
          </a:prstGeom>
          <a:solidFill>
            <a:srgbClr val="5987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조직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755640" y="3860640"/>
            <a:ext cx="2158920" cy="790560"/>
          </a:xfrm>
          <a:prstGeom prst="ellipse">
            <a:avLst/>
          </a:prstGeom>
          <a:solidFill>
            <a:srgbClr val="5987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계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84360" y="5373720"/>
            <a:ext cx="2158920" cy="790560"/>
          </a:xfrm>
          <a:prstGeom prst="ellipse">
            <a:avLst/>
          </a:prstGeom>
          <a:solidFill>
            <a:srgbClr val="59877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회변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219640" y="1700280"/>
            <a:ext cx="1944720" cy="43164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회경제 개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5219640" y="2421000"/>
            <a:ext cx="1944720" cy="43164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근린지역사회조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219640" y="2997360"/>
            <a:ext cx="1944720" cy="43164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기능적 지역사회조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5219640" y="3573360"/>
            <a:ext cx="2737080" cy="43200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프로그램 개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지역사회연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219640" y="4221000"/>
            <a:ext cx="1944720" cy="43200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회계획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5219640" y="4941720"/>
            <a:ext cx="1944720" cy="43200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정치사회행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219640" y="5516640"/>
            <a:ext cx="1944720" cy="43164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5219640" y="6165720"/>
            <a:ext cx="1944720" cy="432000"/>
          </a:xfrm>
          <a:prstGeom prst="rect">
            <a:avLst/>
          </a:prstGeom>
          <a:solidFill>
            <a:srgbClr val="91bb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사회운동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Line 15"/>
          <p:cNvSpPr/>
          <p:nvPr/>
        </p:nvSpPr>
        <p:spPr>
          <a:xfrm flipV="1">
            <a:off x="2987640" y="2636640"/>
            <a:ext cx="2232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2987640" y="2997360"/>
            <a:ext cx="22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2916360" y="3789000"/>
            <a:ext cx="2303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2916360" y="4221000"/>
            <a:ext cx="2303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Line 19"/>
          <p:cNvSpPr/>
          <p:nvPr/>
        </p:nvSpPr>
        <p:spPr>
          <a:xfrm flipV="1">
            <a:off x="2843280" y="5157360"/>
            <a:ext cx="23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Line 20"/>
          <p:cNvSpPr/>
          <p:nvPr/>
        </p:nvSpPr>
        <p:spPr>
          <a:xfrm>
            <a:off x="2843280" y="573408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Line 21"/>
          <p:cNvSpPr/>
          <p:nvPr/>
        </p:nvSpPr>
        <p:spPr>
          <a:xfrm>
            <a:off x="2843280" y="5734080"/>
            <a:ext cx="23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Line 22"/>
          <p:cNvSpPr/>
          <p:nvPr/>
        </p:nvSpPr>
        <p:spPr>
          <a:xfrm flipV="1">
            <a:off x="2987640" y="1916280"/>
            <a:ext cx="223200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미국의 지역사회복지실천 모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로스만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(Rothman)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3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모형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사회개발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locality development)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책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social planning/policy)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(social action) 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모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와일과 갬블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(Weil &amp; Gamble)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모형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근린지역의 지역사회조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능적인 지역사회조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사회의 사회∙경제 개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계획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프로그램 개발과 지역사회 연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치∙사회행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연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운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일본의 지역사회실천 모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재택복지서비스 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노인문제 해결에 초점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시설의 다양화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홈헬퍼 인력 육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민참가 모형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자원봉사자 활용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파트타임의 홈헬퍼나 볼런티어 육성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복지계획 모형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자체의 지역복지계획 수립 법제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거시적 차원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 내 인력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재원 조사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주민의 욕구와 연계하는 활동 전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시적 차원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강 네트워크 확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택과 환경 개선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재가복지시스템 구축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력 양성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한국의 지역사회실천 모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 자원개발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시설의 경영자와 사회복지사가 함께 후원금 확보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자원봉사인력 확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정부 보조금 만으로는 시설 운영 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재가복지서비스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진국에 비해 다양화되어 있지 않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의 자원과 유휴 인력을 적절히 활용 중에 있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계획 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 지역사회복지계획을 수립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8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의 자원을 잘 파악하고 주민들의 의견을 종합하여 지역실정에 맞게 지역사회복지계획이 수립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개발모델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local/community developm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과정목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조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문제 해결을 위한 지역사회능력과 사회통합 이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문제의 파악 및 해결과정에 있어 주민들의 광범위한 참여를 장려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본 변화 전략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함께 모여 의논하자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본 방법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도자 양성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협력적 활동 분위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가 역할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력자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정자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문제해결기술 훈련자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강조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민주적인 절차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발적인 협동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토착적인 지도자의 개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교육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관의 주민조직화사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조직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성인교육 및 리더십 교육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책모델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social planning/policy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과업목표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각종 지역사회문제의 구체적 해결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합리성 강조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강조점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합리적인 계획 수립과 계획된 변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과정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문제 확인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정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목표 개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실행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본 변화 전략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실을 파악한 다음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어떠한 논리적 조치를 취할 것인지 생각해 보자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가의 역할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욕구 조사 및 분석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업의 촉진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물자와 서비스 제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동모금기관이나 지역사회복지협의회와 같은 조직에서 추진하는 여러 가지 정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군구의 지역복지계획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사회행동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모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ocial action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복지실천의 의미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에서 박탈당하고 희생당하고 있는 불우계층의 복지 증진 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의 억압받고 소외된 주민들이 사회정의와 정치적 공평성의 입장에서 사회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정치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경제적으로 보다 나은 처우를 받을 수 있도록 해 주는 활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일차적으로 과업목적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역사회의 기존 제도나 상태에 대한 근본적인 변화 추구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방법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조직적 대항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입법로비활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대중조직의 개발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정치적 캠페인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기본 변화 전략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우리의 억압자를 물리치고 체제를 변혁하기 위해 조직하자</a:t>
            </a:r>
            <a:r>
              <a:rPr b="0" lang="ko-KR" sz="21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전문가의 역할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조직가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사회적 약자를 지지하고 옹호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SzPct val="1176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예 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여성운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소비자보호운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노동조합운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빈민운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환경운동</a:t>
            </a:r>
            <a:r>
              <a:rPr b="0" lang="en-US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복지권운동 등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과업 목표와 과정 목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과업 목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task goal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 체계 안에서 제시된 문제를 해결하거나 구체적 과업을 완수하고자 하는 목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새로운 서비스 시행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서비스의 연계 체계 개선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특정한 사회적 입법 추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 주민들의 행동이나 태도 변화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과정 목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(process goal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체계를 유지하고 지역사회의 역량을 강화하고자 하는 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문제 해결 체계 구축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민 관심 및 참여 촉진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토착적인 리더십 개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 주민들간의 협력 체계 구축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지역사회복지의 목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정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의 통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주민이 협동적으로 문제를 해결해 나갈 수 있는 과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업목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 당면 문제 해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차적으로 과업목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과정 목표도 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역사회의 권력과 자원의 이동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제도의 개선 추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굴림"/>
              </a:rPr>
              <a:t>지역사회 구조 및 문제에 대한 가정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개발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현대 사회에서 의미있는 인간관계와 문제 해결 기술 부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주민들의 지역사회문제 해결 능력과 민주적 방식에 대한 이해를 높이는 것이 중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계획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책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현대 도시 사회에서는 도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문제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를 안고 있음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행동모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69960" indent="-325440">
              <a:spcBef>
                <a:spcPts val="601"/>
              </a:spcBef>
              <a:buClr>
                <a:srgbClr val="598779"/>
              </a:buClr>
              <a:buSzPct val="6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권력 구조 안에서 사회적 부정의나 착취를 겪는 사회적 약자 존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7:37:10Z</dcterms:created>
  <dc:creator>^^</dc:creator>
  <dc:description/>
  <dc:language>en-US</dc:language>
  <cp:lastModifiedBy>^^</cp:lastModifiedBy>
  <dcterms:modified xsi:type="dcterms:W3CDTF">2009-08-26T04:39:18Z</dcterms:modified>
  <cp:revision>9</cp:revision>
  <dc:subject/>
  <dc:title>지역사회복지의 실천 모형</dc:title>
</cp:coreProperties>
</file>