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C541-F605-45A4-847A-C5AE33007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0C59-AE93-49DB-AC3D-4F652675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6F92-F18F-4D2F-8AA4-B18550DB1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BD47-1C53-4388-A06E-B93868ADE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B3B9-E551-4B82-A98C-DADBDD54F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6E54B-B1D5-47F1-A40C-4D2868F2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6D8B-D817-4F17-8DC6-3B508FA9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C21D-F1A7-45E8-981D-12706BC6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6A03-72F4-4884-9601-D2CE134F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12BA-E136-4356-AF9D-3F7582A1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2AEF-C52D-41E0-B96E-D76A4B74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B4E3-BB1A-4AFD-AC3C-14C81CF6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FB16-5E45-4943-9B74-90039D9F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A783B-21F6-40D3-B2FC-1D8EEFB6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E1959-AAEE-4FCE-B12B-6A58C393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695F7-0825-4C14-A5C7-9917AB733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34FC-C4A8-49AA-AA67-358B70AF5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E849-D326-4A7A-BCCB-49197990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6F5F-6D16-4F98-9102-D0384E98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BF35-EA56-4A4F-ABC5-743F6B0B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8F44-2F63-4E12-881E-0C6E695B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88B4-6E67-4897-854C-4EF32CB9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73CD-BA6F-4639-8524-1C060C79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D7FA-9A63-4D38-96D0-C9A54D06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bf"/>
            </a:gs>
            <a:gs pos="100000">
              <a:srgbClr val="fefe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60" y="-360"/>
            <a:ext cx="9149040" cy="6858360"/>
            <a:chOff x="-360" y="-360"/>
            <a:chExt cx="9149040" cy="6858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92000" cy="309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666880" y="6703920"/>
              <a:ext cx="6477120" cy="1540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eba9d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247c4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5257800"/>
              <a:ext cx="385920" cy="152280"/>
            </a:xfrm>
            <a:prstGeom prst="rect">
              <a:avLst/>
            </a:prstGeom>
            <a:solidFill>
              <a:srgbClr val="eba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424480"/>
              <a:ext cx="385920" cy="14335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gradFill rotWithShape="0">
              <a:gsLst>
                <a:gs pos="0">
                  <a:srgbClr val="cfba7d"/>
                </a:gs>
                <a:gs pos="100000">
                  <a:srgbClr val="ede6d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23720" y="298440"/>
              <a:ext cx="385920" cy="7491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1054080"/>
              <a:ext cx="385920" cy="4186080"/>
            </a:xfrm>
            <a:prstGeom prst="rect">
              <a:avLst/>
            </a:prstGeom>
            <a:gradFill rotWithShape="0">
              <a:gsLst>
                <a:gs pos="0">
                  <a:srgbClr val="cfba7d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480" y="298440"/>
              <a:ext cx="385560" cy="74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85880" y="0"/>
              <a:ext cx="4929120" cy="29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>
              <a:off x="403200" y="304560"/>
              <a:ext cx="0" cy="6553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03200" y="6705720"/>
              <a:ext cx="874548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317520"/>
              <a:ext cx="91440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>
              <a:off x="5716080" y="442800"/>
              <a:ext cx="34290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04960" y="0"/>
              <a:ext cx="0" cy="10666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>
              <a:off x="-360" y="1047600"/>
              <a:ext cx="78588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2655720" y="6237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641680" y="6242040"/>
              <a:ext cx="6502320" cy="468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>
              <a:off x="0" y="5257800"/>
              <a:ext cx="4176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>
              <a:off x="0" y="5410080"/>
              <a:ext cx="4176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66633"/>
                </a:solidFill>
                <a:latin typeface="굴림"/>
              </a:rPr>
              <a:t>Click to edit the title text format</a:t>
            </a: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51"/>
              </a:spcBef>
              <a:buClr>
                <a:srgbClr val="247c4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51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51"/>
              </a:spcBef>
              <a:buClr>
                <a:srgbClr val="cfba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51"/>
              </a:spcBef>
              <a:buClr>
                <a:srgbClr val="cfba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0C47-A8EA-4274-8020-EFEA57184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bf"/>
            </a:gs>
            <a:gs pos="100000">
              <a:srgbClr val="fefe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-360" y="-360"/>
            <a:ext cx="9149040" cy="6858360"/>
            <a:chOff x="-360" y="-360"/>
            <a:chExt cx="9149040" cy="6858360"/>
          </a:xfrm>
        </p:grpSpPr>
        <p:sp>
          <p:nvSpPr>
            <p:cNvPr id="67" name=""/>
            <p:cNvSpPr/>
            <p:nvPr/>
          </p:nvSpPr>
          <p:spPr>
            <a:xfrm>
              <a:off x="0" y="0"/>
              <a:ext cx="792000" cy="309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666880" y="6703920"/>
              <a:ext cx="6477120" cy="15408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eba9d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247c4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5257800"/>
              <a:ext cx="385920" cy="152280"/>
            </a:xfrm>
            <a:prstGeom prst="rect">
              <a:avLst/>
            </a:prstGeom>
            <a:solidFill>
              <a:srgbClr val="eba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5424480"/>
              <a:ext cx="385920" cy="14335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gradFill rotWithShape="0">
              <a:gsLst>
                <a:gs pos="0">
                  <a:srgbClr val="cfba7d"/>
                </a:gs>
                <a:gs pos="100000">
                  <a:srgbClr val="ede6d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3720" y="298440"/>
              <a:ext cx="385920" cy="7491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1054080"/>
              <a:ext cx="385920" cy="4186080"/>
            </a:xfrm>
            <a:prstGeom prst="rect">
              <a:avLst/>
            </a:prstGeom>
            <a:gradFill rotWithShape="0">
              <a:gsLst>
                <a:gs pos="0">
                  <a:srgbClr val="cfba7d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480" y="298440"/>
              <a:ext cx="385560" cy="74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5880" y="0"/>
              <a:ext cx="4929120" cy="29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403200" y="304560"/>
              <a:ext cx="0" cy="6553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03200" y="6705720"/>
              <a:ext cx="874548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17520"/>
              <a:ext cx="91440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5716080" y="442800"/>
              <a:ext cx="34290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4960" y="0"/>
              <a:ext cx="0" cy="10666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60" y="1047600"/>
              <a:ext cx="78588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2655720" y="6237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641680" y="6242040"/>
              <a:ext cx="6502320" cy="468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0" y="5257800"/>
              <a:ext cx="4176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0" y="5410080"/>
              <a:ext cx="4176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66633"/>
                </a:solidFill>
                <a:latin typeface="굴림"/>
              </a:rPr>
              <a:t>Click to edit the title text format</a:t>
            </a: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2993-BFA4-4D12-A133-58B123A3F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575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fba7d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fba7d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bf"/>
            </a:gs>
            <a:gs pos="100000">
              <a:srgbClr val="fefe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666633"/>
                </a:solidFill>
                <a:latin typeface="굴림"/>
              </a:rPr>
              <a:t>지역사회복지의 실천원칙과 </a:t>
            </a:r>
            <a:br>
              <a:rPr sz="4100"/>
            </a:br>
            <a:r>
              <a:rPr b="0" lang="zh-CN" sz="4100" spc="-1" strike="noStrike">
                <a:solidFill>
                  <a:srgbClr val="666633"/>
                </a:solidFill>
                <a:latin typeface="굴림"/>
              </a:rPr>
              <a:t>과정</a:t>
            </a: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지역사회복지의 실천원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지역사회복지의 실천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bf"/>
            </a:gs>
            <a:gs pos="100000">
              <a:srgbClr val="fefe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666633"/>
                </a:solidFill>
                <a:latin typeface="굴림"/>
              </a:rPr>
              <a:t>지역사회의 욕구 파악 단계</a:t>
            </a:r>
            <a:r>
              <a:rPr b="0" lang="en-US" sz="4100" spc="-1" strike="noStrike">
                <a:solidFill>
                  <a:srgbClr val="666633"/>
                </a:solidFill>
                <a:latin typeface="굴림"/>
              </a:rPr>
              <a:t>(1)</a:t>
            </a: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지역사회의 욕구 파악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550"/>
              </a:spcBef>
              <a:buClr>
                <a:srgbClr val="247c4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주민들이 필요로 하는 복지 문제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발견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해결 방법 제시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550"/>
              </a:spcBef>
              <a:buClr>
                <a:srgbClr val="247c4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방법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사회조사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기존 자료 분석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주민 간담회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공청회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참여관찰방법 활용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550"/>
              </a:spcBef>
              <a:buClr>
                <a:srgbClr val="247c4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주의점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각종 조사에 의한 자료에 대한 정확한 진단 필요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550"/>
              </a:spcBef>
              <a:buClr>
                <a:srgbClr val="247c4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욕구 파악의 분류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지표 조사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사회지표와 건강에 대한 지표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사회조사 접근 방법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서비스의 요구사항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공급자와 자원의 서비스 분석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주민 욕구 조사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지역사회집단 조사방법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지역사회포럼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델파이 기법 등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bf"/>
            </a:gs>
            <a:gs pos="100000">
              <a:srgbClr val="fefe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666633"/>
                </a:solidFill>
                <a:latin typeface="굴림"/>
              </a:rPr>
              <a:t>지역사회의 욕구 파악 단계</a:t>
            </a:r>
            <a:r>
              <a:rPr b="0" lang="en-US" sz="4100" spc="-1" strike="noStrike">
                <a:solidFill>
                  <a:srgbClr val="666633"/>
                </a:solidFill>
                <a:latin typeface="굴림"/>
              </a:rPr>
              <a:t>(2)</a:t>
            </a: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지역사회의 자원 파악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247c4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욕구조사와 자원조사 동시에 실시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247c4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자원 파악 영역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575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굴림"/>
              </a:rPr>
              <a:t>인적 자원 파악 </a:t>
            </a: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300" spc="-1" strike="noStrike">
                <a:solidFill>
                  <a:srgbClr val="000000"/>
                </a:solidFill>
                <a:latin typeface="굴림"/>
              </a:rPr>
              <a:t>사회복지 대상자 포함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575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굴림"/>
              </a:rPr>
              <a:t>물적 자원 파악 </a:t>
            </a: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300" spc="-1" strike="noStrike">
                <a:solidFill>
                  <a:srgbClr val="000000"/>
                </a:solidFill>
                <a:latin typeface="굴림"/>
              </a:rPr>
              <a:t>후원금</a:t>
            </a: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2300" spc="-1" strike="noStrike">
                <a:solidFill>
                  <a:srgbClr val="000000"/>
                </a:solidFill>
                <a:latin typeface="굴림"/>
              </a:rPr>
              <a:t>자 개발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575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굴림"/>
              </a:rPr>
              <a:t>공공기관 및 비공식 조직 파악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575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굴림"/>
              </a:rPr>
              <a:t>정보자원 </a:t>
            </a: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300" spc="-1" strike="noStrike">
                <a:solidFill>
                  <a:srgbClr val="000000"/>
                </a:solidFill>
                <a:latin typeface="굴림"/>
              </a:rPr>
              <a:t>주민 생활과 밀접한 법률의 제정 및 개정 사항</a:t>
            </a: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300" spc="-1" strike="noStrike">
                <a:solidFill>
                  <a:srgbClr val="000000"/>
                </a:solidFill>
                <a:latin typeface="굴림"/>
              </a:rPr>
              <a:t>문화 공연</a:t>
            </a: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300" spc="-1" strike="noStrike">
                <a:solidFill>
                  <a:srgbClr val="000000"/>
                </a:solidFill>
                <a:latin typeface="굴림"/>
              </a:rPr>
              <a:t>보건복지 서비스</a:t>
            </a: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300" spc="-1" strike="noStrike">
                <a:solidFill>
                  <a:srgbClr val="000000"/>
                </a:solidFill>
                <a:latin typeface="굴림"/>
              </a:rPr>
              <a:t>자원봉사 참여에 관한 사항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bf"/>
            </a:gs>
            <a:gs pos="100000">
              <a:srgbClr val="fefe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666633"/>
                </a:solidFill>
                <a:latin typeface="굴림"/>
              </a:rPr>
              <a:t>실천 전략의 계획 단계</a:t>
            </a: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계획의 수립 및 홍보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247c4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조사에 의해서 발견된 문제에 관하여 토의</a:t>
            </a: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문제 해결을 위한 우선순위 결정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247c4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우선순위로 선택된 문제의 구체적 대책이나 활동 계획 수립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247c4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홍보 활동 추진 </a:t>
            </a: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관심 환기</a:t>
            </a: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자주적인 해결에 참여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247c4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연차적 계획 및 종합적 계획 수립 필요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지역사회의 자원 동원과 조직화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247c4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홍보 활동을 통하여 재정을 확보하고 주민들을 조직화하는 활동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247c4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구체적인 전략 </a:t>
            </a: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개인 및 단체 대표자와의 협력</a:t>
            </a: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주민들에게 과정과 결과 전달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bf"/>
            </a:gs>
            <a:gs pos="100000">
              <a:srgbClr val="fefe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666633"/>
                </a:solidFill>
                <a:latin typeface="굴림"/>
              </a:rPr>
              <a:t>실천 전략의 추진 단계</a:t>
            </a: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재원의 확보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550"/>
              </a:spcBef>
              <a:buClr>
                <a:srgbClr val="247c4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재원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정부보조금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공동모금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기업 후원금 등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550"/>
              </a:spcBef>
              <a:buClr>
                <a:srgbClr val="247c4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투명성 확보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확보된 재정은 여러 홍보 채널을 통해 주민에게 알려야 함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추진 인력의 확보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550"/>
              </a:spcBef>
              <a:buClr>
                <a:srgbClr val="247c4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중심 인물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(key person)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발굴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550"/>
              </a:spcBef>
              <a:buClr>
                <a:srgbClr val="247c4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다양한 훈련 프로그램을 통하여 지속적인 교육 필요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추진 기관의 리더십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550"/>
              </a:spcBef>
              <a:buClr>
                <a:srgbClr val="247c4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전문 사회복지사와 지역문제에 관심있는 리더들의 활동 필요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bf"/>
            </a:gs>
            <a:gs pos="100000">
              <a:srgbClr val="fefe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100" spc="-1" strike="noStrike">
                <a:solidFill>
                  <a:srgbClr val="666633"/>
                </a:solidFill>
                <a:latin typeface="굴림"/>
              </a:rPr>
              <a:t>평가 및 재사정 단계</a:t>
            </a: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목표 달성과 추진 과정에 대한 평가 필요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재사정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다시 처음부터 순환하는 과정 추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bf"/>
            </a:gs>
            <a:gs pos="100000">
              <a:srgbClr val="fefe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666633"/>
                </a:solidFill>
                <a:latin typeface="굴림"/>
              </a:rPr>
              <a:t>지역사회복지실천의 과정 모델</a:t>
            </a: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문제의 파악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현장답사에 의한 관찰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앙케트 조사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주민과의 좌담회 등을 통해서 지역사회의 문제와 그에 대한 주민들의 의식상태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문제의 심각성 등 다양한 사실을 파악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정책 및 프로그램의 개발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과업 설정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인력 및 재원 동원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자원의 배분 및 실천 전략 수립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프로그램의 전개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과정 중심적 활동과 과업 중심적 활동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활동의 평가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효과성 점검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전체 과정 재점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bf"/>
            </a:gs>
            <a:gs pos="100000">
              <a:srgbClr val="fefe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666633"/>
                </a:solidFill>
                <a:latin typeface="굴림"/>
              </a:rPr>
              <a:t>지역사회복지의 실천 원칙</a:t>
            </a:r>
            <a:r>
              <a:rPr b="0" lang="en-US" sz="4100" spc="-1" strike="noStrike">
                <a:solidFill>
                  <a:srgbClr val="666633"/>
                </a:solidFill>
                <a:latin typeface="굴림"/>
              </a:rPr>
              <a:t>(1)</a:t>
            </a: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지역사회 갈등 해결을 위해 추진위원회를 구성하는 원칙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주민들의 불만 표출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다른 주민과 공유하여 지역 공동의 불만으로 인식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지역사회의 갈등은 집약되고 공유되어야 하는 원칙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갈등 집약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구체화시키는 과정 필요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-&gt;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문제점 인식 및 대책 수립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지역사회 내 풀뿌리 지도자를 발굴하고 참여시키는 원칙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공식 및 비공식 집단의 리스트 작성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-&gt;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풀뿌리 지도자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토착적 지도자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발굴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bf"/>
            </a:gs>
            <a:gs pos="100000">
              <a:srgbClr val="fefe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666633"/>
                </a:solidFill>
                <a:latin typeface="굴림"/>
              </a:rPr>
              <a:t>지역사회복지의 실천 원칙</a:t>
            </a:r>
            <a:r>
              <a:rPr b="0" lang="en-US" sz="4100" spc="-1" strike="noStrike">
                <a:solidFill>
                  <a:srgbClr val="666633"/>
                </a:solidFill>
                <a:latin typeface="굴림"/>
              </a:rPr>
              <a:t>(2)</a:t>
            </a: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공통의 목표를 수립하고 운영방법을 설정하는 원칙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다양성 해결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지역주민을 결속시킬 수 있는 이벤트를 개발하는 원칙 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지역 특성에 맞는 축제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모금 사업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바자회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개최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효과적인 의사소통을 개발하고 유지하는 원칙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추진위원회 참여 멤버들이 안정감을 느끼고 자유롭게 의견을 발표할 수 있는 분위기 조성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모임 참여자들을 지지하고 역량을 강화하는 원칙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조직 내 문제들을 이해하고 격려하며 수용해 나갈 수 있는 분위기와 지도력 필요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bf"/>
            </a:gs>
            <a:gs pos="100000">
              <a:srgbClr val="fefe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666633"/>
                </a:solidFill>
                <a:latin typeface="굴림"/>
              </a:rPr>
              <a:t>지역사회복지의 실천 원칙</a:t>
            </a:r>
            <a:r>
              <a:rPr b="0" lang="en-US" sz="4100" spc="-1" strike="noStrike">
                <a:solidFill>
                  <a:srgbClr val="666633"/>
                </a:solidFill>
                <a:latin typeface="굴림"/>
              </a:rPr>
              <a:t>(3)</a:t>
            </a: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합리적인 절차를 준수하고 리더십을 개발하는 원칙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지역사회의 자원과 능력을 무시한 채 성급하게 사업을 추진하는 문제점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유능한 지도자를 발굴하고 육성하는 원칙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247c4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유능한 지도자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주민 조직을 이해하고 지역사회의 사기를 끌어올릴 수 있는 능력을 갖고 있는 사람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지역사회에서 인정과 신용을 얻는 원칙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다른 회원 조직으로부터 지지와 협력을 얻기 위해 경쟁 상태가 되지 않도록 노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bf"/>
            </a:gs>
            <a:gs pos="100000">
              <a:srgbClr val="fefe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666633"/>
                </a:solidFill>
                <a:latin typeface="굴림"/>
              </a:rPr>
              <a:t>지역사회 추진위원회의 구성 방법</a:t>
            </a:r>
            <a:r>
              <a:rPr b="0" lang="en-US" sz="3700" spc="-1" strike="noStrike">
                <a:solidFill>
                  <a:srgbClr val="666633"/>
                </a:solidFill>
                <a:latin typeface="굴림"/>
              </a:rPr>
              <a:t>(1)</a:t>
            </a:r>
            <a:endParaRPr b="0" lang="en-US" sz="37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지리적 인물 중심의 위원회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247c4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강점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모이기 쉽고 지역에 대한 이해가 높음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247c4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약점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정책 결정에 있어서 이해관계에 얽혀 객관적인 결론을 내지 못하는 경우 발생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기능적 인물 중심의 위원회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247c4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강점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객관적인 결론 도달 가능성 높음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247c4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약점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모임 갖기가 어려움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관심이 적어질 경우 위원회 역할 축소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bf"/>
            </a:gs>
            <a:gs pos="100000">
              <a:srgbClr val="fefe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666633"/>
                </a:solidFill>
                <a:latin typeface="굴림"/>
              </a:rPr>
              <a:t>지역사회 추진위원회의 구성 방법</a:t>
            </a:r>
            <a:r>
              <a:rPr b="0" lang="en-US" sz="3700" spc="-1" strike="noStrike">
                <a:solidFill>
                  <a:srgbClr val="666633"/>
                </a:solidFill>
                <a:latin typeface="굴림"/>
              </a:rPr>
              <a:t>(2)</a:t>
            </a:r>
            <a:endParaRPr b="0" lang="en-US" sz="37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연고를 중심으로 한 위원회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550"/>
              </a:spcBef>
              <a:buClr>
                <a:srgbClr val="247c4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지리적인 인물 중심의 위원회와 기능적인 인물 중심의 위원회의 장단점 보완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550"/>
              </a:spcBef>
              <a:buClr>
                <a:srgbClr val="247c4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Stakeholder(</a:t>
            </a: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이해당사자</a:t>
            </a: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) : </a:t>
            </a: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지역을 중심으로 이해관계가 얽혀 있는 인물 중심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굴림"/>
              </a:rPr>
              <a:t>자산 소유 혹은 영업을 하고 있는 사람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굴림"/>
              </a:rPr>
              <a:t>거주하고 있는 사람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굴림"/>
              </a:rPr>
              <a:t>직장생활을 하고 있는 사람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99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굴림"/>
              </a:rPr>
              <a:t>연고가 전혀 없는 사람</a:t>
            </a:r>
            <a:r>
              <a:rPr b="0" lang="en-US" sz="21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100" spc="-1" strike="noStrike">
                <a:solidFill>
                  <a:srgbClr val="000000"/>
                </a:solidFill>
                <a:latin typeface="굴림"/>
              </a:rPr>
              <a:t>객관적인 인물</a:t>
            </a:r>
            <a:r>
              <a:rPr b="0" lang="en-US" sz="21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550"/>
              </a:spcBef>
              <a:buClr>
                <a:srgbClr val="247c4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강점 </a:t>
            </a: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폭넓게 의견 수렴</a:t>
            </a: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객관성이 높음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550"/>
              </a:spcBef>
              <a:buClr>
                <a:srgbClr val="247c4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약점 </a:t>
            </a: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지역사회 발전에 헌신적일지에 대한 검증 필요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bf"/>
            </a:gs>
            <a:gs pos="100000">
              <a:srgbClr val="fefe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666633"/>
                </a:solidFill>
                <a:latin typeface="굴림"/>
              </a:rPr>
              <a:t>지역사회복지실천의 과정</a:t>
            </a: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68360" y="1700280"/>
          <a:ext cx="8229600" cy="45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00280"/>
                    <a:ext cx="8229600" cy="45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2843280" y="1700280"/>
            <a:ext cx="3024000" cy="649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지역사회에 대한 사정 단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843280" y="2637000"/>
            <a:ext cx="302400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욕구 파악 단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2843280" y="3573360"/>
            <a:ext cx="302400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실천전략의 계획 단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2843280" y="5229360"/>
            <a:ext cx="302400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평가 및 재사정 단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2349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4356000" y="3213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4356000" y="4869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2843280" y="4365720"/>
            <a:ext cx="3024000" cy="5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실천전략의 추진 단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4356000" y="407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bf"/>
            </a:gs>
            <a:gs pos="100000">
              <a:srgbClr val="fefe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666633"/>
                </a:solidFill>
                <a:latin typeface="굴림"/>
              </a:rPr>
              <a:t>지역사회에 대한 사정 단계</a:t>
            </a:r>
            <a:r>
              <a:rPr b="0" lang="en-US" sz="4100" spc="-1" strike="noStrike">
                <a:solidFill>
                  <a:srgbClr val="666633"/>
                </a:solidFill>
                <a:latin typeface="굴림"/>
              </a:rPr>
              <a:t>(1)</a:t>
            </a: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지역사회의 발전과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247c4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지역사회를 지배해 온 다양한 지도자층 파악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공공기관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민간단체 영역 구분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247c4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다양한 사건의 역사적 고찰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영향력있는 인물 파악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지역사회의 정치사회 구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247c4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행정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교육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사법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경찰 등의 지도자 그룹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민간의 종교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문화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체육 등의 지도자 그룹 파악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247c4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지지 세력과 비지지 세력 파악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역학관계 조사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247c4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시민단체 활동 조사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bf"/>
            </a:gs>
            <a:gs pos="100000">
              <a:srgbClr val="fefe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666633"/>
                </a:solidFill>
                <a:latin typeface="굴림"/>
              </a:rPr>
              <a:t>지역사회에 대한 사정 단계</a:t>
            </a:r>
            <a:r>
              <a:rPr b="0" lang="en-US" sz="4100" spc="-1" strike="noStrike">
                <a:solidFill>
                  <a:srgbClr val="666633"/>
                </a:solidFill>
                <a:latin typeface="굴림"/>
              </a:rPr>
              <a:t>(2)</a:t>
            </a:r>
            <a:endParaRPr b="0" lang="en-US" sz="4100" spc="-1" strike="noStrike">
              <a:solidFill>
                <a:srgbClr val="666633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지역사회의 경제적인 상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247c4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재정자립도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산업구조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247c4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인구이동 파악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주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야간 프로그램 가능 여부 평가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eba9d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지역사회의 사회문화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247c4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상부상조 유형 파악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247c4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전통 문화 파악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애향심 파악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22:54:49Z</dcterms:created>
  <dc:creator>손주희</dc:creator>
  <dc:description/>
  <dc:language>en-US</dc:language>
  <cp:lastModifiedBy>^^</cp:lastModifiedBy>
  <dcterms:modified xsi:type="dcterms:W3CDTF">2009-08-26T04:43:54Z</dcterms:modified>
  <cp:revision>8</cp:revision>
  <dc:subject/>
  <dc:title>지역사회복지의 실천원칙과 과정</dc:title>
</cp:coreProperties>
</file>