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E184-E020-4E9D-8D13-1BC46B52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9D3CD-D353-4C7D-A1F9-37B7923A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ED81-D67D-4505-AC34-30C1CF00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016F7-C575-4774-A2E9-B6D737D1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01C4-38CD-41A5-88D0-8399D944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4437-F32D-469D-8D14-F0BFE0A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41FA-BBF9-4FFE-A214-774BB4DA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815-CA50-4CB2-AEFA-4167D3F0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3400-A8FF-4267-A4EC-4CE7AB4F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DFF8-0038-4E4E-9642-D6466C05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668-988E-4C62-A9F1-0D0E8FA3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FA5E2-3B3B-4736-A96C-90CFC5D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4218-0168-4193-97C3-4AB30F65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5E03-D653-486F-8A00-3D1A2684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6BDE-54EE-44A8-8FC5-589B1845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7763-D7BC-4F72-9A11-DFC1FF5E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7949-75A9-4A31-891B-DB6CEFD5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F868-3154-411B-A5A6-76C05FE3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4F30-CFC7-4353-888B-36A6C856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51D85-F558-453B-A8D7-64B0EEDF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FDD6-A70D-4B0F-9800-D7342B0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546E-BC7A-4B67-A1EB-7CA5E49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58503-D6FD-4AEF-8176-1E75D70E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EEB0-3D7D-4DCC-9595-C29247CF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12BD-D8DA-4FB9-8A5A-A12A4D15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9540-3C1F-44BB-ADD9-0DC7E4A7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사회복지사의 역할과 실천기술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사회계획모델에서의 역할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조직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계획의 수립과 실천과정에 지역사회에 있는 행동체계를 적절히 참여시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각 구성원의 역할 수행을 위한 훈련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수립된 계획의 제도화 필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민들의 참여의식 고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계획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행정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프로그램의 운영 및 주민들의 반응 단계에서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인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물적 자원의 관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목표를 유념하고 융통성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행동모델에서의 역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력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enabler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 조직화를 격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립적인 입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개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broker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들이 필요로 하는 지역사회자원에 접할 수 있게 자원의 소재를 밝혀 주는 역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옹호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advocate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필요한 정보를 끌어내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들 입장의 정당성을 주장하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관의 입장에 도전할 목적으로 지도력과 자원을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행동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activist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등적인 상황에서 주민의 입장에서 행동에 참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사회복지사의 실천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옹호 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계 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조직화 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원 개발 및 동원 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파워먼트 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옹호 기술의 개념 및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옹호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advocacy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술의 개념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주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특히 억압된 집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의 입장의 정당성 주장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도력과 자원 제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클라이언트의 이익 혹은 권리를 위해 싸우거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대변하거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방어하는 활동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원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합리적 수준 유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팀워크에 의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적극적이고 단호한 태도 요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유연성을 강점으로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옹호의 유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-387828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413000"/>
          <a:ext cx="7632720" cy="4454280"/>
        </p:xfrm>
        <a:graphic>
          <a:graphicData uri="http://schemas.openxmlformats.org/drawingml/2006/table">
            <a:tbl>
              <a:tblPr/>
              <a:tblGrid>
                <a:gridCol w="2087280"/>
                <a:gridCol w="55454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자기옹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self-advoca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클라이언트 개인 및 집단이 스스로 자신을 옹호하는 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때로는 자조집단 및 지지집단을 구성해서 활동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개인옹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individual advoca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클라이언트가 스스로 자신을 옹호할 수 없을 때 사회복지사가 개인이나 가족을 대신하여 옹호하는 활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집단옹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group advoca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유사한 문제를 경험하는 클라이언트들로 구성된 집단의 공동 문제를 해결하기 위한 옹호 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지역사회옹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community advoca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소외된 혹은 공동의 문제를 경험하는 지역 주민들을 위한 옹호 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지역주민들이 스스로 지역사회를 옹호하기도 하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지역사회를 대신하여 다른 사람들이 옹호하기도 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정치 또는 정책적 옹호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political/policy advoca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사회정의와 복지를 증진시키기 위해서 입법영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행정영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,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사법영역에서 다양한 형태로 전개되는 옹호 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체제변환적 옹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  <a:ea typeface="-윤고딕110"/>
                        </a:rPr>
                        <a:t>(advocacy for systems chan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00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solidFill>
                      <a:srgbClr val="d7d7d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근본적인 제도상의 변화를 위해 구성원인 시민들과 사회체제 전체에 영향을 미치려는 옹호 활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예를 들어 양성평등을 위한 여성운동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장애인이동권보장을 위한 옹호활동 등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  <a:ea typeface="-윤명조120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00ff"/>
                      </a:solidFill>
                    </a:lnR>
                    <a:lnT w="720">
                      <a:solidFill>
                        <a:srgbClr val="ff00ff"/>
                      </a:solidFill>
                    </a:lnT>
                    <a:lnB w="720">
                      <a:solidFill>
                        <a:srgbClr val="ff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-3878280" y="44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연계 기술의 개념 및 의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계 기술의 개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목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비스 중복 방지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의 효율적 관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방식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공동의 서비스 계획 수립 후 개별적 서비스 제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성격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팀접근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기적인 모임 및 회의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례관리 강조되면서 연계 기술 중요해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요한 이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사의 자원으로 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클라이언트의 욕구 중심에 초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중복된 서비스의 효율적 관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민의 연대의식 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연계 기술의 적용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입하고자 하는 사례의 특성에 합당한 연계의 목표 설정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클라이언트 중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특정 주요 인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조직과의 긴밀한 관계 형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연계 체계의 협력과 참여를 호소할 수 있는 명분 소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연계 체계의 목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성원들의 특성에 따라 융통성 발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존 연계 체계의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속적인 정보 공유와 자원 교류 활동 필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조직화 기술의 정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직화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organizing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클라이언트의 문제를 해결하기 위해 필요한 인력이나 서비스를 규합하고 조직의 목표를 성취하도록 합당하게 운영해 나가는 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의 당면 문제를 해결하기 위해 전체 주민을 대표하는 일정 수의 주민을 선정하여 모임을 구성하는 것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조직화 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480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복지실천모형에 따른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복지사의 역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8229600" cy="4184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개발모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획모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행동모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스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. G. Ros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샌더스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. T. Sander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로서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. F. Gross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내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guid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력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enabler)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문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expe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치료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therapis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분석가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analy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획가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lanner)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가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organizer)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정가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ogram administrator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력자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enabler)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개자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brok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옹호자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advocate) 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가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activis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준비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관 내 준비사업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 확보 방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적 자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원의 역할분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담팀 구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범위의 규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해당 지역 내의 인적 물적 자원 탐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화 사업에 대한 기획 작업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관내외의 자원동원방법과 계획화 혹은 조직화의 전략의 개괄적 소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계획화 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에 대한 사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의 인구학적 특성과 주민조직의 분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성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욕구에 대한 사정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반적 복지 욕구 파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베이 조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특정 복지욕구 파악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특정 대상층 조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 사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인적 자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토착지도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소집단 지도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공조직지도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잠재적 참여인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적 자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주요 공공건물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단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시설의 위치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규모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간 활용 가능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프로그램 연계 가능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프로그램 개발과 평가 계획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조직화 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모집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접촉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봉사자 모집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슈화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홍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서강화형 소집단 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대표자 중심으로 집단 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구성원간의 관계 형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동기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의식화 사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구성원간 정서적 결속 강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주민참여 강조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신의 의견 개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문제해결형 소집단 구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직구조화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직대표자를 비롯한 임원 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리더십 교육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체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계획수정작업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존의 계획이 지역대표자들의 의견이 충분히 반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지역활동 및 복지운동 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활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역량강화과정에서 주민들의 주체적 합의에 의해 전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역량강화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민주적 합의과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자치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복지운동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제도적 불합리의 개선활동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약자에 대한 옹호활동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계몽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주민의 힘을 규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다수의 세력 참여를 위한 다양한 연대활동 추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평가 및 과제전환 단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성과를 공론화 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양적 및 질적 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효과성 및 효율성 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전환 단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업의 종료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문제 해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업 중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제 전환절차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새로운 과제찾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현 가능성 검토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새로운 과제 선정 및 기획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직의 역량강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독립된 조직운영 확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효과적인 조직화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적 이익에 대한 관심을 조직화에 활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속적인 관심과 노력을 요구하는 동적인 과정 이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갈등과 대결에 익숙해지는 법 학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쟁점을 명확히 해야 함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명분보다는 실현 가능한 쟁점에 초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원개발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동원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원의 정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클라이언트의 변화 및 생활 향상을 위해 유용하게 사용할 수 있는 인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물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기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정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원의 유형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개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물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기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정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적 자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요한 인적 자원의 소재 파악 및 접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토착지도자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에 대한 사정에 대해 가장 잘 파악하고 영향력이 있는 인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복지조직을 이용하는 소집단 지도자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가장 쉽게 접근할 수 있는 대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많은 수의 인원을 동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변 공공조직 지도자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동사무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파출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아파트관리사무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병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보건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학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교회의 대표자 혹은 주요 인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잠재적 참여인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랜 기간 동안 사회활동을 해오거나 혹은 자발적 참여의지가 높은 개인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복지기관의 자원봉사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적 자원 동원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기존 조직의 활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지역사회의 여러 조직을 면밀히 조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참여 가능성이 높은 조직이나 집단의 지도자 접촉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지역사회실천에 동참 권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조직의 자율성 유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동등한 자격으로 참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별적 접촉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호별방문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우편물 발송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사랑방 좌담회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동네 이발소나 미장원에서의 대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개인들의 힘을 토대로 변화를 가져올 수 있다는 확신을 강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사회경제적 네트워크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내부의 동료를 통해 접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사회복지조직을 이용하는 소집단의 지도자 발굴 및 회원들을 동원할 수 있는 기반 형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적 자원 동원을 위한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존 조직이나 네트워크를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인이 제공하는 비용과 받는 이득을 적절히 조절되어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존 조직 활용은 참여자들의 비용을 줄이고 실천활동에 성공 가능성이 높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합의 정도가 높고 참여자간 응집력이 높은 집단과 네트워크에 의한 동언을 통해 집합 행동이 발생 및 활성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최소한의 분업이 가능한 소규모 비공식 집단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개발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안내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안내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guide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65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로 하여금 문제해결에 따른 목표를 설정하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이를 해결하는 방도를 강구하도록 도와 주는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65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신의 목적을 위해 지역사회의 주민을 이용하거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조종하거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조치를 강요해서는 안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65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하지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방임적이거나 수동적인 자세는 아니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욕구불만의 근원을 밝히고 자극하는 역할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14400" indent="-4651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기의 역할을 수용하고 자제할 수 있어야 하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객관적이 되어야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물적 자원 동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재원의 마련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후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업제안서 제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현금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융통성 있게 투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품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부자 입장에서 유리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품구입업무를 생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홍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관의 목적과 사업을 매스미디어를 통하여 적극적으로 알리고 기관의 신뢰성을 높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금방법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DM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벤트를 통한 모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미디어 모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전화 모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컴퓨터 통신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업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RM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을 통한 모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물적 자원 동원에서의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원자에 대한 조직의 신뢰성 유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금이나 물품의 사용에 대한 투명성 확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직 구성원의 전문성과 사명감을 통해 바람직한 결과를 보여주는 것이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구성원에 대한 꾸준한 교육과 책임성 확보 노력 필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임파워먼트 기술의 의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임파워먼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mpowerment) 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능력고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량강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권한부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임파워먼트 실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클라이언트의 잠재 역량 및 자원 인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복력 인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클라이언트가 삶을 결정할 수 있도록 권한이나 힘을 부여하는 실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정으로서의 임파워먼트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주적 통제력 획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 접근 시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과로서의 임파워먼트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의 노력과 개입의 효과로 나타난 더 많은 통제력과 자원 접근성 의미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임파워먼트를 높이기 위한 구체적 기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식 제고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구조에 대한 비판적 의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기 주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신의 주장을 전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공공의제의 틀 갖추기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쟁점 정리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중의 관심 유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권력 키우기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원동원과 조직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역량 건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조직 설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캠페인 전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자본의 창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구성원간의 협력과 연대감 형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임파워먼트 실천의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협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신뢰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권력 공유에 기반을 둔 실천적 관계 형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이 개인의 문제와 제도적인 권력관계 간의 연관성에 대해서 인식하도록 도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을 변화과정에 적극적으로 참여시키고 그들이 원조관계에서 통제감을 경험할 수 있도록 해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이 자존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권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신뢰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자기효능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통제감 등의 자아상을 강화시킬 수 있도록 도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이 새로운 지식과 기술을 발달시키도록 도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이 실제적인 도구적 결과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물적 자원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프로그램서비스에 대한 접근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개인 성장을 위한 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제도적 변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과 표현적 이익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적 관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고립감의 감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공의식 혹은 동료의식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동체 형성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집단 결집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을 성취하도록 도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안내자 역할의 원칙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차적 역할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목표 설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해결하는 방안을 강구하도록 도와주는 역할 강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도권 발휘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유방임이나 수동적인 자세가 아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객관적인 입장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조건에 대하여 칭찬이나 비난 등의 감정 표현 주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 전체에 동일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특정 사업에 대한 찬반의 의견보다는 주민들이 협력적인 결정을 내리도록 도움 제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기 역할 수용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기의 행동에 대한 자제력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자신의 역할에 대한 설명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의 이해와 수용 노력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개발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조력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력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enabler) 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조직의 과정을 용이하게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불만을 집약하는 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함께 해결해야 할 지역사회문제로 확인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촉매자의 역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조직화를 격려하는 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상호간의 논의 전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우선순위 결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조직 결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좋은 대인관계를 육성하는 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주민들간에 원만한 관계를 수립할 수 있도록 교량적인 역할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공동목표를 강조하는 일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궁극적인 목표에서 이탈되지 않도록 관심을 환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개발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전문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문가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expert) 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기가 권위있게 말할 수 있는 분야에 있어서 필요한 자료를 제공하고 직접적인 충고를 하는 역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진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사기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타지역에 관한 정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화에 관한 조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술상의 정보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지역사회개발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치료자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동 노력의 장애물에 대해 진단과 치료 시행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진단을 통해서 규명된 성격과 특성을 주민들에게 제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를 통하여 긴장 해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협력적인 작업을 방해하는 요인 제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계획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분석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실발견과 분석에 초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사정 방법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정책의 입안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개선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새로운 서비스에 대한 지원을 위한 근거 자료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문제와 영향을 미치는 요인들에 관한 조사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문제 개선에 초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변화를 위한 프로그램의 과정에 관한 분석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클라이언트와 변화매개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프로그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계획을 수립하는 과정에 대한 분석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프로그램 결정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유도된 변화에 대한 평가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프로그램 성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사회계획모델에서의 역할 </a:t>
            </a: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계획가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업 착수를 위한 공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인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건축 등 기술적인 면 고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철학적인 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간적인 측면을 고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목표 설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목표를 성취하는 수단 고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행정 운영 방식에 대한 고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3:40:27Z</dcterms:created>
  <dc:creator>손주희</dc:creator>
  <dc:description/>
  <dc:language>en-US</dc:language>
  <cp:lastModifiedBy>^^</cp:lastModifiedBy>
  <dcterms:modified xsi:type="dcterms:W3CDTF">2009-08-26T04:54:30Z</dcterms:modified>
  <cp:revision>9</cp:revision>
  <dc:subject/>
  <dc:title>사회복지사의 역할과 실천기술</dc:title>
</cp:coreProperties>
</file>