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00BE9-1498-4DDE-AD37-8650D6C30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666633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AA7D8-87AA-48D3-AFC1-97045B02B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666633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F00D1-0E5F-4E29-9EF3-5F4068D69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666633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B6096-19A5-45A2-9119-56FC5679A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8726A-C7D7-4787-A796-37C27697B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666633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0DA91-76D0-4C80-AB6E-A57AE4E24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666633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756D0-985C-401F-8D63-5C1ED02D2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666633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13263-CEAC-4AB0-B177-74811CEC8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666633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E3867-F0DF-48C4-B1BD-41EC492BF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99488-AEFA-4B15-9479-367EBADA3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666633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5FEB2-FF78-4CE4-B29A-015F7CCCA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666633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AE9C8-F718-423A-A5F2-2B379AA12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666633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702C3-0236-42F7-AD78-16EDBF704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666633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D237A-FD00-4E1B-B9D9-4B490D8DB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666633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B5CD7-70D4-44C9-9308-74537CA80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666633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9A84B-83B2-4BB1-A383-3CCC6F0A8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666633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6D2D3-B507-49C4-9338-F317E4EFF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666633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63D5D-5189-4198-9A09-24C8E1FEB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666633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94E98-B865-48AA-A1D8-47F2EEEA0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666633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54E6F-83CD-4A1E-973E-30C34F12D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3DEEC-DA60-4F41-B73F-D942325D3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666633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5ECF6-D80B-4160-8870-2E9AB3C7D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666633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47524-1FDB-4E42-8F53-2B0294CE1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666633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FC1A4-13FE-4072-AB08-D33A34251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bf"/>
            </a:gs>
            <a:gs pos="100000">
              <a:srgbClr val="fefef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60" y="-360"/>
            <a:ext cx="9149040" cy="6858360"/>
            <a:chOff x="-360" y="-360"/>
            <a:chExt cx="9149040" cy="6858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92000" cy="309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666880" y="6703920"/>
              <a:ext cx="6477120" cy="154080"/>
            </a:xfrm>
            <a:prstGeom prst="rect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eba9d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763120" y="1981080"/>
              <a:ext cx="380880" cy="426744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247c4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5257800"/>
              <a:ext cx="385920" cy="152280"/>
            </a:xfrm>
            <a:prstGeom prst="rect">
              <a:avLst/>
            </a:prstGeom>
            <a:solidFill>
              <a:srgbClr val="eba9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424480"/>
              <a:ext cx="385920" cy="143352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763120" y="0"/>
              <a:ext cx="380880" cy="1981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15000" y="0"/>
              <a:ext cx="3048120" cy="304920"/>
            </a:xfrm>
            <a:prstGeom prst="rect">
              <a:avLst/>
            </a:prstGeom>
            <a:gradFill rotWithShape="0">
              <a:gsLst>
                <a:gs pos="0">
                  <a:srgbClr val="cfba7d"/>
                </a:gs>
                <a:gs pos="100000">
                  <a:srgbClr val="ede6d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423720" y="298440"/>
              <a:ext cx="385920" cy="749160"/>
            </a:xfrm>
            <a:prstGeom prst="rect">
              <a:avLst/>
            </a:prstGeom>
            <a:solidFill>
              <a:srgbClr val="96969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1054080"/>
              <a:ext cx="385920" cy="4186080"/>
            </a:xfrm>
            <a:prstGeom prst="rect">
              <a:avLst/>
            </a:prstGeom>
            <a:gradFill rotWithShape="0">
              <a:gsLst>
                <a:gs pos="0">
                  <a:srgbClr val="cfba7d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480" y="298440"/>
              <a:ext cx="385560" cy="749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85880" y="0"/>
              <a:ext cx="4929120" cy="295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>
              <a:off x="403200" y="304560"/>
              <a:ext cx="0" cy="655308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403200" y="6705720"/>
              <a:ext cx="8745480" cy="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>
              <a:off x="8763120" y="-360"/>
              <a:ext cx="0" cy="670572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0" y="317520"/>
              <a:ext cx="9144000" cy="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>
              <a:off x="5716080" y="442800"/>
              <a:ext cx="34290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flipV="1">
              <a:off x="5715000" y="0"/>
              <a:ext cx="0" cy="457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763120" y="1981080"/>
              <a:ext cx="38088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04960" y="0"/>
              <a:ext cx="0" cy="106668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>
              <a:off x="-360" y="1047600"/>
              <a:ext cx="785880" cy="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flipV="1">
              <a:off x="2655720" y="6237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2641680" y="6242040"/>
              <a:ext cx="6502320" cy="468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>
              <a:off x="0" y="5257800"/>
              <a:ext cx="417600" cy="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>
              <a:off x="0" y="5410080"/>
              <a:ext cx="417600" cy="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666633"/>
                </a:solidFill>
                <a:latin typeface="굴림"/>
              </a:rPr>
              <a:t>Click to edit the title text format</a:t>
            </a:r>
            <a:endParaRPr b="0" lang="en-US" sz="4100" spc="-1" strike="noStrike">
              <a:solidFill>
                <a:srgbClr val="666633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eba9d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51"/>
              </a:spcBef>
              <a:buClr>
                <a:srgbClr val="247c4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51"/>
              </a:spcBef>
              <a:buClr>
                <a:srgbClr val="99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51"/>
              </a:spcBef>
              <a:buClr>
                <a:srgbClr val="cfba7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51"/>
              </a:spcBef>
              <a:buClr>
                <a:srgbClr val="cfba7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1757D-626C-42D9-A42C-FDD19434C2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bf"/>
            </a:gs>
            <a:gs pos="100000">
              <a:srgbClr val="fefef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"/>
          <p:cNvGrpSpPr/>
          <p:nvPr/>
        </p:nvGrpSpPr>
        <p:grpSpPr>
          <a:xfrm>
            <a:off x="-360" y="-360"/>
            <a:ext cx="9149040" cy="6858360"/>
            <a:chOff x="-360" y="-360"/>
            <a:chExt cx="9149040" cy="6858360"/>
          </a:xfrm>
        </p:grpSpPr>
        <p:sp>
          <p:nvSpPr>
            <p:cNvPr id="67" name=""/>
            <p:cNvSpPr/>
            <p:nvPr/>
          </p:nvSpPr>
          <p:spPr>
            <a:xfrm>
              <a:off x="0" y="0"/>
              <a:ext cx="792000" cy="309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666880" y="6703920"/>
              <a:ext cx="6477120" cy="154080"/>
            </a:xfrm>
            <a:prstGeom prst="rect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eba9d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8763120" y="1981080"/>
              <a:ext cx="380880" cy="426744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247c4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0" y="5257800"/>
              <a:ext cx="385920" cy="152280"/>
            </a:xfrm>
            <a:prstGeom prst="rect">
              <a:avLst/>
            </a:prstGeom>
            <a:solidFill>
              <a:srgbClr val="eba9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5424480"/>
              <a:ext cx="385920" cy="143352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63120" y="0"/>
              <a:ext cx="380880" cy="1981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715000" y="0"/>
              <a:ext cx="3048120" cy="304920"/>
            </a:xfrm>
            <a:prstGeom prst="rect">
              <a:avLst/>
            </a:prstGeom>
            <a:gradFill rotWithShape="0">
              <a:gsLst>
                <a:gs pos="0">
                  <a:srgbClr val="cfba7d"/>
                </a:gs>
                <a:gs pos="100000">
                  <a:srgbClr val="ede6d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23720" y="298440"/>
              <a:ext cx="385920" cy="749160"/>
            </a:xfrm>
            <a:prstGeom prst="rect">
              <a:avLst/>
            </a:prstGeom>
            <a:solidFill>
              <a:srgbClr val="96969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1054080"/>
              <a:ext cx="385920" cy="4186080"/>
            </a:xfrm>
            <a:prstGeom prst="rect">
              <a:avLst/>
            </a:prstGeom>
            <a:gradFill rotWithShape="0">
              <a:gsLst>
                <a:gs pos="0">
                  <a:srgbClr val="cfba7d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480" y="298440"/>
              <a:ext cx="385560" cy="749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5880" y="0"/>
              <a:ext cx="4929120" cy="295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 flipV="1">
              <a:off x="403200" y="304560"/>
              <a:ext cx="0" cy="655308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03200" y="6705720"/>
              <a:ext cx="8745480" cy="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 flipV="1">
              <a:off x="8763120" y="-360"/>
              <a:ext cx="0" cy="670572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317520"/>
              <a:ext cx="9144000" cy="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 flipH="1">
              <a:off x="5716080" y="442800"/>
              <a:ext cx="34290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 flipV="1">
              <a:off x="5715000" y="0"/>
              <a:ext cx="0" cy="457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8763120" y="1981080"/>
              <a:ext cx="38088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4960" y="0"/>
              <a:ext cx="0" cy="106668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60" y="1047600"/>
              <a:ext cx="785880" cy="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 flipV="1">
              <a:off x="2655720" y="6237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641680" y="6242040"/>
              <a:ext cx="6502320" cy="468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>
              <a:off x="0" y="5257800"/>
              <a:ext cx="417600" cy="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>
              <a:off x="0" y="5410080"/>
              <a:ext cx="417600" cy="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666633"/>
                </a:solidFill>
                <a:latin typeface="굴림"/>
              </a:rPr>
              <a:t>Click to edit the title text format</a:t>
            </a:r>
            <a:endParaRPr b="0" lang="en-US" sz="4100" spc="-1" strike="noStrike">
              <a:solidFill>
                <a:srgbClr val="666633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0FE5F-91E9-40BD-A58B-A06C49B43E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575"/>
              </a:spcBef>
              <a:buClr>
                <a:srgbClr val="99cc0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fba7d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cfba7d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bf"/>
            </a:gs>
            <a:gs pos="100000">
              <a:srgbClr val="fefef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100" spc="-1" strike="noStrike">
                <a:solidFill>
                  <a:srgbClr val="666633"/>
                </a:solidFill>
                <a:latin typeface="굴림"/>
              </a:rPr>
              <a:t>지역사회복지계획</a:t>
            </a:r>
            <a:endParaRPr b="0" lang="en-US" sz="4100" spc="-1" strike="noStrike">
              <a:solidFill>
                <a:srgbClr val="666633"/>
              </a:solidFill>
              <a:latin typeface="굴림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bf"/>
            </a:gs>
            <a:gs pos="100000">
              <a:srgbClr val="fefef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100" spc="-1" strike="noStrike">
                <a:solidFill>
                  <a:srgbClr val="666633"/>
                </a:solidFill>
                <a:latin typeface="굴림"/>
              </a:rPr>
              <a:t>지역복지계획의 과제</a:t>
            </a:r>
            <a:endParaRPr b="0" lang="en-US" sz="4100" spc="-1" strike="noStrike">
              <a:solidFill>
                <a:srgbClr val="666633"/>
              </a:solidFill>
              <a:latin typeface="굴림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eba9d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굴림"/>
              </a:rPr>
              <a:t>지금까지 지역사회에서 축적해 온 기술</a:t>
            </a: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000000"/>
                </a:solidFill>
                <a:latin typeface="굴림"/>
              </a:rPr>
              <a:t>인재</a:t>
            </a: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000000"/>
                </a:solidFill>
                <a:latin typeface="굴림"/>
              </a:rPr>
              <a:t>문화</a:t>
            </a: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000000"/>
                </a:solidFill>
                <a:latin typeface="굴림"/>
              </a:rPr>
              <a:t>전통</a:t>
            </a: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000000"/>
                </a:solidFill>
                <a:latin typeface="굴림"/>
              </a:rPr>
              <a:t>자연</a:t>
            </a: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000000"/>
                </a:solidFill>
                <a:latin typeface="굴림"/>
              </a:rPr>
              <a:t>산업화 등 지역사회자원을 활용</a:t>
            </a: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000000"/>
                </a:solidFill>
                <a:latin typeface="굴림"/>
              </a:rPr>
              <a:t>개발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eba9d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굴림"/>
              </a:rPr>
              <a:t>거시적인 공공정책 개선</a:t>
            </a: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000000"/>
                </a:solidFill>
                <a:latin typeface="굴림"/>
              </a:rPr>
              <a:t>자치단체 간 자원 확보의 갈등 조정 필요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eba9d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굴림"/>
              </a:rPr>
              <a:t>지역주민의 참여 필수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eba9d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굴림"/>
              </a:rPr>
              <a:t>전문 인력을 적극적으로 양성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bf"/>
            </a:gs>
            <a:gs pos="100000">
              <a:srgbClr val="fefef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100" spc="-1" strike="noStrike">
                <a:solidFill>
                  <a:srgbClr val="666633"/>
                </a:solidFill>
                <a:latin typeface="굴림"/>
              </a:rPr>
              <a:t>지역사회복지계획의 수립절차</a:t>
            </a:r>
            <a:endParaRPr b="0" lang="en-US" sz="4100" spc="-1" strike="noStrike">
              <a:solidFill>
                <a:srgbClr val="666633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649"/>
              </a:spcBef>
              <a:buClr>
                <a:srgbClr val="eba9d0"/>
              </a:buClr>
              <a:buSzPct val="8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지역주민 등 이해관계자 의견 수렴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649"/>
              </a:spcBef>
              <a:buClr>
                <a:srgbClr val="eba9d0"/>
              </a:buClr>
              <a:buSzPct val="8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지역사회복지협의체의 심의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649"/>
              </a:spcBef>
              <a:buClr>
                <a:srgbClr val="eba9d0"/>
              </a:buClr>
              <a:buSzPct val="8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도지사에게 제출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시군구 지역보건의료계획과 연계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649"/>
              </a:spcBef>
              <a:buClr>
                <a:srgbClr val="eba9d0"/>
              </a:buClr>
              <a:buSzPct val="8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제출된 시군구 지역사회복지계획의 종합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조정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649"/>
              </a:spcBef>
              <a:buClr>
                <a:srgbClr val="eba9d0"/>
              </a:buClr>
              <a:buSzPct val="8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사회복지위원회 심의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649"/>
              </a:spcBef>
              <a:buClr>
                <a:srgbClr val="eba9d0"/>
              </a:buClr>
              <a:buSzPct val="8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보건복지가족부장관에게 제출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도 지역보건의료계획과 연계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649"/>
              </a:spcBef>
              <a:buClr>
                <a:srgbClr val="eba9d0"/>
              </a:buClr>
              <a:buSzPct val="8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지역사회복지계획의 시행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649"/>
              </a:spcBef>
              <a:buClr>
                <a:srgbClr val="eba9d0"/>
              </a:buClr>
              <a:buSzPct val="8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지역사회복지계획의 시행결과 평가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bf"/>
            </a:gs>
            <a:gs pos="100000">
              <a:srgbClr val="fefef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100" spc="-1" strike="noStrike">
                <a:solidFill>
                  <a:srgbClr val="666633"/>
                </a:solidFill>
                <a:latin typeface="굴림"/>
              </a:rPr>
              <a:t>지역복지계획의 정의</a:t>
            </a:r>
            <a:endParaRPr b="0" lang="en-US" sz="4100" spc="-1" strike="noStrike">
              <a:solidFill>
                <a:srgbClr val="666633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eba9d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굴림"/>
              </a:rPr>
              <a:t>주민 복지 욕구를 질적</a:t>
            </a:r>
            <a:r>
              <a:rPr b="0" lang="en-US" sz="21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100" spc="-1" strike="noStrike">
                <a:solidFill>
                  <a:srgbClr val="000000"/>
                </a:solidFill>
                <a:latin typeface="굴림"/>
              </a:rPr>
              <a:t>양적으로 파악하고 그 욕구를 충족시키기 위한 서비스 공급체계를 확보하는 활동</a:t>
            </a:r>
            <a:endParaRPr b="0" lang="en-US" sz="21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eba9d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굴림"/>
              </a:rPr>
              <a:t>지방자치단체가 지역복지를 종합적</a:t>
            </a:r>
            <a:r>
              <a:rPr b="0" lang="en-US" sz="21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100" spc="-1" strike="noStrike">
                <a:solidFill>
                  <a:srgbClr val="000000"/>
                </a:solidFill>
                <a:latin typeface="굴림"/>
              </a:rPr>
              <a:t>계획적으로 추진하며 사회복지사업법에서 제시하는 사회복지이념을 달성하기 위한 구체적인 방법과 대책</a:t>
            </a:r>
            <a:endParaRPr b="0" lang="en-US" sz="21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eba9d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굴림"/>
              </a:rPr>
              <a:t>해당 지역의 사회복지서비스를 충족하기 위하여 국가 및 지방자치단체가 종합적으로 행정적인 계획을 추진하는 것</a:t>
            </a:r>
            <a:endParaRPr b="0" lang="en-US" sz="21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eba9d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굴림"/>
              </a:rPr>
              <a:t>사회복지사업법 제</a:t>
            </a:r>
            <a:r>
              <a:rPr b="0" lang="en-US" sz="2100" spc="-1" strike="noStrike">
                <a:solidFill>
                  <a:srgbClr val="000000"/>
                </a:solidFill>
                <a:latin typeface="굴림"/>
              </a:rPr>
              <a:t>15</a:t>
            </a:r>
            <a:r>
              <a:rPr b="0" lang="zh-CN" sz="2100" spc="-1" strike="noStrike">
                <a:solidFill>
                  <a:srgbClr val="000000"/>
                </a:solidFill>
                <a:latin typeface="굴림"/>
              </a:rPr>
              <a:t>조의 </a:t>
            </a:r>
            <a:r>
              <a:rPr b="0" lang="en-US" sz="2100" spc="-1" strike="noStrike">
                <a:solidFill>
                  <a:srgbClr val="000000"/>
                </a:solidFill>
                <a:latin typeface="굴림"/>
              </a:rPr>
              <a:t>3</a:t>
            </a:r>
            <a:r>
              <a:rPr b="0" lang="zh-CN" sz="2100" spc="-1" strike="noStrike">
                <a:solidFill>
                  <a:srgbClr val="000000"/>
                </a:solidFill>
                <a:latin typeface="굴림"/>
              </a:rPr>
              <a:t>항과 </a:t>
            </a:r>
            <a:r>
              <a:rPr b="0" lang="en-US" sz="2100" spc="-1" strike="noStrike">
                <a:solidFill>
                  <a:srgbClr val="000000"/>
                </a:solidFill>
                <a:latin typeface="굴림"/>
              </a:rPr>
              <a:t>4</a:t>
            </a:r>
            <a:r>
              <a:rPr b="0" lang="zh-CN" sz="2100" spc="-1" strike="noStrike">
                <a:solidFill>
                  <a:srgbClr val="000000"/>
                </a:solidFill>
                <a:latin typeface="굴림"/>
              </a:rPr>
              <a:t>항</a:t>
            </a:r>
            <a:endParaRPr b="0" lang="en-US" sz="21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eba9d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굴림"/>
              </a:rPr>
              <a:t>제</a:t>
            </a:r>
            <a:r>
              <a:rPr b="0" lang="en-US" sz="21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100" spc="-1" strike="noStrike">
                <a:solidFill>
                  <a:srgbClr val="000000"/>
                </a:solidFill>
                <a:latin typeface="굴림"/>
              </a:rPr>
              <a:t>기 중장기 기초자치단체의 지역사회복지계획 수립 및 시행 </a:t>
            </a:r>
            <a:r>
              <a:rPr b="0" lang="en-US" sz="2100" spc="-1" strike="noStrike">
                <a:solidFill>
                  <a:srgbClr val="000000"/>
                </a:solidFill>
                <a:latin typeface="굴림"/>
              </a:rPr>
              <a:t>: 2007</a:t>
            </a:r>
            <a:r>
              <a:rPr b="0" lang="zh-CN" sz="2100" spc="-1" strike="noStrike">
                <a:solidFill>
                  <a:srgbClr val="000000"/>
                </a:solidFill>
                <a:latin typeface="굴림"/>
              </a:rPr>
              <a:t>년 – </a:t>
            </a:r>
            <a:r>
              <a:rPr b="0" lang="en-US" sz="2100" spc="-1" strike="noStrike">
                <a:solidFill>
                  <a:srgbClr val="000000"/>
                </a:solidFill>
                <a:latin typeface="굴림"/>
              </a:rPr>
              <a:t>2010</a:t>
            </a:r>
            <a:r>
              <a:rPr b="0" lang="zh-CN" sz="2100" spc="-1" strike="noStrike">
                <a:solidFill>
                  <a:srgbClr val="000000"/>
                </a:solidFill>
                <a:latin typeface="굴림"/>
              </a:rPr>
              <a:t>년</a:t>
            </a:r>
            <a:endParaRPr b="0" lang="en-US" sz="21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bf"/>
            </a:gs>
            <a:gs pos="100000">
              <a:srgbClr val="fefef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100" spc="-1" strike="noStrike">
                <a:solidFill>
                  <a:srgbClr val="666633"/>
                </a:solidFill>
                <a:latin typeface="굴림"/>
              </a:rPr>
              <a:t>지역복지계획의 주요 요소</a:t>
            </a:r>
            <a:endParaRPr b="0" lang="en-US" sz="4100" spc="-1" strike="noStrike">
              <a:solidFill>
                <a:srgbClr val="666633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eba9d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굴림"/>
              </a:rPr>
              <a:t>사회적 자원의 배분 수단으로서의 계획 </a:t>
            </a:r>
            <a:r>
              <a:rPr b="0" lang="en-US" sz="26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000000"/>
                </a:solidFill>
                <a:latin typeface="굴림"/>
              </a:rPr>
              <a:t>지역의 복지문제 파악</a:t>
            </a:r>
            <a:r>
              <a:rPr b="0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000000"/>
                </a:solidFill>
                <a:latin typeface="굴림"/>
              </a:rPr>
              <a:t>주민 참여를 기초로 민관 협력을 통하여 장래의 목표 설정</a:t>
            </a:r>
            <a:r>
              <a:rPr b="0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000000"/>
                </a:solidFill>
                <a:latin typeface="굴림"/>
              </a:rPr>
              <a:t>사회자원을 조달하고 배분하기 위한 계획 수립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eba9d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굴림"/>
              </a:rPr>
              <a:t>지방자치단체 지표의 계획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247c4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굴림"/>
              </a:rPr>
              <a:t>재가복지서비스 보급 확대</a:t>
            </a:r>
            <a:r>
              <a:rPr b="0" lang="en-US" sz="2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200" spc="-1" strike="noStrike">
                <a:solidFill>
                  <a:srgbClr val="000000"/>
                </a:solidFill>
                <a:latin typeface="굴림"/>
              </a:rPr>
              <a:t>자원봉사 활성화</a:t>
            </a:r>
            <a:r>
              <a:rPr b="0" lang="en-US" sz="2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200" spc="-1" strike="noStrike">
                <a:solidFill>
                  <a:srgbClr val="000000"/>
                </a:solidFill>
                <a:latin typeface="굴림"/>
              </a:rPr>
              <a:t>사회복지 재원 및 서비스 인력 조달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247c4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굴림"/>
              </a:rPr>
              <a:t>지방자치를 실현하는 지역 단위의 사회지표 수립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eba9d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굴림"/>
              </a:rPr>
              <a:t>종합행정서비스의 계획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247c4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굴림"/>
              </a:rPr>
              <a:t>기초자치단체 </a:t>
            </a:r>
            <a:r>
              <a:rPr b="0" lang="en-US" sz="2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200" spc="-1" strike="noStrike">
                <a:solidFill>
                  <a:srgbClr val="000000"/>
                </a:solidFill>
                <a:latin typeface="굴림"/>
              </a:rPr>
              <a:t>구체적 사업 실시 주체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247c4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굴림"/>
              </a:rPr>
              <a:t>광역 행정단위 </a:t>
            </a:r>
            <a:r>
              <a:rPr b="0" lang="en-US" sz="2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200" spc="-1" strike="noStrike">
                <a:solidFill>
                  <a:srgbClr val="000000"/>
                </a:solidFill>
                <a:latin typeface="굴림"/>
              </a:rPr>
              <a:t>종합적인 연락</a:t>
            </a:r>
            <a:r>
              <a:rPr b="0" lang="en-US" sz="2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200" spc="-1" strike="noStrike">
                <a:solidFill>
                  <a:srgbClr val="000000"/>
                </a:solidFill>
                <a:latin typeface="굴림"/>
              </a:rPr>
              <a:t>조정</a:t>
            </a:r>
            <a:r>
              <a:rPr b="0" lang="en-US" sz="2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200" spc="-1" strike="noStrike">
                <a:solidFill>
                  <a:srgbClr val="000000"/>
                </a:solidFill>
                <a:latin typeface="굴림"/>
              </a:rPr>
              <a:t>기반의 정비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247c4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굴림"/>
              </a:rPr>
              <a:t>중앙정부 </a:t>
            </a:r>
            <a:r>
              <a:rPr b="0" lang="en-US" sz="2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200" spc="-1" strike="noStrike">
                <a:solidFill>
                  <a:srgbClr val="000000"/>
                </a:solidFill>
                <a:latin typeface="굴림"/>
              </a:rPr>
              <a:t>법제도상의 종합화나 체계화</a:t>
            </a:r>
            <a:r>
              <a:rPr b="0" lang="en-US" sz="2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200" spc="-1" strike="noStrike">
                <a:solidFill>
                  <a:srgbClr val="000000"/>
                </a:solidFill>
                <a:latin typeface="굴림"/>
              </a:rPr>
              <a:t>재정적 지원을 위한 역할 및 기능 분담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bf"/>
            </a:gs>
            <a:gs pos="100000">
              <a:srgbClr val="fefef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100" spc="-1" strike="noStrike">
                <a:solidFill>
                  <a:srgbClr val="666633"/>
                </a:solidFill>
                <a:latin typeface="굴림"/>
              </a:rPr>
              <a:t>지역복지계획의 이념</a:t>
            </a:r>
            <a:endParaRPr b="0" lang="en-US" sz="4100" spc="-1" strike="noStrike">
              <a:solidFill>
                <a:srgbClr val="666633"/>
              </a:solidFill>
              <a:latin typeface="굴림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eba9d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굴림"/>
              </a:rPr>
              <a:t>기본 인권의 존중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eba9d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굴림"/>
              </a:rPr>
              <a:t>삶의 질 향상과 사회적 연대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eba9d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굴림"/>
              </a:rPr>
              <a:t>지역 특성의 중시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eba9d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굴림"/>
              </a:rPr>
              <a:t>민관 협동과 주민 참여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649"/>
              </a:spcBef>
              <a:buClr>
                <a:srgbClr val="247c4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굴림"/>
              </a:rPr>
              <a:t>공공부문 </a:t>
            </a:r>
            <a:r>
              <a:rPr b="0" lang="en-US" sz="26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000000"/>
                </a:solidFill>
                <a:latin typeface="굴림"/>
              </a:rPr>
              <a:t>전국민의 최저생활 보장 담당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649"/>
              </a:spcBef>
              <a:buClr>
                <a:srgbClr val="247c4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굴림"/>
              </a:rPr>
              <a:t>민간부문 </a:t>
            </a:r>
            <a:r>
              <a:rPr b="0" lang="en-US" sz="26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000000"/>
                </a:solidFill>
                <a:latin typeface="굴림"/>
              </a:rPr>
              <a:t>복지 욕구 충족을 위한 보완적 기능 담당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bf"/>
            </a:gs>
            <a:gs pos="100000">
              <a:srgbClr val="fefef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100" spc="-1" strike="noStrike">
                <a:solidFill>
                  <a:srgbClr val="666633"/>
                </a:solidFill>
                <a:latin typeface="굴림"/>
              </a:rPr>
              <a:t>지역복지계획과 주민참여</a:t>
            </a:r>
            <a:endParaRPr b="0" lang="en-US" sz="4100" spc="-1" strike="noStrike">
              <a:solidFill>
                <a:srgbClr val="666633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eba9d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주민 참여 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지역의 주민 참여를 대전제로 함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eba9d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더불어 사는 사회 만들기 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지역주민 상호의 연대와 시스템 필요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eba9d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남녀노소의 적극적인 참여의 보장 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모든 구성원이 지역사회 문제에 관심을 가지고 해결을 위해 의사 결정을 해야 함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eba9d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지역복지문화의 창조 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주민 생활이 뿌리를 내린 사회적 활동의 축적 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-&gt; 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각 지역마다 개성있는 행동양식이나 태도를 만드는 복지문화 창조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bf"/>
            </a:gs>
            <a:gs pos="100000">
              <a:srgbClr val="fefef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100" spc="-1" strike="noStrike">
                <a:solidFill>
                  <a:srgbClr val="666633"/>
                </a:solidFill>
                <a:latin typeface="굴림"/>
              </a:rPr>
              <a:t>지역복지계획의 기본 목표</a:t>
            </a:r>
            <a:endParaRPr b="0" lang="en-US" sz="4100" spc="-1" strike="noStrike">
              <a:solidFill>
                <a:srgbClr val="666633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eba9d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생활문제 극복을 위한 지역주민의 적극적인 참여 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지역주민의 자주적인 활동과 서비스 연계 중요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eba9d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지역주민 주체의 지역복지서비스 실현 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서비스 이용자 자신의 역량강화 필요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지역 내 다양한 네트워크 활용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eba9d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종합적인 서비스 지원체계의 확립 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접근성이 가능한 곳에서 상담이나 서비스를 받을 수 있는 체계 구축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eba9d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생활 관련 분야와의 연계 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복지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보건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의료 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+ 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교육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취업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주택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환경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지역 만들기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bf"/>
            </a:gs>
            <a:gs pos="100000">
              <a:srgbClr val="fefef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300" spc="-1" strike="noStrike">
                <a:solidFill>
                  <a:srgbClr val="666633"/>
                </a:solidFill>
                <a:latin typeface="굴림"/>
              </a:rPr>
              <a:t>지역복지계획에 포함되어야 할 내용</a:t>
            </a:r>
            <a:endParaRPr b="0" lang="en-US" sz="3300" spc="-1" strike="noStrike">
              <a:solidFill>
                <a:srgbClr val="666633"/>
              </a:solidFill>
              <a:latin typeface="굴림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eba9d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굴림"/>
              </a:rPr>
              <a:t>지역 내 사회복지서비스의 적절한 이용을 촉진하는 사항</a:t>
            </a:r>
            <a:endParaRPr b="0" lang="en-US" sz="21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47c4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지역사회의 복지서비스 목표를 제시 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객관적 지표 제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47c4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목표 달성을 위한 전략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99cc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굴림"/>
              </a:rPr>
              <a:t>주민들에 대한 상담지원 및 서비스 이용체계 확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99cc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굴림"/>
              </a:rPr>
              <a:t>서비스의 평가 및 내용 공개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1800" spc="-1" strike="noStrike">
                <a:solidFill>
                  <a:srgbClr val="000000"/>
                </a:solidFill>
                <a:latin typeface="굴림"/>
              </a:rPr>
              <a:t>선택 유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99cc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굴림"/>
              </a:rPr>
              <a:t>이용하지 못하는 클라이언트에 대한 대응 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1800" spc="-1" strike="noStrike">
                <a:solidFill>
                  <a:srgbClr val="000000"/>
                </a:solidFill>
                <a:latin typeface="굴림"/>
              </a:rPr>
              <a:t>사회복지대상자 발굴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1800" spc="-1" strike="noStrike">
                <a:solidFill>
                  <a:srgbClr val="000000"/>
                </a:solidFill>
                <a:latin typeface="굴림"/>
              </a:rPr>
              <a:t>사회복지 종사자에 대한 지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99cc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굴림"/>
              </a:rPr>
              <a:t>이용자의 권리 옹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eba9d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굴림"/>
              </a:rPr>
              <a:t>지역의 사회복지 증진을 목적으로 하는 사업의 발전에 관한 사항</a:t>
            </a:r>
            <a:endParaRPr b="0" lang="en-US" sz="21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47c4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공공 및 민간 서비스 연계 촉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47c4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복지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보건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의료 및 생활에 관련된 기타 분야와의 연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eba9d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굴림"/>
              </a:rPr>
              <a:t>지역복지활동에 주민 참여를 촉진하는 사항</a:t>
            </a:r>
            <a:endParaRPr b="0" lang="en-US" sz="21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47c4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각종 단체의 활동 지원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조직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47c4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동기 부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47c4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인재 양성 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사회복지종사자 교육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사회복지협의회 기능 강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bf"/>
            </a:gs>
            <a:gs pos="100000">
              <a:srgbClr val="fefef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100" spc="-1" strike="noStrike">
                <a:solidFill>
                  <a:srgbClr val="666633"/>
                </a:solidFill>
                <a:latin typeface="굴림"/>
              </a:rPr>
              <a:t>지역복지계획 수립의 체제와 과정</a:t>
            </a:r>
            <a:endParaRPr b="0" lang="en-US" sz="4100" spc="-1" strike="noStrike">
              <a:solidFill>
                <a:srgbClr val="666633"/>
              </a:solidFill>
              <a:latin typeface="굴림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eba9d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100" spc="-1" strike="noStrike">
                <a:solidFill>
                  <a:srgbClr val="000000"/>
                </a:solidFill>
                <a:latin typeface="굴림"/>
              </a:rPr>
              <a:t>기초자치단체의 지역복지계획 수립</a:t>
            </a:r>
            <a:endParaRPr b="0" lang="en-US" sz="21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47c4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노인보건복지계획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재가복지계획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장애인복지계획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아동복지계획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저소득 빈곤자 복지계획 및 기타 복지계획 연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47c4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복지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보건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의료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생활 관련 분야 연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47c4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공공기관 개입 필요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관련 부서 협의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eba9d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100" spc="-1" strike="noStrike">
                <a:solidFill>
                  <a:srgbClr val="000000"/>
                </a:solidFill>
                <a:latin typeface="굴림"/>
              </a:rPr>
              <a:t>지역복지계획의 추진위원회 </a:t>
            </a:r>
            <a:r>
              <a:rPr b="0" lang="ko-KR" sz="21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100" spc="-1" strike="noStrike">
                <a:solidFill>
                  <a:srgbClr val="000000"/>
                </a:solidFill>
                <a:latin typeface="굴림"/>
              </a:rPr>
              <a:t>기초자치단체의 지역복지 담당 부서에서 주민</a:t>
            </a:r>
            <a:r>
              <a:rPr b="0" lang="ko-KR" sz="21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100" spc="-1" strike="noStrike">
                <a:solidFill>
                  <a:srgbClr val="000000"/>
                </a:solidFill>
                <a:latin typeface="굴림"/>
              </a:rPr>
              <a:t>연구자</a:t>
            </a:r>
            <a:r>
              <a:rPr b="0" lang="ko-KR" sz="21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100" spc="-1" strike="noStrike">
                <a:solidFill>
                  <a:srgbClr val="000000"/>
                </a:solidFill>
                <a:latin typeface="굴림"/>
              </a:rPr>
              <a:t>전문가</a:t>
            </a:r>
            <a:r>
              <a:rPr b="0" lang="ko-KR" sz="21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100" spc="-1" strike="noStrike">
                <a:solidFill>
                  <a:srgbClr val="000000"/>
                </a:solidFill>
                <a:latin typeface="굴림"/>
              </a:rPr>
              <a:t>이용자 조직</a:t>
            </a:r>
            <a:r>
              <a:rPr b="0" lang="ko-KR" sz="21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100" spc="-1" strike="noStrike">
                <a:solidFill>
                  <a:srgbClr val="000000"/>
                </a:solidFill>
                <a:latin typeface="굴림"/>
              </a:rPr>
              <a:t>시민단체 지도자</a:t>
            </a:r>
            <a:r>
              <a:rPr b="0" lang="ko-KR" sz="21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100" spc="-1" strike="noStrike">
                <a:solidFill>
                  <a:srgbClr val="000000"/>
                </a:solidFill>
                <a:latin typeface="굴림"/>
              </a:rPr>
              <a:t>담당공무원 참여</a:t>
            </a:r>
            <a:endParaRPr b="0" lang="en-US" sz="21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eba9d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100" spc="-1" strike="noStrike">
                <a:solidFill>
                  <a:srgbClr val="000000"/>
                </a:solidFill>
                <a:latin typeface="굴림"/>
              </a:rPr>
              <a:t>지역복지계획 추진의 결정 </a:t>
            </a:r>
            <a:r>
              <a:rPr b="0" lang="ko-KR" sz="21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100" spc="-1" strike="noStrike">
                <a:solidFill>
                  <a:srgbClr val="000000"/>
                </a:solidFill>
                <a:latin typeface="굴림"/>
              </a:rPr>
              <a:t>간담회</a:t>
            </a:r>
            <a:r>
              <a:rPr b="0" lang="ko-KR" sz="21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100" spc="-1" strike="noStrike">
                <a:solidFill>
                  <a:srgbClr val="000000"/>
                </a:solidFill>
                <a:latin typeface="굴림"/>
              </a:rPr>
              <a:t>욕구조사 실시</a:t>
            </a:r>
            <a:endParaRPr b="0" lang="en-US" sz="21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eba9d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100" spc="-1" strike="noStrike">
                <a:solidFill>
                  <a:srgbClr val="000000"/>
                </a:solidFill>
                <a:latin typeface="굴림"/>
              </a:rPr>
              <a:t>지역복지계획 목표 설정 </a:t>
            </a:r>
            <a:r>
              <a:rPr b="0" lang="ko-KR" sz="21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100" spc="-1" strike="noStrike">
                <a:solidFill>
                  <a:srgbClr val="000000"/>
                </a:solidFill>
                <a:latin typeface="굴림"/>
              </a:rPr>
              <a:t>구체적인 계획의 달성도와 객관적 목표 제시</a:t>
            </a:r>
            <a:endParaRPr b="0" lang="en-US" sz="21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eba9d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100" spc="-1" strike="noStrike">
                <a:solidFill>
                  <a:srgbClr val="000000"/>
                </a:solidFill>
                <a:latin typeface="굴림"/>
              </a:rPr>
              <a:t>주민 참여의 모색 </a:t>
            </a:r>
            <a:r>
              <a:rPr b="0" lang="ko-KR" sz="21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100" spc="-1" strike="noStrike">
                <a:solidFill>
                  <a:srgbClr val="000000"/>
                </a:solidFill>
                <a:latin typeface="굴림"/>
              </a:rPr>
              <a:t>정보 제공 필수</a:t>
            </a:r>
            <a:endParaRPr b="0" lang="en-US" sz="21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eba9d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100" spc="-1" strike="noStrike">
                <a:solidFill>
                  <a:srgbClr val="000000"/>
                </a:solidFill>
                <a:latin typeface="굴림"/>
              </a:rPr>
              <a:t>사회복지협의회와 지역사회복지관의 역할 </a:t>
            </a:r>
            <a:r>
              <a:rPr b="0" lang="ko-KR" sz="21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100" spc="-1" strike="noStrike">
                <a:solidFill>
                  <a:srgbClr val="000000"/>
                </a:solidFill>
                <a:latin typeface="굴림"/>
              </a:rPr>
              <a:t>주민참가</a:t>
            </a:r>
            <a:r>
              <a:rPr b="0" lang="ko-KR" sz="21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100" spc="-1" strike="noStrike">
                <a:solidFill>
                  <a:srgbClr val="000000"/>
                </a:solidFill>
                <a:latin typeface="굴림"/>
              </a:rPr>
              <a:t>자원봉사자 조직화</a:t>
            </a:r>
            <a:r>
              <a:rPr b="0" lang="ko-KR" sz="21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100" spc="-1" strike="noStrike">
                <a:solidFill>
                  <a:srgbClr val="000000"/>
                </a:solidFill>
                <a:latin typeface="굴림"/>
              </a:rPr>
              <a:t>복지교육 등 적극적으로 협력</a:t>
            </a:r>
            <a:r>
              <a:rPr b="0" lang="ko-KR" sz="21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100" spc="-1" strike="noStrike">
                <a:solidFill>
                  <a:srgbClr val="000000"/>
                </a:solidFill>
                <a:latin typeface="굴림"/>
              </a:rPr>
              <a:t>상호 연계 활동</a:t>
            </a:r>
            <a:endParaRPr b="0" lang="en-US" sz="21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eba9d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100" spc="-1" strike="noStrike">
                <a:solidFill>
                  <a:srgbClr val="000000"/>
                </a:solidFill>
                <a:latin typeface="굴림"/>
              </a:rPr>
              <a:t>사회복지법인의 역할 </a:t>
            </a:r>
            <a:r>
              <a:rPr b="0" lang="ko-KR" sz="21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100" spc="-1" strike="noStrike">
                <a:solidFill>
                  <a:srgbClr val="000000"/>
                </a:solidFill>
                <a:latin typeface="굴림"/>
              </a:rPr>
              <a:t>지역복지서비스의 중심이 되는 역할 담당</a:t>
            </a:r>
            <a:endParaRPr b="0" lang="en-US" sz="21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bf"/>
            </a:gs>
            <a:gs pos="100000">
              <a:srgbClr val="fefef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100" spc="-1" strike="noStrike">
                <a:solidFill>
                  <a:srgbClr val="666633"/>
                </a:solidFill>
                <a:latin typeface="굴림"/>
              </a:rPr>
              <a:t>지역복지계획의 실천 단계</a:t>
            </a:r>
            <a:endParaRPr b="0" lang="en-US" sz="4100" spc="-1" strike="noStrike">
              <a:solidFill>
                <a:srgbClr val="666633"/>
              </a:solidFill>
              <a:latin typeface="굴림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eba9d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지역복지계획의 실천 단계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247c4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ko-KR" sz="2200" spc="-1" strike="noStrike">
                <a:solidFill>
                  <a:srgbClr val="000000"/>
                </a:solidFill>
                <a:latin typeface="굴림"/>
              </a:rPr>
              <a:t>단계 </a:t>
            </a:r>
            <a:r>
              <a:rPr b="0" lang="ko-KR" sz="2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200" spc="-1" strike="noStrike">
                <a:solidFill>
                  <a:srgbClr val="000000"/>
                </a:solidFill>
                <a:latin typeface="굴림"/>
              </a:rPr>
              <a:t>지역사회의 현황 조사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247c4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200" spc="-1" strike="noStrike">
                <a:solidFill>
                  <a:srgbClr val="000000"/>
                </a:solidFill>
                <a:latin typeface="굴림"/>
              </a:rPr>
              <a:t>단계 </a:t>
            </a:r>
            <a:r>
              <a:rPr b="0" lang="ko-KR" sz="2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200" spc="-1" strike="noStrike">
                <a:solidFill>
                  <a:srgbClr val="000000"/>
                </a:solidFill>
                <a:latin typeface="굴림"/>
              </a:rPr>
              <a:t>사정결과를 중심으로 계획을 수립</a:t>
            </a:r>
            <a:r>
              <a:rPr b="0" lang="ko-KR" sz="2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200" spc="-1" strike="noStrike">
                <a:solidFill>
                  <a:srgbClr val="000000"/>
                </a:solidFill>
                <a:latin typeface="굴림"/>
              </a:rPr>
              <a:t>대책 강구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247c4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굴림"/>
              </a:rPr>
              <a:t>3</a:t>
            </a:r>
            <a:r>
              <a:rPr b="0" lang="ko-KR" sz="2200" spc="-1" strike="noStrike">
                <a:solidFill>
                  <a:srgbClr val="000000"/>
                </a:solidFill>
                <a:latin typeface="굴림"/>
              </a:rPr>
              <a:t>단계 </a:t>
            </a:r>
            <a:r>
              <a:rPr b="0" lang="ko-KR" sz="2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200" spc="-1" strike="noStrike">
                <a:solidFill>
                  <a:srgbClr val="000000"/>
                </a:solidFill>
                <a:latin typeface="굴림"/>
              </a:rPr>
              <a:t>프로그램에 대한 교육 및 홍보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247c4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굴림"/>
              </a:rPr>
              <a:t>4</a:t>
            </a:r>
            <a:r>
              <a:rPr b="0" lang="ko-KR" sz="2200" spc="-1" strike="noStrike">
                <a:solidFill>
                  <a:srgbClr val="000000"/>
                </a:solidFill>
                <a:latin typeface="굴림"/>
              </a:rPr>
              <a:t>단계 </a:t>
            </a:r>
            <a:r>
              <a:rPr b="0" lang="ko-KR" sz="2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200" spc="-1" strike="noStrike">
                <a:solidFill>
                  <a:srgbClr val="000000"/>
                </a:solidFill>
                <a:latin typeface="굴림"/>
              </a:rPr>
              <a:t>사회자원의 동원과 참여 과정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247c4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0" lang="ko-KR" sz="2200" spc="-1" strike="noStrike">
                <a:solidFill>
                  <a:srgbClr val="000000"/>
                </a:solidFill>
                <a:latin typeface="굴림"/>
              </a:rPr>
              <a:t>단계 </a:t>
            </a:r>
            <a:r>
              <a:rPr b="0" lang="ko-KR" sz="2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200" spc="-1" strike="noStrike">
                <a:solidFill>
                  <a:srgbClr val="000000"/>
                </a:solidFill>
                <a:latin typeface="굴림"/>
              </a:rPr>
              <a:t>계획 평가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eba9d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사회복지사가 알아야 할 기술과 방법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247c4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굴림"/>
              </a:rPr>
              <a:t>프로그램의 형성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247c4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굴림"/>
              </a:rPr>
              <a:t>조정과 통합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247c4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굴림"/>
              </a:rPr>
              <a:t>교육과 촉진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247c4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굴림"/>
              </a:rPr>
              <a:t>재정 등의 기술과 평가방법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31T05:11:48Z</dcterms:created>
  <dc:creator>^^</dc:creator>
  <dc:description/>
  <dc:language>en-US</dc:language>
  <cp:lastModifiedBy>^^</cp:lastModifiedBy>
  <dcterms:modified xsi:type="dcterms:W3CDTF">2009-08-26T04:59:35Z</dcterms:modified>
  <cp:revision>7</cp:revision>
  <dc:subject/>
  <dc:title>지역사회복지계획의 방법</dc:title>
</cp:coreProperties>
</file>