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675-75D5-40C5-8FEA-69323562F6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E90-206D-418A-B053-8B983BA4C0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AAB-3AE6-4B5D-B1BB-26FB94BF65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본의 형법상 형사 책임연령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이상이며 종래의 소년법은 형사책임 가능연령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이상으로 하고 있었으나 일부 개정에 의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이상으로 하향 조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2699-7452-4FDD-9858-AF38EB5C47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※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介護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-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는 나누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키우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‘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돕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라는 의미를 가지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’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호‘는 지키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돕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하다 라는 의미가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따라서 개호라는 것은 간단히 말하면 사람의 길에서 그 사람을 위해서 무엇인가를 지켜주거나 돕는다는 내용을 가진다고 할 수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말해 고령자나 장애인의 신변의 수발을 의미하는 것이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069-2F83-43B5-9D1A-BEB1DC5FEF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노인 보양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뇌졸증의 후유증을 가진 노인 및 류마티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경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 밖에 질환 때문에 신체상의 장애를 가지고 있는 노인의 건강증진 또는 기능의 회복을 촉진하기 위한 시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체상 또는 정신상 뚜렷한 결함이 있기 때문에 평상시 양호를 필요로 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거택에 있어서 이것을 행하는 것이 부적당하다고 인정되는 노인을 입소시켜 의학적 관리를  중심으로 이것을 양호하는 시설로서 양호노인 홈을 규정하고 있는 것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1F7-EBEE-4543-8283-E4A6F5E96E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쌀소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191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토야마현에서 어부들의 부인네들이 쌀값을 내리라고 요구하며 쌀게게를 습격한 소위 쌀 소동이 발생했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897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구호과 설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03F-20DB-495C-BF9E-B91CD1FBBC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국의 노인 인구 비율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7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.1%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개국 중 가장 낮았지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7%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넘어 ‘고령화사회’에 진입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앞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1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4%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넘어 ‘고령사회’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202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%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넘는 ‘초고령사회’에 도달할 것으로 예상되고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또한 한국의 고령화 추세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3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이후에도 꾸준히 지속되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5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에는 일본에 이어 세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위의 노인국가가 될 것으로 전망됐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290-DE02-4F01-B549-A3F273707D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0D7-36B3-46F8-AFED-4FB1B0BA2E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메이지 유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개항과 조약체결의 과정에서 막부정치의 무능함을 비판하는 세력들이 성장하는데 이들은 막부정치의 불만을 갖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국왕중심의 강력한 중앙집권적인 개혁정치를 주장하게 됩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 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그게 바로 메이지 유신입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메이지 유신은  근대화 과정을 나타내는 개혁운동의 대표적이라 할 수 있는데요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 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서구의 제도와 기술을 모두 도입한 것이 특징입니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.  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그 대강의 내용에는 의회개설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의회를 만들자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신분제 개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토지제도 정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등등의 근대적 제도 개선과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 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군사기술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 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무기양성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 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유학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</a:rPr>
              <a:t>교육제도 등이 있습니다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4AC-F34E-47A1-BAC1-8608CEB31A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787-291E-4A43-A039-F0220E2C62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BF78-FD9B-4D5B-A791-B832757140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009C-2BA5-4DC8-9593-BA55D00249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복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법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노인복지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신체</a:t>
            </a:r>
            <a:r>
              <a:rPr b="0" lang="ko-KR" sz="1200" spc="-1" strike="noStrike">
                <a:solidFill>
                  <a:srgbClr val="7030a0"/>
                </a:solidFill>
                <a:latin typeface="맑은 고딕"/>
              </a:rPr>
              <a:t>신체장애인복지법</a:t>
            </a:r>
            <a:r>
              <a:rPr b="0" lang="en-US" sz="1200" spc="-1" strike="noStrike">
                <a:solidFill>
                  <a:srgbClr val="7030a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7030a0"/>
                </a:solidFill>
                <a:latin typeface="맑은 고딕"/>
              </a:rPr>
              <a:t>정신박약 복지법</a:t>
            </a:r>
            <a:r>
              <a:rPr b="0" lang="en-US" sz="1200" spc="-1" strike="noStrike">
                <a:solidFill>
                  <a:srgbClr val="7030a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7030a0"/>
                </a:solidFill>
                <a:latin typeface="맑은 고딕"/>
              </a:rPr>
              <a:t>아동복지법</a:t>
            </a:r>
            <a:r>
              <a:rPr b="0" lang="en-US" sz="1200" spc="-1" strike="noStrike">
                <a:solidFill>
                  <a:srgbClr val="7030a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7030a0"/>
                </a:solidFill>
                <a:latin typeface="맑은 고딕"/>
              </a:rPr>
              <a:t>모자 및 과부복지법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3F52-618F-40A0-A348-D4D6D94046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AEB4-817E-441D-B8DF-07EBA56E8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D241-C8BB-4C69-9BED-3AF7AE92DB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CCDC1-A5A3-4666-A159-6B863578182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3F40E-A598-4CC0-926C-E440C3DA4B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49501-0168-4061-A9AE-F31333C2DB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524A1-13FA-4B88-9E45-980B99107E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85EE4-BAF5-4BBE-B2F4-AC6084D41F0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4DF93E-79CE-41E0-AFDC-4A73664C61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219D9-BDC8-40BA-AC4E-B5E5580A92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DACC8-5DDB-4E24-BC30-9AFA0470DAD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B4BFD-407D-4C1C-B3DB-791FECC9589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ED870-A5C9-4F83-BAFB-93D7D09C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9F7F-9207-42B8-9403-360CBAD211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488FA-3A28-4337-BA9C-2984417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ABB8B-7320-4618-AEA3-4B34AC4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445A2-13AB-4C0C-BC20-E0F9B510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A8AAE-DA54-480F-9FB6-A5415BE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35D8B-9288-41DA-AE13-64F5008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14844-59E6-4620-A72C-59EF3AB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31021-4D61-43A1-8A49-9766E22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CBB86-0227-47D5-8DFB-D9232E7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6F244-7E13-412A-A00A-7CAB7E5F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E8A4C-0AAE-446A-8402-7B630B49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2919C-0FCA-4B21-809F-752C91C38A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F3177-CF99-4D29-964B-0B322BB0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29F2B9-5D0D-423C-A07D-1E7C502C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96B109-D08F-4E01-B1DC-90F7F75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9FA84B-779C-46F2-80E8-39D6A9AF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F34C75-2AF3-40E1-BD94-09977D8A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30CDBD-1A32-4589-9725-8E1801D9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56123D-C06D-4616-8CE9-06B6239B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48CBEC-835C-426F-B44B-4BBE8B6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29CF25-7218-4A8D-B6A1-BCBDE314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68BAB2-B456-4AB3-B67B-F36E82F4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C346-8B48-4539-95D1-E771B1AC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79CCBA-CB56-44D0-A30B-AFBB772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526C7-6034-45BC-8833-9D34063A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2B6820-B384-469B-8031-4447A008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B7FD5-6696-4F48-BBB6-D4822BCB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A17BC-20CC-4A41-B622-A282CDA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2CE07-C4CA-4DF3-8198-BD8958A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A3491-D2AF-481B-A0A9-CCE2F1A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4D975-A45A-41B8-A59F-016A0E76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DD28E-9C84-4FF9-AD4E-32E6263F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4D1DB-FF18-4DB5-B709-B0EB7FDE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75426-466D-4E15-AFE2-F41A067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8EF88-41F7-4F28-8F7C-9CCE33F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5245D-4CBE-45FA-B3EA-6ED82FAF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210A7-8B5D-4A75-B499-428506E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F73DC-3DDC-488F-8CBA-DB855F50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5F8BD-7F57-4195-AF27-5D2E8D46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C3383-B778-4E9B-B0CC-D7FE58AC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76A614-DADE-4C41-BC15-BD0C6DE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5D2001-F034-431B-87F5-0770CC5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0119AB-FE1C-48EA-9EE3-16C2AFB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5E960D-EC36-4522-8993-D13FF85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5FA2-0DA1-4315-BDF4-F161C677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DCC0D2-983B-46D6-9667-AA1CD54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604A53-3189-4185-AAF3-02651C7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258967-03E0-4AA4-AE07-401A914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3085D7-A6CE-4E4E-8E90-9C29361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527D4E-9463-4A6C-B89B-3558B7E3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9FACB5-E88E-4C41-AB5B-4844C138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DD0D76-C9F2-4713-83E6-7EA7D980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87ADE-D387-4A16-9BDC-14AB437C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34E2-3DFE-4F5B-A0F0-6E7FA581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CB9B-E87D-430D-828B-F2D30F42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951E8-8353-4113-BFD2-1DFD8D4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670E-DE54-4F25-BFE3-55B57AC97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BCD8C-6707-4F1F-855C-2ED67CF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0C445-C61C-4B60-B370-F69E8BF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715A4-AF31-4E2F-8490-709C4AFB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10F0D-75C1-4D52-9924-3BB9568C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DB2F-0F14-4F06-A184-C17C8B30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9D3BF-A5FA-4051-8FF7-1CEC8602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DF9C9-219D-4769-9987-A37244E2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4A3EC-C642-4FBB-8D4D-7B824989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302A-22DA-40E5-94CE-8D504B6E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48BAD-58E9-46B6-8E6F-3B6460D7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7B05-0C19-43C1-AE33-343CE5F2D8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33E49-160C-4354-8C3A-9719978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D4ED3-20CA-4593-9433-99A5F3F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8ABAD-5F53-4FB7-AB24-C74C0AB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47909-B863-4DAA-8C29-71D46D87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811CC-911F-4EDD-BC6E-77901E0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E6B7A-6C1B-481A-A647-D0C414D5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72FE6-0F5E-4206-9659-5B5B726E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340A8-A87A-4F84-AEE1-8B806BFE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F5AC37-6813-4163-AA2C-FE37994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AF506-E306-4E1F-8E0E-E14DFBBC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ED10-D2D5-4829-AB54-2190B122FD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FC58A-995D-4D71-B1CB-3ECCC4D0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23E9D-2F14-4B23-951E-5C82A90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241C1-01FA-4623-94A6-2CBCF9B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D1454-CE5D-4B11-9379-4F84E34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3D656-CCB7-42E0-85BE-86836211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CD399-C706-48A2-963E-ACEFF13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3125A-B960-410A-8561-5C49D135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119EB-D952-4545-BACB-C5990A9B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EC80A-76F4-41A3-B8AF-CD117313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3D17A-B870-4D67-994D-C961D7E2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A1B3-546B-4E5A-A603-61E0578218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06774-22A9-4645-B8FD-AE799E7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FAD4B-8F41-4C8E-89C3-3A02766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74166-4A35-4700-B2C9-39F0E3DB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530E6-D68F-4026-927D-5A45CBFD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52DD0-7003-4F72-8022-73D448D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4898F-5E26-4574-BF45-3D543C9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2B1FE-AF91-42F5-BBBA-86CB2B67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73A2F-8837-4333-A4CD-6C3242A4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DD36E-56A4-4EDA-94DF-2F926B79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402A9-E57C-4DCA-BFFF-317B8441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47B5-A8F0-444A-917A-1B1C91E69A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E9CAE-098C-414D-A5D4-42D2151F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DE551-4353-40C4-9084-9AA4A717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7CFD6-1A83-41CB-9610-1D226DD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E98DF-FC28-4D10-B2E5-08D8FFC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26700-D563-40B2-888E-ADC96CA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7B024-066E-4DD2-BAFB-8B3BA2C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DB285-4BD4-40C0-A63E-AD6ED103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EB1F6-52B6-45C0-BED8-AEECE3C3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58AB4-23CB-4D55-B1C4-5BE9D07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43F54-433C-4463-9287-ED14EEC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DC13-BE59-4F2E-A355-C37BEC4538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463B4-1747-4AC2-84B0-B6ED213B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F43D3-9AA6-4312-A22F-48FDE1B3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F9DB3-79BF-41D0-93B4-CD30B100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F5E3F-E2EE-499C-8B55-A71C9ED6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AFF5F-D445-44B5-BA89-9CF197A7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60868-FD6B-4C03-B16A-BB71567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3008FD-DA2B-439A-A9B5-2469B56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6611C-C5CA-4915-AD3A-D1C92E1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3F621-5D53-4DCC-AA3D-92484BE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A1CD1-36B0-48B7-9B18-0D6657C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62D5-6D29-4A11-BC8B-2AACA18349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98698-52CB-4FB1-9480-77EE32ED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401F1-ABAC-4309-883B-9AE2053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72D8C-6EC2-45BD-A40B-417A98D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AE598-D23F-4B92-82F0-62FE5CEE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D3367-E813-4F72-B1CC-319C4795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8C8B1-0F2A-439B-B23D-6ECD9287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19AAD-8D2B-4505-9E31-15CE6F2B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39E06B-08A0-42C4-BD17-596A7BD1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3F76FA-C6B5-447B-9776-984EB84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FA73C-FA45-441A-947E-A9708385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DC97-F79D-4142-97F3-FD0BD29878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CE260-9A8C-44BC-87C3-2DF274F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3868D6-82DB-48C3-A73D-A830C1D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941C16-7869-4B2F-9FFA-9EA68D3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77CBC-7B65-46C6-9723-AA6F9A9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202B4-3B36-4898-819D-54CC697A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6968A0-40BF-41F6-ACDB-4C08CD21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1771C-5FC2-41A8-B972-27D59D35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51E1F-3545-43A9-9B00-0093A056FD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EE15E-F1EC-4A7A-88DA-A964544502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CE2CA-7ADB-4CE1-BE11-F41F7483D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F827-6D65-448B-8C5B-5B7BE5CF7D2F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93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273-4804-47E8-9DF1-FF638DB9D0C3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8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9EC-9EB2-4B94-A8B0-7D55E2A47B99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사각형 7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381F-0E27-4FA0-A444-9A455D6E5705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4e7ed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1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002-8E19-4CE9-95CF-98E606EF309C}" type="slidenum">
              <a:rPr b="0" lang="ko-KR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80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5FF-CC96-4D96-8A60-0E7CDAA182FF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4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68D2-1625-4857-BA39-30541324121D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524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027-9444-4AB1-9C1F-86077B48D859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D656-2E08-4591-80F4-6A97E7DA56B7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9152-66C8-43EE-BB91-20C001929D1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직사각형 6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5" name="직사각형 6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7" name="직선 연결선 7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1B2-C85D-4751-B73A-22EAE70421E7}" type="datetime"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ffff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D6C-1145-4FB6-9B8B-F30856C0C504}" type="slidenum">
              <a:rPr b="0" lang="ko-KR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0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2D3-7DFA-471C-A27A-1E7D5E50A88B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1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CDD8-7439-4ECC-BB03-76E0F6DEF0DB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4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B557-378A-4EBF-969A-E5385EFB885D}" type="datetime">
              <a:rPr b="0" lang="ko-KR" sz="2400" spc="-1" strike="noStrike">
                <a:solidFill>
                  <a:srgbClr val="b13f9a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E4E-2309-4132-9986-C6293A79C183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18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9F52-AB4C-4880-A4F8-B27FFE86283B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1D6D-E0F8-4736-9843-A0FF2A36AB88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2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B39C-FEB5-4F06-9331-20E77A3179AD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0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A9C-B684-4C2F-805A-5A7DF80B4155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6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2C07-69F1-431A-B8E7-90616AF002F7}" type="datetime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6年 7月 29日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3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5CFE-1513-45BF-B45F-B58168DB9D4E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직사각형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0" name="직사각형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5"/>
          </p:nvPr>
        </p:nvSpPr>
        <p:spPr>
          <a:xfrm>
            <a:off x="8215200" y="650052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301D-2054-4784-96B2-4A006C8F97DC}" type="slidenum">
              <a:rPr b="0" lang="ko-KR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제목 1" descr=""/>
          <p:cNvPicPr/>
          <p:nvPr/>
        </p:nvPicPr>
        <p:blipFill>
          <a:blip r:embed="rId1"/>
          <a:stretch/>
        </p:blipFill>
        <p:spPr>
          <a:xfrm>
            <a:off x="706320" y="1494000"/>
            <a:ext cx="8109000" cy="10112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2357280" y="5357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                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자료 수집</a:t>
            </a:r>
            <a:r>
              <a:rPr b="0" lang="en-US" sz="26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기 용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  <a:ea typeface="HY강B"/>
              </a:rPr>
              <a:t>3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조                  자료 정리</a:t>
            </a:r>
            <a:r>
              <a:rPr b="0" lang="en-US" sz="26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이 성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작성 및 발표</a:t>
            </a:r>
            <a:r>
              <a:rPr b="0" lang="en-US" sz="26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  <a:ea typeface="HY강B"/>
              </a:rPr>
              <a:t>윤 은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제목 1" descr=""/>
          <p:cNvPicPr/>
          <p:nvPr/>
        </p:nvPicPr>
        <p:blipFill>
          <a:blip r:embed="rId1"/>
          <a:stretch/>
        </p:blipFill>
        <p:spPr>
          <a:xfrm>
            <a:off x="401760" y="420840"/>
            <a:ext cx="7346880" cy="8715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285840" y="1428840"/>
            <a:ext cx="757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용보험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동자들의 실업을 예방하고 고용기회의 증대와 노력을 개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1975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4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월 실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보험자는 정부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피보험자는 노동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급여기간은 이직 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간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치료사업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구빈사업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생활보호사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생활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교육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주택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료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출산부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생업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장제부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회복지서비스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생활보호사업을 위해 설치한 복지사무소가 노인복지시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장애인복지시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모자복지시설의 입소 조치권 등을 행사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 1958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에 국민건강보험이 처음 실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슬라이드 번호 개체 틀 6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E5BD-B250-493B-A047-08EC5C71C07B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제목 1" descr=""/>
          <p:cNvPicPr/>
          <p:nvPr/>
        </p:nvPicPr>
        <p:blipFill>
          <a:blip r:embed="rId1"/>
          <a:stretch/>
        </p:blipFill>
        <p:spPr>
          <a:xfrm>
            <a:off x="328680" y="573120"/>
            <a:ext cx="7419960" cy="1006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457200" y="1609200"/>
            <a:ext cx="723888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의료보험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일본의 의료보험 제도는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1961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년부터 시작된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“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국민개보험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”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제도에 의해 발전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건강보험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정부관할 건강보험제도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조합관할 건강보험제도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)-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피고용자대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국민 건강 보험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지역주민을 대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3)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공제조합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사회보험제도의 일환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4)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선원보험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600" spc="-1" strike="noStrike">
                <a:solidFill>
                  <a:srgbClr val="7030a0"/>
                </a:solidFill>
                <a:latin typeface="Trebuchet MS"/>
              </a:rPr>
              <a:t>선원을 대상</a:t>
            </a:r>
            <a:r>
              <a:rPr b="0" lang="en-US" sz="26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슬라이드 번호 개체 틀 6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9C3-B66C-40F9-BADA-48B6FCA4CEE5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1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1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10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28760" y="1285560"/>
            <a:ext cx="7238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1.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아동정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동양에 위치하고 있음에도 서구의 영향을 받아 전문적인 아동복지제도로 발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복지와 관련된 법률을 체계적으로 제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복지를 가족복지와 잘 연계시켜 발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2.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여성정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일본 여성정책의 기조 및 주요 내용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    </a:t>
            </a: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①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여성 고용정책 </a:t>
            </a: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②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보육정책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여성 복지 서비스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①</a:t>
            </a: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모자가정 및 미혼모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②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성폭력 피해 여성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③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가정 폭력 피해 여성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④ </a:t>
            </a: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매춘 여성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바닥글 개체 틀 3"/>
          <p:cNvSpPr/>
          <p:nvPr/>
        </p:nvSpPr>
        <p:spPr>
          <a:xfrm>
            <a:off x="14292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6B2B-9555-4EDC-86B6-DFF66A72CEBE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7" name="제목 1" descr=""/>
          <p:cNvPicPr/>
          <p:nvPr/>
        </p:nvPicPr>
        <p:blipFill>
          <a:blip r:embed="rId1"/>
          <a:stretch/>
        </p:blipFill>
        <p:spPr>
          <a:xfrm>
            <a:off x="328680" y="255600"/>
            <a:ext cx="7419960" cy="963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000"/>
                            </p:stCondLst>
                            <p:childTnLst>
                              <p:par>
                                <p:cTn id="5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56760" y="785520"/>
            <a:ext cx="7239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3.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일본의 청소년 정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청소년 정책의 범위와 대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①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미성년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미성년자 음주 금지법 등 에서 사용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                 ‘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 미만의 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로 규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②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소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소년법과 아동복지법에서 사용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③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④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연소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18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 미만으로 규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⑤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복지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을 세분화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주요 추진 사업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①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국민운동의 전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②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청소년 육성 국민운동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③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전국 코도모플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④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청소년의 국제교류촉진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⑤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도정보통신사회에 대응한 청소년 육성의 추진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바닥글 개체 틀 3"/>
          <p:cNvSpPr/>
          <p:nvPr/>
        </p:nvSpPr>
        <p:spPr>
          <a:xfrm>
            <a:off x="57240" y="65721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36F-F615-4CC2-9D65-57F8E264AD8C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000"/>
                            </p:stCondLst>
                            <p:childTnLst>
                              <p:par>
                                <p:cTn id="6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제목 1" descr=""/>
          <p:cNvPicPr/>
          <p:nvPr/>
        </p:nvPicPr>
        <p:blipFill>
          <a:blip r:embed="rId1"/>
          <a:stretch/>
        </p:blipFill>
        <p:spPr>
          <a:xfrm>
            <a:off x="334800" y="281160"/>
            <a:ext cx="7413840" cy="8712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600120" y="1609560"/>
            <a:ext cx="7043760" cy="46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7030a0"/>
                </a:solidFill>
                <a:latin typeface="HY강B"/>
                <a:ea typeface="HY강B"/>
              </a:rPr>
              <a:t>가족복지의 주요 제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.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복지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3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플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골드플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고령자보건복지추진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0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개년 전략으로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989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도에 책정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1994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에 새로운 사회적인 상황 변화에 맞춰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新 골드 플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’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지금은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골드 플랜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21’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로 새로이 책정되어 시행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엔젤플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저 출산 가족형태 및 사회변화대비로 건전한 자녀 양육을 위해 마련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1999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新 엔젤 플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으로 새로 책정 시행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보육 서비스 등 자녀양육서비스의 충실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일과자녀 양육을 양립시킬 수 있는 고용환경 정비 등의 시책 개요로 시행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장애인 플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지역에서의 일상생활을 지원하기 위한 공공임대주택이나 그룹 홈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홈 헬퍼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케어 서비스 등을 대폭 확충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바닥글 개체 틀 3"/>
          <p:cNvSpPr/>
          <p:nvPr/>
        </p:nvSpPr>
        <p:spPr>
          <a:xfrm>
            <a:off x="14292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E494-0465-4999-B542-9053E16C9660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0"/>
                            </p:stCondLst>
                            <p:childTnLst>
                              <p:par>
                                <p:cTn id="7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57120" y="713880"/>
            <a:ext cx="72151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개호보험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공적 개호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介護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)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보험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가족 중심이었던 개호를 사회가 대신하는 보험제도로 시정촌이 보험의 주체가 되어 피보험자를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4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 이상으로 하고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65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 이상을 제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호 피보험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40-64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를 제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호 피보험자로 구분하여 시행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030a0"/>
                </a:solidFill>
                <a:latin typeface="HY강B"/>
                <a:ea typeface="HY강B"/>
              </a:rPr>
              <a:t>최근의 가족복지정책의 동향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복지정책에 초점을 맞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의 노후 소득보장과 의료보장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소득보장으로 연금제도 보편화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료보장은 의료보험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재가복지제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개호 보험 등 다양한 제도 마련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특히 개호보험은 일본의 노인복지의 시책의 특징 중 하나로 보호와 케어가 지속적으로 필요한 노인을 위한 시책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가족수당과 아동시책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가족수당의 차세대 부담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대간 재분배를 정책의의로 꼽고 있으며 노동력의 재생산이라는 관점 유지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아동보육은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7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대 말 저출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인구증가로 인한 인구 불균형에 대한 접근의 하나로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8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대 말 엔젤 플랜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Angel Plan)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 도입으로 강화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1BB4-092E-40A0-A482-22660139E0B8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제목 1" descr=""/>
          <p:cNvPicPr/>
          <p:nvPr/>
        </p:nvPicPr>
        <p:blipFill>
          <a:blip r:embed="rId1"/>
          <a:stretch/>
        </p:blipFill>
        <p:spPr>
          <a:xfrm>
            <a:off x="328680" y="281160"/>
            <a:ext cx="7419960" cy="8712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457200" y="135684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200" spc="-1" strike="noStrike">
                <a:solidFill>
                  <a:srgbClr val="7030a0"/>
                </a:solidFill>
                <a:latin typeface="HY강B"/>
                <a:ea typeface="HY강B"/>
              </a:rPr>
              <a:t>일본의 노인복지정책의 환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인구의 증가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적 부양의 감퇴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200" spc="-1" strike="noStrike">
                <a:solidFill>
                  <a:srgbClr val="7030a0"/>
                </a:solidFill>
                <a:latin typeface="HY강B"/>
                <a:ea typeface="HY강B"/>
              </a:rPr>
              <a:t>일본 노인복지정책의 자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196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6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월부터 표면화되어 왔던 고도경제성장정책이 가져온 폐허를 시정하기 위한 국가적 관심이 노인복지법의 추진으로 연결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복지에 관한 사항을 조사 심의 위해 후생성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都道府縣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도도부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)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시정촌 각 노인 복지심의회를 설치할 것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복지에 관한 전문요원으로 복지사무소에 노인복지사를 두게 하는 것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3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가정봉사원의 파견을 시정촌장이 의무적으로 해야 할 사무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4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 보양소를 설치하고 이것의 이용을 복지자치의 하나로 하고 있는 것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5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국가는 노인가정봉사원의 설치에 필요한 비용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1/20)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경비노인홈의 사무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8/10)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복지센터의 운영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1/20)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등에 대해서도 부담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681-3232-4885-AB36-24E77C504CD9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4000"/>
                            </p:stCondLst>
                            <p:childTnLst>
                              <p:par>
                                <p:cTn id="8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0"/>
                            </p:stCondLst>
                            <p:childTnLst>
                              <p:par>
                                <p:cTn id="8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000"/>
                            </p:stCondLst>
                            <p:childTnLst>
                              <p:par>
                                <p:cTn id="8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7000"/>
                            </p:stCondLst>
                            <p:childTnLst>
                              <p:par>
                                <p:cTn id="8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800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900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제목 1" descr=""/>
          <p:cNvPicPr/>
          <p:nvPr/>
        </p:nvPicPr>
        <p:blipFill>
          <a:blip r:embed="rId1"/>
          <a:stretch/>
        </p:blipFill>
        <p:spPr>
          <a:xfrm>
            <a:off x="334800" y="420840"/>
            <a:ext cx="7413840" cy="8715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57200" y="1653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보장의 역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생활보장수단으로서의 사회보장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적 보장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개인과 세대가 스스로의 책임으로 대응할 수 있는 것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개인과 세대가 본인의 소득에 근거한 저축 또는 보험 등과 같이 시장에서 조달하는 경우와 가족의 상부상조에 의해 조달하는 경우로 구분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 보장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국가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지방자치단체에 의한 대응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정부의 의한 세금이나 사회보험료를 재원으로 하는 것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보장의 기능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안전망 및 트램펄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소득재분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위험 분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의 안정 및 경제의 안정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성장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바닥글 개체 틀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A1D8-7C30-4AC2-BC9F-801F03FDD996}" type="slidenum">
              <a:rPr b="0" lang="ko-KR" sz="1100" spc="-1" strike="noStrike">
                <a:solidFill>
                  <a:srgbClr val="b13f9a"/>
                </a:solidFill>
                <a:latin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3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300"/>
                            </p:stCondLst>
                            <p:childTnLst>
                              <p:par>
                                <p:cTn id="8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300"/>
                            </p:stCondLst>
                            <p:childTnLst>
                              <p:par>
                                <p:cTn id="8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300"/>
                            </p:stCondLst>
                            <p:childTnLst>
                              <p:par>
                                <p:cTn id="8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6300"/>
                            </p:stCondLst>
                            <p:childTnLst>
                              <p:par>
                                <p:cTn id="8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7300"/>
                            </p:stCondLst>
                            <p:childTnLst>
                              <p:par>
                                <p:cTn id="9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300"/>
                            </p:stCondLst>
                            <p:childTnLst>
                              <p:par>
                                <p:cTn id="9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9300"/>
                            </p:stCondLst>
                            <p:childTnLst>
                              <p:par>
                                <p:cTn id="9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제목 1" descr=""/>
          <p:cNvPicPr/>
          <p:nvPr/>
        </p:nvPicPr>
        <p:blipFill>
          <a:blip r:embed="rId1"/>
          <a:stretch/>
        </p:blipFill>
        <p:spPr>
          <a:xfrm>
            <a:off x="304920" y="530280"/>
            <a:ext cx="7412040" cy="8715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428400" y="1714680"/>
            <a:ext cx="6972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일본 사회 복지의 문제점과 전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첫째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다종 다양 복잡하게 난립되어 있는 체계상의 문제와 그에 따른 각 제도간의 불균형발전을 들 수 있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즉 제도가 다양하게 분립되어 총합적인 연계가 결여되어 있으며 사회보장 비용의 지출비율과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그 급여의 수준에 있어서도 격차를 보이고 있어 장차 사회 보장제도의 체계적 정비가 당면한 중요 문제라 할 수 있음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둘째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회 보험 급여의 수준 향상과 그 재원조달의 문제이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일본의 경제 규모에 비해 사회 보장의 총액이나 급여 수준이 서구 선진국가에 비해 상대적으로 낮은 위치에 머물고 있어 이의 향상을 기할 필요가 있다고 본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高복지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高부담의 논의가 계속 되고 있으나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보험료의 인상보다는 국고부담의 대폭적인 증액이 전제되어야 할 것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바닥글 개체 틀 3"/>
          <p:cNvSpPr/>
          <p:nvPr/>
        </p:nvSpPr>
        <p:spPr>
          <a:xfrm>
            <a:off x="71280" y="642924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슬라이드 번호 개체 틀 5"/>
          <p:cNvSpPr/>
          <p:nvPr/>
        </p:nvSpPr>
        <p:spPr>
          <a:xfrm>
            <a:off x="8143920" y="64864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3C2D-9AD4-44D2-9170-9D53344CC0A1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300"/>
                            </p:stCondLst>
                            <p:childTnLst>
                              <p:par>
                                <p:cTn id="9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300"/>
                            </p:stCondLst>
                            <p:childTnLst>
                              <p:par>
                                <p:cTn id="9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300"/>
                            </p:stCondLst>
                            <p:childTnLst>
                              <p:par>
                                <p:cTn id="9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57200" y="785880"/>
            <a:ext cx="73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3) 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셋째</a:t>
            </a: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사회보장 급여의 효율화와 중점화 및 그 급여와 부담 면에 있어서의 사회적 공정 확보의 문제로 사회보장의 재원확보의 곤란과 더불어 장차 인구의 고령화에 다라 증가하는 사회보장 급여비의 조달 문제를 감안할 때 급여를 받아야 할 급여 대상의 실태에 따라 적절한 급여가 주어질 수 있도록 급여의 효율화와 중점화를 기해야 할 것이고 급여와 더불어 부담의 면에 있어서도 증대하는 비용 부담에 대응하여 부담능력과 수익이 부합되는 적절한 부담이 행해지도록 사회적 공정이 확보되어져야 할 것이다</a:t>
            </a: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4) 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넷째</a:t>
            </a: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사회보장의 행ㆍ재정에 있어 중앙과 지방자치단체의 한계성의 문제가 있다</a:t>
            </a: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일본은 대체로 중앙집권제가 강하여 사회보장의 행정 및 재정 면에 있어서도 그러한 경향을 보이고 있어 사회보장의 행ㆍ재정에 있어 사회복지 서비스등과 같이 지방자치제가 해야 할 역할과 중앙정부의 역할의 한계를 분명히 하여 지역 주민의 요구에 대응할 수 있게 지방자치제의 자주적 운영 하에 사회복지 서비스를 중심으로 지역 주민을 위한 사회보장시책을 전개해 나갈 필요가 있을 것이다</a:t>
            </a:r>
            <a:r>
              <a:rPr b="0" lang="en-US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.</a:t>
            </a:r>
            <a:r>
              <a:rPr b="0" lang="ko-KR" sz="2000" spc="-1" strike="noStrike">
                <a:solidFill>
                  <a:srgbClr val="7030a0"/>
                </a:solidFill>
                <a:latin typeface="HY그래픽"/>
                <a:ea typeface="HY그래픽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바닥글 개체 틀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F44-E2C9-4BBB-9793-3950BF440DEA}" type="slidenum">
              <a:rPr b="0" lang="ko-KR" sz="1100" spc="-1" strike="noStrike">
                <a:solidFill>
                  <a:srgbClr val="b13f9a"/>
                </a:solidFill>
                <a:latin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바닥글 개체 틀 1"/>
          <p:cNvSpPr/>
          <p:nvPr/>
        </p:nvSpPr>
        <p:spPr>
          <a:xfrm>
            <a:off x="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슬라이드 번호 개체 틀 6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F445-1073-48B5-B9E5-6624138AE66D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8" name="제목 1" descr=""/>
          <p:cNvPicPr/>
          <p:nvPr/>
        </p:nvPicPr>
        <p:blipFill>
          <a:blip r:embed="rId1"/>
          <a:stretch/>
        </p:blipFill>
        <p:spPr>
          <a:xfrm>
            <a:off x="165240" y="390600"/>
            <a:ext cx="7613640" cy="815760"/>
          </a:xfrm>
          <a:prstGeom prst="rect">
            <a:avLst/>
          </a:prstGeom>
          <a:ln w="0">
            <a:noFill/>
          </a:ln>
        </p:spPr>
      </p:pic>
      <p:sp>
        <p:nvSpPr>
          <p:cNvPr id="579" name="내용 개체 틀 2"/>
          <p:cNvSpPr/>
          <p:nvPr/>
        </p:nvSpPr>
        <p:spPr>
          <a:xfrm>
            <a:off x="285840" y="1428840"/>
            <a:ext cx="7572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1897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년 내무성에 구호과 설치 이래 사회국으로 승격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-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빈민구호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군사구호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실업구제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아동보호 및 기타 사회사업 시작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일본의 사회복지는 제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1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차 세계 대전 이후 쌀소동에서 비롯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사회복지의 기반 제도는 전후 혼란기에 있어서 응급적인 행정수도의 구조로부터 국민 자립의식의 고양에 부응하는 것으로의 전환으로 행하고 있음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전환의 개정 내용으로는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이용자의 입장에선 사회 복지제도의 구축 및 서비스 질 향상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사회복지사업의 충실과 활성화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지역복지의 추진 등이 있음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시대적 상황을 고려하여 초창기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사회복지 확장기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전환기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개혁기로 구분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  <a:ea typeface="HY그래픽M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28760" y="1499760"/>
            <a:ext cx="72388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일본의 경제적 침체나 고령화 등 여러 문제 등이 바로 우리나라의 미래의 모습이라고 보는 사람들을 종종 볼 수 있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그러나 아시아에서 유일하게 선진적인 사회복지체계를 갖고 있으며 비교적 만족스러운 복지체계를 갖고 있는 나라가 일본이라  말 할 수 있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우리나라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G20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회원국 중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03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65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살 이상 노인인구 비율에서 한국은 일본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독일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이탈리아에 이어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4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위가 될 것으로 예측된 만큼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우리나라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령화에 따른 정책을 모색해야 할 것이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프랑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스웨덴은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세기에 이미 고령화가 시작됐지만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0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넘게 건재하며 현재 출산율은 우리보다 훨씬 높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프랑스는 한때 출산율 하락을 겪었으나 출산 및 양육을 국가 책임으로 인식하고 공공보육 지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출산휴가 연장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가족수당 지급 등 획기적 정책으로 반전에 성공한 것을 거울삼아 우리도 나라의 틀을 근본적으로 바꾸지 않으면 안 된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바닥글 개체 틀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38B0-72F4-46D8-8240-8A1C178104F8}" type="slidenum">
              <a:rPr b="0" lang="ko-KR" sz="1100" spc="-1" strike="noStrike">
                <a:solidFill>
                  <a:srgbClr val="b13f9a"/>
                </a:solidFill>
                <a:latin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6" name="제목 1" descr=""/>
          <p:cNvPicPr/>
          <p:nvPr/>
        </p:nvPicPr>
        <p:blipFill>
          <a:blip r:embed="rId1"/>
          <a:stretch/>
        </p:blipFill>
        <p:spPr>
          <a:xfrm>
            <a:off x="328680" y="291960"/>
            <a:ext cx="7419960" cy="927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77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6" dur="770" fill="hold"/>
                                        <p:tgtEl>
                                          <p:spTgt spid="6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8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0" dur="77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9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일본의 경우는 경제적 합리주의라는 것이 무엇보다도 큰 가치로 자리잡고 있는 것 같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하지만 우리는 사회복지가 소비가 아니라 하나의 투자라는 것을 염두에 두고 따라서 지나친 경제적 효율이 추구되어서는 안 된다는 인식을 할 필요가 있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우리가 사회복지를 잘 발전시켜 나가는 데에 있어서 무엇보다도 중요한 것은 정부의 올바른 방향설정과 그에 어울리는 국민의 복지의식이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이에 우리는 일본의 복지를 연구하고 문제점을 바로 잡고 제대로 된 사회복지 정책만을 받아들인다면 우리나라도 복지 선진국에 들어서는 길이 멀지 않다고 본다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바닥글 개체 틀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8033-5B63-48DD-91D4-FEF9F38DE5D0}" type="slidenum">
              <a:rPr b="0" lang="ko-KR" sz="1100" spc="-1" strike="noStrike">
                <a:solidFill>
                  <a:srgbClr val="b13f9a"/>
                </a:solidFill>
                <a:latin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0" name="제목 1" descr=""/>
          <p:cNvPicPr/>
          <p:nvPr/>
        </p:nvPicPr>
        <p:blipFill>
          <a:blip r:embed="rId1"/>
          <a:stretch/>
        </p:blipFill>
        <p:spPr>
          <a:xfrm>
            <a:off x="298440" y="542880"/>
            <a:ext cx="7418520" cy="85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6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2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1" dur="2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20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바닥글 개체 틀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AAA-9700-4557-A2E9-3DBC25E23207}" type="slidenum">
              <a:rPr b="0" lang="ko-KR" sz="1100" spc="-1" strike="noStrike">
                <a:solidFill>
                  <a:srgbClr val="b13f9a"/>
                </a:solidFill>
                <a:latin typeface="굴림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3" name="제목 1" descr=""/>
          <p:cNvPicPr/>
          <p:nvPr/>
        </p:nvPicPr>
        <p:blipFill>
          <a:blip r:embed="rId1"/>
          <a:stretch/>
        </p:blipFill>
        <p:spPr>
          <a:xfrm>
            <a:off x="328680" y="291960"/>
            <a:ext cx="7419960" cy="8604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 txBox="1"/>
          <p:nvPr/>
        </p:nvSpPr>
        <p:spPr>
          <a:xfrm>
            <a:off x="457200" y="1609200"/>
            <a:ext cx="723888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사회복지 역사와 철학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학지사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함세남 김근홍 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사회복지 역사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학지사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일본의 사회복지 논쟁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세종출판사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현대사회복지개론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김만두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사회복지개론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전재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일본 노인복지제도의 변화와 개호보험 제도⌟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양철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고령사회와 노인복지의 과제”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아시아미디어리서치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일본의 고령자 보건 복지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학지사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일본 전국 사회복지협의회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최근 일본의 사회복지 동향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한국노인문제연구소편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외국의 노인복지 정책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” </a:t>
            </a:r>
            <a:r>
              <a:rPr b="0" lang="ko-KR" sz="2000" spc="-1" strike="noStrike">
                <a:solidFill>
                  <a:srgbClr val="000000"/>
                </a:solidFill>
                <a:latin typeface="Trebuchet MS"/>
              </a:rPr>
              <a:t>동인출판사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바닥글 개체 틀 3"/>
          <p:cNvSpPr/>
          <p:nvPr/>
        </p:nvSpPr>
        <p:spPr>
          <a:xfrm>
            <a:off x="0" y="64864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슬라이드 번호 개체 틀 4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C9DE-709E-45E0-A819-07364AFFE93A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500040" y="1571400"/>
            <a:ext cx="68580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   </a:t>
            </a:r>
            <a:r>
              <a:rPr b="0" lang="ko-KR" sz="2400" spc="-1" strike="noStrike">
                <a:solidFill>
                  <a:srgbClr val="000000"/>
                </a:solidFill>
                <a:latin typeface="HY강B"/>
                <a:ea typeface="HY강B"/>
              </a:rPr>
              <a:t>빈민 대상으로 한 제한적 구빈정책 시행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03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전국자선대회 개최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오사카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08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중앙자선협회발족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2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감화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회방위목적 및 불량청소년에 대한 보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2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직업 소개소 법 등이 제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2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본격적인 구호법 제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구호대상은 제한적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37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모자보건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군사 부조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4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료보호법 제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3" name="제목 1" descr=""/>
          <p:cNvPicPr/>
          <p:nvPr/>
        </p:nvPicPr>
        <p:blipFill>
          <a:blip r:embed="rId1"/>
          <a:stretch/>
        </p:blipFill>
        <p:spPr>
          <a:xfrm>
            <a:off x="139680" y="444600"/>
            <a:ext cx="7980480" cy="834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7 0.075 -0.08267 0.125 -0.08267 C 0.175 -0.08267 0.22 -0.05067 0.25 0 C 0.22 0.05067 0.175 0.08267 0.125 0.08267 C 0.075 0.08267 0.03 0.05067 0 0 Z">
                                      <p:cBhvr>
                                        <p:cTn id="58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제목 1" descr=""/>
          <p:cNvPicPr/>
          <p:nvPr/>
        </p:nvPicPr>
        <p:blipFill>
          <a:blip r:embed="rId1"/>
          <a:stretch/>
        </p:blipFill>
        <p:spPr>
          <a:xfrm>
            <a:off x="426960" y="444600"/>
            <a:ext cx="7491600" cy="834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304560" y="1553760"/>
            <a:ext cx="755316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50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46-1950 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미군정기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차 세계대전 패전으로 초토화된 일본의 기아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전재민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매춘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귀환자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부랑인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상해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장애인 등 생활곤궁자의 보호</a:t>
            </a:r>
            <a:r>
              <a:rPr b="0" lang="en-US" sz="20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강B"/>
                <a:ea typeface="HY강B"/>
              </a:rPr>
              <a:t>전쟁고아 및 장애인의 구제에 초점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46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구생활보장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47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아동복지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4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신체장애자복지법의 제정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=&gt;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평등의 원칙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공적 책임의 원칙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구제비 비 제한의 원칙이 설정됨으로써 소위 복지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3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법이 성립됨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정부주도형의 사회 복지 체계 정착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5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일본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회보험 중심으로 크게 전환하게 되어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직영보험의 확충으로 이루어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바닥글 개체 틀 3"/>
          <p:cNvSpPr/>
          <p:nvPr/>
        </p:nvSpPr>
        <p:spPr>
          <a:xfrm>
            <a:off x="5724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B6B6-8909-48A9-B80A-B095B0B8C89B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642600"/>
            <a:ext cx="7400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HY강M"/>
                <a:ea typeface="HY강M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60</a:t>
            </a:r>
            <a:r>
              <a:rPr b="0" lang="ko-KR" sz="26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지방화 시대의 지향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사회복지 제도 및 </a:t>
            </a:r>
            <a:r>
              <a:rPr b="0" lang="en-US" sz="2400" spc="-1" strike="noStrike">
                <a:solidFill>
                  <a:srgbClr val="000000"/>
                </a:solidFill>
                <a:latin typeface="HY강M"/>
                <a:ea typeface="HY강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취급대상 확대</a:t>
            </a:r>
            <a:r>
              <a:rPr b="0" lang="en-US" sz="2400" spc="-1" strike="noStrike">
                <a:solidFill>
                  <a:srgbClr val="000000"/>
                </a:solidFill>
                <a:latin typeface="HY강M"/>
                <a:ea typeface="HY강M"/>
              </a:rPr>
              <a:t>.  </a:t>
            </a: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민간 협력</a:t>
            </a:r>
            <a:r>
              <a:rPr b="0" lang="en-US" sz="2400" spc="-1" strike="noStrike">
                <a:solidFill>
                  <a:srgbClr val="000000"/>
                </a:solidFill>
                <a:latin typeface="HY강M"/>
                <a:ea typeface="HY강M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참가를 불가결한 것으로 인정</a:t>
            </a:r>
            <a:r>
              <a:rPr b="0" lang="en-US" sz="2400" spc="-1" strike="noStrike">
                <a:solidFill>
                  <a:srgbClr val="000000"/>
                </a:solidFill>
                <a:latin typeface="HY강M"/>
                <a:ea typeface="HY강M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HY강M"/>
                <a:ea typeface="HY강M"/>
              </a:rPr>
              <a:t>공사기능분담의 재검토 요구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다수의 지방에서 소위 혁신 자치제가 등장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–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사회복지시책을 단독사업으로 시행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-&gt;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지방시대의 시작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국민 소득배증 계획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1960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 이케다 내각이 제시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에 의하여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10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여 동안 급속한 고도경제성장 달성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농촌생활붕괴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인구도시집중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주택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핵가족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정신장애인의 가족 증가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고령자문제등 사회문제 속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이런 사회문제에 대한 국가적 방안으로 이전의 복지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3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법에 정신박약자복지법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1960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노인복지법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1963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, 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모자복지법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1964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이 추가되어 복지 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6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법의 체제가 정비됨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1969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년 공해에 관련되는 건강 피해의 구제에 관한 특별조치법 등  제정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바닥글 개체 틀 3"/>
          <p:cNvSpPr/>
          <p:nvPr/>
        </p:nvSpPr>
        <p:spPr>
          <a:xfrm>
            <a:off x="7128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슬라이드 번호 개체 틀 5"/>
          <p:cNvSpPr/>
          <p:nvPr/>
        </p:nvSpPr>
        <p:spPr>
          <a:xfrm>
            <a:off x="814392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434-C9E6-4764-AE44-51DEA6066C8D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85840" y="1428480"/>
            <a:ext cx="7410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 서비스의 변화와 재가 복지 전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973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복지원년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이라 불리어질 만큼 고도로 성장하여 복지 서비스 무료화를 시도하려 하였지만 오일쇼크로 인해 복지 수정이 주장되면서 일본형 복지국가론이 주장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973-74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 오일쇼크로 인한 재정위기는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복지 재평가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’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로 복지억제정책으로 전환하는 계기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975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대 전기 경제 계획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복지 수준의 향상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 연대에 기초한 커뮤니티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케어 추진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재가복지 서비스의 중점화 등이 명분화 됨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1979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년 사회복지 시설의 증설과 운영의 한도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거택생활을 한 복지서비스 모색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회복지에 대한 재정 대폭 삭감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행정기구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사무의 간소화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효율화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민영화를 단행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200" spc="-1" strike="noStrike">
                <a:solidFill>
                  <a:srgbClr val="7030a0"/>
                </a:solidFill>
                <a:latin typeface="Trebuchet MS"/>
              </a:rPr>
              <a:t>일본형 복지사회를 보여줌</a:t>
            </a:r>
            <a:r>
              <a:rPr b="0" lang="en-US" sz="22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022-B7E7-4AE3-AD23-0A1FB1FFF45C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4" name="제목 1" descr=""/>
          <p:cNvPicPr/>
          <p:nvPr/>
        </p:nvPicPr>
        <p:blipFill>
          <a:blip r:embed="rId1"/>
          <a:stretch/>
        </p:blipFill>
        <p:spPr>
          <a:xfrm>
            <a:off x="298440" y="469800"/>
            <a:ext cx="7480440" cy="89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제목 1" descr=""/>
          <p:cNvPicPr/>
          <p:nvPr/>
        </p:nvPicPr>
        <p:blipFill>
          <a:blip r:embed="rId1"/>
          <a:stretch/>
        </p:blipFill>
        <p:spPr>
          <a:xfrm>
            <a:off x="281160" y="469800"/>
            <a:ext cx="7435800" cy="8953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85840" y="1500120"/>
            <a:ext cx="75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제도개혁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중심의 사회복지로</a:t>
            </a:r>
            <a:r>
              <a:rPr b="0" lang="en-US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재가 복지 강조 및 활성화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복지재정축소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지방자치 단체의 부담을 가중시켜 시설복지전개를 어렵게 만듦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재가복지 서비스의 전략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재가복지의 서비스의 체계화 및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민간단체 역할의 중요성을 지적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지방 공공단체의 역할 강조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. 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재가 복지의 중요성 인식 강조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1983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년 노년층을 위한 건강 의료 서비스 법 제정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1989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년 시정촌의 관계권한 이관되어 재가복지 강조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–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복지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보건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의료의 연대강화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복지 종사자의 양성 확보 등 복지 정보 제고의 정비 제안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고령화 보건복지증진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10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년 전략 책정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: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재가복지의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3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핵심 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홈헬퍼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단기보호</a:t>
            </a:r>
            <a:r>
              <a:rPr b="0" lang="en-US" sz="21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100" spc="-1" strike="noStrike">
                <a:solidFill>
                  <a:srgbClr val="7030a0"/>
                </a:solidFill>
                <a:latin typeface="Trebuchet MS"/>
              </a:rPr>
              <a:t>데이터서비스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바닥글 개체 틀 3"/>
          <p:cNvSpPr/>
          <p:nvPr/>
        </p:nvSpPr>
        <p:spPr>
          <a:xfrm>
            <a:off x="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슬라이드 번호 개체 틀 5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F57-FD30-4E42-9FDE-5F3C7129606E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71388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령화 보건복지증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전략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: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령화 사회의 진전으로 인한 노인 복지 중심 발달 즉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골드플랜의 실현을 위한 개혁 역시 시정촌을 중심으로 추진 실시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9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에는 사회복지 패러다임 전환을 상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분권화와 지역화로 발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공급자 중심에서 이용자 중심의 사회복지 즉 정상화로 전환하는 것을 주요 내용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9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“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 복지법 등 일부를 개정하는 법률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”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제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복지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5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법외에 사회복지사업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노인보건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회복지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료 사업단 법이 포함되어 복지 관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8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법 개정이 이루어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이 법률 개정은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8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확대된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‘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고령화 보건복지증진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0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전략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’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의 실현을 위해 개혁 단행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8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법 개정은 특히 네 가지점을 주목할 수 있는데 사회복지사업의 기본적 이념의 명문화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주택복지의 법정화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그리고 시정촌을 중심으로 하는 총합적 복지추진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계획적 복지행정의 전개라는 점에 주목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99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개호보험실시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엄청난 노인보건비를 감당하지 못함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바닥글 개체 틀 3"/>
          <p:cNvSpPr/>
          <p:nvPr/>
        </p:nvSpPr>
        <p:spPr>
          <a:xfrm>
            <a:off x="14292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슬라이드 번호 개체 틀 8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D470-18C5-41C3-BD07-AC15364615D8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예방사업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(</a:t>
            </a:r>
            <a:r>
              <a:rPr b="0" lang="ko-KR" sz="2400" spc="-1" strike="noStrike">
                <a:solidFill>
                  <a:srgbClr val="7030a0"/>
                </a:solidFill>
                <a:latin typeface="Trebuchet MS"/>
              </a:rPr>
              <a:t>방빈사업</a:t>
            </a:r>
            <a:r>
              <a:rPr b="0" lang="en-US" sz="2400" spc="-1" strike="noStrike">
                <a:solidFill>
                  <a:srgbClr val="7030a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.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연금보험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1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후생연금보험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1942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노동자연금보험으로 시작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1944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노동자와 유족의 노령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장애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사망의 사고에 대비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2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국민연금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자영업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농림어업 종사자와 피용자를 적용대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1959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제정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1961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전 국민 연금 체제 실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3)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공제조합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공무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교직원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농림단체직원을 대상으로 한 상호 부조와 후생복지사업을 목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-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퇴직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장애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, 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유족을 위한 급여제도가 마련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7030a0"/>
                </a:solidFill>
                <a:latin typeface="Trebuchet MS"/>
              </a:rPr>
              <a:t>4) 1985</a:t>
            </a:r>
            <a:r>
              <a:rPr b="0" lang="ko-KR" sz="2000" spc="-1" strike="noStrike">
                <a:solidFill>
                  <a:srgbClr val="7030a0"/>
                </a:solidFill>
                <a:latin typeface="Trebuchet MS"/>
              </a:rPr>
              <a:t>년 연금 개혁 실시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바닥글 개체 틀 3"/>
          <p:cNvSpPr/>
          <p:nvPr/>
        </p:nvSpPr>
        <p:spPr>
          <a:xfrm>
            <a:off x="71280" y="650088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3f9a"/>
                </a:solidFill>
                <a:latin typeface="굴림"/>
              </a:rPr>
              <a:t>현대사회 일본의 사회복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슬라이드 번호 개체 틀 9"/>
          <p:cNvSpPr/>
          <p:nvPr/>
        </p:nvSpPr>
        <p:spPr>
          <a:xfrm>
            <a:off x="8215200" y="650088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6BD5-4B7D-481B-9DA0-F3C3DF945C8D}" type="slidenum">
              <a:rPr b="0" lang="ko-KR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5" name="제목 1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7412040" cy="87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26:15Z</dcterms:created>
  <dc:creator>TG</dc:creator>
  <dc:description/>
  <dc:language>en-US</dc:language>
  <cp:lastModifiedBy>TG</cp:lastModifiedBy>
  <dcterms:modified xsi:type="dcterms:W3CDTF">2010-06-02T14:05:11Z</dcterms:modified>
  <cp:revision>111</cp:revision>
  <dc:subject/>
  <dc:title>현대 사회 일본의 사회복지</dc:title>
</cp:coreProperties>
</file>