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88D0-9B61-44AE-9581-4C5587B6B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81080" y="60948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762120" y="42793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FB97-FD84-4959-A22E-571FDFCE8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81080" y="60948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4800" y="22093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62120" y="42793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4800" y="42793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868A-2471-4B13-AAFA-3F61FF4A2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81080" y="60948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90120" y="22093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17760" y="22093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762120" y="42793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90120" y="42793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17760" y="42793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A33A-AB73-4396-BD4E-9A367976A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81080" y="60948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762120" y="22093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6E8A-BE3F-4799-A143-C9E50D946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81080" y="60948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49E7-1DBF-4192-9C2C-D2B9D3F69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81080" y="60948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4800" y="22093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8FEF-E862-452E-BEA2-C8B216642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81080" y="60948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B4FA-18FC-4450-A157-4601ECAD2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981080" y="609480"/>
            <a:ext cx="6477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8B86-F7DC-4107-8034-5AA947A36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81080" y="60948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4800" y="22093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62120" y="42793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D3CF-341E-4251-BAEB-F5AB332E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81080" y="60948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22093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4800" y="42793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EAF8-33BC-4330-AE43-854D7FED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81080" y="60948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22093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2793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04EC-710A-43F1-814C-820795F6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81080" y="60948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209320"/>
            <a:ext cx="7772400" cy="39625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333399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7B3A7-041D-48EA-A1E9-76A84C535F6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1095480" y="1025640"/>
            <a:ext cx="43812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1477800" y="102564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1219320" y="1447920"/>
            <a:ext cx="422280" cy="4744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1589040" y="144792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677880" y="1374840"/>
            <a:ext cx="560520" cy="4222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1447920" y="990720"/>
            <a:ext cx="31680" cy="10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1066680" y="1676520"/>
            <a:ext cx="7148520" cy="759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80720" y="68544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SONY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의 디지털 경영</a:t>
            </a:r>
            <a:endParaRPr b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4495680"/>
            <a:ext cx="4876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MD개성체"/>
                <a:ea typeface="MD개성체"/>
              </a:rPr>
              <a:t>홍익대학교 전자전기공학부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MD개성체"/>
                <a:ea typeface="MD개성체"/>
              </a:rPr>
              <a:t>최치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MD개성체"/>
                <a:ea typeface="MD개성체"/>
              </a:rPr>
              <a:t>이동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81080" y="60948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SONY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기업소개  </a:t>
            </a:r>
            <a:endParaRPr b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772400" cy="39625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3399ff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본의 전자기기 제조회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 algn="just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46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 이부카 마사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[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井深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]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의 기술자들이 세운 도쿄통신공업이 전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1958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 현재의 상호로 변경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 algn="just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본의 다른 대기업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즉 미쓰비시나 미쓰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스미토모 같은 회사와는 달리 전후에 만들어진 신생기업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그럼에도 일본국내에서는 첨단기술이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요구되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라디오 같은 음향기기들을 만들어내는 지금 개념에서의 벤처회사로 출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 algn="just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그 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여 년간 끊임없는 독창적인 기술개발과 함께 세계화 전략을 추구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세계적인 유수의 기업들 중에서는 상당히 짧은 역사를 갖고 있음에도 전 세계 전자업계에서 독보적인 존재로 성장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81080" y="60948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SONY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의 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의 탄생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772400" cy="39625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333399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199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년 제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창업기의 사장으로 이데이 발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업전체의 디지털화에 역량 집중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류 시스템의 네트워크 구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경영혁신의 시도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수직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수평적 네트워크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컴퍼니제도 도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의사결정 구조의 혁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81080" y="60948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COMPANY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제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1)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772400" cy="39625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333399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994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월 기존 사업부를 하나의  회사로 간주하는 사내분사제도를 실시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독립된 회사처럼 경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본사기능축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, 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실무적 결정을 사내분사로 위임 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시스템 엄격히 적용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권한과 책임을 동시에 갖는 경영으로 유도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.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대기업의 고질적 문제인 “같은 식구끼리 봐주기” 가 사라짐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사내분사의 최고 책임자에게 개발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생산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판매에 이르는 모든 책임을 지게 함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.  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81080" y="60948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COMPANY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제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772400" cy="39625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333399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컴퍼니 제도의 개혁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br>
              <a:rPr sz="2000"/>
            </a:b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1).1996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개였던 컴퍼니를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개로 재편성</a:t>
            </a:r>
            <a:br>
              <a:rPr sz="2000"/>
            </a:b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- AV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컴퍼니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Information technology </a:t>
            </a:r>
            <a:br>
              <a:rPr sz="2000"/>
            </a:b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    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컴퍼니 생김</a:t>
            </a:r>
            <a:br>
              <a:rPr sz="2000"/>
            </a:b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2).1999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월 대폭적인 기구 개혁을 단행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 </a:t>
            </a:r>
            <a:br>
              <a:rPr sz="2000"/>
            </a:b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개별 제품이 아닌 제품군에 따라 조직을 재편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br>
              <a:rPr sz="2000"/>
            </a:b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).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버추얼 컴퍼니의 도입 – 어느 특정 컴퍼니에게 맡기기에는 적절치 않은 ‘중간영역’에 존재하면서 여러 컴퍼니의 협조로 일을 진행할 수 있는 중간 지대의 임시 컴퍼니를 만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전사적이면서 임시적인 프로젝트로 기존 조직에 강력한 영향력 발휘하면서 상당한 성과를 거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81080" y="60948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니의 물류전략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1)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772400" cy="39625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333399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소니의 국내 물류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SLC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 국제 물류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SLC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의 분사조직인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SGL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이 담당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SGL(Sony Global Logistics)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는 국제 물류 거점으로부터 부품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반제품의 조달과 고개 기업에 대한 제품의 수출물류 담당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SCL(Sony Logistics Corp.)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은 공급연쇄관리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SCM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의 실현을 위해 소니 그룹의 물류전략기획 및 물류거점 관리까지 총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세계 각 지역 물류의 연계체제구축 및 네트워크화를 통한 효율화 도모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물류비 절감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리드타임 단축도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81080" y="60948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니의 물류전략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772400" cy="39625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333399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SLC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 물류업체 선정 시 가장 중요시 하는 요소</a:t>
            </a:r>
            <a:br>
              <a:rPr sz="2400"/>
            </a:b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확실하고 정확한 문전서비스 제공</a:t>
            </a:r>
            <a:br>
              <a:rPr sz="2400"/>
            </a:b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효율적 화물추적 기능</a:t>
            </a:r>
            <a:br>
              <a:rPr sz="2400"/>
            </a:b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정확한 서류의 처리</a:t>
            </a:r>
            <a:br>
              <a:rPr sz="2400"/>
            </a:b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향상된 고객서비스와 맞춤 서비스 제공 능력</a:t>
            </a:r>
            <a:br>
              <a:rPr sz="2400"/>
            </a:b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부가가치 서비스 제공능력</a:t>
            </a:r>
            <a:br>
              <a:rPr sz="2400"/>
            </a:b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글로벌 네트워크 구축 여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물류서비스의 품질을 소니 제품의 일부라고 규정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물류업체 선정에 최대한 신중을 기함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궁극적으로 세계 각 생산 및 판매거점과 고객을 연결하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SCM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체제 구축을 추진중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81080" y="60948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772400" cy="39625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333399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txBody>
          <a:bodyPr lIns="109080" rIns="109080" tIns="65880" bIns="65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9T15:59:29Z</dcterms:created>
  <dc:creator>이동주</dc:creator>
  <dc:description/>
  <dc:language>en-US</dc:language>
  <cp:lastModifiedBy>이동주</cp:lastModifiedBy>
  <dcterms:modified xsi:type="dcterms:W3CDTF">2004-05-09T16:26:00Z</dcterms:modified>
  <cp:revision>2</cp:revision>
  <dc:subject/>
  <dc:title>SONY 의 디지털 경영</dc:title>
</cp:coreProperties>
</file>