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C8F3-A1F9-4609-B929-C45F8223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1D4D-76A8-43A0-B6B3-B7F0A5C1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441A-7DB0-4A54-9DC5-61C2351F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C6E6-77A2-426F-96C2-32A7EA18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C29B-6A7F-43DF-B30D-BE2FAB5E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3F1B-4340-4AF4-9D3A-35DDE439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5295-921C-4D3D-9F84-DC6CEDC2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643A-A2D3-4653-BBAD-07C6393F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FFE4-DE87-4BEA-BE14-D5A8460B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8401-FA1F-4417-A476-A965430C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A936-415D-4E0B-816B-3649E1A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BD07-DC44-435A-9EC2-C9CDD533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A96B-8985-43D0-80B1-0B32D908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4334-8706-49EE-8573-8050DBE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EC86-EF60-4041-A1F2-CBE75210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51CC-92F4-4679-9D11-FD4DE1DD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28CF-AA9A-488E-9509-B1E7E259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568E-951C-45F2-8EE3-69B2F7BE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E51B-A5EC-4883-8E09-08618746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4E60-3F9B-445F-A557-655F74E7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064E-8F0A-4B9B-8B80-9543CAF1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F0B7-71A0-41F7-B009-4221C12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1B02-6CF7-4231-8E68-8B11A54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B144-F1EC-47A4-B2C8-F820116D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48C0-04FA-4AA7-B049-183E01A9E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39C9-8622-4885-A6B9-F58343525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28800"/>
            <a:ext cx="6723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Observer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8920" y="4267080"/>
            <a:ext cx="881244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굴림"/>
              </a:rPr>
              <a:t>시스템 구조도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 ObserverSyst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762280" y="1981080"/>
            <a:ext cx="359892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bserver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071720" y="5072040"/>
            <a:ext cx="125856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환경설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4357800" y="5072040"/>
            <a:ext cx="125892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사진관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6929280" y="5072040"/>
            <a:ext cx="125892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침입자감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3" name="AutoShape 18"/>
          <p:cNvCxnSpPr>
            <a:stCxn id="114" idx="2"/>
            <a:endCxn id="110" idx="0"/>
          </p:cNvCxnSpPr>
          <p:nvPr/>
        </p:nvCxnSpPr>
        <p:spPr>
          <a:xfrm flipH="1">
            <a:off x="1699920" y="2801880"/>
            <a:ext cx="1588320" cy="22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19"/>
          <p:cNvSpPr/>
          <p:nvPr/>
        </p:nvSpPr>
        <p:spPr>
          <a:xfrm>
            <a:off x="3143160" y="2513160"/>
            <a:ext cx="289080" cy="28872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5" name="AutoShape 20"/>
          <p:cNvCxnSpPr>
            <a:stCxn id="114" idx="2"/>
            <a:endCxn id="111" idx="0"/>
          </p:cNvCxnSpPr>
          <p:nvPr/>
        </p:nvCxnSpPr>
        <p:spPr>
          <a:xfrm>
            <a:off x="3287880" y="2801880"/>
            <a:ext cx="1699200" cy="22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23"/>
          <p:cNvCxnSpPr>
            <a:stCxn id="109" idx="2"/>
            <a:endCxn id="112" idx="0"/>
          </p:cNvCxnSpPr>
          <p:nvPr/>
        </p:nvCxnSpPr>
        <p:spPr>
          <a:xfrm>
            <a:off x="4561560" y="2521080"/>
            <a:ext cx="2997720" cy="25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경설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828960" y="1268280"/>
            <a:ext cx="146376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환경설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AutoShape 17"/>
          <p:cNvCxnSpPr>
            <a:stCxn id="120" idx="2"/>
            <a:endCxn id="121" idx="0"/>
          </p:cNvCxnSpPr>
          <p:nvPr/>
        </p:nvCxnSpPr>
        <p:spPr>
          <a:xfrm flipH="1">
            <a:off x="1356480" y="2106720"/>
            <a:ext cx="320436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18"/>
          <p:cNvSpPr/>
          <p:nvPr/>
        </p:nvSpPr>
        <p:spPr>
          <a:xfrm>
            <a:off x="4416480" y="1817640"/>
            <a:ext cx="288720" cy="28908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2" name="AutoShape 19"/>
          <p:cNvCxnSpPr>
            <a:stCxn id="120" idx="2"/>
            <a:endCxn id="123" idx="0"/>
          </p:cNvCxnSpPr>
          <p:nvPr/>
        </p:nvCxnSpPr>
        <p:spPr>
          <a:xfrm flipH="1">
            <a:off x="3499920" y="2106720"/>
            <a:ext cx="10612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20"/>
          <p:cNvCxnSpPr>
            <a:stCxn id="120" idx="2"/>
            <a:endCxn id="125" idx="0"/>
          </p:cNvCxnSpPr>
          <p:nvPr/>
        </p:nvCxnSpPr>
        <p:spPr>
          <a:xfrm>
            <a:off x="4560840" y="2106720"/>
            <a:ext cx="11548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>
            <a:stCxn id="120" idx="2"/>
            <a:endCxn id="127" idx="0"/>
          </p:cNvCxnSpPr>
          <p:nvPr/>
        </p:nvCxnSpPr>
        <p:spPr>
          <a:xfrm>
            <a:off x="4560840" y="2106720"/>
            <a:ext cx="3369600" cy="178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13"/>
          <p:cNvSpPr/>
          <p:nvPr/>
        </p:nvSpPr>
        <p:spPr>
          <a:xfrm>
            <a:off x="642960" y="3857760"/>
            <a:ext cx="14288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전화번호설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2786040" y="3857760"/>
            <a:ext cx="14288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감시시간설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5000760" y="3857760"/>
            <a:ext cx="142848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촬영주기설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7215120" y="3889440"/>
            <a:ext cx="14288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비밀번호설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7203960" y="5389560"/>
            <a:ext cx="1439640" cy="539280"/>
            <a:chOff x="7203960" y="5389560"/>
            <a:chExt cx="1439640" cy="539280"/>
          </a:xfrm>
        </p:grpSpPr>
        <p:sp>
          <p:nvSpPr>
            <p:cNvPr id="129" name="Rectangle 11"/>
            <p:cNvSpPr/>
            <p:nvPr/>
          </p:nvSpPr>
          <p:spPr>
            <a:xfrm>
              <a:off x="7205040" y="5394240"/>
              <a:ext cx="1438560" cy="53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7301880" y="5394240"/>
              <a:ext cx="0" cy="53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8559360" y="5394240"/>
              <a:ext cx="0" cy="53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7203960" y="5389560"/>
              <a:ext cx="14382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오류 메시지 출력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cxnSp>
        <p:nvCxnSpPr>
          <p:cNvPr id="133" name="AutoShape 30"/>
          <p:cNvCxnSpPr>
            <a:stCxn id="127" idx="2"/>
            <a:endCxn id="132" idx="0"/>
          </p:cNvCxnSpPr>
          <p:nvPr/>
        </p:nvCxnSpPr>
        <p:spPr>
          <a:xfrm flipH="1">
            <a:off x="7922880" y="4429080"/>
            <a:ext cx="72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4" name="Group 32"/>
          <p:cNvGrpSpPr/>
          <p:nvPr/>
        </p:nvGrpSpPr>
        <p:grpSpPr>
          <a:xfrm>
            <a:off x="7756560" y="4689360"/>
            <a:ext cx="72720" cy="360360"/>
            <a:chOff x="7756560" y="4689360"/>
            <a:chExt cx="72720" cy="360360"/>
          </a:xfrm>
        </p:grpSpPr>
        <p:sp>
          <p:nvSpPr>
            <p:cNvPr id="135" name="Oval 33"/>
            <p:cNvSpPr/>
            <p:nvPr/>
          </p:nvSpPr>
          <p:spPr>
            <a:xfrm rot="5400000">
              <a:off x="7756200" y="4689360"/>
              <a:ext cx="7308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Line 34"/>
            <p:cNvSpPr/>
            <p:nvPr/>
          </p:nvSpPr>
          <p:spPr>
            <a:xfrm>
              <a:off x="7794360" y="47624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7" name="Text Box 62"/>
          <p:cNvSpPr/>
          <p:nvPr/>
        </p:nvSpPr>
        <p:spPr>
          <a:xfrm>
            <a:off x="7571160" y="4714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53"/>
          <p:cNvSpPr/>
          <p:nvPr/>
        </p:nvSpPr>
        <p:spPr>
          <a:xfrm>
            <a:off x="6795720" y="538200"/>
            <a:ext cx="999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사진관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828960" y="1268280"/>
            <a:ext cx="146376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사진관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1" name="AutoShape 17"/>
          <p:cNvCxnSpPr>
            <a:stCxn id="142" idx="2"/>
            <a:endCxn id="143" idx="0"/>
          </p:cNvCxnSpPr>
          <p:nvPr/>
        </p:nvCxnSpPr>
        <p:spPr>
          <a:xfrm flipH="1">
            <a:off x="1536480" y="2106720"/>
            <a:ext cx="3024720" cy="178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AutoShape 18"/>
          <p:cNvSpPr/>
          <p:nvPr/>
        </p:nvSpPr>
        <p:spPr>
          <a:xfrm>
            <a:off x="4416480" y="1817640"/>
            <a:ext cx="288720" cy="28908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4" name="AutoShape 19"/>
          <p:cNvCxnSpPr>
            <a:stCxn id="142" idx="2"/>
            <a:endCxn id="145" idx="0"/>
          </p:cNvCxnSpPr>
          <p:nvPr/>
        </p:nvCxnSpPr>
        <p:spPr>
          <a:xfrm flipH="1">
            <a:off x="4559040" y="2106720"/>
            <a:ext cx="2160" cy="178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20"/>
          <p:cNvCxnSpPr>
            <a:stCxn id="142" idx="2"/>
            <a:endCxn id="147" idx="0"/>
          </p:cNvCxnSpPr>
          <p:nvPr/>
        </p:nvCxnSpPr>
        <p:spPr>
          <a:xfrm>
            <a:off x="4560840" y="2106720"/>
            <a:ext cx="2985120" cy="178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Rectangle 13"/>
          <p:cNvSpPr/>
          <p:nvPr/>
        </p:nvSpPr>
        <p:spPr>
          <a:xfrm>
            <a:off x="714240" y="3889440"/>
            <a:ext cx="16430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사진보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736800" y="3889440"/>
            <a:ext cx="164340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사진삭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23000" y="3889440"/>
            <a:ext cx="16430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이동식메모리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복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6826320" y="5389560"/>
            <a:ext cx="1439280" cy="539280"/>
            <a:chOff x="6826320" y="5389560"/>
            <a:chExt cx="1439280" cy="539280"/>
          </a:xfrm>
        </p:grpSpPr>
        <p:sp>
          <p:nvSpPr>
            <p:cNvPr id="149" name="Rectangle 11"/>
            <p:cNvSpPr/>
            <p:nvPr/>
          </p:nvSpPr>
          <p:spPr>
            <a:xfrm>
              <a:off x="6827400" y="5394240"/>
              <a:ext cx="1438200" cy="53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6924240" y="5394240"/>
              <a:ext cx="0" cy="53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8181360" y="5394240"/>
              <a:ext cx="0" cy="53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6826320" y="5389560"/>
              <a:ext cx="14378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오류 메시지 출력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cxnSp>
        <p:nvCxnSpPr>
          <p:cNvPr id="153" name="AutoShape 30"/>
          <p:cNvCxnSpPr>
            <a:stCxn id="147" idx="2"/>
            <a:endCxn id="152" idx="0"/>
          </p:cNvCxnSpPr>
          <p:nvPr/>
        </p:nvCxnSpPr>
        <p:spPr>
          <a:xfrm>
            <a:off x="7544160" y="4429080"/>
            <a:ext cx="1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4" name="Group 32"/>
          <p:cNvGrpSpPr/>
          <p:nvPr/>
        </p:nvGrpSpPr>
        <p:grpSpPr>
          <a:xfrm>
            <a:off x="7378560" y="4689360"/>
            <a:ext cx="72720" cy="360360"/>
            <a:chOff x="7378560" y="4689360"/>
            <a:chExt cx="72720" cy="360360"/>
          </a:xfrm>
        </p:grpSpPr>
        <p:sp>
          <p:nvSpPr>
            <p:cNvPr id="155" name="Oval 33"/>
            <p:cNvSpPr/>
            <p:nvPr/>
          </p:nvSpPr>
          <p:spPr>
            <a:xfrm rot="5400000">
              <a:off x="7378200" y="4689360"/>
              <a:ext cx="7308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>
              <a:off x="7416360" y="47624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7" name="Text Box 62"/>
          <p:cNvSpPr/>
          <p:nvPr/>
        </p:nvSpPr>
        <p:spPr>
          <a:xfrm>
            <a:off x="7194600" y="4714920"/>
            <a:ext cx="2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입자감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840120" y="1214280"/>
            <a:ext cx="144000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침입자감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214720" y="5022720"/>
            <a:ext cx="128556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카메라이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1" name="AutoShape 8"/>
          <p:cNvCxnSpPr>
            <a:stCxn id="159" idx="2"/>
            <a:endCxn id="160" idx="0"/>
          </p:cNvCxnSpPr>
          <p:nvPr/>
        </p:nvCxnSpPr>
        <p:spPr>
          <a:xfrm flipH="1">
            <a:off x="2856960" y="1753920"/>
            <a:ext cx="1703880" cy="326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9"/>
          <p:cNvCxnSpPr>
            <a:stCxn id="159" idx="2"/>
            <a:endCxn id="163" idx="0"/>
          </p:cNvCxnSpPr>
          <p:nvPr/>
        </p:nvCxnSpPr>
        <p:spPr>
          <a:xfrm flipH="1">
            <a:off x="1071360" y="1753920"/>
            <a:ext cx="3489840" cy="327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4" name="Group 41"/>
          <p:cNvGrpSpPr/>
          <p:nvPr/>
        </p:nvGrpSpPr>
        <p:grpSpPr>
          <a:xfrm>
            <a:off x="2245680" y="3775320"/>
            <a:ext cx="275400" cy="285480"/>
            <a:chOff x="2245680" y="3775320"/>
            <a:chExt cx="275400" cy="285480"/>
          </a:xfrm>
        </p:grpSpPr>
        <p:sp>
          <p:nvSpPr>
            <p:cNvPr id="165" name="Oval 42"/>
            <p:cNvSpPr/>
            <p:nvPr/>
          </p:nvSpPr>
          <p:spPr>
            <a:xfrm rot="18837000">
              <a:off x="2260440" y="3972960"/>
              <a:ext cx="7308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Line 43"/>
            <p:cNvSpPr/>
            <p:nvPr/>
          </p:nvSpPr>
          <p:spPr>
            <a:xfrm flipV="1">
              <a:off x="2321640" y="3775320"/>
              <a:ext cx="19944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7" name="Text Box 52"/>
          <p:cNvSpPr/>
          <p:nvPr/>
        </p:nvSpPr>
        <p:spPr>
          <a:xfrm>
            <a:off x="2301840" y="382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53"/>
          <p:cNvSpPr/>
          <p:nvPr/>
        </p:nvSpPr>
        <p:spPr>
          <a:xfrm>
            <a:off x="6889320" y="1395360"/>
            <a:ext cx="8802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침입자위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진이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9" name="Group 66"/>
          <p:cNvGrpSpPr/>
          <p:nvPr/>
        </p:nvGrpSpPr>
        <p:grpSpPr>
          <a:xfrm>
            <a:off x="3186000" y="3830760"/>
            <a:ext cx="171720" cy="347040"/>
            <a:chOff x="3186000" y="3830760"/>
            <a:chExt cx="171720" cy="347040"/>
          </a:xfrm>
        </p:grpSpPr>
        <p:sp>
          <p:nvSpPr>
            <p:cNvPr id="170" name="Oval 67"/>
            <p:cNvSpPr/>
            <p:nvPr/>
          </p:nvSpPr>
          <p:spPr>
            <a:xfrm rot="6765600">
              <a:off x="3273480" y="3841920"/>
              <a:ext cx="7308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Line 68"/>
            <p:cNvSpPr/>
            <p:nvPr/>
          </p:nvSpPr>
          <p:spPr>
            <a:xfrm flipH="1">
              <a:off x="3186000" y="3912840"/>
              <a:ext cx="1112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2" name="Text Box 69"/>
          <p:cNvSpPr/>
          <p:nvPr/>
        </p:nvSpPr>
        <p:spPr>
          <a:xfrm>
            <a:off x="2989080" y="3824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70"/>
          <p:cNvSpPr/>
          <p:nvPr/>
        </p:nvSpPr>
        <p:spPr>
          <a:xfrm>
            <a:off x="428760" y="5027760"/>
            <a:ext cx="128592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침입자위치인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143240" y="5022720"/>
            <a:ext cx="128592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진촬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000840" y="5013360"/>
            <a:ext cx="128592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진전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5" name="AutoShape 8"/>
          <p:cNvCxnSpPr>
            <a:stCxn id="159" idx="2"/>
            <a:endCxn id="173" idx="0"/>
          </p:cNvCxnSpPr>
          <p:nvPr/>
        </p:nvCxnSpPr>
        <p:spPr>
          <a:xfrm>
            <a:off x="4560840" y="1753920"/>
            <a:ext cx="226080" cy="326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8"/>
          <p:cNvCxnSpPr>
            <a:stCxn id="159" idx="2"/>
            <a:endCxn id="177" idx="0"/>
          </p:cNvCxnSpPr>
          <p:nvPr/>
        </p:nvCxnSpPr>
        <p:spPr>
          <a:xfrm>
            <a:off x="4559760" y="1753920"/>
            <a:ext cx="3940920" cy="325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Arc 100"/>
          <p:cNvSpPr/>
          <p:nvPr/>
        </p:nvSpPr>
        <p:spPr>
          <a:xfrm>
            <a:off x="3357720" y="2428920"/>
            <a:ext cx="2500200" cy="28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9" name="Group 66"/>
          <p:cNvGrpSpPr/>
          <p:nvPr/>
        </p:nvGrpSpPr>
        <p:grpSpPr>
          <a:xfrm>
            <a:off x="4786200" y="3831840"/>
            <a:ext cx="72720" cy="360360"/>
            <a:chOff x="4786200" y="3831840"/>
            <a:chExt cx="72720" cy="360360"/>
          </a:xfrm>
        </p:grpSpPr>
        <p:sp>
          <p:nvSpPr>
            <p:cNvPr id="180" name="Oval 67"/>
            <p:cNvSpPr/>
            <p:nvPr/>
          </p:nvSpPr>
          <p:spPr>
            <a:xfrm rot="16200000">
              <a:off x="4785840" y="4119120"/>
              <a:ext cx="7308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Line 68"/>
            <p:cNvSpPr/>
            <p:nvPr/>
          </p:nvSpPr>
          <p:spPr>
            <a:xfrm flipV="1">
              <a:off x="4821120" y="38318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2" name="Text Box 69"/>
          <p:cNvSpPr/>
          <p:nvPr/>
        </p:nvSpPr>
        <p:spPr>
          <a:xfrm>
            <a:off x="4818600" y="382896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3" name="Group 66"/>
          <p:cNvGrpSpPr/>
          <p:nvPr/>
        </p:nvGrpSpPr>
        <p:grpSpPr>
          <a:xfrm>
            <a:off x="5711040" y="3816000"/>
            <a:ext cx="256680" cy="301680"/>
            <a:chOff x="5711040" y="3816000"/>
            <a:chExt cx="256680" cy="301680"/>
          </a:xfrm>
        </p:grpSpPr>
        <p:sp>
          <p:nvSpPr>
            <p:cNvPr id="184" name="Oval 67"/>
            <p:cNvSpPr/>
            <p:nvPr/>
          </p:nvSpPr>
          <p:spPr>
            <a:xfrm rot="3051600">
              <a:off x="5725800" y="3830760"/>
              <a:ext cx="7308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Line 68"/>
            <p:cNvSpPr/>
            <p:nvPr/>
          </p:nvSpPr>
          <p:spPr>
            <a:xfrm>
              <a:off x="5786640" y="3894840"/>
              <a:ext cx="18108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6" name="Text Box 69"/>
          <p:cNvSpPr/>
          <p:nvPr/>
        </p:nvSpPr>
        <p:spPr>
          <a:xfrm>
            <a:off x="5571720" y="390528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Arc 100"/>
          <p:cNvSpPr/>
          <p:nvPr/>
        </p:nvSpPr>
        <p:spPr>
          <a:xfrm>
            <a:off x="3929040" y="2143080"/>
            <a:ext cx="357120" cy="214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858080" y="5013360"/>
            <a:ext cx="128592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M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8" name="AutoShape 8"/>
          <p:cNvCxnSpPr>
            <a:stCxn id="159" idx="2"/>
            <a:endCxn id="174" idx="0"/>
          </p:cNvCxnSpPr>
          <p:nvPr/>
        </p:nvCxnSpPr>
        <p:spPr>
          <a:xfrm>
            <a:off x="4560840" y="1753920"/>
            <a:ext cx="2083680" cy="325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6:42:24Z</dcterms:created>
  <dc:creator>권순형</dc:creator>
  <dc:description/>
  <dc:language>en-US</dc:language>
  <cp:lastModifiedBy>bluelimn</cp:lastModifiedBy>
  <dcterms:modified xsi:type="dcterms:W3CDTF">2008-12-17T05:13:59Z</dcterms:modified>
  <cp:revision>116</cp:revision>
  <dc:subject/>
  <dc:title>헬스 클럽 관리 시스템</dc:title>
</cp:coreProperties>
</file>