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08CC-898D-4691-AE84-6B3D5D23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E00C-1EB3-4B4C-9FA1-47BAC632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E8C8-5854-4D62-820F-AEE8B536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A39A-09B6-4CC3-98E1-B8F19F2F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D00B-3EF3-4768-B41A-4EDBC267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F6C1-EF49-49A7-B17E-720EE098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8FF7-2D68-4E04-AC7F-97D6CE31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C143-3952-4DEA-AE85-1221937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1931-260A-4342-B004-13B4B04C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3A45-BAAB-41FE-88F0-5EA9B32D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4ED3-8583-4027-8586-DA532F9B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4F43-3E5C-458E-8B05-28401ED6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4FD8-F159-4FAE-96FF-6A3E5D3A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1EE1-BC1A-4245-9E00-AEC49543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E177-FC2E-4DBA-BABD-14C53E2D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D5AC-A4FE-4AA8-8D73-692CC030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99C4-7C27-4F7E-9712-C30CDC31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FBD1-1B17-44EA-9DE5-A7629346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C366-DFF0-480C-A6C7-DF1FE54D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C161-9380-4A63-AE08-8A4E7B01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0595-35A8-4645-9FC3-0E1F9441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A0E6-C398-4190-8912-5B2C607A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61A0-1A90-4CA8-AA3B-3DE42C3B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0422-79D6-40A3-89E0-2815D09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692E-0DE0-4EEA-94FD-F41364175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DDA6-ADE1-4B77-9D49-62A835E45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오류 메시지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1268280"/>
          <a:ext cx="8229600" cy="4232520"/>
        </p:xfrm>
        <a:graphic>
          <a:graphicData uri="http://schemas.openxmlformats.org/drawingml/2006/table">
            <a:tbl>
              <a:tblPr/>
              <a:tblGrid>
                <a:gridCol w="399960"/>
                <a:gridCol w="1357560"/>
                <a:gridCol w="2212920"/>
                <a:gridCol w="4259160"/>
              </a:tblGrid>
              <a:tr h="105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번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오류코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코드설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오류메세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x104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밀번호가 일치하지 않는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밀번호가 일치하지 않습니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x203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동식메모리가 연결되어 있지 않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동식 메모리를 연결해 주십시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x104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동식메모리에 용량이 부족하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동식 메모리에 용량이 부족합니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오류 메시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6:07:44Z</dcterms:created>
  <dc:creator>bluelimn</dc:creator>
  <dc:description/>
  <dc:language>en-US</dc:language>
  <cp:lastModifiedBy>bluelimn</cp:lastModifiedBy>
  <dcterms:modified xsi:type="dcterms:W3CDTF">2008-11-02T17:43:50Z</dcterms:modified>
  <cp:revision>8</cp:revision>
  <dc:subject/>
  <dc:title>슬라이드 1</dc:title>
</cp:coreProperties>
</file>