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A0AE6-F115-4341-A61A-76102AB6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B1D5-719D-4907-AE24-6DAF9D6B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ECA3-B2F7-4187-B2C3-15EA601E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85D3-2104-426F-9D5E-9EEC5A06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BD17B-5746-4892-931B-4B04BC82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D5497-5EC8-4C34-BE46-08BBDEE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E3608-5A20-4E8C-8A64-633857EF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26B7F-D753-46D3-B0C7-A3C7A419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191BE-2880-4EA1-841F-229A0E2D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CB794-1F9C-4572-8730-2B87EC9D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275F5-AD73-48BB-B4CA-9B4126C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466D-F656-4690-A0E1-EFD3B4DD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76397-F01E-45E9-ABCF-1D04754D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A613C-DFFD-4BF9-BCBA-F5FD6375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1F689-E242-4A85-A6EE-DAB97679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9864F-21F0-440B-A4E8-5DF04E27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9474C-1A7D-4ACC-A1A7-495742D1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588E-760E-4A25-92A2-635C71F2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32C1-4789-4402-ADB6-BDE7E463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A0F7-1912-46F0-9ABE-8263C562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C684-1926-4831-A688-A20902BE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D6E4B-1F20-4F88-9D22-A546AEB4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F8B7-697B-478C-83D8-905B212A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0985-29EA-423C-A73E-87CE179B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90BB-3D1C-4C53-B052-7A54F842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10AE-BBFC-44A0-A554-2E7D6783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4268-B2BB-4539-A51A-37519BF9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21B7-68B4-4986-85BC-99677863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FD8B-E0B4-434C-92DE-122BC4AE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626B-B207-4704-B81B-CE7A202E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957F-15E1-4608-8B3F-1961105C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31F6-BAD3-4CCA-9961-F0498746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32C5-8269-4CCC-81D9-06606C67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7A3E-6D1F-4A87-8EDE-55A00E1D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96D0-B7C8-4C1E-96A8-02C3A9FB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AFB4-CBBA-4177-B2B2-7BF0614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3F48-350B-404A-84F1-29A9AA54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140E-3F57-47C8-831A-C34A7F64E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3434-3E4A-4EE9-A3FF-9F535CD21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모듈 설명서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삭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관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저장되어 있는 사진을 삭제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N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목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자로부터 삭제할 사진을 선택 받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LET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선택된 사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동식메모리로복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관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저장되어 있는 사진파일을 이동식 메모리로 복사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F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동식 메모리가 연결되지 않았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THEN 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오류메시지출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오류번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F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동식 메모리에 용량이 부족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TEHN 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오류메시지출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오류번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파일들을 이동식 메모리로 복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감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bserver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를 감지하고 사진을 촬영하여 관리자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DMA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뎀으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MS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전송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HILE 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HIE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위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= 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위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 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위치인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D WH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메라이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위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이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촬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전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이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D W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 위치인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위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감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의 위치를 인식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F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가 감지되지 않았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THEN RETURN NU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의 센서로부터 침입자의 위치 계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위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메라이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위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감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위치 방향으로 카메라 초점을 이동시킨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메라의 위치를 초기화시킨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위치 방향으로 카메라를 이동시킨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촬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감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메라로부터 영상을 받아 사진을 촬영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메라로부터 영상을 받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영상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JPEG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압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JPEG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일로 저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이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전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감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HONE_N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을 관리자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DM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뎀으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MS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E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관리자전화번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ROM PHONE_NUM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ABEL 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이름에 해당하는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JPEG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일을 관리자전화번호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MS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F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THEN GOTO LABEL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bserver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환경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관리 등의 메뉴를 선택하고 호출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감지 모듈을 호출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WITCH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S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환경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환경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S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관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관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감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환경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bserver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화번호 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시시간 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촬영주기 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밀번호 설정 등의 메뉴를 선택하고 호출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WITCH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S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화번호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화번호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S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시시간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시시간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S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촬영주기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촬영주기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S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밀번호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밀번호설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화번호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환경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HONE_N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MS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전송 받을 관리자 전화번호를 설정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자로부터 관리자 전화번호를 입력 받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RIT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화번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 PHONE_NU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시시간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환경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RT_WATCH, STOP_WA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시를 시작할 시간과 종료할 시간을 설정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자로부터 감시를 시작할 시간을 입력 받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RIT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작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 START_WATCH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자로부터 감시를 종료할 시간을 입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RIT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종료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 STOP_WATCH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촬영주기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환경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NAPSHOT_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침입자가 감지되었을 때 사진을 촬영할 주기를 설정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자로부터 촬영주기를 입력 받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RIT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촬영주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 SNAPSHOT_CYCL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밀번호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환경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SS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스템의 비밀번호를 설정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자로부터 기존 비밀번호를 입력 받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F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밀번호가 일치하지 않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 THEN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오류메시지출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오류번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LSE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ABEL 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새로운 비밀번호를 입력 받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새 비밀번호를 재입력 받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F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새로운 비밀번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입력 번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THE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RIT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새 비밀번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 PASSWOR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LSE GOTO LABEL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관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bserver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보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삭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동식메모리로복사 등의 메뉴를 선택하고 호출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WITCH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S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보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보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S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삭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삭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S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동식메모리로복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동식메모리로복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0920" y="836640"/>
          <a:ext cx="8642160" cy="5649840"/>
        </p:xfrm>
        <a:graphic>
          <a:graphicData uri="http://schemas.openxmlformats.org/drawingml/2006/table">
            <a:tbl>
              <a:tblPr/>
              <a:tblGrid>
                <a:gridCol w="2630520"/>
                <a:gridCol w="1403280"/>
                <a:gridCol w="460836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이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듈 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출하는 모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관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하는 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●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저장되어 있는 사진을 화면에 출력한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고리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N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목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자로부터 출력할 사진을 선택 받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IRN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선택된 사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05:46:19Z</dcterms:created>
  <dc:creator>권순형</dc:creator>
  <dc:description/>
  <dc:language>en-US</dc:language>
  <cp:lastModifiedBy>bluelimn</cp:lastModifiedBy>
  <dcterms:modified xsi:type="dcterms:W3CDTF">2008-11-23T12:57:21Z</dcterms:modified>
  <cp:revision>129</cp:revision>
  <dc:subject/>
  <dc:title>슬라이드 1</dc:title>
</cp:coreProperties>
</file>