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99A1E-E38E-48EC-95C0-42136D5AD3C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97989-1FB0-4032-8F69-E56869690BC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73798-A32E-44F6-86A8-E7093D561B3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672DF-7C23-49C8-BED4-BEA5AE2750C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25472-A946-426F-9EE7-87994F57180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B9C41-7A71-465C-9A55-09C2223944A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38645-1FD6-4278-9AD5-30499158219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4AF20-911E-483E-B588-F52489E9753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63C2E-333E-47EA-BBCF-FE42357A0E2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any thanks to Gunther Beersaerts for this slide (gunther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21EDA-04C9-4EFC-942A-A856033E8FE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13840" y="4421160"/>
            <a:ext cx="675324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A48EA-9E08-4452-8D1F-F7D8EAFC396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mponent DL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ode should you component-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usable UI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siness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 acces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.NET Framework facilitates reuse through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d in Visual Studio .NET use Class Librar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application project must reference DLL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81560" y="4191120"/>
            <a:ext cx="18525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ratuitous ADO.NET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nd populate DataSet object with custom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750320"/>
            <a:ext cx="7696440" cy="502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Access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GetCustomerData(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use this connection string for testing but NOT FOR PRODU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s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= "server=(local);database=CustomersDB;uid=sa;pwd=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connection and a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nn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Connection(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= "SELECT ID, FirstName, LastName, Phone FROM Customer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md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Command(sql, con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data adapter based on connection and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adapte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DataAdapter(cm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new DataSet object and populate it using 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DS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adapter.Fill(CustomersDS, "CustomersTabl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ean up all databas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adapter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cmd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conn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turn DataSet object reference to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ratuitous Data Bin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ny Windows Forms controls support data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utomatically populates DBMS data into grids, list box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5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is it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ign a DataView or a DataTable to control's DataSourc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5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207960"/>
            <a:ext cx="7543800" cy="94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 = DataAccessCode.GetCustomer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 = CustomerDS.Tables("CustomersTable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bind grid to default view of customers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grdCustomers.DataSource = CustomerTable.Default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20923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Inside Assembl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-specific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yp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rmediate Language with executable instru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73416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's in a Nam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ach assembly has a 4-par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iend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lture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ublic key (or public key to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names are tracked using format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275720"/>
            <a:ext cx="8112240" cy="29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MyLibrary, Version=1.0.1.0, Culture=neutral, PublicKeyToken=nu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5960" y="4834800"/>
            <a:ext cx="8124840" cy="29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BobsLibrary, Version=1.0.24.0, Culture=neutral, PublicKeyToken=816fbbdf1ffdccf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n Assemb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2960" y="1665000"/>
            <a:ext cx="7993080" cy="265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 file within BobsLibrary.vb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important attributes tha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less important attributes that do no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Company("Bob's Widgets, Inc.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Product("Widget-Meister v1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Description("Widget-Meister Data Access Code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sembly Signing and Tampering Prote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signing involves generating digit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gital signature built from private key and assembly file h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authenticates digital signature with strong name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ong name verification detects traces or tamp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1560" y="2959920"/>
            <a:ext cx="4721040" cy="100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76720" y="4118040"/>
          <a:ext cx="2971800" cy="25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118040"/>
                    <a:ext cx="29718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sembly Deployment O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it as a private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all it into the Global Assembly Cache (G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it by configuring a 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  <a:ea typeface="굴림"/>
              </a:rPr>
              <a:t>&lt;codeBas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Global Assembly Cach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86400" y="2759040"/>
            <a:ext cx="4411440" cy="3995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C serves as machine-wide assembl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ly allows for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for side-by-side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C Administrativ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ACUTIL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Cache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nfiguring an assembly with a code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can be deployed anywhere using cod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imarily used with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codeBase&gt; element can point to file or HTT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mote assemblies copied to CLR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wnloaded assemblies run in restricted sand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1320" y="3495960"/>
            <a:ext cx="5944320" cy="264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xmlns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urn:schemas-microsoft-com:asm.v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Identity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BobsLibrary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publicKeyToke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816fbbdf1ffdccf7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de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24.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http://www.Bob.com/downloads/BobsLibrary.dll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393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fining the Next Generation Applica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mart clients are the embodiment of the next generation of client softwar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kes full advantage of end user devices (full PC, PDA, 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sumes web servi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pports a rich experience both online and off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as the ease of deployment that is typically associated with Web-bas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ing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CLR enforces a set of versioning policy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d to ensure client gets the appropriat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load fails if versioning policy rules are not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sioning policy is not enforced for all assemb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ies without strong names are not affected b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ies with version number 0.0.0.0 not affected b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 Numb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sion number has four parts (e.g. 1.0.24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jo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ino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ild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vi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53960" y="3528720"/>
            <a:ext cx="600552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System.Ref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re Versioning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version number tracked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ent-side manifest contains compile-time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runs checks when attempting to load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inspects version number of assembly loaded at run time and matches it the compile-time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y default, these numbers must match or the load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ading different version number requires custom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Redirecting a client to a different ver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can redirect client to use a different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ne using binding redirec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18400" y="2324520"/>
            <a:ext cx="5852880" cy="264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xmlns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urn:schemas-microsoft-com:asm.v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Identity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BobsLibrary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publicKeyToke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816fbbdf1ffdccf7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bindingRedirect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old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24.0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ew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98.0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assembly loa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resolver looks for assembly in this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t location specified by cod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AppBas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subdirectories as specified in private prob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an you do if things are going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the Assembly Binding Log Viewer (Fuslogvw.ex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3840" y="4573440"/>
            <a:ext cx="442440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ploying Smart Client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XCOPY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ust copy files to the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all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ing Window Installer technology and MS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o-touch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aunching application from HREF on a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XCOPY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’s so easy - just copy AppBase directory to the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machine must already have .NET Framework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add Windows short cuts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pdated files must be pushed out to target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SI File Installation Progra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the .NET Framework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Windows short cuts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dependant assemblies 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ust create a setup program using an MSI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pdated application files must be explicitly installed on target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Setup Program (1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tup Project under Setup and Deploy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project that produces an MSI file install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51000" y="2368440"/>
            <a:ext cx="5058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Setup Program (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stall the .NET Framework if it's not already on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stall assembly DLLs 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shortcuts to the desktop and Star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31920" y="2516040"/>
            <a:ext cx="574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2362320"/>
            <a:ext cx="3998880" cy="3995640"/>
          </a:xfrm>
          <a:prstGeom prst="ellipse">
            <a:avLst/>
          </a:prstGeom>
          <a:gradFill rotWithShape="0">
            <a:gsLst>
              <a:gs pos="0">
                <a:srgbClr val="8fdaff"/>
              </a:gs>
              <a:gs pos="100000">
                <a:srgbClr val="416475">
                  <a:alpha val="32156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1640" y="182880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Fat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7920" y="2417760"/>
            <a:ext cx="3998880" cy="3995640"/>
          </a:xfrm>
          <a:prstGeom prst="ellipse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21400" y="17524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Thin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1523880"/>
            <a:ext cx="4186440" cy="4337280"/>
          </a:xfrm>
          <a:prstGeom prst="ellipse">
            <a:avLst/>
          </a:prstGeom>
          <a:solidFill>
            <a:srgbClr val="ff33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23080" y="197496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mart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97480" y="284796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ich U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59760" y="378936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velop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1600" y="5662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LL Hel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2400" y="378936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eav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05040" y="27352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mal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3280" y="4824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spo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47400" y="3027240"/>
            <a:ext cx="13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twor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en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47120" y="360216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0040" y="424656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oor U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4200" y="4322880"/>
            <a:ext cx="141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3960" y="478008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ugh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l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40080" y="523728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 Deve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0"/>
            <a:ext cx="8393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Smart Client Landscape 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reaking down the different exper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40" y="838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Smart Client Readiness Program for ISVs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et SMART about Smart Clie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760" y="632448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http://members.microsoft.com/partner/isv/smart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33760" y="1905120"/>
            <a:ext cx="5229360" cy="427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301760"/>
            <a:ext cx="5410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about smart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REE 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/W and dev k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Con DV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s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 Pr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6000" y="484668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4635360"/>
            <a:ext cx="933480" cy="115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232000" y="4718160"/>
            <a:ext cx="892080" cy="107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84840" y="1003320"/>
            <a:ext cx="2008440" cy="143028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1,500+ IS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enroll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heck List for Smart Client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create a Windows Form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deploy and upgrade you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work within the CLR security sand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create and call a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store and retrieve your data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 Smart client appl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art by building a Windows Form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59080" y="2021040"/>
            <a:ext cx="41893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The Windows Forms Design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0400" y="1320840"/>
            <a:ext cx="796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nfiguring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ications can have configuratio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figuration file has same name of application and ".confi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figuration file can contain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isual Studio .NET provid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app.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ile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360" y="2989800"/>
            <a:ext cx="8082000" cy="193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굴림"/>
              </a:rPr>
              <a:t>&lt;!-- SmartClientDemo1.exe.config --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?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xml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encoding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utf-8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ppSettings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MainFormCaption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Barracuda .NET Customer Tracker 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AboutCaption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Barracuda .NET Customer Tracker 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AboutMessage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Customer Tracker is produced by Barracuda .NET, Inc.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ppSettings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5103000"/>
            <a:ext cx="8078760" cy="155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MainForm_Load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ende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ventArgs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ad applications from configuration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Text = ConfigurationSettings.AppSettings.Item("MainFormCaptio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x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sgBox(ex.Message, MsgBoxStyle.Exclamation, ex.GetType.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03:57Z</dcterms:modified>
  <cp:revision>123</cp:revision>
  <dc:subject>MS Mobility DevCon 2003</dc:subject>
  <dc:title>Slide 1</dc:title>
</cp:coreProperties>
</file>