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3E681-112A-4F0D-A24F-0BEE916B234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FE897-A89E-4A95-AF77-D82FF9DA5AD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2D427-92D4-409B-B4F6-6149BFB9131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A2D23-68C6-4BB0-A511-FF7D89194F5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57AF1-5DE6-401C-98E6-410EE0CB0EC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138DA-541C-40C2-AFA0-C964BAFB441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0358C-2456-48D3-9DA5-371AF5F67D5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7896D-42F8-4056-801B-CD1432E62F9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B896B-1C04-42A7-88DA-7AA599339B4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C0ED5-4CC3-45B9-A369-EFD59D1ADC1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F8F89-BBE3-4E01-99E5-2C53C95B13A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023B4-0D05-46AA-9F84-6E9E5F226D7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BA5AF-E051-4501-8006-ECFF9F93BF6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DAC3A-D423-4E5B-966A-2BC8169E4E6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83385-264E-4596-9021-91851C32310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3583-B365-494B-86C2-B022B68098B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D26C0-0492-470F-86AB-77F690F8C90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D8AD6-2AE2-48DB-BD68-EB3D777D8B2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D9269-B8CC-4B8A-B253-779C1226230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1B1FE-628A-47B2-92C2-CA570DBBC68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Window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has always had a process-centric secur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cess runs with identity and permissions of a specific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identity and permissions of thi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a process-centric security model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es, in cases where one company has written all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cases where code comes from many different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the case where code is downloaded from a partially trust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2200" y="4022640"/>
            <a:ext cx="2475000" cy="21938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4880" y="514656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95520" y="4695840"/>
            <a:ext cx="167148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9560" y="558000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741840" y="49370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flipV="1">
            <a:off x="5591160" y="5916240"/>
            <a:ext cx="12016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9160" y="5759280"/>
            <a:ext cx="2163960" cy="29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etty the computer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440160" y="4259160"/>
            <a:ext cx="158256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1880" y="3976560"/>
            <a:ext cx="3760920" cy="538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Betty's identity and Betty's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ere does managed code come from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aged Code may originate from many differen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intr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297480" y="414180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ntranet 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r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04280" y="3341520"/>
            <a:ext cx="2762280" cy="2365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.NET applic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774080" y="4564080"/>
            <a:ext cx="1865160" cy="396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83800" y="4046400"/>
            <a:ext cx="1866600" cy="398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8320" y="5059440"/>
            <a:ext cx="1866960" cy="398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10160" y="2955960"/>
            <a:ext cx="151128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40320" y="2567160"/>
            <a:ext cx="1249200" cy="750600"/>
          </a:xfrm>
          <a:prstGeom prst="can">
            <a:avLst>
              <a:gd name="adj" fmla="val 25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708360" y="5300640"/>
            <a:ext cx="42069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loud"/>
          <p:cNvSpPr/>
          <p:nvPr/>
        </p:nvSpPr>
        <p:spPr>
          <a:xfrm flipH="1">
            <a:off x="4628520" y="4995720"/>
            <a:ext cx="2144520" cy="951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10160" y="3181320"/>
            <a:ext cx="3155760" cy="15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ower"/>
          <p:cNvSpPr/>
          <p:nvPr/>
        </p:nvSpPr>
        <p:spPr>
          <a:xfrm flipH="1">
            <a:off x="7323120" y="4708440"/>
            <a:ext cx="954000" cy="1516320"/>
          </a:xfrm>
          <a:prstGeom prst="pi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292160" y="62355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ower"/>
          <p:cNvSpPr/>
          <p:nvPr/>
        </p:nvSpPr>
        <p:spPr>
          <a:xfrm flipH="1">
            <a:off x="6546960" y="2614680"/>
            <a:ext cx="954000" cy="151596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tivation for component-centric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aditional Windows security doesn’t suffice many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desirable for all code to run with same permissions a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 must be handled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7720" y="2743200"/>
            <a:ext cx="4043520" cy="2743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280" y="4022640"/>
            <a:ext cx="18828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160" y="3427560"/>
            <a:ext cx="1884600" cy="50472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4600440"/>
            <a:ext cx="1884240" cy="503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590560" y="487656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590920" y="4343040"/>
            <a:ext cx="457200" cy="1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46280" y="3605040"/>
            <a:ext cx="488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1120" y="3341520"/>
            <a:ext cx="5672160" cy="5202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from executable application launched from local hard drive should run without security restri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1120" y="4243320"/>
            <a:ext cx="5640120" cy="52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Intranet server should run with a more restrictive set of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105520"/>
            <a:ext cx="5640120" cy="7333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unknown Internet server should run in highly restrictive sandbox to prevent security breeches, viruses, worm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Acces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troduces new model called Code Access Security (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is a preventative, component-centric secur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layers on top of security provid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does CAS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/producers given varying levels of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be run using custom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unknown origins/producers runs in restrictive sand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st Evid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gathers host evidence while loading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ere the code cam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o published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ere the code cam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o wrote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ong name (i.e. public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ublisher (i.e X.509 certific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Zo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Zone evidence is created using information in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yComputer - code originating from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ranet - code originating from file server or WINS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usted - code originating from Url known to be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ernet - code originating from DNS or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trusted - code originating from Url known to be un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3995640"/>
            <a:ext cx="429732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defined in mscorlib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ecurityZ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NoZone =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My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Un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access rights controlled through securit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determine what an assembly can and cannot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at loa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based on host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based on four importa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dministering 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re are two tools to administrate securit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- a visual admin tool that's an MMC snap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POL.EXE - a command-line driven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7720" y="2722680"/>
            <a:ext cx="766116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set at four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levels must agree to grant a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e policy level cannot lift restrictions defined by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machine level is only level that imposes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3760" y="2921040"/>
          <a:ext cx="690408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2921040"/>
                    <a:ext cx="6904080" cy="35910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197160" y="4068720"/>
            <a:ext cx="5695920" cy="365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AppDomain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not stored in system-defined file - dynamic settings created by host enviro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649600" y="4979880"/>
            <a:ext cx="129528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5840" y="5400720"/>
            <a:ext cx="1193760" cy="633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73120" y="6087960"/>
            <a:ext cx="1422360" cy="255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6880" y="4792680"/>
            <a:ext cx="5270760" cy="361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Enterpris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enterprisesec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5289480"/>
            <a:ext cx="4864320" cy="362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9360" y="5811840"/>
            <a:ext cx="4359240" cy="539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User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Documents and Settings\BobTheUser\Application Data\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Microsoft\CLR Security Config\v1.1.4322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ermissions allow code to do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ships with many built-in permiss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9440" y="2227320"/>
          <a:ext cx="7989840" cy="4394160"/>
        </p:xfrm>
        <a:graphic>
          <a:graphicData uri="http://schemas.openxmlformats.org/drawingml/2006/table">
            <a:tbl>
              <a:tblPr/>
              <a:tblGrid>
                <a:gridCol w="2387520"/>
                <a:gridCol w="5602320"/>
              </a:tblGrid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ilt-in permission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irectoryService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ows control of code access security permissions for System.Directory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n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rights to access Domain Name System (DNS) servers on the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entLo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event 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vironment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system and user environment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Dialog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or folders through a file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IO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and fol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solatedStorageFile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pecifies the allowed usage of a private virtual file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leDb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OleDb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erformanceCounter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erformance counter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intin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ri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flection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metadata through the System.Reflection AP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gistr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registry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curit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scribes a set of security permissions applied to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qlClient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SqlClient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I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permissions related to user interfaces and the clipbo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application-specific setup progra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seamlessly downloads updated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's PC must already have th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must launch EXE fil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ag on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de must run within partially trusted security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 S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permission set represents a collection of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 make permission assignment more mana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provides several built-in named permission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allows you to create custom permission se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7840" y="3029040"/>
            <a:ext cx="3039480" cy="3387240"/>
            <a:chOff x="447840" y="3029040"/>
            <a:chExt cx="3039480" cy="3387240"/>
          </a:xfrm>
        </p:grpSpPr>
        <p:graphicFrame>
          <p:nvGraphicFramePr>
            <p:cNvPr id="151" name=""/>
            <p:cNvGraphicFramePr/>
            <p:nvPr/>
          </p:nvGraphicFramePr>
          <p:xfrm>
            <a:off x="515160" y="3029040"/>
            <a:ext cx="2972160" cy="326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5160" y="3029040"/>
                      <a:ext cx="2972160" cy="32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24880" y="6150600"/>
              <a:ext cx="294120" cy="26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840" y="3141000"/>
              <a:ext cx="108360" cy="19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H="1">
            <a:off x="2543040" y="3292560"/>
            <a:ext cx="1447920" cy="3427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55840" y="3763800"/>
            <a:ext cx="67320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9320" y="4222800"/>
            <a:ext cx="1168200" cy="2286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496960" y="4732200"/>
            <a:ext cx="1384560" cy="1396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095640" y="5292360"/>
            <a:ext cx="952560" cy="507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50960" y="5713200"/>
            <a:ext cx="1447920" cy="1774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806200" y="6121080"/>
            <a:ext cx="1257480" cy="3049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7760" y="2978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full access to all resources and .NET framework class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9200" y="360216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Grants right to bypass the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40356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Permits execution of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7640" y="4468680"/>
            <a:ext cx="50803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nies all resources, including the right to exec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6840" y="510552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applications on the local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8280" y="57420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internet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7120" y="6137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unrestricted access to all resources covered by built-in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Permission 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provides wizard to create a permission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can be configured and added to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6000" y="2187720"/>
            <a:ext cx="4562280" cy="444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3680" y="2130480"/>
            <a:ext cx="3771720" cy="3990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4476600" y="3357360"/>
            <a:ext cx="874800" cy="19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Group Tre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policy level consists of a tree of c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veral built-in cod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also create custom code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de groups can have parent-chil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ild code group criteria evaluated only if parent criteria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079720" y="3411360"/>
          <a:ext cx="2838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9720" y="3411360"/>
                    <a:ext cx="2838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H="1">
            <a:off x="4214880" y="5629320"/>
            <a:ext cx="1533600" cy="48240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96080" y="5452560"/>
            <a:ext cx="209196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ustom cod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code group by h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eps to creating a custom cod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a name for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ecify a membership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ign a permission set to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3080"/>
            <a:ext cx="3581280" cy="344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52880" y="3036960"/>
            <a:ext cx="358164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AS and 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th no-touch deployment, EXE runs without Ful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runs within CAS sandbox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must be written to run in partially trusted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call into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at it can do around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ere is can write on the local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write to the Windows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llowPartiallyTrustedCallersAttribu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with strong name imposes a noteworthy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 only be used by caller that is fully tr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not be used by application launched from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fault behavior overridden using AllowPartiallyTrustedCaller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34920" y="2911680"/>
            <a:ext cx="7131240" cy="22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llow partially trusted caller to access this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llowPartiallyTrustedCallers(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difying Local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ccomplished using an MSI file 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write code to create and configure a new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specific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full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38440" y="2266920"/>
            <a:ext cx="3698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Steps to Creating MSI File To Modify CAS Poli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etup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 new Class Library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n Install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handler for BeforeInstal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24160" y="3917520"/>
            <a:ext cx="5792760" cy="277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)&gt;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.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,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ventArgs)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dd code to configure local CAS poli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3160" y="2862360"/>
            <a:ext cx="2739960" cy="2022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88200" y="1363680"/>
            <a:ext cx="2404800" cy="1652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08320" y="3498840"/>
            <a:ext cx="1417680" cy="277920"/>
          </a:xfrm>
          <a:custGeom>
            <a:avLst/>
            <a:gdLst/>
            <a:ahLst/>
            <a:rect l="l" t="t" r="r" b="b"/>
            <a:pathLst>
              <a:path w="751" h="175">
                <a:moveTo>
                  <a:pt x="0" y="0"/>
                </a:moveTo>
                <a:cubicBezTo>
                  <a:pt x="208" y="10"/>
                  <a:pt x="417" y="21"/>
                  <a:pt x="542" y="50"/>
                </a:cubicBezTo>
                <a:cubicBezTo>
                  <a:pt x="667" y="79"/>
                  <a:pt x="716" y="154"/>
                  <a:pt x="751" y="175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For Modifying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0" y="15840"/>
            <a:ext cx="9139320" cy="670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er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&gt;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 :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…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find Machine-wide policy level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chinePolicyLeve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so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Enumerator = SecurityManager.PolicyHierarc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sor.Move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r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(cursor.Current, Policy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rent.Label = "Machine"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 =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xi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create membership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ditio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rlMembershipCondition("http://Barracuda.net/*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create code group using FullTrust named permission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ermissionsetFullTrus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NamedPermissionSet("FullTrust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(permissionsetFullTru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CodeGroup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de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nionCodeGroup(condition, policySta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Name = "Barracuda_FullTrus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Description = "Custom code group for no-touch deployment ap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4) add code group to machine policy level and then sav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.RootCodeGroup.AddChild(BarracudaCode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SecurityManager.SavePolic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080" y="4495680"/>
            <a:ext cx="205092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w does no-touch deployment wor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provides a hook (</a:t>
            </a:r>
            <a:r>
              <a:rPr b="0" lang="en-US" sz="20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in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ooks in when launching managed EX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responsible for downloading/running manag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uses version-aware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275440"/>
            <a:ext cx="163188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883040"/>
            <a:ext cx="162864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66000"/>
            <a:ext cx="16477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670720"/>
            <a:ext cx="16351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743200" cy="209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1320" y="358668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151600"/>
            <a:ext cx="2057400" cy="167616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015320" y="5486400"/>
            <a:ext cx="1212480" cy="960120"/>
            <a:chOff x="7015320" y="5486400"/>
            <a:chExt cx="1212480" cy="960120"/>
          </a:xfrm>
        </p:grpSpPr>
        <p:sp>
          <p:nvSpPr>
            <p:cNvPr id="60" name=""/>
            <p:cNvSpPr/>
            <p:nvPr/>
          </p:nvSpPr>
          <p:spPr>
            <a:xfrm>
              <a:off x="7018920" y="57315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15320" y="548640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0440" y="62359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7920" y="598932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rot="294600">
            <a:off x="2362320" y="5410080"/>
            <a:ext cx="419076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4120" y="5105520"/>
            <a:ext cx="166860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2560" y="3733920"/>
            <a:ext cx="2692440" cy="76176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Download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copies all remote code to local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the need to download an EXE or DLL more tha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user to work in offline mode (with cave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esting facts about the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's maintain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ota for storage space can be configur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in download cache not consider fully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pon first request to run an application E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EXE file is copied 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nfiguration file is downloaded and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LLs in AppBase directory are copied in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124080"/>
            <a:ext cx="5121360" cy="175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(compatible; MSIE 6.0; Windows NT 5.1; Q312461; .NET CLR 1.0.37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495680"/>
            <a:ext cx="5334120" cy="218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11:29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Type: application/octet-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Ranges: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Last-Modified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Content-Length: 450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&lt;&lt;stream of bytes from MyApp.exe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application EXE is launched from 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mpares date-time stamp before dow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wnloads updated EXE file if date-time stamp is more recent than copy of EXE in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esn't care about EXE's assembly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" y="3505320"/>
            <a:ext cx="7010280" cy="19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If-Modified-Since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If-None-Match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5149800"/>
            <a:ext cx="5105520" cy="117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304 Not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42:03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a0fa92bc8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Length: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mitations of URL-launched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must have connectivity to Web server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from CLR download cache when disconnected requires "Work Offline" mode to be selected in 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s only detected at application laun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must quit and restart to pick u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and .NET configuration fi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P.NET doesn't allow access to *.config files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to prevent the bad guy from downloading web.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downloading of application configuration files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behavior can be disabled using custom web.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040" y="3364560"/>
            <a:ext cx="8183520" cy="32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allow downloading of all configuration files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remove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disallow downloading of web.config file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web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type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System.Web.HttpForbiddenHandler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2:43Z</dcterms:modified>
  <cp:revision>123</cp:revision>
  <dc:subject>MS Mobility DevCon 2003</dc:subject>
  <dc:title>Slide 1</dc:title>
</cp:coreProperties>
</file>