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DFBF1-719E-42F1-82E1-A129FB7AC918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9F259-253B-4E4B-8230-F8A4E6CB3C27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2EA91-5D64-4A75-BF1D-C817A4334971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32AF3-3EA6-4F93-9E1D-4BEB3CA3F94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085F6-640D-4183-8EBA-C2F870E3BE8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31CFD-5BA5-4A59-B286-1DCB01C95659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F1441-4DA4-475D-9281-85F694CA218E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6296C-D9D6-478A-A0F4-EB2D96F94FF7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EC19D-1F32-45C8-A840-43293E30F78B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any thanks to Gunther Beersaerts for this slide (gunther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9DE01-1C7D-4578-8FA5-AD1CC8B96DD7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213840" y="4421160"/>
            <a:ext cx="675324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131E8-7C5C-4386-9580-DBC3A0C8B25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33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굴림"/>
              </a:rPr>
              <a:t>BUILDING SMART CLIENT APPLICATION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mponent DL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code should you component-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usable UI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siness 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 acces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e .NET Framework facilitates reuse through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d in Visual Studio .NET use Class Library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dows application project must reference DLL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81560" y="4191120"/>
            <a:ext cx="185256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Gratuitous ADO.NET Co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and populate DataSet object with custom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750320"/>
            <a:ext cx="7696440" cy="502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DataAccess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GetCustomerData()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use this connection string for testing but NOT FOR PRODU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s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= "server=(local);database=CustomersDB;uid=sa;pwd=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a connection and a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onn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qlConnection(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ql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= "SELECT ID, FirstName, LastName, Phone FROM Customer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md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qlCommand(sql, con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a data adapter based on connection and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adapter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qlDataAdapter(cm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a new DataSet object and populate it using adap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sDS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adapter.Fill(CustomersDS, "CustomersTable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ean up all databas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adapter.Dispo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cmd.Dispo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conn.Dispo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return DataSet object reference to c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s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Gratuitous Data Bind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ny Windows Forms controls support data b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utomatically populates DBMS data into grids, list boxe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51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ow is it d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ssign a DataView or a DataTable to control's DataSourc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51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207960"/>
            <a:ext cx="7543800" cy="94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 = DataAccessCode.GetCustomer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Table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 = CustomerDS.Tables("CustomersTable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bind grid to default view of customers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.grdCustomers.DataSource = CustomerTable.Default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57600" y="4343400"/>
            <a:ext cx="20923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Inside Assembl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-specific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yp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termediate Language with executable instru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673416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at's in a Nam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ach assembly has a 4-par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iendl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er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ulture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ublic key (or public key tok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names are tracked using format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275720"/>
            <a:ext cx="8112240" cy="29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MyLibrary, Version=1.0.1.0, Culture=neutral, PublicKeyToken=nu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5960" y="4834800"/>
            <a:ext cx="8124840" cy="29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BobsLibrary, Version=1.0.24.0, Culture=neutral, PublicKeyToken=816fbbdf1ffdccf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uilding An Assembl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2960" y="1665000"/>
            <a:ext cx="7993080" cy="265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ssemblyInfo.vb file within BobsLibrary.vb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ef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important attributes that affect assembl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Version("1.0.24.0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KeyFile("..\..\BobsKey.snk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less important attributes that do not affect assembl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Company("Bob's Widgets, Inc.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Product("Widget-Meister v1.0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Description("Widget-Meister Data Access Code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ssembly Signing and Tampering Prote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signing involves generating digital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igital signature built from private key and assembly file h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authenticates digital signature with strong name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ong name verification detects traces or tamp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11560" y="2959920"/>
            <a:ext cx="4721040" cy="100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ssemblyInfo.v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Version("1.0.24.0")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KeyFile("..\..\BobsKey.snk")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76720" y="4118040"/>
          <a:ext cx="2971800" cy="25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118040"/>
                    <a:ext cx="2971800" cy="25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ssembly Deployment Op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ploy it as a private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stall it into the Global Assembly Cache (G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ploy it by configuring a </a:t>
            </a:r>
            <a:r>
              <a:rPr b="1" lang="en-US" sz="2000" spc="-1" strike="noStrike">
                <a:solidFill>
                  <a:srgbClr val="0000ff"/>
                </a:solidFill>
                <a:latin typeface="Lucida Console"/>
                <a:ea typeface="굴림"/>
              </a:rPr>
              <a:t>&lt;codeBase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Global Assembly Cach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86400" y="2759040"/>
            <a:ext cx="4411440" cy="3995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AC serves as machine-wide assembly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nly allows for strongly-named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ows for side-by-side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AC Administrativ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GACUTIL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y Cache 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nfiguring an assembly with a codeBa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can be deployed anywhere using code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imarily used with strongly-named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&lt;codeBase&gt; element can point to file or HTT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mote assemblies copied to CLR download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wnloaded assemblies run in restricted sand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1320" y="3495960"/>
            <a:ext cx="5944320" cy="264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runti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Binding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xmlns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urn:schemas-microsoft-com:asm.v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dependentAssembly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Identity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na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BobsLibrary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publicKeyToke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816fbbdf1ffdccf7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de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vers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1.0.24.0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href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http://www.Bob.com/downloads/BobsLibrary.dll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dependentAssembly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Binding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runti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3934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fining the Next Generation Applicatio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mart clients are the embodiment of the next generation of client softwar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kes full advantage of end user devices (full PC, PDA, 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nsumes web servic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upports a rich experience both online and off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as the ease of deployment that is typically associated with Web-based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ersioning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e CLR enforces a set of versioning policy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d to ensure client gets the appropriate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y load fails if versioning policy rules are not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rsioning policy is not enforced for all assemb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ies without strong names are not affected b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ies with version number 0.0.0.0 not affected b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ersion Numb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rsion number has four parts (e.g. 1.0.24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jor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inor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ild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vi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53960" y="3528720"/>
            <a:ext cx="6005520" cy="1067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ssemblyInfo.v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굴림"/>
              </a:rPr>
              <a:t>System.Ref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6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Version("1.0.24.0"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More Versioning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version number tracked at compi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ient-side manifest contains compile-time ver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R runs checks when attempting to load an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inspects version number of assembly loaded at run time and matches it the compile-time ver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y default, these numbers must match or the load f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ading different version number requires custom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Redirecting a client to a different ver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 can redirect client to use a different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ne using binding redirect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18400" y="2324520"/>
            <a:ext cx="5852880" cy="264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runti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Binding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xmlns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urn:schemas-microsoft-com:asm.v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dependentAssembly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Identity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na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BobsLibrary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publicKeyToke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816fbbdf1ffdccf7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bindingRedirect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oldVers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1.0.24.0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newVers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1.0.98.0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dependentAssembly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Binding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runti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assembly load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resolver looks for assembly in this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the G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t location specified by cod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AppBas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subdirectories as specified in private prob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can you do if things are going wr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 the Assembly Binding Log Viewer (Fuslogvw.ex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3840" y="4573440"/>
            <a:ext cx="4424400" cy="20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Deploying Smart Client Appl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XCOPY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Just copy files to the target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stall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ing Window Installer technology and MSI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o-touch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aunching application from HREF on a Web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XCOPY Deploy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t’s so easy - just copy AppBase directory to the target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arget machine must already have .NET Framework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nnot add Windows short cuts for conven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pdated files must be pushed out to target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MSI File Installation Progra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install the .NET Framework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install Windows short cuts for conven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install dependant assemblies in the G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must create a setup program using an MSI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pdated application files must be explicitly installed on target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reating A Setup Program (1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etup Project under Setup and Deploymen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a project that produces an MSI file installatio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51000" y="2368440"/>
            <a:ext cx="50580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reating A Setup Program (2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stall the .NET Framework if it's not already on target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stall assembly DLLs in the G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dd shortcuts to the desktop and Star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31920" y="2516040"/>
            <a:ext cx="5742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2362320"/>
            <a:ext cx="3998880" cy="3995640"/>
          </a:xfrm>
          <a:prstGeom prst="ellipse">
            <a:avLst/>
          </a:prstGeom>
          <a:gradFill rotWithShape="0">
            <a:gsLst>
              <a:gs pos="0">
                <a:srgbClr val="8fdaff"/>
              </a:gs>
              <a:gs pos="100000">
                <a:srgbClr val="416475">
                  <a:alpha val="32156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1640" y="182880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Fat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87920" y="2417760"/>
            <a:ext cx="3998880" cy="3995640"/>
          </a:xfrm>
          <a:prstGeom prst="ellipse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21400" y="17524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Thin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1523880"/>
            <a:ext cx="4186440" cy="4337280"/>
          </a:xfrm>
          <a:prstGeom prst="ellipse">
            <a:avLst/>
          </a:prstGeom>
          <a:solidFill>
            <a:srgbClr val="ff33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23080" y="197496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Smart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97480" y="284796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ich U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59760" y="3789360"/>
            <a:ext cx="135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velop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1600" y="56624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LL Hell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2400" y="378936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eav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oot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05040" y="27352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mal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oot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23280" y="4824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spo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47400" y="3027240"/>
            <a:ext cx="13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etwor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pend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47120" y="3602160"/>
            <a:ext cx="133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a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0040" y="424656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oor U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4200" y="4322880"/>
            <a:ext cx="141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as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3960" y="4780080"/>
            <a:ext cx="110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ough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plo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40080" y="5237280"/>
            <a:ext cx="12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o Devel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0"/>
            <a:ext cx="8393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Smart Client Landscape 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Breaking down the different exper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40" y="838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굴림"/>
              </a:rPr>
              <a:t>Smart Client Readiness Program for ISVs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et SMART about Smart Clien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760" y="632448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굴림"/>
              </a:rPr>
              <a:t>http://members.microsoft.com/partner/isv/smart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33760" y="1905120"/>
            <a:ext cx="5229360" cy="4273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1301760"/>
            <a:ext cx="5410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about smart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FREE benef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/W and dev k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Con DV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ews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S Pr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6000" y="484668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19320" y="4635360"/>
            <a:ext cx="933480" cy="1152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232000" y="4718160"/>
            <a:ext cx="892080" cy="1073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684840" y="1003320"/>
            <a:ext cx="2008440" cy="1430280"/>
          </a:xfrm>
          <a:prstGeom prst="irregularSeal2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굴림"/>
              </a:rPr>
              <a:t>1,500+ ISV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굴림"/>
              </a:rPr>
              <a:t>enroll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heck List for Smart Client Develop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create a Windows Forms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deploy and upgrade your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work within the CLR security sand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create and call a Web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store and retrieve your data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uilding a Smart client applic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tart by building a Windows Forms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59080" y="2021040"/>
            <a:ext cx="41893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Using The Windows Forms Design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90400" y="1320840"/>
            <a:ext cx="7963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nfiguring appl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pplications can have configuratio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figuration file has same name of application and ".config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figuration file can contain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isual Studio .NET provide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app.conf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ile for conven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360" y="2989800"/>
            <a:ext cx="8082000" cy="193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굴림"/>
              </a:rPr>
              <a:t>&lt;!-- SmartClientDemo1.exe.config --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?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xml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version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1.0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encoding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utf-8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?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ppSettings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dd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key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MainFormCaption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value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Barracuda .NET Customer Tracker 1.0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dd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key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AboutCaption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value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Barracuda .NET Customer Tracker 1.0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dd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key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AboutMessage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value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Customer Tracker is produced by Barracuda .NET, Inc.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ppSettings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6040" y="5103000"/>
            <a:ext cx="8078760" cy="155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MainForm_Load(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ender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e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EventArgs)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Handle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MyBas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.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read applications from configuration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.Text = ConfigurationSettings.AppSettings.Item("MainFormCaption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ex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MsgBox(ex.Message, MsgBoxStyle.Exclamation, ex.GetType.Na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25:49Z</dcterms:created>
  <dc:creator>Cyndi</dc:creator>
  <dc:description>Template design: P. Macomber; Silver Fox Productions, Inc.
Formatter:
Event Date:
Event Location:
Speech Length:
Audience:
Key Topics:</dc:description>
  <dc:language>en-US</dc:language>
  <cp:lastModifiedBy>우영식</cp:lastModifiedBy>
  <dcterms:modified xsi:type="dcterms:W3CDTF">2006-04-22T04:03:57Z</dcterms:modified>
  <cp:revision>123</cp:revision>
  <dc:subject>MS Mobility DevCon 2003</dc:subject>
  <dc:title>Slide 1</dc:title>
</cp:coreProperties>
</file>