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88B12-1AFE-44A2-B5A8-A940C954B5A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E763-CCA4-42F1-A18C-D4D0ECB58EB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C225E-4810-4B24-B0BA-67C0DB67FE6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A7500-EF1C-4F96-892B-DA6BFE11752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972E1-80E4-44F1-B849-11990ECB120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C3875-3424-4A23-B245-4BD0B1BE7AB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158BC-75F9-48B6-82A2-E55A5F23236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48950-DA7E-417B-A850-4EF9EAA8E36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1C7BD-7273-4E13-9DDD-9A4EFA629BA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E65F0-21D3-4CF4-860A-28ADA92C772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728C6-EB29-4A64-A614-4FE1288D1FB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A2C4F-0E74-48B2-87C0-74F5A1BED2A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86DED-22AF-4C7D-AB93-0FBEE0D241F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0E16B-C1ED-4FC2-B430-C68EAEC2759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752B3-EC47-46C4-ACB0-7D0C64A0163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4CDFC-FE83-4C6D-B234-3DABCE5D572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Calling Web Services from Partially Trusted Co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is limited to what it ca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call Web service from its ow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call Web service anywher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 smart client application files from the same domain that provides access to the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treaming I/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/O in .NET is built on top of the concept of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is an abstraction representing a generic array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abstracts away details of transmitting/s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eam-based I/O often involves reader and write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riter objects write formatted data into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der objects pull data out of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04960" y="484812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4317840"/>
            <a:ext cx="1667880" cy="1077840"/>
            <a:chOff x="304920" y="4317840"/>
            <a:chExt cx="1667880" cy="1077840"/>
          </a:xfrm>
        </p:grpSpPr>
        <p:sp>
          <p:nvSpPr>
            <p:cNvPr id="91" name=""/>
            <p:cNvSpPr/>
            <p:nvPr/>
          </p:nvSpPr>
          <p:spPr>
            <a:xfrm>
              <a:off x="304920" y="4317840"/>
              <a:ext cx="1401480" cy="1077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ri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4240" y="485532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998720" y="4321080"/>
            <a:ext cx="1667880" cy="1076040"/>
            <a:chOff x="1998720" y="4321080"/>
            <a:chExt cx="1667880" cy="1076040"/>
          </a:xfrm>
        </p:grpSpPr>
        <p:sp>
          <p:nvSpPr>
            <p:cNvPr id="94" name=""/>
            <p:cNvSpPr/>
            <p:nvPr/>
          </p:nvSpPr>
          <p:spPr>
            <a:xfrm>
              <a:off x="1998720" y="4321080"/>
              <a:ext cx="1401480" cy="10760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98040" y="485784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248440" y="485136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5360" y="4114800"/>
            <a:ext cx="1514520" cy="1582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tream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emory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perating syste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network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48440" y="485784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543640" y="4322880"/>
            <a:ext cx="1666440" cy="1077480"/>
            <a:chOff x="5543640" y="4322880"/>
            <a:chExt cx="1666440" cy="1077480"/>
          </a:xfrm>
        </p:grpSpPr>
        <p:sp>
          <p:nvSpPr>
            <p:cNvPr id="100" name=""/>
            <p:cNvSpPr/>
            <p:nvPr/>
          </p:nvSpPr>
          <p:spPr>
            <a:xfrm>
              <a:off x="5543640" y="4322880"/>
              <a:ext cx="1400040" cy="10774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1880" y="4860360"/>
              <a:ext cx="26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209000" y="4307040"/>
            <a:ext cx="1401480" cy="10778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680" y="2448720"/>
            <a:ext cx="858672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 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Create, FileAccess.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Writ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Hello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Goodby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Flush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Flush on writer when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Close to release lock 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text to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ystem.IO.FileStream class provides support for file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ileStream constructor accepts file path, file mode, and fil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Writer object can be used to write text into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54200" y="5460840"/>
            <a:ext cx="5806800" cy="902520"/>
            <a:chOff x="1654200" y="5460840"/>
            <a:chExt cx="5806800" cy="902520"/>
          </a:xfrm>
        </p:grpSpPr>
        <p:sp>
          <p:nvSpPr>
            <p:cNvPr id="107" name=""/>
            <p:cNvSpPr/>
            <p:nvPr/>
          </p:nvSpPr>
          <p:spPr>
            <a:xfrm>
              <a:off x="3468960" y="590472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54200" y="5460840"/>
              <a:ext cx="2162160" cy="901080"/>
              <a:chOff x="1654200" y="5460840"/>
              <a:chExt cx="2162160" cy="901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654200" y="5460840"/>
                <a:ext cx="1816560" cy="90108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StreamWri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68240" y="5910120"/>
                <a:ext cx="3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852000" y="5462280"/>
              <a:ext cx="2160360" cy="901080"/>
              <a:chOff x="3852000" y="5462280"/>
              <a:chExt cx="2160360" cy="90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3852000" y="5462280"/>
                <a:ext cx="1815480" cy="9010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ileStre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64600" y="5911560"/>
                <a:ext cx="3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02720" y="5466600"/>
              <a:ext cx="1358280" cy="872280"/>
            </a:xfrm>
            <a:prstGeom prst="rect">
              <a:avLst/>
            </a:prstGeom>
            <a:solidFill>
              <a:srgbClr val="bc9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Data.t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ileStream object can be opened for rea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Reader object can be used to read text out of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293200"/>
            <a:ext cx="828360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Open, FileAccess.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Read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text out o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ontent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 reader.ReadTo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make sure to close stream when work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ading text from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61120" y="562608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61840" y="5181480"/>
            <a:ext cx="2162880" cy="901440"/>
            <a:chOff x="5361840" y="5181480"/>
            <a:chExt cx="2162880" cy="901440"/>
          </a:xfrm>
        </p:grpSpPr>
        <p:sp>
          <p:nvSpPr>
            <p:cNvPr id="120" name=""/>
            <p:cNvSpPr/>
            <p:nvPr/>
          </p:nvSpPr>
          <p:spPr>
            <a:xfrm flipH="1">
              <a:off x="5706720" y="5181480"/>
              <a:ext cx="1817640" cy="9014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R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361840" y="5631120"/>
              <a:ext cx="3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165840" y="5183280"/>
            <a:ext cx="2160360" cy="901080"/>
            <a:chOff x="3165840" y="5183280"/>
            <a:chExt cx="2160360" cy="901080"/>
          </a:xfrm>
        </p:grpSpPr>
        <p:sp>
          <p:nvSpPr>
            <p:cNvPr id="123" name=""/>
            <p:cNvSpPr/>
            <p:nvPr/>
          </p:nvSpPr>
          <p:spPr>
            <a:xfrm flipH="1">
              <a:off x="3511080" y="5183280"/>
              <a:ext cx="1815120" cy="9010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ile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165840" y="563256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1716840" y="5187960"/>
            <a:ext cx="1359000" cy="871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yData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LR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can automatically serialize in-memory objects to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ation transforms object (or object graph) into byt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transmitted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state can be deserialized into clone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at lat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in differen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4343400"/>
            <a:ext cx="7619760" cy="2057040"/>
            <a:chOff x="609480" y="4343400"/>
            <a:chExt cx="7619760" cy="2057040"/>
          </a:xfrm>
        </p:grpSpPr>
        <p:sp>
          <p:nvSpPr>
            <p:cNvPr id="129" name=""/>
            <p:cNvSpPr/>
            <p:nvPr/>
          </p:nvSpPr>
          <p:spPr>
            <a:xfrm rot="21273000">
              <a:off x="1561320" y="4646160"/>
              <a:ext cx="2417760" cy="53064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8120" y="44949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4343400"/>
              <a:ext cx="1171800" cy="84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273000">
              <a:off x="4861800" y="5516280"/>
              <a:ext cx="2124720" cy="59472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224680" y="57945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057080" y="5491080"/>
              <a:ext cx="1172160" cy="844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on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06360" y="4884840"/>
              <a:ext cx="1171800" cy="90936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Understanding How CLR Serialization 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at types of objects can be ser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bjects created from class with the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can provide automatic ser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serialization requires implementing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Seri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n does object serialization typically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client calls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Serial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on a formatt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an objects is passed over marshaling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93920" y="3116520"/>
            <a:ext cx="4854600" cy="137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ass definition goe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93920" y="2616840"/>
            <a:ext cx="7313400" cy="307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(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ID =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Name =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Salary = Sa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automatic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rialization support for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ation driven through component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es private fields as well as publ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136160"/>
            <a:ext cx="8202600" cy="543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Bina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3-element array of Employee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inary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95680" y="6171840"/>
            <a:ext cx="762120" cy="152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48240" y="5241960"/>
          <a:ext cx="361944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8240" y="5241960"/>
                    <a:ext cx="3619440" cy="153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971800" y="61722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234440"/>
            <a:ext cx="8202600" cy="523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Soa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OAP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5867280"/>
            <a:ext cx="114300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57150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53240" y="5181480"/>
          <a:ext cx="2238480" cy="15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5181480"/>
                    <a:ext cx="2238480" cy="158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rializing an ADO.NET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O.NET DataSet objects are 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kes it easy to save and load from the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4960" y="2333520"/>
            <a:ext cx="8534520" cy="405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av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Create, FileAccess.Wri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CustomerD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serializing a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ataSet can by loaded from stream on local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560" y="1995480"/>
            <a:ext cx="8193240" cy="444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Open, FileAccess.Rea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DataSe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fil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Table with customers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"CustomersTable"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/O and Partially Trusted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/O requires special attention using 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doesn't hav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use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isolated storage for 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void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XML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DataSet object methods such as ReadXML and Write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ed to the CLR to support I/O for partially trus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local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esn’t require giving cod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a DataSet to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2120"/>
            <a:ext cx="853452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-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ileStreams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persist Dataset and Dataset schema with customer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Loading a DataSet from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191600"/>
            <a:ext cx="819324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Streams from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new DataSet and load customer data from dis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y Web service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y have advantages over other distributed communications technologies such as DCOM, CORBA and Java 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municate across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grate applications across vendor and platform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eate business-to-busines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Internet-style security (e.g. SSL, pa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HTTP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Web Services Specifications and Techn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ML (Extensible Markup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XML provides a standard way to repres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SD (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standard type system for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OAP (Simple Object Access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RPC mechanism for invoking Web servi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SDL (Web Service Descrip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language for defining a Web service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WSDL contract is machine readable and human rea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.NET Supports Web Services via Web Metho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provides support for building custom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be deployed using .asm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also be deployed as D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is custom class that inherits from WebServic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thods marked with WebMethod attribute are exposed via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can build WSDL contract dynamically using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provides listener that maps client requests to you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1440" y="4198320"/>
            <a:ext cx="6940440" cy="243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 Class="MyService1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com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yService1 :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eb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HelloWorld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"Hello Worl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Service For The Customer Tracker Ap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this .asmx file on any Web server with AS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97160" y="1872720"/>
            <a:ext cx="6927840" cy="47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"CustomerService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.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net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ystem.Web.Services.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connect to DBMS using AD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retrieve data from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return DataSet with Customers tabl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Web Service proj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projects used to created ASP.NET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ject based on an IIS virtu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creates code-behind .vb files for Web servi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3960" y="2624040"/>
            <a:ext cx="432756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16520" y="3306600"/>
            <a:ext cx="308952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Referen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References used on client-side to access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generate client-side proxy class using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xy class manages SOAP request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7360" y="2654280"/>
            <a:ext cx="5124600" cy="359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46720" y="2803680"/>
            <a:ext cx="240048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ogramming Against A Web Re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pecial Proxy object created on client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exposes easy to us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deals with XML and SOAP behind the s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1440" y="2806200"/>
            <a:ext cx="6278400" cy="18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Down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Web service to download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prox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Services.CustomerSer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proxy.Url = "http://Barracuda.net/CustomerService.asmx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.CustomerDS = proxy.GetCustomer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2680" y="5286240"/>
            <a:ext cx="21351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5746680"/>
            <a:ext cx="2124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480" y="6216480"/>
            <a:ext cx="2127600" cy="4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61320" y="4994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223400" y="5415480"/>
            <a:ext cx="567720" cy="150120"/>
            <a:chOff x="7223400" y="5415480"/>
            <a:chExt cx="567720" cy="150120"/>
          </a:xfrm>
        </p:grpSpPr>
        <p:sp>
          <p:nvSpPr>
            <p:cNvPr id="75" name=""/>
            <p:cNvSpPr/>
            <p:nvPr/>
          </p:nvSpPr>
          <p:spPr>
            <a:xfrm flipH="1">
              <a:off x="7223400" y="556272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226640" y="541548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138400" cy="2179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85680" y="5181480"/>
            <a:ext cx="1300320" cy="6098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99320" y="5434200"/>
            <a:ext cx="2726640" cy="163440"/>
            <a:chOff x="2299320" y="5434200"/>
            <a:chExt cx="2726640" cy="163440"/>
          </a:xfrm>
        </p:grpSpPr>
        <p:sp>
          <p:nvSpPr>
            <p:cNvPr id="80" name=""/>
            <p:cNvSpPr/>
            <p:nvPr/>
          </p:nvSpPr>
          <p:spPr>
            <a:xfrm flipH="1">
              <a:off x="2299320" y="5594400"/>
              <a:ext cx="27064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17320" y="5434200"/>
              <a:ext cx="27086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Cloud"/>
          <p:cNvSpPr/>
          <p:nvPr/>
        </p:nvSpPr>
        <p:spPr>
          <a:xfrm flipH="1">
            <a:off x="2814480" y="5076720"/>
            <a:ext cx="1524240" cy="84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ML/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9:40Z</dcterms:modified>
  <cp:revision>123</cp:revision>
  <dc:subject>MS Mobility DevCon 2003</dc:subject>
  <dc:title>Slide 1</dc:title>
</cp:coreProperties>
</file>