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1270B-0F41-4CE4-8FC6-039EFDBAF7A4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BEE79-05C2-4CE8-AC74-D28A5A68D3C0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ECE09-18EF-43F2-BF3D-AAB8CBDB75A2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2AB47-406C-464A-A2E5-136BA9FAD9AA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0ED3E-AB0D-49FD-AA73-6A27F564D632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E08F9-8AB3-4AA9-AEC9-2CE79BEFF80D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84435-A90A-46C2-A346-53571FED4B79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3D0D2-A788-4F0E-AFF1-4AB7A7EA93E9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D11FD-53B6-4F48-BB21-31A7E8C477AB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00F1E-BE41-43DE-B546-F9A58CB55445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E9039-6569-4CB3-9589-DA1A1814D67F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5A89B-651D-4AF9-A90C-46A8DD24089E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E2BA3-C010-4800-BB97-77AEDFC58625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CD2D0-B6B2-40A5-92BC-CF7A1A25F348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7A7FF-DB23-4FC4-81B8-A1ADB5BAB8DB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F4AE7-A645-4258-A0FA-DAA6CBFD5DA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88B58-227D-489F-9D08-87D3A55C63EA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28680" y="72720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115D9-58F0-4FF7-8489-88F525464A18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28680" y="72720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191A1-A82F-4587-B340-EE3E2D70C97A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8680" y="72720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D6E4C-810F-4C3B-8ACE-E5E3795DFA3B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933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굴림"/>
              </a:rPr>
              <a:t>BUILDING SMART CLIENT APPLICATION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raditional Windows secur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indows has always had a process-centric securit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ach process runs with identity and permissions of a specific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ll code in process runs with identity and permissions of this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s a process-centric security model effec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Yes, in cases where one company has written all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, in cases where code comes from many different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, in the case where code is downloaded from a partially trusted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22200" y="4022640"/>
            <a:ext cx="2475000" cy="219384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indow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running as Bet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4880" y="5146560"/>
            <a:ext cx="1671840" cy="34776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95520" y="4695840"/>
            <a:ext cx="1671480" cy="34776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BobsApp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9560" y="5580000"/>
            <a:ext cx="1671840" cy="34776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741840" y="493704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 flipV="1">
            <a:off x="5591160" y="5916240"/>
            <a:ext cx="12016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99160" y="5759280"/>
            <a:ext cx="2163960" cy="29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Betty the computer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440160" y="4259160"/>
            <a:ext cx="1582560" cy="6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1880" y="3976560"/>
            <a:ext cx="3760920" cy="538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ll code in process runs with Betty's identity and Betty's per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ere does managed code come from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anaged Code may originate from many different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ocal hard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ocal intra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297480" y="4141800"/>
            <a:ext cx="154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Intranet Fil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or 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304280" y="3341520"/>
            <a:ext cx="2762280" cy="2365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.NET applicatio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unning as Bet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774080" y="4564080"/>
            <a:ext cx="1865160" cy="396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783800" y="4046400"/>
            <a:ext cx="1866600" cy="3985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BobsApp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8320" y="5059440"/>
            <a:ext cx="1866960" cy="398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710160" y="2955960"/>
            <a:ext cx="1511280" cy="11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540320" y="2567160"/>
            <a:ext cx="1249200" cy="750600"/>
          </a:xfrm>
          <a:prstGeom prst="can">
            <a:avLst>
              <a:gd name="adj" fmla="val 25046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lo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hard d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708360" y="5300640"/>
            <a:ext cx="420696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Cloud"/>
          <p:cNvSpPr/>
          <p:nvPr/>
        </p:nvSpPr>
        <p:spPr>
          <a:xfrm flipH="1">
            <a:off x="4628520" y="4995720"/>
            <a:ext cx="2144520" cy="951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710160" y="3181320"/>
            <a:ext cx="3155760" cy="15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ower"/>
          <p:cNvSpPr/>
          <p:nvPr/>
        </p:nvSpPr>
        <p:spPr>
          <a:xfrm flipH="1">
            <a:off x="7323120" y="4708440"/>
            <a:ext cx="954000" cy="1516320"/>
          </a:xfrm>
          <a:prstGeom prst="pi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7292160" y="623556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ower"/>
          <p:cNvSpPr/>
          <p:nvPr/>
        </p:nvSpPr>
        <p:spPr>
          <a:xfrm flipH="1">
            <a:off x="6546960" y="2614680"/>
            <a:ext cx="954000" cy="151596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Motivation for component-centric secur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raditional Windows security doesn’t suffice many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ndesirable for all code to run with same permissions as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de from different origins must be handled diffe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7720" y="2743200"/>
            <a:ext cx="4043520" cy="2743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Windows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running as B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5280" y="4022640"/>
            <a:ext cx="18828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8160" y="3427560"/>
            <a:ext cx="1884600" cy="50472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BobsApp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960" y="4600440"/>
            <a:ext cx="1884240" cy="5032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590560" y="487656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2590920" y="4343040"/>
            <a:ext cx="457200" cy="13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46280" y="3605040"/>
            <a:ext cx="488880" cy="9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21120" y="3341520"/>
            <a:ext cx="5672160" cy="52020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ode from executable application launched from local hard drive should run without security restri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21120" y="4243320"/>
            <a:ext cx="5640120" cy="520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ode downloaded from Intranet server should run with a more restrictive set of per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5105520"/>
            <a:ext cx="5640120" cy="7333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ode downloaded from unknown Internet server should run in highly restrictive sandbox to prevent security breeches, viruses, worms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de Access Secur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introduces new model called Code Access Security (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S is a preventative, component-centric security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S layers on top of security provided by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ow does CAS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assembly loader discovers evidence of assembly 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assembly loader discovers evidence of assembly pro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de from different origins/producers given varying levels of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can be run using custom permission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de from unknown origins/producers runs in restrictive sand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Host Evid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gathers host evidence while loading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ost evidence tracks information about where the code came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ost evidence tracks information about who published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vidence about where the code came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pplication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vidence about who wrote th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rong name (i.e. public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ublisher (i.e X.509 certific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Zo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Zone evidence is created using information in U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yComputer - code originating from local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tranet - code originating from file server or WINS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rusted - code originating from Url known to be tru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ternet - code originating from DNS or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ntrusted - code originating from Url known to be untru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3480" y="3995640"/>
            <a:ext cx="4297320" cy="243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defined in mscorlib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amespac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u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ecurityZ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NoZone = 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My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Trus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Untrus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ame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ecurity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y access rights controlled through securit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ermissions determine what an assembly can and cannot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assigns permissions to assembly at load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assigns permissions to assembly based on host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ecurity policy is based on four important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ecurity policy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er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ermission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de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dministering security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here are two tools to administrate security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SCORCFG.MSC - a visual admin tool that's an MMC snap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SPOL.EXE - a command-line driven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7720" y="2722680"/>
            <a:ext cx="7661160" cy="34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ecurity Policy Leve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ecurity policy is set at four different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l levels must agree to grant a per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ne policy level cannot lift restrictions defined by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y default, machine level is only level that imposes restr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23760" y="2921040"/>
          <a:ext cx="6904080" cy="35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2921040"/>
                    <a:ext cx="6904080" cy="359100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197160" y="4068720"/>
            <a:ext cx="5695920" cy="3650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  <a:ea typeface="굴림"/>
              </a:rPr>
              <a:t>AppDomain-leve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  <a:ea typeface="굴림"/>
              </a:rPr>
              <a:t>not stored in system-defined file - dynamic settings created by host enviro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649600" y="4979880"/>
            <a:ext cx="1295280" cy="21600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625840" y="5400720"/>
            <a:ext cx="1193760" cy="6336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373120" y="6087960"/>
            <a:ext cx="1422360" cy="2556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6880" y="4792680"/>
            <a:ext cx="5270760" cy="361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  <a:ea typeface="굴림"/>
              </a:rPr>
              <a:t>Enterprise-leve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  <a:ea typeface="굴림"/>
              </a:rPr>
              <a:t>C:\WINDOWS\Microsoft.NET\Framework\v1.1.4322\config\enterprisesec.conf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6800" y="5289480"/>
            <a:ext cx="4864320" cy="3621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  <a:ea typeface="굴림"/>
              </a:rPr>
              <a:t>Machine-leve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  <a:ea typeface="굴림"/>
              </a:rPr>
              <a:t>C:\WINDOWS\Microsoft.NET\Framework\v1.1.4322\config\security.conf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89360" y="5811840"/>
            <a:ext cx="4359240" cy="539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  <a:ea typeface="굴림"/>
              </a:rPr>
              <a:t>User-leve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  <a:ea typeface="굴림"/>
              </a:rPr>
              <a:t>C:\Documents and Settings\BobTheUser\Application Data\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  <a:ea typeface="굴림"/>
              </a:rPr>
              <a:t>Microsoft\CLR Security Config\v1.1.4322\security.conf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Permiss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ermissions allow code to do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ships with many built-in permissio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49440" y="2227320"/>
          <a:ext cx="7989840" cy="4394160"/>
        </p:xfrm>
        <a:graphic>
          <a:graphicData uri="http://schemas.openxmlformats.org/drawingml/2006/table">
            <a:tbl>
              <a:tblPr/>
              <a:tblGrid>
                <a:gridCol w="2387520"/>
                <a:gridCol w="5602320"/>
              </a:tblGrid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uilt-in permission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irectoryServices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llows control of code access security permissions for System.Directory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ns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rights to access Domain Name System (DNS) servers on the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ventLog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event 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nvironment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system and user environment vari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ileDialog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the ability to access files or folders through a file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ileIO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the ability to access files and fol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IsolatedStorageFile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pecifies the allowed usage of a private virtual file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OleDb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data through OleDb provi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erformanceCounter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performance counter statis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rinting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prin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Reflection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metadata through the System.Reflection API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Registry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the ability to access registry vari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curity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escribes a set of security permissions applied to 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qlClient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data through SqlClient provi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UI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the permissions related to user interfaces and the clipboa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No-touch Deploy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application-specific setup program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r seamlessly downloads updated applicatio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r's PC must already have the .NET Framework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r must launch EXE file from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hr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ag on Web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pplication code must run within partially trusted security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Permission Se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 permission set represents a collection of per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ermission sets make permission assignment more manage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S provides several built-in named permission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S allows you to create custom permission sets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47840" y="3029040"/>
            <a:ext cx="3039480" cy="3387240"/>
            <a:chOff x="447840" y="3029040"/>
            <a:chExt cx="3039480" cy="3387240"/>
          </a:xfrm>
        </p:grpSpPr>
        <p:graphicFrame>
          <p:nvGraphicFramePr>
            <p:cNvPr id="151" name=""/>
            <p:cNvGraphicFramePr/>
            <p:nvPr/>
          </p:nvGraphicFramePr>
          <p:xfrm>
            <a:off x="515160" y="3029040"/>
            <a:ext cx="2972160" cy="3266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5160" y="3029040"/>
                      <a:ext cx="2972160" cy="326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524880" y="6150600"/>
              <a:ext cx="294120" cy="26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7840" y="3141000"/>
              <a:ext cx="108360" cy="19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 flipH="1">
            <a:off x="2543040" y="3292560"/>
            <a:ext cx="1447920" cy="34272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255840" y="3763800"/>
            <a:ext cx="673200" cy="21600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49320" y="4222800"/>
            <a:ext cx="1168200" cy="22860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496960" y="4732200"/>
            <a:ext cx="1384560" cy="13968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095640" y="5292360"/>
            <a:ext cx="952560" cy="5076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550960" y="5713200"/>
            <a:ext cx="1447920" cy="17748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2806200" y="6121080"/>
            <a:ext cx="1257480" cy="30492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7760" y="2978280"/>
            <a:ext cx="507996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Allows full access to all resources and .NET framework class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59200" y="3602160"/>
            <a:ext cx="507996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Grants right to bypass the 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4035600"/>
            <a:ext cx="507996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Permits execution of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7640" y="4468680"/>
            <a:ext cx="50803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Denies all resources, including the right to exec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6840" y="5105520"/>
            <a:ext cx="507996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Default rights given to applications on the local intr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78280" y="5742000"/>
            <a:ext cx="507996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Default rights given to internet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67120" y="6137280"/>
            <a:ext cx="507996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Allows unrestricted access to all resources covered by built-in per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reating a Custom Permission Se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SCORCFG.MSC provides wizard to create a permission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ermissions can be configured and added to permission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16000" y="2187720"/>
            <a:ext cx="4562280" cy="4448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143680" y="2130480"/>
            <a:ext cx="3771720" cy="3990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V="1">
            <a:off x="4476600" y="3357360"/>
            <a:ext cx="874800" cy="191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de Group Tre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ach policy level consists of a tree of cod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provides several built-in cod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can also create custom code grou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ode groups can have parent-chil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ild code group criteria evaluated only if parent criteria are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079720" y="3411360"/>
          <a:ext cx="2838240" cy="32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9720" y="3411360"/>
                    <a:ext cx="283824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flipH="1">
            <a:off x="4214880" y="5629320"/>
            <a:ext cx="1533600" cy="482400"/>
          </a:xfrm>
          <a:prstGeom prst="line">
            <a:avLst/>
          </a:prstGeom>
          <a:ln w="284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96080" y="5452560"/>
            <a:ext cx="2091960" cy="337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ustom code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reating a custom code group by ha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teps to creating a custom cod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vide a name for your cod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pecify a membership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ign a permission set to your cod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90720" y="3043080"/>
            <a:ext cx="3581280" cy="3440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952880" y="3036960"/>
            <a:ext cx="3581640" cy="34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AS and No-touch Deploy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ith no-touch deployment, EXE runs without Full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e runs within CAS sandbox by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e must be written to run in partially trusted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nnot call into strongly-named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s limited to what it can do around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s limited to where is can write on the local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nnot write to the Windows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llowPartiallyTrustedCallersAttribu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y with strong name imposes a noteworthy rest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y default, can only be used by caller that is fully tr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y default, cannot be used by application launched from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fault behavior overridden using AllowPartiallyTrustedCallers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34920" y="2911680"/>
            <a:ext cx="7131240" cy="22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ssemblyInfo.vb file within BobsLibrary.vb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Ref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important attributes that affect assembly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Version("1.0.24.0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KeyFile("..\..\BobsKey.snk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llow partially trusted caller to access this 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llowPartiallyTrustedCallers(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Modifying Local CAS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ccomplished using an MSI file install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must write code to create and configure a new cod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can you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modify CAS policy so an EXE runs with specific per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modify CAS policy so an EXE runs with full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738440" y="2266920"/>
            <a:ext cx="369864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Steps to Creating MSI File To Modify CAS Polic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 a new Setup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dd a new Class Library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dd an Installe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 handler for BeforeInstall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24160" y="3917520"/>
            <a:ext cx="5792760" cy="277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ComponentMo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Configuration.Inst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&lt;RunInstaller(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)&gt; 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Insta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Inheri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Configuration.Install.Insta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Installer_BeforeInstall(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ByVa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sender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Objec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, 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ByVa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e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InstallEventArgs) 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Handle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MyBa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.BeforeInst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dd code to configure local CAS poli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3160" y="2862360"/>
            <a:ext cx="2739960" cy="2022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388200" y="1363680"/>
            <a:ext cx="2404800" cy="1652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08320" y="3498840"/>
            <a:ext cx="1417680" cy="277920"/>
          </a:xfrm>
          <a:custGeom>
            <a:avLst/>
            <a:gdLst/>
            <a:ahLst/>
            <a:rect l="l" t="t" r="r" b="b"/>
            <a:pathLst>
              <a:path w="751" h="175">
                <a:moveTo>
                  <a:pt x="0" y="0"/>
                </a:moveTo>
                <a:cubicBezTo>
                  <a:pt x="208" y="10"/>
                  <a:pt x="417" y="21"/>
                  <a:pt x="542" y="50"/>
                </a:cubicBezTo>
                <a:cubicBezTo>
                  <a:pt x="667" y="79"/>
                  <a:pt x="716" y="154"/>
                  <a:pt x="751" y="175"/>
                </a:cubicBezTo>
              </a:path>
            </a:pathLst>
          </a:custGeom>
          <a:noFill/>
          <a:ln w="28440">
            <a:solidFill>
              <a:srgbClr val="66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de For Modifying CAS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0" y="15840"/>
            <a:ext cx="9139320" cy="670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Component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Configuration.Inst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Security.Per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Security.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&lt;RunInstaller(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)&gt;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Installer :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nheri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Insta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Installer_BeforeInstall(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 …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)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Handle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MyBas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.BeforeInst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1) find Machine-wide policy level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machinePolicyLevel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ursor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IEnumerator = SecurityManager.PolicyHierarc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o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(cursor.MoveN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urrent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Level =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Typ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(cursor.Current, PolicyLev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(current.Label = "Machine")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machinePolicyLevel =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xit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2) create membership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ondition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UrlMembershipCondition("http://Barracuda.net/*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3) create code group using FullTrust named permission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ermissionsetFullTrust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NamedPermissionSet("FullTrust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Statement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Statement(permissionsetFullTru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BarracudaCodeGroup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ode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BarracudaCodeGroup =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UnionCodeGroup(condition, policyStat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BarracudaCodeGroup.Name = "Barracuda_FullTrust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BarracudaCodeGroup.Description = "Custom code group for no-touch deployment app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4) add code group to machine policy level and then sav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machinePolicyLevel.RootCodeGroup.AddChild(BarracudaCodeGrou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SecurityManager.SavePolicy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5080" y="4495680"/>
            <a:ext cx="2050920" cy="2332080"/>
          </a:xfrm>
          <a:prstGeom prst="can">
            <a:avLst>
              <a:gd name="adj" fmla="val 9569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ocal Hard D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How does no-touch deployment work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R provides a hook (</a:t>
            </a:r>
            <a:r>
              <a:rPr b="0" lang="en-US" sz="20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) in Intern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hooks in when launching managed EXE from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hr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responsible for downloading/running manag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uses version-aware c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275440"/>
            <a:ext cx="1631880" cy="334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App.exe.conf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DateTime: 10:36 PM 10/31/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883040"/>
            <a:ext cx="1628640" cy="3351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App.ex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DateTime: 7:10 AM 10/1/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66000"/>
            <a:ext cx="1647720" cy="334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BobsLibrary.d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Version: 2.1.1969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5670720"/>
            <a:ext cx="1635120" cy="334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Library.d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Version: 1.0.2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2743200" cy="2092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91320" y="3586680"/>
            <a:ext cx="2895480" cy="27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href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MyApp.exe"&gt;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HER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5151600"/>
            <a:ext cx="2057400" cy="1676160"/>
          </a:xfrm>
          <a:prstGeom prst="can">
            <a:avLst>
              <a:gd name="adj" fmla="val 11935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eb 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015320" y="5486400"/>
            <a:ext cx="1212480" cy="960120"/>
            <a:chOff x="7015320" y="5486400"/>
            <a:chExt cx="1212480" cy="960120"/>
          </a:xfrm>
        </p:grpSpPr>
        <p:sp>
          <p:nvSpPr>
            <p:cNvPr id="60" name=""/>
            <p:cNvSpPr/>
            <p:nvPr/>
          </p:nvSpPr>
          <p:spPr>
            <a:xfrm>
              <a:off x="7018920" y="5731560"/>
              <a:ext cx="1196280" cy="2116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App.exe.confi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15320" y="5486400"/>
              <a:ext cx="1198800" cy="210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App.ex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30440" y="6235920"/>
              <a:ext cx="1197360" cy="210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bsLibrary.d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27920" y="5989320"/>
              <a:ext cx="1197360" cy="210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Library.d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 rot="294600">
            <a:off x="2362320" y="5410080"/>
            <a:ext cx="4190760" cy="406440"/>
          </a:xfrm>
          <a:custGeom>
            <a:avLst/>
            <a:gdLst/>
            <a:ahLst/>
            <a:rect l="l" t="t" r="r" b="b"/>
            <a:pathLst>
              <a:path w="2640" h="256">
                <a:moveTo>
                  <a:pt x="2640" y="256"/>
                </a:moveTo>
                <a:cubicBezTo>
                  <a:pt x="2260" y="144"/>
                  <a:pt x="1880" y="32"/>
                  <a:pt x="1440" y="16"/>
                </a:cubicBezTo>
                <a:cubicBezTo>
                  <a:pt x="1000" y="0"/>
                  <a:pt x="500" y="80"/>
                  <a:pt x="0" y="160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94120" y="5105520"/>
            <a:ext cx="1668600" cy="62388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EExec.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22560" y="3733920"/>
            <a:ext cx="2692440" cy="761760"/>
          </a:xfrm>
          <a:custGeom>
            <a:avLst/>
            <a:gdLst/>
            <a:ahLst/>
            <a:rect l="l" t="t" r="r" b="b"/>
            <a:pathLst>
              <a:path w="1840" h="576">
                <a:moveTo>
                  <a:pt x="16" y="576"/>
                </a:moveTo>
                <a:cubicBezTo>
                  <a:pt x="8" y="480"/>
                  <a:pt x="0" y="384"/>
                  <a:pt x="304" y="288"/>
                </a:cubicBezTo>
                <a:cubicBezTo>
                  <a:pt x="608" y="192"/>
                  <a:pt x="1224" y="96"/>
                  <a:pt x="1840" y="0"/>
                </a:cubicBez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Download Cach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R copies all remote code to local download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events the need to download an EXE or DLL more than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lows user to work in offline mode (with cavea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teresting facts about the download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t's maintained on a per-user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ota for storage space can be configured on a per-user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e in download cache not consider fully tru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Version-aware Caching (1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Upon first request to run an application EX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EXE file is copied to the download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pplication configuration file is downloaded and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LLs in AppBase directory are copied into the download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124080"/>
            <a:ext cx="5121360" cy="175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92160" bIns="92160" anchor="t">
            <a:spAutoFit/>
          </a:bodyPr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GET /MyApp.exe HTTP/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: */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-Language: en-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-Encoding: gzip, def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User-Agent: Mozilla/4.0 (compatible; MSIE 6.0; Windows NT 5.1; Q312461; .NET CLR 1.0.37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Host: local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Connection: Keep-Al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4495680"/>
            <a:ext cx="5334120" cy="218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92160" bIns="92160" anchor="t">
            <a:spAutoFit/>
          </a:bodyPr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HTTP/1.1 20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Server: Microsoft-IIS/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Date: Fri, 01 Feb 2002 02:11:29 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Content-Type: application/octet-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-Ranges: 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Last-Modified: Fri, 01 Feb 2002 01:41:16 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ETag: "50aae089c1aac11:916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Content-Length: 450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&lt;&lt;stream of bytes from MyApp.exe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Version-aware Caching (2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en application EXE is launched from an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hre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ta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ompares date-time stamp before down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downloads updated EXE file if date-time stamp is more recent than copy of EXE in download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doesn't care about EXE's assembly versio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8800" y="3505320"/>
            <a:ext cx="7010280" cy="19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92160" bIns="92160" anchor="t">
            <a:spAutoFit/>
          </a:bodyPr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GET /MyApp.exe HTTP/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: */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-Language: en-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-Encoding: gzip, def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If-Modified-Since: Fri, 01 Feb 2002 01:41:16 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If-None-Match: "50aae089c1aac11:916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User-Agent: Mozilla/4.0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Host: local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Connection: Keep-Al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5149800"/>
            <a:ext cx="5105520" cy="1173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92160" bIns="92160" anchor="t">
            <a:spAutoFit/>
          </a:bodyPr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HTTP/1.1 304 Not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Server: Microsoft-IIS/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Date: Fri, 01 Feb 2002 02:42:03 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ETag: "a0fa92bc8aac11:916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Content-Length: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Limitations of URL-launched Applic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must have connectivity to Web server by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from CLR download cache when disconnected requires "Work Offline" mode to be selected in 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s only detected at application laun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 must quit and restart to pick up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SP.NET and .NET configuration fil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P.NET doesn't allow access to *.config files by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one to prevent the bad guy from downloading web.conf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events downloading of application configuration files 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-touch deployment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is behavior can be disabled using custom web.config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040" y="3364560"/>
            <a:ext cx="8183520" cy="326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?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xml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version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1.0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encoding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utf-8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?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system.web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httpHandlers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!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-- allow downloading of all configuration files --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remove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verb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*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path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*.config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!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-- disallow downloading of web.config file --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add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verb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*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path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web.config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type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System.Web.HttpForbiddenHandler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httpHandlers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system.web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eloping Smart Cli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What is a Smart Client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Deploying and Testing Smart Cli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Code Acc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mmunicating With a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Features of the Microsoft Off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9:25:49Z</dcterms:created>
  <dc:creator>Cyndi</dc:creator>
  <dc:description>Template design: P. Macomber; Silver Fox Productions, Inc.
Formatter:
Event Date:
Event Location:
Speech Length:
Audience:
Key Topics:</dc:description>
  <dc:language>en-US</dc:language>
  <cp:lastModifiedBy>우영식</cp:lastModifiedBy>
  <dcterms:modified xsi:type="dcterms:W3CDTF">2006-04-22T04:12:43Z</dcterms:modified>
  <cp:revision>123</cp:revision>
  <dc:subject>MS Mobility DevCon 2003</dc:subject>
  <dc:title>Slide 1</dc:title>
</cp:coreProperties>
</file>