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465C9-ACAE-4B58-8E78-08EBCE63753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29579-5883-4F14-B474-E708050DCCA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FD375-A20B-4A1D-A9BA-F4F052F601C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D2B2-5007-46E5-99DB-8D1CB8613A5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996B6-7FCA-417E-8046-4D17E10C873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2FCB6-53FB-4EF6-8BE7-56AD58D5D15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11445-9D18-4A22-ABD8-0824F669DB7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26631-4424-45A6-8BB7-3876B37AC6AD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77C9-6FDF-434C-9FA7-F215DC163B49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2F8B7-72C2-40DB-BFD8-E4ACFCFD002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94341-C807-4A63-B87A-CE746AD080E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8C35E-AE8F-4A77-82EA-EE17F17BC607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6A824-8D15-4C54-A7B1-17F6D250802B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41BB7-A30F-47F3-9B3C-7AF198693075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FF4BE-2989-4958-A9F4-491D85F15174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2EAD3-14FC-414A-ABA4-A50A76E57491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187F5-C29C-49EB-A15F-91D5E7D58FBF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D0577-1924-4DD2-82E3-07E553E77B50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F9A77-ADCC-41A7-8017-776F152E67DA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28680" y="727200"/>
            <a:ext cx="4951440" cy="371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0350-C23C-4730-ADC5-EBBF7196EEB6}" type="slidenum"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8640" y="517680"/>
            <a:ext cx="5300640" cy="3975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8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33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  <a:ea typeface="굴림"/>
              </a:rPr>
              <a:t>BUILDING SMART CLIENT APPLICATIONS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raditional Window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indows has always had a process-centric securit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ach process runs with identity and permissions of a specific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identity and permissions of thi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a process-centric security model effect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Yes, in cases where one company has written all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cases where code comes from many different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, in the case where code is downloaded from a partially trusted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4022640"/>
            <a:ext cx="2475000" cy="21938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4880" y="514656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95520" y="4695840"/>
            <a:ext cx="167148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9560" y="5580000"/>
            <a:ext cx="1671840" cy="34776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741840" y="49370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5591160" y="5916240"/>
            <a:ext cx="12016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9160" y="5759280"/>
            <a:ext cx="2163960" cy="29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etty the computer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440160" y="4259160"/>
            <a:ext cx="158256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1880" y="3976560"/>
            <a:ext cx="3760920" cy="538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ll code in process runs with Betty's identity and Betty's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Where does managed code come from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aged Code may originate from many different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ocal intr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297480" y="414180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ntranet Fil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r 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04280" y="3341520"/>
            <a:ext cx="2762280" cy="2365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.NET appl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774080" y="4564080"/>
            <a:ext cx="1865160" cy="396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83800" y="4046400"/>
            <a:ext cx="1866600" cy="398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8320" y="5059440"/>
            <a:ext cx="1866960" cy="398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710160" y="2955960"/>
            <a:ext cx="151128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540320" y="2567160"/>
            <a:ext cx="1249200" cy="750600"/>
          </a:xfrm>
          <a:prstGeom prst="can">
            <a:avLst>
              <a:gd name="adj" fmla="val 25046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ard dr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708360" y="5300640"/>
            <a:ext cx="420696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Cloud"/>
          <p:cNvSpPr/>
          <p:nvPr/>
        </p:nvSpPr>
        <p:spPr>
          <a:xfrm flipH="1">
            <a:off x="4628520" y="4995720"/>
            <a:ext cx="2144520" cy="951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10160" y="3181320"/>
            <a:ext cx="3155760" cy="15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ower"/>
          <p:cNvSpPr/>
          <p:nvPr/>
        </p:nvSpPr>
        <p:spPr>
          <a:xfrm flipH="1">
            <a:off x="7323120" y="4708440"/>
            <a:ext cx="954000" cy="1516320"/>
          </a:xfrm>
          <a:prstGeom prst="pi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292160" y="623556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ower"/>
          <p:cNvSpPr/>
          <p:nvPr/>
        </p:nvSpPr>
        <p:spPr>
          <a:xfrm flipH="1">
            <a:off x="6546960" y="2614680"/>
            <a:ext cx="954000" cy="151596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tivation for component-centric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aditional Windows security doesn’t suffice many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ndesirable for all code to run with same permissions as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 must be handled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7720" y="2743200"/>
            <a:ext cx="4043520" cy="2743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indows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running as B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280" y="4022640"/>
            <a:ext cx="18828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160" y="3427560"/>
            <a:ext cx="1884600" cy="50472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BobsApp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4600440"/>
            <a:ext cx="1884240" cy="503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allysCode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590560" y="4876560"/>
            <a:ext cx="60948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2590920" y="4343040"/>
            <a:ext cx="457200" cy="13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46280" y="3605040"/>
            <a:ext cx="488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21120" y="3341520"/>
            <a:ext cx="5672160" cy="520200"/>
          </a:xfrm>
          <a:prstGeom prst="rect">
            <a:avLst/>
          </a:prstGeom>
          <a:solidFill>
            <a:srgbClr val="8fd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from executable application launched from local hard drive should run without security restr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21120" y="4243320"/>
            <a:ext cx="5640120" cy="520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Intranet server should run with a more restrictive set of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5640120" cy="7333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de downloaded from unknown Internet server should run in highly restrictive sandbox to prevent security breeches, viruses, worms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Access Secur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introduces new model called Code Access Security (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is a preventative, component-centric securit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S layers on top of security provided by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ow does CAS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embly loader discovers evidence of assembly pro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different origins/producers given varying levels of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 can be run using custom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from unknown origins/producers runs in restrictive sand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st Evid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gathers host evidence while loading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ere the code cam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ost evidence tracks information about who published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ere the code came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vidence about who wrote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rong name (i.e. public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ublisher (i.e X.509 certific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Z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Zone evidence is created using information in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yComputer - code originating from local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ranet - code originating from file server or WINS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rusted - code originating from Url known to be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ernet - code originating from DNS or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ntrusted - code originating from Url known to be un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3995640"/>
            <a:ext cx="429732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defined in mscorlib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ecurityZ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NoZone =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MyComp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Untru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access rights controlled through securit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determine what an assembly can and cannot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at loa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R assigns permissions to assembly based on host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based on four importa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od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dministering securit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There are two tools to administrate secur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- a visual admin tool that's an MMC snap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POL.EXE - a command-line driven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7720" y="2722680"/>
            <a:ext cx="766116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Security Policy Lev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ecurity policy is set at four differe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 levels must agree to grant a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e policy level cannot lift restrictions defined by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y default, machine level is only level that imposes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3760" y="2921040"/>
          <a:ext cx="6904080" cy="35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2921040"/>
                    <a:ext cx="6904080" cy="359100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197160" y="4068720"/>
            <a:ext cx="5695920" cy="365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AppDomain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not stored in system-defined file - dynamic settings created by host environ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649600" y="4979880"/>
            <a:ext cx="129528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625840" y="5400720"/>
            <a:ext cx="1193760" cy="633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373120" y="6087960"/>
            <a:ext cx="1422360" cy="255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6880" y="4792680"/>
            <a:ext cx="5270760" cy="361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Enterpris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enterprisesec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6800" y="5289480"/>
            <a:ext cx="4864320" cy="362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WINDOWS\Microsoft.NET\Framework\v1.1.4322\config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89360" y="5811840"/>
            <a:ext cx="4359240" cy="53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  <a:ea typeface="굴림"/>
              </a:rPr>
              <a:t>User-level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C:\Documents and Settings\BobTheUser\Application Data\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  <a:ea typeface="굴림"/>
              </a:rPr>
              <a:t>Microsoft\CLR Security Config\v1.1.4322\security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ermissions allow code to do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ships with many built-in permiss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49440" y="2227320"/>
          <a:ext cx="7989840" cy="4394160"/>
        </p:xfrm>
        <a:graphic>
          <a:graphicData uri="http://schemas.openxmlformats.org/drawingml/2006/table">
            <a:tbl>
              <a:tblPr/>
              <a:tblGrid>
                <a:gridCol w="2387520"/>
                <a:gridCol w="5602320"/>
              </a:tblGrid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uilt-in permission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urpo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irectoryService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ows control of code access security permissions for System.Directory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ns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rights to access Domain Name System (DNS) servers on the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ventLo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event 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vironment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system and user environment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Dialog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or folders through a file dialo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ileIO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files and fol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IsolatedStorageFile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pecifies the allowed usage of a private virtual file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leDb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OleDb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erformanceCounter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erformance counter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PrintingPermi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pri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flection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metadata through the System.Reflection AP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egistr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ability to access registry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curity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scribes a set of security permissions applied to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qlClient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access to data through SqlClient prov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IPermiss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ontrols the permissions related to user interfaces and the clipbo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 application-specific setup progra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seamlessly downloads updated application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's PC must already have the .NET Framework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User must launch EXE fil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ag on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rawb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de must run within partially trusted security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Permission Se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permission set represents a collection of per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mission sets make permission assignment more manag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provides several built-in named permission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S allows you to create custom permission se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7840" y="3029040"/>
            <a:ext cx="3039480" cy="3387240"/>
            <a:chOff x="447840" y="3029040"/>
            <a:chExt cx="3039480" cy="3387240"/>
          </a:xfrm>
        </p:grpSpPr>
        <p:graphicFrame>
          <p:nvGraphicFramePr>
            <p:cNvPr id="151" name=""/>
            <p:cNvGraphicFramePr/>
            <p:nvPr/>
          </p:nvGraphicFramePr>
          <p:xfrm>
            <a:off x="515160" y="3029040"/>
            <a:ext cx="2972160" cy="326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5160" y="3029040"/>
                      <a:ext cx="2972160" cy="32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524880" y="6150600"/>
              <a:ext cx="294120" cy="26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7840" y="3141000"/>
              <a:ext cx="108360" cy="19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H="1">
            <a:off x="2543040" y="3292560"/>
            <a:ext cx="1447920" cy="3427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255840" y="3763800"/>
            <a:ext cx="673200" cy="2160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9320" y="4222800"/>
            <a:ext cx="1168200" cy="22860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496960" y="4732200"/>
            <a:ext cx="1384560" cy="1396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095640" y="5292360"/>
            <a:ext cx="952560" cy="5076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50960" y="5713200"/>
            <a:ext cx="1447920" cy="17748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2806200" y="6121080"/>
            <a:ext cx="1257480" cy="304920"/>
          </a:xfrm>
          <a:prstGeom prst="line">
            <a:avLst/>
          </a:prstGeom>
          <a:ln w="1260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7760" y="2978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full access to all resources and .NET framework class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9200" y="360216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Grants right to bypass the ver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40356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Permits execution of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7640" y="4468680"/>
            <a:ext cx="50803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nies all resources, including the right to exec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6840" y="510552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applications on the local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78280" y="5742000"/>
            <a:ext cx="507996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Default rights given to internet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7120" y="6137280"/>
            <a:ext cx="50799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Allows unrestricted access to all resources covered by built-in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Permission 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SCORCFG.MSC provides wizard to create a permission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ermissions can be configured and added to permission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6000" y="2187720"/>
            <a:ext cx="4562280" cy="4448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3680" y="2130480"/>
            <a:ext cx="3771720" cy="3990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4476600" y="3357360"/>
            <a:ext cx="87480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Group Tre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ach policy level consists of a tree of c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R provides several built-in c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can also create custom code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de groups can have parent-chil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hild code group criteria evaluated only if parent criteria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079720" y="3411360"/>
          <a:ext cx="2838240" cy="32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9720" y="3411360"/>
                    <a:ext cx="283824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flipH="1">
            <a:off x="4214880" y="5629320"/>
            <a:ext cx="1533600" cy="48240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96080" y="5452560"/>
            <a:ext cx="209196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ustom code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reating a custom code group by h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teps to creating a custom cod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a name for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ecify a membership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ign a permission set to your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3080"/>
            <a:ext cx="3581280" cy="3440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952880" y="3036960"/>
            <a:ext cx="358164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AS and No-touch Deploy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th no-touch deployment, EXE runs without Full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runs within CAS sandbox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must be written to run in partially trusted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artially trusted co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call into strongly-name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at it can do around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s limited to where is can write on the local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nnot write to the Windows Reg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llowPartiallyTrustedCallersAttribu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ssembly with strong name imposes a noteworthy re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 only be used by caller that is fully tr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y default, cannot be used by application launched from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fault behavior overridden using AllowPartiallyTrustedCaller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34920" y="2911680"/>
            <a:ext cx="7131240" cy="222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ssemblyInfo.vb file within BobsLibrary.vb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Ref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important attributes that affect assembly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Version("1.0.24.0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ssemblyKeyFile("..\..\BobsKey.snk"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llow partially trusted caller to access this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ff"/>
                </a:solidFill>
                <a:latin typeface="Lucida Console"/>
                <a:ea typeface="굴림"/>
              </a:rPr>
              <a:t>Assembly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  <a:ea typeface="굴림"/>
              </a:rPr>
              <a:t>: AllowPartiallyTrustedCallers()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Modifying Local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ccomplished using an MSI file install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ust write code to create and configure a new cod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specific 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You modify CAS policy so an EXE runs with full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38440" y="2266920"/>
            <a:ext cx="369864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굴림"/>
              </a:rPr>
              <a:t>Steps to Creating MSI File To Modify CAS Poli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a new Setup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 new Class Library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dd an Install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reate handler for BeforeInstall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24160" y="3917520"/>
            <a:ext cx="5792760" cy="277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)&gt;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.Inst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sender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Object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,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ByVal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e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ventArgs) 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                          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100" spc="-1" strike="noStrike">
                <a:solidFill>
                  <a:srgbClr val="008000"/>
                </a:solidFill>
                <a:latin typeface="Lucida Console"/>
                <a:ea typeface="굴림"/>
              </a:rPr>
              <a:t>'*** add code to configure local CAS polic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1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1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3160" y="2862360"/>
            <a:ext cx="2739960" cy="2022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88200" y="1363680"/>
            <a:ext cx="2404800" cy="1652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08320" y="3498840"/>
            <a:ext cx="1417680" cy="277920"/>
          </a:xfrm>
          <a:custGeom>
            <a:avLst/>
            <a:gdLst/>
            <a:ahLst/>
            <a:rect l="l" t="t" r="r" b="b"/>
            <a:pathLst>
              <a:path w="751" h="175">
                <a:moveTo>
                  <a:pt x="0" y="0"/>
                </a:moveTo>
                <a:cubicBezTo>
                  <a:pt x="208" y="10"/>
                  <a:pt x="417" y="21"/>
                  <a:pt x="542" y="50"/>
                </a:cubicBezTo>
                <a:cubicBezTo>
                  <a:pt x="667" y="79"/>
                  <a:pt x="716" y="154"/>
                  <a:pt x="751" y="175"/>
                </a:cubicBezTo>
              </a:path>
            </a:pathLst>
          </a:custGeom>
          <a:noFill/>
          <a:ln w="2844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Code For Modifying CAS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0" y="15840"/>
            <a:ext cx="9139320" cy="670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mponent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Configuration.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er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mpor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System.Security.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&lt;RunInstaller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ru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&gt;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ublic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 :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nherit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nsta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Privat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Installer_BeforeInstall(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…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Handle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MyBas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.BeforeInst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1) find Machine-wide policy level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machinePolicyLevel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sor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IEnumerator = SecurityManager.PolicyHierarc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sor.MoveNe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urr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Level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Type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(cursor.Current, Policy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(current.Label = "Machine")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 =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xit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2) create membership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ndition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rlMembershipCondition("http://Barracuda.net/*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3) create code group using FullTrust named permission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ermissionsetFullTrus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NamedPermissionSet("FullTrust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PolicyStatement(permissionsetFullTru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Dim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BarracudaCodeGroup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As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Code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 =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New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UnionCodeGroup(condition, policyStat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Name = "Barracuda_FullTrust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BarracudaCodeGroup.Description = "Custom code group for no-touch deployment app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Lucida Console"/>
                <a:ea typeface="굴림"/>
              </a:rPr>
              <a:t>'*** (4) add code group to machine policy level and then sav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machinePolicyLevel.RootCodeGroup.AddChild(BarracudaCodeGro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SecurityManager.SavePolic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End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5080" y="4495680"/>
            <a:ext cx="2050920" cy="2332080"/>
          </a:xfrm>
          <a:prstGeom prst="can">
            <a:avLst>
              <a:gd name="adj" fmla="val 9569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ocal Hard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How does no-touch deployment work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provides a hook (</a:t>
            </a:r>
            <a:r>
              <a:rPr b="0" lang="en-US" sz="20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) in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ooks in when launching managed EXE from </a:t>
            </a: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h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responsible for downloading/running manag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uses version-aware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275440"/>
            <a:ext cx="163188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.confi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10:36 PM 10/3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883040"/>
            <a:ext cx="1628640" cy="3351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App.ex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DateTime: 7:10 AM 10/1/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66000"/>
            <a:ext cx="16477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Bobs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2.1.196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670720"/>
            <a:ext cx="1635120" cy="334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굴림"/>
              </a:rPr>
              <a:t>MyLibrary.d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Version: 1.0.2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2743200" cy="2092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1320" y="3586680"/>
            <a:ext cx="289548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Lucida Console"/>
                <a:ea typeface="굴림"/>
              </a:rPr>
              <a:t>href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="MyApp.exe"&gt;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  <a:ea typeface="굴림"/>
              </a:rPr>
              <a:t>HERE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200" spc="-1" strike="noStrike">
                <a:solidFill>
                  <a:srgbClr val="800000"/>
                </a:solidFill>
                <a:latin typeface="Lucida Console"/>
                <a:ea typeface="굴림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151600"/>
            <a:ext cx="2057400" cy="1676160"/>
          </a:xfrm>
          <a:prstGeom prst="can">
            <a:avLst>
              <a:gd name="adj" fmla="val 11935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Web Serv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015320" y="5486400"/>
            <a:ext cx="1212480" cy="960120"/>
            <a:chOff x="7015320" y="5486400"/>
            <a:chExt cx="1212480" cy="960120"/>
          </a:xfrm>
        </p:grpSpPr>
        <p:sp>
          <p:nvSpPr>
            <p:cNvPr id="60" name=""/>
            <p:cNvSpPr/>
            <p:nvPr/>
          </p:nvSpPr>
          <p:spPr>
            <a:xfrm>
              <a:off x="7018920" y="5731560"/>
              <a:ext cx="1196280" cy="2116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.confi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15320" y="5486400"/>
              <a:ext cx="119880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App.ex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0440" y="6235920"/>
              <a:ext cx="1197360" cy="2106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obs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27920" y="5989320"/>
              <a:ext cx="1197360" cy="210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yLibrary.d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294600">
            <a:off x="2362320" y="5410080"/>
            <a:ext cx="4190760" cy="406440"/>
          </a:xfrm>
          <a:custGeom>
            <a:avLst/>
            <a:gdLst/>
            <a:ahLst/>
            <a:rect l="l" t="t" r="r" b="b"/>
            <a:pathLst>
              <a:path w="2640" h="256">
                <a:moveTo>
                  <a:pt x="2640" y="256"/>
                </a:moveTo>
                <a:cubicBezTo>
                  <a:pt x="2260" y="144"/>
                  <a:pt x="1880" y="32"/>
                  <a:pt x="1440" y="16"/>
                </a:cubicBezTo>
                <a:cubicBezTo>
                  <a:pt x="1000" y="0"/>
                  <a:pt x="500" y="80"/>
                  <a:pt x="0" y="160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4120" y="5105520"/>
            <a:ext cx="1668600" cy="62388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EExec.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22560" y="3733920"/>
            <a:ext cx="2692440" cy="761760"/>
          </a:xfrm>
          <a:custGeom>
            <a:avLst/>
            <a:gdLst/>
            <a:ahLst/>
            <a:rect l="l" t="t" r="r" b="b"/>
            <a:pathLst>
              <a:path w="1840" h="576">
                <a:moveTo>
                  <a:pt x="16" y="576"/>
                </a:moveTo>
                <a:cubicBezTo>
                  <a:pt x="8" y="480"/>
                  <a:pt x="0" y="384"/>
                  <a:pt x="304" y="288"/>
                </a:cubicBezTo>
                <a:cubicBezTo>
                  <a:pt x="608" y="192"/>
                  <a:pt x="1224" y="96"/>
                  <a:pt x="1840" y="0"/>
                </a:cubicBez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The Download Cach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R copies all remote code to local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the need to download an EXE or DLL more tha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llows user to work in offline mode (with cave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resting facts about the download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t's maintain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ota for storage space can be configured on a per-use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de in download cache not consider fully tru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1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pon first request to run an application E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EXE file is copied 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 configuration file is downloaded and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LLs in AppBase directory are copied into the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124080"/>
            <a:ext cx="5121360" cy="175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(compatible; MSIE 6.0; Windows NT 5.1; Q312461; .NET CLR 1.0.37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495680"/>
            <a:ext cx="5334120" cy="218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11:29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Type: application/octet-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Ranges: 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Last-Modified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Content-Length: 450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&lt;&lt;stream of bytes from MyApp.exe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Version-aware Caching (2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hen application EXE is launched from an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ta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mpares date-time stamp before down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wnloads updated EXE file if date-time stamp is more recent than copy of EXE in download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Lucida Console"/>
                <a:ea typeface="굴림"/>
              </a:rPr>
              <a:t>IEExec.ex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oesn't care about EXE's assembly versio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0" y="3505320"/>
            <a:ext cx="7010280" cy="19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GET /MyApp.exe HTTP/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: */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Language: en-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Accept-Encoding: gzip, def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If-Modified-Since: Fri, 01 Feb 2002 01:41:16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If-None-Match: "50aae089c1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User-Agent: Mozilla/4.0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Host: 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nection: Keep-Al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5149800"/>
            <a:ext cx="5105520" cy="1173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520" rIns="182520" tIns="92160" bIns="92160" anchor="t">
            <a:spAutoFit/>
          </a:bodyPr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660033"/>
                </a:solidFill>
                <a:latin typeface="Courier New"/>
                <a:ea typeface="굴림"/>
              </a:rPr>
              <a:t>HTTP/1.1 304 Not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Server: Microsoft-IIS/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Date: Fri, 01 Feb 2002 02:42:03 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ETag: "a0fa92bc8aac11:91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" indent="-9360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114300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굴림"/>
              </a:rPr>
              <a:t>Content-Length: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Limitations of URL-launched Applic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must have connectivity to Web server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from CLR download cache when disconnected requires "Work Offline" mode to be selected in 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s only detected at application laun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must quit and restart to pick u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SP.NET and .NET configuration fi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SP.NET doesn't allow access to *.config files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one to prevent the bad guy from downloading web.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vents downloading of application configuration files 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-touch deploym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behavior can be disabled using custom web.config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040" y="3364560"/>
            <a:ext cx="8183520" cy="32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?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xml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s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1.0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encoding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utf-8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allow downloading of all configuration files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remove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!</a:t>
            </a:r>
            <a:r>
              <a:rPr b="1" lang="en-US" sz="1300" spc="-1" strike="noStrike">
                <a:solidFill>
                  <a:srgbClr val="008000"/>
                </a:solidFill>
                <a:latin typeface="Lucida Console"/>
                <a:ea typeface="굴림"/>
              </a:rPr>
              <a:t>-- disallow downloading of web.config file --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add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ver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*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path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web.config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Lucida Console"/>
                <a:ea typeface="굴림"/>
              </a:rPr>
              <a:t>type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="System.Web.HttpForbiddenHandler"</a:t>
            </a:r>
            <a:r>
              <a:rPr b="1" lang="en-US" sz="1300" spc="-1" strike="noStrike">
                <a:solidFill>
                  <a:srgbClr val="ff00ff"/>
                </a:solidFill>
                <a:latin typeface="Lucida Console"/>
                <a:ea typeface="굴림"/>
              </a:rPr>
              <a:t>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httpHandlers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Console"/>
                <a:ea typeface="굴림"/>
              </a:rPr>
              <a:t>  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system.web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lt;/</a:t>
            </a:r>
            <a:r>
              <a:rPr b="1" lang="en-US" sz="1300" spc="-1" strike="noStrike">
                <a:solidFill>
                  <a:srgbClr val="800000"/>
                </a:solidFill>
                <a:latin typeface="Lucida Console"/>
                <a:ea typeface="굴림"/>
              </a:rPr>
              <a:t>configuration</a:t>
            </a:r>
            <a:r>
              <a:rPr b="1" lang="en-US" sz="1300" spc="-1" strike="noStrike">
                <a:solidFill>
                  <a:srgbClr val="0000ff"/>
                </a:solidFill>
                <a:latin typeface="Lucida Console"/>
                <a:ea typeface="굴림"/>
              </a:rPr>
              <a:t>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굴림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veloping Smart Cli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What is a Smart Client Appl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굴림"/>
              </a:rPr>
              <a:t>Deploying and Testing Smart Cli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굴림"/>
              </a:rPr>
              <a:t>Code 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mmunicating With a Web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oring Data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mart Client Features of the Microsoft Offic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25:49Z</dcterms:created>
  <dc:creator>Cyndi</dc:creator>
  <dc:description>Template design: P. Macomber; Silver Fox Productions, Inc.
Formatter:
Event Date:
Event Location:
Speech Length:
Audience:
Key Topics:</dc:description>
  <dc:language>en-US</dc:language>
  <cp:lastModifiedBy>우영식</cp:lastModifiedBy>
  <dcterms:modified xsi:type="dcterms:W3CDTF">2006-04-22T04:12:43Z</dcterms:modified>
  <cp:revision>123</cp:revision>
  <dc:subject>MS Mobility DevCon 2003</dc:subject>
  <dc:title>Slide 1</dc:title>
</cp:coreProperties>
</file>