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wmf" ContentType="image/x-wmf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B032B8-A08F-4EEE-8F10-0A68484A333E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B5B967-4A1A-4D0D-B147-B2DE400B5B83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EF2005-6192-4047-9E7D-156474C5D2F4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7B35C0-7295-4E78-9E54-524F82E6B39E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217094-2184-4B12-878D-D5DB52FCF324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EF9DBB-E7A3-4BCA-982A-C012FFFCEDD7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D83C9C-CA1D-4994-811D-048397ADC3BC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F239E7-DBF3-486E-8B10-BC26C090FF3F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0B440E-4B35-49BE-9360-2F3D2D1A1530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Many thanks to Gunther Beersaerts for this slide (gunther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715DC7-1E35-42B0-9FF9-C52C7BFE1CB8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213840" y="4421160"/>
            <a:ext cx="675324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D88659-6882-4D2D-82D9-BEC2EDE1CBC2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03040"/>
            <a:ext cx="8229600" cy="35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08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93364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Arial"/>
                <a:ea typeface="굴림"/>
              </a:rPr>
              <a:t>BUILDING SMART CLIENT APPLICATIONS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Component DLL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What code should you component-iz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Reusable UI contr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Business log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ata access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The .NET Framework facilitates reuse through D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reated in Visual Studio .NET use Class Library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indows application project must reference DLL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481560" y="4191120"/>
            <a:ext cx="1852560" cy="24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Gratuitous ADO.NET Cod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reate and populate DataSet object with customer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499"/>
              </a:spcBef>
              <a:buNone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1750320"/>
            <a:ext cx="7696440" cy="5022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DataAccess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Shared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Function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GetCustomerData()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Data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Lucida Console"/>
                <a:ea typeface="굴림"/>
              </a:rPr>
              <a:t>'*** use this connection string for testing but NOT FOR PRODUC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cs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String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= "server=(local);database=CustomersDB;uid=sa;pwd=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Lucida Console"/>
                <a:ea typeface="굴림"/>
              </a:rPr>
              <a:t>'*** create a connection and a comm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conn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SqlConnection(c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sql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String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= "SELECT ID, FirstName, LastName, Phone FROM Customers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cmd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SqlCommand(sql, con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Lucida Console"/>
                <a:ea typeface="굴림"/>
              </a:rPr>
              <a:t>'*** create a data adapter based on connection and comm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adapter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SqlDataAdapter(cm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Lucida Console"/>
                <a:ea typeface="굴림"/>
              </a:rPr>
              <a:t>'*** create a new DataSet object and populate it using adap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CustomersDS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Data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adapter.Fill(CustomersDS, "CustomersTable"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Lucida Console"/>
                <a:ea typeface="굴림"/>
              </a:rPr>
              <a:t>'*** clean up all database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adapter.Dispose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cmd.Dispose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conn.Dispose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Lucida Console"/>
                <a:ea typeface="굴림"/>
              </a:rPr>
              <a:t>'*** return DataSet object reference to ca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Customers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Gratuitous Data Binding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Many Windows Forms controls support data bi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241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utomatically populates DBMS data into grids, list boxes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451"/>
              </a:spcBef>
              <a:buNone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How is it don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241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ssign a DataView or a DataTable to control's DataSource prope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451"/>
              </a:spcBef>
              <a:buNone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66680" y="3207960"/>
            <a:ext cx="7543800" cy="94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CustomerDS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DataSet = DataAccessCode.GetCustomer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CustomerTable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DataTable = CustomerDS.Tables("CustomersTable"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Lucida Console"/>
                <a:ea typeface="굴림"/>
              </a:rPr>
              <a:t>'*** bind grid to default view of customers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Me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.grdCustomers.DataSource = CustomerTable.Default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657600" y="4343400"/>
            <a:ext cx="209232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Inside Assembli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Assembly-specific 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Typ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Intermediate Language with executable instru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66680" y="2819520"/>
            <a:ext cx="6734160" cy="30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What's in a Name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Each assembly has a 4-part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Friendly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Version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ulture se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ublic key (or public key tok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Assembly names are tracked using format st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4275720"/>
            <a:ext cx="8112240" cy="291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MyLibrary, Version=1.0.1.0, Culture=neutral, PublicKeyToken=nul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15960" y="4834800"/>
            <a:ext cx="8124840" cy="291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BobsLibrary, Version=1.0.24.0, Culture=neutral, PublicKeyToken=816fbbdf1ffdccf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Building An Assembl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2960" y="1665000"/>
            <a:ext cx="7993080" cy="2651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Lucida Console"/>
                <a:ea typeface="굴림"/>
              </a:rPr>
              <a:t>'*** AssemblyInfo.vb file within BobsLibrary.vbpro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Import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Import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System.Refl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Lucida Console"/>
                <a:ea typeface="굴림"/>
              </a:rPr>
              <a:t>'*** important attributes that affect assembly 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&lt;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Assembly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: AssemblyVersion("1.0.24.0")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&lt;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Assembly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: AssemblyKeyFile("..\..\BobsKey.snk")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Lucida Console"/>
                <a:ea typeface="굴림"/>
              </a:rPr>
              <a:t>'*** less important attributes that do not affect assembly 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&lt;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Assembly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: AssemblyCompany("Bob's Widgets, Inc.")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&lt;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Assembly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: AssemblyProduct("Widget-Meister v1.0")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&lt;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Assembly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: AssemblyDescription("Widget-Meister Data Access Code")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Assembly Signing and Tampering Protec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Assembly signing involves generating digital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igital signature built from private key and assembly file h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LR authenticates digital signature with strong name ver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trong name verification detects traces or tamp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311560" y="2959920"/>
            <a:ext cx="4721040" cy="1006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Lucida Console"/>
                <a:ea typeface="굴림"/>
              </a:rPr>
              <a:t>'*** AssemblyInfo.v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Import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System.Ref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&lt;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Assembly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: AssemblyVersion("1.0.24.0")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&lt;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Assembly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: AssemblyKeyFile("..\..\BobsKey.snk")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276720" y="4118040"/>
          <a:ext cx="2971800" cy="258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4118040"/>
                    <a:ext cx="2971800" cy="25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Assembly Deployment Opti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Deploy it as a private assemb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Install it into the Global Assembly Cache (GA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Deploy it by configuring a </a:t>
            </a:r>
            <a:r>
              <a:rPr b="1" lang="en-US" sz="2000" spc="-1" strike="noStrike">
                <a:solidFill>
                  <a:srgbClr val="0000ff"/>
                </a:solidFill>
                <a:latin typeface="Lucida Console"/>
                <a:ea typeface="굴림"/>
              </a:rPr>
              <a:t>&lt;codeBase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The Global Assembly Cach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86400" y="2759040"/>
            <a:ext cx="4411440" cy="3995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GAC serves as machine-wide assembly reposi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Only allows for strongly-named assemb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llows for side-by-side deplo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GAC Administrative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GACUTIL.EX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ssembly Cache Vie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Configuring an assembly with a codeBas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Assembly can be deployed anywhere using code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241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rimarily used with strongly-named assemb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241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&lt;codeBase&gt; element can point to file or HTTP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241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Remote assemblies copied to CLR download ca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241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ownloaded assemblies run in restricted sand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1320" y="3495960"/>
            <a:ext cx="5944320" cy="2647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lt;</a:t>
            </a:r>
            <a:r>
              <a:rPr b="1" lang="en-US" sz="1200" spc="-1" strike="noStrike">
                <a:solidFill>
                  <a:srgbClr val="800000"/>
                </a:solidFill>
                <a:latin typeface="Lucida Console"/>
                <a:ea typeface="굴림"/>
              </a:rPr>
              <a:t>configuration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lt;</a:t>
            </a:r>
            <a:r>
              <a:rPr b="1" lang="en-US" sz="1200" spc="-1" strike="noStrike">
                <a:solidFill>
                  <a:srgbClr val="800000"/>
                </a:solidFill>
                <a:latin typeface="Lucida Console"/>
                <a:ea typeface="굴림"/>
              </a:rPr>
              <a:t>runtime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lt;</a:t>
            </a:r>
            <a:r>
              <a:rPr b="1" lang="en-US" sz="1200" spc="-1" strike="noStrike">
                <a:solidFill>
                  <a:srgbClr val="800000"/>
                </a:solidFill>
                <a:latin typeface="Lucida Console"/>
                <a:ea typeface="굴림"/>
              </a:rPr>
              <a:t>assemblyBinding</a:t>
            </a:r>
            <a:r>
              <a:rPr b="1" lang="en-US" sz="12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Lucida Console"/>
                <a:ea typeface="굴림"/>
              </a:rPr>
              <a:t>xmlns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="urn:schemas-microsoft-com:asm.v1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lt;</a:t>
            </a:r>
            <a:r>
              <a:rPr b="1" lang="en-US" sz="1200" spc="-1" strike="noStrike">
                <a:solidFill>
                  <a:srgbClr val="800000"/>
                </a:solidFill>
                <a:latin typeface="Lucida Console"/>
                <a:ea typeface="굴림"/>
              </a:rPr>
              <a:t>dependentAssembly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lt;</a:t>
            </a:r>
            <a:r>
              <a:rPr b="1" lang="en-US" sz="1200" spc="-1" strike="noStrike">
                <a:solidFill>
                  <a:srgbClr val="800000"/>
                </a:solidFill>
                <a:latin typeface="Lucida Console"/>
                <a:ea typeface="굴림"/>
              </a:rPr>
              <a:t>assemblyIdentity</a:t>
            </a:r>
            <a:r>
              <a:rPr b="1" lang="en-US" sz="12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Lucida Console"/>
                <a:ea typeface="굴림"/>
              </a:rPr>
              <a:t>          </a:t>
            </a:r>
            <a:r>
              <a:rPr b="1" lang="en-US" sz="1200" spc="-1" strike="noStrike">
                <a:solidFill>
                  <a:srgbClr val="ff0000"/>
                </a:solidFill>
                <a:latin typeface="Lucida Console"/>
                <a:ea typeface="굴림"/>
              </a:rPr>
              <a:t>name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="BobsLibrary"</a:t>
            </a:r>
            <a:r>
              <a:rPr b="1" lang="en-US" sz="12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Lucida Console"/>
                <a:ea typeface="굴림"/>
              </a:rPr>
              <a:t>          </a:t>
            </a:r>
            <a:r>
              <a:rPr b="1" lang="en-US" sz="1200" spc="-1" strike="noStrike">
                <a:solidFill>
                  <a:srgbClr val="ff0000"/>
                </a:solidFill>
                <a:latin typeface="Lucida Console"/>
                <a:ea typeface="굴림"/>
              </a:rPr>
              <a:t>publicKeyToken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="816fbbdf1ffdccf7"</a:t>
            </a:r>
            <a:r>
              <a:rPr b="1" lang="en-US" sz="12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lt;</a:t>
            </a:r>
            <a:r>
              <a:rPr b="1" lang="en-US" sz="1200" spc="-1" strike="noStrike">
                <a:solidFill>
                  <a:srgbClr val="800000"/>
                </a:solidFill>
                <a:latin typeface="Lucida Console"/>
                <a:ea typeface="굴림"/>
              </a:rPr>
              <a:t>code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Lucida Console"/>
                <a:ea typeface="굴림"/>
              </a:rPr>
              <a:t>          </a:t>
            </a:r>
            <a:r>
              <a:rPr b="1" lang="en-US" sz="1200" spc="-1" strike="noStrike">
                <a:solidFill>
                  <a:srgbClr val="ff0000"/>
                </a:solidFill>
                <a:latin typeface="Lucida Console"/>
                <a:ea typeface="굴림"/>
              </a:rPr>
              <a:t>version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="1.0.24.0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Lucida Console"/>
                <a:ea typeface="굴림"/>
              </a:rPr>
              <a:t>          </a:t>
            </a:r>
            <a:r>
              <a:rPr b="1" lang="en-US" sz="1200" spc="-1" strike="noStrike">
                <a:solidFill>
                  <a:srgbClr val="ff0000"/>
                </a:solidFill>
                <a:latin typeface="Lucida Console"/>
                <a:ea typeface="굴림"/>
              </a:rPr>
              <a:t>href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="http://www.Bob.com/downloads/BobsLibrary.dll"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lt;/</a:t>
            </a:r>
            <a:r>
              <a:rPr b="1" lang="en-US" sz="1200" spc="-1" strike="noStrike">
                <a:solidFill>
                  <a:srgbClr val="800000"/>
                </a:solidFill>
                <a:latin typeface="Lucida Console"/>
                <a:ea typeface="굴림"/>
              </a:rPr>
              <a:t>dependentAssembly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lt;/</a:t>
            </a:r>
            <a:r>
              <a:rPr b="1" lang="en-US" sz="1200" spc="-1" strike="noStrike">
                <a:solidFill>
                  <a:srgbClr val="800000"/>
                </a:solidFill>
                <a:latin typeface="Lucida Console"/>
                <a:ea typeface="굴림"/>
              </a:rPr>
              <a:t>assemblyBinding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lt;/</a:t>
            </a:r>
            <a:r>
              <a:rPr b="1" lang="en-US" sz="1200" spc="-1" strike="noStrike">
                <a:solidFill>
                  <a:srgbClr val="800000"/>
                </a:solidFill>
                <a:latin typeface="Lucida Console"/>
                <a:ea typeface="굴림"/>
              </a:rPr>
              <a:t>runtime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lt;/</a:t>
            </a:r>
            <a:r>
              <a:rPr b="1" lang="en-US" sz="1200" spc="-1" strike="noStrike">
                <a:solidFill>
                  <a:srgbClr val="800000"/>
                </a:solidFill>
                <a:latin typeface="Lucida Console"/>
                <a:ea typeface="굴림"/>
              </a:rPr>
              <a:t>configuration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393400" cy="10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Smart Client </a:t>
            </a:r>
            <a:br>
              <a:rPr sz="32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Defining the Next Generation Application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50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Smart clients are the embodiment of the next generation of client software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0664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akes full advantage of end user devices (full PC, PDA, pho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0664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onsumes web servic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0664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upports a rich experience both online and off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0664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Has the ease of deployment that is typically associated with Web-based appli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Versioning Polic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the CLR enforces a set of versioning policy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used to ensure client gets the appropriate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ssembly load fails if versioning policy rules are not m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versioning policy is not enforced for all assemb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ssemblies without strong names are not affected by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ssemblies with version number 0.0.0.0 not affected by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Version Number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Version number has four parts (e.g. 1.0.24.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241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Major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241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Minor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241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Build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241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Revision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499"/>
              </a:spcBef>
              <a:buNone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353960" y="3528720"/>
            <a:ext cx="6005520" cy="1067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Lucida Console"/>
                <a:ea typeface="굴림"/>
              </a:rPr>
              <a:t>'*** AssemblyInfo.v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Lucida Console"/>
                <a:ea typeface="굴림"/>
              </a:rPr>
              <a:t>Imports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  <a:ea typeface="굴림"/>
              </a:rPr>
              <a:t>System.Refl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  <a:ea typeface="굴림"/>
              </a:rPr>
              <a:t>&lt;</a:t>
            </a:r>
            <a:r>
              <a:rPr b="1" lang="en-US" sz="1600" spc="-1" strike="noStrike">
                <a:solidFill>
                  <a:srgbClr val="0000ff"/>
                </a:solidFill>
                <a:latin typeface="Lucida Console"/>
                <a:ea typeface="굴림"/>
              </a:rPr>
              <a:t>Assembly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  <a:ea typeface="굴림"/>
              </a:rPr>
              <a:t>: AssemblyVersion("1.0.24.0"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More Versioning Polic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Assembly version number tracked at compil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lient-side manifest contains compile-time version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CLR runs checks when attempting to load an assemb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LR inspects version number of assembly loaded at run time and matches it the compile-time version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by default, these numbers must match or the load f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loading different version number requires custom 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Redirecting a client to a different vers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You can redirect client to use a different 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one using binding redirect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18400" y="2324520"/>
            <a:ext cx="5852880" cy="2647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lt;</a:t>
            </a:r>
            <a:r>
              <a:rPr b="1" lang="en-US" sz="1200" spc="-1" strike="noStrike">
                <a:solidFill>
                  <a:srgbClr val="800000"/>
                </a:solidFill>
                <a:latin typeface="Lucida Console"/>
                <a:ea typeface="굴림"/>
              </a:rPr>
              <a:t>configuration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lt;</a:t>
            </a:r>
            <a:r>
              <a:rPr b="1" lang="en-US" sz="1200" spc="-1" strike="noStrike">
                <a:solidFill>
                  <a:srgbClr val="800000"/>
                </a:solidFill>
                <a:latin typeface="Lucida Console"/>
                <a:ea typeface="굴림"/>
              </a:rPr>
              <a:t>runtime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lt;</a:t>
            </a:r>
            <a:r>
              <a:rPr b="1" lang="en-US" sz="1200" spc="-1" strike="noStrike">
                <a:solidFill>
                  <a:srgbClr val="800000"/>
                </a:solidFill>
                <a:latin typeface="Lucida Console"/>
                <a:ea typeface="굴림"/>
              </a:rPr>
              <a:t>assemblyBinding</a:t>
            </a:r>
            <a:r>
              <a:rPr b="1" lang="en-US" sz="12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Lucida Console"/>
                <a:ea typeface="굴림"/>
              </a:rPr>
              <a:t>xmlns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="urn:schemas-microsoft-com:asm.v1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lt;</a:t>
            </a:r>
            <a:r>
              <a:rPr b="1" lang="en-US" sz="1200" spc="-1" strike="noStrike">
                <a:solidFill>
                  <a:srgbClr val="800000"/>
                </a:solidFill>
                <a:latin typeface="Lucida Console"/>
                <a:ea typeface="굴림"/>
              </a:rPr>
              <a:t>dependentAssembly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    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lt;</a:t>
            </a:r>
            <a:r>
              <a:rPr b="1" lang="en-US" sz="1200" spc="-1" strike="noStrike">
                <a:solidFill>
                  <a:srgbClr val="800000"/>
                </a:solidFill>
                <a:latin typeface="Lucida Console"/>
                <a:ea typeface="굴림"/>
              </a:rPr>
              <a:t>assemblyIdentity</a:t>
            </a:r>
            <a:r>
              <a:rPr b="1" lang="en-US" sz="12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Lucida Console"/>
                <a:ea typeface="굴림"/>
              </a:rPr>
              <a:t>          </a:t>
            </a:r>
            <a:r>
              <a:rPr b="1" lang="en-US" sz="1200" spc="-1" strike="noStrike">
                <a:solidFill>
                  <a:srgbClr val="ff0000"/>
                </a:solidFill>
                <a:latin typeface="Lucida Console"/>
                <a:ea typeface="굴림"/>
              </a:rPr>
              <a:t>name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="BobsLibrary"</a:t>
            </a:r>
            <a:r>
              <a:rPr b="1" lang="en-US" sz="12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Lucida Console"/>
                <a:ea typeface="굴림"/>
              </a:rPr>
              <a:t>          </a:t>
            </a:r>
            <a:r>
              <a:rPr b="1" lang="en-US" sz="1200" spc="-1" strike="noStrike">
                <a:solidFill>
                  <a:srgbClr val="ff0000"/>
                </a:solidFill>
                <a:latin typeface="Lucida Console"/>
                <a:ea typeface="굴림"/>
              </a:rPr>
              <a:t>publicKeyToken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="816fbbdf1ffdccf7"</a:t>
            </a:r>
            <a:r>
              <a:rPr b="1" lang="en-US" sz="12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lt;</a:t>
            </a:r>
            <a:r>
              <a:rPr b="1" lang="en-US" sz="1200" spc="-1" strike="noStrike">
                <a:solidFill>
                  <a:srgbClr val="800000"/>
                </a:solidFill>
                <a:latin typeface="Lucida Console"/>
                <a:ea typeface="굴림"/>
              </a:rPr>
              <a:t>bindingRedirect</a:t>
            </a:r>
            <a:r>
              <a:rPr b="1" lang="en-US" sz="12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Lucida Console"/>
                <a:ea typeface="굴림"/>
              </a:rPr>
              <a:t>          </a:t>
            </a:r>
            <a:r>
              <a:rPr b="1" lang="en-US" sz="1200" spc="-1" strike="noStrike">
                <a:solidFill>
                  <a:srgbClr val="ff0000"/>
                </a:solidFill>
                <a:latin typeface="Lucida Console"/>
                <a:ea typeface="굴림"/>
              </a:rPr>
              <a:t>oldVersion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="1.0.24.0"</a:t>
            </a:r>
            <a:r>
              <a:rPr b="1" lang="en-US" sz="12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Lucida Console"/>
                <a:ea typeface="굴림"/>
              </a:rPr>
              <a:t>          </a:t>
            </a:r>
            <a:r>
              <a:rPr b="1" lang="en-US" sz="1200" spc="-1" strike="noStrike">
                <a:solidFill>
                  <a:srgbClr val="ff0000"/>
                </a:solidFill>
                <a:latin typeface="Lucida Console"/>
                <a:ea typeface="굴림"/>
              </a:rPr>
              <a:t>newVersion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="1.0.98.0"</a:t>
            </a:r>
            <a:r>
              <a:rPr b="1" lang="en-US" sz="12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lt;/</a:t>
            </a:r>
            <a:r>
              <a:rPr b="1" lang="en-US" sz="1200" spc="-1" strike="noStrike">
                <a:solidFill>
                  <a:srgbClr val="800000"/>
                </a:solidFill>
                <a:latin typeface="Lucida Console"/>
                <a:ea typeface="굴림"/>
              </a:rPr>
              <a:t>dependentAssembly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lt;/</a:t>
            </a:r>
            <a:r>
              <a:rPr b="1" lang="en-US" sz="1200" spc="-1" strike="noStrike">
                <a:solidFill>
                  <a:srgbClr val="800000"/>
                </a:solidFill>
                <a:latin typeface="Lucida Console"/>
                <a:ea typeface="굴림"/>
              </a:rPr>
              <a:t>assemblyBinding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lt;/</a:t>
            </a:r>
            <a:r>
              <a:rPr b="1" lang="en-US" sz="1200" spc="-1" strike="noStrike">
                <a:solidFill>
                  <a:srgbClr val="800000"/>
                </a:solidFill>
                <a:latin typeface="Lucida Console"/>
                <a:ea typeface="굴림"/>
              </a:rPr>
              <a:t>runtime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lt;/</a:t>
            </a:r>
            <a:r>
              <a:rPr b="1" lang="en-US" sz="1200" spc="-1" strike="noStrike">
                <a:solidFill>
                  <a:srgbClr val="800000"/>
                </a:solidFill>
                <a:latin typeface="Lucida Console"/>
                <a:ea typeface="굴림"/>
              </a:rPr>
              <a:t>configuration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The assembly loade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Assembly resolver looks for assembly in this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0320" indent="-3477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n the G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30320" indent="-3477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t location specified by code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30320" indent="-3477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n AppBase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30320" indent="-3477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n subdirectories as specified in private probe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1880" indent="0">
              <a:spcBef>
                <a:spcPts val="601"/>
              </a:spcBef>
              <a:buNone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What can you do if things are going wro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0320" indent="-3477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use the Assembly Binding Log Viewer (Fuslogvw.ex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3840" y="4573440"/>
            <a:ext cx="4424400" cy="204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Deploying Smart Client Applicati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XCOPY De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Just copy files to the target mac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Installation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Using Window Installer technology and MSI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No-touch de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Launching application from HREF on a Web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XCOPY Deploymen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t’s so easy - just copy AppBase directory to the target mac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arget machine must already have .NET Framework insta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Drawb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annot add Windows short cuts for conven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Updated files must be pushed out to target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MSI File Installation Program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You can install the .NET Framework if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You can install Windows short cuts for conven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You can install dependant assemblies in the G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You must create a setup program using an MSI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Drawb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Updated application files must be explicitly installed on target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Creating A Setup Program (1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29528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Setup Project under Setup and Deployment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reate a project that produces an MSI file installation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151000" y="2368440"/>
            <a:ext cx="505800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Creating A Setup Program (2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nstall the .NET Framework if it's not already on target mac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nstall assembly DLLs in the G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dd shortcuts to the desktop and Start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231920" y="2516040"/>
            <a:ext cx="57420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09480" y="2362320"/>
            <a:ext cx="3998880" cy="3995640"/>
          </a:xfrm>
          <a:prstGeom prst="ellipse">
            <a:avLst/>
          </a:prstGeom>
          <a:gradFill rotWithShape="0">
            <a:gsLst>
              <a:gs pos="0">
                <a:srgbClr val="8fdaff"/>
              </a:gs>
              <a:gs pos="100000">
                <a:srgbClr val="416475">
                  <a:alpha val="32156"/>
                </a:srgbClr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91640" y="1828800"/>
            <a:ext cx="17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Fat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87920" y="2417760"/>
            <a:ext cx="3998880" cy="3995640"/>
          </a:xfrm>
          <a:prstGeom prst="ellipse">
            <a:avLst/>
          </a:prstGeom>
          <a:solidFill>
            <a:srgbClr val="ffff00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521400" y="1752480"/>
            <a:ext cx="19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Thin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38280" y="1523880"/>
            <a:ext cx="4186440" cy="4337280"/>
          </a:xfrm>
          <a:prstGeom prst="ellipse">
            <a:avLst/>
          </a:prstGeom>
          <a:solidFill>
            <a:srgbClr val="ff3300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23080" y="1974960"/>
            <a:ext cx="256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굴림"/>
              </a:rPr>
              <a:t>Smart Cl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97480" y="2847960"/>
            <a:ext cx="126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Rich User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Experi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59760" y="3789360"/>
            <a:ext cx="135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Developer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Produ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21600" y="566244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DLL Hell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42400" y="378936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Heavy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Footpr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405040" y="27352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Small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Footpr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23280" y="482436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Respons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647400" y="3027240"/>
            <a:ext cx="1384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Networ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Depend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47120" y="3602160"/>
            <a:ext cx="133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Ease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620040" y="4246560"/>
            <a:ext cx="126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Poor User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Experi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04200" y="4322880"/>
            <a:ext cx="1418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Easy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Chang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3960" y="4780080"/>
            <a:ext cx="1101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ough To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Deplo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40080" y="5237280"/>
            <a:ext cx="127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Compl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o Devel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0"/>
            <a:ext cx="839340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The Smart Client Landscape </a:t>
            </a:r>
            <a:br>
              <a:rPr sz="32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Breaking down the different experi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440" y="83880"/>
            <a:ext cx="91440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굴림"/>
              </a:rPr>
              <a:t>Smart Client Readiness Program for ISVs</a:t>
            </a:r>
            <a:br>
              <a:rPr sz="24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Get SMART about Smart Client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8760" y="6324480"/>
            <a:ext cx="80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Medium"/>
                <a:ea typeface="굴림"/>
              </a:rPr>
              <a:t>http://members.microsoft.com/partner/isv/smart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533760" y="1905120"/>
            <a:ext cx="5229360" cy="42735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80880" y="1301760"/>
            <a:ext cx="541044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Learn about smart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FREE benefi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/W and dev k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evCon DV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News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MS Pres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16000" y="4846680"/>
            <a:ext cx="923760" cy="9237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219320" y="4635360"/>
            <a:ext cx="933480" cy="1152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2232000" y="4718160"/>
            <a:ext cx="892080" cy="10731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684840" y="1003320"/>
            <a:ext cx="2008440" cy="1430280"/>
          </a:xfrm>
          <a:prstGeom prst="irregularSeal2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"/>
                <a:ea typeface="굴림"/>
              </a:rPr>
              <a:t>1,500+ ISV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"/>
                <a:ea typeface="굴림"/>
              </a:rPr>
              <a:t>enrolled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Agenda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Developing Smart Client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  <a:ea typeface="굴림"/>
              </a:rPr>
              <a:t>What is a Smart Client Applic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굴림"/>
              </a:rPr>
              <a:t>Deploying and Testing Smart Client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ode Access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ommunicating With a Web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toring Data Lo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mart Client Features of the Microsoft Offic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Check List for Smart Client Developmen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Learn how to create a Windows Forms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Learn how to deploy and upgrade your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Learn how to work within the CLR security sand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Learn how to create and call a Web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Learn how to store and retrieve your data lo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Building a Smart client applica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Start by building a Windows Forms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359080" y="2021040"/>
            <a:ext cx="4189320" cy="42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Using The Windows Forms Designe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90400" y="1320840"/>
            <a:ext cx="7963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Configuring applicati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Applications can have configuration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onfiguration file has same name of application and ".config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onfiguration file can contain application set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Visual Studio .NET provides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굴림"/>
              </a:rPr>
              <a:t>app.confi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file for conven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360" y="2989800"/>
            <a:ext cx="8082000" cy="1935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굴림"/>
              </a:rPr>
              <a:t>&lt;!-- SmartClientDemo1.exe.config --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&lt;?</a:t>
            </a:r>
            <a:r>
              <a:rPr b="1" lang="en-US" sz="1100" spc="-1" strike="noStrike">
                <a:solidFill>
                  <a:srgbClr val="800000"/>
                </a:solidFill>
                <a:latin typeface="Lucida Console"/>
                <a:ea typeface="굴림"/>
              </a:rPr>
              <a:t>xml</a:t>
            </a:r>
            <a:r>
              <a:rPr b="1" lang="en-US" sz="11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100" spc="-1" strike="noStrike">
                <a:solidFill>
                  <a:srgbClr val="ff0000"/>
                </a:solidFill>
                <a:latin typeface="Lucida Console"/>
                <a:ea typeface="굴림"/>
              </a:rPr>
              <a:t>version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="1.0"</a:t>
            </a:r>
            <a:r>
              <a:rPr b="1" lang="en-US" sz="11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100" spc="-1" strike="noStrike">
                <a:solidFill>
                  <a:srgbClr val="ff0000"/>
                </a:solidFill>
                <a:latin typeface="Lucida Console"/>
                <a:ea typeface="굴림"/>
              </a:rPr>
              <a:t>encoding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="utf-8"</a:t>
            </a:r>
            <a:r>
              <a:rPr b="1" lang="en-US" sz="11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?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&lt;</a:t>
            </a:r>
            <a:r>
              <a:rPr b="1" lang="en-US" sz="1100" spc="-1" strike="noStrike">
                <a:solidFill>
                  <a:srgbClr val="800000"/>
                </a:solidFill>
                <a:latin typeface="Lucida Console"/>
                <a:ea typeface="굴림"/>
              </a:rPr>
              <a:t>configuration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&lt;</a:t>
            </a:r>
            <a:r>
              <a:rPr b="1" lang="en-US" sz="1100" spc="-1" strike="noStrike">
                <a:solidFill>
                  <a:srgbClr val="800000"/>
                </a:solidFill>
                <a:latin typeface="Lucida Console"/>
                <a:ea typeface="굴림"/>
              </a:rPr>
              <a:t>appSettings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&lt;</a:t>
            </a:r>
            <a:r>
              <a:rPr b="1" lang="en-US" sz="1100" spc="-1" strike="noStrike">
                <a:solidFill>
                  <a:srgbClr val="800000"/>
                </a:solidFill>
                <a:latin typeface="Lucida Console"/>
                <a:ea typeface="굴림"/>
              </a:rPr>
              <a:t>add</a:t>
            </a:r>
            <a:r>
              <a:rPr b="1" lang="en-US" sz="11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100" spc="-1" strike="noStrike">
                <a:solidFill>
                  <a:srgbClr val="ff0000"/>
                </a:solidFill>
                <a:latin typeface="Lucida Console"/>
                <a:ea typeface="굴림"/>
              </a:rPr>
              <a:t>key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="MainFormCaption"</a:t>
            </a:r>
            <a:r>
              <a:rPr b="1" lang="en-US" sz="11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100" spc="-1" strike="noStrike">
                <a:solidFill>
                  <a:srgbClr val="ff0000"/>
                </a:solidFill>
                <a:latin typeface="Lucida Console"/>
                <a:ea typeface="굴림"/>
              </a:rPr>
              <a:t>value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="Barracuda .NET Customer Tracker 1.0"</a:t>
            </a:r>
            <a:r>
              <a:rPr b="1" lang="en-US" sz="11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/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&lt;</a:t>
            </a:r>
            <a:r>
              <a:rPr b="1" lang="en-US" sz="1100" spc="-1" strike="noStrike">
                <a:solidFill>
                  <a:srgbClr val="800000"/>
                </a:solidFill>
                <a:latin typeface="Lucida Console"/>
                <a:ea typeface="굴림"/>
              </a:rPr>
              <a:t>add</a:t>
            </a:r>
            <a:r>
              <a:rPr b="1" lang="en-US" sz="11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100" spc="-1" strike="noStrike">
                <a:solidFill>
                  <a:srgbClr val="ff0000"/>
                </a:solidFill>
                <a:latin typeface="Lucida Console"/>
                <a:ea typeface="굴림"/>
              </a:rPr>
              <a:t>key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="AboutCaption"</a:t>
            </a:r>
            <a:r>
              <a:rPr b="1" lang="en-US" sz="11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100" spc="-1" strike="noStrike">
                <a:solidFill>
                  <a:srgbClr val="ff0000"/>
                </a:solidFill>
                <a:latin typeface="Lucida Console"/>
                <a:ea typeface="굴림"/>
              </a:rPr>
              <a:t>value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="Barracuda .NET Customer Tracker 1.0"</a:t>
            </a:r>
            <a:r>
              <a:rPr b="1" lang="en-US" sz="11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/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&lt;</a:t>
            </a:r>
            <a:r>
              <a:rPr b="1" lang="en-US" sz="1100" spc="-1" strike="noStrike">
                <a:solidFill>
                  <a:srgbClr val="800000"/>
                </a:solidFill>
                <a:latin typeface="Lucida Console"/>
                <a:ea typeface="굴림"/>
              </a:rPr>
              <a:t>add</a:t>
            </a:r>
            <a:r>
              <a:rPr b="1" lang="en-US" sz="11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100" spc="-1" strike="noStrike">
                <a:solidFill>
                  <a:srgbClr val="ff0000"/>
                </a:solidFill>
                <a:latin typeface="Lucida Console"/>
                <a:ea typeface="굴림"/>
              </a:rPr>
              <a:t>key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="AboutMessage"</a:t>
            </a:r>
            <a:r>
              <a:rPr b="1" lang="en-US" sz="11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100" spc="-1" strike="noStrike">
                <a:solidFill>
                  <a:srgbClr val="ff0000"/>
                </a:solidFill>
                <a:latin typeface="Lucida Console"/>
                <a:ea typeface="굴림"/>
              </a:rPr>
              <a:t>value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="Customer Tracker is produced by Barracuda .NET, Inc."</a:t>
            </a:r>
            <a:r>
              <a:rPr b="1" lang="en-US" sz="11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/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&lt;/</a:t>
            </a:r>
            <a:r>
              <a:rPr b="1" lang="en-US" sz="1100" spc="-1" strike="noStrike">
                <a:solidFill>
                  <a:srgbClr val="800000"/>
                </a:solidFill>
                <a:latin typeface="Lucida Console"/>
                <a:ea typeface="굴림"/>
              </a:rPr>
              <a:t>appSettings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&lt;/</a:t>
            </a:r>
            <a:r>
              <a:rPr b="1" lang="en-US" sz="1100" spc="-1" strike="noStrike">
                <a:solidFill>
                  <a:srgbClr val="800000"/>
                </a:solidFill>
                <a:latin typeface="Lucida Console"/>
                <a:ea typeface="굴림"/>
              </a:rPr>
              <a:t>configuration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6040" y="5103000"/>
            <a:ext cx="8078760" cy="1554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Sub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MainForm_Load(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ByVal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sender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Object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ByVal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e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EventArgs)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Handle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MyBase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.Lo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Lucida Console"/>
                <a:ea typeface="굴림"/>
              </a:rPr>
              <a:t>'*** read applications from configuration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Me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.Text = ConfigurationSettings.AppSettings.Item("MainFormCaption"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ex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Exce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MsgBox(ex.Message, MsgBoxStyle.Exclamation, ex.GetType.Na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S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2T19:25:49Z</dcterms:created>
  <dc:creator>Cyndi</dc:creator>
  <dc:description>Template design: P. Macomber; Silver Fox Productions, Inc.
Formatter:
Event Date:
Event Location:
Speech Length:
Audience:
Key Topics:</dc:description>
  <dc:language>en-US</dc:language>
  <cp:lastModifiedBy>우영식</cp:lastModifiedBy>
  <dcterms:modified xsi:type="dcterms:W3CDTF">2006-04-22T04:03:57Z</dcterms:modified>
  <cp:revision>123</cp:revision>
  <dc:subject>MS Mobility DevCon 2003</dc:subject>
  <dc:title>Slide 1</dc:title>
</cp:coreProperties>
</file>