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62D72-E077-4A7D-B8BA-797B56006B7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972AB-7D81-40BF-AE1F-5A192705CFCE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33637-FAA7-4503-9245-6F2BD6D007B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D684C-1FBC-4583-B8EB-0507E51E129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BCB9A-3B11-445E-9382-C25F8AF886D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1D74-B550-4319-90E4-816A0CA68D9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A5686-4298-4F9D-8AF8-DEB97172DB2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2FB2-9B65-4969-9772-851D3DDAE12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1D15F-D28F-4919-B5A0-894C3253F6C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8F1B3-2598-444B-8C52-6950FB8C422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12800"/>
            <a:ext cx="4857840" cy="3643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3F5DA-E566-416C-8D88-0C8462AEF27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B2A9-5178-419C-9743-DC0EBA00CC8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6989C-1D5E-4737-AA0B-4874E51514A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CE3FE-DD54-4159-A952-1CA29C288AA3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BDC2C-1FD3-42B2-B4EB-1BE05434F60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721CF-13B6-4C63-AAC3-905EC93F85D8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Calling Web Services from Partially Trusted Co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is limited to what it can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call Web service from its ow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call Web service anywher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eploy smart client application files from the same domain that provides access to the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treaming I/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/O in .NET is built on top of the concept of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is an abstraction representing a generic array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 abstracts away details of transmitting/s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499"/>
              </a:spcBef>
              <a:buNone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ream-based I/O often involves reader and writer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riter objects write formatted data into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der objects pull data out of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04960" y="484812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4317840"/>
            <a:ext cx="1667880" cy="1077840"/>
            <a:chOff x="304920" y="4317840"/>
            <a:chExt cx="1667880" cy="1077840"/>
          </a:xfrm>
        </p:grpSpPr>
        <p:sp>
          <p:nvSpPr>
            <p:cNvPr id="91" name=""/>
            <p:cNvSpPr/>
            <p:nvPr/>
          </p:nvSpPr>
          <p:spPr>
            <a:xfrm>
              <a:off x="304920" y="4317840"/>
              <a:ext cx="1401480" cy="10778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ri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4240" y="485532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98720" y="4321080"/>
            <a:ext cx="1667880" cy="1076040"/>
            <a:chOff x="1998720" y="4321080"/>
            <a:chExt cx="1667880" cy="1076040"/>
          </a:xfrm>
        </p:grpSpPr>
        <p:sp>
          <p:nvSpPr>
            <p:cNvPr id="94" name=""/>
            <p:cNvSpPr/>
            <p:nvPr/>
          </p:nvSpPr>
          <p:spPr>
            <a:xfrm>
              <a:off x="1998720" y="4321080"/>
              <a:ext cx="1401480" cy="107604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98040" y="4857840"/>
              <a:ext cx="26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248440" y="485136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5360" y="4114800"/>
            <a:ext cx="1514520" cy="1582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tream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emory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perating syste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etwork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48440" y="4857840"/>
            <a:ext cx="26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543640" y="4322880"/>
            <a:ext cx="1666440" cy="1077480"/>
            <a:chOff x="5543640" y="4322880"/>
            <a:chExt cx="1666440" cy="1077480"/>
          </a:xfrm>
        </p:grpSpPr>
        <p:sp>
          <p:nvSpPr>
            <p:cNvPr id="100" name=""/>
            <p:cNvSpPr/>
            <p:nvPr/>
          </p:nvSpPr>
          <p:spPr>
            <a:xfrm>
              <a:off x="5543640" y="4322880"/>
              <a:ext cx="1400040" cy="1077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1880" y="4860360"/>
              <a:ext cx="26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209000" y="4307040"/>
            <a:ext cx="1401480" cy="10778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4680" y="2448720"/>
            <a:ext cx="858672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 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Create, FileAccess.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rit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Writ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Hello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WriteLine("Goodbye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writer.Flush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Flush on writer when d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Close to release lock 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text to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ystem.IO.FileStream class provides support for file 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ileStream constructor accepts file path, file mode, and fil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Writer object can be used to write text into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54200" y="5460840"/>
            <a:ext cx="5806800" cy="902520"/>
            <a:chOff x="1654200" y="5460840"/>
            <a:chExt cx="5806800" cy="902520"/>
          </a:xfrm>
        </p:grpSpPr>
        <p:sp>
          <p:nvSpPr>
            <p:cNvPr id="107" name=""/>
            <p:cNvSpPr/>
            <p:nvPr/>
          </p:nvSpPr>
          <p:spPr>
            <a:xfrm>
              <a:off x="3468960" y="590472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54200" y="5460840"/>
              <a:ext cx="2162160" cy="901080"/>
              <a:chOff x="1654200" y="5460840"/>
              <a:chExt cx="2162160" cy="901080"/>
            </a:xfrm>
          </p:grpSpPr>
          <p:sp>
            <p:nvSpPr>
              <p:cNvPr id="109" name=""/>
              <p:cNvSpPr/>
              <p:nvPr/>
            </p:nvSpPr>
            <p:spPr>
              <a:xfrm>
                <a:off x="1654200" y="5460840"/>
                <a:ext cx="1816560" cy="901080"/>
              </a:xfrm>
              <a:prstGeom prst="ellipse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StreamWri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68240" y="5910120"/>
                <a:ext cx="34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852000" y="5462280"/>
              <a:ext cx="2160360" cy="901080"/>
              <a:chOff x="3852000" y="5462280"/>
              <a:chExt cx="2160360" cy="90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3852000" y="5462280"/>
                <a:ext cx="1815480" cy="9010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ileStre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664600" y="5911560"/>
                <a:ext cx="347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102720" y="5466600"/>
              <a:ext cx="1358280" cy="872280"/>
            </a:xfrm>
            <a:prstGeom prst="rect">
              <a:avLst/>
            </a:prstGeom>
            <a:solidFill>
              <a:srgbClr val="bc9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Data.tx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leStream object can be opened for read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eamReader object can be used to read text out of fil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293200"/>
            <a:ext cx="8283600" cy="2649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A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MyData.txt", FileMode.Open, FileAccess.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reader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treamReader(f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ad text out o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ontents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 reader.ReadTo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make sure to close stream when work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Reading text from a fi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61120" y="5626080"/>
            <a:ext cx="349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61840" y="5181480"/>
            <a:ext cx="2162880" cy="901440"/>
            <a:chOff x="5361840" y="5181480"/>
            <a:chExt cx="2162880" cy="901440"/>
          </a:xfrm>
        </p:grpSpPr>
        <p:sp>
          <p:nvSpPr>
            <p:cNvPr id="120" name=""/>
            <p:cNvSpPr/>
            <p:nvPr/>
          </p:nvSpPr>
          <p:spPr>
            <a:xfrm flipH="1">
              <a:off x="5706720" y="5181480"/>
              <a:ext cx="1817640" cy="9014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R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361840" y="5631120"/>
              <a:ext cx="3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165840" y="5183280"/>
            <a:ext cx="2160360" cy="901080"/>
            <a:chOff x="3165840" y="5183280"/>
            <a:chExt cx="2160360" cy="901080"/>
          </a:xfrm>
        </p:grpSpPr>
        <p:sp>
          <p:nvSpPr>
            <p:cNvPr id="123" name=""/>
            <p:cNvSpPr/>
            <p:nvPr/>
          </p:nvSpPr>
          <p:spPr>
            <a:xfrm flipH="1">
              <a:off x="3511080" y="5183280"/>
              <a:ext cx="1815120" cy="9010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ileStr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165840" y="5632560"/>
              <a:ext cx="3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1716840" y="5187960"/>
            <a:ext cx="1359000" cy="871560"/>
          </a:xfrm>
          <a:prstGeom prst="rect">
            <a:avLst/>
          </a:prstGeom>
          <a:solidFill>
            <a:srgbClr val="bc9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yData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LR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can automatically serialize in-memory objects to 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ation transforms object (or object graph) into byte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can be transmitted acros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rialized object state can be deserialized into clone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at lat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serialization allows copy of object to be created in differen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4343400"/>
            <a:ext cx="7619760" cy="2057040"/>
            <a:chOff x="609480" y="4343400"/>
            <a:chExt cx="7619760" cy="2057040"/>
          </a:xfrm>
        </p:grpSpPr>
        <p:sp>
          <p:nvSpPr>
            <p:cNvPr id="129" name=""/>
            <p:cNvSpPr/>
            <p:nvPr/>
          </p:nvSpPr>
          <p:spPr>
            <a:xfrm rot="21273000">
              <a:off x="1561320" y="4646160"/>
              <a:ext cx="2417760" cy="53064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8120" y="44949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4343400"/>
              <a:ext cx="1171800" cy="84492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 rot="21273000">
              <a:off x="4861800" y="5516280"/>
              <a:ext cx="2124720" cy="594720"/>
            </a:xfrm>
            <a:custGeom>
              <a:avLst/>
              <a:gdLst/>
              <a:ahLst/>
              <a:rect l="l" t="t" r="r" b="b"/>
              <a:pathLst>
                <a:path w="1248" h="240">
                  <a:moveTo>
                    <a:pt x="0" y="0"/>
                  </a:moveTo>
                  <a:cubicBezTo>
                    <a:pt x="328" y="4"/>
                    <a:pt x="656" y="8"/>
                    <a:pt x="864" y="48"/>
                  </a:cubicBezTo>
                  <a:cubicBezTo>
                    <a:pt x="1072" y="88"/>
                    <a:pt x="1160" y="164"/>
                    <a:pt x="1248" y="24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224680" y="5794560"/>
              <a:ext cx="1245240" cy="6058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seriali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057080" y="5491080"/>
              <a:ext cx="1172160" cy="844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on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bj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06360" y="4884840"/>
              <a:ext cx="1171800" cy="90936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r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Understanding How CLR Serialization 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at types of objects can be seri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Objects created from class with the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can provide automatic ser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serialization requires implementing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Serializ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en does object serialization typically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client calls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Serial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on a formatt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hen an objects is passed over marshaling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93920" y="3116520"/>
            <a:ext cx="4854600" cy="137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ass definition goe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93920" y="2616840"/>
            <a:ext cx="7313400" cy="307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erializable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(ID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Name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alary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Decimal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ID =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Name =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.Salary = Sa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automatic serializ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rialization support for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&lt;Serializabl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ation driven through component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241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serializes private fields as well as public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136160"/>
            <a:ext cx="8202600" cy="543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Bina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a 3-element array of Employee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Employees.dat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inary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Binary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495680" y="6171840"/>
            <a:ext cx="762120" cy="152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48240" y="5241960"/>
          <a:ext cx="361944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8240" y="5241960"/>
                    <a:ext cx="3619440" cy="1539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971800" y="61722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d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234440"/>
            <a:ext cx="8202600" cy="523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untime.Serialization.Formatters.So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MyAp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ave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{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1, "Bob Roberts", 120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2, "Pam Bamblets", 275000D)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(3, "Guy Laney", 28600D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Crea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employee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hare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LoadEmployees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 = File.Open("MyData.xml", IO.FileMode.Open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Employee()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ach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I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employe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onsole.WriteLine(emp.Nam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x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OAP format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867280"/>
            <a:ext cx="1143000" cy="763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5715000"/>
            <a:ext cx="1630440" cy="28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mployees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53240" y="5181480"/>
          <a:ext cx="2238480" cy="15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5181480"/>
                    <a:ext cx="2238480" cy="158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rializing an ADO.NET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O.NET DataSet objects are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kes it easy to save and load from the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" y="2333520"/>
            <a:ext cx="8534520" cy="405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av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Create, FileAccess.Writ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mt.Serialize(fs, CustomerD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Deserializing a DataSet objec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ataSet can by loaded from stream on local 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3560" y="1995480"/>
            <a:ext cx="8193240" cy="444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ullyTrustedData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 New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Tabl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 stream for write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Stream("Customers.xml", FileMode.Open, FileAccess.Rea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ormatter object and serialize DataSet objec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mt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oapFormat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(fmt.Deserialize(fs), DataS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file stream when d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return DataTable with customer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"CustomersTable"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 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I/O and Partially Trusted C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/O requires special attention using no-touch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doesn't hav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not use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isolated storage for 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void CLR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the XML se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 DataSet object methods such as ReadXML and Write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Using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dded to the CLR to support I/O for partially trus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for local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esn’t require giving code full access to 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riting a DataSet to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2120"/>
            <a:ext cx="853452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-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FileStreams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Crea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Write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persist Dataset and Dataset schema with custom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Write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Loading a DataSet from Isolated Stora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38320" y="2384640"/>
            <a:ext cx="5670360" cy="289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xx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191600"/>
            <a:ext cx="8193240" cy="504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store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 = _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File.GetStore(IsolatedStorageScope.Assembl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Domain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Or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_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IsolatedStorageScope.User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,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othing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open FileStreams from within isolated sto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1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sd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s2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IsolatedStorageFileStream("Customers.xml"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Mode.Open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ileAccess.Read, 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reate new DataSet and load customer data from dis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 =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Schema(fs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CustomerDS.ReadXml(fs2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lose everything u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1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fs2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store.Close(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y Web service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y have advantages over other distributed communications technologies such as DCOM, CORBA and Java 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mmunicate across fire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tegrate applications across vendor and platform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reate business-to-busines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Internet-style security (e.g. SSL, pass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everage HTTP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Web Services Specifications and Technolog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ML (Extensible Markup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XML provides a standard way to repres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XSD (XML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standard type system for XM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OAP (Simple Object Access 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RPC mechanism for invoking Web servic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SDL (Web Service Description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language for defining a Web service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 WSDL contract is machine readable and human read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.NET Supports Web Services via Web Metho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NET provides support for building custom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be deployed using .asmx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s can also be deployed as D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is custom class that inherits from WebServic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ethods marked with WebMethod attribute are exposed via 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can build WSDL contract dynamically using 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P.NET provides listener that maps client requests to your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1440" y="4198320"/>
            <a:ext cx="6940440" cy="243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 Class="MyService1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com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MyService1 :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Web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HelloWorld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"Hello Worl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Service For The Customer Tracker Ap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ploy this .asmx file on any Web server with ASP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97160" y="1872720"/>
            <a:ext cx="6927840" cy="47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%@ WebService Language="vb"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="CustomerService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Web.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WebService(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="http://Barracuda.net/"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System.Web.Services.WebMethod()&gt; 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GetCustomerData()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Data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connect to DBMS using AD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retrieve data from Customers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return DataSet with Customers tab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Web Service proj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Service projects used to created ASP.NET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ject based on an IIS virtu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creates code-behind .vb files for Web servi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3960" y="2624040"/>
            <a:ext cx="4327560" cy="2943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16520" y="3306600"/>
            <a:ext cx="3089520" cy="33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eb Referenc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b References used on client-side to access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S.NET generate client-side proxy class using W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xy class manages SOAP request a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7360" y="2654280"/>
            <a:ext cx="5124600" cy="35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46720" y="2803680"/>
            <a:ext cx="2400480" cy="33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rogramming Against A Web Re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pecial Proxy object created on clien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exposes easy to use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xy object deals with XML and SOAP behind the s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11440" y="2806200"/>
            <a:ext cx="6278400" cy="187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FileDownload()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Data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'*** call Web service to download Data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proxy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Services.CustomerServ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proxy.Url = "http://Barracuda.net/CustomerService.asmx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Me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.CustomerDS = proxy.GetCustomer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Return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CustomerDS.Tables(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Fun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2680" y="5286240"/>
            <a:ext cx="2135160" cy="46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ustom Web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5746680"/>
            <a:ext cx="2124000" cy="4716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SP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480" y="6216480"/>
            <a:ext cx="2127600" cy="4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Serv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61320" y="4994280"/>
            <a:ext cx="1103400" cy="927000"/>
          </a:xfrm>
          <a:prstGeom prst="can">
            <a:avLst>
              <a:gd name="adj" fmla="val 25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223400" y="5415480"/>
            <a:ext cx="567720" cy="150120"/>
            <a:chOff x="7223400" y="5415480"/>
            <a:chExt cx="567720" cy="150120"/>
          </a:xfrm>
        </p:grpSpPr>
        <p:sp>
          <p:nvSpPr>
            <p:cNvPr id="75" name=""/>
            <p:cNvSpPr/>
            <p:nvPr/>
          </p:nvSpPr>
          <p:spPr>
            <a:xfrm flipH="1">
              <a:off x="7223400" y="5562720"/>
              <a:ext cx="563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226640" y="5415480"/>
              <a:ext cx="564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138400" cy="2179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85680" y="5181480"/>
            <a:ext cx="1300320" cy="60984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Pro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299320" y="5434200"/>
            <a:ext cx="2726640" cy="163440"/>
            <a:chOff x="2299320" y="5434200"/>
            <a:chExt cx="2726640" cy="163440"/>
          </a:xfrm>
        </p:grpSpPr>
        <p:sp>
          <p:nvSpPr>
            <p:cNvPr id="80" name=""/>
            <p:cNvSpPr/>
            <p:nvPr/>
          </p:nvSpPr>
          <p:spPr>
            <a:xfrm flipH="1">
              <a:off x="2299320" y="5594400"/>
              <a:ext cx="27064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17320" y="5434200"/>
              <a:ext cx="27086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Cloud"/>
          <p:cNvSpPr/>
          <p:nvPr/>
        </p:nvSpPr>
        <p:spPr>
          <a:xfrm flipH="1">
            <a:off x="2814480" y="5076720"/>
            <a:ext cx="1524240" cy="84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ML/SO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9:40Z</dcterms:modified>
  <cp:revision>123</cp:revision>
  <dc:subject>MS Mobility DevCon 2003</dc:subject>
  <dc:title>Slide 1</dc:title>
</cp:coreProperties>
</file>