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11376-0A19-4FF0-944B-33EA8B123376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D1EDD-F8F0-482E-AE41-9EB1DDADD11D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F5AA0-E352-4E4A-A280-8E53C9170067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04920" y="712800"/>
            <a:ext cx="485784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B6D54-308C-42B5-AF10-05ED1EA0F466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04920" y="712800"/>
            <a:ext cx="485784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5324C-1121-4813-851D-76135A78FA0F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04920" y="712800"/>
            <a:ext cx="485784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E8459-578E-4A72-908B-F43F4C46C517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04920" y="712800"/>
            <a:ext cx="485784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F7F3D-521B-428B-8931-629B30CEF0A1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04920" y="712800"/>
            <a:ext cx="485784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E18FA-874E-4C78-9ACB-993BF9051E4E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04920" y="712800"/>
            <a:ext cx="485784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26279-1E74-4893-97A1-5194A1B67844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04920" y="712800"/>
            <a:ext cx="485784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B9119-2E33-40E5-9F35-1CA8A1BE85AF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04920" y="712800"/>
            <a:ext cx="485784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5AE66-E307-43B1-AD86-7B34ECEFF499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4557B-8583-40A8-893B-9FA2579D34F6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2221C-EFAC-490D-9F69-F91E3432EF78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7D047-16C1-4C2F-AFB5-504BB22B38CB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F6492-EC76-45BD-A808-58E960175B76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6F593-4267-4CE0-B700-7FC9F94EC9D2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3040"/>
            <a:ext cx="82296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9336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  <a:ea typeface="굴림"/>
              </a:rPr>
              <a:t>BUILDING SMART CLIENT APPLICATIONS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굴림"/>
              </a:rPr>
              <a:t>Calling Web Services from Partially Trusted Co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artially trusted code is limited to what it can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artially trusted code can call Web service from its own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artially trusted code cannot call Web service anywhere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comme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ploy smart client application files from the same domain that provides access to the Web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veloping Smart Clien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What is a Smart Client Appl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Deploying and Testing Smart Clien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ode Access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ommunicating With a Web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Storing Data Lo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 Features of the Microsoft Offic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treaming I/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/O in .NET is built on top of the concept of a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tream is an abstraction representing a generic array of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tream abstracts away details of transmitting/stor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spcBef>
                <a:spcPts val="499"/>
              </a:spcBef>
              <a:buNone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ream-based I/O often involves reader and writer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Writer objects write formatted data into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eader objects pull data out of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04960" y="4848120"/>
            <a:ext cx="268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4317840"/>
            <a:ext cx="1667880" cy="1077840"/>
            <a:chOff x="304920" y="4317840"/>
            <a:chExt cx="1667880" cy="1077840"/>
          </a:xfrm>
        </p:grpSpPr>
        <p:sp>
          <p:nvSpPr>
            <p:cNvPr id="91" name=""/>
            <p:cNvSpPr/>
            <p:nvPr/>
          </p:nvSpPr>
          <p:spPr>
            <a:xfrm>
              <a:off x="304920" y="4317840"/>
              <a:ext cx="1401480" cy="10778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Wri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b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04240" y="4855320"/>
              <a:ext cx="26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998720" y="4321080"/>
            <a:ext cx="1667880" cy="1076040"/>
            <a:chOff x="1998720" y="4321080"/>
            <a:chExt cx="1667880" cy="1076040"/>
          </a:xfrm>
        </p:grpSpPr>
        <p:sp>
          <p:nvSpPr>
            <p:cNvPr id="94" name=""/>
            <p:cNvSpPr/>
            <p:nvPr/>
          </p:nvSpPr>
          <p:spPr>
            <a:xfrm>
              <a:off x="1998720" y="4321080"/>
              <a:ext cx="1401480" cy="107604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b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98040" y="4857840"/>
              <a:ext cx="26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248440" y="4851360"/>
            <a:ext cx="268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5360" y="4114800"/>
            <a:ext cx="1514520" cy="1582560"/>
          </a:xfrm>
          <a:prstGeom prst="rect">
            <a:avLst/>
          </a:prstGeom>
          <a:solidFill>
            <a:srgbClr val="bc9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tream 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emory 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operating system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network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48440" y="4857840"/>
            <a:ext cx="268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543640" y="4322880"/>
            <a:ext cx="1666440" cy="1077480"/>
            <a:chOff x="5543640" y="4322880"/>
            <a:chExt cx="1666440" cy="1077480"/>
          </a:xfrm>
        </p:grpSpPr>
        <p:sp>
          <p:nvSpPr>
            <p:cNvPr id="100" name=""/>
            <p:cNvSpPr/>
            <p:nvPr/>
          </p:nvSpPr>
          <p:spPr>
            <a:xfrm>
              <a:off x="5543640" y="4322880"/>
              <a:ext cx="1400040" cy="10774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b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41880" y="4860360"/>
              <a:ext cx="26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7209000" y="4307040"/>
            <a:ext cx="1401480" cy="107784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R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74680" y="2448720"/>
            <a:ext cx="8586720" cy="2649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Writer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hared Sub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fs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tream("MyData.txt", FileMode.Create, FileAccess.Wri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writer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treamWriter(f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writer.WriteLine("Hello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writer.WriteLine("Goodbye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writer.Flush()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all Flush on writer when d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fs.Close()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all Close to release lock 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riting text to a fi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ystem.IO.FileStream class provides support for file 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FileStream constructor accepts file path, file mode, and fil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treamWriter object can be used to write text into file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654200" y="5460840"/>
            <a:ext cx="5806800" cy="902520"/>
            <a:chOff x="1654200" y="5460840"/>
            <a:chExt cx="5806800" cy="902520"/>
          </a:xfrm>
        </p:grpSpPr>
        <p:sp>
          <p:nvSpPr>
            <p:cNvPr id="107" name=""/>
            <p:cNvSpPr/>
            <p:nvPr/>
          </p:nvSpPr>
          <p:spPr>
            <a:xfrm>
              <a:off x="3468960" y="5904720"/>
              <a:ext cx="3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654200" y="5460840"/>
              <a:ext cx="2162160" cy="901080"/>
              <a:chOff x="1654200" y="5460840"/>
              <a:chExt cx="2162160" cy="901080"/>
            </a:xfrm>
          </p:grpSpPr>
          <p:sp>
            <p:nvSpPr>
              <p:cNvPr id="109" name=""/>
              <p:cNvSpPr/>
              <p:nvPr/>
            </p:nvSpPr>
            <p:spPr>
              <a:xfrm>
                <a:off x="1654200" y="5460840"/>
                <a:ext cx="1816560" cy="901080"/>
              </a:xfrm>
              <a:prstGeom prst="ellipse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StreamWri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468240" y="5910120"/>
                <a:ext cx="348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852000" y="5462280"/>
              <a:ext cx="2160360" cy="901080"/>
              <a:chOff x="3852000" y="5462280"/>
              <a:chExt cx="2160360" cy="901080"/>
            </a:xfrm>
          </p:grpSpPr>
          <p:sp>
            <p:nvSpPr>
              <p:cNvPr id="112" name=""/>
              <p:cNvSpPr/>
              <p:nvPr/>
            </p:nvSpPr>
            <p:spPr>
              <a:xfrm>
                <a:off x="3852000" y="5462280"/>
                <a:ext cx="1815480" cy="901080"/>
              </a:xfrm>
              <a:prstGeom prst="ellipse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FileStre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664600" y="5911560"/>
                <a:ext cx="347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102720" y="5466600"/>
              <a:ext cx="1358280" cy="872280"/>
            </a:xfrm>
            <a:prstGeom prst="rect">
              <a:avLst/>
            </a:prstGeom>
            <a:solidFill>
              <a:srgbClr val="bc9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yData.t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ileStream object can be opened for read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treamReader object can be used to read text out of file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2293200"/>
            <a:ext cx="8283600" cy="2649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Modul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Reader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fs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tream("MyData.txt", FileMode.Open, FileAccess.Rea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reader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treamReader(f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read text out of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contents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tring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= reader.ReadTo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make sure to close stream when work is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fs.Clos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Reading text from a fi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361120" y="5626080"/>
            <a:ext cx="349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61840" y="5181480"/>
            <a:ext cx="2162880" cy="901440"/>
            <a:chOff x="5361840" y="5181480"/>
            <a:chExt cx="2162880" cy="901440"/>
          </a:xfrm>
        </p:grpSpPr>
        <p:sp>
          <p:nvSpPr>
            <p:cNvPr id="120" name=""/>
            <p:cNvSpPr/>
            <p:nvPr/>
          </p:nvSpPr>
          <p:spPr>
            <a:xfrm flipH="1">
              <a:off x="5706720" y="5181480"/>
              <a:ext cx="1817640" cy="90144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reamR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5361840" y="5631120"/>
              <a:ext cx="34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165840" y="5183280"/>
            <a:ext cx="2160360" cy="901080"/>
            <a:chOff x="3165840" y="5183280"/>
            <a:chExt cx="2160360" cy="901080"/>
          </a:xfrm>
        </p:grpSpPr>
        <p:sp>
          <p:nvSpPr>
            <p:cNvPr id="123" name=""/>
            <p:cNvSpPr/>
            <p:nvPr/>
          </p:nvSpPr>
          <p:spPr>
            <a:xfrm flipH="1">
              <a:off x="3511080" y="5183280"/>
              <a:ext cx="1815120" cy="9010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FileStre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3165840" y="5632560"/>
              <a:ext cx="3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 flipH="1">
            <a:off x="1716840" y="5187960"/>
            <a:ext cx="1359000" cy="871560"/>
          </a:xfrm>
          <a:prstGeom prst="rect">
            <a:avLst/>
          </a:prstGeom>
          <a:solidFill>
            <a:srgbClr val="bc9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yData.t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LR Serializ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R can automatically serialize in-memory objects to a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erialization transforms object (or object graph) into byte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erialized object can be written to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erialized object can be transmitted across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erialized object state can be deserialized into cloned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eserialization allows copy of object to be created at lat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eserialization allows copy of object to be created in different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4343400"/>
            <a:ext cx="7619760" cy="2057040"/>
            <a:chOff x="609480" y="4343400"/>
            <a:chExt cx="7619760" cy="2057040"/>
          </a:xfrm>
        </p:grpSpPr>
        <p:sp>
          <p:nvSpPr>
            <p:cNvPr id="129" name=""/>
            <p:cNvSpPr/>
            <p:nvPr/>
          </p:nvSpPr>
          <p:spPr>
            <a:xfrm rot="21273000">
              <a:off x="1561320" y="4646160"/>
              <a:ext cx="2417760" cy="530640"/>
            </a:xfrm>
            <a:custGeom>
              <a:avLst/>
              <a:gdLst/>
              <a:ahLst/>
              <a:rect l="l" t="t" r="r" b="b"/>
              <a:pathLst>
                <a:path w="1248" h="240">
                  <a:moveTo>
                    <a:pt x="0" y="0"/>
                  </a:moveTo>
                  <a:cubicBezTo>
                    <a:pt x="328" y="4"/>
                    <a:pt x="656" y="8"/>
                    <a:pt x="864" y="48"/>
                  </a:cubicBezTo>
                  <a:cubicBezTo>
                    <a:pt x="1072" y="88"/>
                    <a:pt x="1160" y="164"/>
                    <a:pt x="1248" y="24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48120" y="4494960"/>
              <a:ext cx="1245240" cy="6058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rializ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4343400"/>
              <a:ext cx="1171800" cy="8449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mploy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b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 rot="21273000">
              <a:off x="4861800" y="5516280"/>
              <a:ext cx="2124720" cy="594720"/>
            </a:xfrm>
            <a:custGeom>
              <a:avLst/>
              <a:gdLst/>
              <a:ahLst/>
              <a:rect l="l" t="t" r="r" b="b"/>
              <a:pathLst>
                <a:path w="1248" h="240">
                  <a:moveTo>
                    <a:pt x="0" y="0"/>
                  </a:moveTo>
                  <a:cubicBezTo>
                    <a:pt x="328" y="4"/>
                    <a:pt x="656" y="8"/>
                    <a:pt x="864" y="48"/>
                  </a:cubicBezTo>
                  <a:cubicBezTo>
                    <a:pt x="1072" y="88"/>
                    <a:pt x="1160" y="164"/>
                    <a:pt x="1248" y="24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5224680" y="5794560"/>
              <a:ext cx="1245240" cy="6058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eserializ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7057080" y="5491080"/>
              <a:ext cx="1172160" cy="84492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one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mploy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b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06360" y="4884840"/>
              <a:ext cx="1171800" cy="90936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굴림"/>
              </a:rPr>
              <a:t>Understanding How CLR Serialization Work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hat types of objects can be seri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Objects created from class with the </a:t>
            </a: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&lt;Serializable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R can provide automatic seri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ustom serialization requires implementing </a:t>
            </a: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ISerializ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hen does object serialization typically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When client calls </a:t>
            </a: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Serial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on a formatt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When an objects is passed over marshaling 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93920" y="3116520"/>
            <a:ext cx="4854600" cy="137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Serializable()&gt; 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lass definition goes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93920" y="2616840"/>
            <a:ext cx="7313400" cy="307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Serializable()&gt; 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ID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nte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Name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t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Salary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eci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(ID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nteger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, Name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tring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ByVal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alary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ecimal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M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.ID =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M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.Name =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M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.Salary = Sal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Using automatic serializ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R provides serialization support for </a:t>
            </a: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&lt;Serializable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R serialization driven through component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R serializes private fields as well as public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2280" y="1136160"/>
            <a:ext cx="8202600" cy="543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Runtime.Serialization.Formatters.Binar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MyAp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hare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aveEmployees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reate a 3-element array of Employee obje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s()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 = {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(1, "Bob Roberts", 120000D)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(2, "Pam Bamblets", 275000D)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(3, "Guy Laney", 28600D)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trea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 = File.Open("Employees.dat", IO.FileMode.Creat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mt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BinaryFormat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mt.Serialize(fs, employee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hare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LoadEmployees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trea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 = File.Open("Employees.dat", IO.FileMode.Ope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mt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BinaryFormat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s()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 =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Type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(fmt.Deserialize(fs), Employee()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For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ach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In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Console.WriteLine(emp.Nam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x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Binary formatt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495680" y="6171840"/>
            <a:ext cx="762120" cy="15228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448240" y="5241960"/>
          <a:ext cx="3619440" cy="15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8240" y="5241960"/>
                    <a:ext cx="3619440" cy="1539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971800" y="6172200"/>
            <a:ext cx="1630440" cy="285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Employees.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2280" y="1234440"/>
            <a:ext cx="8202600" cy="523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Runtime.Serialization.Formatters.Soa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MyAp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hare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aveEmployees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s()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 = {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(1, "Bob Roberts", 120000D)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(2, "Pam Bamblets", 275000D)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(3, "Guy Laney", 28600D)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trea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 = File.Open("MyData.xml", IO.FileMode.Creat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mt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oapFormat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mt.Serialize(fs, employee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hare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LoadEmployees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trea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 = File.Open("MyData.xml", IO.FileMode.Ope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mt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oapFormat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s()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 =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Type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(fmt.Deserialize(fs), Employee()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For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ach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In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Console.WriteLine(emp.Nam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x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OAP formatt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5867280"/>
            <a:ext cx="1143000" cy="763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5715000"/>
            <a:ext cx="1630440" cy="285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Employees.x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753240" y="5181480"/>
          <a:ext cx="2238480" cy="15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53240" y="5181480"/>
                    <a:ext cx="2238480" cy="1586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veloping Smart Clien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What is a Smart Client Appl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Deploying and Testing Smart Clien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ode Access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Communicating With a Web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oring Data Lo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 Features of the Microsoft Offic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erializing an ADO.NET DataSet objec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DO.NET DataSet objects are seriali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akes it easy to save and load from the local hard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4960" y="2333520"/>
            <a:ext cx="8534520" cy="4051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ullyTrustedDataManag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rivate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DS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 New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DataS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rivate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Table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Data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av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open file stream for write ac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tream("Customers.xml", FileMode.Create, FileAccess.Writ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reate formatter object and serialize DataSet obje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mt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oapFormat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mt.Serialize(fs, CustomerD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lose stream when d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 Cla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Deserializing a DataSet objec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ataSet can by loaded from stream on local hard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38320" y="2384640"/>
            <a:ext cx="5670360" cy="28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xx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3560" y="1995480"/>
            <a:ext cx="8193240" cy="444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ullyTrustedDataManag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rivate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DS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 New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DataS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rivate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Table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Data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Load()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Data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open file stream for write ac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tream("Customers.xml", FileMode.Open, FileAccess.Rea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reate formatter object and serialize DataSet obje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mt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oapFormat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CustomerDS =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Type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(fmt.Deserialize(fs), DataSe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lose file stream when d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return DataTable with customers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Return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DS.Tables("CustomersTable"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 Cla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I/O and Partially Trusted Co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/O requires special attention using no-touch 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artially trusted code doesn't have full access to local hard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artially trusted code cannot use CLR ser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 isolated storage for storing data lo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void CLR ser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 the XML ser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 DataSet object methods such as ReadXML and Write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Using Isolated Stora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dded to the CLR to support I/O for partially trus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lows for local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oesn’t require giving code full access to local hard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riting a DataSet to Isolated Stora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212120"/>
            <a:ext cx="8534520" cy="5041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open isolated sto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tore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IsolatedStorageFile =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IsolatedStorageFile.GetStore(IsolatedStorageScope.Assembly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Or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-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IsolatedStorageScope.Domain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Or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_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IsolatedStorageScope.User,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othing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,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othing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reate FileStreams within isolated sto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1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IsolatedStorageFileStream("Customers.xsd"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ileMode.Create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ileAccess.Write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stor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2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IsolatedStorageFileStream("Customers.xml"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ileMode.Create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ileAccess.Write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stor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persist Dataset and Dataset schema with customer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CustomerDS.WriteXmlSchema(fs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CustomerDS.WriteXml(fs2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lose everything u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1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2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store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Loading a DataSet from Isolated Stora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38320" y="2384640"/>
            <a:ext cx="5670360" cy="28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xx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191600"/>
            <a:ext cx="8193240" cy="5041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tore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IsolatedStorageFile = _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IsolatedStorageFile.GetStore(IsolatedStorageScope.Assembly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Or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IsolatedStorageScope.Domain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Or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_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IsolatedStorageScope.User,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othing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,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othing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open FileStreams from within isolated sto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1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IsolatedStorageFileStream("Customers.xsd"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ileMode.Open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ileAccess.Read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stor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2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IsolatedStorageFileStream("Customers.xml"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ileMode.Open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ileAccess.Read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stor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reate new DataSet and load customer data from dis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CustomerDS =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DataS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CustomerDS.ReadXmlSchema(fs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CustomerDS.ReadXml(fs2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lose everything u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1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2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store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hy Web services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y have advantages over other distributed communications technologies such as DCOM, CORBA and Java R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mmunicate across fire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tegrate applications across vendor and platform 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reate business-to-business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everage Internet-style security (e.g. SSL, pass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everage HTTP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굴림"/>
              </a:rPr>
              <a:t>Web Services Specifications and Technolog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XML (Extensible Markup Langu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XML provides a standard way to represen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XSD (XML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 standard type system for XM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OAP (Simple Object Access Protoc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 RPC mechanism for invoking Web service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SDL (Web Service Description Langu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 language for defining a Web service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 WSDL contract is machine readable and human read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굴림"/>
              </a:rPr>
              <a:t>.NET Supports Web Services via Web Metho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NET provides support for building custom 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ustom Web services can be deployed using .asmx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ustom Web services can also be deployed as D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b service is custom class that inherits from WebService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ethods marked with WebMethod attribute are exposed via 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SP.NET can build WSDL contract dynamically using ref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SP.NET provides listener that maps client requests to your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41440" y="4198320"/>
            <a:ext cx="6940440" cy="2436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%@ WebService Language="vb"  Class="MyService1" 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WebService(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amespac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="http://Barracuda.com/")&gt; 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MyService1 :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nheri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Web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WebMethod()&gt; 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HelloWorld()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t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"Hello World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eb Service For The Customer Tracker App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ploy this .asmx file on any Web server with ASP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97160" y="1872720"/>
            <a:ext cx="6927840" cy="478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%@ WebService Language="vb"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="CustomerService" 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Web.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WebService(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amespac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="http://Barracuda.net/")&gt; 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System.Web.Services.WebMethod()&gt; 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GetCustomerData()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Data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(1) connect to DBMS using AD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(2) retrieve data from Customers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(3) return DataSet with Customers table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SP.NET Web Service projec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b Service projects used to created ASP.NET Web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ach project based on an IIS virtual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VS.NET creates code-behind .vb files for Web servic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3960" y="2624040"/>
            <a:ext cx="4327560" cy="2943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816520" y="3306600"/>
            <a:ext cx="3089520" cy="33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eb Referenc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b References used on client-side to access 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VS.NET generate client-side proxy class using WS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roxy class manages SOAP request and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7360" y="2654280"/>
            <a:ext cx="5124600" cy="3595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246720" y="2803680"/>
            <a:ext cx="2400480" cy="33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Programming Against A Web Refere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pecial Proxy object created on client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xy object exposes easy to use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xy object deals with XML and SOAP behind the sc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11440" y="2806200"/>
            <a:ext cx="6278400" cy="1875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Download()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Data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all Web service to download DataS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proxy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BarracudaServices.CustomerServ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proxy.Url = "http://Barracuda.net/CustomerService.asmx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Me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.CustomerDS = proxy.GetCustomer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Return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DS.Tables(0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62680" y="5286240"/>
            <a:ext cx="2135160" cy="465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ustom Web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75280" y="5746680"/>
            <a:ext cx="2124000" cy="471600"/>
          </a:xfrm>
          <a:prstGeom prst="rect">
            <a:avLst/>
          </a:prstGeom>
          <a:solidFill>
            <a:srgbClr val="8fd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ASP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73480" y="6216480"/>
            <a:ext cx="2127600" cy="471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indows Server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861320" y="4994280"/>
            <a:ext cx="1103400" cy="927000"/>
          </a:xfrm>
          <a:prstGeom prst="can">
            <a:avLst>
              <a:gd name="adj" fmla="val 250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QL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223400" y="5415480"/>
            <a:ext cx="567720" cy="150120"/>
            <a:chOff x="7223400" y="5415480"/>
            <a:chExt cx="567720" cy="150120"/>
          </a:xfrm>
        </p:grpSpPr>
        <p:sp>
          <p:nvSpPr>
            <p:cNvPr id="75" name=""/>
            <p:cNvSpPr/>
            <p:nvPr/>
          </p:nvSpPr>
          <p:spPr>
            <a:xfrm flipH="1">
              <a:off x="7223400" y="5562720"/>
              <a:ext cx="56376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226640" y="5415480"/>
              <a:ext cx="56448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2138400" cy="2179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85680" y="5181480"/>
            <a:ext cx="1300320" cy="6098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ocal Pro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299320" y="5434200"/>
            <a:ext cx="2726640" cy="163440"/>
            <a:chOff x="2299320" y="5434200"/>
            <a:chExt cx="2726640" cy="163440"/>
          </a:xfrm>
        </p:grpSpPr>
        <p:sp>
          <p:nvSpPr>
            <p:cNvPr id="80" name=""/>
            <p:cNvSpPr/>
            <p:nvPr/>
          </p:nvSpPr>
          <p:spPr>
            <a:xfrm flipH="1">
              <a:off x="2299320" y="5594400"/>
              <a:ext cx="270648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2317320" y="5434200"/>
              <a:ext cx="27086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Cloud"/>
          <p:cNvSpPr/>
          <p:nvPr/>
        </p:nvSpPr>
        <p:spPr>
          <a:xfrm flipH="1">
            <a:off x="2814480" y="5076720"/>
            <a:ext cx="1524240" cy="84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ML/SO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9:25:49Z</dcterms:created>
  <dc:creator>Cyndi</dc:creator>
  <dc:description>Template design: P. Macomber; Silver Fox Productions, Inc.
Formatter:
Event Date:
Event Location:
Speech Length:
Audience:
Key Topics:</dc:description>
  <dc:language>en-US</dc:language>
  <cp:lastModifiedBy>우영식</cp:lastModifiedBy>
  <dcterms:modified xsi:type="dcterms:W3CDTF">2006-04-22T04:19:40Z</dcterms:modified>
  <cp:revision>123</cp:revision>
  <dc:subject>MS Mobility DevCon 2003</dc:subject>
  <dc:title>Slide 1</dc:title>
</cp:coreProperties>
</file>