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64E9-F995-48D7-B333-EAF742FA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10AF-D1E0-406A-84A7-A78DAE09B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4282-4D2A-422A-BF5F-C99D62BA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6121-0C7D-453E-AA5B-0B04E42AE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880-AE25-48AA-A6BB-CCA789A5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C7BA-8CF9-4408-84D6-3627FC08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C49C-C96A-46C3-A416-5ECF8622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546B-C489-40CD-8CE5-317E6DBC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2A0C-34F9-4CB1-878A-2251F8BC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FEEB-B50A-4C92-95DA-6F59A788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2F10-E3CA-4C23-9BC9-D1D1D9FA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4760-83AA-4394-A2E2-1A0A0977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5A32-77F0-494A-845B-A4DDC5A8273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Multicast Routing Protoco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PIM-SM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김현철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프로토콜 개념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236232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480060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487692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3581280"/>
            <a:ext cx="838080" cy="8384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>
            <a:off x="3962520" y="3581280"/>
            <a:ext cx="838080" cy="8384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1371600" y="42447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308320" y="3178080"/>
            <a:ext cx="53316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3538440" y="316836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4571640" y="419076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2362320"/>
            <a:ext cx="3047760" cy="1557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RP 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랑데부 포인트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R 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정 라우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S   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송진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R   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수신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IPC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사용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2286000" y="220968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64832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472428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3429000"/>
            <a:ext cx="838440" cy="8380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3429000"/>
            <a:ext cx="838440" cy="8380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990720" y="4092120"/>
            <a:ext cx="53316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927080" y="3025440"/>
            <a:ext cx="53352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3157200" y="301608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4190760" y="403812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4267080"/>
            <a:ext cx="609480" cy="30492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4267080"/>
            <a:ext cx="609480" cy="30492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3200400"/>
            <a:ext cx="533160" cy="3049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3200400"/>
            <a:ext cx="533520" cy="3049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3276720"/>
            <a:ext cx="609480" cy="304560"/>
          </a:xfrm>
          <a:prstGeom prst="ellipse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5997600" y="2765520"/>
            <a:ext cx="533520" cy="30456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6553080" y="32004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메시지 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6378480" y="2666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Sock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60199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※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IPC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는 개발 과정 중 방법이 바뀔 수 있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프로그램 명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각각의 포인트를 프로그램으로 구성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상적으로 소켓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IPC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를 통해 각각을 연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연결 정보는 파일로 저장하여 융통성을 가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09:13:17Z</dcterms:created>
  <dc:creator>농구천재강백호</dc:creator>
  <dc:description/>
  <dc:language>en-US</dc:language>
  <cp:lastModifiedBy>농구천재강백호</cp:lastModifiedBy>
  <dcterms:modified xsi:type="dcterms:W3CDTF">2005-06-30T09:31:24Z</dcterms:modified>
  <cp:revision>4</cp:revision>
  <dc:subject/>
  <dc:title>Multicast Routing Protocol PIM-SM</dc:title>
</cp:coreProperties>
</file>