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E640-50FD-4648-94D2-C9BFB17F1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455-35D6-4CA6-91AA-210E6E1BD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4710-C891-4571-87BA-E8E00842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FC1E-1F58-450D-B23F-B17376E97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31ED-776E-4742-BAB3-61F58F416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2482-F302-4091-9EF9-96964815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2FB4-95DB-4C8B-A6F7-F789D19A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E44-7695-406F-97E0-F7B74437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223-5CEB-4235-A409-EA886370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38C5-19B8-4B80-9B1B-BF41D994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7263-84AB-4ED5-A089-2A80B5A7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3D33-5364-4DA0-A19F-8CBCA4CB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92D5-C240-4010-A224-1A479ED2839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Multicast Routing Protoco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PIM-SM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중간 보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8288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005. 7. 6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김현철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038480" y="2438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"/>
          <p:cNvSpPr/>
          <p:nvPr/>
        </p:nvSpPr>
        <p:spPr>
          <a:xfrm>
            <a:off x="7543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"/>
          <p:cNvSpPr/>
          <p:nvPr/>
        </p:nvSpPr>
        <p:spPr>
          <a:xfrm>
            <a:off x="2438280" y="373392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3809880"/>
            <a:ext cx="83844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676520" y="44193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24080" y="3254400"/>
            <a:ext cx="1089000" cy="78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4910040" y="3244320"/>
            <a:ext cx="88128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4876920"/>
            <a:ext cx="3047760" cy="1557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P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랑데부 포인트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지정 라우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S  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송진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R   :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수신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"/>
          <p:cNvSpPr/>
          <p:nvPr/>
        </p:nvSpPr>
        <p:spPr>
          <a:xfrm>
            <a:off x="778320" y="427860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"/>
          <p:cNvSpPr/>
          <p:nvPr/>
        </p:nvSpPr>
        <p:spPr>
          <a:xfrm>
            <a:off x="24544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"/>
          <p:cNvSpPr/>
          <p:nvPr/>
        </p:nvSpPr>
        <p:spPr>
          <a:xfrm>
            <a:off x="4131000" y="191628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"/>
          <p:cNvSpPr/>
          <p:nvPr/>
        </p:nvSpPr>
        <p:spPr>
          <a:xfrm>
            <a:off x="56548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"/>
          <p:cNvSpPr/>
          <p:nvPr/>
        </p:nvSpPr>
        <p:spPr>
          <a:xfrm>
            <a:off x="7636320" y="4354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cap="rnd" w="3816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7639920" y="152280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UDP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연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7162920" y="2209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7811640" y="1968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가상 연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676520" y="3244320"/>
            <a:ext cx="5866920" cy="1860840"/>
            <a:chOff x="1676520" y="3244320"/>
            <a:chExt cx="5866920" cy="1860840"/>
          </a:xfrm>
        </p:grpSpPr>
        <p:sp>
          <p:nvSpPr>
            <p:cNvPr id="69" name=""/>
            <p:cNvSpPr/>
            <p:nvPr/>
          </p:nvSpPr>
          <p:spPr>
            <a:xfrm flipV="1">
              <a:off x="1676520" y="441936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3124080" y="3254400"/>
              <a:ext cx="1089000" cy="784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4910040" y="3244320"/>
              <a:ext cx="881280" cy="793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flipV="1">
              <a:off x="6324120" y="44193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685800" y="4278600"/>
            <a:ext cx="990720" cy="1512720"/>
            <a:chOff x="685800" y="4278600"/>
            <a:chExt cx="990720" cy="1512720"/>
          </a:xfrm>
        </p:grpSpPr>
        <p:sp>
          <p:nvSpPr>
            <p:cNvPr id="74" name=""/>
            <p:cNvSpPr/>
            <p:nvPr/>
          </p:nvSpPr>
          <p:spPr>
            <a:xfrm>
              <a:off x="685800" y="4876920"/>
              <a:ext cx="9907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78320" y="4278600"/>
              <a:ext cx="875520" cy="4597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10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2438280" y="3211920"/>
            <a:ext cx="891720" cy="1360080"/>
            <a:chOff x="2438280" y="3211920"/>
            <a:chExt cx="891720" cy="1360080"/>
          </a:xfrm>
        </p:grpSpPr>
        <p:sp>
          <p:nvSpPr>
            <p:cNvPr id="77" name=""/>
            <p:cNvSpPr/>
            <p:nvPr/>
          </p:nvSpPr>
          <p:spPr>
            <a:xfrm>
              <a:off x="2438280" y="3733920"/>
              <a:ext cx="838440" cy="83808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54480" y="3211920"/>
              <a:ext cx="875520" cy="4597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4038480" y="1916280"/>
            <a:ext cx="990720" cy="1436400"/>
            <a:chOff x="4038480" y="1916280"/>
            <a:chExt cx="990720" cy="1436400"/>
          </a:xfrm>
        </p:grpSpPr>
        <p:sp>
          <p:nvSpPr>
            <p:cNvPr id="80" name=""/>
            <p:cNvSpPr/>
            <p:nvPr/>
          </p:nvSpPr>
          <p:spPr>
            <a:xfrm>
              <a:off x="4038480" y="2438280"/>
              <a:ext cx="9907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RP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31000" y="1916280"/>
              <a:ext cx="875520" cy="4597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30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638680" y="3211920"/>
            <a:ext cx="891720" cy="1436400"/>
            <a:chOff x="5638680" y="3211920"/>
            <a:chExt cx="891720" cy="1436400"/>
          </a:xfrm>
        </p:grpSpPr>
        <p:sp>
          <p:nvSpPr>
            <p:cNvPr id="83" name=""/>
            <p:cNvSpPr/>
            <p:nvPr/>
          </p:nvSpPr>
          <p:spPr>
            <a:xfrm>
              <a:off x="5638680" y="3809880"/>
              <a:ext cx="838440" cy="838440"/>
            </a:xfrm>
            <a:prstGeom prst="diamond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54880" y="3211920"/>
              <a:ext cx="875520" cy="4597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40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543800" y="4354920"/>
            <a:ext cx="990720" cy="1436400"/>
            <a:chOff x="7543800" y="4354920"/>
            <a:chExt cx="990720" cy="1436400"/>
          </a:xfrm>
        </p:grpSpPr>
        <p:sp>
          <p:nvSpPr>
            <p:cNvPr id="86" name=""/>
            <p:cNvSpPr/>
            <p:nvPr/>
          </p:nvSpPr>
          <p:spPr>
            <a:xfrm>
              <a:off x="7543800" y="4876920"/>
              <a:ext cx="990720" cy="9144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36320" y="4354920"/>
              <a:ext cx="875520" cy="459720"/>
            </a:xfrm>
            <a:prstGeom prst="rect">
              <a:avLst/>
            </a:prstGeom>
            <a:noFill/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굴림"/>
                </a:rPr>
                <a:t>5000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038480" y="2438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7543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373392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3809880"/>
            <a:ext cx="83844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676520" y="44193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124080" y="3254400"/>
            <a:ext cx="1089000" cy="78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4910040" y="3244320"/>
            <a:ext cx="88128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778320" y="427860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4544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131000" y="191628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>
            <a:off x="56548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636320" y="4354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160" y="4419720"/>
            <a:ext cx="99036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1905120" y="4724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nd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038480" y="2438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7543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373392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3809880"/>
            <a:ext cx="83844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1676520" y="44193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3124080" y="3254400"/>
            <a:ext cx="1089000" cy="78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4910040" y="3244320"/>
            <a:ext cx="88128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778320" y="427860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24544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4131000" y="191628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"/>
          <p:cNvSpPr/>
          <p:nvPr/>
        </p:nvSpPr>
        <p:spPr>
          <a:xfrm>
            <a:off x="56548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"/>
          <p:cNvSpPr/>
          <p:nvPr/>
        </p:nvSpPr>
        <p:spPr>
          <a:xfrm>
            <a:off x="7636320" y="4354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3657600"/>
            <a:ext cx="1828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end Dat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4572000" y="121896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3200400" y="3276720"/>
            <a:ext cx="99072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038480" y="2438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438280" y="373392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3809880"/>
            <a:ext cx="83844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676520" y="44193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3124080" y="3254400"/>
            <a:ext cx="1089000" cy="78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4910040" y="3244320"/>
            <a:ext cx="88128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778320" y="427860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24544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131000" y="191628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6548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7636320" y="4354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4724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IM_JO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038480" y="243828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7543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4876920"/>
            <a:ext cx="99072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733920"/>
            <a:ext cx="838440" cy="83808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5638680" y="3809880"/>
            <a:ext cx="838440" cy="838440"/>
          </a:xfrm>
          <a:prstGeom prst="diamond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DR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676520" y="441936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3124080" y="3254400"/>
            <a:ext cx="1089000" cy="784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10040" y="3244320"/>
            <a:ext cx="881280" cy="793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6324120" y="441936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778320" y="427860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24544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4131000" y="191628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5654880" y="3211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4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"/>
          <p:cNvSpPr/>
          <p:nvPr/>
        </p:nvSpPr>
        <p:spPr>
          <a:xfrm>
            <a:off x="7636320" y="4354920"/>
            <a:ext cx="875520" cy="459720"/>
          </a:xfrm>
          <a:prstGeom prst="rect">
            <a:avLst/>
          </a:prstGeom>
          <a:noFill/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621360"/>
            <a:ext cx="27702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1447920" y="1294920"/>
            <a:ext cx="21333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895480" y="1295280"/>
            <a:ext cx="1143000" cy="2438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562360" y="1294920"/>
            <a:ext cx="2361960" cy="3581640"/>
          </a:xfrm>
          <a:prstGeom prst="line">
            <a:avLst/>
          </a:prstGeom>
          <a:ln cap="rnd" w="19080">
            <a:solidFill>
              <a:srgbClr val="3366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 flipH="1" flipV="1">
            <a:off x="5029200" y="1294920"/>
            <a:ext cx="9907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572000" y="1294920"/>
            <a:ext cx="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876920" y="3200400"/>
            <a:ext cx="914400" cy="8380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3581280"/>
            <a:ext cx="1828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PIM_JOI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09:13:17Z</dcterms:created>
  <dc:creator>농구천재강백호</dc:creator>
  <dc:description/>
  <dc:language>en-US</dc:language>
  <cp:lastModifiedBy>농구천재강백호</cp:lastModifiedBy>
  <dcterms:modified xsi:type="dcterms:W3CDTF">2005-07-06T07:47:10Z</dcterms:modified>
  <cp:revision>8</cp:revision>
  <dc:subject/>
  <dc:title>Multicast Routing Protocol PIM-SM</dc:title>
</cp:coreProperties>
</file>