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663A-B372-4527-BDE7-BE16F669B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7F5E-5F96-4FA0-9EB9-84553A8BA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5490-325A-4354-8E34-BCC3CFC80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BB56-7AEE-4604-AF58-534CC1368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CC63-39A2-4D40-BEDF-C32451400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EA1C-4896-49AA-A2DF-80DC4F182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F32A-9466-4B85-8664-2966C8071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AAD7-B005-48E9-ACC1-39D4C9A81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5A35-26A9-4AC7-98CC-954FB13DE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2126-E92D-4705-815A-3476022DD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5BBE-212E-4A32-A86C-DB18EA62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1BBC-09DA-4D18-A2F5-1D3967EF3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8760" y="117000"/>
            <a:ext cx="8229600" cy="64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-360" y="6597360"/>
            <a:ext cx="4259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r>
              <a:rPr b="1" i="1" lang="ko-KR" sz="1000" spc="-1" strike="noStrike">
                <a:solidFill>
                  <a:srgbClr val="ffffff"/>
                </a:solidFill>
                <a:latin typeface="Arial"/>
              </a:rPr>
              <a:t>© SAMSUNG Electronics Co., Lt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975000" y="655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ACD01-4E86-4AA4-A0F2-4D83954F6927}" type="slidenum">
              <a:rPr b="1" lang="ko-K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8317080" y="112680"/>
            <a:ext cx="731520" cy="2919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448000" y="4437000"/>
            <a:ext cx="42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2005. 7. 8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2195640" y="321300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굴림"/>
              </a:rPr>
              <a:t>Multicast Routing Protoco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"/>
          <p:cNvSpPr/>
          <p:nvPr/>
        </p:nvSpPr>
        <p:spPr>
          <a:xfrm>
            <a:off x="1438200" y="2205000"/>
            <a:ext cx="626580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cc"/>
                </a:solidFill>
                <a:latin typeface="Arial"/>
              </a:rPr>
              <a:t>PIM-SM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"/>
          <p:cNvSpPr/>
          <p:nvPr/>
        </p:nvSpPr>
        <p:spPr>
          <a:xfrm>
            <a:off x="7837560" y="133920"/>
            <a:ext cx="1198440" cy="276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ddddd"/>
                </a:solidFill>
                <a:latin typeface="Arial"/>
              </a:rPr>
              <a:t>Confidential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79280" y="187200"/>
            <a:ext cx="1584360" cy="5778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866040" y="5486400"/>
            <a:ext cx="141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김 현철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이상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684360" y="404640"/>
            <a:ext cx="64087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굴림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7740720" y="189000"/>
            <a:ext cx="1368360" cy="10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826920" y="404640"/>
            <a:ext cx="592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굴림"/>
              </a:rPr>
              <a:t>RP to DR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>
            <a:off x="8175960" y="620640"/>
            <a:ext cx="6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DR 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4716360" y="2060640"/>
            <a:ext cx="1368360" cy="1079280"/>
          </a:xfrm>
          <a:prstGeom prst="ellipse">
            <a:avLst/>
          </a:prstGeom>
          <a:solidFill>
            <a:srgbClr val="f0a9f5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5149080" y="242100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RP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6012000" y="1052640"/>
            <a:ext cx="1873080" cy="129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6301080" y="16286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>
            <a:off x="9304560" y="6984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5" name=""/>
          <p:cNvSpPr/>
          <p:nvPr/>
        </p:nvSpPr>
        <p:spPr>
          <a:xfrm>
            <a:off x="8801280" y="1490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6" name=""/>
          <p:cNvSpPr/>
          <p:nvPr/>
        </p:nvSpPr>
        <p:spPr>
          <a:xfrm>
            <a:off x="5715000" y="3139920"/>
            <a:ext cx="136836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7" name=""/>
          <p:cNvSpPr/>
          <p:nvPr/>
        </p:nvSpPr>
        <p:spPr>
          <a:xfrm>
            <a:off x="6948360" y="3429000"/>
            <a:ext cx="1368720" cy="107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DR 2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>
            <a:off x="5993280" y="29304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9" name=""/>
          <p:cNvSpPr/>
          <p:nvPr/>
        </p:nvSpPr>
        <p:spPr>
          <a:xfrm>
            <a:off x="8101080" y="4437000"/>
            <a:ext cx="30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6012000" y="1052640"/>
            <a:ext cx="1873080" cy="1296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1" name=""/>
          <p:cNvSpPr/>
          <p:nvPr/>
        </p:nvSpPr>
        <p:spPr>
          <a:xfrm>
            <a:off x="2700360" y="3429000"/>
            <a:ext cx="1368360" cy="107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DR 3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924360" y="2924280"/>
            <a:ext cx="934920" cy="720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491760" y="1274760"/>
            <a:ext cx="538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RP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Data Paket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RPT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down-stream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으로 전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6019920" y="1066320"/>
            <a:ext cx="1871640" cy="129564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5715000" y="3141720"/>
            <a:ext cx="1368360" cy="5745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6443640" y="2276640"/>
          <a:ext cx="2233440" cy="728640"/>
        </p:xfrm>
        <a:graphic>
          <a:graphicData uri="http://schemas.openxmlformats.org/drawingml/2006/table">
            <a:tbl>
              <a:tblPr/>
              <a:tblGrid>
                <a:gridCol w="744480"/>
                <a:gridCol w="744480"/>
                <a:gridCol w="74448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our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Grou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I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G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G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7" name=""/>
          <p:cNvSpPr/>
          <p:nvPr/>
        </p:nvSpPr>
        <p:spPr>
          <a:xfrm>
            <a:off x="8381880" y="3962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7848720" y="449568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1258920" y="5445000"/>
            <a:ext cx="431640" cy="432000"/>
          </a:xfrm>
          <a:prstGeom prst="rect">
            <a:avLst/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960120" y="595008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Source 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395280" y="4437000"/>
            <a:ext cx="431640" cy="432000"/>
          </a:xfrm>
          <a:prstGeom prst="rect">
            <a:avLst/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755640" y="3500280"/>
            <a:ext cx="431640" cy="432000"/>
          </a:xfrm>
          <a:prstGeom prst="rect">
            <a:avLst/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>
            <a:off x="597960" y="306216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Source 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1143000" y="3733920"/>
            <a:ext cx="1523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1676520" y="4419360"/>
            <a:ext cx="1295280" cy="990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838080" y="4191120"/>
            <a:ext cx="1905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7" name=""/>
          <p:cNvSpPr/>
          <p:nvPr/>
        </p:nvSpPr>
        <p:spPr>
          <a:xfrm>
            <a:off x="-11520" y="495288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Source 2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8" name=""/>
          <p:cNvSpPr/>
          <p:nvPr/>
        </p:nvSpPr>
        <p:spPr>
          <a:xfrm>
            <a:off x="4572000" y="3429000"/>
            <a:ext cx="12952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G1, DATA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FB8E-8F33-4B83-A097-48BE758C5DE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684360" y="404640"/>
            <a:ext cx="64087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굴림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0" name=""/>
          <p:cNvSpPr/>
          <p:nvPr/>
        </p:nvSpPr>
        <p:spPr>
          <a:xfrm>
            <a:off x="1258920" y="4005360"/>
            <a:ext cx="1368360" cy="10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"/>
          <p:cNvSpPr/>
          <p:nvPr/>
        </p:nvSpPr>
        <p:spPr>
          <a:xfrm>
            <a:off x="6732720" y="6093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굴림"/>
              </a:rPr>
              <a:t>Subne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826920" y="404640"/>
            <a:ext cx="592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굴림"/>
              </a:rPr>
              <a:t>DR to Receiver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3" name=""/>
          <p:cNvSpPr/>
          <p:nvPr/>
        </p:nvSpPr>
        <p:spPr>
          <a:xfrm>
            <a:off x="6659640" y="4797360"/>
            <a:ext cx="431640" cy="432000"/>
          </a:xfrm>
          <a:prstGeom prst="rect">
            <a:avLst/>
          </a:prstGeom>
          <a:solidFill>
            <a:srgbClr val="f0a9f5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4" name=""/>
          <p:cNvSpPr/>
          <p:nvPr/>
        </p:nvSpPr>
        <p:spPr>
          <a:xfrm>
            <a:off x="6084720" y="2133720"/>
            <a:ext cx="432000" cy="431640"/>
          </a:xfrm>
          <a:prstGeom prst="rect">
            <a:avLst/>
          </a:prstGeom>
          <a:solidFill>
            <a:srgbClr val="f0a9f5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0" y="1413000"/>
            <a:ext cx="431640" cy="431640"/>
          </a:xfrm>
          <a:prstGeom prst="rect">
            <a:avLst/>
          </a:prstGeom>
          <a:solidFill>
            <a:srgbClr val="f0a9f5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2195640" y="1341360"/>
            <a:ext cx="431640" cy="432000"/>
          </a:xfrm>
          <a:prstGeom prst="rect">
            <a:avLst/>
          </a:prstGeom>
          <a:solidFill>
            <a:srgbClr val="f0a9f5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7" name=""/>
          <p:cNvSpPr/>
          <p:nvPr/>
        </p:nvSpPr>
        <p:spPr>
          <a:xfrm>
            <a:off x="1689840" y="4365720"/>
            <a:ext cx="5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D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"/>
          <p:cNvSpPr/>
          <p:nvPr/>
        </p:nvSpPr>
        <p:spPr>
          <a:xfrm>
            <a:off x="2000880" y="985680"/>
            <a:ext cx="13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Receiver 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5909400" y="1700280"/>
            <a:ext cx="13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Receiver 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>
            <a:off x="4109400" y="981000"/>
            <a:ext cx="13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Receiver 2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6485760" y="4221000"/>
            <a:ext cx="13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Receiver 4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2050560" y="1773360"/>
            <a:ext cx="36036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2556000" y="2349360"/>
            <a:ext cx="3528720" cy="194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2268000" y="1844640"/>
            <a:ext cx="230364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"/>
          <p:cNvSpPr/>
          <p:nvPr/>
        </p:nvSpPr>
        <p:spPr>
          <a:xfrm flipH="1" flipV="1">
            <a:off x="2626920" y="4723920"/>
            <a:ext cx="403236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0" y="4869000"/>
            <a:ext cx="1403280" cy="93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951120" y="45864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8" name=""/>
          <p:cNvSpPr/>
          <p:nvPr/>
        </p:nvSpPr>
        <p:spPr>
          <a:xfrm>
            <a:off x="1743480" y="32907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9" name=""/>
          <p:cNvSpPr/>
          <p:nvPr/>
        </p:nvSpPr>
        <p:spPr>
          <a:xfrm>
            <a:off x="2319840" y="35067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0" name=""/>
          <p:cNvSpPr/>
          <p:nvPr/>
        </p:nvSpPr>
        <p:spPr>
          <a:xfrm>
            <a:off x="2751480" y="38671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"/>
          <p:cNvSpPr/>
          <p:nvPr/>
        </p:nvSpPr>
        <p:spPr>
          <a:xfrm>
            <a:off x="2824560" y="45147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"/>
          <p:cNvSpPr/>
          <p:nvPr/>
        </p:nvSpPr>
        <p:spPr>
          <a:xfrm>
            <a:off x="5719320" y="549360"/>
            <a:ext cx="255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Host1, Host4 wante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Join the Group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3" name=""/>
          <p:cNvSpPr/>
          <p:nvPr/>
        </p:nvSpPr>
        <p:spPr>
          <a:xfrm>
            <a:off x="5508720" y="404640"/>
            <a:ext cx="295272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2050920" y="1773360"/>
            <a:ext cx="362160" cy="22320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"/>
          <p:cNvSpPr/>
          <p:nvPr/>
        </p:nvSpPr>
        <p:spPr>
          <a:xfrm flipH="1" flipV="1">
            <a:off x="2626920" y="4723920"/>
            <a:ext cx="4032360" cy="289080"/>
          </a:xfrm>
          <a:prstGeom prst="line">
            <a:avLst/>
          </a:prstGeom>
          <a:ln w="76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1187280" y="5373720"/>
          <a:ext cx="3524040" cy="891720"/>
        </p:xfrm>
        <a:graphic>
          <a:graphicData uri="http://schemas.openxmlformats.org/drawingml/2006/table">
            <a:tbl>
              <a:tblPr/>
              <a:tblGrid>
                <a:gridCol w="854640"/>
                <a:gridCol w="721080"/>
                <a:gridCol w="650520"/>
                <a:gridCol w="535320"/>
                <a:gridCol w="762480"/>
              </a:tblGrid>
              <a:tr h="29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our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Grou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I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I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G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P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G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P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EC37-F595-4661-A64E-11A7E2FE3384}" type="slidenum">
              <a:t>11</a:t>
            </a:fld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2195640" y="3284640"/>
            <a:ext cx="576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"/>
          <p:cNvSpPr/>
          <p:nvPr/>
        </p:nvSpPr>
        <p:spPr>
          <a:xfrm>
            <a:off x="5292720" y="2708280"/>
            <a:ext cx="57636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9" name=""/>
          <p:cNvSpPr/>
          <p:nvPr/>
        </p:nvSpPr>
        <p:spPr>
          <a:xfrm>
            <a:off x="6372360" y="1773360"/>
            <a:ext cx="57600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0" name=""/>
          <p:cNvSpPr/>
          <p:nvPr/>
        </p:nvSpPr>
        <p:spPr>
          <a:xfrm>
            <a:off x="4716360" y="1197000"/>
            <a:ext cx="57636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"/>
          <p:cNvSpPr/>
          <p:nvPr/>
        </p:nvSpPr>
        <p:spPr>
          <a:xfrm>
            <a:off x="2627280" y="1484280"/>
            <a:ext cx="57636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"/>
          <p:cNvSpPr/>
          <p:nvPr/>
        </p:nvSpPr>
        <p:spPr>
          <a:xfrm>
            <a:off x="826920" y="5300640"/>
            <a:ext cx="432000" cy="432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3" name=""/>
          <p:cNvSpPr/>
          <p:nvPr/>
        </p:nvSpPr>
        <p:spPr>
          <a:xfrm>
            <a:off x="250920" y="3860640"/>
            <a:ext cx="431640" cy="432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"/>
          <p:cNvSpPr/>
          <p:nvPr/>
        </p:nvSpPr>
        <p:spPr>
          <a:xfrm>
            <a:off x="2050920" y="5950080"/>
            <a:ext cx="432000" cy="431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"/>
          <p:cNvSpPr/>
          <p:nvPr/>
        </p:nvSpPr>
        <p:spPr>
          <a:xfrm>
            <a:off x="7596360" y="907920"/>
            <a:ext cx="431640" cy="432000"/>
          </a:xfrm>
          <a:prstGeom prst="rect">
            <a:avLst/>
          </a:prstGeom>
          <a:solidFill>
            <a:srgbClr val="f0a9f5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TV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6" name=""/>
          <p:cNvSpPr/>
          <p:nvPr/>
        </p:nvSpPr>
        <p:spPr>
          <a:xfrm>
            <a:off x="6424560" y="5883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7" name=""/>
          <p:cNvSpPr/>
          <p:nvPr/>
        </p:nvSpPr>
        <p:spPr>
          <a:xfrm>
            <a:off x="154800" y="4514760"/>
            <a:ext cx="7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채널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"/>
          <p:cNvSpPr/>
          <p:nvPr/>
        </p:nvSpPr>
        <p:spPr>
          <a:xfrm>
            <a:off x="590040" y="4514760"/>
            <a:ext cx="26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`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"/>
          <p:cNvSpPr/>
          <p:nvPr/>
        </p:nvSpPr>
        <p:spPr>
          <a:xfrm>
            <a:off x="528120" y="580536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채널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"/>
          <p:cNvSpPr/>
          <p:nvPr/>
        </p:nvSpPr>
        <p:spPr>
          <a:xfrm>
            <a:off x="2693520" y="6093000"/>
            <a:ext cx="83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채널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"/>
          <p:cNvSpPr/>
          <p:nvPr/>
        </p:nvSpPr>
        <p:spPr>
          <a:xfrm>
            <a:off x="2697840" y="3716280"/>
            <a:ext cx="5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D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"/>
          <p:cNvSpPr/>
          <p:nvPr/>
        </p:nvSpPr>
        <p:spPr>
          <a:xfrm>
            <a:off x="4211640" y="3429000"/>
            <a:ext cx="57636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"/>
          <p:cNvSpPr/>
          <p:nvPr/>
        </p:nvSpPr>
        <p:spPr>
          <a:xfrm>
            <a:off x="5724360" y="3789360"/>
            <a:ext cx="57636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4" name=""/>
          <p:cNvSpPr/>
          <p:nvPr/>
        </p:nvSpPr>
        <p:spPr>
          <a:xfrm>
            <a:off x="6657120" y="2276640"/>
            <a:ext cx="5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D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7796520" y="4419720"/>
            <a:ext cx="5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7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6" name=""/>
          <p:cNvSpPr/>
          <p:nvPr/>
        </p:nvSpPr>
        <p:spPr>
          <a:xfrm>
            <a:off x="4500720" y="2565360"/>
            <a:ext cx="792000" cy="360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5796000" y="2133360"/>
            <a:ext cx="647640" cy="64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2450880" y="113040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라우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 flipH="1" flipV="1">
            <a:off x="4284360" y="2781000"/>
            <a:ext cx="142920" cy="64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0" name=""/>
          <p:cNvSpPr/>
          <p:nvPr/>
        </p:nvSpPr>
        <p:spPr>
          <a:xfrm flipH="1">
            <a:off x="2484000" y="1916280"/>
            <a:ext cx="35892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1" name=""/>
          <p:cNvSpPr/>
          <p:nvPr/>
        </p:nvSpPr>
        <p:spPr>
          <a:xfrm>
            <a:off x="2771640" y="3573360"/>
            <a:ext cx="13687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2987640" y="620280"/>
            <a:ext cx="64764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"/>
          <p:cNvSpPr/>
          <p:nvPr/>
        </p:nvSpPr>
        <p:spPr>
          <a:xfrm>
            <a:off x="5292720" y="1484280"/>
            <a:ext cx="107964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"/>
          <p:cNvSpPr/>
          <p:nvPr/>
        </p:nvSpPr>
        <p:spPr>
          <a:xfrm>
            <a:off x="5580000" y="3141720"/>
            <a:ext cx="432000" cy="64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>
            <a:off x="4716360" y="3789360"/>
            <a:ext cx="1008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6" name=""/>
          <p:cNvSpPr/>
          <p:nvPr/>
        </p:nvSpPr>
        <p:spPr>
          <a:xfrm>
            <a:off x="6300720" y="3933720"/>
            <a:ext cx="1511280" cy="14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6877080" y="1196640"/>
            <a:ext cx="719280" cy="647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8" name=""/>
          <p:cNvSpPr/>
          <p:nvPr/>
        </p:nvSpPr>
        <p:spPr>
          <a:xfrm>
            <a:off x="1752480" y="4419720"/>
            <a:ext cx="57636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2133360" y="3733920"/>
            <a:ext cx="2286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0" name=""/>
          <p:cNvSpPr/>
          <p:nvPr/>
        </p:nvSpPr>
        <p:spPr>
          <a:xfrm flipH="1" flipV="1">
            <a:off x="685440" y="4114800"/>
            <a:ext cx="10666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1218960" y="4800600"/>
            <a:ext cx="60948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"/>
          <p:cNvSpPr/>
          <p:nvPr/>
        </p:nvSpPr>
        <p:spPr>
          <a:xfrm>
            <a:off x="2133720" y="4876920"/>
            <a:ext cx="7596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3" name=""/>
          <p:cNvSpPr/>
          <p:nvPr/>
        </p:nvSpPr>
        <p:spPr>
          <a:xfrm>
            <a:off x="3276720" y="4038480"/>
            <a:ext cx="576000" cy="43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4" name=""/>
          <p:cNvSpPr/>
          <p:nvPr/>
        </p:nvSpPr>
        <p:spPr>
          <a:xfrm>
            <a:off x="4572000" y="4876920"/>
            <a:ext cx="576360" cy="431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5" name=""/>
          <p:cNvSpPr/>
          <p:nvPr/>
        </p:nvSpPr>
        <p:spPr>
          <a:xfrm>
            <a:off x="2590920" y="36576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2286000" y="4343400"/>
            <a:ext cx="99072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7" name=""/>
          <p:cNvSpPr/>
          <p:nvPr/>
        </p:nvSpPr>
        <p:spPr>
          <a:xfrm>
            <a:off x="3809880" y="4419720"/>
            <a:ext cx="7621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3809880" y="3809880"/>
            <a:ext cx="533520" cy="381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"/>
          <p:cNvSpPr/>
          <p:nvPr/>
        </p:nvSpPr>
        <p:spPr>
          <a:xfrm>
            <a:off x="4572000" y="3809880"/>
            <a:ext cx="30492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1218960" y="4800600"/>
            <a:ext cx="609480" cy="5335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2286000" y="4343400"/>
            <a:ext cx="990720" cy="2286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3809880" y="3809880"/>
            <a:ext cx="533520" cy="3812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"/>
          <p:cNvSpPr/>
          <p:nvPr/>
        </p:nvSpPr>
        <p:spPr>
          <a:xfrm flipH="1" flipV="1">
            <a:off x="4266720" y="2781000"/>
            <a:ext cx="142920" cy="647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"/>
          <p:cNvSpPr/>
          <p:nvPr/>
        </p:nvSpPr>
        <p:spPr>
          <a:xfrm>
            <a:off x="4419720" y="2514600"/>
            <a:ext cx="792000" cy="36036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5791320" y="2133360"/>
            <a:ext cx="647640" cy="647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6858000" y="1218960"/>
            <a:ext cx="719280" cy="6476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"/>
          <p:cNvSpPr/>
          <p:nvPr/>
        </p:nvSpPr>
        <p:spPr>
          <a:xfrm>
            <a:off x="7772400" y="3809880"/>
            <a:ext cx="431640" cy="432000"/>
          </a:xfrm>
          <a:prstGeom prst="rect">
            <a:avLst/>
          </a:prstGeom>
          <a:solidFill>
            <a:srgbClr val="f0a9f5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TV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"/>
          <p:cNvSpPr/>
          <p:nvPr/>
        </p:nvSpPr>
        <p:spPr>
          <a:xfrm>
            <a:off x="7499160" y="1523880"/>
            <a:ext cx="62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7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"/>
          <p:cNvSpPr/>
          <p:nvPr/>
        </p:nvSpPr>
        <p:spPr>
          <a:xfrm>
            <a:off x="5562720" y="3105000"/>
            <a:ext cx="431640" cy="6480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0" name=""/>
          <p:cNvSpPr/>
          <p:nvPr/>
        </p:nvSpPr>
        <p:spPr>
          <a:xfrm>
            <a:off x="6248520" y="3962520"/>
            <a:ext cx="1511280" cy="142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"/>
          <p:cNvSpPr/>
          <p:nvPr/>
        </p:nvSpPr>
        <p:spPr>
          <a:xfrm>
            <a:off x="1219320" y="990720"/>
            <a:ext cx="431640" cy="431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2" name=""/>
          <p:cNvSpPr/>
          <p:nvPr/>
        </p:nvSpPr>
        <p:spPr>
          <a:xfrm>
            <a:off x="981720" y="1600200"/>
            <a:ext cx="7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채널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533520"/>
            <a:ext cx="431640" cy="431640"/>
          </a:xfrm>
          <a:prstGeom prst="rect">
            <a:avLst/>
          </a:prstGeom>
          <a:solidFill>
            <a:srgbClr val="f0a9f5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TV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4" name=""/>
          <p:cNvSpPr/>
          <p:nvPr/>
        </p:nvSpPr>
        <p:spPr>
          <a:xfrm>
            <a:off x="1676520" y="1295280"/>
            <a:ext cx="99036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5" name=""/>
          <p:cNvSpPr/>
          <p:nvPr/>
        </p:nvSpPr>
        <p:spPr>
          <a:xfrm>
            <a:off x="3124080" y="1828800"/>
            <a:ext cx="838440" cy="68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4343400" y="1600200"/>
            <a:ext cx="53352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5257800" y="838080"/>
            <a:ext cx="114300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8" name=""/>
          <p:cNvSpPr/>
          <p:nvPr/>
        </p:nvSpPr>
        <p:spPr>
          <a:xfrm>
            <a:off x="1676520" y="1295280"/>
            <a:ext cx="990360" cy="304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1828800"/>
            <a:ext cx="838440" cy="6858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4305240" y="1600200"/>
            <a:ext cx="533520" cy="838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5257800" y="838080"/>
            <a:ext cx="1143000" cy="4572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2" name=""/>
          <p:cNvSpPr/>
          <p:nvPr/>
        </p:nvSpPr>
        <p:spPr>
          <a:xfrm>
            <a:off x="6248520" y="1066680"/>
            <a:ext cx="5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9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3" name=""/>
          <p:cNvSpPr/>
          <p:nvPr/>
        </p:nvSpPr>
        <p:spPr>
          <a:xfrm>
            <a:off x="1676520" y="1295280"/>
            <a:ext cx="990360" cy="3049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1219320" y="4800600"/>
            <a:ext cx="609480" cy="5335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2286000" y="4343040"/>
            <a:ext cx="990720" cy="228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3809880" y="3809520"/>
            <a:ext cx="533520" cy="3812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7" name=""/>
          <p:cNvSpPr/>
          <p:nvPr/>
        </p:nvSpPr>
        <p:spPr>
          <a:xfrm>
            <a:off x="4267080" y="2819520"/>
            <a:ext cx="152640" cy="609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4343400" y="1600200"/>
            <a:ext cx="533520" cy="8380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5257800" y="838080"/>
            <a:ext cx="1143000" cy="4572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5791320" y="2133360"/>
            <a:ext cx="609480" cy="609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6858000" y="1218960"/>
            <a:ext cx="762120" cy="609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2" name=""/>
          <p:cNvSpPr/>
          <p:nvPr/>
        </p:nvSpPr>
        <p:spPr>
          <a:xfrm>
            <a:off x="5562720" y="3124080"/>
            <a:ext cx="380880" cy="6098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3" name=""/>
          <p:cNvSpPr/>
          <p:nvPr/>
        </p:nvSpPr>
        <p:spPr>
          <a:xfrm>
            <a:off x="6324480" y="3962520"/>
            <a:ext cx="1447920" cy="1522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4" name=""/>
          <p:cNvSpPr/>
          <p:nvPr/>
        </p:nvSpPr>
        <p:spPr>
          <a:xfrm flipH="1" flipV="1">
            <a:off x="4419720" y="2514600"/>
            <a:ext cx="838080" cy="3808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5" name=""/>
          <p:cNvSpPr/>
          <p:nvPr/>
        </p:nvSpPr>
        <p:spPr>
          <a:xfrm>
            <a:off x="5105520" y="5181480"/>
            <a:ext cx="838080" cy="685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4571640" y="5334120"/>
            <a:ext cx="228600" cy="9903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7" name=""/>
          <p:cNvSpPr/>
          <p:nvPr/>
        </p:nvSpPr>
        <p:spPr>
          <a:xfrm>
            <a:off x="6172200" y="4267080"/>
            <a:ext cx="533520" cy="12193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8" name=""/>
          <p:cNvSpPr/>
          <p:nvPr/>
        </p:nvSpPr>
        <p:spPr>
          <a:xfrm>
            <a:off x="6934320" y="2057400"/>
            <a:ext cx="1295280" cy="685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4952880" y="380520"/>
            <a:ext cx="0" cy="7621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0" name=""/>
          <p:cNvSpPr/>
          <p:nvPr/>
        </p:nvSpPr>
        <p:spPr>
          <a:xfrm flipH="1" flipV="1">
            <a:off x="761760" y="2742840"/>
            <a:ext cx="1447560" cy="685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1" name=""/>
          <p:cNvSpPr/>
          <p:nvPr/>
        </p:nvSpPr>
        <p:spPr>
          <a:xfrm>
            <a:off x="3124080" y="1828800"/>
            <a:ext cx="838440" cy="685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2" name=""/>
          <p:cNvSpPr/>
          <p:nvPr/>
        </p:nvSpPr>
        <p:spPr>
          <a:xfrm>
            <a:off x="3995640" y="2438280"/>
            <a:ext cx="576360" cy="432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RP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5350-B3A0-44C5-B4C8-4D935264D8B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468360" y="1628640"/>
            <a:ext cx="7920000" cy="46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공통 사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UDP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서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클라이언트 구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Non-Block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을 이용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Thread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를 이용한 동시성 추구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시그널을 이용한 종료 처리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(SIGINT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클라이언트의 메시지 도착시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thread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생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클라이언트 종료시 리스트에서 클라이언트 삭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서버 종료시 종료 메시지 전송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멀티캐스트를 이용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4" name=""/>
          <p:cNvSpPr/>
          <p:nvPr/>
        </p:nvSpPr>
        <p:spPr>
          <a:xfrm>
            <a:off x="684360" y="404640"/>
            <a:ext cx="64087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굴림"/>
              </a:rPr>
              <a:t>프로그램 명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CAD9-FF03-4689-A1B5-184761F6F75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468360" y="1628640"/>
            <a:ext cx="792000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RP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  <a:ea typeface="굴림"/>
              </a:rPr>
              <a:t>PIM JOIN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메시지에 대한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  <a:ea typeface="굴림"/>
              </a:rPr>
              <a:t>action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메시지 전송을 위한 테이블 관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Linked list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로 구성된 테이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DR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  <a:ea typeface="굴림"/>
              </a:rPr>
              <a:t>IGMP JOIN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메시지에 대한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  <a:ea typeface="굴림"/>
              </a:rPr>
              <a:t>action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  <a:ea typeface="굴림"/>
              </a:rPr>
              <a:t>Receiver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에게 메시지 전송을 위한 테이블 관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Linked list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로 구성된 테이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6" name=""/>
          <p:cNvSpPr/>
          <p:nvPr/>
        </p:nvSpPr>
        <p:spPr>
          <a:xfrm>
            <a:off x="684360" y="404640"/>
            <a:ext cx="64087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굴림"/>
              </a:rPr>
              <a:t>프로그램 명세</a:t>
            </a:r>
            <a:r>
              <a:rPr b="1" lang="en-US" sz="3200" spc="-1" strike="noStrike">
                <a:solidFill>
                  <a:srgbClr val="ffff00"/>
                </a:solidFill>
                <a:latin typeface="굴림"/>
              </a:rPr>
              <a:t>(</a:t>
            </a:r>
            <a:r>
              <a:rPr b="1" lang="zh-CN" sz="3200" spc="-1" strike="noStrike">
                <a:solidFill>
                  <a:srgbClr val="ffff00"/>
                </a:solidFill>
                <a:latin typeface="굴림"/>
              </a:rPr>
              <a:t>계속</a:t>
            </a:r>
            <a:r>
              <a:rPr b="1" lang="en-US" sz="3200" spc="-1" strike="noStrike">
                <a:solidFill>
                  <a:srgbClr val="ffff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7443-C7CF-4818-88DC-1EC044C3454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468360" y="1628640"/>
            <a:ext cx="7920000" cy="41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Sender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FD_SET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을 이용한 동시성 추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  <a:ea typeface="굴림"/>
              </a:rPr>
              <a:t>키보드 입력과 패킷 수신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정된 경로로 데이터를 계속 보내는 역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Receiver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데이터 수신을 위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IGMP_JOIN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요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경로 설정 후에는 지속적으로 데이터 수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"/>
          <p:cNvSpPr/>
          <p:nvPr/>
        </p:nvSpPr>
        <p:spPr>
          <a:xfrm>
            <a:off x="684360" y="404640"/>
            <a:ext cx="64087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굴림"/>
              </a:rPr>
              <a:t>프로그램 명세</a:t>
            </a:r>
            <a:r>
              <a:rPr b="1" lang="en-US" sz="3200" spc="-1" strike="noStrike">
                <a:solidFill>
                  <a:srgbClr val="ffff00"/>
                </a:solidFill>
                <a:latin typeface="굴림"/>
              </a:rPr>
              <a:t>(</a:t>
            </a:r>
            <a:r>
              <a:rPr b="1" lang="zh-CN" sz="3200" spc="-1" strike="noStrike">
                <a:solidFill>
                  <a:srgbClr val="ffff00"/>
                </a:solidFill>
                <a:latin typeface="굴림"/>
              </a:rPr>
              <a:t>계속</a:t>
            </a:r>
            <a:r>
              <a:rPr b="1" lang="en-US" sz="3200" spc="-1" strike="noStrike">
                <a:solidFill>
                  <a:srgbClr val="ffff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2043-529C-4825-AF1C-C8AD81307A9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6424560" y="5883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1066680" y="1219320"/>
            <a:ext cx="6527880" cy="990360"/>
            <a:chOff x="1066680" y="1219320"/>
            <a:chExt cx="6527880" cy="990360"/>
          </a:xfrm>
        </p:grpSpPr>
        <p:sp>
          <p:nvSpPr>
            <p:cNvPr id="411" name=""/>
            <p:cNvSpPr/>
            <p:nvPr/>
          </p:nvSpPr>
          <p:spPr>
            <a:xfrm>
              <a:off x="2590920" y="1676520"/>
              <a:ext cx="576000" cy="43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굴림"/>
                </a:rPr>
                <a:t>DR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162920" y="1295280"/>
              <a:ext cx="431640" cy="432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66680" y="1219320"/>
              <a:ext cx="432000" cy="431640"/>
            </a:xfrm>
            <a:prstGeom prst="rect">
              <a:avLst/>
            </a:prstGeom>
            <a:solidFill>
              <a:srgbClr val="f0a9f5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굴림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843360" y="1600200"/>
              <a:ext cx="728640" cy="60948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굴림"/>
                </a:rPr>
                <a:t>RP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486400" y="1676520"/>
              <a:ext cx="576360" cy="43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굴림"/>
                </a:rPr>
                <a:t>DR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523880" y="1447920"/>
              <a:ext cx="1067040" cy="380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124080" y="1828800"/>
              <a:ext cx="6858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572000" y="1905120"/>
              <a:ext cx="9144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6019920" y="1599840"/>
              <a:ext cx="1143000" cy="304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838080" y="2133720"/>
            <a:ext cx="2176560" cy="2260440"/>
            <a:chOff x="838080" y="2133720"/>
            <a:chExt cx="2176560" cy="2260440"/>
          </a:xfrm>
        </p:grpSpPr>
        <p:sp>
          <p:nvSpPr>
            <p:cNvPr id="421" name=""/>
            <p:cNvSpPr/>
            <p:nvPr/>
          </p:nvSpPr>
          <p:spPr>
            <a:xfrm>
              <a:off x="2438280" y="3657600"/>
              <a:ext cx="576360" cy="43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굴림"/>
                </a:rPr>
                <a:t>DR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38080" y="3962520"/>
              <a:ext cx="432000" cy="431640"/>
            </a:xfrm>
            <a:prstGeom prst="rect">
              <a:avLst/>
            </a:prstGeom>
            <a:solidFill>
              <a:srgbClr val="f0a9f5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굴림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2666520" y="2133720"/>
              <a:ext cx="228600" cy="1523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1294920" y="3886200"/>
              <a:ext cx="1143000" cy="228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990720" y="1980720"/>
            <a:ext cx="6222960" cy="1270440"/>
            <a:chOff x="990720" y="1980720"/>
            <a:chExt cx="6222960" cy="1270440"/>
          </a:xfrm>
        </p:grpSpPr>
        <p:sp>
          <p:nvSpPr>
            <p:cNvPr id="426" name=""/>
            <p:cNvSpPr/>
            <p:nvPr/>
          </p:nvSpPr>
          <p:spPr>
            <a:xfrm>
              <a:off x="6781680" y="2819520"/>
              <a:ext cx="432000" cy="431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990720" y="2590920"/>
              <a:ext cx="431640" cy="431640"/>
            </a:xfrm>
            <a:prstGeom prst="rect">
              <a:avLst/>
            </a:prstGeom>
            <a:solidFill>
              <a:srgbClr val="f0a9f5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굴림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1447920" y="1980720"/>
              <a:ext cx="1218960" cy="838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943600" y="2057400"/>
              <a:ext cx="838080" cy="838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2438280" y="2133720"/>
            <a:ext cx="4699080" cy="3327120"/>
            <a:chOff x="2438280" y="2133720"/>
            <a:chExt cx="4699080" cy="3327120"/>
          </a:xfrm>
        </p:grpSpPr>
        <p:sp>
          <p:nvSpPr>
            <p:cNvPr id="431" name=""/>
            <p:cNvSpPr/>
            <p:nvPr/>
          </p:nvSpPr>
          <p:spPr>
            <a:xfrm>
              <a:off x="5105520" y="3429000"/>
              <a:ext cx="576000" cy="431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  <a:effectLst>
              <a:outerShdw dist="107932" dir="81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굴림"/>
                </a:rPr>
                <a:t>DR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438280" y="5029200"/>
              <a:ext cx="432000" cy="431640"/>
            </a:xfrm>
            <a:prstGeom prst="rect">
              <a:avLst/>
            </a:prstGeom>
            <a:solidFill>
              <a:srgbClr val="f0a9f5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굴림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705720" y="4648320"/>
              <a:ext cx="431640" cy="431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666880" y="4114800"/>
              <a:ext cx="0" cy="91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343400" y="2133720"/>
              <a:ext cx="914400" cy="1295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638680" y="3809880"/>
              <a:ext cx="1067040" cy="91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152280" y="556272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R : Receive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8" name=""/>
          <p:cNvSpPr/>
          <p:nvPr/>
        </p:nvSpPr>
        <p:spPr>
          <a:xfrm>
            <a:off x="6399360" y="5715000"/>
            <a:ext cx="128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S : Sende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8631-65FB-4150-B2D9-078C82DBB84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2448000" y="3500280"/>
            <a:ext cx="42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600" spc="-1" strike="noStrike">
                <a:solidFill>
                  <a:srgbClr val="333399"/>
                </a:solidFill>
                <a:latin typeface="Arial"/>
              </a:rPr>
              <a:t>Samsung</a:t>
            </a: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 Electronics Co., Ltd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2"/>
          <a:srcRect l="0" t="0" r="9076" b="0"/>
          <a:stretch/>
        </p:blipFill>
        <p:spPr>
          <a:xfrm>
            <a:off x="2198520" y="2205000"/>
            <a:ext cx="4746960" cy="116208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3"/>
          <a:stretch/>
        </p:blipFill>
        <p:spPr>
          <a:xfrm>
            <a:off x="179280" y="187200"/>
            <a:ext cx="158436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4360" y="404640"/>
            <a:ext cx="69832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Multicast IP Routing Protoco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"/>
          <p:cNvSpPr/>
          <p:nvPr/>
        </p:nvSpPr>
        <p:spPr>
          <a:xfrm>
            <a:off x="1258920" y="1773360"/>
            <a:ext cx="122400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"/>
          <p:cNvSpPr/>
          <p:nvPr/>
        </p:nvSpPr>
        <p:spPr>
          <a:xfrm>
            <a:off x="1314000" y="105264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>
            <a:off x="1979640" y="3357720"/>
            <a:ext cx="122400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>
            <a:off x="179280" y="2924280"/>
            <a:ext cx="122400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7380360" y="5300640"/>
            <a:ext cx="122400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5724360" y="5300640"/>
            <a:ext cx="122400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7164360" y="3645000"/>
            <a:ext cx="122400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2637000"/>
            <a:ext cx="122400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5867280" y="1557360"/>
            <a:ext cx="122400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RP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2627280" y="5229360"/>
            <a:ext cx="122400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1042920" y="4653000"/>
            <a:ext cx="1224000" cy="504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1042920" y="2205000"/>
            <a:ext cx="50472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2124000" y="2276640"/>
            <a:ext cx="50328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763280" y="3860640"/>
            <a:ext cx="64764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2771640" y="3860640"/>
            <a:ext cx="505080" cy="136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5219640" y="2060640"/>
            <a:ext cx="115272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6732720" y="2060640"/>
            <a:ext cx="93492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7956720" y="4149720"/>
            <a:ext cx="21564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6516360" y="4076640"/>
            <a:ext cx="93492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518080" y="1125360"/>
            <a:ext cx="20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Rendezous Poin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1042920" y="1125360"/>
            <a:ext cx="1511280" cy="35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4625640" y="335772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4375080" y="3424320"/>
            <a:ext cx="1511280" cy="35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213480" y="378936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Receive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5758560" y="595008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Receive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>
            <a:off x="2662920" y="587700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Receive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7342920" y="602136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Receive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1005480" y="537372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Receive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547200" y="6461280"/>
            <a:ext cx="392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굴림"/>
              </a:rPr>
              <a:t>A) Source-Based Routing Tre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5202000" y="6491160"/>
            <a:ext cx="343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굴림"/>
              </a:rPr>
              <a:t>B)  Shared Tree Routing Tre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1619280" y="5157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1835280" y="14842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>
            <a:off x="7956720" y="580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3203640" y="57340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580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148360" y="3141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>
            <a:off x="755640" y="350028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3D40-1933-44CC-BABE-BB2BD14B04A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68360" y="1628640"/>
            <a:ext cx="7920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▪ 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Protocol Independent Multicast-Spase Mode(PIM-SM) routes multicast packets to multicast groups, and is desigend to establish distribution trees across wide area networks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▪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Spase-mode means that the protocol is designed for situation where multicast groups are thinly populated across a large region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▪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Spase-mode protocols can operate in LAN environments, but they are most efficient over WANS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>
            <a:off x="684360" y="404640"/>
            <a:ext cx="64087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굴림"/>
              </a:rPr>
              <a:t>PIM-SM </a:t>
            </a:r>
            <a:r>
              <a:rPr b="1" i="1" lang="zh-CN" sz="3200" spc="-1" strike="noStrike">
                <a:solidFill>
                  <a:srgbClr val="ffff00"/>
                </a:solidFill>
                <a:latin typeface="굴림"/>
              </a:rPr>
              <a:t>이란 무엇인가</a:t>
            </a:r>
            <a:r>
              <a:rPr b="1" i="1" lang="en-US" sz="3200" spc="-1" strike="noStrike">
                <a:solidFill>
                  <a:srgbClr val="ffff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622A-7D87-4D91-8409-91C59CAF94F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68360" y="1628640"/>
            <a:ext cx="7920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▪ 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IP Host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들이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multicast group membership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multicast router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들에게 보고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하기 위해 사용되는 프로토콜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▪ 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Subnet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상에서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member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가진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group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들에 대한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list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 관리할뿐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각각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member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정보는 관리 하지 않는다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▪ 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Subnet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연결된 라우터들 중 가장 낮은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높은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) IP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주소를 가지는 라우터가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Querier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가 된다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▪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Designated Router(DR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라고 한다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684360" y="404640"/>
            <a:ext cx="82803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굴림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굴림"/>
              </a:rPr>
              <a:t>IGMP(Internet Group Management Protocol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D04E-A598-46E1-B839-06D0DB839DD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68360" y="1628640"/>
            <a:ext cx="7920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▪ 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IP Host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들이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multicast group membership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multicast router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들에게 보고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하기 위해 사용되는 프로토콜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▪ 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Subnet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상에서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member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가진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group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들에 대한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list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 관리할뿐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각각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member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정보는 관리 하지 않는다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▪ 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Subnet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연결된 라우터들 중 가장 낮은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높은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) IP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주소를 가지는 라우터가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Querier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가 된다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▪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Designated Router(DR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라고 한다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684360" y="404640"/>
            <a:ext cx="82803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굴림"/>
              </a:rPr>
              <a:t> </a:t>
            </a:r>
            <a:r>
              <a:rPr b="1" i="1" lang="en-US" sz="2800" spc="-1" strike="noStrike">
                <a:solidFill>
                  <a:srgbClr val="ffff00"/>
                </a:solidFill>
                <a:latin typeface="굴림"/>
              </a:rPr>
              <a:t>IGMP(Internet Group Management Protocol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21AA-94C3-45ED-9961-73B5C79B165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4360" y="404640"/>
            <a:ext cx="64087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굴림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>
            <a:off x="1258920" y="4005360"/>
            <a:ext cx="1368360" cy="10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>
            <a:off x="6732720" y="6093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굴림"/>
              </a:rPr>
              <a:t>Subne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>
            <a:off x="826920" y="404640"/>
            <a:ext cx="592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굴림"/>
              </a:rPr>
              <a:t>IGMP-JOIN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>
            <a:off x="6659640" y="4797360"/>
            <a:ext cx="431640" cy="432000"/>
          </a:xfrm>
          <a:prstGeom prst="rect">
            <a:avLst/>
          </a:prstGeom>
          <a:solidFill>
            <a:srgbClr val="f0a9f5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>
            <a:off x="6084720" y="2133720"/>
            <a:ext cx="432000" cy="431640"/>
          </a:xfrm>
          <a:prstGeom prst="rect">
            <a:avLst/>
          </a:prstGeom>
          <a:solidFill>
            <a:srgbClr val="f0a9f5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0" y="1413000"/>
            <a:ext cx="431640" cy="431640"/>
          </a:xfrm>
          <a:prstGeom prst="rect">
            <a:avLst/>
          </a:prstGeom>
          <a:solidFill>
            <a:srgbClr val="f0a9f5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2195640" y="1341360"/>
            <a:ext cx="431640" cy="432000"/>
          </a:xfrm>
          <a:prstGeom prst="rect">
            <a:avLst/>
          </a:prstGeom>
          <a:solidFill>
            <a:srgbClr val="f0a9f5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1689840" y="4365720"/>
            <a:ext cx="5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D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2000880" y="985680"/>
            <a:ext cx="13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Receiver 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>
            <a:off x="5909400" y="1700280"/>
            <a:ext cx="13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Receiver 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4109400" y="981000"/>
            <a:ext cx="13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Receiver 2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6485760" y="4221000"/>
            <a:ext cx="134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Receiver 4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2050560" y="1773360"/>
            <a:ext cx="36036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556000" y="2349360"/>
            <a:ext cx="3528720" cy="194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2268000" y="1844640"/>
            <a:ext cx="2303640" cy="22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2626920" y="4723920"/>
            <a:ext cx="403236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0" y="4869000"/>
            <a:ext cx="140328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951120" y="45864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>
            <a:off x="1743480" y="32907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>
            <a:off x="2319840" y="35067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2751480" y="38671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>
            <a:off x="2824560" y="45147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5416200" y="625320"/>
            <a:ext cx="346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Host1, Host4 Join the Group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5435640" y="476280"/>
            <a:ext cx="345744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2050920" y="1773360"/>
            <a:ext cx="362160" cy="223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2626920" y="4723920"/>
            <a:ext cx="4032360" cy="289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>
            <a:off x="1622880" y="1341360"/>
            <a:ext cx="4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굴림"/>
              </a:rPr>
              <a:t>G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6159960" y="5157720"/>
            <a:ext cx="4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굴림"/>
              </a:rPr>
              <a:t>G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476360" y="5300640"/>
          <a:ext cx="2232000" cy="669960"/>
        </p:xfrm>
        <a:graphic>
          <a:graphicData uri="http://schemas.openxmlformats.org/drawingml/2006/table">
            <a:tbl>
              <a:tblPr/>
              <a:tblGrid>
                <a:gridCol w="1116000"/>
                <a:gridCol w="11160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our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G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9482-D2D8-4EF2-9179-1680C8673A4B}" type="slidenum">
              <a:t>6</a:t>
            </a:fld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26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7 0.00486 L -0.40538 -0.06875 E">
                                      <p:cBhvr>
                                        <p:cTn id="30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84360" y="404640"/>
            <a:ext cx="64087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굴림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>
            <a:off x="5148360" y="1844640"/>
            <a:ext cx="1368360" cy="107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>
            <a:off x="826920" y="404640"/>
            <a:ext cx="592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굴림"/>
              </a:rPr>
              <a:t>PIM-JOIN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>
            <a:off x="5583600" y="2276640"/>
            <a:ext cx="6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DR 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5796000" y="188640"/>
            <a:ext cx="86364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6372360" y="836640"/>
            <a:ext cx="194472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>
            <a:off x="6516720" y="2565360"/>
            <a:ext cx="2232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5508720" y="260280"/>
            <a:ext cx="0" cy="165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>
            <a:off x="2124000" y="3716280"/>
            <a:ext cx="1368360" cy="1079640"/>
          </a:xfrm>
          <a:prstGeom prst="ellipse">
            <a:avLst/>
          </a:prstGeom>
          <a:solidFill>
            <a:srgbClr val="f0a9f5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>
            <a:off x="2556720" y="407664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RP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3419640" y="2707920"/>
            <a:ext cx="187308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>
            <a:off x="4912200" y="2641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>
            <a:off x="5272560" y="1417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5848560" y="1417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6567840" y="17064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6712200" y="23544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>
            <a:off x="6208560" y="3146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6227640" y="2924280"/>
          <a:ext cx="2737080" cy="728640"/>
        </p:xfrm>
        <a:graphic>
          <a:graphicData uri="http://schemas.openxmlformats.org/drawingml/2006/table">
            <a:tbl>
              <a:tblPr/>
              <a:tblGrid>
                <a:gridCol w="663840"/>
                <a:gridCol w="560160"/>
                <a:gridCol w="505080"/>
                <a:gridCol w="415800"/>
                <a:gridCol w="5922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our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Grou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I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I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G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G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"/>
          <p:cNvSpPr/>
          <p:nvPr/>
        </p:nvSpPr>
        <p:spPr>
          <a:xfrm flipH="1" flipV="1">
            <a:off x="179280" y="4076280"/>
            <a:ext cx="194472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39280" y="4653000"/>
            <a:ext cx="180036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>
            <a:off x="3132000" y="4724280"/>
            <a:ext cx="136872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3591360" y="1633680"/>
            <a:ext cx="167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Join Messag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3635280" y="1628640"/>
            <a:ext cx="15843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4356000" y="5084640"/>
            <a:ext cx="1368360" cy="107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DR 2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6012000" y="4941720"/>
          <a:ext cx="2879640" cy="729000"/>
        </p:xfrm>
        <a:graphic>
          <a:graphicData uri="http://schemas.openxmlformats.org/drawingml/2006/table">
            <a:tbl>
              <a:tblPr/>
              <a:tblGrid>
                <a:gridCol w="647640"/>
                <a:gridCol w="576360"/>
                <a:gridCol w="466560"/>
                <a:gridCol w="566640"/>
                <a:gridCol w="62244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our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Grou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II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I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G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G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R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"/>
          <p:cNvSpPr/>
          <p:nvPr/>
        </p:nvSpPr>
        <p:spPr>
          <a:xfrm>
            <a:off x="5267880" y="4149720"/>
            <a:ext cx="167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Join Messag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>
            <a:off x="5364000" y="4149720"/>
            <a:ext cx="158436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>
            <a:off x="5651640" y="5950080"/>
            <a:ext cx="1152360" cy="90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5292720" y="6093000"/>
            <a:ext cx="287280" cy="765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211280" y="6093000"/>
            <a:ext cx="431640" cy="765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3635640" y="4724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"/>
          <p:cNvSpPr/>
          <p:nvPr/>
        </p:nvSpPr>
        <p:spPr>
          <a:xfrm>
            <a:off x="4192920" y="60991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5127840" y="61707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5775840" y="58831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12F3-A1A0-476F-81A9-4BB3C6B6555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684360" y="404640"/>
            <a:ext cx="64087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굴림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>
            <a:off x="5148360" y="1844640"/>
            <a:ext cx="1368360" cy="107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>
            <a:off x="826920" y="404640"/>
            <a:ext cx="592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굴림"/>
              </a:rPr>
              <a:t>RP-Based Shared Tree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5583600" y="2276640"/>
            <a:ext cx="6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DR 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5796000" y="188640"/>
            <a:ext cx="86364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72360" y="836640"/>
            <a:ext cx="194472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>
            <a:off x="6516720" y="2565360"/>
            <a:ext cx="2232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508720" y="260280"/>
            <a:ext cx="0" cy="165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>
            <a:off x="2124000" y="3716280"/>
            <a:ext cx="1368360" cy="1079640"/>
          </a:xfrm>
          <a:prstGeom prst="ellipse">
            <a:avLst/>
          </a:prstGeom>
          <a:solidFill>
            <a:srgbClr val="f0a9f5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>
            <a:off x="2556720" y="407664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RP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3419640" y="2707920"/>
            <a:ext cx="187308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>
            <a:off x="4912200" y="2641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"/>
          <p:cNvSpPr/>
          <p:nvPr/>
        </p:nvSpPr>
        <p:spPr>
          <a:xfrm>
            <a:off x="5272560" y="1417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"/>
          <p:cNvSpPr/>
          <p:nvPr/>
        </p:nvSpPr>
        <p:spPr>
          <a:xfrm>
            <a:off x="5848560" y="1417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"/>
          <p:cNvSpPr/>
          <p:nvPr/>
        </p:nvSpPr>
        <p:spPr>
          <a:xfrm>
            <a:off x="6567840" y="17064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"/>
          <p:cNvSpPr/>
          <p:nvPr/>
        </p:nvSpPr>
        <p:spPr>
          <a:xfrm>
            <a:off x="6712200" y="23544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>
            <a:off x="6208560" y="3146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179280" y="4076280"/>
            <a:ext cx="194472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539280" y="4653000"/>
            <a:ext cx="180036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3203640" y="4724280"/>
            <a:ext cx="1368360" cy="576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4356000" y="5084640"/>
            <a:ext cx="1368360" cy="107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DR 2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>
            <a:off x="5651640" y="5950080"/>
            <a:ext cx="1152360" cy="90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>
            <a:off x="5292720" y="6093000"/>
            <a:ext cx="287280" cy="765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4211280" y="6093000"/>
            <a:ext cx="431640" cy="765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"/>
          <p:cNvSpPr/>
          <p:nvPr/>
        </p:nvSpPr>
        <p:spPr>
          <a:xfrm>
            <a:off x="3400920" y="45864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"/>
          <p:cNvSpPr/>
          <p:nvPr/>
        </p:nvSpPr>
        <p:spPr>
          <a:xfrm>
            <a:off x="4192920" y="60991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5127840" y="61707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5775840" y="58831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3419640" y="2707920"/>
            <a:ext cx="1873080" cy="1297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>
            <a:off x="53640" y="1052640"/>
            <a:ext cx="5258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This state information of all router from RP to DR create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a shared, RP-centered, distribution tree that reache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all group members.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 flipH="1" flipV="1">
            <a:off x="3200400" y="4724280"/>
            <a:ext cx="13716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D9A7-920C-40D7-80DD-435FC7C8A53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684360" y="404640"/>
            <a:ext cx="64087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00"/>
                </a:solidFill>
                <a:latin typeface="굴림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"/>
          <p:cNvSpPr/>
          <p:nvPr/>
        </p:nvSpPr>
        <p:spPr>
          <a:xfrm>
            <a:off x="7740720" y="189000"/>
            <a:ext cx="1368360" cy="10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"/>
          <p:cNvSpPr/>
          <p:nvPr/>
        </p:nvSpPr>
        <p:spPr>
          <a:xfrm>
            <a:off x="685800" y="380880"/>
            <a:ext cx="592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굴림"/>
              </a:rPr>
              <a:t>Sending Data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"/>
          <p:cNvSpPr/>
          <p:nvPr/>
        </p:nvSpPr>
        <p:spPr>
          <a:xfrm>
            <a:off x="8175960" y="620640"/>
            <a:ext cx="6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DR 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8964720" y="-819360"/>
            <a:ext cx="1944720" cy="122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"/>
          <p:cNvSpPr/>
          <p:nvPr/>
        </p:nvSpPr>
        <p:spPr>
          <a:xfrm>
            <a:off x="4716360" y="2060640"/>
            <a:ext cx="1368360" cy="1079280"/>
          </a:xfrm>
          <a:prstGeom prst="ellipse">
            <a:avLst/>
          </a:prstGeom>
          <a:solidFill>
            <a:srgbClr val="f0a9f5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"/>
          <p:cNvSpPr/>
          <p:nvPr/>
        </p:nvSpPr>
        <p:spPr>
          <a:xfrm>
            <a:off x="5149080" y="242100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RP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6012000" y="1052640"/>
            <a:ext cx="1873080" cy="129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6301080" y="16286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7864920" y="-2379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>
            <a:off x="8440920" y="-2379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9160200" y="507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>
            <a:off x="9304560" y="6984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>
            <a:off x="6948360" y="3429000"/>
            <a:ext cx="1368720" cy="107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DR 2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>
            <a:off x="5993280" y="29304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>
            <a:off x="2700360" y="3429000"/>
            <a:ext cx="1368360" cy="1079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DR 3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1258920" y="5445000"/>
            <a:ext cx="431640" cy="432000"/>
          </a:xfrm>
          <a:prstGeom prst="rect">
            <a:avLst/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960120" y="595008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Source 1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1619280" y="4437000"/>
            <a:ext cx="1366920" cy="1008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3924360" y="2924280"/>
            <a:ext cx="934920" cy="720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395280" y="4437000"/>
            <a:ext cx="431640" cy="432000"/>
          </a:xfrm>
          <a:prstGeom prst="rect">
            <a:avLst/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755640" y="3500280"/>
            <a:ext cx="431640" cy="432000"/>
          </a:xfrm>
          <a:prstGeom prst="rect">
            <a:avLst/>
          </a:prstGeom>
          <a:solidFill>
            <a:srgbClr val="009999"/>
          </a:solidFill>
          <a:ln w="9360">
            <a:solidFill>
              <a:srgbClr val="0099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342720" y="1274760"/>
            <a:ext cx="417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DR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Unicast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로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Register Message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RP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로 보낸다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-11520" y="495288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Source 2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597960" y="306216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Source 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1143000" y="3733920"/>
            <a:ext cx="1523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1676520" y="4419360"/>
            <a:ext cx="129528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838080" y="4191120"/>
            <a:ext cx="1905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3962520" y="2971440"/>
            <a:ext cx="8380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5715000" y="3124080"/>
            <a:ext cx="13716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2057400" y="5638680"/>
            <a:ext cx="12952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G1, DATA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84D1-3968-4436-9E65-F3D85AEC66B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7T07:59:38Z</dcterms:created>
  <dc:creator>user</dc:creator>
  <dc:description/>
  <dc:language>en-US</dc:language>
  <cp:lastModifiedBy>홍길동</cp:lastModifiedBy>
  <dcterms:modified xsi:type="dcterms:W3CDTF">2005-07-08T02:02:04Z</dcterms:modified>
  <cp:revision>40</cp:revision>
  <dc:subject/>
  <dc:title>슬라이드 1</dc:title>
</cp:coreProperties>
</file>