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FBD-21D3-4E63-81EA-A2318935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7676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FD5-9DE7-4041-AB9E-68DDB0C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CB2-41F4-49BB-AA54-AF13E8E9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ADE-0CC9-44EC-B27C-9CC81330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4A3-9B47-4474-8134-3C1E3E35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996-6CDA-47BF-AFFB-DC89D4F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94D-E092-4613-BADA-5077784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FDA7-2361-4678-8027-08A24E2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66A3-3A69-479E-B39A-35ABDB4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785-CCB0-4BA3-925E-F4682A0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F6F-C569-4C07-95C4-4206F8F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A89-AE31-493E-A128-3BE32B2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7D8-54B5-488C-83EC-5E62A14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D5B7-6F9C-424B-AD01-4E1EFD9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77676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9B68-D00C-4EAA-809C-B02494A0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4997-F1D6-459F-9C62-9ED913FE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776760"/>
            <a:ext cx="284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2A01-750F-4045-952A-F98C848C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4C8-E5AF-438A-8909-7E59A3B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AF0-0924-4108-BA27-8F2BF65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39F-1313-4170-9D61-AA80D72B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C95-DC32-409D-A1C5-7B9DBAB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003-7B57-487A-A75F-E97334E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77676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E75-45E0-4EAB-8426-5DE2D2D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76760"/>
            <a:ext cx="8839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70F-1CCE-4D36-9CF4-5E051E3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3" marL="1600200" indent="-228600">
              <a:spcBef>
                <a:spcPts val="700"/>
              </a:spcBef>
              <a:buClr>
                <a:srgbClr val="66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4" marL="2057400" indent="-228600">
              <a:spcBef>
                <a:spcPts val="700"/>
              </a:spcBef>
              <a:buClr>
                <a:srgbClr val="66ccf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그래픽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40080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00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1076-4250-4532-A945-E84CAA0EB878}" type="slidenum"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82880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그래픽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40080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6400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0C07-65AA-4E09-9A69-FC172D4CF60E}" type="slidenum">
              <a:rPr b="0" lang="en-US" sz="1200" spc="-1" strike="noStrike">
                <a:solidFill>
                  <a:srgbClr val="ffffff"/>
                </a:solidFill>
                <a:latin typeface="HY그래픽"/>
                <a:ea typeface="HY그래픽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그래픽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2" marL="914400" algn="ctr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그래픽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그래픽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HY그래픽"/>
            </a:endParaRPr>
          </a:p>
          <a:p>
            <a:pPr lvl="4" marL="1828800" algn="ctr">
              <a:spcBef>
                <a:spcPts val="451"/>
              </a:spcBef>
              <a:buClr>
                <a:srgbClr val="66ccff"/>
              </a:buClr>
              <a:buSzPct val="55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그래픽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HY그래픽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그래픽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HY그래픽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그래픽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HY그래픽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82880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그래픽"/>
              </a:rPr>
              <a:t>8xC196xx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Y그래픽"/>
              </a:rPr>
              <a:t>GCC </a:t>
            </a:r>
            <a:r>
              <a:rPr b="1" lang="zh-CN" sz="4400" spc="-1" strike="noStrike">
                <a:solidFill>
                  <a:srgbClr val="ffffff"/>
                </a:solidFill>
                <a:latin typeface="HY그래픽"/>
              </a:rPr>
              <a:t>크로스 컴파일러 구현</a:t>
            </a:r>
            <a:endParaRPr b="1" lang="en-US" sz="44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4114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그래픽"/>
              </a:rPr>
              <a:t>2007.03.07 </a:t>
            </a:r>
            <a:r>
              <a:rPr b="0" lang="zh-CN" sz="2400" spc="-1" strike="noStrike">
                <a:solidFill>
                  <a:srgbClr val="ffffff"/>
                </a:solidFill>
                <a:latin typeface="HY그래픽"/>
              </a:rPr>
              <a:t>양동희</a:t>
            </a:r>
            <a:endParaRPr b="0" lang="en-US" sz="2400" spc="-1" strike="noStrike">
              <a:solidFill>
                <a:srgbClr val="ffffff"/>
              </a:solidFill>
              <a:latin typeface="HY그래픽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레지스터 클래스 설정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Register Class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00000" y="981000"/>
          <a:ext cx="8064720" cy="2125800"/>
        </p:xfrm>
        <a:graphic>
          <a:graphicData uri="http://schemas.openxmlformats.org/drawingml/2006/table">
            <a:tbl>
              <a:tblPr/>
              <a:tblGrid>
                <a:gridCol w="1006560"/>
                <a:gridCol w="1011240"/>
                <a:gridCol w="1006560"/>
                <a:gridCol w="1009440"/>
                <a:gridCol w="1006560"/>
                <a:gridCol w="1009800"/>
                <a:gridCol w="1008000"/>
                <a:gridCol w="100656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SP(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SP(H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PE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M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WS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M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PE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ZERO_R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ZERO_R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1680" y="2708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1680" y="213372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1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31680" y="155736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2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339920"/>
            <a:ext cx="8064720" cy="360360"/>
          </a:xfrm>
          <a:custGeom>
            <a:avLst/>
            <a:gdLst>
              <a:gd name="textAreaLeft" fmla="*/ 0 w 8064720"/>
              <a:gd name="textAreaRight" fmla="*/ 8065080 w 8064720"/>
              <a:gd name="textAreaTop" fmla="*/ 46440 h 360360"/>
              <a:gd name="textAreaBottom" fmla="*/ 3139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9960" y="9079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F8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429000"/>
            <a:ext cx="4427640" cy="17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레지스터 클래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enum reg_cla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NO_REGS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SF_REGS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GENERAL_REGS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LL_REGS,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LIM_REG_CLASSE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38240" y="126720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305320"/>
            <a:ext cx="878544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REG_CLASS_CONTENT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 0x00000000, 0x00000000, 0x00000000, 0x00000000, 0x00000000, 0x00000000, 0x00000000, 0x00000000 },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 0x0003FFFF, 0x00000000, 0x00000000, 0x00000000, 0x00000000, 0x00000000, 0x00000000, 0x00000000 },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 0xFFFC0000, 0xFFFFFFFF, 0xFFFFFFFF, 0xFFFFFFFF, 0xFFFFFFFF, 0xFFFFFFFF, 0xFFFFFFFF, 0xFFFFFFFF },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 0xFFFFFFFF, 0xFFFFFFFF, 0xFFFFFFFF, 0xFFFFFFFF, 0xFFFFFFFF, 0xFFFFFFFF, 0xFFFFFFFF, 0xFFFFFFFF }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3429000"/>
            <a:ext cx="4427640" cy="17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REGNO_REG_CLASS(REGNO)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(REGNO) &lt;= 17   ? SF_REG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(REGNO) &lt;= 255 ? GENERAL_REG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ALL_REGS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BASE_REG_CLASS ALL_REG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INDEX_REG_CLASS ALL_REG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REG_CLASS_FROM_LETTER(CHAR)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 (CHAR) == 'a' ? SF_REGS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_REGS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그래픽"/>
              </a:rPr>
              <a:t>스택 프레임 설정</a:t>
            </a:r>
            <a:r>
              <a:rPr b="1" lang="ko-KR" sz="3600" spc="-1" strike="noStrike">
                <a:solidFill>
                  <a:srgbClr val="ffffff"/>
                </a:solidFill>
                <a:latin typeface="HY그래픽"/>
              </a:rPr>
              <a:t>(Stack Layout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81" name=""/>
          <p:cNvSpPr/>
          <p:nvPr/>
        </p:nvSpPr>
        <p:spPr>
          <a:xfrm>
            <a:off x="646200" y="1628640"/>
            <a:ext cx="1655640" cy="12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수 아귀먼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6200" y="3573360"/>
            <a:ext cx="1655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이전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F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46200" y="4149720"/>
            <a:ext cx="1655640" cy="1655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지역변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17480" y="39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252600" y="37162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F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1700280"/>
            <a:ext cx="144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589120" y="4221000"/>
            <a:ext cx="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589120" y="162864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17480" y="56624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3253680" y="54450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S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646200" y="2997360"/>
            <a:ext cx="1655640" cy="5029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복귀 주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1773360"/>
            <a:ext cx="4572000" cy="179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(define_expand "prologue"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[(const_int 1)]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i8_expand_prologue();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DONE;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}"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981000"/>
            <a:ext cx="457200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STACK_GROWS_DOWNWARD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FRAME_GROWS_DOWNWARD 1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ARGS_GROW_DOWNWARD 1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645000"/>
            <a:ext cx="4572000" cy="307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void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i8_expand_prologue (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이전 프레임 포인터 백업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emit_insn( gen_pushhi1( hard_frame_pointer_rtx ) );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현재 함수 프레임 포인터 설정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emit_move_insn( hard_frame_pointer_rtx, stack_pointer_rtx );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프레임 사이즈만큼 스택 포인터 증가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emit_insn( gen_addhi3( stack_pointer_rtx,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stack_pointer_rtx, GEN_INT( get_frame_size () ) ) );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메모리 주소 지정 방식 설정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934920"/>
            <a:ext cx="6156360" cy="19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HAVE_POST_INCREMENT 1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define CONSTANT_ADDRESS_P(X) (i8_constant_address_p(X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GO_IF_LEGITIMATE_ADDRESS(MODE, X, LABEL)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do {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f (i8_legitimate_address_p (MODE, X, 1)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goto LABEL;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 while (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GO_IF_MODE_DEPENDENT_ADDRESS(ADDR,LABEL)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f (i8_mode_dependent_address_p (ADDR)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goto LABEL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052640"/>
            <a:ext cx="2916360" cy="7189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symbol_ref “name”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789360"/>
            <a:ext cx="2916360" cy="719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reg:HI regnum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661000"/>
            <a:ext cx="2916360" cy="719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plus: HI (reg:HI regnum)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                               </a:t>
            </a: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const_int num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44640"/>
            <a:ext cx="2916360" cy="719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const_int num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637000"/>
            <a:ext cx="2916360" cy="7189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const:HI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           </a:t>
            </a: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plus:HI (symbol_ref “name”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                         </a:t>
            </a: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const_int num)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581360"/>
            <a:ext cx="2916360" cy="719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mem:HI (post_inc:HI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                    </a:t>
            </a:r>
            <a:r>
              <a:rPr b="1" lang="ko-KR" sz="1200" spc="-1" strike="noStrike">
                <a:solidFill>
                  <a:srgbClr val="ffffff"/>
                </a:solidFill>
                <a:latin typeface="돋움"/>
                <a:ea typeface="돋움"/>
              </a:rPr>
              <a:t>(reg:HI regnum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2932200"/>
            <a:ext cx="6156360" cy="392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8_legitimate_address_p (enum machine_mode mode ATTRIBUTE_UNUSED,rtx x, int strict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( CONSTANT_ADDRESS_P(x)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&amp; (GET_CODE(x) != CONST_INT || INTVAL(x) % GET_MODE_SIZE(mode) == 0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urn 1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인덱스 주소 지정 방식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(GET_CODE (x) == PLUS 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= XEXP (x, 0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// AUTO INCREMENT(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스택 포인터는 제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( GET_CODE (x) == POST_INC &amp;&amp; XEXP (x,0) != stack_pointer_rtx 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= XEXP (x, 0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레지스터에 대한 검사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(GET_CODE (x) == REG &amp;&amp; REGNO_OK_FOR_BASE_P (REGNO (x))    &amp;&amp; (! strict || REGNO (x) &lt; FIRST_PSEUDO_REGISTER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urn 1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051560" y="765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굴림"/>
              </a:rPr>
              <a:t>상수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1051560" y="3429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굴림"/>
              </a:rPr>
              <a:t>간접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1090440" y="5300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굴림"/>
              </a:rPr>
              <a:t>인덱스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어셈블리어 출력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ASM Output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781360"/>
            <a:ext cx="1944360" cy="627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M96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981000"/>
            <a:ext cx="1944360" cy="627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170172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1882800"/>
            <a:ext cx="3024360" cy="71928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Language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1195560"/>
            <a:ext cx="37450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 : Code + Operan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1627200"/>
            <a:ext cx="37450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2060640"/>
            <a:ext cx="37450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Nam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2492280"/>
            <a:ext cx="37450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Info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2924280"/>
            <a:ext cx="37450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llocation Info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17" name=""/>
          <p:cNvCxnSpPr>
            <a:stCxn id="211" idx="6"/>
            <a:endCxn id="212" idx="1"/>
          </p:cNvCxnSpPr>
          <p:nvPr/>
        </p:nvCxnSpPr>
        <p:spPr>
          <a:xfrm flipV="1">
            <a:off x="4509720" y="1375920"/>
            <a:ext cx="700920" cy="867600"/>
          </a:xfrm>
          <a:prstGeom prst="bentConnector3">
            <a:avLst>
              <a:gd name="adj1" fmla="val 4984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1" idx="6"/>
            <a:endCxn id="213" idx="1"/>
          </p:cNvCxnSpPr>
          <p:nvPr/>
        </p:nvCxnSpPr>
        <p:spPr>
          <a:xfrm flipV="1">
            <a:off x="4509720" y="1807920"/>
            <a:ext cx="700920" cy="435600"/>
          </a:xfrm>
          <a:prstGeom prst="bentConnector3">
            <a:avLst>
              <a:gd name="adj1" fmla="val 4984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1" idx="6"/>
            <a:endCxn id="214" idx="1"/>
          </p:cNvCxnSpPr>
          <p:nvPr/>
        </p:nvCxnSpPr>
        <p:spPr>
          <a:xfrm flipV="1">
            <a:off x="4509720" y="2241360"/>
            <a:ext cx="700920" cy="2160"/>
          </a:xfrm>
          <a:prstGeom prst="bentConnector3">
            <a:avLst>
              <a:gd name="adj1" fmla="val 4984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1" idx="6"/>
            <a:endCxn id="215" idx="1"/>
          </p:cNvCxnSpPr>
          <p:nvPr/>
        </p:nvCxnSpPr>
        <p:spPr>
          <a:xfrm>
            <a:off x="4509720" y="2242800"/>
            <a:ext cx="700920" cy="430920"/>
          </a:xfrm>
          <a:prstGeom prst="bentConnector3">
            <a:avLst>
              <a:gd name="adj1" fmla="val 4984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1" idx="6"/>
            <a:endCxn id="216" idx="1"/>
          </p:cNvCxnSpPr>
          <p:nvPr/>
        </p:nvCxnSpPr>
        <p:spPr>
          <a:xfrm>
            <a:off x="4509720" y="2243160"/>
            <a:ext cx="700920" cy="862560"/>
          </a:xfrm>
          <a:prstGeom prst="bentConnector3">
            <a:avLst>
              <a:gd name="adj1" fmla="val 49845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144360" y="3645000"/>
            <a:ext cx="4356360" cy="28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TEXT_SECTION_ASM_OP "CSEG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DATA_SECTION_ASM_OP "DSEG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#define REGISTER_NAMES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{ “00H”... "SP", "SP.H", "FP", "FP.H", "1CH", "1DH", ...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PRINT_OPERAND(STREAM, X, CODE)i8_print_operand (STREAM, X, CODE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PRINT_OPERAND_ADDRESS(STREAM, X) i8_print_operand_address (STREAM, X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undef  ASM_OUTPUT_ASCII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define ASM_OUTPUT_ASCII(FILE, STR, LENGTH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do 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rintf(FILE,"\tDCB\t\'%s\',00H\n",STR);           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 while(0);                      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645000"/>
            <a:ext cx="4248360" cy="28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voi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8_print_operand_address (FILE *file, rtx address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f (offset !=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rintf (file, HOST_WIDE_INT_PRINT_DEC, offset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utc ('[', file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uts (reg_names [REGNO (address)], file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utc (']', file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f (post_inc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puts ("+", file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명령 패턴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Instruction Pattern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125360"/>
            <a:ext cx="4356000" cy="520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 "ldqi2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QI 0 "register_operand" "=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QI 1 "general_operand" "r,m,i")) 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LDB %0, %1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 "sthi2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memory_operand" "=m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HI 1 "register_operand" "r"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ST %0, %1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 "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extendqihi2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register_operand" "=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sign_extend:HI (match_operand:QI 1 "general_operand" "r,m,i"))) 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LDBSE %0, %1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 "xchhi2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register_operand" "+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HI 1 "nonimmediate_operand" "+r,m"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set (match_dup 1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dup 0)) 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XCH %0, %1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0920" y="2276640"/>
            <a:ext cx="3816360" cy="3003480"/>
            <a:chOff x="250920" y="2276640"/>
            <a:chExt cx="3816360" cy="3003480"/>
          </a:xfrm>
        </p:grpSpPr>
        <p:sp>
          <p:nvSpPr>
            <p:cNvPr id="227" name=""/>
            <p:cNvSpPr/>
            <p:nvPr/>
          </p:nvSpPr>
          <p:spPr>
            <a:xfrm>
              <a:off x="3052800" y="500724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l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0000" y="500724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4000" y="500724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1001101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0920" y="5007240"/>
              <a:ext cx="7030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BMOVI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52800" y="4734000"/>
              <a:ext cx="10144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70000" y="4734000"/>
              <a:ext cx="9828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54000" y="4734000"/>
              <a:ext cx="11160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01011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920" y="4734000"/>
              <a:ext cx="7030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LDBZE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52800" y="446112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70000" y="446112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4000" y="446112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01111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920" y="4461120"/>
              <a:ext cx="7030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LDBSE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2800" y="4187880"/>
              <a:ext cx="10144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0000" y="4187880"/>
              <a:ext cx="9828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4000" y="4187880"/>
              <a:ext cx="11160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00010100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20" y="4187880"/>
              <a:ext cx="7030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XCHB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52800" y="391500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0000" y="391500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4000" y="391500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00000100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0920" y="3915000"/>
              <a:ext cx="7030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XCH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2800" y="3641760"/>
              <a:ext cx="10144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70000" y="3641760"/>
              <a:ext cx="9828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54000" y="3641760"/>
              <a:ext cx="11160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10001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3641760"/>
              <a:ext cx="7030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STB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2800" y="336888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70000" y="336888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54000" y="336888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10000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920" y="3368880"/>
              <a:ext cx="7030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ST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52800" y="309600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70000" y="309600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boa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54000" y="309600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01100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920" y="3096000"/>
              <a:ext cx="7030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LDB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52800" y="2822760"/>
              <a:ext cx="10144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reg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70000" y="2822760"/>
              <a:ext cx="9828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굴림"/>
                </a:rPr>
                <a:t>wao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4000" y="2822760"/>
              <a:ext cx="111600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01000aa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0920" y="2822760"/>
              <a:ext cx="7030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2800" y="2549880"/>
              <a:ext cx="101448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1 operand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0000" y="2549880"/>
              <a:ext cx="9828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2 operand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4000" y="2549880"/>
              <a:ext cx="1116000" cy="272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76543210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54000" y="2276640"/>
              <a:ext cx="3113280" cy="273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굴림"/>
                </a:rPr>
                <a:t>기계어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0920" y="2276640"/>
              <a:ext cx="703080" cy="5461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굴림"/>
                </a:rPr>
                <a:t>mnemonic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0920" y="282276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54000" y="2276640"/>
              <a:ext cx="0" cy="300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70000" y="2549880"/>
              <a:ext cx="0" cy="27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54000" y="2549880"/>
              <a:ext cx="311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2800" y="2549880"/>
              <a:ext cx="0" cy="27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0920" y="309600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0920" y="336888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0920" y="364176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0920" y="391500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0920" y="418788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0920" y="446112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920" y="473400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0920" y="5007240"/>
              <a:ext cx="381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0920" y="2276640"/>
              <a:ext cx="3816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920" y="2276640"/>
              <a:ext cx="0" cy="3003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67280" y="2276640"/>
              <a:ext cx="0" cy="3003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920" y="5280120"/>
              <a:ext cx="3816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595240" y="614412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038240" y="1628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데이터 전송 명령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표준 패턴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Standard Pattern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그래픽"/>
              </a:rPr>
              <a:t>RTL </a:t>
            </a:r>
            <a:r>
              <a:rPr b="0" lang="ko-KR" sz="1600" spc="-1" strike="noStrike">
                <a:solidFill>
                  <a:srgbClr val="ffffff"/>
                </a:solidFill>
                <a:latin typeface="HY그래픽"/>
              </a:rPr>
              <a:t>생성에 필요한 패턴</a:t>
            </a:r>
            <a:endParaRPr b="0" lang="en-US" sz="1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mov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 , reload_in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, reload_out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 …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add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3, sub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3, neg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2 …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cmp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, extend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n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jump, b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cond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, call, return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decrement_and_branch_until_zero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prologue, epilogue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그래픽"/>
              </a:rPr>
              <a:t>예제</a:t>
            </a:r>
            <a:endParaRPr b="0" lang="en-US" sz="1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mov</a:t>
            </a:r>
            <a:r>
              <a:rPr b="0" i="1" lang="ko-KR" sz="1500" spc="-1" strike="noStrike">
                <a:solidFill>
                  <a:srgbClr val="ffffff"/>
                </a:solidFill>
                <a:latin typeface="HY그래픽"/>
              </a:rPr>
              <a:t>m</a:t>
            </a:r>
            <a:r>
              <a:rPr b="0" lang="ko-KR" sz="1500" spc="-1" strike="noStrike">
                <a:solidFill>
                  <a:srgbClr val="ffffff"/>
                </a:solidFill>
                <a:latin typeface="HY그래픽"/>
              </a:rPr>
              <a:t> =&gt; movqi , movhi, movsi …</a:t>
            </a:r>
            <a:endParaRPr b="0" lang="en-US" sz="15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84640"/>
            <a:ext cx="4608360" cy="301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expand "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movq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QI 0 "nonimmediate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QI 1 "general_operand" ""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 i8_expand_move(QImode, operands[0], operands[1]); DONE;  }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expand "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movh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nonimmediate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HI 1 "general_operand" ""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 i8_expand_move(HImode, operands[0], operands[1]); DONE;  }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expand "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movs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SI 0 "nonimmediate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SI 1 "general_operand" ""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 i8_expand_move(SImode, operands[0], operands[1]); DONE;  }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4678200" y="3284640"/>
            <a:ext cx="4465800" cy="301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 "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addhi3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register_operand" "=r,r,r,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plus:HI (match_operand:HI 1 "register_operand" "%0,0,0,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HI 2 "general_operand" "r,m,i,r,m,i"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clobber (cc0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@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1, %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1, %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ADD %0, %1, %2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패턴 변경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Split and Peephole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92" name=""/>
          <p:cNvSpPr/>
          <p:nvPr/>
        </p:nvSpPr>
        <p:spPr>
          <a:xfrm>
            <a:off x="4643280" y="1700280"/>
            <a:ext cx="4321440" cy="483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peephole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HI 0 "register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HI 1 "nonimmediate_operand" ""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set (match_dup 1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dup 0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pc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emit_insn( gen_xchhi2(operands[0], operands[1]) 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DONE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peephole2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QI 0 "register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plus:QI (match_dup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const_int -1 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set (pc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if_then_else (ge (match_dup 0) (const_int 0) 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label_ref (match_operand 1 "" ""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pc)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pc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emit_insn(gen_djnzqi2(operands[0], operands[1])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DONE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700280"/>
            <a:ext cx="4321080" cy="483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_and_split "movsi_split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SI 0 "nonimmediate_operand" "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SI 1 "general_operand" ""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#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reload_completed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pc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 i8_split_move(SImode, operands[0], operands[1]); DONE;  }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define_insn_and_split "addsi3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set (match_operand:SI 0 "register_operand" "=r,r,r,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plus:SI (match_operand:SI 1 "register_operand" "%0,0,0,r,r,r"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match_operand:SI 2 "general_operand" "r,m,i,r,m,i"))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(clobber (cc0)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#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reload_completed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(pc)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"{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8_split_arith(SImode, PLUS, operands[0], operands[1], operands[2]);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DONE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"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[]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1143360" y="1125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패턴 분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520600" y="1125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패턴 최적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GCC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크로스 컴파일러 생성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1413000"/>
            <a:ext cx="5616360" cy="19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 Decode aliases for certain CPU-COMPANY combinations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case $basic_machine i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 Recognize the basic CPU types without company name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# Some are omitted here because they have special meanings below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1750a | 580 \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| z8k | </a:t>
            </a:r>
            <a:r>
              <a:rPr b="1" lang="ko-KR" sz="1200" spc="-1" strike="noStrike">
                <a:solidFill>
                  <a:srgbClr val="ffff00"/>
                </a:solidFill>
                <a:latin typeface="Times New Roman"/>
              </a:rPr>
              <a:t>8xc196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basic_machine=$basic_machine-unknow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gcc-4.1.1/gcc/config.gcc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3860640"/>
            <a:ext cx="5616360" cy="11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e ${target} i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 Support site-specific machine types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local*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8xc196-*-*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467280" y="90792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cc-4.1.1/config.sub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465480" y="342900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cc-4.1.1/gcc/config.gcc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5589720"/>
            <a:ext cx="5616360" cy="96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cd gcc-4.1.1/8xc196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../configure --disable-bootrap --enable-languages=c –target=8xc196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mak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466560" y="51577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configure&amp;build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372360" y="3213000"/>
            <a:ext cx="576000" cy="1224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7308720" y="3357720"/>
            <a:ext cx="914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373800" y="981000"/>
            <a:ext cx="2590920" cy="575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FP, S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SP, #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CALL __mai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#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 -2[FP]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#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 -4[FP]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JMP L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5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-4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ECH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ECH, array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[ECH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-2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CALL ad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SP, #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1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 -2[FP]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-4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ECH, #1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 -4[FP]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4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-4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P ECH, #9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LE L5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-2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1CH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SP,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P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637080" y="981000"/>
            <a:ext cx="2592360" cy="575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PROGRAM STAR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      EQU     18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P      EQU     1A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SE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ray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1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3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5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6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7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9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1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E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FP, S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SP, #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6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ECH, 4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 -2[FP]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-2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1CH, E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SP,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P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FP     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6372360" y="981000"/>
            <a:ext cx="2590560" cy="575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4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EE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[ECH]+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CALL ad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EH, 1C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SP, #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P ECH, array+2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NE L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SP,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P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990720"/>
            <a:ext cx="2592360" cy="575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PROGRAM STAR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      EQU     18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P      EQU     1AH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SE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ray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1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3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5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6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7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9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CW     1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E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FP, S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6[FP]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 1CH, ECH, 4[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SP,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P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SH F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FP, S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CALL __mai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EH, #0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D ECH, array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실험 결과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268280"/>
            <a:ext cx="2520720" cy="392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array[10] = {1,2,3,4,5,6,7,8,9,10}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add(int a, int b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c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c = a + b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return c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main(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i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int sum = 0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for(i = 0; i &lt; 10; i++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sum = add(sum, array[i])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return sum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2852640"/>
            <a:ext cx="432000" cy="172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325080" y="836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Source Cod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53006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il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5877000"/>
            <a:ext cx="266544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 ../gcc/cc1 test.c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 cat test.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 ../gcc/cc1 -O -fno-unit-at-a-time test.c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gt; cat test.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결론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GCC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를 이용한 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8xC196xx 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컴파일러 구현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쉽게 빠른 시간 내에 구현 가능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(2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주 이내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최적화된 컴파일러는 많은 노력과 시간이 필요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!!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최적화 옵션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레지스터 윈도우 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레지스터를 이용한 아귀먼트 패싱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최적화 명령 패턴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예 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) xstormy16 : 165K (8xC196xx : 60K)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GCC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한계를 엿볼 수 있음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메모리 공간 속에 레지스터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DIV 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패턴 최적 사용 힘듦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.( 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표준 패턴과 충돌 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기타 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I/O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및 인터럽트 명령은</a:t>
            </a:r>
            <a:r>
              <a:rPr b="0" lang="ko-KR" sz="2200" spc="-1" strike="noStrike">
                <a:solidFill>
                  <a:srgbClr val="ffffff"/>
                </a:solidFill>
                <a:latin typeface="HY그래픽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HY그래픽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GCC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크로스 컴파일러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Cross Compiler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85" name=""/>
          <p:cNvSpPr/>
          <p:nvPr/>
        </p:nvSpPr>
        <p:spPr>
          <a:xfrm>
            <a:off x="825480" y="1989000"/>
            <a:ext cx="22338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Pars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068640"/>
            <a:ext cx="22338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Tree Generato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148280"/>
            <a:ext cx="22338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RTL Generato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5229360"/>
            <a:ext cx="22338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RTL Pattern Match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1989000"/>
            <a:ext cx="2233440" cy="20163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Machine Descrip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매크로 기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4149720"/>
            <a:ext cx="2233440" cy="11523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명령어 패턴 기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5662440"/>
            <a:ext cx="1655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2. </a:t>
            </a:r>
            <a:r>
              <a:rPr b="0" lang="zh-CN" sz="1800" spc="-1" strike="noStrike">
                <a:solidFill>
                  <a:srgbClr val="000099"/>
                </a:solidFill>
                <a:latin typeface="굴림"/>
              </a:rPr>
              <a:t>표준 패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229360"/>
            <a:ext cx="1655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1. </a:t>
            </a:r>
            <a:r>
              <a:rPr b="0" lang="zh-CN" sz="1800" spc="-1" strike="noStrike">
                <a:solidFill>
                  <a:srgbClr val="000099"/>
                </a:solidFill>
                <a:latin typeface="굴림"/>
              </a:rPr>
              <a:t>명령어 패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6094440"/>
            <a:ext cx="1655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3. </a:t>
            </a:r>
            <a:r>
              <a:rPr b="0" lang="zh-CN" sz="1800" spc="-1" strike="noStrike">
                <a:solidFill>
                  <a:srgbClr val="000099"/>
                </a:solidFill>
                <a:latin typeface="굴림"/>
              </a:rPr>
              <a:t>최적화 패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973080" y="5805360"/>
            <a:ext cx="194328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AS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973080" y="4724280"/>
            <a:ext cx="194328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RTL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484280"/>
            <a:ext cx="194292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563920"/>
            <a:ext cx="194292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AS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3643200"/>
            <a:ext cx="194292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GIMPLE TRE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4508640"/>
            <a:ext cx="2233440" cy="504720"/>
          </a:xfrm>
          <a:prstGeom prst="rect">
            <a:avLst/>
          </a:prstGeom>
          <a:solidFill>
            <a:srgbClr val="a0fe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RTL Optimiz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3357720"/>
            <a:ext cx="2233440" cy="504720"/>
          </a:xfrm>
          <a:prstGeom prst="rect">
            <a:avLst/>
          </a:prstGeom>
          <a:solidFill>
            <a:srgbClr val="a0fe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Tree Optimiz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535440" y="335772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99"/>
                </a:solidFill>
                <a:latin typeface="굴림"/>
              </a:rPr>
              <a:t>target_machine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</a:rPr>
              <a:t>.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99"/>
                </a:solidFill>
                <a:latin typeface="굴림"/>
              </a:rPr>
              <a:t>target_machine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</a:rPr>
              <a:t>.c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455880" y="4869000"/>
            <a:ext cx="23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99"/>
                </a:solidFill>
                <a:latin typeface="굴림"/>
              </a:rPr>
              <a:t>target_machine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</a:rPr>
              <a:t>.md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그래픽"/>
              </a:rPr>
              <a:t>임베디드 시스템 컴파일러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052640"/>
            <a:ext cx="851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임베디드 시스템 컴파일러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임베디드 시스템 컴파일러 생성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Core(s) Spec + </a:t>
            </a:r>
            <a:r>
              <a:rPr b="0" lang="ko-KR" sz="2600" spc="-1" strike="noStrike">
                <a:solidFill>
                  <a:srgbClr val="ffff00"/>
                </a:solidFill>
                <a:latin typeface="HY그래픽"/>
              </a:rPr>
              <a:t>Embedded I/O Device Spec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 …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General + </a:t>
            </a:r>
            <a:r>
              <a:rPr b="0" lang="ko-KR" sz="2600" spc="-1" strike="noStrike">
                <a:solidFill>
                  <a:srgbClr val="ffff00"/>
                </a:solidFill>
                <a:latin typeface="HY그래픽"/>
              </a:rPr>
              <a:t>I/O + Etc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instruction patterns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00"/>
                </a:solidFill>
                <a:latin typeface="HY그래픽"/>
              </a:rPr>
              <a:t>Device Communications Spec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187280" y="1700280"/>
            <a:ext cx="6624720" cy="1512720"/>
            <a:chOff x="1187280" y="1700280"/>
            <a:chExt cx="6624720" cy="1512720"/>
          </a:xfrm>
        </p:grpSpPr>
        <p:sp>
          <p:nvSpPr>
            <p:cNvPr id="320" name=""/>
            <p:cNvSpPr/>
            <p:nvPr/>
          </p:nvSpPr>
          <p:spPr>
            <a:xfrm>
              <a:off x="1187280" y="2082600"/>
              <a:ext cx="1584360" cy="7189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58920" y="1700280"/>
              <a:ext cx="2089080" cy="1512720"/>
            </a:xfrm>
            <a:custGeom>
              <a:avLst/>
              <a:gdLst>
                <a:gd name="textAreaLeft" fmla="*/ 326160 w 2089080"/>
                <a:gd name="textAreaRight" fmla="*/ 1828080 w 2089080"/>
                <a:gd name="textAreaTop" fmla="*/ 378000 h 1512720"/>
                <a:gd name="textAreaBottom" fmla="*/ 1134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Times New Roman"/>
                </a:rPr>
                <a:t>임베디드 시스템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Times New Roman"/>
                </a:rPr>
                <a:t>컴파일러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280" y="1771560"/>
              <a:ext cx="936720" cy="1439280"/>
            </a:xfrm>
            <a:prstGeom prst="rect">
              <a:avLst/>
            </a:prstGeom>
            <a:solidFill>
              <a:srgbClr val="66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nary 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82920" y="1771560"/>
              <a:ext cx="1729080" cy="431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82920" y="2276280"/>
              <a:ext cx="1729080" cy="431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ice Driver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2920" y="2779560"/>
              <a:ext cx="1729080" cy="431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GCC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컴파일 과정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-RTL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부분 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773360"/>
            <a:ext cx="2736720" cy="576000"/>
          </a:xfrm>
          <a:prstGeom prst="rect">
            <a:avLst/>
          </a:prstGeom>
          <a:solidFill>
            <a:srgbClr val="a0f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2637000"/>
            <a:ext cx="2736720" cy="5760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최적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573360"/>
            <a:ext cx="2736720" cy="576360"/>
          </a:xfrm>
          <a:prstGeom prst="rect">
            <a:avLst/>
          </a:prstGeom>
          <a:solidFill>
            <a:srgbClr val="a0f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리로드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Reload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508640"/>
            <a:ext cx="2736720" cy="5760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최적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5445000"/>
            <a:ext cx="2736720" cy="576360"/>
          </a:xfrm>
          <a:prstGeom prst="rect">
            <a:avLst/>
          </a:prstGeom>
          <a:solidFill>
            <a:srgbClr val="a0fef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패턴 매칭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6237360"/>
            <a:ext cx="194292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AS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1125360"/>
            <a:ext cx="1942920" cy="4334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GIMPLE TRE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54160" y="3070080"/>
            <a:ext cx="718920" cy="1871640"/>
          </a:xfrm>
          <a:custGeom>
            <a:avLst/>
            <a:gdLst>
              <a:gd name="textAreaLeft" fmla="*/ 112320 w 718920"/>
              <a:gd name="textAreaRight" fmla="*/ 629280 w 718920"/>
              <a:gd name="textAreaTop" fmla="*/ 468000 h 1871640"/>
              <a:gd name="textAreaBottom" fmla="*/ 1404000 h 187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413000"/>
            <a:ext cx="4321080" cy="936360"/>
          </a:xfrm>
          <a:prstGeom prst="wedgeRectCallout">
            <a:avLst>
              <a:gd name="adj1" fmla="val -54444"/>
              <a:gd name="adj2" fmla="val 881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개발자가 기술한 표준 패턴을 사용하여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패턴을 생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 ( movqi, addhi3…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seudo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레지스터를 사용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3500280"/>
            <a:ext cx="4321080" cy="936720"/>
          </a:xfrm>
          <a:prstGeom prst="wedgeRectCallout">
            <a:avLst>
              <a:gd name="adj1" fmla="val -57675"/>
              <a:gd name="adj2" fmla="val -474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개발자가 기술한 명령 패턴을 참조하여 레지스터 할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 (match_operand 0 “general_operand” “r,m,i”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seudo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레지스터를 실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Hard)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레지스터로 매핑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508640"/>
            <a:ext cx="4321080" cy="936360"/>
          </a:xfrm>
          <a:prstGeom prst="wedgeRectCallout">
            <a:avLst>
              <a:gd name="adj1" fmla="val -57384"/>
              <a:gd name="adj2" fmla="val -1423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패턴을 분리해서 실제 명령 패턴으로 매핑이 되게함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 (define_split…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패턴을 병합해서 최적화 패턴을 생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 (define_peephole…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5516640"/>
            <a:ext cx="4321080" cy="936720"/>
          </a:xfrm>
          <a:prstGeom prst="wedgeRectCallout">
            <a:avLst>
              <a:gd name="adj1" fmla="val -56796"/>
              <a:gd name="adj2" fmla="val -2152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패턴을 명령 패턴에 매칭시켜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M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코드 출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421000"/>
            <a:ext cx="4321080" cy="936720"/>
          </a:xfrm>
          <a:prstGeom prst="wedgeRectCallout">
            <a:avLst>
              <a:gd name="adj1" fmla="val -57310"/>
              <a:gd name="adj2" fmla="val -1474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데이터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컨트롤 플로우 분석을 통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TL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최적화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8xC196xx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기본 구조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16 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비트 마이크로 컨트롤러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256</a:t>
            </a: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바이트 레지스터 파일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메모리 주소 공간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0000H ~ 00FFH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SFR(0000H ~ 0017H), SP(0018H~0019H)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8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16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32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레지스터 윈도우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그래픽"/>
              </a:rPr>
              <a:t>I/O Device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16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 워치독 타이머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풀 듀플렉스 시리얼 포트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8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I/O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포트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PWM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출력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16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 소프트웨어 타이머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8/10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비트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A/D 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컨버터</a:t>
            </a:r>
            <a:r>
              <a:rPr b="0" lang="ko-KR" sz="2600" spc="-1" strike="noStrike">
                <a:solidFill>
                  <a:srgbClr val="ffffff"/>
                </a:solidFill>
                <a:latin typeface="HY그래픽"/>
              </a:rPr>
              <a:t>, PTS   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8xC196xx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메모리 맵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Memory Map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20" name=""/>
          <p:cNvSpPr/>
          <p:nvPr/>
        </p:nvSpPr>
        <p:spPr>
          <a:xfrm>
            <a:off x="2379600" y="5950080"/>
            <a:ext cx="367200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Lower Register Fil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79600" y="5445000"/>
            <a:ext cx="3672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Upper Register Fil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2379600" y="4653000"/>
            <a:ext cx="367200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Internal Code or Data 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2379600" y="3860640"/>
            <a:ext cx="3672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FR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379600" y="3357720"/>
            <a:ext cx="367200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Special Purpose 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379600" y="2276640"/>
            <a:ext cx="3672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Program 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080" y="61707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00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41600" y="5734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0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141600" y="5229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1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124680" y="4869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40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41600" y="4437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4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133320" y="4076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1F0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150240" y="36450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1F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133320" y="3213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207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150240" y="21337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5F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10840" y="5106960"/>
            <a:ext cx="4546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110840" y="4314960"/>
            <a:ext cx="4546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083840" y="1866960"/>
            <a:ext cx="4546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158520" y="14842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FFFF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8xC196xx </a:t>
            </a: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명령어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Instruction Set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Y그래픽"/>
              </a:rPr>
              <a:t>명령어 종류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연산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ADD, SUB, MUL, DIV, AND, SHL…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제어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LJMP, LCALL, JLT, DJNZ, TIJMP, …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이동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LD, ST, LDBSE, PUSH, POP, BMOV, 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비교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CMP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기타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IDLPD, TRAP, DPTS, RST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Y그래픽"/>
              </a:rPr>
              <a:t>주소지정 방식</a:t>
            </a:r>
            <a:endParaRPr b="0" lang="en-US" sz="28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직접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ADD AX, BX, CX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상수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ADD AX,#340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간접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ADDB AL,BL,[CX]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간접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(</a:t>
            </a: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자동증가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) : LD AL,[BX]+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HY그래픽"/>
              </a:rPr>
              <a:t>인덱스 </a:t>
            </a:r>
            <a:r>
              <a:rPr b="0" lang="en-US" sz="2600" spc="-1" strike="noStrike">
                <a:solidFill>
                  <a:srgbClr val="ffffff"/>
                </a:solidFill>
                <a:latin typeface="HY그래픽"/>
              </a:rPr>
              <a:t>: LD AX,12[BX]</a:t>
            </a:r>
            <a:endParaRPr b="0" lang="en-US" sz="2600" spc="-1" strike="noStrike">
              <a:solidFill>
                <a:srgbClr val="ffffff"/>
              </a:solidFill>
              <a:latin typeface="HY그래픽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저장 공간 설정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Storage Layout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60520" y="1844640"/>
          <a:ext cx="3195360" cy="455760"/>
        </p:xfrm>
        <a:graphic>
          <a:graphicData uri="http://schemas.openxmlformats.org/drawingml/2006/table">
            <a:tbl>
              <a:tblPr/>
              <a:tblGrid>
                <a:gridCol w="399960"/>
                <a:gridCol w="398160"/>
                <a:gridCol w="400320"/>
                <a:gridCol w="399960"/>
                <a:gridCol w="398520"/>
                <a:gridCol w="399960"/>
                <a:gridCol w="398520"/>
                <a:gridCol w="39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36600" y="1125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SB(it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04880" y="148608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119240" y="1413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0000001b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2901960"/>
          <a:ext cx="3240360" cy="455400"/>
        </p:xfrm>
        <a:graphic>
          <a:graphicData uri="http://schemas.openxmlformats.org/drawingml/2006/table">
            <a:tbl>
              <a:tblPr/>
              <a:tblGrid>
                <a:gridCol w="1621080"/>
                <a:gridCol w="161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2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1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184760" y="24922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102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40600" y="22766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SB(yte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008160" y="263700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3981600"/>
          <a:ext cx="3240360" cy="455400"/>
        </p:xfrm>
        <a:graphic>
          <a:graphicData uri="http://schemas.openxmlformats.org/drawingml/2006/table">
            <a:tbl>
              <a:tblPr/>
              <a:tblGrid>
                <a:gridCol w="1621080"/>
                <a:gridCol w="161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304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0102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86200" y="35719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1020304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630160" y="33559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SW(ord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3008160" y="371628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2060640"/>
            <a:ext cx="4572000" cy="137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Big Endian Bi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BITS_BIG_ENDIAN 1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little Endian Byt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BYTES_BIG_ENDIAN 0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little Endian Word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WORDS_BIG_ENDIAN 0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797360"/>
            <a:ext cx="4572000" cy="179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16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비트 워드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UNITS_PER_WORD 2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아귀먼트 정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PARM_BOUNDARY 16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스택 정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STACK_BOUNDARY 16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함수 코드 시작 위치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FUNCTION_BOUNDARY 8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069200" y="549288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비트 컨트롤러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데이터 타입 설정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Data Type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060640"/>
            <a:ext cx="4572000" cy="435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in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INT_TYPE_SIZE 16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shor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SHORT_TYPE_SIZE 16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lo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LONG_TYPE_SIZE 32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long lo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LONG_LONG_TYPE_SIZE 64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floa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FLOAT_TYPE_SIZE 32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doubl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DOUBLE_TYPE_SIZE 64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long doubl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LONG_DOUBLE_TYPE_SIZE 64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char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타입의 부호 여부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DEFAULT_SIGNED_CHAR 1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size_of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의 리턴 타입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SIZE_TYPE "unsigned int"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포인터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연산 결과 리턴 타입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#define PTRDIFF_TYPE "int"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3229920" y="141300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비트 컨트롤러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Y그래픽"/>
              </a:rPr>
              <a:t>레지스터 기본 설정</a:t>
            </a:r>
            <a:r>
              <a:rPr b="1" lang="en-US" sz="3600" spc="-1" strike="noStrike">
                <a:solidFill>
                  <a:srgbClr val="ffffff"/>
                </a:solidFill>
                <a:latin typeface="HY그래픽"/>
              </a:rPr>
              <a:t>(Register Basic)</a:t>
            </a:r>
            <a:endParaRPr b="1" lang="en-US" sz="3600" spc="-1" strike="noStrike">
              <a:solidFill>
                <a:srgbClr val="ffffff"/>
              </a:solidFill>
              <a:latin typeface="HY그래픽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981000"/>
          <a:ext cx="8064720" cy="2125800"/>
        </p:xfrm>
        <a:graphic>
          <a:graphicData uri="http://schemas.openxmlformats.org/drawingml/2006/table">
            <a:tbl>
              <a:tblPr/>
              <a:tblGrid>
                <a:gridCol w="1006560"/>
                <a:gridCol w="1011240"/>
                <a:gridCol w="1006560"/>
                <a:gridCol w="1009440"/>
                <a:gridCol w="1006560"/>
                <a:gridCol w="1009800"/>
                <a:gridCol w="1008000"/>
                <a:gridCol w="100656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SP(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SP(H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PE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M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WS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M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INT_PE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TIME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POR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ZERO_R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ZERO_R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1680" y="2708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0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1680" y="213372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1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31680" y="155736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20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339920"/>
            <a:ext cx="8064720" cy="360360"/>
          </a:xfrm>
          <a:custGeom>
            <a:avLst/>
            <a:gdLst>
              <a:gd name="textAreaLeft" fmla="*/ 0 w 8064720"/>
              <a:gd name="textAreaRight" fmla="*/ 8065080 w 8064720"/>
              <a:gd name="textAreaTop" fmla="*/ 46440 h 360360"/>
              <a:gd name="textAreaBottom" fmla="*/ 3139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39960" y="9079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F8h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362400"/>
            <a:ext cx="8064720" cy="329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FIRST_PSEUDO_REGISTER 256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고정 목적으로 사용되는 레지스터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FIXED_REGISTERS \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{ …}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함수 호출 시 사용 가능한 레지스터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CALL_USED_REGISTERS \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{ …}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레지스터 할당 순서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REG_ALLOC_ORDER \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{…}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모드에 대한 필요한 레지스터 수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HARD_REGNO_NREGS(REGNO, MODE) \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 GET_MODE_SIZE (MODE) 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레지스터에 대한 모드 허용여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#define HARD_REGNO_MODE_OK(REGNO, MODE) i8_hard_regno_mode_ok(REGNO, MODE)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38240" y="126720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3:42:18Z</dcterms:created>
  <dc:creator>양동희</dc:creator>
  <dc:description/>
  <dc:language>en-US</dc:language>
  <cp:lastModifiedBy>양동희</cp:lastModifiedBy>
  <dcterms:modified xsi:type="dcterms:W3CDTF">2007-03-07T15:03:29Z</dcterms:modified>
  <cp:revision>8</cp:revision>
  <dc:subject/>
  <dc:title>슬라이드 1</dc:title>
</cp:coreProperties>
</file>