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굴림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C067-984F-48C9-AEE7-BDBEEAC8C5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난주에 배운 내용을 간략하게 복습하도록 하겠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DFBE2-EF97-47D7-98CD-10567900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6C41-52A6-40AC-8E3A-F6B3CD59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E2562-039F-4E60-BE25-BADEF346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F64C9-6C8B-4AA6-A770-7751FF65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BEF8-7866-4232-BEC1-543FB0978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5D26-EB03-4965-BB63-D74A1296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9584-BF71-4D2A-9240-A66ED8A4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6168-35CA-4B20-A206-A7933B6D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9552-51AC-47F1-ACF6-557F20A9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80CF-B506-43B2-8E5D-4F8FEC4E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8B40-4621-4885-B113-6E0CB912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587F-C767-414B-9767-C137DF90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BEA0-7764-4FF5-9318-DA2A4758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4839-4AE8-48DF-B262-D93C5EB1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DD2A-759C-414F-8F06-3F242ED3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3B60-B135-4903-973B-00266A86D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0763-E658-4665-98C5-5B2C6A9A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EBDB-67DB-4AC6-846D-48ECC25C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116C-C176-4C8A-B892-8006EE31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9E0F-CC04-42AB-A941-A271F414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CE63-0FFF-4D57-9704-DF962EF5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D5DF-D214-40DC-B49C-5066DCA6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69C54-95CF-42FC-A770-96A3287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CDEBE-A524-439C-9841-E722CB61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60AC-5440-40CE-B678-051F6014B445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굴림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4DBC-367A-49D7-BB42-6A0D6BA8975C}" type="slidenum">
              <a:rPr b="0" lang="ko-KR" sz="12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00"/>
                </a:solidFill>
                <a:latin typeface="굴림"/>
              </a:rPr>
              <a:t>환경적</a:t>
            </a:r>
            <a:r>
              <a:rPr b="1" lang="en-US" sz="40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4000" spc="-1" strike="noStrike">
                <a:solidFill>
                  <a:srgbClr val="ffcc00"/>
                </a:solidFill>
                <a:latin typeface="굴림"/>
              </a:rPr>
              <a:t>심리사회적 원인</a:t>
            </a:r>
            <a:endParaRPr b="1" lang="en-US" sz="40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192120"/>
            <a:ext cx="82296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형유발물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감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사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산모의 영양실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생시 저체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타요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산모의 연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생전 관리 부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산모의 건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약물 남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e5e5ff"/>
                </a:solidFill>
                <a:latin typeface="굴림"/>
              </a:rPr>
              <a:t>출생전 원인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저체중 및 조산 관련 요인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생아 성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여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경제적 지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열악한 산전관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산모의 식습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종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전조산경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산모의 연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혼외 출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흡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산경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저산소증과 무산소증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질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진대사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작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천성기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호흡계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만과정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혈액형불일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저혈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e5e5ff"/>
                </a:solidFill>
                <a:latin typeface="굴림"/>
              </a:rPr>
              <a:t>출생 전 후 원인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애착의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각한 질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통사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동학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납중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영양결핍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e5e5ff"/>
                </a:solidFill>
                <a:latin typeface="굴림"/>
              </a:rPr>
              <a:t>출생 후의 의학적 문제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0000"/>
                </a:solidFill>
                <a:latin typeface="굴림"/>
              </a:rPr>
              <a:t>심리사회적 요인들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79171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사회경제적 지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영양 및 빈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족의 크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어머니의 지능 및 교육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부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환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리적 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아동양육 실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대 및 방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e5e5ff"/>
                </a:solidFill>
                <a:latin typeface="굴림"/>
              </a:rPr>
              <a:t>예방 수단</a:t>
            </a:r>
            <a:endParaRPr b="1" lang="en-US" sz="4400" spc="-1" strike="noStrike">
              <a:solidFill>
                <a:srgbClr val="e5e5ff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수한 산전 관리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족계획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산관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자 상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수한 신생아 관리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아 발달 가능성 감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가 협력 관계 증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기중재서비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적이고 실질적인 서비스 제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7:52:40Z</dcterms:created>
  <dc:creator>win95</dc:creator>
  <dc:description/>
  <dc:language>en-US</dc:language>
  <cp:lastModifiedBy>Kin</cp:lastModifiedBy>
  <cp:lastPrinted>1997-02-26T15:00:00Z</cp:lastPrinted>
  <dcterms:modified xsi:type="dcterms:W3CDTF">2008-04-06T03:01:51Z</dcterms:modified>
  <cp:revision>136</cp:revision>
  <dc:subject/>
  <dc:title>특수아 발달 심리</dc:title>
</cp:coreProperties>
</file>