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wmf" ContentType="image/x-wmf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3F2D-DCF6-4984-8F54-D7B24DCD230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BF6D-447C-4D78-9731-A9C5B658F89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3145-67DA-4EEE-B2B6-8FEAEF549DC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BADD-9216-4B3E-BC8A-438CBE1A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421-DBC9-41B6-AE94-CF56A64A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8466-704E-455C-9B65-B9FC0112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DC5F-B41F-4D2D-8592-6EC7ED69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48FD-D076-41B7-A6C5-4D2A1D37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5B58-0025-438D-A1D1-255B11EB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62D7-8EB0-4CF1-8B9C-F498420D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3C65-B664-442D-9A74-C44CE502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B614-F32D-45A1-9B14-9E2D9A1E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48F7-27A7-4794-85FB-649D752E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5184-C2F8-4BFA-BB33-D6CCF32D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1FD-CA3A-4079-AD32-6740000E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2D06-8E74-4A00-AACD-09071623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13B5-1D3B-4E05-B29E-32B4E003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7DB5-CD4C-4AB0-9E6E-84638068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6C34-ADA0-4D1B-B68C-288A3DBF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D3A0-53AC-4392-ADD6-17355B47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A0639-BE4A-4F2A-B16E-9971B523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A2D20-E07D-4EF1-AC8E-8C43DFA5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3764A-0347-48A8-95B0-02CB2D68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02992-CC55-4611-9525-AB088A53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CD5AD-EB72-4AC6-BD1F-0A1F9C8D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E8DE-411E-4962-8E1A-781AF43C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D428A-0EF7-4D8C-92A2-C84D35C7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F35C2-CC51-4814-95B8-9A3AAB08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622A4-CE06-43C7-BB23-1C63FB28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B8E8A-9182-4DDE-A5D3-A20340F8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62F88-E03C-4863-8A01-71A9DAF4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E6003-40DE-4DA0-85CF-40499B78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59182-FD75-4559-8823-59439737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71784-4126-42A8-811A-1E020ABB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62EC7-98AE-48DC-ACC7-692CFE0A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3F40B-02AB-4033-8173-816CD724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EFF3-C508-4A86-AD3A-5FB789B0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3E921-F691-4A9A-9878-FA7596A4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FA46E-D036-46D4-A377-A8D95931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71155-8295-48FF-B0F4-06D62085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7D128-4077-4ADC-9BDD-E96B9B42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7DF4F-E7EC-4815-9775-07B55F38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FEB23-0D2C-4BED-B4C2-F3077456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7108D-A4DE-4F34-9A41-24C7F6B5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3CE6E-F816-4BF1-97E2-96609C4E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04000-04E8-46A4-9C2E-8DEB049F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EBC36-E72C-4BB5-A1E3-98CDD0AD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BCE-293A-442A-B8BB-BAA0CFFE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D4BF1-5BF9-48AE-AE0D-5F27F0B1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89231-A02F-43C1-B7BF-93B90F5A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05236-734F-4A86-948B-17785535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541D4-6A2A-4CAD-A9D9-40DC39CD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58A57-A7D4-48D6-A537-C990CCB5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AD0BA-9BCB-45E0-B068-17DCB9B4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64C9A-272D-4431-91B1-8641C4A1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84E94-A196-4195-8163-093E209B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8BDC3-8D0F-4C77-97D4-0F045AC5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2115D-D3F1-430F-B207-4205FB41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D4C-7410-4AA0-A616-0153FD5A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C8BBC-1DAF-499B-9824-7C5A4D5E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0CCA-6F1A-4CAB-8D2F-474C45D3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B6A7-B364-468C-A5EF-13906B51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70F-DFE2-4565-A922-1BE1C563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맑은 고딕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B1DA-FC36-44C3-B711-87E0AA56520E}" type="slidenum">
              <a:rPr b="0" lang="ko-KR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모서리가 둥근 직사각형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직사각형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직사각형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직사각형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맑은 고딕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CED2-F40F-4BF6-9DC2-6B6CBD21A2E4}" type="slidenum">
              <a:rPr b="0" lang="ko-KR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0" name="모서리가 둥근 직사각형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모서리가 둥근 직사각형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3" name="직사각형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직사각형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맑은 고딕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91DF-EE3D-4847-A6DC-7E959D37F575}" type="slidenum">
              <a:rPr b="0" lang="ko-KR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모서리가 둥근 직사각형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맑은 고딕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0C86-FFEA-4562-8A71-C5B1A32838A8}" type="slidenum">
              <a:rPr b="0" lang="ko-KR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직사각형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맑은 고딕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3522-2AC0-411D-AED4-D281DB4D124D}" type="slidenum">
              <a:rPr b="0" lang="ko-KR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028960" y="44715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96464"/>
                </a:solidFill>
                <a:latin typeface="맑은 고딕"/>
              </a:rPr>
              <a:t>팀장 </a:t>
            </a:r>
            <a:r>
              <a:rPr b="0" lang="en-US" sz="2400" spc="-1" strike="noStrike">
                <a:solidFill>
                  <a:srgbClr val="696464"/>
                </a:solidFill>
                <a:latin typeface="맑은 고딕"/>
              </a:rPr>
              <a:t>- 20020933 </a:t>
            </a:r>
            <a:r>
              <a:rPr b="0" lang="ko-KR" sz="2400" spc="-1" strike="noStrike">
                <a:solidFill>
                  <a:srgbClr val="696464"/>
                </a:solidFill>
                <a:latin typeface="맑은 고딕"/>
              </a:rPr>
              <a:t>이상제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맑은 고딕"/>
              </a:rPr>
              <a:t>20020426 </a:t>
            </a:r>
            <a:r>
              <a:rPr b="0" lang="ko-KR" sz="2400" spc="-1" strike="noStrike">
                <a:solidFill>
                  <a:srgbClr val="696464"/>
                </a:solidFill>
                <a:latin typeface="맑은 고딕"/>
              </a:rPr>
              <a:t>김호재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맑은 고딕"/>
              </a:rPr>
              <a:t>20021341</a:t>
            </a:r>
            <a:r>
              <a:rPr b="0" lang="ko-KR" sz="2400" spc="-1" strike="noStrike">
                <a:solidFill>
                  <a:srgbClr val="696464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696464"/>
                </a:solidFill>
                <a:latin typeface="맑은 고딕"/>
              </a:rPr>
              <a:t>최문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맑은 고딕"/>
              </a:rPr>
              <a:t>20030797 </a:t>
            </a:r>
            <a:r>
              <a:rPr b="0" lang="ko-KR" sz="2400" spc="-1" strike="noStrike">
                <a:solidFill>
                  <a:srgbClr val="696464"/>
                </a:solidFill>
                <a:latin typeface="맑은 고딕"/>
              </a:rPr>
              <a:t>안영훈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맑은 고딕"/>
              </a:rPr>
              <a:t>도서 판매 시스템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lass Descriptions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928800" y="1500120"/>
            <a:ext cx="42861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lass Descriptions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1000080" y="1500120"/>
            <a:ext cx="42102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lass Descriptions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1"/>
          <a:stretch/>
        </p:blipFill>
        <p:spPr>
          <a:xfrm>
            <a:off x="928800" y="1571760"/>
            <a:ext cx="43243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lass Descriptions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857160" y="1357200"/>
            <a:ext cx="426744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lass Descriptions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928800" y="1428840"/>
            <a:ext cx="42004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lass Descriptions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928800" y="1500120"/>
            <a:ext cx="423864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equence Diagrams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판매중인 품목 조회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공통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233360" y="1976400"/>
            <a:ext cx="66772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equence Diagrams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상세보기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공통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1071720" y="2143080"/>
            <a:ext cx="66769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equence Diagrams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장바구니 담기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(User)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1143000" y="2071800"/>
            <a:ext cx="465768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equence Diagrams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장바구니 보기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(User)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071720" y="2071800"/>
            <a:ext cx="66769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</a:rPr>
              <a:t>목차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Database Schema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Class Diagrams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Class Descriptions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Sequence Diagrams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Q&amp;A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equence Diagrams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장바구니 빼기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(User)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143000" y="2143080"/>
            <a:ext cx="4657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equence Diagrams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주문 등록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(User)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142920" y="2071800"/>
            <a:ext cx="87850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equence Diagrams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주문조회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(User)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285840" y="2143080"/>
            <a:ext cx="86104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equence Diagrams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관리자 로그인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관리자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214200" y="2071800"/>
            <a:ext cx="866772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equence Diagrams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주문조회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관리자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928800" y="2500200"/>
            <a:ext cx="66769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equence Diagrams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배송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관리자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071720" y="2357280"/>
            <a:ext cx="46576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Sequence Diagrams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관리자 로그아웃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맑은 고딕"/>
              </a:rPr>
              <a:t>관리자</a:t>
            </a:r>
            <a:r>
              <a:rPr b="0" lang="en-US" sz="26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1000080" y="2143080"/>
            <a:ext cx="46576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Q&amp;A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12" name="내용 개체 틀 3" descr="j0213151.wmf"/>
          <p:cNvPicPr/>
          <p:nvPr/>
        </p:nvPicPr>
        <p:blipFill>
          <a:blip r:embed="rId1"/>
          <a:stretch/>
        </p:blipFill>
        <p:spPr>
          <a:xfrm>
            <a:off x="2940120" y="2214720"/>
            <a:ext cx="334656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35080" y="920880"/>
          <a:ext cx="8658000" cy="822240"/>
        </p:xfrm>
        <a:graphic>
          <a:graphicData uri="http://schemas.openxmlformats.org/drawingml/2006/table">
            <a:tbl>
              <a:tblPr/>
              <a:tblGrid>
                <a:gridCol w="4329000"/>
                <a:gridCol w="4329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able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imary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50920" y="2227320"/>
          <a:ext cx="8607240" cy="3890880"/>
        </p:xfrm>
        <a:graphic>
          <a:graphicData uri="http://schemas.openxmlformats.org/drawingml/2006/table">
            <a:tbl>
              <a:tblPr/>
              <a:tblGrid>
                <a:gridCol w="938160"/>
                <a:gridCol w="1650960"/>
                <a:gridCol w="1303200"/>
                <a:gridCol w="1374840"/>
                <a:gridCol w="865080"/>
                <a:gridCol w="2475000"/>
              </a:tblGrid>
              <a:tr h="39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번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필드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항목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본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B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서번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ARCHAR(5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imary K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제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ARCHAR(1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t n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uth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저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ARCHAR(1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t n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sue_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발행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quant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nte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t n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lling_pr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판매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nte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t n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i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ARCHAR(2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umm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EX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제목 1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atabase Schema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235080" y="920880"/>
          <a:ext cx="8658000" cy="822240"/>
        </p:xfrm>
        <a:graphic>
          <a:graphicData uri="http://schemas.openxmlformats.org/drawingml/2006/table">
            <a:tbl>
              <a:tblPr/>
              <a:tblGrid>
                <a:gridCol w="4329000"/>
                <a:gridCol w="4329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able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RDER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imary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rder_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문내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250920" y="2227320"/>
          <a:ext cx="8607240" cy="3906720"/>
        </p:xfrm>
        <a:graphic>
          <a:graphicData uri="http://schemas.openxmlformats.org/drawingml/2006/table">
            <a:tbl>
              <a:tblPr/>
              <a:tblGrid>
                <a:gridCol w="938160"/>
                <a:gridCol w="1650960"/>
                <a:gridCol w="1517760"/>
                <a:gridCol w="1571400"/>
                <a:gridCol w="857520"/>
                <a:gridCol w="2071440"/>
              </a:tblGrid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번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필드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항목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본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33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rder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문번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nte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imary k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rderer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문자이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archar(5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t n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rderer_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문자주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archar(2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t n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rderer_ph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문자전화번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archar(5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t n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eceiver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령자이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archar(5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eceiver_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령자주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archar(2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eceiver_ph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령자전화번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archar(5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_pay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제여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oole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liv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배송여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oole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제목 1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atabase Schema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235080" y="920880"/>
          <a:ext cx="8658000" cy="822240"/>
        </p:xfrm>
        <a:graphic>
          <a:graphicData uri="http://schemas.openxmlformats.org/drawingml/2006/table">
            <a:tbl>
              <a:tblPr/>
              <a:tblGrid>
                <a:gridCol w="4329000"/>
                <a:gridCol w="4329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able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RDERG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imary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rder_good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문물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250920" y="2227320"/>
          <a:ext cx="8123040" cy="3933720"/>
        </p:xfrm>
        <a:graphic>
          <a:graphicData uri="http://schemas.openxmlformats.org/drawingml/2006/table">
            <a:tbl>
              <a:tblPr/>
              <a:tblGrid>
                <a:gridCol w="885600"/>
                <a:gridCol w="1557360"/>
                <a:gridCol w="1710000"/>
                <a:gridCol w="882360"/>
                <a:gridCol w="752760"/>
                <a:gridCol w="2334960"/>
              </a:tblGrid>
              <a:tr h="39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번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필드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항목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본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rder_good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문물품번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nte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imary K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rder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문번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nte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t null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oreign Key Reference Orderli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B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서번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archar(5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t null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oreign Key Reference Boo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rder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quant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문수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nte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t n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제목 1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atabase Schema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35080" y="920880"/>
          <a:ext cx="8658000" cy="822240"/>
        </p:xfrm>
        <a:graphic>
          <a:graphicData uri="http://schemas.openxmlformats.org/drawingml/2006/table">
            <a:tbl>
              <a:tblPr/>
              <a:tblGrid>
                <a:gridCol w="4329000"/>
                <a:gridCol w="4329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able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SSW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imary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관리자 비밀번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50920" y="2227320"/>
          <a:ext cx="8123040" cy="3816360"/>
        </p:xfrm>
        <a:graphic>
          <a:graphicData uri="http://schemas.openxmlformats.org/drawingml/2006/table">
            <a:tbl>
              <a:tblPr/>
              <a:tblGrid>
                <a:gridCol w="885600"/>
                <a:gridCol w="1557360"/>
                <a:gridCol w="1710000"/>
                <a:gridCol w="882360"/>
                <a:gridCol w="752760"/>
                <a:gridCol w="2334960"/>
              </a:tblGrid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번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필드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항목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본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관리자 비밀번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arChar(5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imary K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제목 1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atabase Schema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lass Diagrams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6991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lass Descriptions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857160" y="1285920"/>
            <a:ext cx="631512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Class Descriptions</a:t>
            </a:r>
            <a:endParaRPr b="1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000080" y="1428840"/>
            <a:ext cx="74008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4:58:57Z</dcterms:created>
  <dc:creator>Ahn</dc:creator>
  <dc:description/>
  <dc:language>en-US</dc:language>
  <cp:lastModifiedBy>Ahn</cp:lastModifiedBy>
  <dcterms:modified xsi:type="dcterms:W3CDTF">2008-12-10T19:39:48Z</dcterms:modified>
  <cp:revision>47</cp:revision>
  <dc:subject/>
  <dc:title>도서 판매 시스템</dc:title>
</cp:coreProperties>
</file>