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86575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E3E-1EF6-47AB-9B4D-DEBB8BB5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DA6-5FFA-440E-88DC-A7A44289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50F-F264-4F1A-91DF-9FA5B2E5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F1D-F688-4061-926D-EAD8FF6E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3C4-0206-4BB3-BE65-FCC82B5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D2D-3C5E-40F8-8BFC-2957D862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05D-FDBC-4A87-AF33-10CA9677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DCF-93E0-4175-BF03-F5DC47E3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FA8-E3EE-4DDB-9C6D-5F01D65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BF1-F3CE-4DF9-8BB3-4D494B5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89E-EF10-494A-85E9-D49F741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5C7-BA4F-46C8-8438-4AE9594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FA8-F9E0-4BD2-9C9E-C23CDC563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7280" y="4986360"/>
            <a:ext cx="4978440" cy="12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                 [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한국경제와 매일경제 등 경제신문과 링크할 수 있도록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27280" y="3544920"/>
            <a:ext cx="497844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굿모닝증권  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삼성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교보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서울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대신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신한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대우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일은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동부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한화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동양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현대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동원증권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      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현대투자증권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505320"/>
            <a:ext cx="1828800" cy="171360"/>
          </a:xfrm>
          <a:prstGeom prst="flowChartOnlineStorag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오늘의 시황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속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7280" y="1714680"/>
            <a:ext cx="4978440" cy="167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주식공모신청을 받습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 Dealer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를 모집합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소액자금으로 회사를 인수하시거나  대주주로 참여하실 분을 모십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창업준비 중에 계시거나 창업한지 얼마 안되신 분들은 보세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벤처기업으로 등록하고자 하시는 기업은 클릭하세요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특허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기술을 갖고 계시거나 필요로 하시는 분께 정보를 드립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투자유망기업체를 소개합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경영자문위원을 위촉합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비슷한 관심사를 갖으신 분들을 위한 동호회 방을 마련했습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최근에 출간된 경제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경영서적을 소개합니다</a:t>
            </a:r>
            <a:r>
              <a:rPr b="1" lang="ko-KR" sz="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7280" y="1486080"/>
            <a:ext cx="1422360" cy="171360"/>
          </a:xfrm>
          <a:prstGeom prst="flowChartOnlineStorag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알 림 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781520"/>
            <a:ext cx="1930320" cy="171360"/>
          </a:xfrm>
          <a:prstGeom prst="flowChartOnlineStorag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중소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기업소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08760" y="1657440"/>
            <a:ext cx="193032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종합주가지수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: 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K O S P I 200  : 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KOSDAQ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지수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: 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선  물   지   수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: 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8760" y="2171880"/>
            <a:ext cx="1930320" cy="6285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주가지수그래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8760" y="971640"/>
            <a:ext cx="1930320" cy="342720"/>
          </a:xfrm>
          <a:prstGeom prst="foldedCorner">
            <a:avLst>
              <a:gd name="adj" fmla="val 125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헤드라인"/>
              </a:rPr>
              <a:t>인터넷주식공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08760" y="3600360"/>
            <a:ext cx="1930320" cy="17172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사이버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POLL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주제공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-1523880" y="2419560"/>
            <a:ext cx="304740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68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68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08760" y="4229280"/>
            <a:ext cx="1930320" cy="26640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배너광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971640"/>
            <a:ext cx="4775400" cy="228600"/>
          </a:xfrm>
          <a:prstGeom prst="bevel">
            <a:avLst>
              <a:gd name="adj" fmla="val 125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㈜가 새롭게 홈페이지를 단장해 여러분을 맞이합니다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1200240"/>
            <a:ext cx="4775400" cy="17136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&amp;A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외에 인터넷주식공모를 비롯해 새로운 내용들이 추가되었습니다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08760" y="1314360"/>
            <a:ext cx="1930320" cy="28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공모진행기업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개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공모예정기업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개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8760" y="2857680"/>
            <a:ext cx="193032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준통화환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 US$ = 00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원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000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0 YEN = 00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원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000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 EURO = 00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원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000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43760" y="463860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. M&amp;A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에 대한 시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긍정적 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부정적 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보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43760" y="492444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. M&amp;A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가 필요한 이유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경제적 효율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업확장의  일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521028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. Angel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의 기업경영 관여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할 수 있다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하지 말아야 한다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08760" y="3828960"/>
            <a:ext cx="1930320" cy="3430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오늘의 날씨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:              (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도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내일의 날씨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:              (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도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50720" y="624852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514760"/>
            <a:ext cx="3149640" cy="2190960"/>
          </a:xfrm>
          <a:prstGeom prst="wedgeRoundRectCallout">
            <a:avLst>
              <a:gd name="adj1" fmla="val -12296"/>
              <a:gd name="adj2" fmla="val -990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8760" y="3314880"/>
            <a:ext cx="1930320" cy="285480"/>
          </a:xfrm>
          <a:prstGeom prst="horizontalScroll">
            <a:avLst>
              <a:gd name="adj" fmla="val 12500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사이버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43760" y="549576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. Angel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로서 투자기업선택방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술성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시장성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업관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업종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3760" y="578160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현재의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업 평가기준 정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엄격하다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느슨하다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3760" y="606744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벤처캐피탈의 투자유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보수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안정적 투자  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공격적 투자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6353280"/>
            <a:ext cx="2743200" cy="22860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. 2000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년 종합주가지수의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00p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진입가능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충분하다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없다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64040" y="1143000"/>
            <a:ext cx="162540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2114640"/>
            <a:ext cx="406440" cy="28584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23400" y="2171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회원명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40160" y="2114640"/>
            <a:ext cx="406080" cy="285840"/>
          </a:xfrm>
          <a:custGeom>
            <a:avLst/>
            <a:gdLst>
              <a:gd name="textAreaLeft" fmla="*/ 50760 w 406080"/>
              <a:gd name="textAreaRight" fmla="*/ 355320 w 4060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1040" y="2171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공지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84880" y="2114640"/>
            <a:ext cx="406440" cy="28584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01560" y="21718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유게시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10280" y="2114640"/>
            <a:ext cx="406440" cy="28584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15200" y="217188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대화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457360"/>
            <a:ext cx="4673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골프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등산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테니스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바둑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낚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251460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레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스포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165744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비지니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331488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컴퓨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터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2680" y="162864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주식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창업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재테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52680" y="3247920"/>
            <a:ext cx="487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통신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일반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게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그래픽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사이트추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812808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352320" y="171468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20574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352320" y="257184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32004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268596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128080" y="25718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352320" y="337176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40006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48624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28080" y="337176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68960" y="2228760"/>
            <a:ext cx="1218960" cy="17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공지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40160" y="2457360"/>
            <a:ext cx="49780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165744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비지니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2680" y="171468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주식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창업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재테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812808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352320" y="171468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8280" y="20574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40160" y="2457360"/>
            <a:ext cx="4978080" cy="76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*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33720" y="165744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비지니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52680" y="171468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주식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창업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재테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812808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352320" y="171468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38280" y="20574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8960" y="2228760"/>
            <a:ext cx="1218960" cy="17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회원명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64040" y="1143000"/>
            <a:ext cx="162540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7080" y="2286000"/>
            <a:ext cx="1524240" cy="171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자유게시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235240" y="2629080"/>
          <a:ext cx="5892840" cy="165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2629080"/>
                    <a:ext cx="589284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2133720" y="43434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46240" y="43434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07240" y="43434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440064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35720" y="440064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16720" y="434340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86280" y="43434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70480" y="4343400"/>
            <a:ext cx="165240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57600" y="434340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6600" y="451476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33720" y="165744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비지니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52680" y="167652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주식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창업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재테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812808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352320" y="171468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38280" y="20574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1542960"/>
            <a:ext cx="619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이 곳은 최근에 출간된 경영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경제서적에 대해 간략히 소개하여 회원들께 국내외 경기동향 과 관련이론 및 실무를 접할 수 있도록 하였으며 구매를 원할 경우 국내최대규모의 교보문고사이트와 링크되어 직접 구입하실 수 있습니다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65560" y="1200240"/>
            <a:ext cx="162576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35240" y="211464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46240" y="211464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73720" y="4686480"/>
            <a:ext cx="239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교보문고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: http://www.kybobook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83360" y="211464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94360" y="211464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35240" y="262908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946240" y="262908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83360" y="262908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94360" y="262908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35240" y="314316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46240" y="314316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83360" y="314316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94360" y="314316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35240" y="365760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46240" y="365760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283360" y="365760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994360" y="365760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35240" y="417204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46240" y="417204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83360" y="4172040"/>
            <a:ext cx="60948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94360" y="4172040"/>
            <a:ext cx="2235240" cy="457200"/>
          </a:xfrm>
          <a:prstGeom prst="flowChartProcess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64040" y="1085760"/>
            <a:ext cx="17272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무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35240" y="1486080"/>
            <a:ext cx="121932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회원특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35240" y="1955880"/>
            <a:ext cx="121932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용약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8760" y="2241720"/>
            <a:ext cx="62992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운영회사의 의무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운영회사는 회원의 신상정보를 당사자의 승낙없이 타인에게 누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배포하지 않는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회원의 책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본 사이트에서 제공되는 각종 투자정보는 운영회사에서 보증책임을 지지 않으며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행사에 따른 결과에 대해서 전적으로 회원에게 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회원각자의 아이디 및 비밀번호에 대한 관리책임은 회원에게 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회원은 본 사이트를 통해서 알게 된 개인 및 기업에 대한 정보를 가지고 사이트 관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목적이외의 다른 목적으로 이용할 경우 모든 민형사상 책임을 감수한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회원해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회원에서 탈퇴코자 할 경우 본 사이트에 전화 혹은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을 통해 탈퇴의사를 밝힌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대방을 비방 혹은 위해를 끼치는 등 본 사이트의 품위를 떨어뜨리는 내용을 게재하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는 회원의 경우 운영회사는 임의로 회원에서 탈퇴시킨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정보제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본 사이트에서 제공되는 모든 정보 및 소식을 회원에게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E-mail, fax,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서신우편을 통해 제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공할 수 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지적재산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본 사이트의 각종 아이디어 및 문구 등은 운영회사에 귀속되어 있으며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이를 함부로 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용하지 못한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75040" y="5086440"/>
            <a:ext cx="914400" cy="171360"/>
          </a:xfrm>
          <a:custGeom>
            <a:avLst/>
            <a:gdLst>
              <a:gd name="textAreaLeft" fmla="*/ 0 w 914400"/>
              <a:gd name="textAreaRight" fmla="*/ 914760 w 914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35240" y="1486080"/>
            <a:ext cx="1422360" cy="171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회원가입신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35240" y="63054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36760" y="1828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68960" y="1828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36760" y="2286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PASSWORD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확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8960" y="2057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336760" y="2057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368960" y="2286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336760" y="25146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368960" y="25146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36760" y="2743200"/>
            <a:ext cx="507960" cy="6285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선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68960" y="27432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36760" y="36576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68960" y="3657600"/>
            <a:ext cx="81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36760" y="38862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368960" y="38862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36760" y="4114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368960" y="4114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336760" y="4572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83360" y="3657600"/>
            <a:ext cx="3149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00800" y="388620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/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00800" y="411480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36760" y="556272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가입목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36760" y="4800600"/>
            <a:ext cx="1930320" cy="70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회사원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공무원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자영업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문직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금융인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자유업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학생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무    직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    타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68960" y="5562720"/>
            <a:ext cx="4063680" cy="94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매수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업매도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투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투자유치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경영지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증명 및 등록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창업상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거래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정보 수집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36760" y="3429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68960" y="3429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68960" y="4572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368960" y="4800600"/>
            <a:ext cx="4063680" cy="70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자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정보통신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인터넷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소프트웨어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계금속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전기가전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생명공학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정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광학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금융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건설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섬유화학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컴퓨터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영상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유통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제조업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서비스업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도소매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336760" y="4343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홈페이지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68960" y="4343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00800" y="342900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02320" y="2000160"/>
            <a:ext cx="406440" cy="228600"/>
          </a:xfrm>
          <a:custGeom>
            <a:avLst/>
            <a:gdLst>
              <a:gd name="textAreaLeft" fmla="*/ 167400 w 406440"/>
              <a:gd name="textAreaRight" fmla="*/ 239040 w 4064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010280" y="2057400"/>
            <a:ext cx="609840" cy="17136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변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64040" y="1085760"/>
            <a:ext cx="17272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무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46240" y="274320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민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46240" y="297180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생년월일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946240" y="320040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자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68960" y="2971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.     .     .   /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남    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68960" y="3200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64040" y="108576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aler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962520" y="4114800"/>
            <a:ext cx="1828800" cy="171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가입 신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42760" y="1486080"/>
            <a:ext cx="3029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글로벌스탁에서는 당사의 사업과 관련하여 프린랜서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Deale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를 모집합니다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직장에 계신 분들도 환영합니다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 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개인적인 역량에 따라 고수익을 창출할 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있는 최고의 자유직종으로 연중 수시 모집하오니 적극적인 지원바랍니다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* Dealing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매도물건 소개 및 중개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매수자 소개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엔젤투자 유치기업 소개 및 중개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엔젤투자자 소개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벤처희망기업 소개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창업단계기업 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 소개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신청자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풍부한 사회경험과 넓은 대인관계를 갖고 있는 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수수료지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최종 계약 성사시 정보제공의 충실도와 참여도에 따라 당사 규정에 의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차등적으로 수수료를 지급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전체수수료의 최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0%~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최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35240" y="4286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35240" y="169560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56080" y="169560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35240" y="19432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56080" y="1943280"/>
            <a:ext cx="7110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35240" y="21718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56080" y="217188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35240" y="24004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56080" y="240048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35240" y="28576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력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368960" y="1943280"/>
            <a:ext cx="3149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86400" y="21718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4004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35240" y="36003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심종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556080" y="3600360"/>
            <a:ext cx="396216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매도물건 소개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매수자 소개 및 중개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투자 유치기업 소개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투자자  소개 및 중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희망기업 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창업단계기업 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 소개  및 중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56080" y="262908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235240" y="26290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장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486400" y="26290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56080" y="2857680"/>
            <a:ext cx="1015920" cy="68580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73520" y="2857680"/>
            <a:ext cx="2844720" cy="68580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75240" y="497196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안내는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6404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aler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65560" y="1257480"/>
            <a:ext cx="162576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1828800"/>
            <a:ext cx="162540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캐피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33720" y="2400480"/>
            <a:ext cx="162540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증권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00800" y="211464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은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00800" y="182880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정부부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33720" y="2114640"/>
            <a:ext cx="162540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관기관 및 단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267080" y="211464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구기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학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67080" y="240048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언론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267080" y="182880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정보관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00800" y="2400480"/>
            <a:ext cx="1625760" cy="171360"/>
          </a:xfrm>
          <a:prstGeom prst="flowChartPunchedCard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검색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49640" y="1143000"/>
            <a:ext cx="3657600" cy="343080"/>
          </a:xfrm>
          <a:prstGeom prst="horizontalScroll">
            <a:avLst>
              <a:gd name="adj" fmla="val 125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사이버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POLL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주제를 공개 모집합니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36760" y="17715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1771560"/>
            <a:ext cx="15238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6760" y="20001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LL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000160"/>
            <a:ext cx="43689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36760" y="22287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조사목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228760"/>
            <a:ext cx="4368960" cy="102888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0862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371760"/>
            <a:ext cx="33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회원분들이 보내주신 여론조사  아이디어들은 내부적인 검토를 거쳐 당 사이트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사이버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OLL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설문주제로 채택하겠으며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채택되신 분께는 소정의 상품을 드립니다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단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설문주제가 중복되어 등록되는 경우는 선등록우선을 원칙으로 하겠습니다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5280" y="400068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6896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35240" y="1600200"/>
            <a:ext cx="38606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1. M&amp;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2. An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3. 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8. Dealer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9. G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6556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오시는 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2133720" y="1657440"/>
            <a:ext cx="5486400" cy="302904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7620120" y="3486240"/>
            <a:ext cx="30456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00"/>
                </a:solidFill>
                <a:latin typeface="Times New Roman"/>
              </a:rPr>
              <a:t>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00"/>
                </a:solidFill>
                <a:latin typeface="Times New Roman"/>
              </a:rPr>
              <a:t>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00"/>
                </a:solidFill>
                <a:latin typeface="Times New Roman"/>
              </a:rPr>
              <a:t>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00"/>
                </a:solidFill>
                <a:latin typeface="Times New Roman"/>
              </a:rPr>
              <a:t>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20120" y="3200400"/>
            <a:ext cx="1117440" cy="628560"/>
          </a:xfrm>
          <a:prstGeom prst="donut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94840" y="1714680"/>
            <a:ext cx="13953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개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유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동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위한 자금조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회계처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48440" y="13716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Times New Roman"/>
              </a:rPr>
              <a:t>비밀보호는 생명입니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971640"/>
            <a:ext cx="0" cy="257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28800" y="2114640"/>
            <a:ext cx="1117440" cy="171360"/>
          </a:xfrm>
          <a:prstGeom prst="flowChartTermina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3300"/>
                </a:solidFill>
                <a:latin typeface="Times New Roman"/>
              </a:rPr>
              <a:t>기업전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1714680"/>
            <a:ext cx="680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이 곳에 소개된 기업들은 비밀유지차원에서 비실명 처리하였고 구체적인 기업내용에 대해 알고자 하실 경우 당사 담당자와의 직접적인 상담을 통해서만 이루어질 수 있음을 양지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9" name=""/>
          <p:cNvGraphicFramePr/>
          <p:nvPr/>
        </p:nvGraphicFramePr>
        <p:xfrm>
          <a:off x="1828800" y="2457360"/>
          <a:ext cx="6859440" cy="13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57360"/>
                    <a:ext cx="68594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1" name=""/>
          <p:cNvSpPr/>
          <p:nvPr/>
        </p:nvSpPr>
        <p:spPr>
          <a:xfrm>
            <a:off x="4368960" y="4000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67080" y="405756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97440" y="405756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978440" y="400068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52920" y="40006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36760" y="4000680"/>
            <a:ext cx="165276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30320" y="137160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3760" y="440064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8120" y="2114640"/>
            <a:ext cx="1117440" cy="171360"/>
          </a:xfrm>
          <a:prstGeom prst="flowChartTermina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업종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67080" y="2114640"/>
            <a:ext cx="1117800" cy="171360"/>
          </a:xfrm>
          <a:prstGeom prst="flowChartTermina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출규모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213680" y="4000680"/>
            <a:ext cx="142236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도 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30320" y="137160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Times New Roman"/>
              </a:rPr>
              <a:t>매 도 정 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930320" y="2114640"/>
            <a:ext cx="1117800" cy="171360"/>
          </a:xfrm>
          <a:prstGeom prst="flowChartTermina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3300"/>
                </a:solidFill>
                <a:latin typeface="Times New Roman"/>
              </a:rPr>
              <a:t>업    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133720" y="2457360"/>
            <a:ext cx="6095880" cy="157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자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정보통신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인터넷 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소프트웨어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계금속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기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가전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생명공학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정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광학 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금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건설   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섬유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화학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컴퓨터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영상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유통   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제조업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서비스업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도소매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1714680"/>
            <a:ext cx="680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이 곳에 소개된 기업들은 비밀유지차원에서 비실명 처리하였고 구체적인 기업내용에 대해 알고자 하실 경우 당사 담당자와의 직접적인 상담을 통해서만 이루어질 수 있음을 양지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1828800" y="3714840"/>
            <a:ext cx="6859440" cy="1385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4368960" y="5257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67080" y="531504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97440" y="531504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78440" y="525780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852920" y="52578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336760" y="525780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53760" y="565776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13680" y="5200560"/>
            <a:ext cx="1422360" cy="17172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도 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30320" y="137160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Times New Roman"/>
              </a:rPr>
              <a:t>매 도 정 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30320" y="2171880"/>
            <a:ext cx="1117800" cy="171360"/>
          </a:xfrm>
          <a:prstGeom prst="flowChartTermina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3300"/>
                </a:solidFill>
                <a:latin typeface="Times New Roman"/>
              </a:rPr>
              <a:t>매출규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35240" y="280044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5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65560" y="280044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1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95880" y="280044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5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35240" y="308628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1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65560" y="308628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5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5880" y="308628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5240" y="251460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이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65560" y="251460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50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14600"/>
            <a:ext cx="1727280" cy="171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~1000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억원미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28800" y="1714680"/>
            <a:ext cx="680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이 곳에 소개된 기업들은 비밀유지차원에서 비실명 처리하였고 구체적인 기업내용에 대해 알고자 하실 경우 당사 담당자와의 직접적인 상담을 통해서만 이루어질 수 있음을 양지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1828800" y="3486240"/>
            <a:ext cx="6859440" cy="138564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4368960" y="5029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67080" y="508644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97440" y="508644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78440" y="502920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852920" y="50292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336760" y="502920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353760" y="542916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13680" y="5029200"/>
            <a:ext cx="142236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도 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368960" y="914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438280" y="35434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38280" y="44578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매출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65560" y="4000680"/>
            <a:ext cx="406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사전체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사업부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영업권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부동산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기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438280" y="37720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65560" y="35434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65560" y="377208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438280" y="46864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순이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165560" y="44578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65560" y="46864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438280" y="49150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자산총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51436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수출비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65560" y="49150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165560" y="51436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38280" y="40006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438280" y="562464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165560" y="5624640"/>
            <a:ext cx="406404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776760" y="631044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336760" y="6024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7560" y="1428840"/>
            <a:ext cx="297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철저한 비밀유지의 전제하에 모든 플로우가 진행됨을 약속드립니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438280" y="21718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165560" y="21718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438280" y="26290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165560" y="2629080"/>
            <a:ext cx="8128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438280" y="28576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65560" y="28576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438280" y="30862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65560" y="30862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079960" y="2629080"/>
            <a:ext cx="31496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197760" y="28576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197760" y="30862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438280" y="24004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65560" y="24004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38280" y="33148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홈페이지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165560" y="33148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197760" y="24004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438280" y="42292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165560" y="422928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438280" y="53722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매도희망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65560" y="53722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65560" y="1771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매도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368960" y="914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38280" y="17715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438280" y="26859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매출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65560" y="2228760"/>
            <a:ext cx="406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사전체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사업부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영업권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부동산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기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438280" y="20001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65560" y="17715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65560" y="2000160"/>
            <a:ext cx="40640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438280" y="29145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순이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65560" y="26859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65560" y="29145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438280" y="31431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자산총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438280" y="33717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수출비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65560" y="31431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65560" y="33717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438280" y="22287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438280" y="385272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65560" y="3852720"/>
            <a:ext cx="4064040" cy="57168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438280" y="24573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도물건 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65560" y="2457360"/>
            <a:ext cx="40640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438280" y="36003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매도희망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65560" y="3600360"/>
            <a:ext cx="1930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930320" y="137160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Times New Roman"/>
              </a:rPr>
              <a:t>매 도 정 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299280" y="4572000"/>
            <a:ext cx="193032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등록 매도기업 매수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1886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860640" y="18860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571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양수희망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60640" y="25718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438280" y="28004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내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60640" y="2800440"/>
            <a:ext cx="4064040" cy="7430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892840" y="25718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87920" y="3943440"/>
            <a:ext cx="30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양수희망기업이 복수일 경우 추가아이콘을 클릭하십시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 후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일 이내에 유선으로 연락 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336760" y="3657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149640" y="3657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438280" y="2114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860640" y="21146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438280" y="2343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60640" y="23432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892840" y="21146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892840" y="23432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759120" y="1486080"/>
            <a:ext cx="28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등록 매도기업 매수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4267080" y="971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930320" y="1714680"/>
            <a:ext cx="690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이 곳에 소개된 매수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은 비밀유지차원에서 실명을 공개하지 않았음을 양지하시기 바랍니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83360" y="36576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81480" y="371484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811840" y="371484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892840" y="365760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462400" y="3657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946240" y="365760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1930320" y="2057400"/>
          <a:ext cx="670572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2057400"/>
                    <a:ext cx="6705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0" name=""/>
          <p:cNvSpPr/>
          <p:nvPr/>
        </p:nvSpPr>
        <p:spPr>
          <a:xfrm>
            <a:off x="3760200" y="394344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010280" y="3657600"/>
            <a:ext cx="142236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희망기업 매수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031840" y="1428840"/>
            <a:ext cx="132084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60640" y="1143000"/>
            <a:ext cx="2133720" cy="343080"/>
          </a:xfrm>
          <a:prstGeom prst="horizontalScroll">
            <a:avLst>
              <a:gd name="adj" fmla="val 125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사이버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POLL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결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36760" y="17715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1771560"/>
            <a:ext cx="43689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 M&amp;A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에 대한 시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36760" y="200016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조사결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000160"/>
            <a:ext cx="4368960" cy="12765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긍정적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부정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보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5040" y="20574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75040" y="251460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75040" y="2933640"/>
            <a:ext cx="1301760" cy="228600"/>
          </a:xfrm>
          <a:prstGeom prst="rightArrow">
            <a:avLst>
              <a:gd name="adj1" fmla="val 50000"/>
              <a:gd name="adj2" fmla="val 1423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6480" y="2057400"/>
            <a:ext cx="881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% (00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% (0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% (0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0480" y="3641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8960" y="369900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03880" y="369900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4880" y="36417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572000" y="1085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도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수 정 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523880" y="914400"/>
            <a:ext cx="0" cy="257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828800" y="1542960"/>
            <a:ext cx="132084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33720" y="1943280"/>
            <a:ext cx="1625400" cy="22860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 수 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70480" y="194328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1943280"/>
            <a:ext cx="1625400" cy="22860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 도 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470480" y="257184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정보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470480" y="320040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교섭개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470480" y="382896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본합의서 작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70480" y="445788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실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470480" y="508644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최종협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470480" y="571500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양수도계약체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470480" y="634356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금지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후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759120" y="2057400"/>
            <a:ext cx="711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6095880" y="2057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283360" y="217188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283360" y="280044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283360" y="342900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83360" y="40575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83360" y="468648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283360" y="531504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283360" y="594360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502320" y="2457360"/>
            <a:ext cx="2032200" cy="400320"/>
          </a:xfrm>
          <a:prstGeom prst="wedgeRoundRectCallout">
            <a:avLst>
              <a:gd name="adj1" fmla="val -69064"/>
              <a:gd name="adj2" fmla="val 65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개괄자료 제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재무자료 제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매도희망가격 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502320" y="3143160"/>
            <a:ext cx="2032200" cy="285840"/>
          </a:xfrm>
          <a:prstGeom prst="wedgeRoundRectCallout">
            <a:avLst>
              <a:gd name="adj1" fmla="val -69064"/>
              <a:gd name="adj2" fmla="val 9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해당산업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시장분석자료 제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세부자료 제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031840" y="2457360"/>
            <a:ext cx="2032200" cy="285840"/>
          </a:xfrm>
          <a:prstGeom prst="wedgeRoundRectCallout">
            <a:avLst>
              <a:gd name="adj1" fmla="val 69689"/>
              <a:gd name="adj2" fmla="val 2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자의 매수희망사업 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자의 매수희망가격 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89600" y="28414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비밀유지 약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031840" y="3086280"/>
            <a:ext cx="2032200" cy="285480"/>
          </a:xfrm>
          <a:prstGeom prst="wedgeRoundRectCallout">
            <a:avLst>
              <a:gd name="adj1" fmla="val 69689"/>
              <a:gd name="adj2" fmla="val 2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대상기업의 사업타당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및 합목적성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934520" y="35272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중개인계약 체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02320" y="3714840"/>
            <a:ext cx="2032200" cy="342720"/>
          </a:xfrm>
          <a:prstGeom prst="wedgeRoundRectCallout">
            <a:avLst>
              <a:gd name="adj1" fmla="val -69064"/>
              <a:gd name="adj2" fmla="val 159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의향의 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조항의 수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비밀유지계약 체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031840" y="3714840"/>
            <a:ext cx="2032200" cy="342720"/>
          </a:xfrm>
          <a:prstGeom prst="wedgeRoundRectCallout">
            <a:avLst>
              <a:gd name="adj1" fmla="val 70314"/>
              <a:gd name="adj2" fmla="val 180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의향의 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조항의 수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비밀유지계약 체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502320" y="4343400"/>
            <a:ext cx="2032200" cy="343080"/>
          </a:xfrm>
          <a:prstGeom prst="wedgeRoundRectCallout">
            <a:avLst>
              <a:gd name="adj1" fmla="val -69064"/>
              <a:gd name="adj2" fmla="val 159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정밀실사자료 제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기업 실사여건 협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031840" y="4286160"/>
            <a:ext cx="2032200" cy="457200"/>
          </a:xfrm>
          <a:prstGeom prst="wedgeRoundRectCallout">
            <a:avLst>
              <a:gd name="adj1" fmla="val 69689"/>
              <a:gd name="adj2" fmla="val 1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제공자료의 검증여부 판단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매수가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필요시 외부기관 동행실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최대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주안에 종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02320" y="5029200"/>
            <a:ext cx="2032200" cy="285840"/>
          </a:xfrm>
          <a:prstGeom prst="wedgeRoundRectCallout">
            <a:avLst>
              <a:gd name="adj1" fmla="val -69064"/>
              <a:gd name="adj2" fmla="val 9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법률 및 세무문제 등 구체적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조건 협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031840" y="5029200"/>
            <a:ext cx="2032200" cy="285840"/>
          </a:xfrm>
          <a:prstGeom prst="wedgeRoundRectCallout">
            <a:avLst>
              <a:gd name="adj1" fmla="val 69689"/>
              <a:gd name="adj2" fmla="val 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법률 및 세무문제 등 구체적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조건 협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502320" y="5600880"/>
            <a:ext cx="2032200" cy="399960"/>
          </a:xfrm>
          <a:prstGeom prst="wedgeRoundRectCallout">
            <a:avLst>
              <a:gd name="adj1" fmla="val -69064"/>
              <a:gd name="adj2" fmla="val 65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최종매도가 협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내용 최종 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031840" y="5600880"/>
            <a:ext cx="2032200" cy="399960"/>
          </a:xfrm>
          <a:prstGeom prst="wedgeRoundRectCallout">
            <a:avLst>
              <a:gd name="adj1" fmla="val 69689"/>
              <a:gd name="adj2" fmla="val 47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최종매수가 협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내용 최종 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502320" y="6286680"/>
            <a:ext cx="2032200" cy="228600"/>
          </a:xfrm>
          <a:prstGeom prst="wedgeRoundRectCallout">
            <a:avLst>
              <a:gd name="adj1" fmla="val -69064"/>
              <a:gd name="adj2" fmla="val 2395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도의무 실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031840" y="6286680"/>
            <a:ext cx="2032200" cy="285480"/>
          </a:xfrm>
          <a:prstGeom prst="wedgeRoundRectCallout">
            <a:avLst>
              <a:gd name="adj1" fmla="val 69689"/>
              <a:gd name="adj2" fmla="val 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의무 실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매수기업 경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89600" y="60418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자금조달 자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267080" y="1085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M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3063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40644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6094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50796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81288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710640" y="36003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914400" y="36003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1015920" y="36003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04920" y="31431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09480" y="32004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04920" y="33148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480" y="33717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6440" y="29145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03040" y="2457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03040" y="2685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-1523520" y="28576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04920" y="1257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     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04920" y="1371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매      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523880" y="571680"/>
            <a:ext cx="0" cy="30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6" name=""/>
          <p:cNvGraphicFramePr/>
          <p:nvPr/>
        </p:nvGraphicFramePr>
        <p:xfrm>
          <a:off x="2133720" y="1943280"/>
          <a:ext cx="5892840" cy="165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43280"/>
                    <a:ext cx="589284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8" name=""/>
          <p:cNvSpPr/>
          <p:nvPr/>
        </p:nvSpPr>
        <p:spPr>
          <a:xfrm>
            <a:off x="2031840" y="36576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게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844720" y="36576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705720" y="36576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603840" y="371484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234200" y="371484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315200" y="365760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4760" y="3657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368960" y="3657600"/>
            <a:ext cx="165240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556080" y="365760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464720" y="382896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031840" y="148608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333240" y="1428840"/>
            <a:ext cx="30232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개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유형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특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투자의 유용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투자시 고려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및 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조합에 대한 조세지원제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투자조합결성 및 운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Angel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관련 참고자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946240" y="3029040"/>
            <a:ext cx="1560600" cy="488880"/>
          </a:xfrm>
          <a:prstGeom prst="wedgeEllipseCallout">
            <a:avLst>
              <a:gd name="adj1" fmla="val -47555"/>
              <a:gd name="adj2" fmla="val -134671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투자제안서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진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회원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031840" y="1828800"/>
            <a:ext cx="132084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3300"/>
                </a:solidFill>
                <a:latin typeface="Times New Roman"/>
              </a:rPr>
              <a:t>주식공모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7" name=""/>
          <p:cNvGraphicFramePr/>
          <p:nvPr/>
        </p:nvGraphicFramePr>
        <p:xfrm>
          <a:off x="2031840" y="2171880"/>
          <a:ext cx="6262920" cy="148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2171880"/>
                    <a:ext cx="62629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9" name=""/>
          <p:cNvSpPr/>
          <p:nvPr/>
        </p:nvSpPr>
        <p:spPr>
          <a:xfrm>
            <a:off x="2031840" y="1486080"/>
            <a:ext cx="121932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876920" y="1828800"/>
            <a:ext cx="132084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대표자위촉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454560" y="1828800"/>
            <a:ext cx="132048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주식공모예정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68960" y="3828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267080" y="388620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897440" y="38862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978440" y="38289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852920" y="38289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336760" y="382896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53760" y="422928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112160" y="3828960"/>
            <a:ext cx="1218960" cy="17172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946240" y="2971800"/>
            <a:ext cx="1524240" cy="457200"/>
          </a:xfrm>
          <a:prstGeom prst="wedgeEllipseCallout">
            <a:avLst>
              <a:gd name="adj1" fmla="val -47500"/>
              <a:gd name="adj2" fmla="val -128125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회사소개서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진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회원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031840" y="1828800"/>
            <a:ext cx="132084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주식공모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31840" y="1486080"/>
            <a:ext cx="121932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978440" y="3772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876920" y="382896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506920" y="382896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587920" y="377208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62400" y="37720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46240" y="3772080"/>
            <a:ext cx="165276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963240" y="417204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213680" y="377208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2031840" y="2171880"/>
            <a:ext cx="6400800" cy="142848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4876920" y="1828800"/>
            <a:ext cx="132084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대표자위촉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54560" y="1828800"/>
            <a:ext cx="1320480" cy="171360"/>
          </a:xfrm>
          <a:prstGeom prst="flowChartTerminator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3300"/>
                </a:solidFill>
                <a:latin typeface="Times New Roman"/>
              </a:rPr>
              <a:t>주식공모예정기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031840" y="15429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ABC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사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1" name="" descr=""/>
          <p:cNvPicPr/>
          <p:nvPr/>
        </p:nvPicPr>
        <p:blipFill>
          <a:blip r:embed="rId1"/>
          <a:stretch/>
        </p:blipFill>
        <p:spPr>
          <a:xfrm>
            <a:off x="3435480" y="1771560"/>
            <a:ext cx="3608280" cy="4988160"/>
          </a:xfrm>
          <a:prstGeom prst="rect">
            <a:avLst/>
          </a:prstGeom>
          <a:ln w="0">
            <a:noFill/>
          </a:ln>
        </p:spPr>
      </p:pic>
      <p:sp>
        <p:nvSpPr>
          <p:cNvPr id="1962" name=""/>
          <p:cNvSpPr/>
          <p:nvPr/>
        </p:nvSpPr>
        <p:spPr>
          <a:xfrm>
            <a:off x="6807240" y="1486080"/>
            <a:ext cx="162540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등록기업 투자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235240" y="39434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235240" y="44006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출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267080" y="5086440"/>
            <a:ext cx="406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식공모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대표자위촉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기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235240" y="4172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267080" y="39434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267080" y="417204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235240" y="46292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총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267080" y="44006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267080" y="46292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35240" y="48578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기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267080" y="48578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235240" y="50864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방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235240" y="5315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267080" y="5315040"/>
            <a:ext cx="406404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573720" y="617220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133720" y="5886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235240" y="1886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267080" y="18860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235240" y="3029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267080" y="3029040"/>
            <a:ext cx="8128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235240" y="32576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267080" y="32576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235240" y="34862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267080" y="34862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81480" y="3029040"/>
            <a:ext cx="31496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99280" y="32576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299280" y="34862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235240" y="37148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홈페이지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67080" y="37148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60640" y="14288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투자유치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235240" y="2114640"/>
            <a:ext cx="507960" cy="6285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선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267080" y="21146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235240" y="28004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67080" y="28004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299280" y="28004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844720" y="2114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민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844720" y="2343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생년월일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844720" y="2571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자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267080" y="23432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.     .     .   /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남    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267080" y="25718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064040" y="148608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등록기업투자의향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540160" y="211464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962520" y="21146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540160" y="280044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희망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962520" y="28004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40160" y="302904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희망금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962520" y="3029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94360" y="280044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784680" y="3943440"/>
            <a:ext cx="3432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희망기업이 복수일 경우 추가아이콘을 클릭하십시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본 투자의향서에 등록하신 회원분들께서는 청약증거금을 지정된 계좌에 송금하시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바랍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3. 5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내에 주식을 배정하여 청약가능금액을 회원분께 연락드리면 배정된 주식수에 따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Times New Roman"/>
              </a:rPr>
              <a:t>download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하신 신주식청약서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부를 작성한 뒤 신분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혹은 사업자등록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사본과 함께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저희 회사에 송부해 주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 TEL : 02-711-4110,  FAX : 02-711-43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이 완료된 후  초과청약증거금에 대해서 전액 환불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267080" y="3600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079960" y="3600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40160" y="234324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23432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540160" y="257184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962520" y="25718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994360" y="234324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994360" y="257184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52360" y="1828800"/>
            <a:ext cx="33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본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당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는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다음의 기업에 투자할 의향이  있기에 본 의향서에 등록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284720" y="3354480"/>
            <a:ext cx="15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주식회사   귀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2057400"/>
            <a:ext cx="58658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&amp;A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중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nge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투자가 모집 및 투자대상기업 정보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중소 • 벤처기업의 경영일반 진단 및 자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중소 • 벤처기업의 자금유치 알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기업 지원서비스 수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중소기업의 지원서비스 수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중소  • 벤처기업의 자금조달 주선 및 자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중소 • 벤처기업의 코스닥시장  및 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장 등록업무 대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술 매매 중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64040" y="1200240"/>
            <a:ext cx="17272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4080" y="160020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중소기업의 시작부터 끝까지 책임지는 종합서비스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67080" y="14860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신주식청약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438280" y="31431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주식청약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60640" y="31431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438280" y="22287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 사 상 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60640" y="22287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438280" y="24573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인수할 주식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860640" y="24573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보통주                       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235240" y="5829480"/>
            <a:ext cx="63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배정된 주식수에 따라  본 신주식 청약서를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부 작성하시어 신분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혹은 사업자등록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사본과 함께 저희 회사에 송부해 주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TEL : 02-711-4110,  FAX : 02-711-43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438280" y="3371760"/>
            <a:ext cx="1320840" cy="2858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민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자등록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60640" y="3371760"/>
            <a:ext cx="4064040" cy="2858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2438280" y="3714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   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860640" y="41720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892840" y="39434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892840" y="41720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970440" y="1828800"/>
            <a:ext cx="25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본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당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는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과 같은 내용으로 신주를 청약합니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183200" y="5429160"/>
            <a:ext cx="15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주식회사   귀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2438280" y="26859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인 수 금 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60640" y="26859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일금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         ,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892840" y="268596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         천        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438280" y="29145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의 금 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860640" y="29145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일금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892840" y="291456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천        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892840" y="3143160"/>
            <a:ext cx="4064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인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60640" y="39434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60640" y="371484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438280" y="39434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2438280" y="4172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967200" y="502920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년             월            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4400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환 불 계 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860640" y="440064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예금주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892840" y="44006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은행명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860640" y="462924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계좌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523880" y="914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4" name="" descr=""/>
          <p:cNvPicPr/>
          <p:nvPr/>
        </p:nvPicPr>
        <p:blipFill>
          <a:blip r:embed="rId1"/>
          <a:stretch/>
        </p:blipFill>
        <p:spPr>
          <a:xfrm>
            <a:off x="2031840" y="1943280"/>
            <a:ext cx="6502680" cy="148572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/>
          <p:nvPr/>
        </p:nvSpPr>
        <p:spPr>
          <a:xfrm>
            <a:off x="1828800" y="1486080"/>
            <a:ext cx="11174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Times New Roman"/>
              </a:rPr>
              <a:t>엔젤투자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81480" y="36003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079960" y="36576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710320" y="36576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791320" y="36003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360880" y="36003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844720" y="360036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58680" y="388620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908760" y="3600360"/>
            <a:ext cx="1625760" cy="17172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희망기업 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523880" y="800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962520" y="1542960"/>
            <a:ext cx="29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투자희망기업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641680" y="19432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064040" y="194328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641680" y="28576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희망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980160" y="531504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희망기업이 복수일 경우 추가아이콘을 클릭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40160" y="50292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352680" y="50292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641680" y="36003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희망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064040" y="3600360"/>
            <a:ext cx="44704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641680" y="40575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영참여여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064040" y="4057560"/>
            <a:ext cx="2235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참여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비참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641680" y="42861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내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64040" y="4286160"/>
            <a:ext cx="4470480" cy="6289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064040" y="2857680"/>
            <a:ext cx="4470480" cy="94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자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정보통신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인터넷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소프트웨어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계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금속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전기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가전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생명공학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정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광학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금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건설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섬유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화학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컴퓨터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영상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유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타제조업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서비스업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기타도소매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641680" y="24004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064040" y="240048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641680" y="26290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064040" y="262908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99280" y="2400480"/>
            <a:ext cx="2235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299280" y="2629080"/>
            <a:ext cx="2235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641680" y="38289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희망금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064040" y="3828960"/>
            <a:ext cx="2235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백만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641680" y="21718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064040" y="217188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299280" y="2171880"/>
            <a:ext cx="2235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1523880" y="800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133720" y="14288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064040" y="142884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892840" y="14288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064040" y="171468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체 평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064040" y="2000160"/>
            <a:ext cx="132084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투자설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064040" y="228600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청약증거금 납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064040" y="257184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식배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064040" y="285768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주금납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064040" y="3143160"/>
            <a:ext cx="132084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주서류인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064040" y="3429000"/>
            <a:ext cx="132084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투자자금회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454560" y="1542960"/>
            <a:ext cx="577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5384880" y="154296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673520" y="160020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673520" y="18860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673520" y="217188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673520" y="24573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673520" y="274320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673520" y="30290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673520" y="331488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727280" y="36561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청약방법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727280" y="3886200"/>
            <a:ext cx="71118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의향서 등록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유치기업의 현황창 또는 해당 회사의 투자제안서에 있는 투자신청아이콘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클릭하여 화면에 뜬 해당사항을 기입합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증거금 납입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청약은 청약증거금을 납입해야만 효력이 발생하므로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의향서에 등록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투자희망금액을 해당 온라인계좌에 입금합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단위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만원이상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증거금 확인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증거금 납입 후 담당자에게 연락하시어 청약증거금 납입을 확인하시기 바랍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  Tel) 02-711-41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 배정    공지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증거금을 납입한 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내에 본사이트의 주식배정규정에 의거 주식을 배정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한 후  투자자분들께 개별 공지합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청약서 송부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배정된 주식수에 따라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한 주식청약서 내용을  빠짐없이 작성한 후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부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신분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혹은 사업자등록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사본과 함께 당사로 즉시 송부합니다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fax) 02-711-434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청약증거금 환불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배정결과 주식배정액을 초과하여 납입된 청약증거금에 대해서는 지정된 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좌로 전액 환불해드립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단 이자는 지급치 않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주서류 인수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배정결과 공지 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안에 해당회사는 주주임을 증빙하는 주권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식보관증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등기 등의 서류를 송부할 것입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주권이 확정된 청약증거금은 주금의 납입대금으로 대체됨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대표자를 위촉하는 투자는 별도로 당사의 담당자와 상담을 통해 개별적으로  이루어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133720" y="1143000"/>
            <a:ext cx="11174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Times New Roman"/>
              </a:rPr>
              <a:t>투자흐름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5384880" y="18288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892840" y="171468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&amp;A,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외부전문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5384880" y="268596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892840" y="2571840"/>
            <a:ext cx="13208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별도규정의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727280" y="60580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주식배정방식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628000" y="6229440"/>
            <a:ext cx="20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순위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기존에 투자실적이 있는 회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순위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회원가입이 빠른 회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순위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청약증거금 납입금액이 큰 회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청약증거금 납입결과에 따라 탄력적으로 운용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5384880" y="21146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892840" y="2000160"/>
            <a:ext cx="1320840" cy="228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인터넷 공개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기업담당자 질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30320" y="137160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31840" y="1714680"/>
            <a:ext cx="670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투자조합결성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본 사이트가 활성화 된 후 일정기간이 지나 회원분들의 호응에 따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투자조합이 결성되도록 지원할 예정입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투자조합운영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본 사이트의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투자조합강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 기재된 내용을 근간으로 별도의 운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규정을 세워 운영될 것입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투자조합문의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본 사이트 컨설턴트와의 직접연락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425-0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828800" y="1428840"/>
            <a:ext cx="13208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048120" y="2571840"/>
            <a:ext cx="1625400" cy="228600"/>
          </a:xfrm>
          <a:prstGeom prst="bevel">
            <a:avLst>
              <a:gd name="adj" fmla="val 125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자문요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9" name=""/>
          <p:cNvGraphicFramePr/>
          <p:nvPr/>
        </p:nvGraphicFramePr>
        <p:xfrm>
          <a:off x="2235240" y="2971800"/>
          <a:ext cx="589284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2971800"/>
                    <a:ext cx="5892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1" name=""/>
          <p:cNvSpPr/>
          <p:nvPr/>
        </p:nvSpPr>
        <p:spPr>
          <a:xfrm>
            <a:off x="5181480" y="2571840"/>
            <a:ext cx="1625760" cy="228600"/>
          </a:xfrm>
          <a:prstGeom prst="bevel">
            <a:avLst>
              <a:gd name="adj" fmla="val 125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800" spc="-1" strike="noStrike">
                <a:solidFill>
                  <a:srgbClr val="000000"/>
                </a:solidFill>
                <a:latin typeface="Times New Roman"/>
              </a:rPr>
              <a:t>기술자문위원참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133720" y="1714680"/>
            <a:ext cx="6197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본 코너는 창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starts-up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나 사업초기단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early stage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 있는 중소기업들이 회사경영 상 겪게 되는 제반 문제들을   당사의 사내외 전문가들을 통해 풀어 나갈 수 있도록 하기 위해서 마련하였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본 코너에서는 사이트의 상담실운영과는 별도로 기업요청시 직접방문을 통한 자문도 해드립니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994360" y="41720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892840" y="42292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523200" y="42292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603840" y="417204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173400" y="41720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657600" y="4172040"/>
            <a:ext cx="165276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658680" y="445788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759120" y="14860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경영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기술자문요청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759120" y="42292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064040" y="3886200"/>
            <a:ext cx="406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상담란게재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직접방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336760" y="19432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문요청인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064040" y="19432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336760" y="388620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문방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36760" y="28576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064040" y="2857680"/>
            <a:ext cx="4064040" cy="97128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336760" y="21718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064040" y="21718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336760" y="24004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064040" y="240048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095880" y="217188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095880" y="240048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336760" y="262908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문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064040" y="262908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471840" y="457200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978440" y="4229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재입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133720" y="1714680"/>
            <a:ext cx="61974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당사에 경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자문과 투자상담을 의뢰해온 기업들에 대해 적절한 경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진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처방을 통해 기업을 보다 효율적으로 전환시켜 기업회생내지 재도약의 발판을 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련해 주실 경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자문위원을 위촉하오니 많은 지원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당 사이트의 경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자문위원으로 위촉되어 활동하시는 분께는 당 사이트의 규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의거 소정의 경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자문료를 지급해드리고 일정계약에 의거 기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M&amp;A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와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파트너쉽 관계를  맺게 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556080" y="1371600"/>
            <a:ext cx="32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경영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기술자문위원참여지원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540160" y="28576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962520" y="2857680"/>
            <a:ext cx="7110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540160" y="30862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962520" y="3086280"/>
            <a:ext cx="17269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540160" y="33148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962520" y="3314880"/>
            <a:ext cx="17269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/P  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540160" y="35434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문부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4775040" y="2857680"/>
            <a:ext cx="30481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791320" y="30862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5791320" y="33148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2540160" y="4514760"/>
            <a:ext cx="13204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격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540160" y="26290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 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962520" y="2629080"/>
            <a:ext cx="2336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540160" y="3772080"/>
            <a:ext cx="13204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력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3360" y="3772080"/>
            <a:ext cx="2539800" cy="68580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283360" y="4514760"/>
            <a:ext cx="253980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962520" y="3543480"/>
            <a:ext cx="2336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종합   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경영 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기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540160" y="4971960"/>
            <a:ext cx="13204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학력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283360" y="4971960"/>
            <a:ext cx="253980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540160" y="5429160"/>
            <a:ext cx="13204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기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283360" y="5429160"/>
            <a:ext cx="253980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962520" y="3772080"/>
            <a:ext cx="1218960" cy="68580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962520" y="4971960"/>
            <a:ext cx="121896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962520" y="4514760"/>
            <a:ext cx="121896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962520" y="5429160"/>
            <a:ext cx="121896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962520" y="5886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675240" y="622944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81480" y="5886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재입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30320" y="142884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828800" y="17715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투자유치를 목적으로 당 사이트에서 소개되고 있거나 소개되어 투자유치를 완료하였던 기업들과 엔젤투자가간에 공개적인 만남을 위해 본 코너를 마련하였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는 엔젤투자가들로 하여금 정확한 기업분석을 할 수 있게 하고 기업은 경영투명성을 유지할 수 있도록 하여 엔젤투자가와 투자유치기업간에 신뢰를 쌓아 상호 긴밀한 관계를 유지하도록 하는데 목적이 있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5" name=""/>
          <p:cNvGraphicFramePr/>
          <p:nvPr/>
        </p:nvGraphicFramePr>
        <p:xfrm>
          <a:off x="1930320" y="2457360"/>
          <a:ext cx="6502320" cy="15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2457360"/>
                    <a:ext cx="65023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7" name=""/>
          <p:cNvSpPr/>
          <p:nvPr/>
        </p:nvSpPr>
        <p:spPr>
          <a:xfrm>
            <a:off x="1828800" y="41720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689440" y="4172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5587920" y="42292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218280" y="42292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299280" y="417204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68840" y="41720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352680" y="4172040"/>
            <a:ext cx="165276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540160" y="41720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48800" y="434340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6705720" y="4514760"/>
            <a:ext cx="1422360" cy="17172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 답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181480" y="4514760"/>
            <a:ext cx="1320840" cy="17172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 질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930320" y="1943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엔젤투자가께서는 사전에 동일 혹은 유사한 질의 및 답변이 있었는지를 먼저 확인하시고 질의해주시기 바라오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투자이외의 목적으로 투자유치기업에 질의하시는 것을 삼가해주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투자유치기업이 질의에 성실히 답변에 응하지 않거나 당 사이트 단순문의가 필요하면 운영자에게라는 칼럼에 내용을 기재하여 주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962520" y="160020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엔젤투자가질의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1930320" y="4572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0" name="" descr=""/>
          <p:cNvPicPr/>
          <p:nvPr/>
        </p:nvPicPr>
        <p:blipFill>
          <a:blip r:embed="rId1"/>
          <a:stretch/>
        </p:blipFill>
        <p:spPr>
          <a:xfrm>
            <a:off x="2031840" y="2629080"/>
            <a:ext cx="6400800" cy="1885680"/>
          </a:xfrm>
          <a:prstGeom prst="rect">
            <a:avLst/>
          </a:prstGeom>
          <a:ln w="0">
            <a:noFill/>
          </a:ln>
        </p:spPr>
      </p:pic>
      <p:sp>
        <p:nvSpPr>
          <p:cNvPr id="2741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33720" y="2228760"/>
          <a:ext cx="58928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28760"/>
                    <a:ext cx="58928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2235240" y="1542960"/>
            <a:ext cx="568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Times New Roman"/>
              </a:rPr>
              <a:t>이 곳은 저희 사이트를 방문하시는 분들께서 주제에 구애 없이 자유로이 서로의 의견을 나누고 정보를 공유하는 장입니다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M&amp;A, Angel,Venture,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Times New Roman"/>
              </a:rPr>
              <a:t>창업상담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Times New Roman"/>
              </a:rPr>
              <a:t>특허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Times New Roman"/>
              </a:rPr>
              <a:t>기술거래 코너에서 별도로 자유게시판이 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Times New Roman"/>
              </a:rPr>
              <a:t>려 있사오니 많은 이용 바랍니다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0640" y="1143000"/>
            <a:ext cx="162576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31840" y="39434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39434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3943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3840" y="400068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40006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94344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4760" y="39434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68960" y="3943440"/>
            <a:ext cx="165240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56080" y="39434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64720" y="411480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1828800" y="1886040"/>
            <a:ext cx="670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투자유치기업께서는 엔젤투자가들이 정확한 투자판단을 할 수 있도록 신의성실의 원칙에 입각하여 엔젤이 요청한 질의사항에 대해 답변해 주시고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만일 허위정보를 유포했을 경우에는 투자유치기업에게 불이익이 돌아갈 수 있음을 유념하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엔젤 중 불순한 목적으로 정보유출을 시도할 수도 있으니 이 점 각별히 신경쓰시기 바라며 답변이 곤란하거나 당 사이트에 단순문의가 필요하면 운영자에게라는 칼럼에 내용을 기재하여 주시기 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3" name=""/>
          <p:cNvGraphicFramePr/>
          <p:nvPr/>
        </p:nvGraphicFramePr>
        <p:xfrm>
          <a:off x="1930320" y="2685960"/>
          <a:ext cx="640080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2685960"/>
                    <a:ext cx="6400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5" name=""/>
          <p:cNvSpPr/>
          <p:nvPr/>
        </p:nvSpPr>
        <p:spPr>
          <a:xfrm>
            <a:off x="3962520" y="1542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투자유치기업답변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916000" y="4629240"/>
            <a:ext cx="69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첨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930320" y="46292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"/>
          <p:cNvSpPr/>
          <p:nvPr/>
        </p:nvSpPr>
        <p:spPr>
          <a:xfrm flipH="1">
            <a:off x="3063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40644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H="1">
            <a:off x="6094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50796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H="1">
            <a:off x="81288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710640" y="39434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914400" y="39434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1015920" y="39434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04920" y="34862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9480" y="35434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04920" y="36576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09480" y="37148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06440" y="32576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03040" y="30290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-1523520" y="31993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04920" y="1486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04920" y="1600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유치기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투자흐름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투자조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경영자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만남의 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523880" y="857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3" name=""/>
          <p:cNvGraphicFramePr/>
          <p:nvPr/>
        </p:nvGraphicFramePr>
        <p:xfrm>
          <a:off x="2235240" y="1886040"/>
          <a:ext cx="58928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886040"/>
                    <a:ext cx="58928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5" name=""/>
          <p:cNvSpPr/>
          <p:nvPr/>
        </p:nvSpPr>
        <p:spPr>
          <a:xfrm>
            <a:off x="2133720" y="3600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게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946240" y="3600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6807240" y="3600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705720" y="36576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335720" y="365760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7416720" y="360036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986280" y="36003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470480" y="3600360"/>
            <a:ext cx="165240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657600" y="360036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66600" y="377208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031840" y="148608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엔젤게시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860640" y="1028880"/>
            <a:ext cx="29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엔젤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An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715920" y="1600200"/>
            <a:ext cx="356112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이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의 개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의 범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대상 제외업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의 현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의 확인유효기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확인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확인신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확인절차상 증명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평가기관 및 신청구비서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Venture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업 지원제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금융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조세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입지지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술인력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판매활동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타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133720" y="1486080"/>
            <a:ext cx="121896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588120" y="1828800"/>
            <a:ext cx="3397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정부의 벤처기업 육성정책에 따라 새로이 창업한 기업이나 업력이 일정기간이 경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 기업들이 벤처기업으로 등록이 되면 기업을 급성장시킬 수 전기를 마련할 수 있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각종 지원 혜택을 받을 수 있게 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그러나 많은 기업들이 벤처기업으로 등록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수 있는 조건이 충족됨에도 관련지식이 부족하거나 현실에 안주하고자 하기에 아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까지 그 실적이 저조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에 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㈜에서는 기업에서 약간의 기업개선에 대한 의지만 있다면 벤처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으로 전환하는데 책임있는 도움을 줄 수 있도록 처음부터 끝까지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ONE-STOP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로 벤처기업화하는 작업을 수행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저희는 이를 벤처기업발굴이라 일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벤처기업화하는 방법은 여러가지가 있습니다만 저희는 해당기업에 가장 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합하고 수월한 벤처기업 방법을 채택하여 빠른 시일내에 기업에 보탬이 되고자 합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지금 곧 신청하십시요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직접 방문하여 친절히 상담해 드리겠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165560" y="3314880"/>
            <a:ext cx="1727280" cy="22860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벤처기업 등록 상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657600" y="1542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벤처기업등록상담신청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2438280" y="188604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상담요청인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4165560" y="18860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438280" y="257184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문의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165560" y="2571840"/>
            <a:ext cx="4064040" cy="7430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641680" y="32004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438280" y="211464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165560" y="21146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438280" y="234324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4165560" y="234324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197760" y="21146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197760" y="23432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776760" y="354348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1930320" y="1486080"/>
            <a:ext cx="121932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3473280" y="1886040"/>
            <a:ext cx="349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벤처기업으로 등록하기 위한 방법은 크게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지로 나누는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첫째 벤처캐피탈로부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투자를 유치하는 경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둘째 연구개밡비가 매출액대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상인 경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셋째 신기술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품이 매출액 대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거나 수출로 매출액의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상일 경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넷째 벤처평가우수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으로 확인될 경우를 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 중에 둘째와 셋째의 경우를 통해 벤처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으로 등록된 국내 벤처기업들은 총 벤처기업의 약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65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 해당하는데 이들 기업들이 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처기업으로 등록하기 위해서는 중기청에서 지정한 경영지도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지도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공인회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세무사 등으로부터 증명절차를 반드시 밟아야 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를 위해 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㈜에서는 벤처기업으로 등록하고자 하시는 기업들에게 최선의 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비스로 증명업무를 수행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368960" y="3200400"/>
            <a:ext cx="1726920" cy="22860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벤처기업 증명 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3759120" y="160020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벤처기업증명신청서</a:t>
            </a:r>
            <a:r>
              <a:rPr b="0" lang="ko-KR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540160" y="2000160"/>
            <a:ext cx="16254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상담요청인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267080" y="20001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540160" y="2685960"/>
            <a:ext cx="16254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문의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4267080" y="2685960"/>
            <a:ext cx="4064040" cy="7430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743200" y="33148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540160" y="2228760"/>
            <a:ext cx="16254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4267080" y="22287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540160" y="2457360"/>
            <a:ext cx="16254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267080" y="2457360"/>
            <a:ext cx="19306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299280" y="222876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6299280" y="245736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878280" y="365760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 flipH="1">
            <a:off x="3063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40644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6094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50796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H="1">
            <a:off x="81288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710640" y="34862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914400" y="34862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1015920" y="34862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04920" y="30290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609480" y="30862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04920" y="32004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09480" y="32576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06440" y="28004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03040" y="21146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203040" y="23432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-1523520" y="274176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304920" y="17146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발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04920" y="18288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기업증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523880" y="85716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30320" y="148608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벤처게시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6" name=""/>
          <p:cNvGraphicFramePr/>
          <p:nvPr/>
        </p:nvGraphicFramePr>
        <p:xfrm>
          <a:off x="2133720" y="1886040"/>
          <a:ext cx="58928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86040"/>
                    <a:ext cx="58928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8" name=""/>
          <p:cNvSpPr/>
          <p:nvPr/>
        </p:nvSpPr>
        <p:spPr>
          <a:xfrm>
            <a:off x="2031840" y="3600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게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2844720" y="3600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705720" y="3600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6603840" y="365760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7234200" y="36576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7315200" y="36003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884760" y="36003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4368960" y="3600360"/>
            <a:ext cx="165240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3556080" y="360036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4464720" y="377208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352680" y="1085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벤처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(Venture)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285360" y="1428840"/>
            <a:ext cx="2108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이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의 개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의 범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의 기본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조업의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도소매업의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서비스업의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인기업과 법인기업간 비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세제상의 특징비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회계처리상의 특징비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인기업의 법인전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법인전환의 유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법인전환의 유형별 세제혜택의 차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법인전환의 유형의 선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법인전환의 의사결정상 고려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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창업기업 지원제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자금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조세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입지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술인력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타지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2031840" y="1486080"/>
            <a:ext cx="13208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3638880" y="1943280"/>
            <a:ext cx="33818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타당성분석은 창업시 실패를 최소화시킬 수 있는 필수적인 보조장치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소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창업은 물론 아무리 작은 구멍가게 창업일지라도 필수적으로 사업타당성은 선행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토되어야만 한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흔히 창업자들이 사업타당성 검토와 사업계획서를 동일시하는 경우가 있는데 이는 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격하게 서로 다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란 사업타당성 검토 후 사업타당성이 인정된 경우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하게 되는 사업운영을 위한 종합적인 청사진을 의미한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통상적으로 사업타당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검토는 외부 전문기관에 의뢰하거나 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에게 최종 검토하게 하는 것이 합리적이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는 사업타당성 검토서에 근거하여 창업사장이 직접 작성하는 것이 가장 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상적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소기업의 창업촉진을 위해 정부는 창업하고자 중소기업들에게 중소기업창원지원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 의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창업아이템의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사업타당성검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및  창업절차를 전문기관인 중소기업상당회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서 대행토록하고 그 수수료의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범위내에서 보조해주고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따라서 새로이 창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을 하고자 하는 창업자들은 사업을 영위하면서 발생할 수 있는 위험을 최소화할 수 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도록 이 제도를 십분 활용하는 것이 적극 권장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416720" y="1714680"/>
            <a:ext cx="1015920" cy="17136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133720" y="41720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중소기업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064040" y="417204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400800" y="41720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창업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064040" y="445788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후보아이템선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4064040" y="4743360"/>
            <a:ext cx="172728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수행능력평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064040" y="502920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시장성분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064040" y="531504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성분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4064040" y="560088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제성분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064040" y="5886360"/>
            <a:ext cx="172728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금수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장성분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4064040" y="617220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타당성 의견도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454560" y="4286160"/>
            <a:ext cx="577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4978440" y="434340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4978440" y="46292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4978440" y="491508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4978440" y="52005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4978440" y="548640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978440" y="57722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978440" y="605808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6299280" y="4857840"/>
            <a:ext cx="2133360" cy="171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환경분석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경영계획검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5790960" y="4286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5079600" y="4971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2479680" y="37720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cc"/>
                </a:solidFill>
                <a:latin typeface="Times New Roman"/>
              </a:rPr>
              <a:t>사업타당성검토 일반절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35240" y="1542960"/>
            <a:ext cx="538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올리시는 글의 내용이 사실에 근거하지 않거나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Times New Roman"/>
              </a:rPr>
              <a:t>상대방에 대한 험담 혹은 비방 등은 삼가해 주세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35240" y="1943280"/>
          <a:ext cx="5486400" cy="188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943280"/>
                    <a:ext cx="548640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235240" y="38289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65560" y="1143000"/>
            <a:ext cx="152388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자유토론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3678840" y="1828800"/>
            <a:ext cx="3386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는 그 용도에 따라  약간의 차이가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는 먼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타당성 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부검증을 포함해서 창업자 자신의 창업계획을 구체화하기 위한 수단으로서 작성하는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경우와 자금조달을 목적으로 작성하는 경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공장설립 및 인허가 등을 위해 작성하는 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우로 구분할 수 있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는 창업자의 얼굴인 동시에 창업자 자신의 신용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동일한 아이템을 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고 사업계획서를 작성하더라도 작성한 내용과 작성기술에 따라 사업계획서가 필요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해당목적에 맞아 떨어져 좋은 결과를 가져올 수도 있고 그렇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계획서는 창업자 자신이 작성하는 것이 가장 이상적이나 일정과 내용에 따라서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전문기관에 의뢰하거나 해당항목별로 담당부서를 지정해 작성한 후 종합하는 것도 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토해볼 만 하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2496240" y="316224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cc"/>
                </a:solidFill>
                <a:latin typeface="Times New Roman"/>
              </a:rPr>
              <a:t>사업계획서 표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031840" y="142884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754360" y="3390840"/>
            <a:ext cx="1573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기업체 현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조직 및 인력 현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기술현황 및 기술개발 계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생산 및 시설계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시장성 및 판매전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재무계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자금운용 조달계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사업추진 일정계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특정분야별 계획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공장설립 포함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첨부서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3152520" y="4915080"/>
            <a:ext cx="210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사업계획서 작성시 유의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매출계획 및 순이익을 먼저 추정한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자금소요계획보다 자금조달계획을 먼저 수립한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416720" y="1600200"/>
            <a:ext cx="1015920" cy="17136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3659400" y="1886040"/>
            <a:ext cx="33818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조업체의 창업은 도소매업이나 서비스업과는 달리 제품을 만드는 공장을 설립해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하는 관계로 창업절차가 복잡하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더구나 계획입지가 아닌 자유입지에서 공장을 설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할 경우 훨씬 복잡한 인허가 절차를 거쳐야 한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에 대한 전문적인 지식이 없으면 수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많은 시행착오를 겪어야 되고 그 만큼 사업개시가 느려지며 제품개발 및 상품화 등 더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요한 부분에 집중해야 할 시간이 없어진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소기업의 창업촉진을 위해 정부는 창업하고자 중소기업들에게 중소기업창업지원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 의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창업아이템의 타당성검토 및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창업절차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를 전문기관인 중소기업상당회사에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행토록하고 그 수수료의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범위내에서 보조해주고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따라서 새로이 창업을 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고자 하는 창업자들은 사업을 영위하면서 발생할 수 있는 위험을 최소화할 수 있도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 제도를 십분 활용하는 것이 적극 권장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133720" y="37148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중소기업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4064040" y="371484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6400800" y="3714840"/>
            <a:ext cx="1320840" cy="17136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창업기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064040" y="400068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공장설립의 사전검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4064040" y="4286160"/>
            <a:ext cx="172728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사설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자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064040" y="457200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공장입지선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064040" y="485784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공장설립승인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064040" y="514368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공장건축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설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4064040" y="5429160"/>
            <a:ext cx="1727280" cy="17172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개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4064040" y="5715000"/>
            <a:ext cx="1727280" cy="1713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행정절차마무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3454560" y="3828960"/>
            <a:ext cx="577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978440" y="388620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4978440" y="41720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978440" y="445788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978440" y="47433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4978440" y="502920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4978440" y="53150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978440" y="560088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5790960" y="3828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2516760" y="3314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cc"/>
                </a:solidFill>
                <a:latin typeface="Times New Roman"/>
              </a:rPr>
              <a:t>창업절차대행 일반절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2133720" y="1371600"/>
            <a:ext cx="11174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416720" y="1600200"/>
            <a:ext cx="1015920" cy="17136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628440" y="1886040"/>
            <a:ext cx="336852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하나의 기업이 새로 설립되어 성장하면서 소요되는 자금을 창업자 자신의 투자자금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으로 충당하기는 어렵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소기업의 경우 대부분 아이템과 일정자금만을 가지고 처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시작하기 때문에 처음에 투하된 창업자의 자금은 얼마간의 기간이 경과하면 바로 소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되기 마련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럴 때 회사는 외부로부터 자금을 끌어들여  계속기업으로서 사업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영위하게 된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많은 중소기업들은 저리의 각종 정책자금 혹은 투자자금을 유치하는 것이 회사에 편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을 제공해주리라는 것을 알고 있음에도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불편함을 감수하고 싶지 않거나 자기기업에는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해당되지 않는다고 생각하는 탓에 여전히 고금리의 차입금을 금융기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혹은 사채업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으로부터만 대출받고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그렇게 되면 좋은 아이템과 뛰어난 기술력을 갖고서도 자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 부족해 허덕거리며 회사를 지탱시키거나 경우에 따라서는 회사를 도산시키기도 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현재 정부 및 각종 기관들에는 중소기업들을 지원해주는 자금들이 많이 있는데 이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충분히 활용하지 못하고 있는 것과 관련하여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정부에서는 당사와 같은 상담회사의 조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을 통해 자금알선을 상담하도록 적극 권장하고 있다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외부에서 자금을 끌어들이는 방법에는 여러방법들이 있는데 크게는 직접금융의 방법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간접금융의 방법이 있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사의 성장단계 및 영위업종에 따라 자금의 종류가 달라진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편 자금을 끌어들이는 방법이 어떤 것이 되었던지 회사를 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에게 소개하는 절차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필수적인데 동일한 내용을 갖고서도 접근방식에 따라 자금을 유치할 수 있고 하지 못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수도 있음은 상기해야 할 사항이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즉 관련 이해관계자에게는 회사의 가능성을  최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으로 보여주는 것이 필요하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133720" y="1428840"/>
            <a:ext cx="111744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7416720" y="1600200"/>
            <a:ext cx="1015920" cy="17136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신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4165560" y="1486080"/>
            <a:ext cx="16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상담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2336760" y="182880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상담요청인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4064040" y="18288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336760" y="2914560"/>
            <a:ext cx="16257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4064040" y="2914560"/>
            <a:ext cx="4064040" cy="74304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2540160" y="34862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2336760" y="205740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4064040" y="20574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2336760" y="228600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064040" y="2286000"/>
            <a:ext cx="1930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6095880" y="205740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6095880" y="228600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3675240" y="382896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자동지정된 내용의 변경이 필요하면 덮어쓰기하십시요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후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일이내에 유선으로 연락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4064040" y="2514600"/>
            <a:ext cx="406404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사업타당성검토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사업계획수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창업절차대행 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창업자금알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2336760" y="2514600"/>
            <a:ext cx="16257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구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"/>
          <p:cNvSpPr/>
          <p:nvPr/>
        </p:nvSpPr>
        <p:spPr>
          <a:xfrm flipH="1">
            <a:off x="3063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 flipH="1">
            <a:off x="40644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 flipH="1">
            <a:off x="6094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50796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 flipH="1">
            <a:off x="81288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 flipH="1">
            <a:off x="710640" y="3714840"/>
            <a:ext cx="997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flipH="1">
            <a:off x="914400" y="3714840"/>
            <a:ext cx="10008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 flipH="1">
            <a:off x="1015920" y="3714840"/>
            <a:ext cx="101520" cy="11412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304920" y="325764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609480" y="331488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04920" y="342900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09480" y="3486240"/>
            <a:ext cx="609840" cy="11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406440" y="3029040"/>
            <a:ext cx="914400" cy="171360"/>
          </a:xfrm>
          <a:prstGeom prst="rightArrowCallout">
            <a:avLst>
              <a:gd name="adj1" fmla="val 25002"/>
              <a:gd name="adj2" fmla="val 25000"/>
              <a:gd name="adj3" fmla="val 88936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03040" y="25718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03040" y="2800440"/>
            <a:ext cx="1219320" cy="17136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4165560" y="1028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창업상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04920" y="19432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사업타당성검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04920" y="20574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사업계획수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절차대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창업자금알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336760" y="1428840"/>
            <a:ext cx="1117800" cy="171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창업게시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4" name=""/>
          <p:cNvGraphicFramePr/>
          <p:nvPr/>
        </p:nvGraphicFramePr>
        <p:xfrm>
          <a:off x="2235240" y="1828800"/>
          <a:ext cx="58928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828800"/>
                    <a:ext cx="58928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6" name=""/>
          <p:cNvSpPr/>
          <p:nvPr/>
        </p:nvSpPr>
        <p:spPr>
          <a:xfrm>
            <a:off x="2133720" y="35434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게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946240" y="35434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6807240" y="3543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6705720" y="360036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335720" y="360036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7416720" y="354348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986280" y="35434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4470480" y="3543480"/>
            <a:ext cx="165240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657600" y="354348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4566600" y="371484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-1523520" y="302940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523880" y="74304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569400" y="1486080"/>
            <a:ext cx="3275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국내 기업체나 연구기관 혹은 개인이 개발한 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들이 유용한 지식으로서 활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될 수 있기 위해서는 이를 상업화 할  필요가 있는 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를 위해서는 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들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공개적으로 기업체 등에 이전함으로써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 이전자들은 힘들여 개발한 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들이 사장되는 것을 방지할 수 있음은 물론 노력에 대해 보상을 받을 수 있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 도입자들은 이를 통해 부가가치를 창출할 수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여기에서는 국내에서 개발된 이전 가능한 특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과 도입하기를 원하는 수요처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한 정보가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에는 본 사이트를 통해 발굴되어진 것도 있고 관련 기관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관련사이트에 등록되어 있는 것도 함께 게재하였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2031840" y="1542960"/>
            <a:ext cx="1422720" cy="171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5" name=""/>
          <p:cNvGraphicFramePr/>
          <p:nvPr/>
        </p:nvGraphicFramePr>
        <p:xfrm>
          <a:off x="2031840" y="1943280"/>
          <a:ext cx="6720120" cy="136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43280"/>
                    <a:ext cx="6720120" cy="13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7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4673520" y="35434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572000" y="360036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5202360" y="360036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5283360" y="354348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2157480" y="35434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41680" y="3543480"/>
            <a:ext cx="165240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557160" y="388620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7112160" y="3486240"/>
            <a:ext cx="162540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 이전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438280" y="2343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860640" y="2343240"/>
            <a:ext cx="7113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2438280" y="2571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3860640" y="25718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2438280" y="28004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3860640" y="28004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UR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438280" y="3029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분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4673520" y="2343240"/>
            <a:ext cx="31496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5689440" y="25718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5689440" y="28004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438280" y="3486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형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3860640" y="302904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438280" y="49150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설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3860640" y="4915080"/>
            <a:ext cx="396252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336760" y="60580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860640" y="3486240"/>
            <a:ext cx="3962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특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용신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의장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미출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438280" y="3714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수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860640" y="371484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아이디어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특허신청단계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개발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상업화단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438280" y="411480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유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860640" y="411480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신제품개발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신공정개발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존제품개선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존공정개선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2438280" y="45147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거래조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3860640" y="451476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권리매매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시권허여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라이센스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합작투자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무상허여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협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438280" y="5543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용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3860640" y="5543640"/>
            <a:ext cx="396252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2438280" y="1886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860640" y="18860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2438280" y="2114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860640" y="21146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689440" y="21146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3657600" y="1486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특허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기술 이전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438280" y="3257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3860640" y="325764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523880" y="91440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031840" y="1542960"/>
            <a:ext cx="1422720" cy="171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095880" y="5143680"/>
            <a:ext cx="193068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등록 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 도입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2438280" y="194328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분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2438280" y="240048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형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4064040" y="194328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2438280" y="3828960"/>
            <a:ext cx="15242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설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064040" y="3828960"/>
            <a:ext cx="3962520" cy="57168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4064040" y="2400480"/>
            <a:ext cx="3962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특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용신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의장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미출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2438280" y="262908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수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064040" y="262908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아이디어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특허신청단계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개발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상업화단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438280" y="302904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유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4064040" y="302904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신제품개발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신공정개발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존제품개선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존공정개선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2438280" y="342900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조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064040" y="342900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권리매매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시권허여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라이센스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합작투자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무상허여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협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438280" y="445788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용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4064040" y="4457880"/>
            <a:ext cx="396252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438280" y="2171880"/>
            <a:ext cx="15242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4064040" y="217188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3556080" y="1542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등록 특허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기술 도입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2133720" y="19432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860640" y="194328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2133720" y="26290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도입 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코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3860640" y="262908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2133720" y="30862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내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3860640" y="3086280"/>
            <a:ext cx="4064040" cy="74268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3474720" y="4229280"/>
            <a:ext cx="31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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구체적인 상담은 저희 회사의 컨설턴트가 등록 후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일 이내에 유선으로 연락 드린 후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상담토록 하겠습니다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2031840" y="39434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확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2133720" y="21718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3860640" y="217188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2133720" y="24004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3860640" y="2400480"/>
            <a:ext cx="19306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892840" y="21718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5892840" y="240048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2133720" y="2857680"/>
            <a:ext cx="16254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도입 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3860640" y="2857680"/>
            <a:ext cx="40640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64040" y="1143000"/>
            <a:ext cx="162540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685960"/>
            <a:ext cx="4673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골프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등산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테니스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바둑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낚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274320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레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스포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2228760"/>
            <a:ext cx="1218960" cy="17172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비지니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3543480"/>
            <a:ext cx="1218960" cy="171360"/>
          </a:xfrm>
          <a:prstGeom prst="foldedCorner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컴퓨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터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20968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주식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창업 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재테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3467160"/>
            <a:ext cx="487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통신   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일반 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게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그래픽    </a:t>
            </a:r>
            <a:r>
              <a:rPr b="0" lang="ko-KR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사이트추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2400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128080" y="2285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52320" y="228600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6290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352320" y="280044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342900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8280" y="291456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28080" y="28004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352320" y="360036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42292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371484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28080" y="360036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36760" y="1542960"/>
            <a:ext cx="589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는 본 사이트 메뉴를 이용하기 위한 회원가입과는 별도로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비슷한 관심사를 갖으신 분들간에 서로의 의견을 자유로이 나누고 정보를 공유하며 더 나아가 친선도모차원에서 직접적인 교류의 기회를 마련하는 장입니다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46240" y="4343400"/>
            <a:ext cx="1524240" cy="22860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일반회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89440" y="4343400"/>
            <a:ext cx="1524240" cy="22860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특별회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4629240"/>
            <a:ext cx="609480" cy="342720"/>
          </a:xfrm>
          <a:prstGeom prst="flowChartConnector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02320" y="4629240"/>
            <a:ext cx="609840" cy="342720"/>
          </a:xfrm>
          <a:prstGeom prst="flowChartConnector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46240" y="4629240"/>
            <a:ext cx="609840" cy="342720"/>
          </a:xfrm>
          <a:prstGeom prst="flowChartConnector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89440" y="4629240"/>
            <a:ext cx="609840" cy="342720"/>
          </a:xfrm>
          <a:prstGeom prst="flowChartConnector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2133720" y="1486080"/>
            <a:ext cx="152388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도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9" name=""/>
          <p:cNvGraphicFramePr/>
          <p:nvPr/>
        </p:nvGraphicFramePr>
        <p:xfrm>
          <a:off x="2133720" y="1943280"/>
          <a:ext cx="6603840" cy="143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43280"/>
                    <a:ext cx="6603840" cy="14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6705720" y="3543480"/>
            <a:ext cx="1828800" cy="17136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신규 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 도입 신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4876920" y="3600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775040" y="3657600"/>
            <a:ext cx="101880" cy="11448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5405400" y="36576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486400" y="36003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2360880" y="36003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844720" y="3600360"/>
            <a:ext cx="165276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3557160" y="3943440"/>
            <a:ext cx="294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opyright 199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식회사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el : 02-711-4110 /  Fax : 02-711-43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438280" y="2343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860640" y="2343240"/>
            <a:ext cx="7113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438280" y="2571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3860640" y="25718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2438280" y="28004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3860640" y="28004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UR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2438280" y="3029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분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4673520" y="2343240"/>
            <a:ext cx="31496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5689440" y="25718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5689440" y="28004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438280" y="34862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형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3860640" y="302904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2438280" y="491508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설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3860640" y="4915080"/>
            <a:ext cx="396252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2336760" y="60580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860640" y="3486240"/>
            <a:ext cx="3962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특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용신안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의장권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무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2438280" y="37148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수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60640" y="371484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아이디어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특허신청단계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개발단계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상업화단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2438280" y="411480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유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60640" y="411480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신제품개발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신공정개발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존제품개선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존공정개선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기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2438280" y="4514760"/>
            <a:ext cx="1320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거래조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3860640" y="4514760"/>
            <a:ext cx="3962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권리매매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실시권허여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라이센스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합작투자           </a:t>
            </a:r>
            <a:r>
              <a:rPr b="1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무상허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438280" y="5543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용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3860640" y="5543640"/>
            <a:ext cx="3962520" cy="571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2438280" y="1886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3860640" y="18860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2438280" y="2114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860640" y="2114640"/>
            <a:ext cx="1727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5689440" y="2114640"/>
            <a:ext cx="21337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556080" y="1486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신규 특허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기술 도입신청서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438280" y="3257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860640" y="3257640"/>
            <a:ext cx="39625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133720" y="1486080"/>
            <a:ext cx="182880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거래절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133720" y="1943280"/>
            <a:ext cx="1625400" cy="22860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도입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4470480" y="194328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705720" y="1943280"/>
            <a:ext cx="1625400" cy="228600"/>
          </a:xfrm>
          <a:prstGeom prst="flowChartProcess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이전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4470480" y="257184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정보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4470480" y="320040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본합의서 작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4470480" y="382896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검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4470480" y="445788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최종협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470480" y="508644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계약서 체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470480" y="5715000"/>
            <a:ext cx="1625400" cy="22860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금지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후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3759120" y="2057400"/>
            <a:ext cx="711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 flipH="1">
            <a:off x="6095880" y="2057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5283360" y="217188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283360" y="280044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5283360" y="342900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5283360" y="40575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5283360" y="468648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5283360" y="531504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6502320" y="2457360"/>
            <a:ext cx="1930320" cy="400320"/>
          </a:xfrm>
          <a:prstGeom prst="wedgeRoundRectCallout">
            <a:avLst>
              <a:gd name="adj1" fmla="val -70064"/>
              <a:gd name="adj2" fmla="val 65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이전 희망하는 특허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술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정보 제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이전조건 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2031840" y="2457360"/>
            <a:ext cx="2032200" cy="285840"/>
          </a:xfrm>
          <a:prstGeom prst="wedgeRoundRectCallout">
            <a:avLst>
              <a:gd name="adj1" fmla="val 69689"/>
              <a:gd name="adj2" fmla="val 2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입 희망하는 특허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술 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조건 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4934520" y="28987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중개인계약 체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6502320" y="3200400"/>
            <a:ext cx="1930320" cy="228600"/>
          </a:xfrm>
          <a:prstGeom prst="wedgeRoundRectCallout">
            <a:avLst>
              <a:gd name="adj1" fmla="val -70064"/>
              <a:gd name="adj2" fmla="val -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이전의향의 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031840" y="3200400"/>
            <a:ext cx="2032200" cy="228600"/>
          </a:xfrm>
          <a:prstGeom prst="wedgeRoundRectCallout">
            <a:avLst>
              <a:gd name="adj1" fmla="val 70314"/>
              <a:gd name="adj2" fmla="val 2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입의향의 표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502320" y="4400640"/>
            <a:ext cx="1930320" cy="285840"/>
          </a:xfrm>
          <a:prstGeom prst="wedgeRoundRectCallout">
            <a:avLst>
              <a:gd name="adj1" fmla="val -70064"/>
              <a:gd name="adj2" fmla="val 9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구체적인 이전조건 협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31840" y="4400640"/>
            <a:ext cx="2032200" cy="285840"/>
          </a:xfrm>
          <a:prstGeom prst="wedgeRoundRectCallout">
            <a:avLst>
              <a:gd name="adj1" fmla="val 69689"/>
              <a:gd name="adj2" fmla="val 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구체적인 도입조건 협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6502320" y="4971960"/>
            <a:ext cx="1930320" cy="400320"/>
          </a:xfrm>
          <a:prstGeom prst="wedgeRoundRectCallout">
            <a:avLst>
              <a:gd name="adj1" fmla="val -70064"/>
              <a:gd name="adj2" fmla="val 65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최종 이전가 협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계약서 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계약서 내용 최종 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031840" y="4971960"/>
            <a:ext cx="2032200" cy="400320"/>
          </a:xfrm>
          <a:prstGeom prst="wedgeRoundRectCallout">
            <a:avLst>
              <a:gd name="adj1" fmla="val 69689"/>
              <a:gd name="adj2" fmla="val 47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최종 도입가 협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계약서 내용 최종 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6502320" y="5657760"/>
            <a:ext cx="1930320" cy="228600"/>
          </a:xfrm>
          <a:prstGeom prst="wedgeRoundRectCallout">
            <a:avLst>
              <a:gd name="adj1" fmla="val -70064"/>
              <a:gd name="adj2" fmla="val 2395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이전의무 실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031840" y="5657760"/>
            <a:ext cx="2032200" cy="285840"/>
          </a:xfrm>
          <a:prstGeom prst="wedgeRoundRectCallout">
            <a:avLst>
              <a:gd name="adj1" fmla="val 69689"/>
              <a:gd name="adj2" fmla="val 6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도입의무 실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133720" y="1486080"/>
            <a:ext cx="182880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 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8" name="" descr=""/>
          <p:cNvPicPr/>
          <p:nvPr/>
        </p:nvPicPr>
        <p:blipFill>
          <a:blip r:embed="rId1"/>
          <a:stretch/>
        </p:blipFill>
        <p:spPr>
          <a:xfrm>
            <a:off x="2133720" y="1943280"/>
            <a:ext cx="64278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2133720" y="1486080"/>
            <a:ext cx="152388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검색 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2133720" y="1828800"/>
            <a:ext cx="68072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체                                                                       주요 내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기술정보센터                              특허기술정보센터의 소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뉴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조사분석서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산업재산권의 안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복덕방을 운영하고 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정보검색시스템                          대우의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patrom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팀에서 제공하는 특허정보 검색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이트로 인터넷을 통한 검색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CD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롬 소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Q&amp;A,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교육센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추천사이트 등이 메뉴로 구성되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있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청                                                 특허청의 홈페이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청 소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민원안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정보이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안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도 및 절차 관련사이트 등으로 구성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온라인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출원 가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European Patent Office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각국별 특허 사무국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관련 사이트 링크 제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STO's Internet Patent Search System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된 미국 특허 검색 제공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 절차에 대한 상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서비스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PTO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분류코드로 특허용약 자료 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icropatent Web Service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 상표에 관한 검색 서비스를 유료로 제공하는 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최근에 등록된 상표에 대한 정보를 제공함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United States Patent &amp;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미국 특허사무국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허자료검색 가능 상표등록에 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rademark Office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 자료도 검색 가능함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천리안 세계 특허정보 서비스          더웬트 세계 특허정보 서비스의 홈페이지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유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he IPD WWW Page                           Intellectual Property (IP) Department Hong K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Government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홍콩정부의 지적 재산권 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CIPO-OPIC/Canadian Intellectual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캐나다의 지적 재산권 사무국 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Property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WIPO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스위스 제네바에 위치한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World Intellectual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 특허소스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년부터 등록된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백만여건의 특허 수록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87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년 이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약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백만건에 이르는 특허는 디지털 이미지도 포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NRI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이버 특허 데스크                      노무라 종합연구소의 특허정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술정보 서비스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발행 절차를 밟으면 무료로 데모판 이용가능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특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/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기술거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1523880" y="857160"/>
            <a:ext cx="0" cy="268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2133720" y="1600200"/>
            <a:ext cx="1523880" cy="171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5" name=""/>
          <p:cNvGraphicFramePr/>
          <p:nvPr/>
        </p:nvGraphicFramePr>
        <p:xfrm>
          <a:off x="2133720" y="2000160"/>
          <a:ext cx="58928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00160"/>
                    <a:ext cx="58928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7" name=""/>
          <p:cNvSpPr/>
          <p:nvPr/>
        </p:nvSpPr>
        <p:spPr>
          <a:xfrm>
            <a:off x="2031840" y="37148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게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2844720" y="37148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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6705720" y="37148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6603840" y="3772080"/>
            <a:ext cx="101880" cy="114120"/>
          </a:xfrm>
          <a:custGeom>
            <a:avLst/>
            <a:gdLst>
              <a:gd name="textAreaLeft" fmla="*/ 13680 w 101880"/>
              <a:gd name="textAreaRight" fmla="*/ 88200 w 10188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234200" y="3772080"/>
            <a:ext cx="101520" cy="11412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120"/>
              <a:gd name="textAreaBottom" fmla="*/ 82800 h 1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7315200" y="371484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3884760" y="37148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4368960" y="3714840"/>
            <a:ext cx="165240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3556080" y="37148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4464720" y="3886200"/>
            <a:ext cx="5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글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작성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 flipH="1">
            <a:off x="3063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 flipH="1">
            <a:off x="40644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 flipH="1">
            <a:off x="6094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 flipH="1">
            <a:off x="50796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81288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710640" y="38289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 flipH="1">
            <a:off x="914400" y="38289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flipH="1">
            <a:off x="1015920" y="38289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304920" y="33717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609480" y="34290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304920" y="35434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609480" y="36003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406440" y="31431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203040" y="2914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 flipV="1">
            <a:off x="-1523520" y="2970720"/>
            <a:ext cx="304704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04920" y="21718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이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04920" y="22860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304920" y="25146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04920" y="2743200"/>
            <a:ext cx="1117440" cy="114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기술게시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304920" y="24004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거래절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04920" y="2629080"/>
            <a:ext cx="1117440" cy="114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특허검색사이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유망기업소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336760" y="2286000"/>
            <a:ext cx="406440" cy="28584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2999160" y="2343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나다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2336760" y="2629080"/>
            <a:ext cx="406440" cy="28548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3111120" y="2685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립연도역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368960" y="2286000"/>
            <a:ext cx="406080" cy="285840"/>
          </a:xfrm>
          <a:custGeom>
            <a:avLst/>
            <a:gdLst>
              <a:gd name="textAreaLeft" fmla="*/ 50760 w 406080"/>
              <a:gd name="textAreaRight" fmla="*/ 355320 w 4060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75200" y="23432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등록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4368960" y="2629080"/>
            <a:ext cx="406080" cy="285480"/>
          </a:xfrm>
          <a:custGeom>
            <a:avLst/>
            <a:gdLst>
              <a:gd name="textAreaLeft" fmla="*/ 50760 w 406080"/>
              <a:gd name="textAreaRight" fmla="*/ 355320 w 40608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4975200" y="268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업종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5892840" y="2286000"/>
            <a:ext cx="406440" cy="28584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6611400" y="23432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설립연도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5892840" y="2629080"/>
            <a:ext cx="406440" cy="28548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6499440" y="2679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검색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7213680" y="2685960"/>
            <a:ext cx="1652400" cy="1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49560" y="15145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 곳은 국내 유망 중소기업들을 소개하는 곳으로 각종 벤처박람회 등에서 공개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으로 홍보한 기업들과  당 사이트에서 추천한  업체들입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유망중소기업에 대한 개괄적인 설명과 해당 업체의 사이트가 연결되어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유망기업소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31840" y="1486080"/>
            <a:ext cx="406440" cy="285480"/>
          </a:xfrm>
          <a:custGeom>
            <a:avLst/>
            <a:gdLst>
              <a:gd name="textAreaLeft" fmla="*/ 50760 w 406440"/>
              <a:gd name="textAreaRight" fmla="*/ 355680 w 4064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694600" y="15429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나다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4775040" y="2000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4673520" y="20574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5303880" y="20574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5384880" y="200016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2133720" y="2286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641680" y="22860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회사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3962520" y="22860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생산제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6095880" y="22860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회사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7416720" y="22860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생산제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2133720" y="2514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641680" y="25146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962520" y="25146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6095880" y="25146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7416720" y="25146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133720" y="27432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2641680" y="27432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962520" y="27432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6095880" y="27432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416720" y="27432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2133720" y="29718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641680" y="29718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3962520" y="29718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095880" y="29718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7416720" y="29718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133720" y="32004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641680" y="32004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3962520" y="32004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6095880" y="32004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7416720" y="32004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2133720" y="3429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2641680" y="34290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3962520" y="34290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6095880" y="34290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7416720" y="34290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2133720" y="3657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2641680" y="36576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3962520" y="36576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6095880" y="36576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7416720" y="36576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2133720" y="38862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2641680" y="38862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3962520" y="38862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6095880" y="38862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7416720" y="38862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2133720" y="41148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2641680" y="41148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3962520" y="41148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6095880" y="41148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7416720" y="41148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2133720" y="43434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2641680" y="43434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3962520" y="43434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6095880" y="43434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416720" y="43434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2133720" y="4572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2641680" y="45720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3962520" y="45720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6095880" y="45720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7416720" y="45720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2133720" y="4800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2641680" y="4800600"/>
            <a:ext cx="121896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3962520" y="4800600"/>
            <a:ext cx="152388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6095880" y="4800600"/>
            <a:ext cx="121932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7416720" y="4800600"/>
            <a:ext cx="15242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5587920" y="2286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587920" y="2514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5587920" y="27432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5587920" y="29718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5587920" y="32004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587920" y="3429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587920" y="3657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587920" y="38862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5587920" y="41148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5587920" y="43434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5587920" y="45720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5587920" y="4800600"/>
            <a:ext cx="406440" cy="171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2031840" y="5168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3059280" y="516888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설립연도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4222800" y="5168880"/>
            <a:ext cx="66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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설립연도역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5403960" y="5151600"/>
            <a:ext cx="43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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업종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6216480" y="5151600"/>
            <a:ext cx="43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검색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6908760" y="5143680"/>
            <a:ext cx="165276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3860640" y="10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옛체"/>
                <a:ea typeface="옛체"/>
              </a:rPr>
              <a:t>유망기업소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4470480" y="1542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4368960" y="16002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4998960" y="1600200"/>
            <a:ext cx="101520" cy="114480"/>
          </a:xfrm>
          <a:custGeom>
            <a:avLst/>
            <a:gdLst>
              <a:gd name="textAreaLeft" fmla="*/ 13320 w 101520"/>
              <a:gd name="textAreaRight" fmla="*/ 88200 w 101520"/>
              <a:gd name="textAreaTop" fmla="*/ 19800 h 114480"/>
              <a:gd name="textAreaBottom" fmla="*/ 83160 h 1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5079960" y="154296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2743200" y="21718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사상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4165560" y="21718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2743200" y="24004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표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4165560" y="24004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743200" y="26290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설립연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4165560" y="26290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2743200" y="28576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업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4165560" y="28576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2743200" y="30862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취급품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4165560" y="30862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743200" y="39434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4165560" y="3943440"/>
            <a:ext cx="10159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1720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4165560" y="417204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2743200" y="4400640"/>
            <a:ext cx="1320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4165560" y="4400640"/>
            <a:ext cx="20322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URL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5283360" y="3943440"/>
            <a:ext cx="3149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6299280" y="4172040"/>
            <a:ext cx="21333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6299280" y="4400640"/>
            <a:ext cx="21333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2743200" y="462924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매출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4165560" y="462924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743200" y="485784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본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4165560" y="485784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2743200" y="33148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취급품목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4165560" y="3314880"/>
            <a:ext cx="42670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5283360" y="5724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2743200" y="1943280"/>
            <a:ext cx="13208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최종등록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4165560" y="1943280"/>
            <a:ext cx="20322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4040" y="1143000"/>
            <a:ext cx="162540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35240" y="1657440"/>
            <a:ext cx="1523880" cy="22860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일반회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5240" y="2000160"/>
            <a:ext cx="5587920" cy="1086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격요건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없슴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입특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관심분야관련 정보 제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원간 정보 교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정례모임 주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입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없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50864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35240" y="323856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56080" y="323856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35240" y="34862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56080" y="3486240"/>
            <a:ext cx="7110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35240" y="37148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56080" y="371484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35240" y="39434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56080" y="394344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68960" y="3486240"/>
            <a:ext cx="314928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37148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9434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56080" y="417204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35240" y="41720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장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4172040"/>
            <a:ext cx="203184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56080" y="4400640"/>
            <a:ext cx="396216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35240" y="44006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심분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05680" y="4352760"/>
            <a:ext cx="231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비지니스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레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스포츠 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컴퓨터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인터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56080" y="4629240"/>
            <a:ext cx="3962160" cy="3999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35240" y="462924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H="1">
            <a:off x="3063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0644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094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796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1288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10640" y="3143160"/>
            <a:ext cx="997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914400" y="3143160"/>
            <a:ext cx="10008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015920" y="3143160"/>
            <a:ext cx="101520" cy="114480"/>
          </a:xfrm>
          <a:prstGeom prst="flowChartProcess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2685960"/>
            <a:ext cx="203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74320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2857680"/>
            <a:ext cx="203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914560"/>
            <a:ext cx="609840" cy="1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3040" y="114480"/>
            <a:ext cx="1219320" cy="6858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9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6440" y="2457360"/>
            <a:ext cx="914400" cy="171720"/>
          </a:xfrm>
          <a:prstGeom prst="rightArrowCallout">
            <a:avLst>
              <a:gd name="adj1" fmla="val 25002"/>
              <a:gd name="adj2" fmla="val 25000"/>
              <a:gd name="adj3" fmla="val 88749"/>
              <a:gd name="adj4" fmla="val 6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440" y="857160"/>
            <a:ext cx="914400" cy="17172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3040" y="1085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&amp;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3040" y="13143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3040" y="15429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en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3040" y="17715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창업상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3040" y="20001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특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술거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3040" y="2228760"/>
            <a:ext cx="1219320" cy="171720"/>
          </a:xfrm>
          <a:prstGeom prst="flowChartTerminator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유망기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-1523520" y="2400480"/>
            <a:ext cx="3047040" cy="12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64040" y="1143000"/>
            <a:ext cx="1625400" cy="228600"/>
          </a:xfrm>
          <a:prstGeom prst="flowChartDocumen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99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3999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14480"/>
            <a:ext cx="3861000" cy="228600"/>
          </a:xfrm>
          <a:prstGeom prst="ellipse">
            <a:avLst/>
          </a:prstGeom>
          <a:solidFill>
            <a:srgbClr val="66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엽서체"/>
                <a:ea typeface="엽서체"/>
              </a:rPr>
              <a:t>중소기업의 든든한 벗이 되겠습니다</a:t>
            </a:r>
            <a:r>
              <a:rPr b="1" lang="en-US" sz="1400" spc="-1" strike="noStrike">
                <a:solidFill>
                  <a:srgbClr val="000000"/>
                </a:solidFill>
                <a:latin typeface="엽서체"/>
                <a:ea typeface="엽서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032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사업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5116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유토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호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92840" y="4572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신간소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13680" y="4572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3032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모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5116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련사이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용안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92840" y="685800"/>
            <a:ext cx="121932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오시는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13680" y="685800"/>
            <a:ext cx="1218960" cy="171360"/>
          </a:xfrm>
          <a:prstGeom prst="flowChartAlternateProcess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상담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83360" y="0"/>
            <a:ext cx="386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헤드라인"/>
              </a:rPr>
              <a:t>GLOBAL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35240" y="1600200"/>
            <a:ext cx="1523880" cy="22860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특별회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5592600"/>
            <a:ext cx="5384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원가입비를 미납부시에는 등록 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분간만 사용가능함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35240" y="3745080"/>
            <a:ext cx="121932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성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56080" y="3745080"/>
            <a:ext cx="1828800" cy="17136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35240" y="39924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56080" y="3992400"/>
            <a:ext cx="7110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35240" y="42210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56080" y="4221000"/>
            <a:ext cx="18288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TEL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35240" y="44496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연락처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Song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56080" y="4449600"/>
            <a:ext cx="18288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FAX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68960" y="3992400"/>
            <a:ext cx="314928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86400" y="422100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H/P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444960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-mail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자동지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56080" y="4678200"/>
            <a:ext cx="182880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35240" y="46782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장명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직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86400" y="4678200"/>
            <a:ext cx="203184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56080" y="4906800"/>
            <a:ext cx="396216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35240" y="49068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관심분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05680" y="4878360"/>
            <a:ext cx="231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비지니스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레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스포츠   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컴퓨터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인터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9680" y="1905120"/>
            <a:ext cx="6705720" cy="1600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격요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연령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30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세이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직업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교수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업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기업임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료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법조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금융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고위공직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급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영관급이상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타전문직종사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입특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기회 제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소식지 발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원간 정보 교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정례모임 주선 및 지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입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10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만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연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미은행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22-51139-249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예금주 기업엠엔에이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56080" y="5135400"/>
            <a:ext cx="3962160" cy="4003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35240" y="5135400"/>
            <a:ext cx="1219320" cy="171720"/>
          </a:xfrm>
          <a:prstGeom prst="flowChart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첨부사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2:17:16Z</dcterms:created>
  <dc:creator>...</dc:creator>
  <dc:description/>
  <dc:language>en-US</dc:language>
  <cp:lastModifiedBy>박영준</cp:lastModifiedBy>
  <cp:lastPrinted>1999-12-13T06:29:11Z</cp:lastPrinted>
  <dcterms:modified xsi:type="dcterms:W3CDTF">2001-04-23T04:09:07Z</dcterms:modified>
  <cp:revision>81</cp:revision>
  <dc:subject/>
  <dc:title>슬라이드 제목 없음</dc:title>
</cp:coreProperties>
</file>