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AA1-16D9-41F5-BB15-7C4260FB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8B8-51D3-49DF-89E2-E298B3F6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8E8-9FE3-4AED-82D1-0EB9B282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09E6-C57A-43E3-8AD5-CF54155E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710-9435-4C4F-A54F-2AB84007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4CA-94A6-43EE-B2E8-63DA6512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45E-51B2-44C5-AEE4-EE0AFE53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046-AF3D-4E4D-B4E8-606D147E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C83A-8930-4F46-91F8-B3E6F011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15D8-A175-4298-8E37-C7E01DD5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7BE-E7DE-4E21-A6BA-DB5A9729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C63-277C-4C6D-9E61-87DC259D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5D4-8FDD-4EE0-A078-49BB8AEF09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* java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컴파일러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asspath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옵션과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옵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classpath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는 컴파일될 자바소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자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PI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를 제외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참조하는 클래스들의 패키지 경로가 포함되어야 한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d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옵션은 컴파일할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ass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파일이 생성될 위치를 지정한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ex)javac –classpath C:\eclipse\workspace\GUIProgramming\src –d C:\testJava C:\eclipse\workspace\GUIProgramming\src \exam07\ExecSingleton.jav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위와 같이 컴파일하면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:\testJava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밑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exam07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폴더 밑에 두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ass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파일이 생긴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ExecSingleton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클래스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ngleton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클래스를 참조하기 때문에 자바가상머신이 클래스패스에서 해당파일을 찾아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ExecSingleton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클래스가 참조하는 파일은 모두 컴파일을 한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패키지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exam07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이기때문에 패키지 폴더도 함께 생긴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java –classpath C:\testJava  exam07.ExecSinglet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컴파일 후에 위와 같이 실행하면 실행이 된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클래스 패스는 패키지의 상위 경로여야 하고 실행파일은 패키지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굴림"/>
              </a:rPr>
              <a:t>클래스파일 형식으로 실행한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12:46:20Z</dcterms:created>
  <dc:creator>kum</dc:creator>
  <dc:description/>
  <dc:language>en-US</dc:language>
  <cp:lastModifiedBy>kum</cp:lastModifiedBy>
  <dcterms:modified xsi:type="dcterms:W3CDTF">2007-08-05T13:07:08Z</dcterms:modified>
  <cp:revision>3</cp:revision>
  <dc:subject/>
  <dc:title>슬라이드 1</dc:title>
</cp:coreProperties>
</file>