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7D0-3549-4C8D-99F5-C0B6FF45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FF8-FAEE-4CB2-AF38-DCEDA0FB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7FE-9605-448C-BF06-88A64EB2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CB07-3A0C-4226-9C1A-5E753495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41F-9EBC-4DB7-8097-ACCEB9FF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B436-6EB7-4440-8C37-FF2F8637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45D-993E-4433-850B-96BCDB15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6974-FB7B-4C57-A613-615FDD93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93B9-2385-4557-8B0D-CFC3D5D1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868D-6870-4FFB-9278-5428AB4A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D884-5EF7-4FD6-8F22-93DCC4CD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30B-B6EA-4A1F-9E51-2ECE5714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14A4-0A4F-448D-9C5F-727B8DC8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300B-71F8-4E7C-BB2E-1E0F9A8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E150-89C7-4B4D-9FCC-89D2B1AC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C7FC-E399-476D-B90B-A25F383F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7398-3142-4341-B91E-B4530420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5E2-5BEA-477B-877D-E8FC9F5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679-DF2E-45D4-91B6-C360E3F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50F-C330-4064-8C81-0121A5C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096-A4FC-4D24-BC52-21E65374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008-6E95-4E20-93B9-2CCB46D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7E5-918B-4F55-AF05-80169DD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F17-0D7D-446F-9864-38C9784B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0C3-9CA5-4670-A756-3CD1D00DDE9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186D-8757-4C31-808C-B6C8F89FC303}" type="slidenum">
              <a:rPr b="0" lang="en-US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* MERGE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 -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한번에 조건에 따라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INSERT,UPDATE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가 가능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 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-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해당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ROW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가 있으면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UPDATE,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없으면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INSERT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문장이 실행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898989"/>
                </a:solidFill>
                <a:latin typeface="맑은 고딕"/>
              </a:rPr>
              <a:t>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- sytax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MERGE INTO target_table_name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      USING (table|view|subquery) ON (join condition)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WHEN MATCHED THEN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     UPDATE SET col1 = val1[, col2 = val2…]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WHEN NOT MATCHED THEN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</a:rPr>
              <a:t>     INSERT(...) VALUES(...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-- scott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유저로 접속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테스트를 위한 테이블 생성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QL&gt;CREATE TABLE emp_test  AS SELECT * FROM emp WHERE deptno = 10;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QL&gt;SELECT empno, ename, sal FROM emp_test; -- 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간단하게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emp_test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테이블에 데이터가 있으면 급여를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10%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인상하고 없으면  새로 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INSERT</a:t>
            </a:r>
            <a:r>
              <a:rPr b="1" lang="ko-KR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하는 예제</a:t>
            </a: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QL&gt;MERGE INTO emp_test et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   USING emp e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   ON(et.empno = e.empno)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WHEN MATCHED THEN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   UPDATE SET et.sal = e.sal*1.1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WHEN NOT MATCHED THEN 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    INSERT VALUES (e.empno,e.ename,e.job,e.mgr,e.hiredate,e.sal,e.comm,e.deptno)</a:t>
            </a:r>
            <a:br>
              <a:rPr sz="1800"/>
            </a:br>
            <a:r>
              <a:rPr b="1" lang="en-US" sz="18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SQL&gt;SELECT empno, ename, sal FROM emp_test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0" y="180360"/>
            <a:ext cx="86821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베이스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ANSAC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◈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트랜잭션은 데이터 처리의 한 단위 이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◈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오라클 서버에서 발생하는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들을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하나의 논리적인 작업단위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써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성공하거나 실패하는 일련의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SQL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문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트랜잭션이라 할수 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◈ ORACLE SERVER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ANSACTION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근거로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데이터의 일관성을 보증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◈ TRANSACTION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데이터를 일관되게 변경하는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M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장으로 구성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COMMIT, ROLLBACK, SAVEPOINT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TRANSACTION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시작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행 가능한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장이 제일 처음 실행될 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TRANSACTION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종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C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장의 실행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동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계 장애 또는 시스템 충돌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ash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adloc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용자가 정상 종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자동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다음의 경우 발생 합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DL,DCL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장이 완료 될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시적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*Plu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정상 종료 했을 경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④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동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다음의 경우 발생 합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*Plu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비정상 종료 했을 경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종료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system failu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30240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SAVEPOINT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SAVEPOIN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사용자가 트랜잭션의 작업을 여러개의 세그먼트로 분할할 수 있도록 하는 특별한 작업이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- SAVEPOIN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부분적인 롤백을 가능하게 하기 위해 트랜잭션에 대한 중간점을 정의 한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INSERT INTO emp(empno, ename, hiredate) VALUES(10000, 'test2', sysdate 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SAVEPOINT A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 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저장점이 생성되었습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기서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POIN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생성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INSERT INTO emp(empno, ename, hiredate) VALUES(10001, 'test3', sysdate 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INSERT INTO emp(empno, ename, hiredate) VALUES(10002, 'test4', sysdate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DELETE FROM emp WHERE empno IN(10000, 10001, 10002)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SELECT empno, ename FROM emp WHERE empno IN(10000, 10001, 10002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 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택된 행이 없습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ROLLBACK TO A;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   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롤백이 완료되었습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(SAVEPOIN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만 롤백이 시행됩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SELECT empno , ename FROM emp WHERE empno IN(10000, 10001, 10002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0" y="33264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 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사항 저장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사항 취소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장점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데이터의 일관성을 제공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를 영구적으로 변경하기 전에 데이터 변경을 확인하게 한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관련된 작업을 논리적으로 그룹화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할 수 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COMMIT, SAVEPOINT,ROLLBAC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장으로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TRANSACTION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의 논리를 제어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할 수 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ROLLBACK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전의 데이터 상태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데이터 이전의 상태로 북구가 가능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현재 사용자는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SELECT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문장으로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DML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작업의 결과를 확인할 수 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다른 사용자는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SELECT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문장으로 현재 사용자 사용한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DML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문장의 결과를 확인할 수 없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된 행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OCK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설정되어서 다른 사용자가 변경할 수 없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COMMI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후의 데이터 상태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데이터베이스에 데이터를 영구적으로 변경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의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이전 상태는 완전히 상실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모든 사용자가 결과를 볼 수 있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경된 행의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OCK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해제되고 다른 사용자가 변경할 수 있습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모든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AVEPOIN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는 제거 됩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6754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67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="/>
                        </a:rPr>
                        <a:t>☞ </a:t>
                      </a:r>
                      <a:r>
                        <a:rPr b="1" lang="ko-KR" sz="2400" spc="-1" strike="noStrike">
                          <a:solidFill>
                            <a:srgbClr val="800080"/>
                          </a:solidFill>
                          <a:latin typeface="="/>
                        </a:rPr>
                        <a:t>데이터베이스 링크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="/>
                        </a:rPr>
                        <a:t>(Database Link)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데이터베이스 링크는 클라이언트 또는 현재의 데이터베이스에서 네트워크상의 다른 데이터베이스에 접속하기 위한 접속 설정을 정의하는 오라클 객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.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◈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우선 고려되어야 사항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ORACLE INSTANCE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가 두개이상이고 각각의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HOST NAME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과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ORACLE_SID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는 </a:t>
                      </a:r>
                      <a:br>
                        <a:rPr sz="2400"/>
                      </a:b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다르고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NLS_CHARACTER_SET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은 동일하게 되어 있어야 한다</a:t>
                      </a:r>
                      <a:br>
                        <a:rPr sz="2400"/>
                      </a:b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-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만약 같은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MECHINE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에서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INSTANCE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의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ORACLE_SID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가 같다면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TNS ERROR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가 발생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-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또한 미래를 위해 다른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MECHINE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이라 할지라도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ORACLE_SID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는 규칙에 의해 다르게 가져가는 것이 좋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-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그리고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NLS_CHARACTER_SET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이 동일하게 되어　있지 않으면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DATA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입출력시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?????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로 나타납니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-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데이터베이스 링크로 연결되는 서버에 리스너가 꼭 띄어져 있어야 됩니다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Rectangle 15"/>
          <p:cNvSpPr/>
          <p:nvPr/>
        </p:nvSpPr>
        <p:spPr>
          <a:xfrm>
            <a:off x="1895400" y="30405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Syntax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REATE [</a:t>
            </a:r>
            <a:r>
              <a:rPr b="1" lang="en-US" sz="2400" spc="-1" strike="noStrike">
                <a:solidFill>
                  <a:srgbClr val="0066ff"/>
                </a:solidFill>
                <a:latin typeface="맑은 고딕"/>
                <a:ea typeface="맑은 고딕"/>
              </a:rPr>
              <a:t>PUBLIC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DATABASE LINK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link_na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NECT TO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username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IDENTIFIED BY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USING </a:t>
            </a:r>
            <a:r>
              <a:rPr b="1" lang="en-US" sz="2400" spc="-1" strike="noStrike">
                <a:solidFill>
                  <a:srgbClr val="0066ff"/>
                </a:solidFill>
                <a:latin typeface="맑은 고딕"/>
                <a:ea typeface="맑은 고딕"/>
              </a:rPr>
              <a:t>SERVICE_NA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PUBLIC :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오라클 시노님과 마찬가지로 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UBLIC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옵션을 사용하면 공용 데이터베이스 링크를 생성 할 수 있다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사용자도 함께 사용할 수 있다는 얘기다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UBLIC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옵션을 사용하지 않으면 링크를 생성한 자신만 사용 할 수 있게된다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link_name :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베이스 링크의 이름을 지정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service_name :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네트워크 접속에 사용할 오라클 데이터베이스 네트워크 서비스명을 지정 합니다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username, password :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오라클 사용자명과 비밀번호를 지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847600" y="2666520"/>
            <a:ext cx="31298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Syntax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                              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="/>
                        </a:rPr>
                        <a:t>☞ </a:t>
                      </a:r>
                      <a:r>
                        <a:rPr b="1" lang="ko-KR" sz="2400" spc="-1" strike="noStrike">
                          <a:solidFill>
                            <a:srgbClr val="800080"/>
                          </a:solidFill>
                          <a:latin typeface="="/>
                        </a:rPr>
                        <a:t>데이터베이스 링크의 사용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--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데이터베이스 링크 생성 예제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SQL&gt;CREATE DATABASE LINK test_server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CONNECT TO scott IDENTIFIED BY tiger USING 'testdb';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이 데이터베이스 링크 생성 문장에서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USING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다음에 오는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testdb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는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tnsnames.ora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파일에 정의되어 있어야  한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.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====== tnsnames.ora =====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testdb =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(DESCRIPTION =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(ADDRESS_LIST =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(ADDRESS = (PROTOCOL = TCP)(HOST = </a:t>
                      </a: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해당아이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)(PORT = 1521)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)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(CONNECT_DATA =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(SERVICE_NAME = ora9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=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베이스 링크의 삭제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DROP DATABASE LINK test_server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=======================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데이터베이스 링크를 통한 데이터의 조회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SELECT ename FROM emp@test_server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노님을 생성해서 사용하면 더욱더 편리하게 사용 할 수 있다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 CREATE SYNONYM emplink FOR emp@test_server;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　　 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맑은 고딕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 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노님을 통한 조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QL&gt;SELECT ename FROM emplink;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0:03:05Z</dcterms:created>
  <dc:creator>itea</dc:creator>
  <dc:description/>
  <dc:language>en-US</dc:language>
  <cp:lastModifiedBy>itea</cp:lastModifiedBy>
  <dcterms:modified xsi:type="dcterms:W3CDTF">2007-08-22T01:50:43Z</dcterms:modified>
  <cp:revision>4</cp:revision>
  <dc:subject/>
  <dc:title>슬라이드 1</dc:title>
</cp:coreProperties>
</file>