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2CAB3-1068-4F50-8D7F-F417F69FC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9B7A2-ABD3-4DB0-BFC8-CD20C7A29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E453E-5C23-4824-8ABA-36DC78A4D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819EF-331F-43A6-A84B-42E86DDA1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613AE-9CFB-4264-B253-6FD7D0A84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3DFC9-6558-490C-8EFD-C42F53383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F424B-58E9-4628-A943-7C3376519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0B318-E217-4041-AA0F-536E43BF3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B3A53-6F94-4E51-83DA-A225B788F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95C92-40DD-4348-94D4-1B8FBF9A9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2BF39-11EE-4696-B2D3-52EF29287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4CB6C-6992-4479-B45A-1BAF85E86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BF616-0257-422B-B052-AC1060F0B1BC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1. interface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와 상수를 이용해서 실행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반드시 총 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개의 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java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파일이 있어야 한다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- Main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화면 자바파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관련된 요청을 받아서 인터페이스 이름을 리턴하는 자바파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- interface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자바파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3. Main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화면에서 인터페이스 리턴하는 화면으로 값을 전달시 반드시 상수를 이용해서 값전달 해야하며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요청받아서 리턴시에 요청받은 값을 조건문에 비교할경우에도 상수값으로 비교해서 관련된 인터페이스 이름을 리턴해야 한다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4. Main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화면에서 실행된 화면의 닫기 버튼을 눌렀을 경우 시스템이 종료되어서는 안된다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반드시 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Main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화면 닫기버튼에서 시스템이 종료가 되어야 한다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7T13:11:40Z</dcterms:created>
  <dc:creator>kum</dc:creator>
  <dc:description/>
  <dc:language>en-US</dc:language>
  <cp:lastModifiedBy>kum</cp:lastModifiedBy>
  <dcterms:modified xsi:type="dcterms:W3CDTF">2007-08-07T13:18:24Z</dcterms:modified>
  <cp:revision>5</cp:revision>
  <dc:subject/>
  <dc:title>슬라이드 1</dc:title>
</cp:coreProperties>
</file>