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D7FD-E976-4C04-AED1-FB122D4D5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26F4-C040-46C9-868B-FC7B7C7B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D72B-991D-406B-AB02-10784B7AF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13C9-960B-4113-902F-021DACC93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D1A7-8984-4D8A-9BEC-DAD15264F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1368-0EC4-4031-9178-6E36B1DB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96CE7-B758-4E27-A03A-2F535A3C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948E-0A9F-4CDD-BA51-0EC7EA94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0EDD-9980-42F7-A854-316265B9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BADA-9ABE-4E97-B006-CEFD34AB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86A39-4CA1-4341-A457-AB2A404D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8B2E-1283-49E7-89EB-452222BD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CE42-A8A3-40C8-B98E-B3E86534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8223F-FE35-4BA3-AFDB-324D2C1A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7ADAA-C21B-4A4B-B494-4DF2A0F7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A2D8-4244-48B8-B118-DBA61D929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506F1-3A6D-43FE-BCC2-8AABB9DD6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78C0-8D66-4020-9638-C36FF314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3A10-8474-471D-B0C2-9D0AAFDB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431B-1681-4974-94F4-41E9539C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97B0-C76A-46D1-B517-16C8B1DD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8279-5402-4FA0-8F4F-2CB8EB6E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AA4F-C11B-4497-9951-806FF7AD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1F97-FE1F-427E-A317-447DB3A1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7D67-B496-4653-BE31-87411C2802A2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D9CF-1506-4580-9906-FC98AC9FC3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0" y="-27000"/>
          <a:ext cx="9144000" cy="44798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4479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800080"/>
                          </a:solidFill>
                          <a:latin typeface="굴림"/>
                          <a:ea typeface="굴림"/>
                        </a:rPr>
                        <a:t>테이블스페이스</a:t>
                      </a:r>
                      <a:r>
                        <a:rPr b="1" lang="en-US" sz="2400" spc="-1" strike="noStrike">
                          <a:solidFill>
                            <a:srgbClr val="800080"/>
                          </a:solidFill>
                          <a:latin typeface="굴림"/>
                          <a:ea typeface="굴림"/>
                        </a:rPr>
                        <a:t>(TABLESPACE)</a:t>
                      </a:r>
                      <a:r>
                        <a:rPr b="1" lang="ko-KR" sz="2400" spc="-1" strike="noStrike">
                          <a:solidFill>
                            <a:srgbClr val="800080"/>
                          </a:solidFill>
                          <a:latin typeface="굴림"/>
                          <a:ea typeface="굴림"/>
                        </a:rPr>
                        <a:t>란 </a:t>
                      </a:r>
                      <a:r>
                        <a:rPr b="1" lang="en-US" sz="2400" spc="-1" strike="noStrike">
                          <a:solidFill>
                            <a:srgbClr val="800080"/>
                          </a:solidFill>
                          <a:latin typeface="굴림"/>
                          <a:ea typeface="굴림"/>
                        </a:rPr>
                        <a:t>?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굴림"/>
                          <a:ea typeface="굴림"/>
                        </a:rPr>
                        <a:t> 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 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- 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테이블스페이스는 하나 또는 여러개의 데이터 파일로 구성되어 있는 </a:t>
                      </a:r>
                      <a:r>
                        <a:rPr b="1" lang="ko-KR" sz="2400" spc="-1" strike="noStrike">
                          <a:solidFill>
                            <a:srgbClr val="ff0000"/>
                          </a:solidFill>
                          <a:latin typeface="굴림"/>
                          <a:ea typeface="굴림"/>
                        </a:rPr>
                        <a:t>논리적인 데이터 저장 구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 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 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- 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테이블스페이스는 크게 </a:t>
                      </a:r>
                      <a:r>
                        <a:rPr b="1" lang="ko-KR" sz="2400" spc="-1" strike="noStrike">
                          <a:solidFill>
                            <a:srgbClr val="660066"/>
                          </a:solidFill>
                          <a:latin typeface="굴림"/>
                          <a:ea typeface="굴림"/>
                        </a:rPr>
                        <a:t>시스템</a:t>
                      </a: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굴림"/>
                          <a:ea typeface="굴림"/>
                        </a:rPr>
                        <a:t>(SYSTEM) </a:t>
                      </a:r>
                      <a:r>
                        <a:rPr b="1" lang="ko-KR" sz="2400" spc="-1" strike="noStrike">
                          <a:solidFill>
                            <a:srgbClr val="660066"/>
                          </a:solidFill>
                          <a:latin typeface="굴림"/>
                          <a:ea typeface="굴림"/>
                        </a:rPr>
                        <a:t>테이블 스페이스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와 </a:t>
                      </a:r>
                      <a:r>
                        <a:rPr b="1" lang="ko-KR" sz="2400" spc="-1" strike="noStrike">
                          <a:solidFill>
                            <a:srgbClr val="660066"/>
                          </a:solidFill>
                          <a:latin typeface="굴림"/>
                          <a:ea typeface="굴림"/>
                        </a:rPr>
                        <a:t>비시스템</a:t>
                      </a: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굴림"/>
                          <a:ea typeface="굴림"/>
                        </a:rPr>
                        <a:t>(NON-SYSTEM) </a:t>
                      </a: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Arial"/>
                          <a:ea typeface="굴림"/>
                        </a:rPr>
                        <a:t> </a:t>
                      </a:r>
                      <a:r>
                        <a:rPr b="1" lang="ko-KR" sz="2400" spc="-1" strike="noStrike">
                          <a:solidFill>
                            <a:srgbClr val="660066"/>
                          </a:solidFill>
                          <a:latin typeface="굴림"/>
                          <a:ea typeface="굴림"/>
                        </a:rPr>
                        <a:t>테이블</a:t>
                      </a:r>
                      <a:r>
                        <a:rPr b="1" lang="ko-KR" sz="2400" spc="-1" strike="noStrike">
                          <a:solidFill>
                            <a:srgbClr val="660066"/>
                          </a:solidFill>
                          <a:latin typeface="Arial"/>
                          <a:ea typeface="굴림"/>
                        </a:rPr>
                        <a:t> </a:t>
                      </a:r>
                      <a:r>
                        <a:rPr b="1" lang="ko-KR" sz="2400" spc="-1" strike="noStrike">
                          <a:solidFill>
                            <a:srgbClr val="660066"/>
                          </a:solidFill>
                          <a:latin typeface="굴림"/>
                          <a:ea typeface="굴림"/>
                        </a:rPr>
                        <a:t>스페이스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로 구분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 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- 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테이블스페이스는 사용자에게 공간을 할당할 수 있으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테이블스페이스 안에 저장되어 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  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있을 데이터의 가용성을 제어할 수 있다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   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="/>
                          <a:ea typeface="굴림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3" name="Rectangle 14"/>
          <p:cNvSpPr/>
          <p:nvPr/>
        </p:nvSpPr>
        <p:spPr>
          <a:xfrm>
            <a:off x="1895400" y="221688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Rectangle 24"/>
          <p:cNvSpPr/>
          <p:nvPr/>
        </p:nvSpPr>
        <p:spPr>
          <a:xfrm>
            <a:off x="1895400" y="434700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0" y="0"/>
          <a:ext cx="9144000" cy="70405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704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0080"/>
                          </a:solidFill>
                          <a:latin typeface="굴림"/>
                          <a:ea typeface="굴림"/>
                        </a:rPr>
                        <a:t>1. </a:t>
                      </a:r>
                      <a:r>
                        <a:rPr b="1" lang="ko-KR" sz="2400" spc="-1" strike="noStrike">
                          <a:solidFill>
                            <a:srgbClr val="800080"/>
                          </a:solidFill>
                          <a:latin typeface="굴림"/>
                          <a:ea typeface="굴림"/>
                        </a:rPr>
                        <a:t>시스템 테이블 스페이스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 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="/>
                          <a:ea typeface="굴림"/>
                        </a:rPr>
                        <a:t>- 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="/>
                          <a:ea typeface="굴림"/>
                        </a:rPr>
                        <a:t>오라클 데이터 베이스를 생성할 때 자동으로 생기며 </a:t>
                      </a:r>
                      <a:r>
                        <a:rPr b="0" lang="ko-KR" sz="2400" spc="-1" strike="noStrike">
                          <a:solidFill>
                            <a:srgbClr val="333300"/>
                          </a:solidFill>
                          <a:latin typeface="="/>
                          <a:ea typeface="굴림"/>
                        </a:rPr>
                        <a:t>오라클 데이터 베이스의 기동을 위해 꼭 필요한 테이블 스페이스 이다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="/>
                          <a:ea typeface="굴림"/>
                        </a:rPr>
                        <a:t>.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="/>
                          <a:ea typeface="굴림"/>
                        </a:rPr>
                        <a:t>- </a:t>
                      </a:r>
                      <a:r>
                        <a:rPr b="0" lang="ko-KR" sz="2400" spc="-1" strike="noStrike">
                          <a:solidFill>
                            <a:srgbClr val="800080"/>
                          </a:solidFill>
                          <a:latin typeface="="/>
                          <a:ea typeface="굴림"/>
                        </a:rPr>
                        <a:t>모든 데이터 사전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="/>
                          <a:ea typeface="굴림"/>
                        </a:rPr>
                        <a:t>(Data Dictionary) </a:t>
                      </a:r>
                      <a:r>
                        <a:rPr b="0" lang="ko-KR" sz="2400" spc="-1" strike="noStrike">
                          <a:solidFill>
                            <a:srgbClr val="800080"/>
                          </a:solidFill>
                          <a:latin typeface="="/>
                          <a:ea typeface="굴림"/>
                        </a:rPr>
                        <a:t>정보와</a:t>
                      </a: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="/>
                          <a:ea typeface="굴림"/>
                        </a:rPr>
                        <a:t>, </a:t>
                      </a:r>
                      <a:r>
                        <a:rPr b="0" lang="ko-KR" sz="2400" spc="-1" strike="noStrike">
                          <a:solidFill>
                            <a:srgbClr val="800080"/>
                          </a:solidFill>
                          <a:latin typeface="="/>
                          <a:ea typeface="굴림"/>
                        </a:rPr>
                        <a:t>저장 프로시저</a:t>
                      </a: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="/>
                          <a:ea typeface="굴림"/>
                        </a:rPr>
                        <a:t>, </a:t>
                      </a:r>
                      <a:r>
                        <a:rPr b="0" lang="ko-KR" sz="2400" spc="-1" strike="noStrike">
                          <a:solidFill>
                            <a:srgbClr val="800080"/>
                          </a:solidFill>
                          <a:latin typeface="="/>
                          <a:ea typeface="굴림"/>
                        </a:rPr>
                        <a:t>패키지</a:t>
                      </a: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="/>
                          <a:ea typeface="굴림"/>
                        </a:rPr>
                        <a:t>, </a:t>
                      </a:r>
                      <a:r>
                        <a:rPr b="0" lang="ko-KR" sz="2400" spc="-1" strike="noStrike">
                          <a:solidFill>
                            <a:srgbClr val="800080"/>
                          </a:solidFill>
                          <a:latin typeface="="/>
                          <a:ea typeface="굴림"/>
                        </a:rPr>
                        <a:t>데이터베이스 트리거등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="/>
                          <a:ea typeface="굴림"/>
                        </a:rPr>
                        <a:t>을 저장 합니다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 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- 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유저데이타가 포함될 수 있지만 관리 효율성 면에서 포함 시키지 않는다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="/>
                          <a:ea typeface="굴림"/>
                        </a:rPr>
                        <a:t>2. 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="/>
                          <a:ea typeface="굴림"/>
                        </a:rPr>
                        <a:t>비 시스템 테이블 스페이스</a:t>
                      </a:r>
                      <a:br>
                        <a:rPr sz="2400"/>
                      </a:b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="/>
                          <a:ea typeface="굴림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="/>
                          <a:ea typeface="굴림"/>
                        </a:rPr>
                        <a:t> </a:t>
                      </a:r>
                      <a:r>
                        <a:rPr b="0" lang="ko-KR" sz="2400" spc="-1" strike="noStrike">
                          <a:solidFill>
                            <a:srgbClr val="800080"/>
                          </a:solidFill>
                          <a:latin typeface="="/>
                          <a:ea typeface="굴림"/>
                        </a:rPr>
                        <a:t>롤백세그먼트</a:t>
                      </a: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="/>
                          <a:ea typeface="굴림"/>
                        </a:rPr>
                        <a:t>, </a:t>
                      </a:r>
                      <a:r>
                        <a:rPr b="0" lang="ko-KR" sz="2400" spc="-1" strike="noStrike">
                          <a:solidFill>
                            <a:srgbClr val="800080"/>
                          </a:solidFill>
                          <a:latin typeface="="/>
                          <a:ea typeface="굴림"/>
                        </a:rPr>
                        <a:t>임시세그먼트</a:t>
                      </a: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="/>
                          <a:ea typeface="굴림"/>
                        </a:rPr>
                        <a:t>, </a:t>
                      </a:r>
                      <a:r>
                        <a:rPr b="0" lang="ko-KR" sz="2400" spc="-1" strike="noStrike">
                          <a:solidFill>
                            <a:srgbClr val="800080"/>
                          </a:solidFill>
                          <a:latin typeface="="/>
                          <a:ea typeface="굴림"/>
                        </a:rPr>
                        <a:t>응용프로그렘 데이타</a:t>
                      </a: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="/>
                          <a:ea typeface="굴림"/>
                        </a:rPr>
                        <a:t>, 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="/>
                          <a:ea typeface="굴림"/>
                        </a:rPr>
                        <a:t>그리고 </a:t>
                      </a:r>
                      <a:r>
                        <a:rPr b="0" lang="ko-KR" sz="2400" spc="-1" strike="noStrike">
                          <a:solidFill>
                            <a:srgbClr val="800080"/>
                          </a:solidFill>
                          <a:latin typeface="="/>
                          <a:ea typeface="굴림"/>
                        </a:rPr>
                        <a:t>응용프로그렘 인덱스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="/>
                          <a:ea typeface="굴림"/>
                        </a:rPr>
                        <a:t>를 저장 할 수 있다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="/>
                          <a:ea typeface="굴림"/>
                        </a:rPr>
                        <a:t>.</a:t>
                      </a:r>
                      <a:br>
                        <a:rPr sz="2400"/>
                      </a:b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="/>
                          <a:ea typeface="굴림"/>
                        </a:rPr>
                        <a:t>- 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="/>
                          <a:ea typeface="굴림"/>
                        </a:rPr>
                        <a:t>공간관리를 쉽게 하기 위해서 생성 한다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="/>
                          <a:ea typeface="굴림"/>
                        </a:rPr>
                        <a:t>. </a:t>
                      </a:r>
                      <a:br>
                        <a:rPr sz="2400"/>
                      </a:b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="/>
                          <a:ea typeface="굴림"/>
                        </a:rPr>
                        <a:t>- 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="/>
                          <a:ea typeface="굴림"/>
                        </a:rPr>
                        <a:t>유저에게 할당되는 공간 이다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="/>
                          <a:ea typeface="굴림"/>
                        </a:rPr>
                        <a:t>.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1"/>
          <p:cNvSpPr/>
          <p:nvPr/>
        </p:nvSpPr>
        <p:spPr>
          <a:xfrm>
            <a:off x="0" y="275400"/>
            <a:ext cx="9144000" cy="64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맑은 고딕"/>
              </a:rPr>
              <a:t>▣ </a:t>
            </a:r>
            <a:r>
              <a:rPr b="1" lang="ko-KR" sz="1800" spc="-1" strike="noStrike">
                <a:solidFill>
                  <a:srgbClr val="800080"/>
                </a:solidFill>
                <a:latin typeface="맑은 고딕"/>
              </a:rPr>
              <a:t>테이블스페이스의 생성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     </a:t>
            </a:r>
            <a:br>
              <a:rPr sz="1800"/>
            </a:br>
            <a:r>
              <a:rPr b="1" lang="ko-KR" sz="1800" spc="-1" strike="noStrike">
                <a:solidFill>
                  <a:srgbClr val="333300"/>
                </a:solidFill>
                <a:latin typeface="맑은 고딕"/>
              </a:rPr>
              <a:t>  </a:t>
            </a:r>
            <a:r>
              <a:rPr b="1" lang="ko-KR" sz="11200" spc="-1" strike="noStrike">
                <a:solidFill>
                  <a:srgbClr val="333300"/>
                </a:solidFill>
                <a:latin typeface="Arial"/>
              </a:rPr>
              <a:t> </a:t>
            </a:r>
            <a:r>
              <a:rPr b="1" lang="ko-KR" sz="1800" spc="-1" strike="noStrike">
                <a:solidFill>
                  <a:srgbClr val="333300"/>
                </a:solidFill>
                <a:latin typeface="Arial"/>
              </a:rPr>
              <a:t>                                                  </a:t>
            </a:r>
            <a:br>
              <a:rPr sz="1800"/>
            </a:br>
            <a:br>
              <a:rPr sz="1800"/>
            </a:br>
            <a:r>
              <a:rPr b="0" lang="ko-KR" sz="1800" spc="-1" strike="noStrike">
                <a:solidFill>
                  <a:srgbClr val="333300"/>
                </a:solidFill>
                <a:latin typeface="Arial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1" lang="ko-KR" sz="1800" spc="-1" strike="noStrike">
                <a:solidFill>
                  <a:srgbClr val="800080"/>
                </a:solidFill>
                <a:latin typeface="맑은 고딕"/>
              </a:rPr>
              <a:t>옵션절을 생략할 경우 밑줄친 옵션이 디폴트 값</a:t>
            </a:r>
            <a:r>
              <a:rPr b="1" lang="en-US" sz="1800" spc="-1" strike="noStrike">
                <a:solidFill>
                  <a:srgbClr val="800080"/>
                </a:solidFill>
                <a:latin typeface="맑은 고딕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   </a:t>
            </a:r>
            <a:r>
              <a:rPr b="1" lang="en-US" sz="1800" spc="-1" strike="noStrike">
                <a:solidFill>
                  <a:srgbClr val="333300"/>
                </a:solidFill>
                <a:latin typeface="맑은 고딕"/>
              </a:rPr>
              <a:t>- tablespace_name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: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생성할 </a:t>
            </a:r>
            <a:r>
              <a:rPr b="1" lang="ko-KR" sz="1800" spc="-1" strike="noStrike">
                <a:solidFill>
                  <a:srgbClr val="008000"/>
                </a:solidFill>
                <a:latin typeface="맑은 고딕"/>
              </a:rPr>
              <a:t>테이블 스페이스 명</a:t>
            </a:r>
            <a:br>
              <a:rPr sz="1800"/>
            </a:b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1" lang="en-US" sz="1800" spc="-1" strike="noStrike">
                <a:solidFill>
                  <a:srgbClr val="333300"/>
                </a:solidFill>
                <a:latin typeface="맑은 고딕"/>
              </a:rPr>
              <a:t>DATAFILE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: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새로 생성하는 테이블스페이스가 사용할 </a:t>
            </a:r>
            <a:r>
              <a:rPr b="1" lang="ko-KR" sz="1800" spc="-1" strike="noStrike">
                <a:solidFill>
                  <a:srgbClr val="008000"/>
                </a:solidFill>
                <a:latin typeface="맑은 고딕"/>
              </a:rPr>
              <a:t>데이터 파일</a:t>
            </a:r>
            <a:br>
              <a:rPr sz="1800"/>
            </a:b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1" lang="en-US" sz="1800" spc="-1" strike="noStrike">
                <a:solidFill>
                  <a:srgbClr val="333300"/>
                </a:solidFill>
                <a:latin typeface="맑은 고딕"/>
              </a:rPr>
              <a:t>filespec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: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디렉토리 </a:t>
            </a:r>
            <a:r>
              <a:rPr b="1" lang="ko-KR" sz="1800" spc="-1" strike="noStrike">
                <a:solidFill>
                  <a:srgbClr val="008000"/>
                </a:solidFill>
                <a:latin typeface="맑은 고딕"/>
              </a:rPr>
              <a:t>경로명을 포함한 파일명</a:t>
            </a:r>
            <a:br>
              <a:rPr sz="1800"/>
            </a:b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1" lang="en-US" sz="1800" spc="-1" strike="noStrike">
                <a:solidFill>
                  <a:srgbClr val="333300"/>
                </a:solidFill>
                <a:latin typeface="맑은 고딕"/>
              </a:rPr>
              <a:t>size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 :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새로 생성되는 </a:t>
            </a:r>
            <a:r>
              <a:rPr b="1" lang="ko-KR" sz="1800" spc="-1" strike="noStrike">
                <a:solidFill>
                  <a:srgbClr val="008000"/>
                </a:solidFill>
                <a:latin typeface="맑은 고딕"/>
              </a:rPr>
              <a:t>데이터 파일의 크기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</a:rPr>
              <a:t>ONLINE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</a:rPr>
              <a:t>/OFFLIN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</a:rPr>
              <a:t> ONLINE : 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</a:rPr>
              <a:t>새로 생성되는 테이블 스페이스를 활성화 시키며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</a:rPr>
              <a:t>생성 후 바로 사용할 수 있게 함</a:t>
            </a:r>
            <a:br>
              <a:rPr sz="1800"/>
            </a:b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</a:rPr>
              <a:t>OFFLINE : 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</a:rPr>
              <a:t>테이블 스페이스를 비활성화 시키며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</a:rPr>
              <a:t>생성 후 바로 사용할 수 없음</a:t>
            </a:r>
            <a:br>
              <a:rPr sz="1800"/>
            </a:br>
            <a:br>
              <a:rPr sz="1800"/>
            </a:b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</a:rPr>
              <a:t>PERMANT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</a:rPr>
              <a:t>/TEMPORARY : TEMPORARY 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</a:rPr>
              <a:t>옵션을 사용하면 생성하는 테이블스페이스는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</a:rPr>
              <a:t>임시 테이블스페이스가 된다 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7" name="Picture 13" descr="createtablespace"/>
          <p:cNvPicPr/>
          <p:nvPr/>
        </p:nvPicPr>
        <p:blipFill>
          <a:blip r:embed="rId1"/>
          <a:stretch/>
        </p:blipFill>
        <p:spPr>
          <a:xfrm>
            <a:off x="0" y="620640"/>
            <a:ext cx="889308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0" y="-214920"/>
            <a:ext cx="9144000" cy="72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</a:rPr>
              <a:t>테이블 스페이스 생성 예제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-- sysdba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</a:rPr>
              <a:t>권한으로 접속을 합니다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SQL&gt; conn sys/ORA9I as sysdb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--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</a:rPr>
              <a:t>테이블스페이스 생성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SQL&gt;CREATE TABLESPACE storm --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</a:rPr>
              <a:t>생성할 데이터 베이스 명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         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DATAFILE 'C:\ORACLE\ORADATA\app_data.dbf' SIZE 100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     --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</a:rPr>
              <a:t>테이블 스페이스가 저장될 물리적 파일 경로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, SIZ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</a:rPr>
              <a:t>최초 생성시의 크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         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DEFAULT STORAG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            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(INITI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 10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            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 NE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 10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            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 MINEXTENTS 2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            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 MAXEXTENTS 5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            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 PCTINCREASE 50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/* INITIAL :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</a:rPr>
              <a:t>테이블 스페이스의 맨 첫번째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Extents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</a:rPr>
              <a:t>의 크기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</a:rPr>
              <a:t>    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</a:rPr>
              <a:t>*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NEXT :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</a:rPr>
              <a:t>다음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Extents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</a:rPr>
              <a:t>의 크기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</a:rPr>
              <a:t>    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</a:rPr>
              <a:t>*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MINEXTENTS :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</a:rPr>
              <a:t>생성할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Extents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</a:rPr>
              <a:t>의 최소 값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</a:rPr>
              <a:t>    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</a:rPr>
              <a:t>*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MAXEXTENTS :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</a:rPr>
              <a:t>생성할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Extents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</a:rPr>
              <a:t>의 최대 값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</a:rPr>
              <a:t>    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</a:rPr>
              <a:t>*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PCTINCREASE : Extents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</a:rPr>
              <a:t>의 증가율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, Default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</a:rPr>
              <a:t>값은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50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맑은 고딕"/>
              </a:rPr>
              <a:t>        */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맑은 고딕"/>
              </a:rPr>
              <a:t>테이블 스페이스의 데이터 파일과 테이블 스페이스의 크기 확인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</a:rPr>
              <a:t>SQL&g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</a:rPr>
              <a:t>SELECT file_name, tablespace_name, bytes, status FRO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</a:rPr>
              <a:t>DBA_DATA_FILES;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1T01:47:31Z</dcterms:created>
  <dc:creator>itea</dc:creator>
  <dc:description/>
  <dc:language>en-US</dc:language>
  <cp:lastModifiedBy>itea</cp:lastModifiedBy>
  <dcterms:modified xsi:type="dcterms:W3CDTF">2007-08-21T01:48:10Z</dcterms:modified>
  <cp:revision>1</cp:revision>
  <dc:subject/>
  <dc:title>슬라이드 1</dc:title>
</cp:coreProperties>
</file>