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9D34-9F48-46A4-8833-C27D6DFEC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7767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E6A23-EB6E-4030-B757-DE7CC4450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0760" y="9907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7767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0760" y="37767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B0217-0C0F-466A-B739-39700DFD9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9920" y="9907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1240" y="9907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7767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9920" y="37767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1240" y="37767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DC975-4667-4D42-9116-9C4096CE9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9907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9907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7767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CAB0-4E62-4214-91C3-E088618E7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9907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7767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9907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7767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7767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9907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7767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7767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9907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99072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7767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7767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776760"/>
            <a:ext cx="277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127DD-AFE3-4203-A5A4-F19FB18E7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0760" y="9907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D7DA5-2BF0-4AD4-B9BF-F81C0613A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F7D9-34E5-4975-B896-3B8D18A43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B8588-C395-44AF-92EC-8861C4393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9907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7767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FAB9-B308-4124-8D22-1206E0086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01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9907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0760" y="377676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87BE2-3436-403C-B9CC-6528A8AEA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64520"/>
            <a:ext cx="8610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0760" y="990720"/>
            <a:ext cx="4201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776760"/>
            <a:ext cx="8610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9B2C5-F7F2-44C1-BE03-CA0D95E17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480" y="114480"/>
            <a:ext cx="8915400" cy="792000"/>
          </a:xfrm>
          <a:prstGeom prst="roundRect">
            <a:avLst>
              <a:gd name="adj" fmla="val 16667"/>
            </a:avLst>
          </a:prstGeom>
          <a:solidFill>
            <a:srgbClr val="e1ecff"/>
          </a:solidFill>
          <a:ln w="28440">
            <a:solidFill>
              <a:srgbClr val="393939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000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F989-4BDD-4372-815E-0A2BDD118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261120"/>
            <a:ext cx="685800" cy="596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5640" y="6502320"/>
            <a:ext cx="1440000" cy="31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076960" cy="4876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437920"/>
            <a:ext cx="748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393939"/>
                </a:solidFill>
                <a:latin typeface="Arial Black"/>
              </a:rPr>
              <a:t>Click to edit the title text format</a:t>
            </a:r>
            <a:endParaRPr b="0" lang="en-US" sz="5700" spc="-1" strike="noStrike">
              <a:solidFill>
                <a:srgbClr val="393939"/>
              </a:solidFill>
              <a:latin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1238400" cy="107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95280" y="6357960"/>
            <a:ext cx="1440000" cy="311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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486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100" spc="-1" strike="noStrike">
                <a:solidFill>
                  <a:srgbClr val="393939"/>
                </a:solidFill>
                <a:latin typeface="Arial Black"/>
              </a:rPr>
              <a:t>ORACLE</a:t>
            </a:r>
            <a:endParaRPr b="0" lang="en-US" sz="5100" spc="-1" strike="noStrike">
              <a:solidFill>
                <a:srgbClr val="393939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09320" y="4723920"/>
            <a:ext cx="5715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66"/>
                </a:solidFill>
                <a:latin typeface="Times New Roman"/>
              </a:rPr>
              <a:t>버전 </a:t>
            </a:r>
            <a:r>
              <a:rPr b="1" lang="ko-KR" sz="2600" spc="-1" strike="noStrike">
                <a:solidFill>
                  <a:srgbClr val="000066"/>
                </a:solidFill>
                <a:latin typeface="Times New Roman"/>
              </a:rPr>
              <a:t>: 9i</a:t>
            </a:r>
            <a:endParaRPr b="1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1268280"/>
            <a:ext cx="4321080" cy="57492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2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모든 테이블 검색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0000"/>
              </a:lnSpc>
              <a:spcBef>
                <a:spcPts val="64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SELECT * FROM TAB;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ANGPUM’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란 테이블이 검색됨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5832360" cy="3262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403280" y="3645000"/>
            <a:ext cx="1008000" cy="5745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2492280"/>
            <a:ext cx="6551640" cy="35892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628640"/>
            <a:ext cx="5111640" cy="36036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3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테이블 삭제하기와 이름변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테이블 삭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DROP TABLE SANGPUM(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삭제 할 테이블 명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테이블 이름변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RENAME  SANGPUM(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변경 전 이름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변경 후 이름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472360" cy="3036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1619280" y="4581360"/>
            <a:ext cx="865080" cy="43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5084640"/>
            <a:ext cx="3888000" cy="398880"/>
          </a:xfrm>
          <a:prstGeom prst="rect">
            <a:avLst/>
          </a:prstGeom>
          <a:solidFill>
            <a:srgbClr val="d4e1b5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테이블이름이 상품으로 변경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1341360"/>
            <a:ext cx="6265800" cy="50328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4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테이블 내 컬럼보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SELECT * FROM 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상품 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테이블 이름 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172200" cy="3409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1332000" y="3716280"/>
            <a:ext cx="381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4508640"/>
            <a:ext cx="4464000" cy="398880"/>
          </a:xfrm>
          <a:prstGeom prst="rect">
            <a:avLst/>
          </a:prstGeom>
          <a:solidFill>
            <a:srgbClr val="d4e1b5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테이블 생성시 입력한 컬럼들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2349360"/>
            <a:ext cx="4753080" cy="79236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341360"/>
            <a:ext cx="5977080" cy="86364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5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테이블 내 컬럼추가 및 기본값 설정하기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LTER TABLE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테이블 이름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DD (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컬럼이름 테이터 형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기본값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ADD (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비고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HAR(10)DEFAULT '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정품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5616720" cy="3154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3851280" y="4797360"/>
            <a:ext cx="865080" cy="43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4421160"/>
            <a:ext cx="3673440" cy="1167480"/>
          </a:xfrm>
          <a:prstGeom prst="rect">
            <a:avLst/>
          </a:prstGeom>
          <a:solidFill>
            <a:srgbClr val="d4e1b5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비고라는 컬럼이 추가되었지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기본값은 데이터가 입력되지 않았기 때문에 보이지 않는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11280" y="3933720"/>
            <a:ext cx="6842160" cy="107964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916280"/>
            <a:ext cx="6842160" cy="129672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6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컬럼 데이터 크기 변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테이블 이름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MODIFY(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컬럼이름 변경할 데이터 형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크기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) 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MODIFY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비고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HAR(30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1052640"/>
            <a:ext cx="8569440" cy="86364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7 Oracle Enterpise Manager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에서 확인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0920" y="2014560"/>
            <a:ext cx="4176720" cy="3909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250920" y="4175280"/>
            <a:ext cx="647640" cy="2872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4175280"/>
            <a:ext cx="647640" cy="2872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716360" y="2046240"/>
            <a:ext cx="4103640" cy="3855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012000" y="4175280"/>
            <a:ext cx="647640" cy="2872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6046920"/>
            <a:ext cx="3025800" cy="398880"/>
          </a:xfrm>
          <a:prstGeom prst="rect">
            <a:avLst/>
          </a:prstGeom>
          <a:solidFill>
            <a:srgbClr val="d4e1b5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5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확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비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기본값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6046920"/>
            <a:ext cx="3166920" cy="398880"/>
          </a:xfrm>
          <a:prstGeom prst="rect">
            <a:avLst/>
          </a:prstGeom>
          <a:solidFill>
            <a:srgbClr val="d4e1b5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6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확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비고 크기 변경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062000"/>
            <a:ext cx="864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시작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ORACL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Enterprise Manager Consol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독립적 실행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유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암호입력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스키마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유저선택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테이블 선택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더블클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2560" y="2421000"/>
            <a:ext cx="6769080" cy="792000"/>
          </a:xfrm>
          <a:prstGeom prst="rect">
            <a:avLst/>
          </a:prstGeom>
          <a:solidFill>
            <a:srgbClr val="a9c3ed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195560"/>
            <a:ext cx="7345440" cy="79344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8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컬럼 삭제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테이블 이름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ROP COLUMN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컬럼이름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ROP 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컬럼이름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ROP COLUMN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비고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/ DROP 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비고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543640" cy="3108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0" y="4797360"/>
            <a:ext cx="792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5373720"/>
            <a:ext cx="2952720" cy="398880"/>
          </a:xfrm>
          <a:prstGeom prst="rect">
            <a:avLst/>
          </a:prstGeom>
          <a:solidFill>
            <a:srgbClr val="d4e1b5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비고라는 컬럼이 삭제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9640" y="1484280"/>
            <a:ext cx="8353440" cy="504036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.1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제약조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테이블 생성시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컬럼이름 데이터 형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크기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HECK (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컬럼이름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 (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입력 허용 값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HAR(10) NOT NUL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소코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HAR(1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색상코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HAR(1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이즈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HAR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HECK (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이즈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IN ( 'S', 'M', 'L', 'XL'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INTEG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재고수량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INTEGER DEFAULT '0', -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재고수량의 기본값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PRIMARY KEY 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69840" y="3860640"/>
            <a:ext cx="4465800" cy="648000"/>
          </a:xfrm>
          <a:prstGeom prst="rect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5300640"/>
            <a:ext cx="655164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6880320" y="2882880"/>
            <a:ext cx="1939680" cy="474840"/>
          </a:xfrm>
          <a:prstGeom prst="borderCallout2">
            <a:avLst>
              <a:gd name="adj1" fmla="val 18750"/>
              <a:gd name="adj2" fmla="val -8333"/>
              <a:gd name="adj3" fmla="val 24078"/>
              <a:gd name="adj4" fmla="val -38541"/>
              <a:gd name="adj5" fmla="val 206018"/>
              <a:gd name="adj6" fmla="val -74467"/>
            </a:avLst>
          </a:prstGeom>
          <a:solidFill>
            <a:srgbClr val="d4e1b5"/>
          </a:solidFill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제약조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6804000" y="5734080"/>
            <a:ext cx="1944720" cy="720720"/>
          </a:xfrm>
          <a:prstGeom prst="borderCallout2">
            <a:avLst>
              <a:gd name="adj1" fmla="val 18750"/>
              <a:gd name="adj2" fmla="val -8333"/>
              <a:gd name="adj3" fmla="val 15861"/>
              <a:gd name="adj4" fmla="val -55592"/>
              <a:gd name="adj5" fmla="val -47796"/>
              <a:gd name="adj6" fmla="val -119101"/>
            </a:avLst>
          </a:prstGeom>
          <a:solidFill>
            <a:srgbClr val="d4e1b5"/>
          </a:solidFill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재고수량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기본값 설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4360" y="2708280"/>
            <a:ext cx="8208720" cy="64764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1268280"/>
            <a:ext cx="7201080" cy="93672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.2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제약조건 위배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736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데이터 삽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INSERT INTO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테이블이름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컬럼이름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컬럼이름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2,  ……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VALUES (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데이터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데이터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2, …..)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컬럼의 데이터 형과 크기에 맞게 순서대로 데이터를 넣어야 함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제약조건 위배 예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INSERT INTO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소코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색상코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이즈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재고수량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values( 'P1', 'S1', 'C1', 'XXL', 67000, 15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63640" y="3429000"/>
            <a:ext cx="5545080" cy="3087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3059280" y="2852640"/>
            <a:ext cx="649080" cy="50508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4292640"/>
            <a:ext cx="25192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00000" y="1989000"/>
            <a:ext cx="7993080" cy="71928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데이터 삽입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1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736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테이블에 데이터 입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INSERT INTO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소코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색상코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사이즈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판매단가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재고수량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values( 'P1', 'S1', 'C1', 'XL', 67000, 15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360" y="3141720"/>
            <a:ext cx="6153120" cy="3343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1619280" y="5326200"/>
            <a:ext cx="4176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221440" y="5470560"/>
            <a:ext cx="2303280" cy="398880"/>
          </a:xfrm>
          <a:prstGeom prst="rect">
            <a:avLst/>
          </a:prstGeom>
          <a:solidFill>
            <a:srgbClr val="d4e1b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입력된 데이터 값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ko-K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3400" spc="-1" strike="noStrike">
                <a:solidFill>
                  <a:srgbClr val="000000"/>
                </a:solidFill>
                <a:latin typeface="Times New Roman"/>
              </a:rPr>
              <a:t>DDL(Data Definition language)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736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여러 가지 객체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즉 데이터베이스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인덱스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뷰 등을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생성하는 작업과 구조를 변경하는 작업을 위한 기능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REATE 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인덱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뷰 등의 개체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생성하기 위한 정의 문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LTER : CREAT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문에 의해 생성된 개체를 수정하는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것으로 새로운 항목의 추가나 삭제 등 구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변경의 경우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는 기존의 개체에 새로운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제약조건 등을 추가하거나 삭제하는 경우 등의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작업에 사용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ROP 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테이블 스페이스나 테이블을 제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71640" y="1628640"/>
            <a:ext cx="3887640" cy="79236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데이터 삽입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2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다음 행에 ‘상품코드’만 추가하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insert into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values( ‘P2’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181560" cy="3467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5003640" y="4653000"/>
            <a:ext cx="649440" cy="36036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4653000"/>
            <a:ext cx="649440" cy="36036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979640" y="5110200"/>
            <a:ext cx="5040360" cy="398880"/>
          </a:xfrm>
          <a:prstGeom prst="rect">
            <a:avLst/>
          </a:prstGeom>
          <a:solidFill>
            <a:srgbClr val="d4e1b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2’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가 추가되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재고수량의 기본값은 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0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3141720"/>
            <a:ext cx="8280360" cy="230328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데이터 삽입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3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데이터 삽입 후 데이터를 추가 하기 위한 쿼리 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사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삽입 후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로 같은 행 다시 삽입 불가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테이블이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컬럼이름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1 =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데이터 값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1 ,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컬럼이름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2 =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데이터 값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2, ……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데이터가 있는 컬럼이름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데이터 값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( WHERE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절은 데이터를 입력 할 행을 나타낸다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. 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50920" y="1125360"/>
            <a:ext cx="6553080" cy="165600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데이터 삽입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3 )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소코드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= 'S2'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색상코드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= 'C2'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사이즈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= 'M'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판매단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= 45000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재고수량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= '20'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= 'P2'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 테이블에 상품코드가 ‘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P2’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인 행에 나머지 컬럼에 데이터를 입력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639040" cy="2476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1547640" y="5516640"/>
            <a:ext cx="4104000" cy="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5796000" y="5157720"/>
            <a:ext cx="2160720" cy="398880"/>
          </a:xfrm>
          <a:prstGeom prst="rect">
            <a:avLst/>
          </a:prstGeom>
          <a:solidFill>
            <a:srgbClr val="d4e1b5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입력된 데이터 값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71640" y="3430440"/>
            <a:ext cx="6121440" cy="50328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1125360"/>
            <a:ext cx="8137800" cy="165600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.4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데이터 값 변경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테이블이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변경할 데이터의 컬러이름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변경되어 입력될 값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다른 컬럼이름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다른 컬럼이름의 값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;                           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변경될 데이터와 같은 행에 있는 값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코드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P2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인 행의 사이즈 컬럼의 값을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S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로 변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- UPDATE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사이즈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= 'S' WHERE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= 'P2'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332000" y="4076640"/>
            <a:ext cx="5638680" cy="2514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3348000" y="5805360"/>
            <a:ext cx="649440" cy="36036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443640" y="5013360"/>
            <a:ext cx="2303640" cy="720720"/>
          </a:xfrm>
          <a:prstGeom prst="borderCallout2">
            <a:avLst>
              <a:gd name="adj1" fmla="val 18750"/>
              <a:gd name="adj2" fmla="val -8333"/>
              <a:gd name="adj3" fmla="val 15861"/>
              <a:gd name="adj4" fmla="val -64300"/>
              <a:gd name="adj5" fmla="val 105949"/>
              <a:gd name="adj6" fmla="val -110129"/>
            </a:avLst>
          </a:prstGeom>
          <a:solidFill>
            <a:srgbClr val="d4e1b5"/>
          </a:solidFill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변경된 데이터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사이즈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.5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나머지 데이터 삽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537080" cy="3836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3600720" cy="27385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5292360" y="1557360"/>
            <a:ext cx="1655640" cy="1655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59ff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.6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테이블 추가 설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736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DENTITY 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레코드가 하나씩 추가 될 때마다 자동으로 값을 계산해서 입력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                 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값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X, DEFALUT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값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X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열에 값을 주지 않으면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씩 증가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RIMARY KEY : NULL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값이 올 수 없고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UNIQU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하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NOT NULL : NULL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값이 올 수 없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UNIQUE 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동일한 열에 동일한 값이 두 개 이상 올 수 없다는 제약 조건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HECK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절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해당 열이 가질 수 있는 값의 범위를 지정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EFAULT 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해당 열에 값이 입력되지 않으면 자동으로 주어진 값으로 해당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FOREIGN KEY 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외래 키를 지정하여 참조되는 테이블에 수정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삭제가 발생하면 관련 테이블의 동작을 제한하여            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참조 무결성을 지키도록 하는 제약조건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042920" y="3070080"/>
            <a:ext cx="5616720" cy="259092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ko-KR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ko-KR" sz="3400" spc="-1" strike="noStrike">
                <a:solidFill>
                  <a:srgbClr val="000000"/>
                </a:solidFill>
                <a:latin typeface="Times New Roman"/>
              </a:rPr>
              <a:t>DML (Data Manipulation Language)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데이터 정의어로 정의된 데이터베이스 스키마 내의 데이터를 조작하는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사용된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사용자는 데이터 조작어를 사용하여 데이터를 검색하고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삽입하고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삭제하고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수정한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SELECT : 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테이블에서 기존의 레코드를 검색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INSERT :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테이블에서 새로운 레코드를 삽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DELETE :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테이블에서 특정레코드를 삭제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UPDATE :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테이블에서 특정레코드의 필드값을 수정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2276640"/>
            <a:ext cx="8642160" cy="143964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문은 여섯 개의 절로 이루어지지만 이중에서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절과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절만 필수적이고 나머지는 선택사항이다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- SELECT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구문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 •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SELECT DISTINCT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2, .....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N FROM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2, ....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조건식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중첩질의가능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GROUP BY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2, .....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HAVING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조건식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ORDER BY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2...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N (ASC, DESC)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 ✔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절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질의 결과에 포함하려는 필드들을 열거한다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 ✔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절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질의 작업에 사용 될 테이블들을 열거한다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 ✔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절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특정 조건을 주고 조건에 만족하는 레코드만 검색하는 경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 ✔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GROUP BY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절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특정 필드를 기준으로 동일한 값끼리 그룹으로 묶어 요약된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결과를 검색 할 수 있게 하는 기능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 ✔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HAVING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절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: GROUP BY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의해 묶어진 그룹에서 조건을 주어 검색하고자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할 때 사용하는 기능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 ✔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ORDER BY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절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오름차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내림차순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. SELECT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문</a:t>
            </a:r>
            <a:r>
              <a:rPr b="1" lang="ko-KR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55640" y="1619280"/>
            <a:ext cx="5256360" cy="86364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 SELECT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ORDER BY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절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11888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재고수량이 낮은 순으로 오름차순 정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색상코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사이즈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재고수량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ORDER BY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재고수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547640" y="2770200"/>
            <a:ext cx="5904000" cy="3683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3419640" y="4425840"/>
            <a:ext cx="792000" cy="1944720"/>
          </a:xfrm>
          <a:prstGeom prst="rect">
            <a:avLst/>
          </a:prstGeom>
          <a:noFill/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5640" y="1527120"/>
            <a:ext cx="4896000" cy="86364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. SELECT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ORDER BY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절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1888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재고수량 내림차순 정렬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 DESC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재고수량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ORDER BY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재고수량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DE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476360" y="2535120"/>
            <a:ext cx="5905440" cy="3702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340000" y="3975120"/>
            <a:ext cx="719280" cy="1728720"/>
          </a:xfrm>
          <a:prstGeom prst="rect">
            <a:avLst/>
          </a:prstGeom>
          <a:noFill/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접속하기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D : SYSTEM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ASSWORD : MANAGER0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오라클 설치 시  입력한 암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ATABASE : ORA9 / DBLA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설치 중 입력한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나 로컬네트서비스 이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40000" y="3789360"/>
            <a:ext cx="3816360" cy="2533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4643280" y="5300640"/>
            <a:ext cx="4334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55640" y="1917720"/>
            <a:ext cx="4896000" cy="43164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4. SELECT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DISTINCT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사이즈 종류별로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동일한 값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하나만 보여주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LECT DISTINC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이즈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943520" cy="3400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26920" y="2203560"/>
            <a:ext cx="6409080" cy="72072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5. SELECT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조건검색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판매단가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50000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원보다 큰 것을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색상코드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사이즈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판매단가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로 검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색상코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이즈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gt; 5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258920" y="2997360"/>
            <a:ext cx="669600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55640" y="1844640"/>
            <a:ext cx="7704000" cy="43200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6. SELECT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조건검색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재고수량이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15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인 것 을 검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소코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재고수량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재고수량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= '15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985080" cy="3551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55640" y="1844640"/>
            <a:ext cx="7561440" cy="43200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7. SELECT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조건검색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사이즈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S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가 아닌 것을 ‘상품코드’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‘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사이즈’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‘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재고수량’으로 검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이즈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재고수량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이즈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&gt; 'S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7373880" cy="3753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00000" y="2060640"/>
            <a:ext cx="6264360" cy="79056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8. SELECT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조건검색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4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공급업체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테이블에서 담당자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2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이고 계약금액이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500000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만원 이하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업체코드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업체명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담당자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계약업종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계약금액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검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색상코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이즈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= 70000 AND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이즈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= 'M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87280" y="2997360"/>
            <a:ext cx="6553440" cy="3396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00000" y="2133720"/>
            <a:ext cx="6264360" cy="71892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9. SELECT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조건검색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5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판매단가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50000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원 에서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80000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원 사이에 속하지 않는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모든 상품 정보를 검색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LECT * FROM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HERE NOT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gt;= 50000 AND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&lt;= 80000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258920" y="2997360"/>
            <a:ext cx="6553080" cy="3387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26920" y="2133720"/>
            <a:ext cx="7201080" cy="43164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0. SELECT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조건검색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6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 테이블에서 사이즈 컬럼의 데이터에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L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이 들어가있는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‘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코드’와 ‘사이즈’를 검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이즈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이즈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LIKE '%L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6842160" cy="3560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55640" y="1844640"/>
            <a:ext cx="7777080" cy="43200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1. SELECT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조건검색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7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판매단가를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인상한 값을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판매단가인상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이란 이름으로 검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*1.1 AS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인상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264360" cy="36338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133720"/>
            <a:ext cx="7848720" cy="57600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2. SELECT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조건검색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8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모든 상품의 판매단가를 ‘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2.5%’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인상하되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10000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단위 까지 반올림하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, 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판매단가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,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판매단가인상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을 출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ROUND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*1.025, -4) AS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인상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6840360" cy="3397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4360" y="1917720"/>
            <a:ext cx="4895640" cy="64764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3. SELECT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조건검색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9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소코드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S2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에 해당하는 상품은 모두 몇 개 인지 검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LECT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소코드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= 'S2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472360" cy="3784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4005360"/>
            <a:ext cx="8137440" cy="50328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2781360"/>
            <a:ext cx="7634160" cy="50328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197000"/>
            <a:ext cx="8642160" cy="79200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.1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테이블 스페이스 생성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REATE TABLESPAC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테이블스페이스 명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ATAFILE ‘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저장경로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일명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DBF’ SIZ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용량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M; 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테이블 스페이스 생성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REATE TABLESPACE DB_H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DATAFILE 'c:\oracle\oradata\DB_HOME.DBF' SIZE 100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REATE USER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사용자이름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DENTIFIED BY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암호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;  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유저생성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REATE USER MANAGE IDENTIFIED BY MANAG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DEFAULT TABLESPACE DB_HO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GRANT CONNECT, RESOURCE, DBA TO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사용자이름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; 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권한 주기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GRANT DBA TO MANA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140360" y="4653000"/>
            <a:ext cx="4535280" cy="2006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55640" y="1844640"/>
            <a:ext cx="5184720" cy="64764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4. SELECT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조건검색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9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소코드 별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평균판매단가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소코드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 AVG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 FROM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GROUP BY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소코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5400720" cy="372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00000" y="2708280"/>
            <a:ext cx="5832720" cy="72072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5. SELECT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조건검색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0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행 집단을 선택하기 위해 사용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having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절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별 판매단가를 소코드 별로 그룹지어 합계를 계산하고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판매단가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50000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원 이상인 결과만을 검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소코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SUM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 FROM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상품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GROUP BY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소코드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HAVING SUM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판매단가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 &gt; 5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124000" y="3573360"/>
            <a:ext cx="4897440" cy="3038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042920" y="3357720"/>
            <a:ext cx="5327640" cy="295092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ko-KR" sz="3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트리거 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trigger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트리거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(Trigger)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오라클 트리거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(Trigger)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는 트리거링 사건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(Triggering Event)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에 의해 자동으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실행되는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PL/SQL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이라고 할 수 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트리거링 사건은 데이터베이스의 테이블에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DML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문이 실행될 때 발생하는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INSERT, UPDATE, DELETE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문의 사용에 트리거링 사건을 정의 할 수 있고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이들이 실행될 때 트리거가 자동으로 실행된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트리거 생성구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CREATE [OR REPLACE] TRIGGER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트리거이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BEFORE |  AFTER (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트리거 실행 시점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INSERT | UPDATE | DELETE  ON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테이블이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[ FOR EACH ROW ] (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행 트리거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DECL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변수 선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문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EN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문장 트리거와 행 트리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51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문장트리거와 행 트리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트리거는 문장 트리거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(Statement-Level Trigger)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와 행 트리거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(Row-Level Trigger)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구분하며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FOR EACH ROW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옵션절의 사용 여부로 구분된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FOR EACH ROW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옵션 절을 사용한 트리거는 행 트리거가 된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51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문장 트리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트리거링 사건에 의해 단 한번 실행되며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컬럼의 각 데이터 행을 제어할 수 없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따라서 문장 트리거는 컬럼의 데이터 값에 상관없이 그 컬럼에 변화가 일어나는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것을 감지하여 실행되는 트리거이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51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행 트리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6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컬럼의 각각의 데이터 행에 변화가 생길 때마다 실행되며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그 데이터 행의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실제 값을 제어할 수 있다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따라서 행 트리거는 데이터 행의 실제 값을 수정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변경 또는 저장할 때 사용이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가능하다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데이터 값 저장과 트리거 실행시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SER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문의 경우 입력할 데이터 값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new.column_nam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에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지정된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  INSERT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문에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old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값이 존재하지 않는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문의 경우 변경전의 컬럼 데이터 값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old.column_nam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으로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나타내며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수정할 새로운 값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new.column_name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에 지정할 수 있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ELET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문의 경우 삭제되는 컬럼 값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old.column_nam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에 저장된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ELET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문에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값이 존재하지 않는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트리거링 사건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INSERT, UPDATE, DELETE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DML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문이 실행될 때 자동 실행되며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BEFORE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연산자와 함께 사용된다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예를 들어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BEFORE INSERT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트리거는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문이 실행되기 전에 실행되며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AFTER INSERT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트리거 는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문이 실행된 후에 실행된다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50920" y="4005360"/>
            <a:ext cx="7850160" cy="237636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0920" y="981000"/>
            <a:ext cx="4465440" cy="295272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납품 트리거 실행을 위한 공급업체 테이블 생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공급업체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업체코드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char(6) not null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업체명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varchar(25)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대표전화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char(14) default '0', --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기본값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담당자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char(8) not null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계약업종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char(10)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담당자핸드폰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char(13)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우편번호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char(7)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주소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varchar(70)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primary key (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업체코드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unique (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업체명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INSERT INTO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급업체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업체코드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업체명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대표전화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담당자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담당자핸드폰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우편번호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주소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VALUES ('A01' , '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우진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' , '282-6614' , '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김중현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' , '010' , '741-584' , '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포항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'  )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INSERT INTO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급업체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업체코드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업체명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대표전화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담당자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담당자핸드폰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우편번호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주소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VALUES ('A02' , '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태원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' , '254-5647' , '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이시형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' , '011' , '478-415' , '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경주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'  )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INSERT INTO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급업체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업체코드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업체명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대표전화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담당자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담당자핸드폰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우편번호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주소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VALUES ('A03' , '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일화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' , '478-9844' , '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박현식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' , '019' , '487-515' , '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부산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'  )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INSERT INTO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공급업체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업체코드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업체명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대표전화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담당자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담당자핸드폰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우편번호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주소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VALUES ('A04' , '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해타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' , '477-8694' , '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한상훈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' , '016' , '756-445' , '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하양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'  )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105080" cy="21398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50920" y="1486080"/>
            <a:ext cx="4033800" cy="374328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.2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납품 트리거 실행을 위한 납품 테이블 생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납품번호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teger not null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업체코드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har(6)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har(10)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납품일자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ate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납품수량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teger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납품단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teger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납품금액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teger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rimary key 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납품번호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392360" cy="2576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50920" y="1268280"/>
            <a:ext cx="8569080" cy="453708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4.1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납품 트리거 생성하기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REATE TRIGGER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INSERT ON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FOR EACH ROW (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행 트리거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DECLA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ODE CHAR(10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QTY INTEGER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ODE :=:NEW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QTY :=:NEW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납품수량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재고수량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재고수량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+ Q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= CODE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84720" y="2565360"/>
            <a:ext cx="358560" cy="647640"/>
          </a:xfrm>
          <a:custGeom>
            <a:avLst/>
            <a:gdLst>
              <a:gd name="textAreaLeft" fmla="*/ 0 w 358560"/>
              <a:gd name="textAreaRight" fmla="*/ 129600 w 3585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2708280"/>
            <a:ext cx="1584360" cy="313200"/>
          </a:xfrm>
          <a:prstGeom prst="rect">
            <a:avLst/>
          </a:prstGeom>
          <a:solidFill>
            <a:srgbClr val="a9c3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변수 선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4284720" y="3500280"/>
            <a:ext cx="360360" cy="720720"/>
          </a:xfrm>
          <a:custGeom>
            <a:avLst/>
            <a:gdLst>
              <a:gd name="textAreaLeft" fmla="*/ 0 w 360360"/>
              <a:gd name="textAreaRight" fmla="*/ 129960 w 360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3630600"/>
            <a:ext cx="2952720" cy="313200"/>
          </a:xfrm>
          <a:prstGeom prst="rect">
            <a:avLst/>
          </a:prstGeom>
          <a:solidFill>
            <a:srgbClr val="a9c3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새로 입력된 데이터 값을 변수에 저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4788000" y="4508640"/>
            <a:ext cx="576000" cy="720720"/>
          </a:xfrm>
          <a:custGeom>
            <a:avLst/>
            <a:gdLst>
              <a:gd name="textAreaLeft" fmla="*/ 0 w 576000"/>
              <a:gd name="textAreaRight" fmla="*/ 208080 w 57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5508720" y="4508640"/>
            <a:ext cx="2808360" cy="532440"/>
          </a:xfrm>
          <a:prstGeom prst="rect">
            <a:avLst/>
          </a:prstGeom>
          <a:solidFill>
            <a:srgbClr val="a9c3e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납품된 상품의 수량을 상품테이블의 재고수량에 더한다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50920" y="4221000"/>
            <a:ext cx="7561080" cy="79236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4.2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납품 트리거 실행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INSERT INTO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납품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VALUES(1, 'A01', 'P1', '01-01-2006', 30, 40000, 1200000)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INSERT INTO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납품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VALUES(2, 'A02', 'P2', '01-01-2006', 50, 10000, 500000)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600360" cy="2878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932360" y="1125360"/>
            <a:ext cx="3600360" cy="2900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3203640" y="5157720"/>
            <a:ext cx="2736720" cy="863640"/>
          </a:xfrm>
          <a:custGeom>
            <a:avLst/>
            <a:gdLst>
              <a:gd name="textAreaLeft" fmla="*/ 478800 w 2736720"/>
              <a:gd name="textAreaRight" fmla="*/ 1984320 w 2736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7956720" y="2276640"/>
            <a:ext cx="576000" cy="43308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2205000"/>
            <a:ext cx="576000" cy="43344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5651640" y="4292640"/>
            <a:ext cx="576000" cy="72072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6227640" y="5084640"/>
            <a:ext cx="2521080" cy="740160"/>
          </a:xfrm>
          <a:prstGeom prst="rect">
            <a:avLst/>
          </a:prstGeom>
          <a:solidFill>
            <a:srgbClr val="d4e1b5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1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5 + 30 = 45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2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0 + 50 = 7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140360" y="4292640"/>
            <a:ext cx="576000" cy="72072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50920" y="3933720"/>
            <a:ext cx="7920000" cy="64764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4.2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납품 트리거 실행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납품테이블 데이터 입력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INSERT INTO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납품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VALUES(3, 'A01', 'P1', '03-01-2006', 10, 40000, 400000 )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456000" cy="2782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2411280" y="4653000"/>
            <a:ext cx="4032360" cy="1984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5364000" y="1052640"/>
            <a:ext cx="3240360" cy="2765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19" name=""/>
          <p:cNvSpPr/>
          <p:nvPr/>
        </p:nvSpPr>
        <p:spPr>
          <a:xfrm>
            <a:off x="3419640" y="2133720"/>
            <a:ext cx="576000" cy="28728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8099280" y="2205000"/>
            <a:ext cx="576360" cy="28728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716360" y="4148280"/>
            <a:ext cx="576360" cy="36036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6227640" y="4149720"/>
            <a:ext cx="576360" cy="28728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4284720" y="1989000"/>
            <a:ext cx="8636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9ff7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6227640" y="6093000"/>
            <a:ext cx="2087640" cy="337680"/>
          </a:xfrm>
          <a:prstGeom prst="rect">
            <a:avLst/>
          </a:prstGeom>
          <a:solidFill>
            <a:srgbClr val="d4e1b5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납품 테이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9280" y="1484280"/>
            <a:ext cx="8713800" cy="468144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.2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만든 테이블 스페이스로 재접속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ID : MANAGE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PASSWORD : MANAGE1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오라클 설치 시  입력한 암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DATABASE : ORA9 / DBLAB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설치 중 입력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나 로컬네트서비스 이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50920" y="5013360"/>
            <a:ext cx="8713800" cy="117936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250920" y="981000"/>
            <a:ext cx="3744720" cy="374328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5.1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판매 트리거 실행을 위한 회원 테이블 생성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736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회원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회원번호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har(6) not null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회원이름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har(10)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주민번호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har(14)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전화번호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har(14)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핸드폰번호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har(14)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우편번호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har(6)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주소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varchar(70)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등록일자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date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rimary key (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회원번호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unique (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주민번호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회원 데이터 입력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INSERT INTO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회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VALUES( 'cos1' , '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이강산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', '8514741471547', '2854875', '010', '487425', '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서울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' ,'01-01-2005‘ 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140360" y="2276640"/>
            <a:ext cx="4824360" cy="2376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50920" y="1197000"/>
            <a:ext cx="4897440" cy="446400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5.2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판매 트리거 실행을 위한 판매 테이블 생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4000" y="1341360"/>
            <a:ext cx="4572000" cy="49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판매번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er not null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회원번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(8)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(8)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판매일자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판매수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er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판매단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er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판매금액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er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ary key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판매번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716360" y="4365720"/>
            <a:ext cx="4249800" cy="2184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24000" y="1052640"/>
            <a:ext cx="8424720" cy="518292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6.1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판매 트리거 생성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00" y="1125360"/>
            <a:ext cx="482436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 TRIGGER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RT ON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EACH ROW -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행 트리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 CHAR(10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TY INTEGER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 :=:NEW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TY :=:NEW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판매수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재고수량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재고수량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Q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CODE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4714920" y="4869000"/>
            <a:ext cx="576360" cy="720720"/>
          </a:xfrm>
          <a:custGeom>
            <a:avLst/>
            <a:gdLst>
              <a:gd name="textAreaLeft" fmla="*/ 0 w 576360"/>
              <a:gd name="textAreaRight" fmla="*/ 208080 w 576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35640" y="4869000"/>
            <a:ext cx="2808360" cy="532440"/>
          </a:xfrm>
          <a:prstGeom prst="rect">
            <a:avLst/>
          </a:prstGeom>
          <a:solidFill>
            <a:srgbClr val="d4e1b5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판매된 상품의 수량을 상품테이블의 재고수량에 뺀다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50920" y="4797360"/>
            <a:ext cx="8642160" cy="158436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6.2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판매 트리거 실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판매테이블 데이터 입력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INSERT INTO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판매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VALUES (1 ,'COS1' ,'P1' ,'03-03-2006', 10, 67000, 670000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INSERT INTO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판매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VALUES (2 ,'COS1' ,'P2' ,'03-03-2006', 5, 32000, 160000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456000" cy="2864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456000" cy="2840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44" name=""/>
          <p:cNvSpPr/>
          <p:nvPr/>
        </p:nvSpPr>
        <p:spPr>
          <a:xfrm>
            <a:off x="3564000" y="2781360"/>
            <a:ext cx="576360" cy="43164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7885080" y="2852640"/>
            <a:ext cx="576360" cy="43200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11280" y="2637000"/>
            <a:ext cx="4537080" cy="316836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ko-KR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ko-KR" sz="3400" spc="-1" strike="noStrike">
                <a:solidFill>
                  <a:srgbClr val="000000"/>
                </a:solidFill>
                <a:latin typeface="Arial Black"/>
              </a:rPr>
              <a:t>프로시져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( PROCEDURE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프로시져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L/SQL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에 속하는데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문을 확장한 프로그램 언어이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블록구조를 가지며 제어문과 변수의 선언 등을 가능하게 한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39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프로시져 생성 구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REATE PROCEDURE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프로시져이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변수선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[DECLARE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50920" y="1268280"/>
            <a:ext cx="8713800" cy="511344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.1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프로시져 생성하기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UPDATE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2781360"/>
            <a:ext cx="47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" y="1557360"/>
            <a:ext cx="49687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REATE PROCEDURE S_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재고수량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CODE in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%typ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STS  INTEGER := 300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재고수량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= COS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= CODE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1258920" y="2565360"/>
            <a:ext cx="3744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1258920" y="3716280"/>
            <a:ext cx="3168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1413000"/>
            <a:ext cx="2808360" cy="1224000"/>
          </a:xfrm>
          <a:prstGeom prst="borderCallout1">
            <a:avLst>
              <a:gd name="adj1" fmla="val 18750"/>
              <a:gd name="adj2" fmla="val -8333"/>
              <a:gd name="adj3" fmla="val 76004"/>
              <a:gd name="adj4" fmla="val -31092"/>
            </a:avLst>
          </a:prstGeom>
          <a:solidFill>
            <a:srgbClr val="d4e1b5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라는 변수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테이블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코드와 같은 타입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데이터 형을 가지게 한다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2924280"/>
            <a:ext cx="2371680" cy="906480"/>
          </a:xfrm>
          <a:prstGeom prst="borderCallout1">
            <a:avLst>
              <a:gd name="adj1" fmla="val 18750"/>
              <a:gd name="adj2" fmla="val -8333"/>
              <a:gd name="adj3" fmla="val 69351"/>
              <a:gd name="adj4" fmla="val -59638"/>
            </a:avLst>
          </a:prstGeom>
          <a:solidFill>
            <a:srgbClr val="d4e1b5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OSTS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라는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INTEGER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형 변수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을 대입한다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4643280" y="4508640"/>
            <a:ext cx="649440" cy="1008000"/>
          </a:xfrm>
          <a:custGeom>
            <a:avLst/>
            <a:gdLst>
              <a:gd name="textAreaLeft" fmla="*/ 0 w 649440"/>
              <a:gd name="textAreaRight" fmla="*/ 234360 w 6494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5435640" y="4508640"/>
            <a:ext cx="3313080" cy="1399680"/>
          </a:xfrm>
          <a:prstGeom prst="rect">
            <a:avLst/>
          </a:prstGeom>
          <a:solidFill>
            <a:srgbClr val="d4e1b5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테이블의 입력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값과 같은 상품코드 행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재고수량을 ‘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300’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으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업데이트 한다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2360" y="1270080"/>
            <a:ext cx="5472000" cy="57456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.2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생성한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프로시져 보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ELECT * FROM USER_PROCEDURES 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39909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63" name=""/>
          <p:cNvSpPr/>
          <p:nvPr/>
        </p:nvSpPr>
        <p:spPr>
          <a:xfrm>
            <a:off x="2771640" y="3645000"/>
            <a:ext cx="936720" cy="57600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2340000" y="5516640"/>
            <a:ext cx="4537080" cy="337680"/>
          </a:xfrm>
          <a:prstGeom prst="rect">
            <a:avLst/>
          </a:prstGeom>
          <a:solidFill>
            <a:srgbClr val="d4e1b5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_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재고수량’ 이라는 프로시져를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11280" y="1413000"/>
            <a:ext cx="3744720" cy="57600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826920" y="2638440"/>
            <a:ext cx="2953080" cy="43020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.3 ‘S_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재고수량’ 프로시져 실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프로시져 실행 구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EXEC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프로시져이름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입력 값’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테이블의 상품코드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P1'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인 곳에 프로시져를 실행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EXEC S_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재고수량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('P1'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3743280" cy="3051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5219640" y="3286080"/>
            <a:ext cx="3673440" cy="3052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71" name=""/>
          <p:cNvSpPr/>
          <p:nvPr/>
        </p:nvSpPr>
        <p:spPr>
          <a:xfrm>
            <a:off x="4282920" y="4579920"/>
            <a:ext cx="792360" cy="7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9ff7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4581360"/>
            <a:ext cx="576360" cy="21600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8244000" y="4583160"/>
            <a:ext cx="576000" cy="21600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프로시져 생성하기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SELECT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9640" y="2060640"/>
            <a:ext cx="2303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539640" y="1087560"/>
            <a:ext cx="7993080" cy="520668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CREATE PROCEDURE S_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일일납품현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(SDATE in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납품일자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%typ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qname varchar(25)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numbers integer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danga integer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costes integer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CURSOR c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공급업체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업체명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납품수량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납품단가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납품금액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FROM 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공급업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업체코드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공급업체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업체코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납품일자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= SDATE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OPEN c1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dbms_output.put_line('============================================================')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dbms_output.put_line('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업체명     납품수량      납품단가      납품금액    납품일자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' )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dbms_output.put_line('============================================================')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FETCH c1 INTO qname, numbers, danga, costes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EXIT WHEN c1%NOTFOUND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dbms_output.put_line(rpad(qname, 12, ' ') || rpad(numbers, 13, ' ') ||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rpad(danga, 14, ' ') || rpad(costes, 12, ' ') || rpad(SDATE,12,' '))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END LOOP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dbms_output.put_line('============================================================')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CLOSE c1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3708360" y="1197000"/>
            <a:ext cx="503280" cy="1152360"/>
          </a:xfrm>
          <a:custGeom>
            <a:avLst/>
            <a:gdLst>
              <a:gd name="textAreaLeft" fmla="*/ 0 w 503280"/>
              <a:gd name="textAreaRight" fmla="*/ 181800 w 503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4356000" y="1413000"/>
            <a:ext cx="2376720" cy="675360"/>
          </a:xfrm>
          <a:prstGeom prst="rect">
            <a:avLst/>
          </a:prstGeom>
          <a:solidFill>
            <a:srgbClr val="d4e1b5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프로시져 이름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변수 선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1547640" y="2492280"/>
            <a:ext cx="2808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4500720" y="2276640"/>
            <a:ext cx="2735280" cy="288360"/>
          </a:xfrm>
          <a:prstGeom prst="rect">
            <a:avLst/>
          </a:prstGeom>
          <a:solidFill>
            <a:srgbClr val="d4e1b5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c1’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이라는 커서 생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1763640" y="3933720"/>
            <a:ext cx="2087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995640" y="3716280"/>
            <a:ext cx="1871640" cy="288360"/>
          </a:xfrm>
          <a:prstGeom prst="rect">
            <a:avLst/>
          </a:prstGeom>
          <a:solidFill>
            <a:srgbClr val="d4e1b5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c1’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커서 열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1403280" y="4724280"/>
            <a:ext cx="2952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4427640" y="4581360"/>
            <a:ext cx="1657080" cy="288360"/>
          </a:xfrm>
          <a:prstGeom prst="rect">
            <a:avLst/>
          </a:prstGeom>
          <a:solidFill>
            <a:srgbClr val="d4e1b5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Loop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시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3203640" y="5084640"/>
            <a:ext cx="2160360" cy="1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>
            <a:off x="5508720" y="4941720"/>
            <a:ext cx="2735280" cy="288360"/>
          </a:xfrm>
          <a:prstGeom prst="rect">
            <a:avLst/>
          </a:prstGeom>
          <a:solidFill>
            <a:srgbClr val="d4e1b5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마지막행까지만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Loop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실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>
            <a:off x="1547640" y="5589720"/>
            <a:ext cx="504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>
            <a:off x="6659640" y="5373720"/>
            <a:ext cx="1657440" cy="288360"/>
          </a:xfrm>
          <a:prstGeom prst="rect">
            <a:avLst/>
          </a:prstGeom>
          <a:solidFill>
            <a:srgbClr val="d4e1b5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Loop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종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5951520"/>
            <a:ext cx="2087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4067280" y="5877000"/>
            <a:ext cx="1871640" cy="288360"/>
          </a:xfrm>
          <a:prstGeom prst="rect">
            <a:avLst/>
          </a:prstGeom>
          <a:solidFill>
            <a:srgbClr val="d4e1b5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c1’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커서 닫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771640" y="3500280"/>
            <a:ext cx="5185080" cy="43344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2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커서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Cursor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커서 생성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커서열기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커서로부터 데이터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FETCH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4.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커서닫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FETCH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구문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FETCH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커서이름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TO VALUE1, VALUE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393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커서 속성 중 하나인 ‘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%NOTFOUND’ :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최근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가 데이터행을 반환하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못할 때까지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TRU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393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특징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커서는 사용되기 전에 먼저 선언 되어야 한다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커서는 한 개의 이름이 할당되고 ‘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SELECT’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문과 연결된다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3. ‘SELECT’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문의 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INTO 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절은 생략된다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35280" y="1125360"/>
            <a:ext cx="1944720" cy="1584360"/>
          </a:xfrm>
          <a:prstGeom prst="rect">
            <a:avLst/>
          </a:prstGeom>
          <a:solidFill>
            <a:srgbClr val="a59ff7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1         SMITH      01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2           JOHN      011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3         SCOTT      016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4           FORD      019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>
            <a:off x="2698920" y="1268280"/>
            <a:ext cx="7189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>
            <a:off x="1690560" y="1123920"/>
            <a:ext cx="863640" cy="264240"/>
          </a:xfrm>
          <a:prstGeom prst="rect">
            <a:avLst/>
          </a:prstGeom>
          <a:solidFill>
            <a:srgbClr val="d4e1b5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>
            <a:off x="2698920" y="1844640"/>
            <a:ext cx="7189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1690560" y="1700280"/>
            <a:ext cx="863640" cy="264240"/>
          </a:xfrm>
          <a:prstGeom prst="rect">
            <a:avLst/>
          </a:prstGeom>
          <a:solidFill>
            <a:srgbClr val="d4e1b5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2698920" y="2492280"/>
            <a:ext cx="7189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1690560" y="2347920"/>
            <a:ext cx="863640" cy="264240"/>
          </a:xfrm>
          <a:prstGeom prst="rect">
            <a:avLst/>
          </a:prstGeom>
          <a:solidFill>
            <a:srgbClr val="d4e1b5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5796000" y="1125360"/>
            <a:ext cx="0" cy="1511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5940360" y="1341360"/>
            <a:ext cx="432000" cy="1108800"/>
          </a:xfrm>
          <a:prstGeom prst="rect">
            <a:avLst/>
          </a:prstGeom>
          <a:solidFill>
            <a:srgbClr val="d4e1b5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3059280" y="4508640"/>
            <a:ext cx="16570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1341360"/>
            <a:ext cx="6769080" cy="50328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테이블 스페이스 검색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SELECT * FROM   DBA_TABLESPACES;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생성된 테이블스페이스 확인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5977080" cy="3674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03280" y="5518080"/>
            <a:ext cx="1079640" cy="35892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539640" y="2924280"/>
            <a:ext cx="5327640" cy="165564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3 SQL Plus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사용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시작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Oracle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Application Development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SQL Plus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실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출력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on/off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확인 및 설정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show serveroutput;  ---&gt; on/off 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확인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set serveroutput on; --&gt;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켜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set serveroutput off;  --&gt;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끄기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Serveroutput 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을 켜야 출력 결과를 볼 수 있습니다</a:t>
            </a:r>
            <a:r>
              <a:rPr b="1" lang="ko-KR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9393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출력 결과가 있는 경우에는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GOLDEN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에서 확인 할 수 없어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SQL Plus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를 사용 한다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9640" y="1916280"/>
            <a:ext cx="4392720" cy="43020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4 ‘S_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일일납품현황’ 프로시져 실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실행 구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XEC S_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일일납품현황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'2006-01-01'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실행 화면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556000" y="2781360"/>
            <a:ext cx="4464000" cy="37447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042920" y="4076640"/>
            <a:ext cx="5257800" cy="129708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ko-KR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조인</a:t>
            </a:r>
            <a:r>
              <a:rPr b="1" lang="ko-KR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JOIN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628640"/>
            <a:ext cx="8569080" cy="41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조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다수의 테이블에서 테이블간의 관련성을 이용하여 다수의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테이블로부터 데이터를 검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ELECT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하는 질의 방법을 말한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※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조인 질의를 사용하기 위해서는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절에 최소한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개 이상의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테이블이 그리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절에는 테이블들의 행들이 공통적인 값을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가지는 필드를 사용하여 한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구문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      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........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          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       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필드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필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84360" y="2131920"/>
            <a:ext cx="5400360" cy="86544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조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공급업체 테이블과 납품테이블의 업체코드가 같은 것 끼리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조인하여 보여줌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공급업체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납품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공급업체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업체코드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업체코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7991640" cy="2520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41440" y="2060640"/>
            <a:ext cx="7199280" cy="136836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조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공급업체테이블의 업체코드와 납품테이블의 업체코드가 같은 것을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조인 시키고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납품테이블의 납품단가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10000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원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~ 40000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원의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‘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업체코드’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‘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업체명’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‘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납품단가’로 검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공급업체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업체코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공급업체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업체명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납품단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공급업체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공급업체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업체코드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업체코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납품단가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BETWEEN 10000 AND 4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195640" y="3500280"/>
            <a:ext cx="4105080" cy="3029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22" name=""/>
          <p:cNvSpPr/>
          <p:nvPr/>
        </p:nvSpPr>
        <p:spPr>
          <a:xfrm>
            <a:off x="3059280" y="3357720"/>
            <a:ext cx="12254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755640" y="2060640"/>
            <a:ext cx="8064360" cy="129708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조인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공급업체테이블과 납품테이블의 업체코드가 같은 것과 납품테이블과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테이블의 상품코드가 같은 것을 ‘업체코드’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‘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업체명’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‘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코드’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‘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납품단가’로 검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공급업체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업체코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공급업체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업체명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납품단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공급업체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납품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공급업체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업체코드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업체코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납품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619280" y="3500280"/>
            <a:ext cx="5400720" cy="29768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ko-KR" sz="3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ko-KR" sz="3400" spc="-1" strike="noStrike">
                <a:solidFill>
                  <a:srgbClr val="000000"/>
                </a:solidFill>
                <a:latin typeface="Times New Roman"/>
              </a:rPr>
              <a:t>뷰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WIEW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뷰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VIEW)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란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실존 데이터를 가지고 있는 관계형 데이터베이스에서 하나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이상의 테이블을 근거로 하여 생성되는 것으로 작업의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결과를 임시로 보관하거나 복잡한 질의를 간소화하기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위해서 사용하는 하나의 가상테이블이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※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만약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개의 테이블이 있다면 하나의 테이블이 또 다른 테이블을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참조한다고 가정 했을 때 이 경우 두 테이블을 항상 조인하는 것은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매우 번거로운 일이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이들 두 테이블을 조인하여 새로운 테이블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뷰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VIEW)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를 형성함으로써 마치 하나의 테이블로 저장된 것처럼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나타낼 수 있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716360" y="1844640"/>
            <a:ext cx="4105440" cy="230508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468360" y="1844640"/>
            <a:ext cx="3456000" cy="201600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뷰 테이블 생성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4127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생성 구문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REATE VIEW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뷰 이름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2.....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    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테이블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조건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16360" y="1052640"/>
            <a:ext cx="424836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9393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판매 뷰 테이블 생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CREATE VIEW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번호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회원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회원이름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일자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수량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단가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금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회원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= 'P1'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9393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상품과 판매 테이블에서 상품코드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'P1‘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인 판매번호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회원이름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일자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수량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단가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판매금액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검색하는 판매 뷰를 생성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4248000" cy="1939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35" name=""/>
          <p:cNvSpPr/>
          <p:nvPr/>
        </p:nvSpPr>
        <p:spPr>
          <a:xfrm rot="10800000">
            <a:off x="5363640" y="5516280"/>
            <a:ext cx="1584360" cy="86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59ff7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71640" y="2206800"/>
            <a:ext cx="6264360" cy="244620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뷰 테이블 수정하기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1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939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수정 구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LTER OR REPLACE VIEW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기존 뷰 이름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2,......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필드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2....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테이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조건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뷰 테이블 수정하기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 2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과 판매 테이블에서 상품코드가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'P2‘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인 판매번호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회원이름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판매일자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판매수량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판매단가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판매금액을 검색하는 판매 뷰로 수정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1476360" y="4365720"/>
            <a:ext cx="5616720" cy="21207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24000" y="2060640"/>
            <a:ext cx="8351640" cy="211680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OR REPLACE VIEW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EW 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번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회원이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일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수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단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금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번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회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회원이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일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수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단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금액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회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상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판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'P2'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4365720"/>
            <a:ext cx="6551640" cy="43164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2565360"/>
            <a:ext cx="6192720" cy="360360"/>
          </a:xfrm>
          <a:prstGeom prst="rect">
            <a:avLst/>
          </a:prstGeom>
          <a:solidFill>
            <a:srgbClr val="bdddf1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1.4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유저삭제와 테이블스페이스 삭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유저삭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ROP USER  MANAGE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사용자 이름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 CASC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테이블스페이스 삭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ROP TABLESPACE  DB-HOME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테이블스페이스명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ko-K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Times New Roman"/>
              </a:rPr>
              <a:t>ER-WIN TOOL</a:t>
            </a:r>
            <a:r>
              <a:rPr b="1" lang="ko-KR" sz="3000" spc="-1" strike="noStrike">
                <a:solidFill>
                  <a:srgbClr val="000000"/>
                </a:solidFill>
                <a:latin typeface="Times New Roman"/>
              </a:rPr>
              <a:t>을 이용한 쇼핑몰 모델링 하기</a:t>
            </a:r>
            <a:r>
              <a:rPr b="1" lang="ko-K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R-WIN (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쇼핑몰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다이어그램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400720" cy="3573360"/>
          </a:xfrm>
          <a:prstGeom prst="rect">
            <a:avLst/>
          </a:prstGeom>
          <a:ln cap="rnd" w="28440">
            <a:solidFill>
              <a:srgbClr val="a59ff7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4360" y="2349360"/>
            <a:ext cx="7272360" cy="259236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테이블 생성하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93939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테이블 생성구문 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테이블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       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열이름 데이터 타입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NOT NULL DEFAUL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기본값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        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RIMARY KEY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열이름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        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UNIQU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열이름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       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FOREIGN KEY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열이름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FERENCES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테이블명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열이름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1773360"/>
            <a:ext cx="7489800" cy="2663640"/>
          </a:xfrm>
          <a:prstGeom prst="rect">
            <a:avLst/>
          </a:prstGeom>
          <a:solidFill>
            <a:srgbClr val="d5e3b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▶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테이블 생성하기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예문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939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테이블 생성 예문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REATE TABLE SANGPU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코드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HAR(10) NOT NULL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소코드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HAR(10) NOT NULL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색상코드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HAR(10) NOT NULL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사이즈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HAR(10) NOT NULL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재고수량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INTEGER DEFAULT '0', --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재고수량의 기본값은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RIMARY KEY (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상품코드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4319280" cy="2427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8:26:26Z</dcterms:created>
  <dc:creator>채성민</dc:creator>
  <dc:description/>
  <dc:language>en-US</dc:language>
  <cp:lastModifiedBy>채성민</cp:lastModifiedBy>
  <dcterms:modified xsi:type="dcterms:W3CDTF">2007-03-02T08:21:46Z</dcterms:modified>
  <cp:revision>13</cp:revision>
  <dc:subject/>
  <dc:title>ORACLE</dc:title>
</cp:coreProperties>
</file>