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1AF9-2A0A-416B-BE3E-1CFD852C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38B6-B1DD-4B7C-A3AE-27E9A11E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45EE-C999-4CD7-A0C2-503A0969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5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5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5546-8EE0-4BBD-BA1C-02C1C2C3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FD7D-811F-4017-B679-9E1C1B3E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7177-D9AE-41FD-A651-6E07C97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41C9-3B5A-4C3B-9678-50F68B2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0878-1EFB-47B9-B258-7D71165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BE66-9BBD-4806-8E06-7513DFE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A4CD-1A3C-4CE9-BA13-6E30128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9BBE-D5B8-4F7B-B11B-F809CF5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8D11-E38E-465A-A9FF-9125C31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E29-39C5-414C-A525-B42F1BD775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41320" y="895320"/>
            <a:ext cx="74502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1600200"/>
            <a:ext cx="8069400" cy="102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릴레이션 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7.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사원 릴레이션을 그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7.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사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릴레이션과 부서 릴레이션으로 분해한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9800" y="3238560"/>
            <a:ext cx="5324400" cy="2012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11920" y="3255840"/>
            <a:ext cx="2733480" cy="147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74920" y="5502240"/>
            <a:ext cx="6432480" cy="3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DAC7-737E-499E-8E1D-02B4B26964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7.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서 예를 들었던 갱신 이상 문제는 아래와 같이 해결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서이름의 수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부서에 근무하는 사원이 여러 명 있더라도 사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는 부서 이름이 포함되어 있지 않으므로 수정 이상이 나타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새로운 부서를 삽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어떤 신설 부서에 사원이 한 명도 배정되지 않았더라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서 릴레이션의 기본 키가 부서번호이므로 이 부서에 관한 정보를 부서 릴레이션에 삽입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마지막 사원 투플을 삭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어느 부서에 속한 유일한 사원에 관한 투플을 삭제하더라도 이 부서에 관한 정보는 부서 릴레이션에 남아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C6E6-65EC-497C-82D5-053EB10F64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normal for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제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first normal form),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제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second normal form)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제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third normal form),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BCNF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Boyce-Codd normal form)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제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fourth normal form),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제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fifth normal for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반적으로 산업계의 데이터베이스 응용에서 데이터베이스를 설계할 때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까지만 고려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3027-7E4E-4545-AAA8-36609D5B3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69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관계 데이터베이스 설계의 비공식적인 지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해하기 쉽고 명확한 스키마를 만들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러 엔티티 타입이나 관계 타입에 속한 애트리뷰트들을 하나의 릴레이션에 포함시키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널값을 피하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짜 투플이 생기지 않도록 하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4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스키마를 정제하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58880" y="3375000"/>
            <a:ext cx="6429600" cy="5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5863-7C66-4551-9ACF-D14F90187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함수적 종속성의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화 이론의 핵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애트리뷰트들의 의미로부터 결정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 스키마에 대한 주장이지 릴레이션의 특정 인스턴스에 대한 주장이 아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가능한 모든 인스턴스들이 만족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세계에 대한 지식과 응용의 의미를 기반으로 어떤 함수적 종속성들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존재하는가를 파악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함수적 종속성은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부터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까지 적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FFEF-B7F5-4462-8B99-A878D7B68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1" lang="ko-KR" sz="2000" spc="-1" strike="noStrike">
                <a:solidFill>
                  <a:srgbClr val="ff3300"/>
                </a:solidFill>
                <a:latin typeface="신명조"/>
                <a:ea typeface="신명조"/>
              </a:rPr>
              <a:t>결정자</a:t>
            </a: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(determinan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애트리뷰트의 값은 다른 애트리뷰트의 값을 고유하게 결정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.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사원 릴레이션에서 사원번호는 사원이름을 고유하게 결정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한 사원번호는 주소와 전화번호도 고유하게 결정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는 사원이름을 고유하게 결정하지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결정자는 주어진 릴레이션에서 다른 애트리뷰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애트리뷰트들의 집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고유하게 결정하는 하나 이상의 애트리뷰트를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결정자를 아래와 같이 표기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를 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결정한다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의해 결정된다” 또는 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결정자이다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말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→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75DE-7B4C-4CA7-8EDB-752D49E22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019320" y="4168800"/>
            <a:ext cx="457200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사원번호 → 사원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사원번호 → 주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사원번호 → 전화번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부서번호 → 부서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7480" y="1739880"/>
            <a:ext cx="7691400" cy="21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6269-5BA9-4419-896B-EFE0325625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함수적 종속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결정자이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함수적으로 종속한다고 말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른 말로 표현하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어진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서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함수적으로 종속하는 필요 충분 조건은 각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값에 대해 반드시 한 개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값이 대응된다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나의 함수적 종속성은 실세계의 의미에 따라 바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원번호가 사원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화번호의 결정자이므로 사원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화번호는 사원번호에 함수적으로 종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직책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원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서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함수적으로 종속하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원번호에 함수적으로 종속하지는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8430-5710-494D-B2DC-21CAB55422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6720" y="1736640"/>
            <a:ext cx="7832880" cy="34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CEF9-AE7F-401B-90B6-4911102E3F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3300"/>
                </a:solidFill>
                <a:latin typeface="굴림"/>
              </a:rPr>
              <a:t>완전 함수적 종속성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3300"/>
                </a:solidFill>
                <a:latin typeface="굴림"/>
              </a:rPr>
              <a:t>FFD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: Full Functional Dependenc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어진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서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함수적으로 종속하면서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어떠한 진부분 집합에도 함수적으로 종속하지 않으면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완전하게 함수적으로 종속한다고 말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기서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복합 애트리뷰트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FD69-54D7-47FF-8693-8AC876D99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15880" y="507960"/>
            <a:ext cx="61516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장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정규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3633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 정규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부주의한 데이터베이스 설계는 제어할 수 없는 데이터 중복을 야기하여 여러 가지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갱신 이상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update anomaly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유발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떻게 좋은 데이터베이스 설계를 할 것인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베이스에 어떤 릴레이션들을 생성할 것인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릴레이션에 어떤 애트리뷰트들을 둘 것인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?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정규화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normalization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주어진 릴레이션 스키마를 함수적 종속성과 기본 키를 기반으로 분석하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래의 릴레이션을 분해함으로써 중복과 세 가지 갱신 이상을 최소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적절하게 정규화된 릴레이션들은 데이터베이스의 유지를 간단하게 함</a:t>
            </a:r>
            <a:r>
              <a:rPr b="0" lang="ko-KR" sz="14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64B6-FC5E-40A7-84FC-F6627E8BD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8200" y="1527120"/>
            <a:ext cx="767556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DE55-7A60-4340-AFAA-FC096AD94C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52600" y="1809720"/>
            <a:ext cx="6445080" cy="405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FDDD-C06E-4528-8587-56BBFDCA1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3300"/>
                </a:solidFill>
                <a:latin typeface="굴림"/>
              </a:rPr>
              <a:t>이행적 함수적 종속성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transitive F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의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, B, 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주어졌을 때 애트리뷰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이행적으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종속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A→C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것의 필요 충분 조건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</a:rPr>
              <a:t>A→B ∧ B→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성립하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릴레이션의 기본 키라면 키의 정의에 따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→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→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성립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외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도 함수적으로 종속한다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직접 함수적으로 종속하면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거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이행적으로 종속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D2FE-3C52-4496-8FB8-5F2B55F366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2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함수적 종속성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2400" y="2041560"/>
            <a:ext cx="650052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16BB-1938-40D7-AC97-37328C2C42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릴레이션 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나의 릴레이션을 두 개 이상의 릴레이션으로 나누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을 분해하면 중복이 감소되고 갱신 이상이 줄어드는 장점이 있는 반면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바람직하지 않은 문제들을 포함하여 몇 가지 잠재적인 문제들을 야기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이 분해되기 전에는 조인이 필요 없는 질의가 분해 후에는 조인을 필요로 하는 질의로 바뀔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분해된 릴레이션들을 사용하여 원래 릴레이션을 재구성하지 못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종속성을 검사하기 위해서는 분해된 릴레이션들의 조인이 필요할 수 있음</a:t>
            </a:r>
            <a:r>
              <a:rPr b="0" lang="ko-KR" sz="16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27E3-4CAD-422B-A162-EC4C45489A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3300"/>
                </a:solidFill>
                <a:latin typeface="굴림"/>
              </a:rPr>
              <a:t>무손실 분해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lossless decomposi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분해된 두 릴레이션을 조인하면 원래의 릴레이션에 들어 있는 정보를 완전하게 얻을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기서 손실이란 정보의 손실을 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보의 손실은 원래의 릴레이션을 분해한 후에 생성된 릴레이션들을 조인한 결과에 들어 있는 정보가 원래의 릴레이션에 들어 있는 정보보다 적거나 많은 것을 모두 포함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36AB-234F-4868-95A8-D050BBD61A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654280" y="4645080"/>
            <a:ext cx="4572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 → 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메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메일 → 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목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→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9440" y="1751040"/>
            <a:ext cx="7896240" cy="23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B09A-D6C7-468E-8670-669F1BF0BC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560" y="1706400"/>
            <a:ext cx="7756560" cy="404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DBBC-34DC-4D28-982F-8DA2484775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8240" y="1819440"/>
            <a:ext cx="7640640" cy="37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45DF-2B16-4648-A1E0-372752577E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6120" y="1608120"/>
            <a:ext cx="5962680" cy="44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9B2D-9F66-4655-A32E-79B2B91442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좋은 관계 데이터베이스 스키마를 설계하는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보의 중복과 갱신 이상이 생기지 않도록 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보의 손실을 막으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세계를 훌륭하게 나타내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들 간의 관계가 잘 표현되는 것을 보장하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무결성 제약조건의 시행을 간단하게 하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아울러 효율성 측면도 고려하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세계를 훌륭하게 나타낸 설계는 직관적으로 이해하기 쉬우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래의 성장에 잘 대비할 수 있는 설계를 의미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먼저 갱신 이상이 발생하지 않도록 노력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 다음에 효율성을 고려함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6E7D-3D80-4F70-9D64-EAD0B5E1B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.3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릴레이션 분해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49320" y="1509840"/>
            <a:ext cx="7323120" cy="483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87B0-7F7C-4F4A-80B8-49AAC344AE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31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할 필요 충분 조건은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모든 애트리뷰트가 원자값만을 갖는다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릴레이션의 모든 애트리뷰트에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반복 그룹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repeating group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나타나지 않으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17760" y="3957480"/>
            <a:ext cx="610236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7FB2-A5DB-4915-A201-759CA04FFE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을 만족하지 않는 그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6.1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을 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으로 변환하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반복 그룹 애트리뷰트에 나타나는 집합에 속한 각 값마다 하나의 투플로 표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6120" y="3502080"/>
            <a:ext cx="5275080" cy="25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835A-614C-417D-A934-641A31A73D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21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을 만족하지 않는 그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7.1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을 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으로 변환하는  방법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모든 반복 그룹 애트리뷰트들을 분리해서 새로운 릴레이션에 넣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래 릴레이션의 기본 키를 새로운 릴레이션에 애트리뷰트로 추가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68400" y="3610080"/>
            <a:ext cx="7278840" cy="229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52F0-CFE6-476E-A43E-7FC473C250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2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에 존재하는 갱신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.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학생 릴레이션은 모든 애트리뷰트가 원자값을 가지므로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릴레이션의 기본 키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목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3618000"/>
            <a:ext cx="6570720" cy="20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2C84-075D-46E5-95DF-FA28083394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정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학과에 소속한 학생 수만큼 그 학과의 전화번호가 중복되어 저장되므로 여러 학생이 소속된 학과의 전화번호가 변경되었을 때 그 학과에 속한 모든 학생들의 투플에서 전화번호를 수정하지 않으면 데이터베이스의 일관성이 유지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삽입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명의 학생이라도 어떤 학과에 소속되지 않으면 이 학과에 관한 투플을 삽입할 수 없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왜냐하면 학번이 기본 키의 구성요소인데 엔티티 무결성 제약조건에 따라 기본 키에 널값을 입력할 수 없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삭제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학과에 소속된 마지막 학생 투플을 삭제하면 이 학생이 소속된 학과에 관한 정보도 삭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E116-0932-43B4-BC89-E01BF05492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04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갱신 이상이 생기는 이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키에 대한 부분 함수적 종속성이 학생 릴레이션에 존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5120" y="2670120"/>
            <a:ext cx="641196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4D3C-1D0B-4CA9-AC5F-536A459661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할 필요 충분 조건은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하면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후보 키에도 속하지 않는 모든 애트리뷰트들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기본 키에 완전하게 함수적으로 종속하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키가 두 개 이상의 애트리뷰트로 구성되었을 경우에만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하는가를 고려할 필요가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기본 키가 한 개의 애트리뷰트로 이루어진 릴레이션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하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도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598F-226C-40D5-8E9D-BBA2FD5826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69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에 존재하는 갱신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.1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학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기본 키는 한 애트리뷰트인 학번이므로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3120" y="3182760"/>
            <a:ext cx="5594400" cy="24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02AE-6C34-4EB7-942B-32FC0757FD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정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러 학생이 소속된 학과의 전화번호가 변경되었을 때 그 학과에 속한 모든 학생들의 투플에서 전화번호를 수정하지 않으면 데이터베이스의 일관성이 유지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삽입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학과를 신설해서 아직 소속 학생이 없으면 그 학과의 정보를 입력할 수 없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왜냐하면 학번이 기본 키인데 엔티티 무결성 제약조건에 따라 기본 키에 널값을 입력할 수 없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삭제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학과에서 마지막 학생의 투플이 삭제되면 그 학과의 전화번호도 함께 삭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618D-8D20-407A-A234-44DCD11D36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신명조"/>
                <a:ea typeface="신명조"/>
              </a:rPr>
              <a:t>갱신 이상</a:t>
            </a:r>
            <a:r>
              <a:rPr b="1" lang="en-US" sz="2000" spc="-1" strike="noStrike">
                <a:solidFill>
                  <a:srgbClr val="000000"/>
                </a:solidFill>
                <a:latin typeface="신명조"/>
                <a:ea typeface="신명조"/>
              </a:rPr>
              <a:t>(update anomal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수정 이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modification anomal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반복된 데이터 중에 일부만 수정하면 데이터의 불일치가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삽입 이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insertion anomal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불필요한 정보를 함께 저장하지 않고는 어떤 정보를 저장하는 것이 불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삭제 이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letion anomal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유용한 정보를 함께 삭제하지 않고는 어떤 정보를 삭제하는 것이 불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F05B-8833-478D-8215-C938BC504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8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갱신 이상이 생기는 이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에 이행적 종속성이 존재하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17760" y="2637000"/>
            <a:ext cx="5675040" cy="367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E6BC-E76E-4623-A9DC-2ED819F4BD0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할 필요 충분 조건은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하면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가 아닌 모든 애트리뷰트가 릴레이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기본 키에 이행적으로 종속하지 않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FEF1-4E0B-4A63-9C95-3409C8FC61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규형에 존재하는 갱신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.2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수강 릴레이션에서 각 학생은 여러 과목을 수강할 수 있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강사는 한 과목만 가르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릴레이션의 기본 키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가 아닌 강사 애트리뷰트가 기본 키에 완전하게 함수적으로 종속하므로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을 만족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가 아닌 강사 애트리뷰트가 기본 키에 직접 종속하므로 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형도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릴레이션에는 아래와 같은 함수적 종속성들이 존재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→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강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 algn="just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강사 → 과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9746-DAA0-4D4C-B959-CB847508E6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65320" y="1486080"/>
            <a:ext cx="4635360" cy="274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0480" y="4597560"/>
            <a:ext cx="4949640" cy="170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17F9-8EFF-4DAA-A943-7B3EDB78E4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정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러 학생이 수강 중인 어떤 과목의 강사가 변경되었을 때 그 과목을 수강하는 모든 학생들의 투플에서 강사를 수정하지 않으면 데이터베이스의 일관성이 유지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삽입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과목을 신설하여 아직 수강하는 학생이 없으면 어떤 강사가 그 과목을 가르친다는 정보를 입력할 수 없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왜냐하면 학번이 기본 키를 구성하는 애트리뷰트인데 엔티티 무결성 제약조건에 따라 기본 키를 구성하는 애트리뷰트에 널값을 입력할 수 없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삭제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과목을 이수하는 학생이 한 명밖에 없는데 이 학생의 투플을 삭제하면 그 과목을 가르치는 강사에 관한 정보도 함께 삭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D091-02B7-4A02-BECE-4F3FF00B24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갱신 이상이 생기는 이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강 릴레이션에서 키가 아닌 애트리뷰트가 다른 애트리뷰트를 결정하기 때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릴레이션의 후보 키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강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A2C8-EE26-4454-8EA7-CC32E336B1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한 릴레이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만족할 필요 충분 조건은 릴레이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R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규형을 만족하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모든 결정자가 후보 키이어야 한다는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위의 수강 릴레이션에서 강사 애트리뷰트는 후보 키가 아님에도 불구하고 과목 애트리뷰트를 결정하기 때문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아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규형을 만족하는 대부분의 릴레이션들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도 만족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나의 후보 키만을 가진 릴레이션이 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규형을 만족하면 동시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도 만족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규형을 만족하는 릴레이션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CN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정규화하려면 키가 아니면서 결정자 역할을 하는 애트리뷰트와 그 결정자에 함수적으로 종속하는 애트리뷰트를 하나의 테이블에 넣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릴레이션에서 결정자는 기본 키가 됨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그 다음에는 기존 릴레이션에 결정자를 남겨서 기본 키의 구성요소가 되도록 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또한 이 결정자는 새로운 릴레이션에 대한 외래키 역할도 함</a:t>
            </a:r>
            <a:r>
              <a:rPr b="0" lang="ko-KR" sz="14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2458-8B40-4A8A-817B-E1485387FE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28880" y="1779480"/>
            <a:ext cx="706428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7344-FB38-4EB5-A014-E4E6018C4A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76640" y="1774800"/>
            <a:ext cx="4578120" cy="40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FD47-87FB-436F-B278-EB1F624F94A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23960" y="1577880"/>
            <a:ext cx="5537160" cy="467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D80A-5865-4B7D-81DF-8E870ABD9E6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7040" y="1789200"/>
            <a:ext cx="7637400" cy="139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58960" y="3524400"/>
            <a:ext cx="7546680" cy="181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8205-F1F2-4FA0-9D53-AC973E3B9D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7720" y="506520"/>
            <a:ext cx="8278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.4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정규형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, BCNF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71520" y="1390320"/>
            <a:ext cx="4152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여러 정규형의 요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76520" y="1424160"/>
            <a:ext cx="5183280" cy="49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FCA5-072F-41AC-A0B5-F069CB529C7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역정규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화 단계가 진행될수록 중복이 감소하고 갱신 이상도 감소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화가 진전될수록 무결성 제약조건을 시행하기 위해 필요한 코드의 양도 감소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규화가 데이터베이스 설계의 중요한 요소이지만 성능상의 관점에서만 보면 높은 정규형을 만족하는 릴레이션 스키마가 최적인 것은 아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정규형에서 다음 정규형으로 진행될 때마다 하나의 릴레이션이 최소한 두 개의 릴레이션으로 분해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분해되기 전의 릴레이션을 대상으로 질의를 할 때는 조인이 필요 없지만 분해된 릴레이션을 대상으로 질의를 할 때는 같은 정보를 얻기 위해서 보다 많은 릴레이션들을 접근해야 하므로 조인의 필요성이 증가함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189080" y="482760"/>
            <a:ext cx="6816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7.5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역정규화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denormalization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0FFC-9B29-454C-B24E-EB7B11E44A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17680" y="493560"/>
            <a:ext cx="4419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7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역정규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22400" y="1284120"/>
            <a:ext cx="7208640" cy="511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3574-0AE2-46C7-8D15-3B76836B16E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역정규화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때로 데이터베이스 설계자는 응용의 요구 사항에 따라 데이터베이스 설계의 일부분을 역정규화함으로써 데이터 중복 및 갱신 이상을 대가로 치르면서 성능상의 요구를 만족시키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데이터베이스 응용에서 검색 질의의 비율이 갱신 질의의 비율보다 훨씬 높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역정규화는 주어진 응용에서 빈번하게 수행되는 검색 질의들의 수행 속도를 높이기 위해서 이미 분해된 두 개 이상의 릴레이션들을 합쳐서 하나의 릴레이션으로 만드는 작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즉 역정규화는 보다 낮은 정규형으로 되돌아가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317680" y="493560"/>
            <a:ext cx="4419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7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역정규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EE1C-FCD5-4101-8493-B5B0E085E65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17680" y="493560"/>
            <a:ext cx="4419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7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역정규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4040" y="1870200"/>
            <a:ext cx="75816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91C5-7B16-4182-8907-6CA6F4AA907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6480" y="1865160"/>
            <a:ext cx="7421400" cy="137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47840" y="3508200"/>
            <a:ext cx="6381720" cy="245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8E5B-1AC7-4C6E-B65C-70AF335EEB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34960" y="1590840"/>
            <a:ext cx="8217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1674720"/>
            <a:ext cx="8123400" cy="325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보의 중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사원이 속한 부서 수만큼 동일한 사원의 투플들이 존재하므로 사원이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원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화번호 등이 중복되어 저장 공간이 낭비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정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어떤 부서의 이름이 바뀔 때 이 부서에 근무하는 일부 사원 투플에서만 부서이름을 변경하면 데이터베이스가 불일치 상태에 빠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1A5C-62AA-4188-94F4-244477808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34960" y="1590840"/>
            <a:ext cx="8217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593640" y="1674720"/>
            <a:ext cx="8123400" cy="2899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삽입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어떤 부서를 신설했는데 아직 사원을 한 명도 배정하지 않았다면 이 부서에 관한 정보를 입력할 수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삭제 이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일 어떤 부서에 속한 사원이 단 한 명이 있는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사원에 관한 투플을 삭제하면 이 사원이 속한 부서에 관한 정보도 릴레이션에서 삭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2BB9-AE7B-4CDB-9206-DDD01C7EF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2040" y="507960"/>
            <a:ext cx="5156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7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.1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정규화 개요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릴레이션 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나의 릴레이션을 두 개 이상의 릴레이션으로 나누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분해는 필요한 경우에는 분해된 릴레이션들로부터 원래의 릴레이션을 다시 구할 수 있음을 보장해야 한다는 원칙을 기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분해를 잘못하면 두 릴레이션으로부터 얻을 수 있는 정보가 원래의 릴레이션이 나타내던 정보보다 적을 수도 있고 많을 수도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두 릴레이션으로부터 얻을 수 있는 정보는 원래의 릴레이션이 갖고 있던 정보와 정확하게 일치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분해는 릴레이션에 존재하는 함수적 종속성에 관한 지식을 기반으로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장. 릴레이션 정규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C75C-AC01-42B0-A774-25961F876E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노웅기</dc:creator>
  <dc:description/>
  <dc:language>en-US</dc:language>
  <cp:lastModifiedBy>ekhong</cp:lastModifiedBy>
  <cp:lastPrinted>1997-07-26T06:01:56Z</cp:lastPrinted>
  <dcterms:modified xsi:type="dcterms:W3CDTF">2006-04-08T08:40:15Z</dcterms:modified>
  <cp:revision>416</cp:revision>
  <dc:subject/>
  <dc:title>슬라이드 제목 없음</dc:title>
</cp:coreProperties>
</file>