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8A567-DD7F-4BB2-9E63-025DE72AD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6764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35291-4022-41C6-BFBB-2634E6FB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4560" y="15998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676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4560" y="40676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BAAE2-E485-4070-85EF-27B00D245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360" y="159984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0560" y="159984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6764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360" y="406764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0560" y="406764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5B542-94A5-4212-9E1E-A89BEE46E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98C62-BFF4-413A-8912-DEDAE7D0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2816C-9370-4DE5-8BA3-26C4EDF1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4560" y="159984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39594-8D1B-4CF9-9F87-75E94CDB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DB4BB-956A-48DF-8304-62BE6589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916C1-7D4F-4378-9FF5-D12DAC6F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4560" y="159984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676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595AC-5A22-4B83-AA66-A1A5462C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4560" y="15998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4560" y="40676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824E7-338C-499D-9074-41B700FA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4560" y="15998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6764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A6CA7-9019-473C-97B0-83681DBA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1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30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5934-4E76-42F3-8A08-BC5547E156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3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60240" y="1014480"/>
            <a:ext cx="787716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80520" y="1599840"/>
            <a:ext cx="84409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굴림"/>
              </a:rPr>
              <a:t>BLOB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Binary Large Object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이미지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GIF, JPG), 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동영상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MPEG, RM) 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등 대규모 크기의 데이터를 저장하는데 사용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BLOB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의 최대 크기는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MS SQL Server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GB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까지도 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채우기 인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각 블록에 레코드를 채우는 공간의 비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나중에 레코드가 삽입될 때 기존의 레코드들을 이동하는 가능성을 줄이기 위해서 모두 채우지 않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743040" y="507960"/>
            <a:ext cx="77738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6.3 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디스크 상에서 화일의 레코드 배치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01680" y="4711680"/>
            <a:ext cx="474696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C333E-2623-416C-9BAB-A94A7D0A22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520" y="1599840"/>
            <a:ext cx="8404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고정 길이 레코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레코드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i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를 접근하기 위해서는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n*(i-1)+1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의 위치에서 레코드를 읽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743040" y="507960"/>
            <a:ext cx="77738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6.3 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디스크 상에서 화일의 레코드 배치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54280" y="2735280"/>
            <a:ext cx="3801960" cy="26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D9C6C-3872-40D6-9B48-3C3A652BA9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80520" y="1458720"/>
            <a:ext cx="83343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고정 길이 레코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39960" y="2254320"/>
            <a:ext cx="7070400" cy="1789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43040" y="507960"/>
            <a:ext cx="77738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6.3 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디스크 상에서 화일의 레코드 배치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009800" y="4341960"/>
            <a:ext cx="7019640" cy="178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D178B-92DE-41C5-A0BE-C415E260E1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80520" y="1599840"/>
            <a:ext cx="8433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화일 내의 클러스터링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관련있는 것을 디스크내에 인접하게 위치시키는것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)(intra-file clustering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한 화일 내에서 함께 검색될 가능성이 높은 레코드들을 디스크 상에서 물리적으로 가까운 곳에 모아두는 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743040" y="507960"/>
            <a:ext cx="77738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6.3 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디스크 상에서 화일의 레코드 배치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36600" y="3619440"/>
            <a:ext cx="5986440" cy="3238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8082B-73B7-4AF9-B09A-5267F61DAF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520" y="1599840"/>
            <a:ext cx="8396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화일 간의 클러스터링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(inter-file clustering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논리적으로 연관되어 함께 검색될 가능성이 높은 두 개 이상의 화일에 속한 레코드들을 디스크 상에서 물리적으로 가까운 곳에 저장하는 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743040" y="507960"/>
            <a:ext cx="77738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6.3 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디스크 상에서 화일의 레코드 배치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43080" y="3025800"/>
            <a:ext cx="4898880" cy="334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C77AD-726A-40FB-BBF5-9005D158B6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55320" y="14317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화일 조직의 유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히프 화일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heap file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순차 화일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sequential file) 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속성값 순서대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인덱스된 순차 화일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indexed sequential file) </a:t>
            </a:r>
            <a:r>
              <a:rPr b="1" lang="ko-KR" sz="1800" spc="-1" strike="noStrike">
                <a:solidFill>
                  <a:srgbClr val="009900"/>
                </a:solidFill>
                <a:latin typeface="굴림"/>
              </a:rPr>
              <a:t>검색효율을 위해 특정속성을 인덱스로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직접 화일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hash file)</a:t>
            </a:r>
            <a:r>
              <a:rPr b="0" lang="ko-KR" sz="1800" spc="-1" strike="noStrike">
                <a:solidFill>
                  <a:srgbClr val="000000"/>
                </a:solidFill>
                <a:latin typeface="╜┼╕φ┴╢"/>
                <a:ea typeface="신명조"/>
              </a:rPr>
              <a:t> </a:t>
            </a:r>
            <a:r>
              <a:rPr b="0" lang="ko-KR" sz="1800" spc="-1" strike="noStrike">
                <a:solidFill>
                  <a:srgbClr val="009900"/>
                </a:solidFill>
                <a:latin typeface="╜┼╕φ┴╢"/>
                <a:ea typeface="신명조"/>
              </a:rPr>
              <a:t>특정 속성을 직접 어드레싱</a:t>
            </a:r>
            <a:r>
              <a:rPr b="0" lang="ko-KR" sz="1800" spc="-1" strike="noStrike">
                <a:solidFill>
                  <a:srgbClr val="009900"/>
                </a:solidFill>
                <a:latin typeface="╜┼╕φ┴╢"/>
                <a:ea typeface="신명조"/>
              </a:rPr>
              <a:t>..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1960560" y="490680"/>
            <a:ext cx="498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6.4 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화일 조직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B70E8-41A9-4781-95B8-1991A6480B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55320" y="14317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히프 파일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비순서 화일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히프 화일은 가장 단순한 화일 조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일반적으로 레코드들이 삽입된 순서대로 화일에 저장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새로 삽입되는 레코드는 화일의 가장 끝에 첨부되는데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화일 중간에 빈 공간이 있으면 거기에 삽입할 수도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원하는 레코드를 찾기 위해서는 모든 레코드들을 순차적으로 접근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삭제는 원하는 레코드를 찾은 후에 그 레코드를 삭제하고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삭제된 레코드가 차지하던 공간을 재사용하지 않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좋은 성능을 유지하기 위해서 히프 화일을 주기적으로 재조직할 필요가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9900"/>
                </a:solidFill>
                <a:latin typeface="굴림"/>
              </a:rPr>
              <a:t>끌어모으는것 – </a:t>
            </a:r>
            <a:r>
              <a:rPr b="1" lang="ko-KR" sz="1600" spc="-1" strike="noStrike">
                <a:solidFill>
                  <a:srgbClr val="009900"/>
                </a:solidFill>
                <a:latin typeface="굴림"/>
              </a:rPr>
              <a:t>compaction??= garbage collecti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1960560" y="490680"/>
            <a:ext cx="498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6.4 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화일 조직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(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계속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36A3A-66D3-4240-A5A1-0C9FCA06E4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960560" y="490680"/>
            <a:ext cx="498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6.4 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화일 조직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(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계속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498680" y="1616040"/>
            <a:ext cx="6327720" cy="4605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4F335-551C-4D28-81FA-A1C341CFBE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55320" y="14317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히프 화일의 성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히프 화일은 질의에서 모든 레코드들을 참조하고 레코드들을 접근하는 순서는 중요하지 않을 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╜┼╕φ┴╢"/>
                <a:ea typeface="신명조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╜┼╕φ┴╢"/>
                <a:ea typeface="신명조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SELECT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FROM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EMPLOYEE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특정 레코드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009900"/>
                </a:solidFill>
                <a:latin typeface="굴림"/>
              </a:rPr>
              <a:t>바이너리 검색 사용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검색하는 경우에는 히프 화일이 비효율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히프 화일에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개의 블록이 있다고 가정하자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원하는 블록을 찾기 위해서 평균적으로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b/2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개의 블록을 읽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╜┼╕φ┴╢"/>
                <a:ea typeface="신명조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╜┼╕φ┴╢"/>
                <a:ea typeface="신명조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SELECT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FROM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EMPLOYE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WHERE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EMPNO = 1365;</a:t>
            </a:r>
            <a:r>
              <a:rPr b="0" lang="ko-KR" sz="1800" spc="-1" strike="noStrike">
                <a:solidFill>
                  <a:srgbClr val="000000"/>
                </a:solidFill>
                <a:latin typeface="신명조"/>
                <a:ea typeface="신명조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960560" y="490680"/>
            <a:ext cx="498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6.4 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화일 조직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(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계속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2916360" y="5837400"/>
            <a:ext cx="296496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9900"/>
                </a:solidFill>
                <a:latin typeface="신명조"/>
                <a:ea typeface="신명조"/>
              </a:rPr>
              <a:t>인덱스는 정렬하지 않아도 자동정렬되어있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1062E-253B-48C3-802E-FAE6CCE8EDF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60560" y="490680"/>
            <a:ext cx="498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6.4 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화일 조직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(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계속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03360" y="1906560"/>
            <a:ext cx="7988040" cy="2687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802600" y="4624560"/>
            <a:ext cx="271008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신명조"/>
                <a:ea typeface="신명조"/>
              </a:rPr>
              <a:t>한블럭에 들어갈수 있는 레코드 </a:t>
            </a:r>
            <a:r>
              <a:rPr b="0" lang="ko-KR" sz="1800" spc="-1" strike="noStrike">
                <a:solidFill>
                  <a:srgbClr val="000000"/>
                </a:solidFill>
                <a:latin typeface="신명조"/>
                <a:ea typeface="신명조"/>
              </a:rPr>
              <a:t>20</a:t>
            </a:r>
            <a:r>
              <a:rPr b="0" lang="ko-KR" sz="1800" spc="-1" strike="noStrike">
                <a:solidFill>
                  <a:srgbClr val="000000"/>
                </a:solidFill>
                <a:latin typeface="신명조"/>
                <a:ea typeface="신명조"/>
              </a:rPr>
              <a:t>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신명조"/>
                <a:ea typeface="신명조"/>
              </a:rPr>
              <a:t>비효율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8AF2E-FE58-4A3F-9922-0CE8757133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0880" y="507960"/>
            <a:ext cx="73198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6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  <a:ea typeface=""/>
              </a:rPr>
              <a:t>장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.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물리적 </a:t>
            </a:r>
            <a:r>
              <a:rPr b="1" lang="zh-CN" sz="3000" spc="-1" strike="noStrike">
                <a:solidFill>
                  <a:srgbClr val="3333cc"/>
                </a:solidFill>
                <a:latin typeface="신명조"/>
                <a:ea typeface="신명조"/>
              </a:rPr>
              <a:t>데이터베이스 설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55320" y="14317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물리적 데이터베이스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물리적인 설계 단계에서는 논리적인 설계의 데이터 구조를 보조 기억 장치상의 화일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물리적인 데이터 모델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로 사상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예상 빈도를 포함하여 데이터베이스 질의와 트랜잭션들을 분석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데이터에 대한 효율적인 접근을 제공하기 위하여 저장 구조와 접근 방법들을 다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특정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DBMS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특성을 고려하여 진행됨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질의를 효율적으로 지원하기 위해서 인덱스 구조를 적절히 사용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"/>
              </a:rPr>
              <a:t>인덱스를 정의하지 않았다는 것은 주키를 인덱스로 사용한다는 뜻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2287440" y="5207040"/>
            <a:ext cx="43596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9900"/>
                </a:solidFill>
                <a:latin typeface="신명조"/>
                <a:ea typeface="신명조"/>
              </a:rPr>
              <a:t>엔티티이름 속성 형식 길이 주키 외래키 정하느나것이 물리적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10C9B-DD2C-4370-B66C-6A3EB35723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55320" y="14317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히프 화일의 성능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몇 개의 레코드들을 검색하는 경우에도 비효율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조건에 맞는 레코드를 이미 한 개 이상 검색했더라도 화일의 마지막 블록까지 읽어서 원하는 레코드가 존재하는가를 확인해야 하기 때문에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의 블록을 모두 읽어야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╜┼╕φ┴╢"/>
                <a:ea typeface="신명조"/>
              </a:rPr>
              <a:t>	</a:t>
            </a:r>
            <a:r>
              <a:rPr b="1" lang="ko-KR" sz="1600" spc="-1" strike="noStrike">
                <a:solidFill>
                  <a:srgbClr val="000000"/>
                </a:solidFill>
                <a:latin typeface="╜┼╕φ┴╢"/>
                <a:ea typeface="신명조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SELECT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EMPNAME, TITL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FROM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EMPLOYE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WHERE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DNO = 2;</a:t>
            </a:r>
            <a:r>
              <a:rPr b="0" lang="ko-KR" sz="1800" spc="-1" strike="noStrike">
                <a:solidFill>
                  <a:srgbClr val="000000"/>
                </a:solidFill>
                <a:latin typeface="신명조"/>
                <a:ea typeface="신명조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급여의 범위를 만족하는 레코드들을 모두 검색하는 아래의 질의도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EMPLOYEE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릴레이션의 모든 레코드들을 접근해야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╜┼╕φ┴╢"/>
                <a:ea typeface="신명조"/>
              </a:rPr>
              <a:t>	</a:t>
            </a:r>
            <a:r>
              <a:rPr b="1" lang="ko-KR" sz="1600" spc="-1" strike="noStrike">
                <a:solidFill>
                  <a:srgbClr val="000000"/>
                </a:solidFill>
                <a:latin typeface="╜┼╕φ┴╢"/>
                <a:ea typeface="신명조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SELECT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EMPNAME, TITL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FROM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EMPLOYE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WHERE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SALARY &gt;= 3000000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AND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 SALARY &lt;= 4000000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1960560" y="490680"/>
            <a:ext cx="498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6.4 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화일 조직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(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계속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60082-72EF-4AA3-A16D-13B4A20BD7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960560" y="490680"/>
            <a:ext cx="498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6.4 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화일 조직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(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계속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24040" y="1847880"/>
            <a:ext cx="5541840" cy="3090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6B7B7-C0E0-4DF4-B1DB-FEA941CBD2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20400" y="1275840"/>
            <a:ext cx="8458200" cy="51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순차 화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순차 화일은 레코드들이 하나 이상의 필드 값에 따라 순서대로 저장된 화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레코드들이 일반적으로 레코드의 </a:t>
            </a:r>
            <a:r>
              <a:rPr b="1" lang="ko-KR" sz="1800" spc="-1" strike="noStrike">
                <a:solidFill>
                  <a:srgbClr val="ff3300"/>
                </a:solidFill>
                <a:latin typeface="굴림"/>
              </a:rPr>
              <a:t>탐색 키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search key)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값의 순서에 따라 저장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탐색 키는 순차 화일을 정렬하는데 사용되는 필드를 의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삽입 연산은 삽입하려는 레코드의 순서를 고려해야 하기 때문에 시간이 많이 걸릴 수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레코드를 삭제하는 연산은 삭제된 레코드가 사용하던 공간을 빈 공간으로 남기기 때문에 히프 화일의 경우와 마찬가지로 주기적으로 순차 화일을 재조직해야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본 인덱스가 순차 화일에 정의되지 않는 한 순차 화일은 데이터베이스 응용을 위해 거의 사용되지 않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60560" y="490680"/>
            <a:ext cx="498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6.4 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화일 조직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(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계속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E74DE-1B5A-4987-A9DA-6A6EC9440E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60560" y="490680"/>
            <a:ext cx="498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6.4 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화일 조직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(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계속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0000" y="1503360"/>
            <a:ext cx="6384960" cy="466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6C3BE-D7FD-4566-A240-BC1760C2B3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31560" y="134748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순차 화일의 성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EMPLOYEE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화일이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EMPNO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순서대로 저장되어 있을 때 첫 번째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SELECT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문은 이진 탐색을 이용할 수 있고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두 번째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SELECT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문의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WHERE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절에 사용된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굴림"/>
              </a:rPr>
              <a:t>SALARY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굴림"/>
              </a:rPr>
              <a:t>는 저장 순서와 무관하기 때문에 화일 전체를 탐색해야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╜┼╕φ┴╢"/>
                <a:ea typeface="신명조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SELECT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FROM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EMPLOYE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WHERE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EMPNO = 1365;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SELECT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EMPNAME, TITL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FROM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EMPLOYE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WHERE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SALARY &gt;= 3000000 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AND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 SALARY &lt;= 4000000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960560" y="490680"/>
            <a:ext cx="498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6.4 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화일 조직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(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계속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ED0AC-93E2-4A38-ACDB-1EFAB24A011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60560" y="490680"/>
            <a:ext cx="498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6.4 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화일 조직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(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계속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77960" y="2039760"/>
            <a:ext cx="7718400" cy="208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CB609-F292-4348-A543-39663BC15BD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11200" y="1685880"/>
            <a:ext cx="8182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1960560" y="490680"/>
            <a:ext cx="498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6.4 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화일 조직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(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계속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76440" y="1922400"/>
            <a:ext cx="7914960" cy="2427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0484F-CE5C-4469-8424-F224CA6FBFF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80520" y="1449360"/>
            <a:ext cx="8396280" cy="487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일 단계 인덱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인덱스된 순차 화일은 인덱스를 통해서 임의의 레코드를 접근할 수 있는 화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단일 단계 인덱스의 각 엔트리는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ff3300"/>
                </a:solidFill>
                <a:latin typeface="굴림"/>
              </a:rPr>
              <a:t>&lt;</a:t>
            </a:r>
            <a:r>
              <a:rPr b="1" lang="ko-KR" sz="1800" spc="-1" strike="noStrike">
                <a:solidFill>
                  <a:srgbClr val="ff3300"/>
                </a:solidFill>
                <a:latin typeface="굴림"/>
              </a:rPr>
              <a:t>탐색 키</a:t>
            </a:r>
            <a:r>
              <a:rPr b="1" lang="ko-KR" sz="1800" spc="-1" strike="noStrike">
                <a:solidFill>
                  <a:srgbClr val="ff33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3300"/>
                </a:solidFill>
                <a:latin typeface="굴림"/>
              </a:rPr>
              <a:t>레코드에 대한 포인터</a:t>
            </a:r>
            <a:r>
              <a:rPr b="1" lang="ko-KR" sz="1800" spc="-1" strike="noStrike">
                <a:solidFill>
                  <a:srgbClr val="ff3300"/>
                </a:solidFill>
                <a:latin typeface="굴림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엔트리들은 탐색 키 값의 오름차순으로 정렬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490680"/>
            <a:ext cx="5641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6.5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  <a:ea typeface=""/>
              </a:rPr>
              <a:t>단일 단계 인덱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06600" y="3882960"/>
            <a:ext cx="5124240" cy="242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44ACB-8C8C-479C-9302-5DC727382C1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31560" y="134748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일 단계 인덱스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인덱스는 데이터 화일과는 별도의 화일에 저장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인덱스의 크기는 데이터 화일의 크기에 비해 훨씬 작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하나의 화일에 여러 개의 인덱스들을 정의할 수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676520" y="490680"/>
            <a:ext cx="5641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6.5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  <a:ea typeface=""/>
              </a:rPr>
              <a:t>단일 단계 인덱스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  <a:ea typeface="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30DA7-48D1-487D-BAAA-033954262B7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676520" y="490680"/>
            <a:ext cx="5641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6.5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  <a:ea typeface=""/>
              </a:rPr>
              <a:t>단일 단계 인덱스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  <a:ea typeface="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19280" y="1751040"/>
            <a:ext cx="7716600" cy="330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7DF8A-E3E6-474A-930A-5F73D7734A7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55320" y="14317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보조 기억 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사용자가 원하는 데이터를 검색하기 위해서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DBMS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는 디스크 상의 데이터베이스로부터 사용자가 원하는 데이터를 포함하고 있는 블록을 읽어서 주기억 장치로 가져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데이터가 변경된 경우에는 블록들을 디스크에 다시 기록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보조 기억 장치</a:t>
            </a:r>
            <a:r>
              <a:rPr b="1" lang="ko-KR" sz="1600" spc="-1" strike="noStrike" u="sng">
                <a:solidFill>
                  <a:srgbClr val="009900"/>
                </a:solidFill>
                <a:uFillTx/>
                <a:latin typeface="굴림"/>
              </a:rPr>
              <a:t>(</a:t>
            </a:r>
            <a:r>
              <a:rPr b="1" lang="ko-KR" sz="1600" spc="-1" strike="noStrike" u="sng">
                <a:solidFill>
                  <a:srgbClr val="009900"/>
                </a:solidFill>
                <a:uFillTx/>
                <a:latin typeface="굴림"/>
              </a:rPr>
              <a:t>크기가 커서 필요할때마다 가져와서 사용</a:t>
            </a:r>
            <a:r>
              <a:rPr b="1" lang="ko-KR" sz="1600" spc="-1" strike="noStrike" u="sng">
                <a:solidFill>
                  <a:srgbClr val="009900"/>
                </a:solidFill>
                <a:uFillTx/>
                <a:latin typeface="굴림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에서 주기억 장치로 이동하는 데이터의 단위는 </a:t>
            </a:r>
            <a:r>
              <a:rPr b="1" lang="ko-KR" sz="1600" spc="-1" strike="noStrike">
                <a:solidFill>
                  <a:srgbClr val="ff3300"/>
                </a:solidFill>
                <a:latin typeface="굴림"/>
              </a:rPr>
              <a:t>블록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주기억 장치에서는 페이지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블록 크기는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512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바이트부터 수 킬로바이트까지 다양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전형적인 블록 크기는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4,096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바이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각 화일은 고정된 크기의 블록들로 나누어져서 저장됨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디스크는 데이터베이스를 장기간 보관하는 주된 보조 기억 장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자기 테이프는 주로 데이터베이스를 백업하기 위해서 사용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920880" y="507960"/>
            <a:ext cx="73198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6.1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보조 기억 장치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83FC4-0481-46BD-B3EB-19620107CE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431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일 단계 인덱스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인덱스가 정의된 필드를 탐색 키라고 부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탐색 키의 값들은 후보 키처럼 각 투플마다 반드시 고유하지는 않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키를 구성하는 애트리뷰트뿐만 아니라 어떤 애트리뷰트도 탐색 키로 사용될 수 있음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인덱스의 엔트리들은 탐색 키 값의 오름차순으로 저장되어 있으므로 이진 탐색을 이용할 수도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490680"/>
            <a:ext cx="5641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6.5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  <a:ea typeface=""/>
              </a:rPr>
              <a:t>단일 단계 인덱스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  <a:ea typeface="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51520" y="4103640"/>
            <a:ext cx="3017880" cy="223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ADCD3-D0B7-4363-B5AA-E1A89D40139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31560" y="134748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본 인덱스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(primary index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탐색 키가 데이터 화일의 기본 키인 인덱스를 기본 인덱스라고 부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레코드들은 기본 키의 값에 따라 클러스터링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본 인덱스는 기본 키의 값에 따라 정렬된 데이터 화일에 대해 정의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본 인덱스는 흔히 희소 인덱스로 유지할 수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각 릴레이션마다 최대한 한 개의 기본 인덱스를 가질 수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490680"/>
            <a:ext cx="5641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6.5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  <a:ea typeface=""/>
              </a:rPr>
              <a:t>단일 단계 인덱스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  <a:ea typeface="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5F211-C4E0-4C4B-ACF8-FFBE8DD89C8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676520" y="490680"/>
            <a:ext cx="5641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6.5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  <a:ea typeface=""/>
              </a:rPr>
              <a:t>단일 단계 인덱스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  <a:ea typeface="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01880" y="1450800"/>
            <a:ext cx="7167240" cy="474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70656-8694-427A-8F99-8B8B44B0405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76520" y="490680"/>
            <a:ext cx="5641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6.5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  <a:ea typeface=""/>
              </a:rPr>
              <a:t>단일 단계 인덱스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  <a:ea typeface="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11360" y="1800360"/>
            <a:ext cx="7818120" cy="319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15601-62D9-4E93-871E-F78C9CD315B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31560" y="134748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클러스터링 인덱스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(clustering index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키가 아닌 필드 값에 따라 정렬된 데이터 화일에 대해 정의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각각의 상이한 키 값마다 하나의 인덱스 엔트리가 인덱스에 포함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범위 질의에 유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범위의 시작 값에 해당하는 인덱스 엔트리를 먼저 찾고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범위에 속하는 인덱스 엔트리들을 따라가면서 레코드들을 검색할 때 디스크에서 읽어오는 블록 수가 최소화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어떤 인덱스 엔트리에서 참조되는 데이터 블록을 읽어오면 그 데이터 블록에 들어 있는 대부분의 레코드들은 범위를 만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490680"/>
            <a:ext cx="5641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6.5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  <a:ea typeface=""/>
              </a:rPr>
              <a:t>단일 단계 인덱스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  <a:ea typeface="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42048-0198-4C56-834A-BAFDD041224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76520" y="490680"/>
            <a:ext cx="5641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6.5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  <a:ea typeface=""/>
              </a:rPr>
              <a:t>단일 단계 인덱스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  <a:ea typeface="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70040" y="1643040"/>
            <a:ext cx="7637400" cy="437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D0617-7F06-44A3-ABDF-7028A0A2065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676520" y="490680"/>
            <a:ext cx="5641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6.5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  <a:ea typeface=""/>
              </a:rPr>
              <a:t>단일 단계 인덱스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  <a:ea typeface="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85880" y="1558800"/>
            <a:ext cx="7531200" cy="441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FF152-270C-46B1-82A0-8B14CB71E1D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676520" y="490680"/>
            <a:ext cx="5641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6.5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  <a:ea typeface=""/>
              </a:rPr>
              <a:t>단일 단계 인덱스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  <a:ea typeface="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73200" y="1933560"/>
            <a:ext cx="7899480" cy="264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29F13-FE25-4216-BB86-41CFE979E61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31560" y="134748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보조 인덱스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(secondary index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한 화일은 기껏해야 한 가지 필드들의 조합에 대해서만 정렬될 수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보조 인덱스는 탐색 키 값에 따라 정렬되지 않은 데이터 화일에 대해 정의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보조 인덱스는 일반적으로 밀집 인덱스이므로 같은 수의 레코드들을 접근할 때 보조 인덱스를 통하면 기본 인덱스를 통하는 경우보다 디스크 접근 횟수가 증가할 수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본 인덱스를 사용한 순차 접근은 효율적이지만 보조 인덱스를 사용한 순차 접근은 비효율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1676520" y="490680"/>
            <a:ext cx="5641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6.5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  <a:ea typeface=""/>
              </a:rPr>
              <a:t>단일 단계 인덱스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  <a:ea typeface="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CB71C-E160-4765-B5D0-25DD2402292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676520" y="490680"/>
            <a:ext cx="5641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6.5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  <a:ea typeface=""/>
              </a:rPr>
              <a:t>단일 단계 인덱스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  <a:ea typeface="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057320" y="1508040"/>
            <a:ext cx="7088040" cy="471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DBEAF-EC4C-40A7-A77C-98F17C3742B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0880" y="507960"/>
            <a:ext cx="73198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6.1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</a:rPr>
              <a:t>보조 기억 장치</a:t>
            </a:r>
            <a:r>
              <a:rPr b="1" lang="en-US" sz="3000" spc="-1" strike="noStrike">
                <a:solidFill>
                  <a:srgbClr val="3333cc"/>
                </a:solidFill>
                <a:latin typeface="신명조"/>
                <a:ea typeface="신명조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신명조"/>
                <a:ea typeface="신명조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신명조"/>
                <a:ea typeface="신명조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39920" y="1716120"/>
            <a:ext cx="4260960" cy="4448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4BDDE-31CA-4F06-80E0-1E17247FEF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31560" y="134748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희소 인덱스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(sparse index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일부 키 값에 대해서만 인덱스에 엔트리를 유지하는 인덱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일반적으로 각 블록마다 한 개의 탐색 키 값이 인덱스 엔트리에 포함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13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밀집 인덱스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(dense index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각 레코드의 키 값에 대해서 인덱스에 엔트리를 유지하는 인덱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데이터 화일의 각 레코드의 탐색 키 값이 인덱스 엔트리에 포함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90680"/>
            <a:ext cx="5641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6.5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  <a:ea typeface=""/>
              </a:rPr>
              <a:t>단일 단계 인덱스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  <a:ea typeface="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9FB1E-4F50-43B0-8957-E64EFEA2B9A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676520" y="490680"/>
            <a:ext cx="5641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6.5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  <a:ea typeface=""/>
              </a:rPr>
              <a:t>단일 단계 인덱스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  <a:ea typeface="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06400" y="1457280"/>
            <a:ext cx="5678640" cy="4888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943FD-4966-4A57-9C97-149E273E74A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76520" y="490680"/>
            <a:ext cx="5641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6.5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  <a:ea typeface=""/>
              </a:rPr>
              <a:t>단일 단계 인덱스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  <a:ea typeface="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62040" y="1886040"/>
            <a:ext cx="7912080" cy="2968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C0F8E-125C-46B7-8BEC-D1130099B28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31560" y="134748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희소 인덱스와 밀집 인덱스의 비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희소 인덱스는 각 데이터 블록마다 한 개의 엔트리를 갖고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밀집 인덱스는 각 레코드마다 한 개의 엔트리를 가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밀집 인덱스 내의 엔트리 수는 희소 인덱스 내의 엔트리 수에 블록당 평균 레코드 수를 곱한 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레코드의 길이가 블록 크기보다 훨씬 작은 일반적인 경우에는 희소 인덱스의 엔트리 수가 밀집 인덱스의 엔트리 수보다 훨씬 적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희소 인덱스는 일반적으로 밀집 인덱스에 비해 인덱스 단계 수가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정도 적으므로 인덱스 탐색시 디스크 접근 수가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큼 적을 수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490680"/>
            <a:ext cx="5641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6.5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  <a:ea typeface=""/>
              </a:rPr>
              <a:t>단일 단계 인덱스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  <a:ea typeface="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8717A-7B3F-4948-A0E6-EFFC343726F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31560" y="134748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희소 인덱스와 밀집 인덱스의 비교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희소 인덱스는 밀집 인덱스에 비해 모든 갱신과 대부분의 질의에 대해 더 효율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그러나 질의에서 인덱스가 정의된 애트리뷰트만 검색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예를 들어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COUNT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질의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하는 경우에는 데이터 화일을 접근할 필요 없이 인덱스만 접근해서 질의를 수행할 수 있으므로 밀집 인덱스가 희소 인덱스보다 유리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탐색 키 값이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인 레코드가 존재하는가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?”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묻는 질의는 밀집 인덱스보다 희소 인덱스의 디스크 접근 횟수가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큼 더 많을 수 있음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한 화일은 한 개의 희소 인덱스와 다수의 밀집 인덱스를 가질 수 있음</a:t>
            </a:r>
            <a:r>
              <a:rPr b="0" lang="ko-KR" sz="1800" spc="-1" strike="noStrike">
                <a:solidFill>
                  <a:srgbClr val="000000"/>
                </a:solidFill>
                <a:latin typeface="╜┼╕φ┴╢"/>
                <a:ea typeface="신명조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490680"/>
            <a:ext cx="5641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6.5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  <a:ea typeface=""/>
              </a:rPr>
              <a:t>단일 단계 인덱스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  <a:ea typeface="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E2279-E576-4440-A777-00840DAFD5F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31560" y="134748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클러스터링 인덱스와 보조 인덱스의 비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클러스터링 인덱스는 희소 인덱스일 경우가 많으며 범위 질의 등에 좋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클러스터링 인덱스를 정의할 때는 채우기 인수에 낮은 값을 지정하여 추가로 삽입되는 레코드들에 대비하는 것이 바람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보조 인덱스는 밀집 인덱스이므로 일부 질의에 대해서는 화일을 접근할 필요 없이 처리할 수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490680"/>
            <a:ext cx="5641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6.5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  <a:ea typeface=""/>
              </a:rPr>
              <a:t>단일 단계 인덱스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  <a:ea typeface="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40F0E-8966-47E3-B2A1-6A32C158801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31560" y="134748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다단계 인덱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인덱스 자체가 클 경우에는 인덱스를 탐색하는 시간도 오래 걸릴 수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인덱스 엔트리를 탐색하는 시간을 줄이기 위해서 단일 단계 인덱스를 디스크 상의 하나의 순서 화일로 간주하고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단일 단계 인덱스에 대해서 다시 인덱스를 정의할 수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래의 인덱스를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단계 인덱스라 하고 이 인덱스에 대해 정의한 추가 인덱스를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단계 인덱스라고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다단계 인덱스는 가장 상위 단계의 모든 인덱스 엔트리들이 한 블록에 들어갈 수 있을 때까지 이런 과정을 반복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가장 상위 단계 인덱스를 </a:t>
            </a:r>
            <a:r>
              <a:rPr b="1" lang="ko-KR" sz="1800" spc="-1" strike="noStrike">
                <a:solidFill>
                  <a:srgbClr val="ff3300"/>
                </a:solidFill>
                <a:latin typeface="굴림"/>
              </a:rPr>
              <a:t>마스터 인덱스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master index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라고 부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마스터 인덱스는 한 블록으로 이루어지기 때문에 주기억 장치에 상주할 수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대부분의 다단계 인덱스는 </a:t>
            </a:r>
            <a:r>
              <a:rPr b="1" lang="ko-KR" sz="1800" spc="-1" strike="noStrike">
                <a:solidFill>
                  <a:srgbClr val="ff3300"/>
                </a:solidFill>
                <a:latin typeface="굴림"/>
              </a:rPr>
              <a:t>B</a:t>
            </a:r>
            <a:r>
              <a:rPr b="1" lang="ko-KR" sz="1800" spc="-1" strike="noStrike" baseline="30000">
                <a:solidFill>
                  <a:srgbClr val="ff3300"/>
                </a:solidFill>
                <a:latin typeface="굴림"/>
              </a:rPr>
              <a:t>+</a:t>
            </a:r>
            <a:r>
              <a:rPr b="1" lang="ko-KR" sz="1800" spc="-1" strike="noStrike">
                <a:solidFill>
                  <a:srgbClr val="ff3300"/>
                </a:solidFill>
                <a:latin typeface="굴림"/>
              </a:rPr>
              <a:t>-</a:t>
            </a:r>
            <a:r>
              <a:rPr b="1" lang="ko-KR" sz="1800" spc="-1" strike="noStrike">
                <a:solidFill>
                  <a:srgbClr val="ff3300"/>
                </a:solidFill>
                <a:latin typeface="굴림"/>
              </a:rPr>
              <a:t>트리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490680"/>
            <a:ext cx="5641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6.6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  <a:ea typeface=""/>
              </a:rPr>
              <a:t>다단계 인덱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1F6BB-6F05-47BD-A836-28887BCBF8D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676520" y="490680"/>
            <a:ext cx="5641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6.6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  <a:ea typeface=""/>
              </a:rPr>
              <a:t>다단계 인덱스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  <a:ea typeface="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847800" y="1571760"/>
            <a:ext cx="7505640" cy="450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5182B-7D42-4AD5-A885-2E968C1F3C2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676520" y="490680"/>
            <a:ext cx="5641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6.6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  <a:ea typeface=""/>
              </a:rPr>
              <a:t>다단계 인덱스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  <a:ea typeface="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89120" y="1628640"/>
            <a:ext cx="7737480" cy="2052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87320" y="3618000"/>
            <a:ext cx="7740720" cy="128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C09E1-BDF0-43C3-A96A-E830AA9CCDC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31560" y="134748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SQL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인덱스 정의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SQL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CREATE TABLE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문에서 </a:t>
            </a:r>
            <a:r>
              <a:rPr b="1" lang="ko-KR" sz="1800" spc="-1" strike="noStrike">
                <a:solidFill>
                  <a:srgbClr val="ff3300"/>
                </a:solidFill>
                <a:latin typeface="굴림"/>
              </a:rPr>
              <a:t>PRIMARY KEY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절로 명시한 애트리뷰트에 대해서는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DBMS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가 자동적으로 기본 인덱스를 생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UNIQUE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로 명시한 애트리뷰트에 대해서는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DBMS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가 자동적으로 보조 인덱스를 생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SQL2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는 인덱스 정의 및 제거에 관한 표준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SQL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문을 제공하지 않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다른 애트리뷰트에 추가로 인덱스를 정의하기 위해서는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DBMS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마다 다소 구문이 다른 </a:t>
            </a:r>
            <a:r>
              <a:rPr b="1" lang="ko-KR" sz="1800" spc="-1" strike="noStrike">
                <a:solidFill>
                  <a:srgbClr val="ff3300"/>
                </a:solidFill>
                <a:latin typeface="굴림"/>
              </a:rPr>
              <a:t>CREATE INDEX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문을 사용해야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490680"/>
            <a:ext cx="5641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6.6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  <a:ea typeface=""/>
              </a:rPr>
              <a:t>다단계 인덱스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  <a:ea typeface="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C55C2-4E3E-4D39-8F4C-6D2A41AFC8F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55320" y="14317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자기 디스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디스크는 자기 물질로 만들어진 여러 개의 판으로 이루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각 면마다 디스크 헤드가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각 판은 트랙과 섹터로 구분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정보는 디스크 표면 상의 동심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트랙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을 따라 저장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여러 개의 디스크 면 중에서 같은 지름을 갖는 트랙들을 실린더라고 부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블록은 한 개 이상의 섹터들로 이루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디스크에서 임의의 블록을 읽어오거나 기록하는데 걸리는 시간은 </a:t>
            </a:r>
            <a:r>
              <a:rPr b="1" lang="zh-CN" sz="1800" spc="-1" strike="noStrike">
                <a:solidFill>
                  <a:srgbClr val="ff3300"/>
                </a:solidFill>
                <a:latin typeface="굴림"/>
              </a:rPr>
              <a:t>탐구 시간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seek time), </a:t>
            </a:r>
            <a:r>
              <a:rPr b="1" lang="zh-CN" sz="1800" spc="-1" strike="noStrike">
                <a:solidFill>
                  <a:srgbClr val="ff3300"/>
                </a:solidFill>
                <a:latin typeface="굴림"/>
              </a:rPr>
              <a:t>회전 지연 시간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rotational delay), </a:t>
            </a:r>
            <a:r>
              <a:rPr b="1" lang="zh-CN" sz="1800" spc="-1" strike="noStrike">
                <a:solidFill>
                  <a:srgbClr val="ff3300"/>
                </a:solidFill>
                <a:latin typeface="굴림"/>
              </a:rPr>
              <a:t>전송 시간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transfer time)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의 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DBMS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의 성능은 주로 디스크 입출력 연산의 횟수에 좌우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920880" y="507960"/>
            <a:ext cx="73198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6.1 </a:t>
            </a:r>
            <a:r>
              <a:rPr b="1" lang="zh-CN" sz="3000" spc="-1" strike="noStrike">
                <a:solidFill>
                  <a:srgbClr val="3333cc"/>
                </a:solidFill>
                <a:latin typeface="신명조"/>
                <a:ea typeface="신명조"/>
              </a:rPr>
              <a:t>보조 기억 장치</a:t>
            </a:r>
            <a:r>
              <a:rPr b="1" lang="en-US" sz="3000" spc="-1" strike="noStrike">
                <a:solidFill>
                  <a:srgbClr val="3333cc"/>
                </a:solidFill>
                <a:latin typeface="신명조"/>
                <a:ea typeface="신명조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신명조"/>
                <a:ea typeface="신명조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신명조"/>
                <a:ea typeface="신명조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39FA8-D460-4E95-BD73-FFAD87170C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31560" y="134748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다수의 애트리뷰트를 사용한 인덱스 정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한 릴레이션에 속하는 두 개 이상의 애트리뷰트들의 조합에 대하여 하나의 인덱스를 정의할 수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╜┼╕φ┴╢"/>
                <a:ea typeface="신명조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CREATE INDEX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 EmpIndex 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ON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 EMPLOYEE (DNO, SALARY)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이 인덱스는 아래의 질의에 활용될 수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SELECT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FROM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EMPLOYE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WHERE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DNO=3 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AND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 SALARY = 4000000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490680"/>
            <a:ext cx="5641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6.6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  <a:ea typeface=""/>
              </a:rPr>
              <a:t>다단계 인덱스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  <a:ea typeface="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B1357-7DF0-46A3-B321-BAC3A921686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31560" y="134748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다수의 애트리뷰트를 사용한 인덱스 정의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27920" indent="-28008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이 인덱스는 아래의 질의에도 활용될 수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2792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SELECT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2792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FROM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EMPLOYE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2792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WHERE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DNO&gt;=2 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AND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 DNO &lt;=3 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AND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 SALARY &gt;= 3000000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2792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AND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 SALARY &lt;= 4000000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27920" indent="-280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이 인덱스는 아래의 질의에도 활용될 수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2792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╜┼╕φ┴╢"/>
                <a:ea typeface="신명조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SELECT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2792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FROM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EMPLOYE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2792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WHERE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DNO = 2;</a:t>
            </a:r>
            <a:r>
              <a:rPr b="0" lang="ko-KR" sz="2000" spc="-1" strike="noStrike">
                <a:solidFill>
                  <a:srgbClr val="000000"/>
                </a:solidFill>
                <a:latin typeface="신명조"/>
                <a:ea typeface="신명조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또는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DNO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대한 범위 질의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27920" indent="-280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이 인덱스는 아래의 질의에는 활용될 수 </a:t>
            </a:r>
            <a:r>
              <a:rPr b="1" lang="ko-KR" sz="1800" spc="-1" strike="noStrike">
                <a:solidFill>
                  <a:srgbClr val="ff3300"/>
                </a:solidFill>
                <a:latin typeface="굴림"/>
              </a:rPr>
              <a:t>없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2792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╜┼╕φ┴╢"/>
                <a:ea typeface="신명조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SELECT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2792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FROM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EMPLOYE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2792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WHERE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SALARY  &gt;= 3000000 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AND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 SALARY &lt;= 4000000;</a:t>
            </a:r>
            <a:r>
              <a:rPr b="0" lang="ko-KR" sz="2000" spc="-1" strike="noStrike">
                <a:solidFill>
                  <a:srgbClr val="000000"/>
                </a:solidFill>
                <a:latin typeface="신명조"/>
                <a:ea typeface="신명조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또는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SALARY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대한 동등 조건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279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2792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90680"/>
            <a:ext cx="5641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6.6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  <a:ea typeface=""/>
              </a:rPr>
              <a:t>다단계 인덱스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  <a:ea typeface="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6A17A-4AD5-4EA2-B1E5-2B10301B816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31560" y="134748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인덱스의 장점과 단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인덱스는 검색 속도를 향상시키지만 인덱스를 저장하기 위한 공간이 추가로 필요하고 삽입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삭제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수정 연산의 속도는 저하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소수의 레코드들을 수정하거나 삭제하는 연산의 속도는 향상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릴레이션이 매우 크고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질의에서 릴레이션의 투플들 중에 일부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2%~4%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검색하고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WHERE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절이 잘 표현되었을 때 특히 성능에 도움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1676520" y="490680"/>
            <a:ext cx="5641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6.6 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  <a:ea typeface=""/>
              </a:rPr>
              <a:t>다단계 인덱스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(</a:t>
            </a:r>
            <a:r>
              <a:rPr b="1" lang="zh-CN" sz="3000" spc="-1" strike="noStrike">
                <a:solidFill>
                  <a:srgbClr val="3333cc"/>
                </a:solidFill>
                <a:latin typeface="굴림"/>
                <a:ea typeface=""/>
              </a:rPr>
              <a:t>계속</a:t>
            </a: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0CEEB-B09C-479A-8CFF-E386E5B2834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31560" y="134748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인덱스 선정 지침과 데이터베이스 튜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가장 중요한 질의들과 이들의 수행 빈도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가장 중요한 갱신들과 이들의 수행 빈도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이와 같은 질의와 갱신들에 대한 바람직한 성능들을 고려하여 인덱스를 선정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워크로드 내의 각 질의에 대해 이 질의가 어떤 릴레이션들을 접근하는가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어떤 애트리뷰트들을 검색하는가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WHERE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절의 선택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조인 조건에 어떤 애트리뷰트들이 포함되는가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이 조건들의 선별력은 얼마인가 등을 고려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워크로드 내의 각 갱신에 대해 이 갱신이 어떤 릴레이션들을 접근하는가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WHERE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절의 선택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조인 조건에 어떤 애트리뷰트들이 포함되는가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이 조건들의 선별력은 얼마인가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갱신의 유형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INSERT/DELETE/UPDATE)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갱신의 영향을 받는 애트리뷰트 등을 고려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760320" y="500040"/>
            <a:ext cx="76755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6.7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  <a:ea typeface=""/>
              </a:rPr>
              <a:t>인덱스 선정 지침과 데이터베이스 튜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6D2EE-5C47-4E0A-9743-3B1D90C75CF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31560" y="134748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인덱스 선정 지침과 데이터베이스 튜닝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어떤 릴레이션에 인덱스를 생성해야 하는가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어떤 애트리뷰트를 탐색 키로 선정해야 하는가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몇 개의 인덱스를 생성해야 하는가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각 인덱스에 대해 클러스터링 인덱스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밀집 인덱스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희소 인덱스 중 어느 유형을 선택할 것인가 등을 고려함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인덱스를 선정하는 한 가지 방법은 가장 중요한 질의들을 차례로 고려해보고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현재의 인덱스가 최적의 계획에 적합한지 고려해보고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인덱스를 추가하면 더 좋은 계획이 가능한지 알아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물리적 데이터베이스 설계는 끊임없이 이루어지는 작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½Å¸íÁ¶"/>
                <a:ea typeface="신명조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27120" y="490680"/>
            <a:ext cx="79596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6.7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  <a:ea typeface=""/>
              </a:rPr>
              <a:t>인덱스 선정 지침과 데이터베이스 튜닝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  <a:ea typeface=""/>
              </a:rPr>
              <a:t>계속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83073-8AA1-4625-A248-2777CD355EC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31560" y="134748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인덱스를 결정하는데 도움이 되는 몇 가지 지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지침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1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본 키는 클러스터링 인덱스를 정의할 훌륭한 후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지침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2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외래 키도 인덱스를 정의할 중요한 후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지침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3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한 애트리뷰트에 들어 있는 상이한 값들의 개수가 거의 전체 레코드 수와 비슷하고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그 애트리뷰트가 동등 조건에 사용된다면 비 클러스터링 인덱스를 생성하는 것이 좋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지침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4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투플이 많이 들어 있는 릴레이션에서 대부분의 질의가 검색하는 투플이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2% ~ 4%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미만인 경우에는 인덱스를 생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지침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5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자주 갱신되는 애트리뷰트에는 인덱스를 정의하지 않는 것이 좋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지침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6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갱신이 빈번하게 이루어지는 릴레이션에는 인덱스를 많이 만드는 것을 피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½Å¸íÁ¶"/>
                <a:ea typeface="신명조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627120" y="490680"/>
            <a:ext cx="79596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6.7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  <a:ea typeface=""/>
              </a:rPr>
              <a:t>인덱스 선정 지침과 데이터베이스 튜닝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  <a:ea typeface=""/>
              </a:rPr>
              <a:t>계속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E0316-9A54-445C-838C-9BF2DDCDDDE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31560" y="134748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인덱스를 결정하는데 도움이 되는 몇 가지 지침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신명조"/>
                <a:ea typeface="신명조"/>
              </a:rPr>
              <a:t>지침</a:t>
            </a:r>
            <a:r>
              <a:rPr b="0" lang="ko-KR" sz="1800" spc="-1" strike="noStrike">
                <a:solidFill>
                  <a:srgbClr val="000000"/>
                </a:solidFill>
                <a:latin typeface="신명조"/>
                <a:ea typeface="신명조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7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후보 키는 기본 키가 갖는 모든 특성을 마찬가지로 갖기 때문에 인덱스를 생성할 후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지침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8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인덱스는 화일의 레코드들을 충분히 분할할 수 있어야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지침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9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정수형 애트리뷰트에 인덱스를 생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지침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10: VARCHAR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애트리뷰트에는 인덱스를 만들지 않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지침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11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작은 화일에는 인덱스를 만들 필요가 없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지침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12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대량의 데이터를 삽입할 때는 모든 인덱스를 제거하고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데이터 삽입이 끝난 후에 인덱스들을 다시 생성하는 것이 좋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½Å¸íÁ¶"/>
                <a:ea typeface="신명조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627120" y="490680"/>
            <a:ext cx="79596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6.7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  <a:ea typeface=""/>
              </a:rPr>
              <a:t>인덱스 선정 지침과 데이터베이스 튜닝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  <a:ea typeface=""/>
              </a:rPr>
              <a:t>계속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0DEED-4F83-4F59-BE80-1A420D06AA4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31560" y="134748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언제 인덱스가 사용되지 않는가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시스템 카탈로그가 오래 전의 데이터베이스 상태를 나타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DBMS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질의 최적화 모듈이 릴레이션의 크기가 작아서 인덱스가 도움이 되지 않는다고 판단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인덱스가 정의된 애트리뷰트에 산술 연산자가 사용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½Å¸íÁ¶"/>
                <a:ea typeface="신명조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SELECT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FROM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EMPLOYE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WHERE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SALARY * 12 &gt; 40000000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DBMS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가 제공하는 내장 함수가 집단 함수 대신에 사용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½Å¸íÁ¶"/>
                <a:ea typeface="신명조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½Å¸íÁ¶"/>
                <a:ea typeface="신명조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SELECT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FROM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EMPLOYE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WHERE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1" lang="ko-KR" sz="2000" spc="-1" strike="noStrike">
                <a:solidFill>
                  <a:srgbClr val="ff3300"/>
                </a:solidFill>
                <a:latin typeface="Courier New"/>
                <a:ea typeface="신명조"/>
              </a:rPr>
              <a:t>SUBSTRING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(EMPNAME, 1, 1) = ‘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김’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627120" y="490680"/>
            <a:ext cx="79596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6.7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  <a:ea typeface=""/>
              </a:rPr>
              <a:t>인덱스 선정 지침과 데이터베이스 튜닝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  <a:ea typeface=""/>
              </a:rPr>
              <a:t>계속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E45B3-CE4E-4A2A-97C5-804DA59592B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31560" y="134748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언제 인덱스가 사용되지 않는가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?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널값에 대해서는 일반적으로 인덱스가 사용되지 않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½Å¸íÁ¶"/>
                <a:ea typeface="신명조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SELECT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FROM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EMPLOYE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WHERE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MANAGER 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IS NULL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신명조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627120" y="490680"/>
            <a:ext cx="79596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6.7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  <a:ea typeface=""/>
              </a:rPr>
              <a:t>인덱스 선정 지침과 데이터베이스 튜닝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  <a:ea typeface=""/>
              </a:rPr>
              <a:t>계속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C0401-6B5B-49AB-8BE6-E0DBF949E3B6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31560" y="134748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질의 튜닝을 위한 추가 지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DISTINCT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절의 사용을 최소화하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GROUP BY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절과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HAVING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절의 사용을 최소화하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임시 릴레이션의 사용을 피하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SELECT *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대신에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SELECT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절에 애트리뷰트 이름들을 구체적으로 명시하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627120" y="490680"/>
            <a:ext cx="79596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6.7 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  <a:ea typeface=""/>
              </a:rPr>
              <a:t>인덱스 선정 지침과 데이터베이스 튜닝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굴림"/>
                <a:ea typeface=""/>
              </a:rPr>
              <a:t>계속</a:t>
            </a:r>
            <a:r>
              <a:rPr b="1" lang="en-US" sz="2800" spc="-1" strike="noStrike">
                <a:solidFill>
                  <a:srgbClr val="3333cc"/>
                </a:solidFill>
                <a:latin typeface="굴림"/>
                <a:ea typeface="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BD843-EB39-4688-BAE5-8D8A2F72984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55320" y="14317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버퍼 관리와 운영 체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디스크 입출력은 컴퓨터 시스템에서 가장 속도가 느린 작업이므로 입출력 횟수를 줄이는 것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DBMS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의 성능을 향상하는데 매우 중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가능하면 많은 블록들을 주기억 장치에 유지하거나 자주 참조되는 블록들을 주기억 장치에 유지하면 블록 전송 횟수를 줄일 수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1800" spc="-1" strike="noStrike">
                <a:solidFill>
                  <a:srgbClr val="ff3300"/>
                </a:solidFill>
                <a:latin typeface="굴림"/>
              </a:rPr>
              <a:t>버퍼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는 디스크 블록들을 저장하는데 사용되는 주기억 장치 공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버퍼 관리자는 운영 체제의 구성요소로서 주기억 장치 내에서 버퍼 공간을 할당하고 관리하는 일을 맡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한정된 버퍼 공간에 어느 블록들을 주기억 장치에 유지할 것인가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운영 체제에서 버퍼 관리를 위해 흔히 사용되는 </a:t>
            </a:r>
            <a:r>
              <a:rPr b="1" lang="en-US" sz="1800" spc="-1" strike="noStrike">
                <a:solidFill>
                  <a:srgbClr val="ff3300"/>
                </a:solidFill>
                <a:latin typeface="굴림"/>
              </a:rPr>
              <a:t>LRU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알고리즘은 데이터베이스를 위해 항상 우수한 성능을 보이지는 않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920880" y="507960"/>
            <a:ext cx="73198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굴림"/>
                <a:ea typeface=""/>
              </a:rPr>
              <a:t>6.2 </a:t>
            </a:r>
            <a:r>
              <a:rPr b="1" lang="zh-CN" sz="3000" spc="-1" strike="noStrike">
                <a:solidFill>
                  <a:srgbClr val="3333cc"/>
                </a:solidFill>
                <a:latin typeface="신명조"/>
                <a:ea typeface="신명조"/>
              </a:rPr>
              <a:t>버퍼 관리와 운영 체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13701-7CE5-4EB4-9379-67E531CCDA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55320" y="14317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디스크 상에서 화일의 레코드 배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릴레이션의 애트리뷰트는 고정 길이 또는 가변 길이의 필드로 표현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연관된 필드들이 모여서 고정 길이 또는 가변 길이의 레코드가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한 릴레이션을 구성하는 레코드들의 모임이 화일이라고 부르는 블록들의 모임에 저장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920880" y="507960"/>
            <a:ext cx="73198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6.3 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디스크 상에서 화일의 레코드 배치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38C79-9FFC-4550-97AC-B55871D367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43040" y="507960"/>
            <a:ext cx="77738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6.3 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디스크 상에서 화일의 레코드 배치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07960" y="1393920"/>
            <a:ext cx="6218280" cy="490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0829B-18AD-4BA0-ACB4-57BDE3BE9E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3613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디스크 상에서 화일의 레코드 배치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한 화일에 속하는 블록들이 반드시 인접해 있을 필요는 없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인접한 블록들을 읽는 경우에는 탐구 시간과 회전 지연 시간이 들지 않기 때문에 입출력 속도가 빠르므로 블록들이 인접하도록 한 화일의 블록들을 재조직할 수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743040" y="507960"/>
            <a:ext cx="77738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3333cc"/>
                </a:solidFill>
                <a:latin typeface="굴림"/>
                <a:ea typeface=""/>
              </a:rPr>
              <a:t>6.3 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디스크 상에서 화일의 레코드 배치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(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계속</a:t>
            </a:r>
            <a:r>
              <a:rPr b="1" lang="ko-KR" sz="30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65160" y="3852720"/>
            <a:ext cx="7397640" cy="194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6장. 물리적 데이터베이스 설계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DC104-6C0D-4DC1-B561-965D3CDAFB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노웅기</dc:creator>
  <dc:description/>
  <dc:language>en-US</dc:language>
  <cp:lastModifiedBy>KJS</cp:lastModifiedBy>
  <cp:lastPrinted>1997-07-26T06:01:56Z</cp:lastPrinted>
  <dcterms:modified xsi:type="dcterms:W3CDTF">2007-06-21T00:04:30Z</dcterms:modified>
  <cp:revision>415</cp:revision>
  <dc:subject/>
  <dc:title>슬라이드 제목 없음</dc:title>
</cp:coreProperties>
</file>