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9.png" ContentType="image/png"/>
  <Override PartName="/ppt/media/image5.jpeg" ContentType="image/jpeg"/>
  <Override PartName="/ppt/media/image28.png" ContentType="image/png"/>
  <Override PartName="/ppt/media/image8.jpeg" ContentType="image/jpeg"/>
  <Override PartName="/ppt/media/image30.png" ContentType="image/png"/>
  <Override PartName="/ppt/media/image34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7.png" ContentType="image/png"/>
  <Override PartName="/ppt/media/image33.jpeg" ContentType="image/jpeg"/>
  <Override PartName="/ppt/media/image1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B53E0-D852-4302-A6BF-1E3CCB088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6764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51788-0116-4102-9D98-F5C41F96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4560" y="15998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676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4560" y="40676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D41FA-9BC8-489C-986F-8CE12B295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360" y="159984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0560" y="159984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6764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360" y="406764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0560" y="406764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DAAE7-8166-4948-98E7-0BCC2DC92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FFC5E-2FD8-4A14-840A-FC9422D2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B3F7F-D883-42B1-B49D-F058BA88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4560" y="159984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1BE84-BAC3-4B81-8727-704F48B1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0072A-1555-4553-A191-B15D3650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D0EE4-FB03-489A-9176-DC42CD8D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4560" y="159984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676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F2896-6AFE-42D5-9D02-3BBA7F90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4560" y="15998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4560" y="40676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B9372-6F92-41A1-8D0D-7E2C6BDC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4560" y="15998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6764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FE75C-9599-41D2-97A2-55295F61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1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30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E5AE-28F6-450D-9D6F-2E4329BA46B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3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95160" y="1119240"/>
            <a:ext cx="785052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900520" y="509760"/>
            <a:ext cx="33368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8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.1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뷰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80520" y="1599840"/>
            <a:ext cx="84805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뷰를 사용하여 데이터를 접근할 때 관계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DBMS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에서 거치는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시스템 카탈로그로부터 뷰의 정의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즉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SELECT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문을 검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기본 릴레이션에 대한 뷰의 접근 권한을 검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뷰에 대한 질의를 기본 릴레이션에 대한 동등한 질의로 변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55520" y="3467160"/>
            <a:ext cx="7081920" cy="1351080"/>
          </a:xfrm>
          <a:prstGeom prst="rect">
            <a:avLst/>
          </a:prstGeom>
          <a:ln w="6480">
            <a:solidFill>
              <a:srgbClr val="3366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장. 뷰와 시스템 카탈로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D15C0-D78C-476A-B019-C0A6B8A601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900520" y="509760"/>
            <a:ext cx="33368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8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.1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뷰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55320" y="1268280"/>
            <a:ext cx="8458200" cy="490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뷰의 장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뷰는 복잡한 질의를 간단하게 표현할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기획부에 근무하는 사원들 중에서 직책이 부장인 사원의 사원이름과 급여를 검색하는 질의를 기본 릴레이션을 사용하여 표현하면 아래와 같이 다소 복잡한 형태의 질의가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뷰에 대해서 같은 결과를 검색하는 질의를 표현하면</a:t>
            </a:r>
            <a:r>
              <a:rPr b="0" lang="ko-KR" sz="1600" spc="-1" strike="noStrike">
                <a:solidFill>
                  <a:srgbClr val="000000"/>
                </a:solidFill>
                <a:latin typeface="신명조"/>
                <a:ea typeface="신명조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76520" y="3168720"/>
            <a:ext cx="4257720" cy="1539720"/>
          </a:xfrm>
          <a:prstGeom prst="rect">
            <a:avLst/>
          </a:prstGeom>
          <a:ln w="6480">
            <a:solidFill>
              <a:srgbClr val="3366ff"/>
            </a:solidFill>
            <a:miter/>
          </a:ln>
        </p:spPr>
      </p:pic>
      <p:graphicFrame>
        <p:nvGraphicFramePr>
          <p:cNvPr id="65" name=""/>
          <p:cNvGraphicFramePr/>
          <p:nvPr/>
        </p:nvGraphicFramePr>
        <p:xfrm>
          <a:off x="1655640" y="5335560"/>
          <a:ext cx="3517920" cy="100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5640" y="5335560"/>
                    <a:ext cx="3517920" cy="1003320"/>
                  </a:xfrm>
                  <a:prstGeom prst="rect">
                    <a:avLst/>
                  </a:prstGeom>
                  <a:ln w="6480">
                    <a:solidFill>
                      <a:srgbClr val="3366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장. 뷰와 시스템 카탈로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02E05-915C-4853-B6B8-57DED857FF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900520" y="509760"/>
            <a:ext cx="33368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8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.1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뷰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55320" y="13507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뷰의 장점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뷰는 데이터 무결성을 보장하는데 활용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기본적으로 뷰를 통해 투플을 추가하거나 수정할 때 투플이 뷰를 정의하는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SELECT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문의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WHERE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절의 기준에 맞지 않으면 뷰의 내용에서 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이 뷰의 정의할 때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WITH CHECK OPTION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명시했다고 가정하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645000" y="3087720"/>
          <a:ext cx="2870280" cy="101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45000" y="3087720"/>
                    <a:ext cx="2870280" cy="1015920"/>
                  </a:xfrm>
                  <a:prstGeom prst="rect">
                    <a:avLst/>
                  </a:prstGeom>
                  <a:ln w="6480">
                    <a:solidFill>
                      <a:srgbClr val="3366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028960" y="4753080"/>
            <a:ext cx="4802040" cy="165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장. 뷰와 시스템 카탈로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D2A51-4AA4-427B-9F2C-B2BB34DB38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900520" y="509760"/>
            <a:ext cx="33368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8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.1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뷰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55320" y="13507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뷰의 장점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뷰는 데이터 독립성을 제공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뷰는 데이터베이스의 구조가 바뀌어도 기존의 질의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응용 프로그램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다시 작성할 필요성을 줄이는데 사용될 수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응용의 요구사항이 변경되어 기존의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EMPLOYEE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릴레이션이 두 개의 릴레이션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EMP1(EMPNO, EMPNAME, SALARY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0" algn="just">
              <a:lnSpc>
                <a:spcPct val="13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EMP2(EMPNO, TITLE, MANAGER, DNO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로 분해되었다고 가정하자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응용 프로그램에서 기존의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EMPLOYEE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릴레이션을 접근하던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SELECT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문은 더 이상 수행되지 않으므로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EMP1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과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EMP2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대한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SELECT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문으로 변경해야 한다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아래와 같이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EMPLOEE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라는 뷰를 정의했다면 응용 프로그램에서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EMPLOYEE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릴레이션을 접근하던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SELECT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문은 계속해서 수행될 수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장. 뷰와 시스템 카탈로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B4A30-C203-47DB-967A-E1E6D72773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900520" y="509760"/>
            <a:ext cx="33368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8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.1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뷰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55320" y="13507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뷰의 장점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뷰는 데이터 독립성을 제공함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27120" y="2409840"/>
          <a:ext cx="8064360" cy="18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120" y="2409840"/>
                    <a:ext cx="8064360" cy="1812960"/>
                  </a:xfrm>
                  <a:prstGeom prst="rect">
                    <a:avLst/>
                  </a:prstGeom>
                  <a:ln w="6480">
                    <a:solidFill>
                      <a:srgbClr val="3366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장. 뷰와 시스템 카탈로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186AC-E0AC-44E7-9820-314B9C8377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900520" y="509760"/>
            <a:ext cx="33368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8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.1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뷰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55320" y="13507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뷰의 장점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뷰는 데이터 보안 기능을 제공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뷰는 뷰의 원본이 되는 기본 릴레이션에 직접 접근할 수 있는 권한을 부여하지 않고 뷰를 통해 데이터를 접근하도록 하기 때문에 보안 메커니즘으로 사용할 수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뷰는 일반적으로 기본 릴레이션의 일부 애트리뷰트들 또는 일부 투플들을 검색하는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SELECT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문으로 정의되므로 뷰를 통해서 기본 릴레이션을 접근하면 기본 릴레이션의 일부만 검색할 수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: EMPLOYEE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릴레이션의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SALARY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애트리뷰트는 숨기고 나머지 애트리뷰트들은 모든 사용자가 접근할 수 있도록 하려면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SALARY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애트리뷰트를 제외하고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EMPLOYEE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릴레이션의 모든 애트리뷰트를 포함하는 뷰를 정의하고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사용자에게 뷰에 대한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SELECT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권한을 허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장. 뷰와 시스템 카탈로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B2591-FD98-4911-8C95-06506FA6F4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900520" y="509760"/>
            <a:ext cx="33368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8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.1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뷰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55320" y="13507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뷰의 장점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동일한 데이터에 대한 여러 가지 뷰를 제공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뷰는 사용자들의 그룹이 각자 특정한 기준에 따라 데이터를 접근하도록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장. 뷰와 시스템 카탈로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9669E-4358-460F-9B8F-F4F21FEDD2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900520" y="509760"/>
            <a:ext cx="33368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8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.1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뷰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55320" y="13507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뷰의 갱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뷰에 대한 검색이 기본 릴레이션에 대한 검색으로 변환되듯이 뷰에 대한 갱신도 기본 릴레이션에 대한 갱신으로 변환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아래의 갱신들이 성공적으로 수행될 수 있는가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갱신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1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한 릴레이션 위에서 정의된 뷰에 대한 갱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24160" y="3414600"/>
            <a:ext cx="6257880" cy="2237040"/>
          </a:xfrm>
          <a:prstGeom prst="rect">
            <a:avLst/>
          </a:prstGeom>
          <a:ln w="6480">
            <a:solidFill>
              <a:srgbClr val="3366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장. 뷰와 시스템 카탈로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C5357-DC3F-4BBB-9345-76CB5ADC41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900520" y="509760"/>
            <a:ext cx="33368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8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.1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뷰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3599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뷰의 갱신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갱신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2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두 개의 릴레이션 위에서 정의된 뷰에 대한 갱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98680" y="2773440"/>
            <a:ext cx="5338800" cy="1928880"/>
          </a:xfrm>
          <a:prstGeom prst="rect">
            <a:avLst/>
          </a:prstGeom>
          <a:ln w="6480">
            <a:solidFill>
              <a:srgbClr val="3366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장. 뷰와 시스템 카탈로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9DF9F-DB53-4ED9-A4FB-7E408FD18C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900520" y="509760"/>
            <a:ext cx="33368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8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.1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뷰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55320" y="13507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뷰의 갱신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갱신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3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집단 함수 등을 포함한 뷰에 대한 갱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239840" y="2249640"/>
          <a:ext cx="5689440" cy="138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9840" y="2249640"/>
                    <a:ext cx="5689440" cy="1384200"/>
                  </a:xfrm>
                  <a:prstGeom prst="rect">
                    <a:avLst/>
                  </a:prstGeom>
                  <a:ln w="6480">
                    <a:solidFill>
                      <a:srgbClr val="3366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1233360" y="3962520"/>
          <a:ext cx="3683160" cy="105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3360" y="3962520"/>
                    <a:ext cx="3683160" cy="1054080"/>
                  </a:xfrm>
                  <a:prstGeom prst="rect">
                    <a:avLst/>
                  </a:prstGeom>
                  <a:ln w="6480">
                    <a:solidFill>
                      <a:srgbClr val="3366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1214280" y="5405400"/>
          <a:ext cx="3314880" cy="69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4280" y="5405400"/>
                    <a:ext cx="3314880" cy="698400"/>
                  </a:xfrm>
                  <a:prstGeom prst="rect">
                    <a:avLst/>
                  </a:prstGeom>
                  <a:ln w="6480">
                    <a:solidFill>
                      <a:srgbClr val="3366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장. 뷰와 시스템 카탈로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87136-09F5-405B-833B-E91C5C068B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15880" y="507960"/>
            <a:ext cx="61516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8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장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.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뷰와 시스템 카탈로그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55320" y="13633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뷰와 시스템 카탈로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관계 데이터베이스 시스템의 뷰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view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는 다른 릴레이션으로부터 </a:t>
            </a:r>
            <a:r>
              <a:rPr b="1" lang="ko-KR" sz="1800" spc="-1" strike="noStrike">
                <a:solidFill>
                  <a:srgbClr val="ff3300"/>
                </a:solidFill>
                <a:latin typeface="굴림"/>
              </a:rPr>
              <a:t>유도된 릴레이션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derived relation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으로서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ANSI/SPARC 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단계 아키텍처의 외부 뷰와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뷰는 관계 데이터베이스 시스템에서 데이터베이스의 보안 메카니즘으로서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복잡한 질의를 간단하게 표현하는 수단으로서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데이터독립성을 높이기 위해서 사용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시스템 카탈로그는 시스템내의 객체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기본 릴레이션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뷰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인덱스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사용자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접근 권한 등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관한 정보를 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시스템 카탈로그를 적절히 활용하면 원하는 릴레이션을 데이터베이스에서 찾고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그 릴레이션에 어떤 애트리뷰트들이 들어 있으며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각 애트리뷰트의 데이터 타입은 무엇인가 등을 쉽게 파악할 수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시스템 카탈로그는 데이터베이스를 효율적으로 활용하는데 크게 도움이 됨</a:t>
            </a:r>
            <a:r>
              <a:rPr b="0" lang="ko-KR" sz="1800" spc="-1" strike="noStrike">
                <a:solidFill>
                  <a:srgbClr val="000000"/>
                </a:solidFill>
                <a:latin typeface="╜┼╕φ┴╢"/>
                <a:ea typeface="신명조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장. 뷰와 시스템 카탈로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9C562-FBCF-4152-9F98-DF5177C7C7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900520" y="509760"/>
            <a:ext cx="33368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8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.1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뷰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55320" y="13507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갱신이 불가능한 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한 릴레이션 위에서 정의되었으나 그 릴레이션의 기본 키가 포함되지 않은 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기본 릴레이션의 애트리뷰트들 중에서 뷰에 포함되지 않은 애트리뷰트에 대해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NOT NULL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이 지정되어 있을 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집단 함수가 포함된 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조인으로 정의된 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장. 뷰와 시스템 카탈로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2DE36-43B2-4023-BD1C-56D2FF97A0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900520" y="509760"/>
            <a:ext cx="33368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8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.1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뷰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92400" y="2071800"/>
            <a:ext cx="6561000" cy="3322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장. 뷰와 시스템 카탈로그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B591B-CAC4-4F79-977A-5041327ACE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11080" y="487440"/>
            <a:ext cx="75898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8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.2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관계 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DBMS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의 시스템 카탈로그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55320" y="13507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시스템 카탈로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시스템 카탈로그는 데이터베이스의 객체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사용자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릴레이션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뷰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인덱스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권한 등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와 구조들에 관한 모든 데이터를 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시스템 카탈로그를 </a:t>
            </a:r>
            <a:r>
              <a:rPr b="1" lang="ko-KR" sz="1800" spc="-1" strike="noStrike">
                <a:solidFill>
                  <a:srgbClr val="ff3300"/>
                </a:solidFill>
                <a:latin typeface="굴림"/>
              </a:rPr>
              <a:t>메타데이터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라고 함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메타데이터는 데이터에 관한 데이터라는 의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시스템 카탈로그는 사용자 및 질의 최적화 모듈 등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DBMS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자신의 구성요소에 의해서 사용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시스템 카탈로그는 관계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DBMS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마다 표준화되어 있지 않아서 관계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DBMS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마다 서로 다른 형태로 시스템 카탈로그 기능을 제공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시스템 카탈로그는 </a:t>
            </a:r>
            <a:r>
              <a:rPr b="1" lang="ko-KR" sz="1800" spc="-1" strike="noStrike">
                <a:solidFill>
                  <a:srgbClr val="ff3300"/>
                </a:solidFill>
                <a:latin typeface="굴림"/>
              </a:rPr>
              <a:t>데이터 사전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data dictionary)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또는 </a:t>
            </a:r>
            <a:r>
              <a:rPr b="1" lang="ko-KR" sz="1800" spc="-1" strike="noStrike">
                <a:solidFill>
                  <a:srgbClr val="ff3300"/>
                </a:solidFill>
                <a:latin typeface="굴림"/>
              </a:rPr>
              <a:t>시스템 테이블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이라고도 부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장. 뷰와 시스템 카탈로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103A5-B383-4C2B-8F8E-1103E6E946F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11080" y="487440"/>
            <a:ext cx="75898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8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.2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관계 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DBMS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의 시스템 카탈로그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55320" y="13507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시스템 카탈로그가 질의 처리에 어떻게 활용되는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"/>
              </a:rPr>
              <a:t>SELECT</a:t>
            </a:r>
            <a:r>
              <a:rPr b="1" lang="ko-KR" sz="1700" spc="-1" strike="noStrike">
                <a:solidFill>
                  <a:srgbClr val="000000"/>
                </a:solidFill>
                <a:latin typeface="굴림"/>
              </a:rPr>
              <a:t>문이 문법적으로 정확한가를 검사함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"/>
              </a:rPr>
              <a:t>SELECT</a:t>
            </a:r>
            <a:r>
              <a:rPr b="1" lang="ko-KR" sz="1700" spc="-1" strike="noStrike">
                <a:solidFill>
                  <a:srgbClr val="000000"/>
                </a:solidFill>
                <a:latin typeface="굴림"/>
              </a:rPr>
              <a:t>문에서 참조하는 </a:t>
            </a:r>
            <a:r>
              <a:rPr b="1" lang="ko-KR" sz="1700" spc="-1" strike="noStrike">
                <a:solidFill>
                  <a:srgbClr val="000000"/>
                </a:solidFill>
                <a:latin typeface="굴림"/>
              </a:rPr>
              <a:t>EMPLOYEE </a:t>
            </a:r>
            <a:r>
              <a:rPr b="1" lang="ko-KR" sz="1700" spc="-1" strike="noStrike">
                <a:solidFill>
                  <a:srgbClr val="000000"/>
                </a:solidFill>
                <a:latin typeface="굴림"/>
              </a:rPr>
              <a:t>릴레이션이 데이터베이스에 존재하는가를 검사함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"/>
              </a:rPr>
              <a:t>EMPLOYEE </a:t>
            </a:r>
            <a:r>
              <a:rPr b="1" lang="ko-KR" sz="1700" spc="-1" strike="noStrike">
                <a:solidFill>
                  <a:srgbClr val="000000"/>
                </a:solidFill>
                <a:latin typeface="굴림"/>
              </a:rPr>
              <a:t>릴레이션에 </a:t>
            </a:r>
            <a:r>
              <a:rPr b="1" lang="ko-KR" sz="1700" spc="-1" strike="noStrike">
                <a:solidFill>
                  <a:srgbClr val="000000"/>
                </a:solidFill>
                <a:latin typeface="굴림"/>
              </a:rPr>
              <a:t>SELECT</a:t>
            </a:r>
            <a:r>
              <a:rPr b="1" lang="ko-KR" sz="1700" spc="-1" strike="noStrike">
                <a:solidFill>
                  <a:srgbClr val="000000"/>
                </a:solidFill>
                <a:latin typeface="굴림"/>
              </a:rPr>
              <a:t>절에 열거된 애트리뷰트와 </a:t>
            </a:r>
            <a:r>
              <a:rPr b="1" lang="ko-KR" sz="1700" spc="-1" strike="noStrike">
                <a:solidFill>
                  <a:srgbClr val="000000"/>
                </a:solidFill>
                <a:latin typeface="굴림"/>
              </a:rPr>
              <a:t>WHERE</a:t>
            </a:r>
            <a:r>
              <a:rPr b="1" lang="ko-KR" sz="1700" spc="-1" strike="noStrike">
                <a:solidFill>
                  <a:srgbClr val="000000"/>
                </a:solidFill>
                <a:latin typeface="굴림"/>
              </a:rPr>
              <a:t>절에서 조건에 사용된 애트리뷰트가 존재하는가를 확인함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"/>
              </a:rPr>
              <a:t>SALARY </a:t>
            </a:r>
            <a:r>
              <a:rPr b="1" lang="ko-KR" sz="1700" spc="-1" strike="noStrike">
                <a:solidFill>
                  <a:srgbClr val="000000"/>
                </a:solidFill>
                <a:latin typeface="굴림"/>
              </a:rPr>
              <a:t>애트리뷰트가 수식에 사용되었으므로 이 애트리뷰트의 데이터 타입이 숫자형</a:t>
            </a:r>
            <a:r>
              <a:rPr b="1" lang="ko-KR" sz="17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700" spc="-1" strike="noStrike">
                <a:solidFill>
                  <a:srgbClr val="000000"/>
                </a:solidFill>
                <a:latin typeface="굴림"/>
              </a:rPr>
              <a:t>정수형이나 실수형</a:t>
            </a:r>
            <a:r>
              <a:rPr b="1" lang="ko-KR" sz="17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700" spc="-1" strike="noStrike">
                <a:solidFill>
                  <a:srgbClr val="000000"/>
                </a:solidFill>
                <a:latin typeface="굴림"/>
              </a:rPr>
              <a:t>인가를 검사하고</a:t>
            </a:r>
            <a:r>
              <a:rPr b="1" lang="ko-KR" sz="1700" spc="-1" strike="noStrike">
                <a:solidFill>
                  <a:srgbClr val="000000"/>
                </a:solidFill>
                <a:latin typeface="굴림"/>
              </a:rPr>
              <a:t>, TITLE</a:t>
            </a:r>
            <a:r>
              <a:rPr b="1" lang="ko-KR" sz="1700" spc="-1" strike="noStrike">
                <a:solidFill>
                  <a:srgbClr val="000000"/>
                </a:solidFill>
                <a:latin typeface="굴림"/>
              </a:rPr>
              <a:t>이 문자열과 비교되었으므로 이 애트리뷰트의 데이터 타입이 문자형</a:t>
            </a:r>
            <a:r>
              <a:rPr b="1" lang="ko-KR" sz="1700" spc="-1" strike="noStrike">
                <a:solidFill>
                  <a:srgbClr val="000000"/>
                </a:solidFill>
                <a:latin typeface="굴림"/>
              </a:rPr>
              <a:t>(CHAR(n) </a:t>
            </a:r>
            <a:r>
              <a:rPr b="1" lang="ko-KR" sz="1700" spc="-1" strike="noStrike">
                <a:solidFill>
                  <a:srgbClr val="000000"/>
                </a:solidFill>
                <a:latin typeface="굴림"/>
              </a:rPr>
              <a:t>또는 </a:t>
            </a:r>
            <a:r>
              <a:rPr b="1" lang="ko-KR" sz="1700" spc="-1" strike="noStrike">
                <a:solidFill>
                  <a:srgbClr val="000000"/>
                </a:solidFill>
                <a:latin typeface="굴림"/>
              </a:rPr>
              <a:t>VARCHAR(n) </a:t>
            </a:r>
            <a:r>
              <a:rPr b="1" lang="ko-KR" sz="1700" spc="-1" strike="noStrike">
                <a:solidFill>
                  <a:srgbClr val="000000"/>
                </a:solidFill>
                <a:latin typeface="굴림"/>
              </a:rPr>
              <a:t>등</a:t>
            </a:r>
            <a:r>
              <a:rPr b="1" lang="ko-KR" sz="17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700" spc="-1" strike="noStrike">
                <a:solidFill>
                  <a:srgbClr val="000000"/>
                </a:solidFill>
                <a:latin typeface="굴림"/>
              </a:rPr>
              <a:t>인가를 검사함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015920" y="1933560"/>
          <a:ext cx="5423040" cy="10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920" y="1933560"/>
                    <a:ext cx="5423040" cy="1041480"/>
                  </a:xfrm>
                  <a:prstGeom prst="rect">
                    <a:avLst/>
                  </a:prstGeom>
                  <a:ln w="6480">
                    <a:solidFill>
                      <a:srgbClr val="3366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장. 뷰와 시스템 카탈로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D70EA-43E8-4DCF-B4F7-42E081F10C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11080" y="487440"/>
            <a:ext cx="75898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8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.2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관계 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DBMS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의 시스템 카탈로그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55320" y="13507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시스템 카탈로그가 질의 처리에 어떻게 활용되는가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이 질의를 입력한 사용자가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EMPLOYEE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릴레이션의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EMPNAME, SALARY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애트리뷰트를 검색할 수 있는 권한이 있는가를 확인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TITLE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애트리뷰트와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DNO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애트리뷰트에 인덱스가 정의되어 있는지 확인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두 애트리뷰트에 각각 인덱스가 존재한다고 가정하자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. DBMS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가 두 인덱스 중에서 조건을 만족하는 투플 수가 적은 것을 선택하기 위해서는 관계 데이터베이스 시스템에 데이터베이스 외에 추가로 정보를 유지해야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한 릴레이션의 전체 투플 수와 그 릴레이션에 정의된 각 인덱스에 존재하는 상이한 값들의 개수를 유지한다면 어느 인덱스를 사용하는 것이 유리한가를 예상할 수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장. 뷰와 시스템 카탈로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60AA3-83C6-4E7A-B56C-803DA218400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11080" y="487440"/>
            <a:ext cx="75898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8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.2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관계 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DBMS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의 시스템 카탈로그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55320" y="13507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시스템 카탈로그가 질의 처리에 어떻게 활용되는가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4.8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EMPLOYEE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릴레이션의 전체 투플 수는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이고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TITLE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애트리뷰트에는 사원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대리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과장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부장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이사의 다섯 가지 값들이 존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DNO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애트리뷰트에는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1, 2, 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세 가지 값들이 존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따라서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TITLE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애트리뷰트에 정의된 인덱스가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DNO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정의된 인덱스보다 대상 투플들을 더 좁혀 주므로 유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장. 뷰와 시스템 카탈로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E0AB4-DC50-4639-AF8E-79E9EF24CA3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811080" y="487440"/>
            <a:ext cx="75898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8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.2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관계 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DBMS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의 시스템 카탈로그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55320" y="13507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질의 최적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DBMS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가 질의를 수행하는 여러 가지 방법들 중에서 가장 비용이 적게 드는 방법을 찾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질의 최적화 모듈이 정확한 결정을 내릴 수 있도록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DBMS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는 자체 목적을 위해서 시스템 카탈로그에 다양한 정보를 유지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사용자가 질의 최적화 모듈을 깊이 있게 이해할 필요는 없지만 질의 최적화 모듈이 정확한 수행 방법을 결정하기 위해서는 릴레이션에 관한 다양한 통계 정보가 정확하게 유지돼야 한다는 것을 알고 있는 것이 바람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장. 뷰와 시스템 카탈로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882B4-2D3B-41FE-8E2D-AAA987C9B6D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11080" y="487440"/>
            <a:ext cx="75898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8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.2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관계 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DBMS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의 시스템 카탈로그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55320" y="13507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관계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DBMS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시스템 카탈로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사용자 릴레이션과 마찬가지 형태로 저장되기 때문에 사용자 릴레이션에 적용되는 회복 기법과 동시성 제어 기법을 동일하게 사용할 수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시스템 카탈로그는 사용자 릴레이션처럼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SELECT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문을 사용하여 내용을 검색할 수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시스템 카탈로그에는 릴레이션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애트리뷰트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인덱스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사용자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권한 등 각 유형마다 별도의 릴레이션이 유지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EMPLOYEE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릴레이션과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DEPARTMENT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릴레이션에 대해서 시스템 카탈로그에 어떤 정보들이 유지되는가를 이해하기 쉽도록 시스템 카탈로그를 매우 단순화하여 설명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릴레이션에 관한 정보를 유지하는 릴레이션의 이름이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SYS_RELATION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애트리뷰트에 관한 정보를 유지하는 릴레이션의 이름이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SYS_ATTRIBUTE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라고 가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장. 뷰와 시스템 카탈로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AD9FA-F4F4-4D9D-94F9-5124BDF745E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11080" y="487440"/>
            <a:ext cx="75898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8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.2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관계 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DBMS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의 시스템 카탈로그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33640" y="1530360"/>
            <a:ext cx="6805440" cy="48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장. 뷰와 시스템 카탈로그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2B1F0-1AFF-49CE-94AB-D27AC06AD75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11080" y="487440"/>
            <a:ext cx="75898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8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.2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관계 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DBMS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의 시스템 카탈로그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55320" y="13507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시스템 카탈로그의 갱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어떤 사용자도 시스템 카탈로그를 직접 갱신할 수 없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즉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DELETE, UPDATE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또는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INSERT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문을 사용하여 시스템 카탈로그를 변경할 수 없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EMPLOYEE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릴레이션의 소유자인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KIM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이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EMPLOYEE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릴레이션에서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MANAGER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애트리뷰트를 삭제하기 위해서</a:t>
            </a:r>
            <a:r>
              <a:rPr b="0" lang="ko-KR" sz="18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╜┼╕φ┴╢"/>
                <a:ea typeface="신명조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╜┼╕φ┴╢"/>
                <a:ea typeface="신명조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신명조"/>
              </a:rPr>
              <a:t>ALTER TABLE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신명조"/>
              </a:rPr>
              <a:t> EMPLOYEE </a:t>
            </a: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신명조"/>
              </a:rPr>
              <a:t>DROP COLUMN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신명조"/>
              </a:rPr>
              <a:t> MANAGER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라고 하는 대신에 아래와 같이 시스템 카탈로그에 대해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DELETE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문을 사용하면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DBMS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가 거절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신명조"/>
              </a:rPr>
              <a:t>DELETE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신명조"/>
              </a:rPr>
              <a:t>FROM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신명조"/>
              </a:rPr>
              <a:t>  SYS_ATTRIBUT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신명조"/>
              </a:rPr>
              <a:t>WHERE</a:t>
            </a: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신명조"/>
              </a:rPr>
              <a:t>AttRelId = 'EMPLOYEE' </a:t>
            </a: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신명조"/>
              </a:rPr>
              <a:t>AND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신명조"/>
              </a:rPr>
              <a:t> AttName = 'MANAGER'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장. 뷰와 시스템 카탈로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180EE-9D23-46F7-A4F9-4198BC3A490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12920" y="496800"/>
            <a:ext cx="29451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8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.1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55320" y="13633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뷰의 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ANSI/SPARC 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단계 아키텍처에서 외부 뷰는 특정 사용자가 보는 데이터베이스의 구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관계 데이터베이스에서의 뷰는 한 사용자의 전체 외부 뷰 대신에 하나의 </a:t>
            </a:r>
            <a:r>
              <a:rPr b="1" lang="ko-KR" sz="1800" spc="-1" strike="noStrike">
                <a:solidFill>
                  <a:srgbClr val="ff3300"/>
                </a:solidFill>
                <a:latin typeface="굴림"/>
              </a:rPr>
              <a:t>가상 릴레이션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virtual relation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의미하는데 사용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뷰는 기존의 </a:t>
            </a:r>
            <a:r>
              <a:rPr b="1" lang="ko-KR" sz="1800" spc="-1" strike="noStrike">
                <a:solidFill>
                  <a:srgbClr val="ff3300"/>
                </a:solidFill>
                <a:latin typeface="굴림"/>
              </a:rPr>
              <a:t>기본 릴레이션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base relation.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실제 릴레이션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대한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SELECT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문의 형태로 정의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사용자는 여러 개의 릴레이션과 뷰를 사용할 수 있음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뷰는 기본 릴레이션이 나타날 수 있는 곳은 어디든지 사용될 수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뷰는 릴레이션으로부터 데이터를 검색하거나 갱신할 수 있는 </a:t>
            </a:r>
            <a:r>
              <a:rPr b="1" lang="ko-KR" sz="1800" spc="-1" strike="noStrike">
                <a:solidFill>
                  <a:srgbClr val="ff3300"/>
                </a:solidFill>
                <a:latin typeface="굴림"/>
              </a:rPr>
              <a:t>동적인 창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dynamic window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1800" spc="-1" strike="noStrike">
                <a:solidFill>
                  <a:srgbClr val="000000"/>
                </a:solidFill>
                <a:latin typeface="╜┼╕φ┴╢"/>
                <a:ea typeface="신명조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장. 뷰와 시스템 카탈로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52945-2E37-4A02-893C-1E4AD02A2A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11080" y="487440"/>
            <a:ext cx="75898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8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.2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관계 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DBMS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의 시스템 카탈로그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55320" y="13507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시스템 카탈로그에 유지되는 통계 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릴레이션마다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0" algn="just">
              <a:lnSpc>
                <a:spcPct val="13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투플의 크기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투플 수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각 블록의 채우기 비율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블록킹 인수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0" algn="just">
              <a:lnSpc>
                <a:spcPct val="13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릴레이션의 크기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블록 수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뷰마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0" algn="just">
              <a:lnSpc>
                <a:spcPct val="13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뷰의 이름과 정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애트리뷰트마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0" algn="just">
              <a:lnSpc>
                <a:spcPct val="13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애트리뷰트의 데이터 타입과 크기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애트리뷰트 내의 상이한 값들의 수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0" algn="just">
              <a:lnSpc>
                <a:spcPct val="13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애트리뷰트 값의 범위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선택율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조건을 만족하는 투플 수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체 투플 수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장. 뷰와 시스템 카탈로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4977C-0F20-4190-A4C6-81E74C804A8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11080" y="487440"/>
            <a:ext cx="75898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8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.2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관계 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DBMS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의 시스템 카탈로그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55320" y="13507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시스템 카탈로그에 유지되는 통계 정보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사용자마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접근할 수 있는 릴레이션과 권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인덱스마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0" algn="just">
              <a:lnSpc>
                <a:spcPct val="13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인덱스된 애트리뷰트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키 애트리뷰트 또는 비 키 애트리뷰트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클러스터링 인덱스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비 클러스터링 인덱스 여부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밀집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희소 인덱스 여부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인덱스의 높이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1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단계 인덱스의 블록 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장. 뷰와 시스템 카탈로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FB5FB-1F98-49BE-A413-339A3539B23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09480" y="476280"/>
            <a:ext cx="80042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8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.3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오라클의 시스템 카탈로그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55320" y="13507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오라클의 시스템 카탈로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시스템 카탈로그를 </a:t>
            </a:r>
            <a:r>
              <a:rPr b="1" lang="ko-KR" sz="1800" spc="-1" strike="noStrike">
                <a:solidFill>
                  <a:srgbClr val="ff3300"/>
                </a:solidFill>
                <a:latin typeface="굴림"/>
              </a:rPr>
              <a:t>데이터 사전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3300"/>
                </a:solidFill>
                <a:latin typeface="굴림"/>
              </a:rPr>
              <a:t>data dictionary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이라고 부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데이터 사전은 시스템 테이블스페이스에 저장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데이터 사전은 기본 테이블과 데이터 사전 뷰로 구성됨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사용자는 기본 테이블의 정보가 암호화된 형태로 저장되어 있기 때문에 직접 접근할 필요가 거의 없으며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일반적으로 이해하기 쉬운 형식의 정보를 제공하는 데이터 사전 뷰를 접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데이터 사전을 접근하려면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SELECT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문만 사용해야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장. 뷰와 시스템 카탈로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FC1AB-D68F-4856-BF23-9DC891EFF2C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09480" y="476280"/>
            <a:ext cx="80042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8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.3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오라클의 시스템 카탈로그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55320" y="13507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데이터 사전 뷰의 세 부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"/>
              </a:rPr>
              <a:t>DBA_xxx </a:t>
            </a:r>
            <a:r>
              <a:rPr b="1" lang="ko-KR" sz="1800" spc="-1" strike="noStrike">
                <a:solidFill>
                  <a:srgbClr val="ff3300"/>
                </a:solidFill>
                <a:latin typeface="굴림"/>
              </a:rPr>
              <a:t>뷰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데이터베이스 내의 모든 객체들에 관한 정보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"/>
              </a:rPr>
              <a:t>ALL_xxx </a:t>
            </a:r>
            <a:r>
              <a:rPr b="1" lang="ko-KR" sz="1800" spc="-1" strike="noStrike">
                <a:solidFill>
                  <a:srgbClr val="ff3300"/>
                </a:solidFill>
                <a:latin typeface="굴림"/>
              </a:rPr>
              <a:t>뷰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현재의 사용자가 접근할 수 있는 객체들에 관한 정보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"/>
              </a:rPr>
              <a:t>USER_xxx </a:t>
            </a:r>
            <a:r>
              <a:rPr b="1" lang="ko-KR" sz="1800" spc="-1" strike="noStrike">
                <a:solidFill>
                  <a:srgbClr val="ff3300"/>
                </a:solidFill>
                <a:latin typeface="굴림"/>
              </a:rPr>
              <a:t>뷰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현재의 사용자가 소유하고 있는 객체들에 관한 정보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장. 뷰와 시스템 카탈로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551B6-5351-4A84-9DD2-D5B93021466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09480" y="476280"/>
            <a:ext cx="80042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8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.3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오라클의 시스템 카탈로그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41529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65120" y="1727280"/>
            <a:ext cx="6551640" cy="431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장. 뷰와 시스템 카탈로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061F5-5247-4A1D-AAA7-7913931293B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480" y="476280"/>
            <a:ext cx="80042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8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.3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오라클의 시스템 카탈로그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41529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806480" y="1397160"/>
            <a:ext cx="5516640" cy="493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장. 뷰와 시스템 카탈로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ABD6D-562B-46DB-989E-35C17BDD13F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09480" y="476280"/>
            <a:ext cx="80042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8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.3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오라클의 시스템 카탈로그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55320" y="13507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사용자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KIM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이 소유한 테이블이나 뷰에 관한 정보를 검색하기 위해서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KIM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으로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SQL*Plus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워크시트에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로그인을 한 후에 다음과 같은 질의를 수행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</a:rPr>
              <a:t>SELECT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</a:rPr>
              <a:t>  *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</a:rPr>
              <a:t>     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</a:rPr>
              <a:t>FROM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</a:rPr>
              <a:t>    ALL_CATALOG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</a:rPr>
              <a:t>     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</a:rPr>
              <a:t>WHERE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</a:rPr>
              <a:t>   OWNER='KIM'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OWNER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는 사용자의 이름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TABLE_NAME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은 테이블이나 뷰의 이름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TABLE_TYPE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은 테이블의 유형으로서 테이블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뷰 등을 나타냄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장. 뷰와 시스템 카탈로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AC39F-19FD-4382-B662-9739F5E179A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09480" y="476280"/>
            <a:ext cx="80042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8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.3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오라클의 시스템 카탈로그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074600" y="1709640"/>
            <a:ext cx="7039080" cy="387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장. 뷰와 시스템 카탈로그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6EF8E-FF66-4F8B-9B10-079CDBA932C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09480" y="476280"/>
            <a:ext cx="80042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8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.3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오라클의 시스템 카탈로그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520" y="1599840"/>
            <a:ext cx="84265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사용자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KIM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이 소유한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EMPLOYE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테이블의 애트리뷰트 정보를 찾기 위해서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다음과 같은 질의를 수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TABLE_NAME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은 테이블의 이름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COLUMN_NAME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은 애트리뷰트의 이름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DATA_TYPE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은 애트리뷰트의 데이터 타입을 각각 나타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이밖에도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USER_TAB_COLUMNS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뷰를 통해서 각 애트리뷰트의 길이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널값 허용 여부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디폴트값 등을 검색할 수 있음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295280" y="2655720"/>
          <a:ext cx="6343920" cy="9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655720"/>
                    <a:ext cx="634392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장. 뷰와 시스템 카탈로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643E4-5581-43FE-B6A7-BFD8F5FAD56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09480" y="476280"/>
            <a:ext cx="80042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8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.3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오라클의 시스템 카탈로그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047600" y="1852560"/>
            <a:ext cx="7182000" cy="4011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장. 뷰와 시스템 카탈로그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E628A-ED5F-4ED3-A08E-41D4DB2A6B8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900520" y="509760"/>
            <a:ext cx="33368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8.1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뷰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55320" y="13633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뷰의 개요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이에 반해서 어느 시점에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SELECT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문의 결과를 기본 릴레이션의 형태로 저장해 놓은 것을 </a:t>
            </a:r>
            <a:r>
              <a:rPr b="1" lang="ko-KR" sz="1800" spc="-1" strike="noStrike">
                <a:solidFill>
                  <a:srgbClr val="ff3300"/>
                </a:solidFill>
                <a:latin typeface="굴림"/>
              </a:rPr>
              <a:t>스냅샷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snapshot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이라고 부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스냅샷은 사진을 찍은 것과 같아서 스냅샷을 정의하는 시점의 기본 릴레이션의 내용이 스냅샷에 반영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어떤 시점의 조직체의 현황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예를 들어 몇년 몇월 시점에 근무하던 사원들의 정보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재고 정보 등이 스냅샷으로 정의될 수 있음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장. 뷰와 시스템 카탈로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A6423-ACEF-4B1E-A27E-3E793B8703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9480" y="476280"/>
            <a:ext cx="80042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8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.3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오라클의 시스템 카탈로그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80520" y="1599840"/>
            <a:ext cx="84632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장의 예제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3.2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에서 생성한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EMP_PLANNING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뷰가 어떤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SELECT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문으로 정의되어 있는가를 알기 위해서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다음과 같은 질의를 수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묵시적으로 뷰의 정의문이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8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문자까지만 표시되므로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set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명령을 사용하여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12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문자까지 나타나도록 설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VIEW_NAME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은 뷰의 이름이고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TEXT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는 뷰를 정의한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SQL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63520" y="2698920"/>
            <a:ext cx="3961080" cy="72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장. 뷰와 시스템 카탈로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D4E57-F511-4127-8965-853786761D9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09480" y="476280"/>
            <a:ext cx="80042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8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.3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오라클의 시스템 카탈로그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066680" y="1730520"/>
            <a:ext cx="7062840" cy="403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장. 뷰와 시스템 카탈로그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41985-44DC-49D1-BC53-92A8BCFB0C9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09480" y="476280"/>
            <a:ext cx="80042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8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.3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오라클의 시스템 카탈로그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4981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MP_PLANNING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뷰는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EMPLOYEE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DEPARTMENT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테이블을 조인해서 정의한 뷰인데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이 뷰가 갱신이 가능한지 확인해보기 위해서 아래와 같은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INSERT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문을 수행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╜┼╕φ┴╢"/>
                <a:ea typeface="신명조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╜┼╕φ┴╢"/>
                <a:ea typeface="신명조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이 뷰에는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EMPLOYEE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테이블의 기본 키인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EMPNO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가 포함되지 않았으므로 뷰를 통해서 아래와 같이 투플을 삽입하면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EMPNO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값을 입력하는 것이 불가능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314360" y="3022560"/>
            <a:ext cx="4380120" cy="62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장. 뷰와 시스템 카탈로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43BFA-A83D-4B3F-B0CC-429F2217005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9480" y="476280"/>
            <a:ext cx="80042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8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.3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오라클의 시스템 카탈로그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120680" y="1822320"/>
            <a:ext cx="6946920" cy="394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장. 뷰와 시스템 카탈로그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A32C8-7322-4142-B898-12653FD4383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09480" y="476280"/>
            <a:ext cx="80042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8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.3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오라클의 시스템 카탈로그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80880" y="1407960"/>
            <a:ext cx="8498160" cy="130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EMPLOYEE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테이블의 부서번호 애트리뷰트인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DNO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대해 인덱스를 생성하고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생성된 인덱스를 통해서 통계 정보를 확인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╜┼╕φ┴╢"/>
                <a:ea typeface="신명조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╜┼╕φ┴╢"/>
                <a:ea typeface="신명조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Courier New"/>
              </a:rPr>
              <a:t>CREATE INDEX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 EMPDNO_IDX </a:t>
            </a:r>
            <a:r>
              <a:rPr b="1" lang="ko-KR" sz="1800" spc="-1" strike="noStrike">
                <a:solidFill>
                  <a:srgbClr val="000000"/>
                </a:solidFill>
                <a:latin typeface="Courier New"/>
              </a:rPr>
              <a:t>ON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 EMPLOYEE(DNO);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20720"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2072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2072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2072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2072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590840" y="3033720"/>
            <a:ext cx="6013440" cy="334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장. 뷰와 시스템 카탈로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1ED75-B02B-4C85-8680-A68C4859E7D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09480" y="476280"/>
            <a:ext cx="80042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8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.3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오라클의 시스템 카탈로그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55320" y="13507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통계 정보를 확인하기 위해서 아래와 같은 명령문을 수행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Courier New"/>
              </a:rPr>
              <a:t>SELECT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  INDEX_NAME,INITIAL_EXTENT,DISTINCT_KEYS,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NUM_ROWS,SAMPLE_SIZE,LAST_ANALYZED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Courier New"/>
              </a:rPr>
              <a:t>FROM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    USER_INDEXES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ko-KR" sz="1800" spc="-1" strike="noStrike">
                <a:solidFill>
                  <a:srgbClr val="000000"/>
                </a:solidFill>
                <a:latin typeface="Courier New"/>
              </a:rPr>
              <a:t>WHERE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   INDEX_NAME = 'EMPDNO_IDX';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INDEX_NAME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은 인덱스의 이름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INITIAL_EXTENT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는 초기 익스텐트의 크기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DISTINCT_KEYS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는 상이한 인덱스 값들의 개수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NUM_ROWS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는 테이블의 투플 수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SAMPLE_SIZE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는 인덱스 분석을 위해 사용된 투플 수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LAST_ANALYZED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는 통계가 마지막으로 갱신된 날짜를 나타냄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인덱스를 정의했다고 해서 자동적으로 통계 정보가 구해지는 것은 아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장. 뷰와 시스템 카탈로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F92D9-AC28-4D80-9237-8B49237DEF2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480" y="476280"/>
            <a:ext cx="80042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8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.3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오라클의 시스템 카탈로그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98640" y="1701720"/>
            <a:ext cx="7235640" cy="4024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장. 뷰와 시스템 카탈로그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8F7E2-B867-4B84-B46A-902EB9A8BDB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09480" y="476280"/>
            <a:ext cx="80042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8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.3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오라클의 시스템 카탈로그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58560" y="1406520"/>
            <a:ext cx="8499240" cy="204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통계 정보는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ANALYZE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문을 사용하여 갱신할 수 있음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ALYZE   INDE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  EMPDNO_IDX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MPUTE   STATISTIC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테이블에 대한 통계 정보는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ANALYZE TABLE 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명령을 사용해서 갱신하고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인덱스에 대한 통계 정보는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ANALYZE INDEX 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명령을 사용해서 갱신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900080" y="3490920"/>
            <a:ext cx="5186520" cy="290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장. 뷰와 시스템 카탈로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BEF0F-8BAA-4CCD-AADC-9B5F68FA0A7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09480" y="476280"/>
            <a:ext cx="80042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8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.3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오라클의 시스템 카탈로그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499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ANALYZE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명령의 문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</a:rPr>
              <a:t>ANALYZE 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</a:rPr>
              <a:t>객체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</a:rPr>
              <a:t>유형 객체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</a:rPr>
              <a:t>이름 연산 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</a:rPr>
              <a:t>STATISTICS;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객체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_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유형은 테이블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인덱스 등을 나타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객체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_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이름은 객체의 이름을 의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연산에 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COMPUTE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가 사용되면 전체 테이블을 접근하여 통계 정보를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연산에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ESTIMATE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가 사용되면 데이타 표본을 추출하여 통계 정보를 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주기적으로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ANALYZE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작업을 수행해야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테이블을 재생성한 경우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인덱스를 추가하거나 재생성한 경우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다량의 데이터를 일괄 작업으로 처리한 경우에는 바로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ANALYZE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작업을 수행하는 것이 필요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장. 뷰와 시스템 카탈로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F4EBA-65D9-475E-9E2C-C186A93BFEE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09480" y="476280"/>
            <a:ext cx="80042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8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.3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오라클의 시스템 카탈로그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53880" y="1411200"/>
            <a:ext cx="8499600" cy="485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ANALYZE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명령의 수행 결과를 확인하기 위해서 아래와 같은 명령문을 다시 수행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  INDEX_NAME,INITIAL_EXTENT,DISTINCT_KEYS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_ROWS,SAMPLE_SIZE,LAST_ANALYZED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    USER_INDEXES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   INDEX_NAME = 'EMPDNO_IDX';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장. 뷰와 시스템 카탈로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2B641-6313-4B9E-B3BE-84E109D678B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900520" y="509760"/>
            <a:ext cx="33368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8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.1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뷰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27360" y="1623960"/>
            <a:ext cx="5541840" cy="447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장. 뷰와 시스템 카탈로그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A935E-364B-4599-A900-539ED52D22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09480" y="476280"/>
            <a:ext cx="80042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8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.3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오라클의 시스템 카탈로그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028880" y="1868400"/>
            <a:ext cx="7162560" cy="400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장. 뷰와 시스템 카탈로그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FA6D2-FFF2-45CC-BCE3-04B07858803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09480" y="476280"/>
            <a:ext cx="80042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8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.3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오라클의 시스템 카탈로그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71160" y="1364760"/>
            <a:ext cx="8489880" cy="5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테이블에 투플이 삽입되자마자 통계 정보가 갱신되지는 않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298520" y="2166840"/>
            <a:ext cx="6613560" cy="380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장. 뷰와 시스템 카탈로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B386A-E4CB-49F3-A878-E75643E3804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476280"/>
            <a:ext cx="80042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8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.3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오라클의 시스템 카탈로그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51000" y="1364760"/>
            <a:ext cx="8524800" cy="74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새로 입력한 투플이 통계 정보에 반영되도록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ANALYZE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명령을 수행한 후에 통계 정보를 확인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120680" y="2330280"/>
            <a:ext cx="6889680" cy="384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장. 뷰와 시스템 카탈로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8C58B-FC1A-48CF-BC34-154CB48784D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09480" y="476280"/>
            <a:ext cx="80042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8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.3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오라클의 시스템 카탈로그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53880" y="1411200"/>
            <a:ext cx="8499600" cy="485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EMPLOYEE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테이블에 정의된 인덱스 정보를 찾기 위해서 아래와 같은 명령을 수행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INDEX_NAME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은 인덱스의 이름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TABLE_NAME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은 인덱스가 정의된 테이블의 이름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COLUMN_NAME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은 인덱스가 정의된 애트리뷰트의 이름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COLUMN_POSITION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은 인덱스가 정의된 애트리뷰트의 위치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COLUMN_LENGTH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는 인덱스가 정의된 애트리뷰트의 길이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DESC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는 정렬 방식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오름차순 또는 내림차순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나타냄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119240" y="2471760"/>
            <a:ext cx="4243320" cy="94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장. 뷰와 시스템 카탈로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14533-FC9A-46A2-9352-98881D10277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09480" y="476280"/>
            <a:ext cx="80042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8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.3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오라클의 시스템 카탈로그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61800" y="1211040"/>
            <a:ext cx="84902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장의 예제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3.2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서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EMPLOYEE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테이블을 정의할 때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EMPNO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애트리뷰트를 기본 키로 선정했으므로 오라클이 자동적으로 인덱스를 생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EMPNAME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애트리뷰트에는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UNIQUE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키워드를 명시했으므로 오라클이 자동적으로 인덱스를 생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566720" y="3005280"/>
            <a:ext cx="5934240" cy="328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장. 뷰와 시스템 카탈로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54BFC-0D44-409A-A74F-44FC597B4DC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00520" y="509760"/>
            <a:ext cx="33368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8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.1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뷰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55320" y="13633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뷰의 정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뷰를 정의하는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SQL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문의 구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╜┼╕φ┴╢"/>
                <a:ea typeface="신명조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신명조"/>
              </a:rPr>
              <a:t>CREATE VIEW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신명조"/>
              </a:rPr>
              <a:t>뷰이름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신명조"/>
              </a:rPr>
              <a:t>[(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신명조"/>
              </a:rPr>
              <a:t>애트리뷰트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신명조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신명조"/>
              </a:rPr>
              <a:t>들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신명조"/>
              </a:rPr>
              <a:t>))]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신명조"/>
              </a:rPr>
              <a:t>AS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신명조"/>
              </a:rPr>
              <a:t> SELECT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신명조"/>
              </a:rPr>
              <a:t>문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신명조"/>
              </a:rPr>
              <a:t>[</a:t>
            </a: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신명조"/>
              </a:rPr>
              <a:t>WITH CHECK OPTION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신명조"/>
              </a:rPr>
              <a:t>];</a:t>
            </a:r>
            <a:r>
              <a:rPr b="0" lang="ko-KR" sz="1800" spc="-1" strike="noStrike">
                <a:solidFill>
                  <a:srgbClr val="000000"/>
                </a:solidFill>
                <a:latin typeface="╜┼╕φ┴╢"/>
                <a:ea typeface="신명조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╜┼╕φ┴╢"/>
                <a:ea typeface="신명조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뷰의 이름 다음에 애트리뷰트들을 생략하면 뷰를 정의하는데 사용된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SELECT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문의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SELECT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절에 열거된 애트리뷰트들의 이름과 동일한 애트리뷰트들이 뷰에 포함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뷰를 정의하는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SELECT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절에 산술식 또는 집단 함수에 사용된 애트리뷰트가 있는 경우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뷰의 정의에 조인이 포함되어 있고 두 개 이상의 다른 릴레이션으로부터 가져온 애트리뷰트들의 이름이 같아서 뷰에서 두 개 이상의 애트리뷰트의 이름이 같게 되는 경우에는 뷰를 정의할 때 모든 애트리뷰트들의 이름을 지정해야 함</a:t>
            </a:r>
            <a:r>
              <a:rPr b="0" lang="ko-KR" sz="1800" spc="-1" strike="noStrike">
                <a:solidFill>
                  <a:srgbClr val="000000"/>
                </a:solidFill>
                <a:latin typeface="╜┼╕φ┴╢"/>
                <a:ea typeface="신명조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장. 뷰와 시스템 카탈로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5F2DF-BEA6-4518-AC68-F8517549F4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900520" y="509760"/>
            <a:ext cx="33368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8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.1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뷰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534960" y="1627200"/>
            <a:ext cx="8134200" cy="3381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한 릴레이션 위에서 뷰를 정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4.8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EMPLOYEE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릴레이션에 대해서 “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번 부서에 근무하는 사원들의 사원번호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사원이름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직책으로 이루어진 뷰”를 정의해보자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아래의 뷰의 정의에는 뷰의 애트리뷰트들을 별도로 명시했기 때문에 뷰에는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EMPNO, EMPNAME, TITLE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세 애트리뷰트가 포함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╜┼╕φ┴╢"/>
                <a:ea typeface="신명조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CREATE VIEW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  EMP_DNO3 (ENO, ENAME, TITLE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AS SELECT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 EMPNO, EMPNAME, TITL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   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FROM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 EMPLOYE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         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WHERE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 DNO=3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장. 뷰와 시스템 카탈로그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72742-AD32-4EE2-BE23-2DA61B9000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900520" y="509760"/>
            <a:ext cx="33368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8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.1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뷰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35040" y="1859040"/>
            <a:ext cx="7862760" cy="3503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장. 뷰와 시스템 카탈로그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F8D6A-5D02-45B6-8FDB-7A0CC76C75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900520" y="509760"/>
            <a:ext cx="33368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8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.1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뷰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34960" y="1627200"/>
            <a:ext cx="8134200" cy="3889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두 릴레이션 위에서 뷰를 정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4.8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EMPLOYEE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DEPARTMENT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릴레이션에 대해서 “기획부에 근무하는 사원들의 이름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직책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급여로 이루어진 뷰”를 정의해보자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아래의 뷰의 정의에는 뷰의 애트리뷰트들을 별도로 명시하지 않았기 때문에 뷰에 속하는 애트리뷰트들의 이름은 기본 릴레이션의 애트리뷰트들의 이름과 같다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즉 뷰에는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EMPNAME, TITLE, SALARY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세 애트리뷰트가 포함된다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╜┼╕φ┴╢"/>
                <a:ea typeface="신명조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신명조"/>
              </a:rPr>
              <a:t>CREATE VIEW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신명조"/>
              </a:rPr>
              <a:t> EMP_PLANN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신명조"/>
              </a:rPr>
              <a:t>AS SELECT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신명조"/>
              </a:rPr>
              <a:t>   E.EMPNAME, E.TITLE, E.SALAR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신명조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신명조"/>
              </a:rPr>
              <a:t>FROM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신명조"/>
              </a:rPr>
              <a:t>     EMPLOYEE E, DEPARTMENT 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신명조"/>
              </a:rPr>
              <a:t>          </a:t>
            </a: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신명조"/>
              </a:rPr>
              <a:t>WHERE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신명조"/>
              </a:rPr>
              <a:t>    E.DNO=D.DEPTNO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신명조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신명조"/>
              </a:rPr>
              <a:t>AND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신명조"/>
              </a:rPr>
              <a:t> D.DEPTNAME = ‘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신명조"/>
              </a:rPr>
              <a:t>기획’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신명조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장. 뷰와 시스템 카탈로그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B5241-682F-4A0D-8C50-A239FC34B4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노웅기</dc:creator>
  <dc:description/>
  <dc:language>en-US</dc:language>
  <cp:lastModifiedBy>ekhong</cp:lastModifiedBy>
  <cp:lastPrinted>1997-07-26T06:01:56Z</cp:lastPrinted>
  <dcterms:modified xsi:type="dcterms:W3CDTF">2007-02-16T08:34:10Z</dcterms:modified>
  <cp:revision>429</cp:revision>
  <dc:subject/>
  <dc:title>슬라이드 제목 없음</dc:title>
</cp:coreProperties>
</file>