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31400" y="385236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63400" y="106632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17320" y="106632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63400" y="385236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17320" y="385236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574-65BD-468C-ABF3-A37D8B52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2BA-163D-4C79-97BD-3A75169D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8F6-137D-45F1-8213-3CA66298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FF2-4079-4464-A638-1E4C6ED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670-0CD2-42E0-A7C4-A9AA97E1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042-3C8A-4DF7-B23C-9E595FF5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E59-331A-415D-8F69-F1CDFE90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31400" y="385236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7B2-6765-482C-8CF8-1EF4E9A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68E-4918-4496-BDBB-E89F172B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1A1-7944-4B1C-86C1-F3F9FAA1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31400" y="385236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AA9-B421-459A-9DFE-49179189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3400" y="106632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17320" y="106632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3400" y="385236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17320" y="3852360"/>
            <a:ext cx="252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6E5-4AE6-438A-9A84-D85600B3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31400" y="385236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46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1400" y="1066320"/>
            <a:ext cx="3830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7848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0"/>
            <a:ext cx="9156600" cy="533520"/>
            <a:chOff x="-12600" y="0"/>
            <a:chExt cx="9156600" cy="533520"/>
          </a:xfrm>
        </p:grpSpPr>
        <p:sp>
          <p:nvSpPr>
            <p:cNvPr id="1" name=""/>
            <p:cNvSpPr/>
            <p:nvPr/>
          </p:nvSpPr>
          <p:spPr>
            <a:xfrm>
              <a:off x="-4680" y="0"/>
              <a:ext cx="9148680" cy="53352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2600" y="109440"/>
              <a:ext cx="406440" cy="2829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320" y="0"/>
              <a:ext cx="1123920" cy="51336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95480" y="300600"/>
              <a:ext cx="398520" cy="21708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28840" y="0"/>
              <a:ext cx="252360" cy="8064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4920" bIns="349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722160" cy="24156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0" y="41040"/>
              <a:ext cx="657360" cy="12060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28880" y="0"/>
              <a:ext cx="825480" cy="25164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71880" y="172080"/>
              <a:ext cx="684360" cy="26064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78400" y="97200"/>
              <a:ext cx="628560" cy="25380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81640" y="268200"/>
              <a:ext cx="819000" cy="24948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10280" y="362520"/>
              <a:ext cx="657000" cy="11160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11920" y="419400"/>
              <a:ext cx="237960" cy="8028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4560" bIns="3456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84960" y="298440"/>
              <a:ext cx="235080" cy="10188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70720" y="64800"/>
              <a:ext cx="1488960" cy="17676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38840" y="162000"/>
              <a:ext cx="590760" cy="10980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30840" y="344520"/>
              <a:ext cx="505080" cy="17676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05400" y="325440"/>
              <a:ext cx="603360" cy="19476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20040" y="209160"/>
              <a:ext cx="830160" cy="770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1320" bIns="3132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31120" y="207720"/>
              <a:ext cx="852480" cy="13392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74280" y="348840"/>
              <a:ext cx="1269720" cy="15984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29760" y="268200"/>
              <a:ext cx="638280" cy="128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324480"/>
            <a:ext cx="9169560" cy="138240"/>
            <a:chOff x="0" y="632448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34824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33384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32448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 Black"/>
              </a:rPr>
              <a:t>Click to edit the title text format</a:t>
            </a: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65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8240" indent="-9504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50840" indent="-9216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36680" indent="-954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36680" indent="-95400">
              <a:spcBef>
                <a:spcPts val="499"/>
              </a:spcBef>
              <a:buClr>
                <a:srgbClr val="545472"/>
              </a:buClr>
              <a:buSzPct val="7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36680" indent="-95400">
              <a:spcBef>
                <a:spcPts val="499"/>
              </a:spcBef>
              <a:buClr>
                <a:srgbClr val="545472"/>
              </a:buClr>
              <a:buSzPct val="7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351000" y="1144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TBELL-1110</a:t>
            </a: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30" name=""/>
          <p:cNvSpPr/>
          <p:nvPr/>
        </p:nvSpPr>
        <p:spPr>
          <a:xfrm>
            <a:off x="7372440" y="64152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T&amp;B Tronics</a:t>
            </a:r>
            <a:r>
              <a:rPr b="1" lang="zh-CN" sz="1800" spc="-1" strike="noStrike">
                <a:solidFill>
                  <a:srgbClr val="545472"/>
                </a:solidFill>
                <a:latin typeface="Times New Roman"/>
              </a:rPr>
              <a:t>㈜</a:t>
            </a: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31" name=""/>
          <p:cNvSpPr/>
          <p:nvPr/>
        </p:nvSpPr>
        <p:spPr>
          <a:xfrm>
            <a:off x="7480080" y="6026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웅근이 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굴림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 Black"/>
              </a:rPr>
              <a:t>Click to edit the title text format</a:t>
            </a:r>
            <a:endParaRPr b="1" lang="en-US" sz="2400" spc="-1" strike="noStrike" u="sng">
              <a:solidFill>
                <a:srgbClr val="660066"/>
              </a:solidFill>
              <a:uFillTx/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45472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1AEA-1DF0-4433-87FC-712172A3CED8}" type="datetime">
              <a:rPr b="0" lang="ko-KR" sz="1400" spc="-1" strike="noStrike">
                <a:solidFill>
                  <a:srgbClr val="545472"/>
                </a:solidFill>
                <a:latin typeface="굴림"/>
              </a:rPr>
              <a:t>26年 7月 28日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2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45472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45472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3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45472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BC67-2E08-49A5-B30A-3EB05B254A61}" type="slidenum">
              <a:rPr b="0" lang="ko-KR" sz="1400" spc="-1" strike="noStrike">
                <a:solidFill>
                  <a:srgbClr val="545472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 Black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 Black"/>
              </a:rPr>
              <a:t>1. Start.S(blob)</a:t>
            </a: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06668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  <a:p>
            <a:pPr lvl="3" marL="1225440" indent="-266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19320"/>
            <a:ext cx="8001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START.S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Verdana"/>
              </a:rPr>
              <a:t>1.VECTOR TABLE</a:t>
            </a:r>
            <a:r>
              <a:rPr b="1" i="1" lang="ko-K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ko-KR" sz="1400" spc="-1" strike="noStrike">
                <a:solidFill>
                  <a:srgbClr val="000000"/>
                </a:solidFill>
                <a:latin typeface="Verdana"/>
              </a:rPr>
              <a:t>설정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2.INTERRUPT MASK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레지스터에 의한 모든 인터럽트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3.CPU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클럭 설정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메모리 설정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( DRAM : MDCAS0,MDCAS1,MDCAS2,MDNFG: SA-1100)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( SRAM : MDCNFG, MDCAS00,MDCAS01,MDCAS02, MDREFR,MDCNFG:SA-1110)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5.SERIAL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설정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( 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시리얼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3)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6.MEMORY TES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메모리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Erasing (zeroing )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7. STACK POINT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설정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8. C 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루틴으로 점프</a:t>
            </a:r>
            <a:r>
              <a:rPr b="1" lang="ko-K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838080"/>
            <a:ext cx="72388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#0x009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r0, #0x009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4, #08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5, r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4, #0x0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6,r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#0x0089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r3, #0x0089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p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r5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flash_man_ok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int_unknown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r5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hex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py_exi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13716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4731480" y="1676520"/>
            <a:ext cx="160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lash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check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3048120"/>
            <a:ext cx="152640" cy="121896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4787640" y="3505320"/>
            <a:ext cx="290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lash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ufacture code check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999680" y="5105520"/>
            <a:ext cx="14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알 수 없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lash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발견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006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03480" y="838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685800"/>
            <a:ext cx="7010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Flash_man_ok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int_intel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#0x88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r3,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#0x00F4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r3,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#0x000088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r3,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#0x000000F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p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r6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flash_dev_ok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int_unknown2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r6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hex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py_exi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Erase_loop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#0x00FF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r0,  #0x000000FF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n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no_erase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          r0,erase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r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hex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10666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7432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168160" y="1447920"/>
            <a:ext cx="17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ice code check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4984560" y="3048120"/>
            <a:ext cx="18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알 수 없는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Device code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41911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052960" y="434340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d Array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부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2578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5335920" y="549288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Erase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시작 주소값을 표시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79440" y="10666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519120" y="768240"/>
            <a:ext cx="65674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#0x002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#0x0000002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#0x00D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r0,#0x000000D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wait_status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#0x002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r3, #0x0000002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st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r3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erase_ok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hex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erase_err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py_exi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83808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158080" y="1219320"/>
            <a:ext cx="33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lock erase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하기 위해서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lash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에 명령어를 주는 부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209680"/>
            <a:ext cx="198108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5330520" y="2063880"/>
            <a:ext cx="190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Flash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의 상태을 알아 보는 루틴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23623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913280" y="25909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을 체크 하는 부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038480"/>
            <a:ext cx="7848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이제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Write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부분을 알아보자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Write_loop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r7,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n   r7,#0x01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eq    no_write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    r6, r4, #0x08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0, #0x004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0,r0, #0x0000004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4876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4899240" y="5410080"/>
            <a:ext cx="304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Word/Byte program write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명령어 값을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flash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에 쓴다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84040" y="692280"/>
            <a:ext cx="6726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 r0,[r6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 r7,[r6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      wait_status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3, #0x001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   r3, r3, #0x0000001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st     r0, r3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eq    no_write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 r7,r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     r0, write_err1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       print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 r0, r7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       print_hex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     r0,write_err2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       print_hex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 r0, r6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       print_hex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        cpy_exit   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343400" y="8380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5091840" y="84456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명령어 주고 데이터 쓰고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1523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4895640" y="15238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ror check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부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2133720"/>
            <a:ext cx="182880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949640" y="1981080"/>
            <a:ext cx="16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ror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가 없으면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rite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2362320"/>
            <a:ext cx="304560" cy="1752480"/>
          </a:xfrm>
          <a:custGeom>
            <a:avLst/>
            <a:gdLst>
              <a:gd name="textAreaLeft" fmla="*/ 0 w 304560"/>
              <a:gd name="textAreaRight" fmla="*/ 10980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957560" y="312408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ro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부분 처리 루틴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8600" y="990720"/>
            <a:ext cx="678168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.text                             r0 = 0, r1 =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아키텍처 넘버가 넘어옴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1: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#0                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ne         1b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      r7, r1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rc          p15, 0, r6, c0, c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          r2, LC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mia      r2, {r2, r3, r4, r5, sp}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#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1: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2], #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2], #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2], #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[r2], #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p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 r3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t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1b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2133720"/>
            <a:ext cx="137160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1981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아키텍처 넘버을 저장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2438280"/>
            <a:ext cx="137160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28600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에서 프로세서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을 가져옴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6019920" y="2590920"/>
            <a:ext cx="28954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 : _bss_star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 :_end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4 :_load_add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5 :_star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p :User_stack+4096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266688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2895480"/>
            <a:ext cx="106668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27432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365760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4419720"/>
            <a:ext cx="2286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ss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영역을 클리어함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ss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영역을 쓰기 전에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깨끗이 청소하는것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838080"/>
            <a:ext cx="723888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ache_on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,  sp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  sp, #0x1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4, r5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5, r2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ne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5, r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r5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r7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YMBOL_NAME(decompress_kernel)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4, r5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all_kernel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r0, #127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ic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 r0, #127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914400"/>
            <a:ext cx="807732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, r5, r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 reloc_star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 reloc_end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mia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!, {r8 – r13}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mia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!, {r8 – r13}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mia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!, {r8 – r13}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mia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!, {r8 – r13}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p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 r3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t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1b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ache_clean_flush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c, r5, r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 Black"/>
              </a:rPr>
              <a:t> 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 Black"/>
              </a:rPr>
              <a:t>1. Start.S(blob)</a:t>
            </a: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647640" y="152388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00200"/>
            <a:ext cx="75438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.text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.globl_star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_start: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rese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undefined_instruction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software_interrup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abort_prefetch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abort_data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not_used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irq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fiq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Reset : 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r1,#0x9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r1,r1,#0x5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r2,#0x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r2,[r1,#0x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241960" y="2133720"/>
            <a:ext cx="1387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26668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ctor table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정의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038480" y="4343400"/>
            <a:ext cx="53352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5025960" y="419112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et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부분 시작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49568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353200" y="4648320"/>
            <a:ext cx="155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ICMR: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인터럽트 셋팅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모든 인터럽트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1143000"/>
            <a:ext cx="739152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r1,#0x9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   r1, r1,#0x2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r2, #0x0b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r2, [r1,#0x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A-1110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DRAM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셋팅 부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r1,#0xA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 r2,=0xAAAAAA7F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r2,[r1,#0x0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r2,[r1,#0x20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 r2,=0xAAAAAAAA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r2,[r1,#0x08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r2,[r1,#0x2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2952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079600" y="1600200"/>
            <a:ext cx="23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PCR:cpu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lock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을 셋팅한다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여기서는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221Mhz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0481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0481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DCNFG register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373360" y="403848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DCAS 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5373360" y="434340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DCAS 2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5297040" y="525780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DCAS 01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5297040" y="5638680"/>
            <a:ext cx="10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DCAS 21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200400"/>
            <a:ext cx="160020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4191120"/>
            <a:ext cx="160020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4495680"/>
            <a:ext cx="160020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5410080"/>
            <a:ext cx="160020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5791320"/>
            <a:ext cx="160020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98560" y="990720"/>
            <a:ext cx="291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974880" y="11430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990720"/>
            <a:ext cx="473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914400"/>
            <a:ext cx="64771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r2,=0xAAAAAAAA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r2, [r1,#0x0C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r2, [r1,#0x28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r2, =0x4dbc0327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r2, [r1,#0x1C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r2, =0x7254725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r2, [r1,#0x00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r1, #0xA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r2, =0x72547255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r2, [r1,#0x00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atic memory setting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부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r2, =0x4b9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orr  r2,r2,r2, lsl #16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r2,[r1,#0x10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r2, =0x22212419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r2, [r1,#0x1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1295280"/>
            <a:ext cx="144792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1143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DCAS02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1523880"/>
            <a:ext cx="144792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2133720"/>
            <a:ext cx="144792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2743200"/>
            <a:ext cx="144792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1371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DCAS22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DREF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2590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DCNFG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3124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867560" y="3276720"/>
            <a:ext cx="33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DCNFG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의 값에의해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ANK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Enable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시킨다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343400"/>
            <a:ext cx="152280" cy="60948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818600" y="4502160"/>
            <a:ext cx="15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CS0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값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52578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4818600" y="5257800"/>
            <a:ext cx="15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CS1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값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46280" y="914400"/>
            <a:ext cx="451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85800"/>
            <a:ext cx="82296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r2, =0x42196669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r2, [r1,#0x2C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r2, =0xafccafcc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r2, [r1, #0x30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erial port  setting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부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  r0,  =0x8002006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2,  #1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  r2, [r0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1, #0x8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   r1, r1, #0x5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2, #0x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 r2, [r1,#0x0C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2, #0x08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 r2,  [r1, #0x00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2, #0x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  r2, [r1, #0x0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 r2,#23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      r2, [r1,#0x08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762120"/>
            <a:ext cx="152280" cy="30456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632480" y="7621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4475520" y="768240"/>
            <a:ext cx="15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CS2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값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tting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1447920"/>
            <a:ext cx="152280" cy="30456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4658760" y="1447920"/>
            <a:ext cx="183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MCNFG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값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tting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251460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829760" y="2438280"/>
            <a:ext cx="210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PCLK control Registe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ART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로 선택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4295880" y="3338640"/>
            <a:ext cx="199800" cy="333360"/>
          </a:xfrm>
          <a:custGeom>
            <a:avLst/>
            <a:gdLst>
              <a:gd name="textAreaLeft" fmla="*/ 0 w 199800"/>
              <a:gd name="textAreaRight" fmla="*/ 72000 w 199800"/>
              <a:gd name="textAreaTop" fmla="*/ 8640 h 333360"/>
              <a:gd name="textAreaBottom" fmla="*/ 324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4764960" y="32162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Uart control registe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erial 3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39625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4825800" y="3962520"/>
            <a:ext cx="10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No parity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8 databits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1 stopbi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02920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4705920" y="5105520"/>
            <a:ext cx="131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ud Rate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9600 Setting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65040" y="685800"/>
            <a:ext cx="6645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762120"/>
            <a:ext cx="74674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DRAM TEST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부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est_men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start_tes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Erase memory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부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zeroing_mem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4, #0xC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5, #0xD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6, #0x4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u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6,r6,#0x01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r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print_hex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Zero_loop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,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3,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7,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8,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9,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0,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5238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248440" y="1371600"/>
            <a:ext cx="261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DRAM TEST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부분을 시작하는 부분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알 수 있도록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ial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을 통해 메시지를 보냄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22096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5114520" y="2133720"/>
            <a:ext cx="247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부분의 메모리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roing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시작을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ial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을 통해 내보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281952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4963680" y="2911320"/>
            <a:ext cx="258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0xC0000000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부터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0xD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까지 메모리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EST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한다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8862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245560" y="3886200"/>
            <a:ext cx="281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Zeroing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시작 주소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eria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을 통해 내보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4724280"/>
            <a:ext cx="304560" cy="152424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5035680" y="5181480"/>
            <a:ext cx="242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32 byte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씩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zeroing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하기위해서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레지스터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으로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etting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6858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200160" y="685800"/>
            <a:ext cx="74199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Zero_loop1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mia  r4!, {r0 – r3, r7-r10}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mia  r4!, {r0 – r3, r7-r10}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mia  r4!, {r0 – r3, r7-r10}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mia  r4!, {r0 – r3, r7-r10}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tst      r4,r6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ne    zero_loop1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     r0, de11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       print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0, r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       print_hex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p    r4,r5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t      zero_loop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r     r0,zeroing_done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       print_str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4, #0xC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5, #0xD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6, r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  r7, 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9907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4894560" y="1219320"/>
            <a:ext cx="21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32 byte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씩을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zeroing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한다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1905120"/>
            <a:ext cx="1447920" cy="0"/>
          </a:xfrm>
          <a:prstGeom prst="line">
            <a:avLst/>
          </a:prstGeom>
          <a:ln w="1584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4632480" y="1676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5152680" y="1600200"/>
            <a:ext cx="227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루프을 제어하기위한 인자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4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와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6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이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다르면 계속해서 루틴을 돈다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19051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228600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5120280" y="2514600"/>
            <a:ext cx="231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roing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된 메모리 주소를 나타낸다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1240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315400" y="3130560"/>
            <a:ext cx="27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메모리 전체가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roing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된 지를 제어하는 루틴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380988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303160" y="3809880"/>
            <a:ext cx="29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Zeroing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이 다 되었음을 나타 내는 메시지를 나타냄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762120"/>
            <a:ext cx="75042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lias_loop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ldr  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8,  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p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8,  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eq 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4, [r4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8, r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u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9,r4,r8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p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9,r7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ne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lias_detected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4,r4,#0x1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p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4,r5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t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lias_loop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lias_done 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lias_detected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u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8,r6,r7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mp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7,#0x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0,r6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eq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1,r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6,r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7,r9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lias_loop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121932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4420440" y="2057400"/>
            <a:ext cx="189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Zeroing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이 잘 되었나 확인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새 블록확인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388620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338080" y="434988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새 블록을 확인 하고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새블록의 시작주소 저장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17680" y="685800"/>
            <a:ext cx="7483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93640" y="7621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65040" y="692280"/>
            <a:ext cx="725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lias_done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u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p, r11, #0x04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 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0,r1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u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,r11,r1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Jump_to_c: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l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c_main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eset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9907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5406480" y="1066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스택값을 셋팅한다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190512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5448960" y="198108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메인 루틴으로 점프한다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644200" y="2825640"/>
            <a:ext cx="312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다음으로는 각 루틴이 실행되면서 호출되는 루틴을 실펴보자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97160" y="32767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먼저 플래시을 살펴보자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255600" y="3511440"/>
            <a:ext cx="5764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1,     #0xA0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mov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     #0x4800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r2  #0x008800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r2  #0x0000AD00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r2  #0x0000008C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str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2, [r1, #0x10]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4038480"/>
            <a:ext cx="152640" cy="121932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884120" y="4502160"/>
            <a:ext cx="16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lash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의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eed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설정</a:t>
            </a:r>
            <a:endParaRPr b="0" lang="en-US" sz="1400" spc="-1" strike="noStrike">
              <a:solidFill>
                <a:srgbClr val="545472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31T14:38:40Z</dcterms:created>
  <dc:creator>Jung, Heui-Suck</dc:creator>
  <dc:description/>
  <dc:language>en-US</dc:language>
  <cp:lastModifiedBy>Duke Cho</cp:lastModifiedBy>
  <dcterms:modified xsi:type="dcterms:W3CDTF">2001-11-16T23:49:16Z</dcterms:modified>
  <cp:revision>314</cp:revision>
  <dc:subject/>
  <dc:title>PowerPoint 프레젠테이션</dc:title>
</cp:coreProperties>
</file>