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51504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668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2208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452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2208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452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DDF-4CA7-4B15-8265-EBC3FB71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52056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79B-5001-4E65-9067-8F4A9AED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36E-B239-4D50-8288-16EC579A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76B-41A3-4C57-9E9A-C9BE240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511-CC15-448B-992B-54A02C19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49200" y="6232320"/>
            <a:ext cx="5194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AC0-3C02-4958-87C5-C87FCCA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58D-74ED-465E-991D-FA71140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52056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668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3CA-956B-4B02-953D-FADB2AAF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647-D6BA-4C5E-AB21-5830AF4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9640" y="351504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360-7EF9-4FF0-A6B6-346E8C4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668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FF5-4FD2-44B8-ACB8-5CEF9B1C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2208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4520" y="52056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964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2208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4520" y="3515040"/>
            <a:ext cx="264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FAE-FCC3-41EB-98A3-6FDA3281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49200" y="6232320"/>
            <a:ext cx="5194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6680" y="351504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520560"/>
            <a:ext cx="40158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515040"/>
            <a:ext cx="822960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520560"/>
            <a:ext cx="8229600" cy="57322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1" marL="1008000" indent="-285840">
              <a:spcBef>
                <a:spcPts val="10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2" marL="1415880" indent="-228600"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3" marL="1824120" indent="-228600">
              <a:spcBef>
                <a:spcPts val="10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4" marL="2232000" indent="-228600">
              <a:spcBef>
                <a:spcPts val="10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5" marL="2232000" indent="-228600">
              <a:spcBef>
                <a:spcPts val="10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lvl="6" marL="2232000" indent="-228600">
              <a:spcBef>
                <a:spcPts val="10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C671-0866-47E3-9C53-ED10B9D6C6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3112560"/>
            <a:ext cx="8229600" cy="31402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11.</a:t>
            </a:r>
            <a:r>
              <a:rPr b="0" lang="zh-CN" sz="4000" spc="-1" strike="noStrike">
                <a:solidFill>
                  <a:srgbClr val="ffffff"/>
                </a:solidFill>
                <a:latin typeface="HY견고딕"/>
              </a:rPr>
              <a:t>내가 오늘날 네게 명하는 여호와의 명령과 법도와 규례를 지키지 아니하고 네 하나님 여호와를 잊어버리게 되지 않도록 삼갈지어다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4939920"/>
            <a:ext cx="8229600" cy="131292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12.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네가 먹어서 배불리고 아름다운 집을 짓고 거하게 되며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4332240"/>
            <a:ext cx="8229600" cy="192096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13.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또 네 우양이 번성하며 네 은금이 증식되며 네 소유가 다 풍부하게 될 때에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3722400"/>
            <a:ext cx="8229600" cy="253044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14.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두렵건대 네 마음이 교만하여 네 하나님 여호와를 잊어버릴까 하노라 여호와는 너를 애굽 땅 종 되었던 집에서 이끌어 내시고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3112560"/>
            <a:ext cx="8229600" cy="31402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15.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너를 인도하여 그 광대하고 위험한 광야 곧 불뱀과 전갈이 있고 물이 없는 간조한 땅을 지나게 하셨으며 또 너를 위하여 물을 굳은 반석에서 내셨으며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3112560"/>
            <a:ext cx="8229600" cy="31402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16.</a:t>
            </a:r>
            <a:r>
              <a:rPr b="0" lang="ko-KR" sz="4000" spc="-1" strike="noStrike">
                <a:solidFill>
                  <a:srgbClr val="ffffff"/>
                </a:solidFill>
                <a:latin typeface="HY견고딕"/>
              </a:rPr>
              <a:t>네 열조도 알지 못하던 만나를 광야에서 네게 먹이셨나니 이는 다 너를 낮추시며 너를 시험하사 마침내 네게 복을 주려 하심이었느니라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0" y="6232320"/>
            <a:ext cx="5194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신명기 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휴먼매직체"/>
              </a:rPr>
              <a:t>장 </a:t>
            </a:r>
            <a:r>
              <a:rPr b="0" lang="en-US" sz="2400" spc="-1" strike="noStrike">
                <a:solidFill>
                  <a:srgbClr val="ffffff"/>
                </a:solidFill>
                <a:latin typeface="휴먼매직체"/>
              </a:rPr>
              <a:t>11 ~ 17</a:t>
            </a:r>
            <a:endParaRPr b="0" lang="en-US" sz="2400" spc="-1" strike="noStrike">
              <a:solidFill>
                <a:srgbClr val="ffffff"/>
              </a:solidFill>
              <a:latin typeface="휴먼매직체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3722400"/>
            <a:ext cx="8229600" cy="253044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542880" indent="-542880">
              <a:spcBef>
                <a:spcPts val="100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17.</a:t>
            </a:r>
            <a:r>
              <a:rPr b="0" lang="zh-CN" sz="4000" spc="-1" strike="noStrike">
                <a:solidFill>
                  <a:srgbClr val="ffffff"/>
                </a:solidFill>
                <a:latin typeface="HY견고딕"/>
              </a:rPr>
              <a:t>또 두렵건대 네가 마음에 이르기를 내 능과 내 손의 힘으로 내가 이 재물을 얻었다 할까 하노라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8:29:20Z</dcterms:created>
  <dc:creator>Woncherl Ha</dc:creator>
  <dc:description/>
  <dc:language>en-US</dc:language>
  <cp:lastModifiedBy>행복한na</cp:lastModifiedBy>
  <dcterms:modified xsi:type="dcterms:W3CDTF">2006-11-05T04:39:11Z</dcterms:modified>
  <cp:revision>108</cp:revision>
  <dc:subject/>
  <dc:title>슬라이드 1</dc:title>
</cp:coreProperties>
</file>