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EA1-73B7-44F7-9188-FB6C1611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AAA-86AD-441B-B9F5-563FC0BE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2CB-9367-48E5-A474-9264E425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AC9-3320-4B9F-BE74-5C7EF495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E3A7-4D45-4157-8A07-B1697346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D672-5446-4654-A886-077AD7B9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79D6-ACF6-4B7C-BF7E-CBF3A576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7AB8-4CCE-4802-B67A-14873EF0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C174-D638-4129-BE0A-A8C85A6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B999-7193-453E-B493-E17AA781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8C70-4C1D-4F87-9BE0-26883F3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055-471C-4417-8024-625E0E3C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91C6-5459-4A6B-BDC1-66A51E0C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3B6A-DFC8-4D71-AB85-B59464E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AF3F-C56B-48B4-A0FC-4924DEC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78B4-11B4-4DB3-BA47-FDE236B3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3BF2-8464-4F1E-B252-0379267A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71C-091F-4811-8CC8-4E748BFC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3D8-01E3-4228-BE2E-57A20289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F3D-1DBA-43F2-AF9A-33384596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EAF-3522-44DA-B5C6-A5AA734D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62D-958E-4709-8712-B4AAC67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C8A-77A3-472E-A93C-B7DC727F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B20-91F6-421F-8B50-65EC3877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D87B-952C-4EE7-A6B1-DAA1B5748F8D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8822-7198-42BB-B5A4-B9FDED75FF5F}" type="slidenum">
              <a:rPr b="0" lang="ko-K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3197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ireless </a:t>
            </a: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A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pplication </a:t>
            </a: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P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otoc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46479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99"/>
                </a:solidFill>
                <a:latin typeface="휴먼태가람체 전각"/>
                <a:ea typeface="휴먼태가람체 전각"/>
              </a:rPr>
              <a:t>정보통신 소프트웨어연구실  오 동 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휴먼태가람체 전각"/>
              </a:rPr>
              <a:t>thecrow@swlab.chonbuk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83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Cont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43200" y="2133360"/>
            <a:ext cx="361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신그래픽"/>
              </a:rPr>
              <a:t>WAP</a:t>
            </a:r>
            <a:r>
              <a:rPr b="0" lang="ko-KR" sz="24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의 세부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신그래픽"/>
              </a:rPr>
              <a:t>WML -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휴먼신그래픽"/>
              </a:rPr>
              <a:t>WML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휴먼신그래픽"/>
              </a:rPr>
              <a:t>WMLScript - 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4771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AP</a:t>
            </a:r>
            <a:r>
              <a:rPr b="1" lang="ko-KR" sz="32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의 세부구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743200" y="1905120"/>
            <a:ext cx="1112760" cy="1511280"/>
            <a:chOff x="2743200" y="1905120"/>
            <a:chExt cx="1112760" cy="15112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2743200" y="2286000"/>
              <a:ext cx="111276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946600" y="190512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379760" y="4267080"/>
            <a:ext cx="1835640" cy="1981080"/>
            <a:chOff x="4379760" y="4267080"/>
            <a:chExt cx="1835640" cy="198108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648320" y="4647960"/>
              <a:ext cx="1271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379760" y="426708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AP Gatew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597000" y="1752480"/>
            <a:ext cx="1549440" cy="1752480"/>
            <a:chOff x="6597000" y="1752480"/>
            <a:chExt cx="1549440" cy="175248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7010640" y="2209680"/>
              <a:ext cx="738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597000" y="1752480"/>
              <a:ext cx="15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휴먼태엑스포"/>
                </a:rPr>
                <a:t>Web 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85800" y="2133720"/>
            <a:ext cx="476280" cy="1401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251460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7880" y="3530520"/>
            <a:ext cx="841680" cy="918000"/>
            <a:chOff x="6167880" y="3530520"/>
            <a:chExt cx="841680" cy="918000"/>
          </a:xfrm>
        </p:grpSpPr>
        <p:sp>
          <p:nvSpPr>
            <p:cNvPr id="117" name=""/>
            <p:cNvSpPr/>
            <p:nvPr/>
          </p:nvSpPr>
          <p:spPr>
            <a:xfrm rot="18000000">
              <a:off x="5988960" y="3917160"/>
              <a:ext cx="971280" cy="147600"/>
            </a:xfrm>
            <a:prstGeom prst="rightArrow">
              <a:avLst>
                <a:gd name="adj1" fmla="val 50000"/>
                <a:gd name="adj2" fmla="val 1645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 rot="18000000">
              <a:off x="6228360" y="3904920"/>
              <a:ext cx="953640" cy="151920"/>
            </a:xfrm>
            <a:prstGeom prst="rightArrow">
              <a:avLst>
                <a:gd name="adj1" fmla="val 50000"/>
                <a:gd name="adj2" fmla="val 1569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731760" y="3304800"/>
            <a:ext cx="695880" cy="1107360"/>
            <a:chOff x="3731760" y="3304800"/>
            <a:chExt cx="695880" cy="1107360"/>
          </a:xfrm>
        </p:grpSpPr>
        <p:sp>
          <p:nvSpPr>
            <p:cNvPr id="120" name=""/>
            <p:cNvSpPr/>
            <p:nvPr/>
          </p:nvSpPr>
          <p:spPr>
            <a:xfrm rot="3600000">
              <a:off x="3642840" y="3684600"/>
              <a:ext cx="961920" cy="145800"/>
            </a:xfrm>
            <a:prstGeom prst="rightArrow">
              <a:avLst>
                <a:gd name="adj1" fmla="val 50000"/>
                <a:gd name="adj2" fmla="val 16493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 rot="3600000">
              <a:off x="3556440" y="3881160"/>
              <a:ext cx="962280" cy="152280"/>
            </a:xfrm>
            <a:prstGeom prst="rightArrow">
              <a:avLst>
                <a:gd name="adj1" fmla="val 50000"/>
                <a:gd name="adj2" fmla="val 15797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269360" y="22096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Phon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6800" y="32004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UR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33520" y="4191120"/>
            <a:ext cx="154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WML d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(HTTP header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WML outp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57600" y="320040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HTTP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3480" y="38098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intsec"/>
                <a:ea typeface="휴먼태엑스포"/>
              </a:rPr>
              <a:t>W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38880" y="380988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intsec"/>
                <a:ea typeface="휴먼태엑스포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9920" y="2743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ahoma"/>
                <a:ea typeface="휴먼태엑스포"/>
              </a:rPr>
              <a:t>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7280" y="4191120"/>
            <a:ext cx="138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WAP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(binary fo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43440" y="396252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ahoma"/>
                <a:ea typeface="휴먼태엑스포"/>
              </a:rPr>
              <a:t>de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43440" y="624852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ahoma"/>
                <a:ea typeface="휴먼태엑스포"/>
              </a:rPr>
              <a:t>en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90720" y="3429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ahoma"/>
                <a:ea typeface="휴먼태엑스포"/>
              </a:rPr>
              <a:t>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04320" y="3048120"/>
            <a:ext cx="11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First card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WML d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371600" y="274320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71360" y="2133720"/>
            <a:ext cx="11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ahoma"/>
                <a:ea typeface="휴먼태엑스포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ahoma"/>
                <a:ea typeface="휴먼태엑스포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2133720"/>
            <a:ext cx="11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ahoma"/>
                <a:ea typeface="휴먼태엑스포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ahoma"/>
                <a:ea typeface="휴먼태엑스포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183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ML -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367640" y="2057400"/>
            <a:ext cx="69775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?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xml version=“1.0”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!DOCTYPE WML PUBLIC “-//WAPFORUM//DTD WML 1.0//E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http://www.wapforum.org/DTD/wml.xml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W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CARD TITLE=“First_Card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The First WML exampl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/CAR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/W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905120"/>
            <a:ext cx="1447560" cy="304560"/>
          </a:xfrm>
          <a:prstGeom prst="wedgeRoundRectCallout">
            <a:avLst>
              <a:gd name="adj1" fmla="val -48027"/>
              <a:gd name="adj2" fmla="val 87500"/>
              <a:gd name="adj3" fmla="val 16667"/>
            </a:avLst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XML versio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057400"/>
            <a:ext cx="2286000" cy="304920"/>
          </a:xfrm>
          <a:prstGeom prst="wedgeRoundRectCallout">
            <a:avLst>
              <a:gd name="adj1" fmla="val -39513"/>
              <a:gd name="adj2" fmla="val 201041"/>
              <a:gd name="adj3" fmla="val 16667"/>
            </a:avLst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ahoma"/>
                <a:ea typeface="휴먼태엑스포"/>
                <a:hlinkClick r:id="rId1" action="ppaction://hlinksldjump"/>
              </a:rPr>
              <a:t>SGML</a:t>
            </a:r>
            <a:r>
              <a:rPr b="0" lang="en-US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 public docum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038480"/>
            <a:ext cx="2666880" cy="304920"/>
          </a:xfrm>
          <a:prstGeom prst="wedgeRoundRectCallout">
            <a:avLst>
              <a:gd name="adj1" fmla="val 2916"/>
              <a:gd name="adj2" fmla="val -183856"/>
              <a:gd name="adj3" fmla="val 16667"/>
            </a:avLst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Location of Document Type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505320"/>
            <a:ext cx="1066680" cy="304560"/>
          </a:xfrm>
          <a:prstGeom prst="wedgeRoundRectCallout">
            <a:avLst>
              <a:gd name="adj1" fmla="val 49703"/>
              <a:gd name="adj2" fmla="val 99481"/>
              <a:gd name="adj3" fmla="val 16667"/>
            </a:avLst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Deck </a:t>
            </a:r>
            <a:r>
              <a:rPr b="0" lang="ko-KR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의 시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638680"/>
            <a:ext cx="838080" cy="304920"/>
          </a:xfrm>
          <a:prstGeom prst="wedgeRoundRectCallout">
            <a:avLst>
              <a:gd name="adj1" fmla="val 48486"/>
              <a:gd name="adj2" fmla="val 93231"/>
              <a:gd name="adj3" fmla="val 16667"/>
            </a:avLst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Deck </a:t>
            </a:r>
            <a:r>
              <a:rPr b="0" lang="ko-KR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의 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4800600"/>
            <a:ext cx="990720" cy="304920"/>
          </a:xfrm>
          <a:prstGeom prst="wedgeRoundRectCallout">
            <a:avLst>
              <a:gd name="adj1" fmla="val -99518"/>
              <a:gd name="adj2" fmla="val 45314"/>
              <a:gd name="adj3" fmla="val 16667"/>
            </a:avLst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보여질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3809880"/>
            <a:ext cx="1066680" cy="304920"/>
          </a:xfrm>
          <a:prstGeom prst="wedgeRoundRectCallout">
            <a:avLst>
              <a:gd name="adj1" fmla="val -72916"/>
              <a:gd name="adj2" fmla="val 161981"/>
              <a:gd name="adj3" fmla="val 16667"/>
            </a:avLst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Card </a:t>
            </a:r>
            <a:r>
              <a:rPr b="0" lang="ko-KR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의 시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5791320"/>
            <a:ext cx="838080" cy="304560"/>
          </a:xfrm>
          <a:prstGeom prst="wedgeRoundRectCallout">
            <a:avLst>
              <a:gd name="adj1" fmla="val -95453"/>
              <a:gd name="adj2" fmla="val -95314"/>
              <a:gd name="adj3" fmla="val 16667"/>
            </a:avLst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Card </a:t>
            </a:r>
            <a:r>
              <a:rPr b="0" lang="ko-KR" sz="1200" spc="-1" strike="noStrike">
                <a:solidFill>
                  <a:srgbClr val="ff9797"/>
                </a:solidFill>
                <a:latin typeface="Tahoma"/>
                <a:ea typeface="휴먼태엑스포"/>
              </a:rPr>
              <a:t>의 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ML -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371960" y="3733920"/>
            <a:ext cx="6977520" cy="22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?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xml version=“1.0”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!DOCTYPE WML PUBLIC “-//WAPFORUM//DTD WML 1.0//E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http://www.wapforum.org/DTD/wml.xml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ml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ard title="First_Card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first WML exampl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ar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w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wap_display01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1524240" cy="1143000"/>
          </a:xfrm>
          <a:prstGeom prst="rect">
            <a:avLst/>
          </a:prstGeom>
          <a:ln w="19080">
            <a:solidFill>
              <a:srgbClr val="ffcf01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120320" y="335268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휴먼태엑스포"/>
              </a:rPr>
              <a:t>In Nokia WAP SDK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915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MLScrip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WML</a:t>
            </a:r>
            <a:r>
              <a:rPr b="0" lang="ko-KR" sz="24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의 한계 극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사용자 입력값의 타당성 검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사용자 에이전트가 제공하는 기술에 접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전화 걸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메시지 보내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주소록에 전화번호 추가</a:t>
            </a:r>
            <a:r>
              <a:rPr b="0" lang="ko-KR" sz="1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단말기 상에서 메시지나 대화창 작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변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에러 메시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확인</a:t>
            </a:r>
            <a:r>
              <a:rPr b="0" lang="ko-KR" sz="1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사용자 에이전트 소프트웨어에 확장성 부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183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WMLScript -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600920" y="5105520"/>
            <a:ext cx="4021200" cy="122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extern function getRandom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var r = Lang.random(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WMLBrowser.setVar(“RESULT”,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WMLBrowser.go(“random.wml#card2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99480" y="2224080"/>
            <a:ext cx="4981320" cy="220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w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card id=“card1” title=“Random Example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p&gt; Select Rand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do type=“accept” label=“Random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go href=“random.wmls#getRandom()”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/do&gt; 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/car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card id=“card2” title=“Random Result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p&gt; Result : $(RESULT) 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/car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휴먼태엑스포"/>
              </a:rPr>
              <a:t>&lt;/w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5360" y="185904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Random.w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0320" y="472428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휴먼태엑스포"/>
              </a:rPr>
              <a:t>Random.wm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wap_random01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201680" cy="1371600"/>
          </a:xfrm>
          <a:prstGeom prst="rect">
            <a:avLst/>
          </a:prstGeom>
          <a:ln w="19080">
            <a:solidFill>
              <a:srgbClr val="ff9797"/>
            </a:solidFill>
            <a:miter/>
          </a:ln>
        </p:spPr>
      </p:pic>
      <p:pic>
        <p:nvPicPr>
          <p:cNvPr id="159" name="wap_random02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195560" cy="1371600"/>
          </a:xfrm>
          <a:prstGeom prst="rect">
            <a:avLst/>
          </a:prstGeom>
          <a:ln w="19080">
            <a:solidFill>
              <a:srgbClr val="ff9797"/>
            </a:solidFill>
            <a:miter/>
          </a:ln>
        </p:spPr>
      </p:pic>
      <p:pic>
        <p:nvPicPr>
          <p:cNvPr id="160" name="wap_random03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217880" cy="1381320"/>
          </a:xfrm>
          <a:prstGeom prst="rect">
            <a:avLst/>
          </a:prstGeom>
          <a:ln w="19080">
            <a:solidFill>
              <a:srgbClr val="ff979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152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휴먼태새내기체 전각"/>
              </a:rPr>
              <a:t>SGM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057400"/>
            <a:ext cx="76197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tandard Generalized Makeup Language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의 약어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멀티미디어를 포함하고 있는 다양한 형태의 전자  문서들을 서로 다른 시스템들 간에 정보의 손실 없이 효율적으로 전송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저장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자동처리를 하기 위한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ISO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문서처리 표준의 하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ODA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 주로 사무환경에 적합한 표준이라면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 표준은 주로 출판환경에  적합하도록 되어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모두 세 부분으로 되어 있는데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헤더 파일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문서 형태 정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document type  definition;DTD)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본문 등으로 구분된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HTML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은 위 언어의 한 부류이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태엑스포"/>
              </a:rPr>
              <a:t>이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2:04:10Z</dcterms:created>
  <dc:creator>오동석</dc:creator>
  <dc:description/>
  <dc:language>en-US</dc:language>
  <cp:lastModifiedBy>오동석</cp:lastModifiedBy>
  <dcterms:modified xsi:type="dcterms:W3CDTF">1999-08-27T04:29:53Z</dcterms:modified>
  <cp:revision>26</cp:revision>
  <dc:subject/>
  <dc:title>Wireless Application Protocol</dc:title>
</cp:coreProperties>
</file>