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293-F27C-4A52-92A5-60BF6F2B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40" y="396432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C53-E3D1-4EEE-9385-277F5A7A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D84-452F-49F8-928C-E213AF86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180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996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2364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180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996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4D2-A83B-484F-943C-43A73FD4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1901-409E-4A41-99BC-745652E4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6691-9448-4D0D-B3B1-2DC806D8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8FF2-B761-43F4-A82B-AA7565BC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B47B-3466-45C6-B8FB-AEBD2BCF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E647-C2BB-4A61-8FD0-1EE4A0B3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45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7759-5835-4E87-8C96-31F19166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D1E0-506C-4947-B7B3-AA935DE1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B2C-936F-4D73-85E1-AA2EC536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462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FAC1-7ADC-4565-9A61-C7021EFC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B3CA-AC00-4089-9FA0-CBA68192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640" y="396432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DB77-2451-4F6F-B6DB-2A77A2ED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462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76F8-DDCC-427F-B4DE-A789F7BD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180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5996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2364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180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5996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2147-8E11-426E-A554-AB96360D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AEC-FFC9-4B38-A4AE-E4F63FAA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F17-E929-487F-B301-00130A21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F13-129C-498C-909E-F16D7B43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45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F3A-9430-457E-8B7F-113B937C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99C-8AD4-423D-833C-7A5CCEDF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E06-C9FF-4D88-9E1B-BE27F68A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35A-C789-43E7-A01D-2B938DF1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585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585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1008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1008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9349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477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1268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Click to edit the outline text format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Second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Third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Fourth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Fifth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Sixth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Seventh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86E6-192C-4EBC-8D23-EEA00C5180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4461-7E39-4BB5-883E-6C5C9DCD2030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18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장 인터넷 프로그래밍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136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번 장에서는 인터넷과 네트워크 관련 클래스를 알아보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인터넷 프로그래밍에 대해 알아볼 것입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페이지를 텍스트로 다운로드받는 예를 알아봅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IE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브라우저 컨트롤을 이용하면서 기존 액티브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X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컨트롤을 가져오는 방법을 알아보고 웹 브라우저를 만들어봅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br>
              <a:rPr sz="2000"/>
            </a:b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E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컨트롤을 이용한 웹 브라우저 만들기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 이해하기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소켓을 이용한 간단한 날짜 서비스와 클라이언트를 구현해보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소켓과 네트워크 스트림을 이용한 채팅 프로그램을 만들어봅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br>
              <a:rPr sz="2000"/>
            </a:b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소켓 프로그래밍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날짜 서비스와 채팅 프로그램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)  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웹 페이지 읽어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3534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Stream stream = res.GetResponseStream(); </a:t>
            </a:r>
            <a:br>
              <a:rPr sz="1800"/>
            </a:b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//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스트림에서 데이터 읽어오기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StreamReader reader = new StreamReader( stream ); </a:t>
            </a:r>
            <a:br>
              <a:rPr sz="1800"/>
            </a:b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while( true )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{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string str = reader.ReadLine(); //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한 줄씩 읽어 추가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if ( str == null ) break; </a:t>
            </a:r>
            <a:br>
              <a:rPr sz="1800"/>
            </a:b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listBox1.Items.Add( str )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}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//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스트림 닫기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stream.Close()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}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웹 페이지 읽어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1374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예제를 실행하고 연결 가능한 웹 사이트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을 입력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페이지를 다운로드받아 소스를 보여줄 것이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4824360" cy="3544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372360" y="587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실행 결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508360" y="609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웹 브라우저 컨트롤 추가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웹 브라우저 컨트롤을 이용해서 브라우저를 만들어본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0" y="2708280"/>
            <a:ext cx="3960720" cy="3701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587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도구상자 사용자 지정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2708280"/>
            <a:ext cx="352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도구 상자에서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[Components]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탭에 브라우저 컨트롤을 추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[Components]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탭에서 오른쪽 버튼을 클릭하면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도구 상자 사용자 지정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뉴가 나타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3564000" y="609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웹 브라우저 컨트롤 추가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669600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206064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메뉴를 선택하면 컴포넌트를 선택할 수 있는 대화상자가 뜬다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처음에 보이는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[COM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구성 요소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탭에서 웹 브라우저 컨트롤을 선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웹 브라우저 컨트롤 추가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4360" y="3573360"/>
            <a:ext cx="2805120" cy="2952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1280" y="2276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대화상자를 닫으면 도구 상자에 새로 추가된 웹 브라우저 컨트롤이 보일 것이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6093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3933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도구 상자에 추가된 웹 브라우저 컨트롤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6364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IE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브라우저 만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1. IE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브라우저 컨트롤을 이용해서 간단한 웹브라우저를     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만들어보는 예제이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이름과 작업할 폴더를 지정하고 새로운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를 생성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유형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Windows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응용 프로그램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이름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IEBrowser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IE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브라우저 만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392720" cy="2441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95280" y="2060640"/>
            <a:ext cx="345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다음과 같이 폼 윈도우를 구성하고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컨트롤 속성을 지정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292428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292640"/>
            <a:ext cx="835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객체   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객체 이름 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속성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AxWebBrowser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axWebBrowser1          Anchor = Top,Bottom,Left,Righ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TextBox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url         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Text = "www.hotmail.com"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                         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Anchor = Top,Bottom,Left,Righ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Button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btnGo       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Text = "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이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"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                             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Anchor = Top,Right      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Button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btnGoBack  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Text = "&lt;&lt;"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Button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btnGoFoward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Text = "&gt;&gt;"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IE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브라우저 만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8243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웹 브라우저 컨트롤을 폼 윈도우에 추가하면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, [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참조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리스트에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SHDocVw.DLL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xSHDocVw.DLL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이 자동으로 추가됨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새로 추가된 컨트롤 이름은 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axWebBrowser1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이다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580000" y="1844640"/>
            <a:ext cx="3097440" cy="2728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62728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솔루션 탐색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4581360"/>
            <a:ext cx="87138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브라우저가 실행되었을 때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홈사이트로 이동하도록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Form1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생성자에 추가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컨트롤을 초기화하는 메서드를 부른 후에 이동하는 코드를 추가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public Form1(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nitializeComponent();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 //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홈 사이트로 이동 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axWebBrowser1.GoHome(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IE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브라우저 만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5.[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이동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버튼의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이벤트 핸들러를 구현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Navigate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메서드는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를 받아들이며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해당 웹 페이지로 이동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    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브라우저 컨트롤은 이동한 웹 페이지를 보여준다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private void btnGo_Click(object sender, System.EventArgs e)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{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object o = null; </a:t>
            </a:r>
            <a:br>
              <a:rPr sz="1800"/>
            </a:b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입력받은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로 이동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axWebBrowser1.Navigate( url.Text, ref o, ref o, ref o, ref o)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}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IE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브라우저 만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6.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이전 페이지와 다음 페이지 이동 버튼의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이벤트를 구현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GoBack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메서드와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GoFoward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메서드를 불러서 이전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/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다음 페이지로 이동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private void btnGoBack_Click(object sender, System.EventArgs e)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{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//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뒤로 이동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axWebBrowser1.GoBack();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} </a:t>
            </a:r>
            <a:br>
              <a:rPr sz="1600"/>
            </a:b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private void btnGoFoward_Click(object sender, System.EventArgs e)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{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//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앞으로 이동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axWebBrowser1.GoForward();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} </a:t>
            </a:r>
            <a:br>
              <a:rPr sz="1600"/>
            </a:b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인터넷 프로그래밍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웹 프로그래밍 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관련 클래스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따라하기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페이지 읽어오기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브라우저 컨트롤 추가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따라하기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 IE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브라우저 만들기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네트워크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포트 번호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 관련 클래스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따라하기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 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 구하기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IE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브라우저 만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136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7.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예제를 실행하면 다음과 같은 실행 화면을 보여준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    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을 입력하고 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[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이동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버튼을 눌러본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   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앞뒤로 이동하는 버튼도 눌러보세요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5184720" cy="3247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372360" y="587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실행화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84360" y="6093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IE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브라우저 만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8.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대부분의 사용자는 습관적으로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을 입력한 후에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Enter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키를 입력한다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텍스트박스에서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Enter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키를 처리하려면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KeyPress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이벤트를 추가하고 다 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음과 같이 구현해준다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입력된 키 값이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Enter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키이면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입력한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로 이동한다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private void url_KeyDown(object sender, System.Windows.Forms.KeyEventArgs e)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{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if ( e.KeyCode == Keys.Enter )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{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        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// 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입력받은 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로 이동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        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object o = null;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        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axWebBrowser1.Navigate( url.Text, ref o, ref o, ref o, ref o);           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}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}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5805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따라하기 예제는 테스트용 프로그램으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브라우저 컨트롤을 어떻게 이용하는지 간단하게 보여준 것이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브라우저 컨트롤을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활용하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I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와 같은 브라우저를 만들어 낼 수 있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네트워크 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en-US" sz="5400" spc="-1" strike="noStrike">
                <a:solidFill>
                  <a:srgbClr val="333399"/>
                </a:solidFill>
                <a:latin typeface="굴림"/>
              </a:rPr>
              <a:t>IP </a:t>
            </a:r>
            <a:r>
              <a:rPr b="1" lang="zh-CN" sz="5400" spc="-1" strike="noStrike">
                <a:solidFill>
                  <a:srgbClr val="333399"/>
                </a:solidFill>
                <a:latin typeface="굴림"/>
              </a:rPr>
              <a:t>주소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80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인터넷에서 컴퓨터를 나타내는 고유한 값으로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 또는 호스트 이름을 사용한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인터넷 익스플로러에서 웹 페이지를 볼 때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동할 호스트 이름을 입력한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46800" y="4105440"/>
            <a:ext cx="3162240" cy="1995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95280" y="3933720"/>
            <a:ext cx="5113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IP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주소는 숫자로 구성되어 있어 사람이 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억하기가 어렵기 때문에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호스트 이름을 지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하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IP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주소를 할당해서 사용한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호스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름은 사람이 기억하기 편하게 만들어진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으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실제로 내부에서 호스트를 찾을 때 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는 값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IP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주소 이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622764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609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www.microsft.com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네트워크 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en-US" sz="5400" spc="-1" strike="noStrike">
                <a:solidFill>
                  <a:srgbClr val="333399"/>
                </a:solidFill>
                <a:latin typeface="굴림"/>
              </a:rPr>
              <a:t>IP </a:t>
            </a:r>
            <a:r>
              <a:rPr b="1" lang="zh-CN" sz="5400" spc="-1" strike="noStrike">
                <a:solidFill>
                  <a:srgbClr val="333399"/>
                </a:solidFill>
                <a:latin typeface="굴림"/>
              </a:rPr>
              <a:t>주소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인터넷 익스플로러에서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www.microsoft.com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와 같이 호스트 이름을 입력하면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, DSN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서버에 의해서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주소로 변환되고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구한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주소를 사용해서 사이트에 연결된다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localhost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는 지금 사용하고 있는 컴퓨터 자신을 나타낸다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인터넷 익스플로러에서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localhost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라고 입력하면 다른 컴퓨터랑 연결되는 것이 아니라 호스트 자신에게 연결된다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&lt;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아세요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? - IP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주소 구성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&gt; </a:t>
            </a:r>
            <a:br>
              <a:rPr sz="1400"/>
            </a:b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주소는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32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비트 정수 값입니다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보통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주소는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개의 숫자 값으로 나누어 표시하며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각 숫자 값의 범위는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0~255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입니다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  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주소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: 157.56.176.228 </a:t>
            </a:r>
            <a:br>
              <a:rPr sz="1400"/>
            </a:b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네트워크 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포트 번호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인터넷에서 두 개의 다른 컴퓨터를 구분할 수 있는 것은 각 컴퓨터가 가지고 있는 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주소이고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상대방 컴퓨터에서 데이터를 받아서 처리해주는 것은 포트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(port)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번호로 구분한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하나의 호스트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(Host)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에서 여러 네트워크 서비스를 제공하는 경우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포트 번호로 서비스를 구분한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사용 가능한 포트 번호는 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0~65535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까지 사용할 수 있지만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일부 포트 번호는 미리 예약되어 있으므로 겹치지 않도록 지정한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예약된 포트 번호가 대부분 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1000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보다 작으므로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이 값보다 크게 지정하도록 한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네트워크 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포트 번호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&lt;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아세요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? -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프로토콜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&gt; 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프로토콜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(Protocol)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이란 컴퓨터 사이에서 서로 데이터를 교환하기 위해 미리 결정해놓은 표준화된 규정이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서로 다른 컴퓨터 사이에서 데이터를 교환하기 위해 미리 정의해놓은 규칙이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웹에서 흔히 쓰는 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HTTP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프로토콜은 웹 페이지와 파일을 주고받는데 필요한 규칙을 미리 정의해놓은 것이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HTTP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프로토콜의 디폴트 포트 번호는 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80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번이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br>
              <a:rPr sz="2000"/>
            </a:b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굴림"/>
              </a:rPr>
              <a:t>네트워크 </a:t>
            </a:r>
            <a:r>
              <a:rPr b="1" lang="en-US" sz="4000" spc="-1" strike="noStrike">
                <a:solidFill>
                  <a:srgbClr val="333399"/>
                </a:solidFill>
                <a:latin typeface="굴림"/>
              </a:rPr>
              <a:t>- IP </a:t>
            </a:r>
            <a:r>
              <a:rPr b="1" lang="zh-CN" sz="4000" spc="-1" strike="noStrike">
                <a:solidFill>
                  <a:srgbClr val="333399"/>
                </a:solidFill>
                <a:latin typeface="굴림"/>
              </a:rPr>
              <a:t>주소 관련 클래스 </a:t>
            </a:r>
            <a:endParaRPr b="1" lang="en-US" sz="40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80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는 네트워크 프로그램을 작성하는데 필수적인 요소로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닷넷 클래스는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를 다루는 클래스를 별도로 제공한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141720"/>
            <a:ext cx="842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클래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   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설명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PAddress               IP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주소를 나타내는 클래스입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                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) string dotip = ip.ToString()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PHostEntry     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하나의 호스트에 대한 정보를 제공하는 클래스입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         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) IPAddress ip = iphost.AddressList[0]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             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tring hostname = iphost.HostName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ns                    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호스트 이름을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P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주소로 변환할 때 사용하며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내부적으로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NS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서버와 통신합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                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) HostEntry host = Dns.Resolve( "www.microsoft.com" 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굴림"/>
              </a:rPr>
              <a:t>네트워크 </a:t>
            </a:r>
            <a:r>
              <a:rPr b="1" lang="en-US" sz="4000" spc="-1" strike="noStrike">
                <a:solidFill>
                  <a:srgbClr val="333399"/>
                </a:solidFill>
                <a:latin typeface="굴림"/>
              </a:rPr>
              <a:t>- IP </a:t>
            </a:r>
            <a:r>
              <a:rPr b="1" lang="zh-CN" sz="4000" spc="-1" strike="noStrike">
                <a:solidFill>
                  <a:srgbClr val="333399"/>
                </a:solidFill>
                <a:latin typeface="굴림"/>
              </a:rPr>
              <a:t>주소 관련 클래스</a:t>
            </a:r>
            <a:endParaRPr b="1" lang="en-US" sz="40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&lt;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잠시만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- AddressList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프로퍼티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&gt; 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IPHostEntry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클래스는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AddressList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프로퍼티를 제공한다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하나의 호스트에 하나 이상의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주소를 할당할 수 있기 때문에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IPAddress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클래스를 여러 개 가지고 있다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IP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주소 구하기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8036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호스트 이름을 주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를 구해보는 예제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만들기 대화상자에서 프로젝트 이름과 작업할 폴더를 지정하고 새로운 프로젝트를 생성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유형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Windows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응용 프로그램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이름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GetIP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4724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트워크 프로그램을 작성하기 위해 다음 네임스페이스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추가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using System.Net;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IP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주소 구하기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3.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다음과 같이 폼 윈도우를 구성하고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컨트롤 속성을 지정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3958920" cy="2573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508720" y="530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폼 윈도우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16360" y="551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인터넷 프로그래밍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소켓 프로그래밍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    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소켓 관련 클래스 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    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클라이언트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/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서버 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 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따라하기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날짜 서비스 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 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따라하기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클라이언트 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IP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주소 구하기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35344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4. [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 구하기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]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버튼의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벤트 핸들러를 구현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270828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private void button1_Click(object sender, System.EventArgs e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PHostEntry host = Dns.Resolve( textBox1.Text )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istBox1.Items.Add( "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호스트 이름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"+ host.HostName 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istBox1.Items.Add( "IP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주소 리스트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")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for( int i=0; i&lt; host.AddressList.Length; i++ 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PAddress ip = host.AddressList[i]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istBox1.Items.Add( " ["+i+"] = "+ ip.ToString() 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IP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주소 구하기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8280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예제를 실행후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평소 자주 가는 웹 사이트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을 입력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버튼을 누르면 실제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를 구할 수 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335772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4392720" cy="2747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940360" y="5661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구현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주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003280" y="5877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소켓 프로그래밍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TCP/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토콜을 사용하는 네트워크 프로그램은 소켓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(socket)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을 이용해서 작성한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소켓에는 스트림 소켓과 데이터그램 소켓이 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다음은 스트림 방식과 데이터그램 방식을 비교해서 설명한 것이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431640" y="3195720"/>
            <a:ext cx="871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소켓 방식   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설명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스트림      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CP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프로토콜을 사용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연결형으로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연속적인 데이터 전송을 보장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        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보통 전화기와 비유되며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연결과 연결을 끊는 절차가 필요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데이터그램  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UDP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프로토콜을 사용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        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비연결형으로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비연속적으로 데이터를 전송하며 데이터 전송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보장하지 못한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        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보통 우편물과 비유되며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연결 절차가 없기 때문에 통신 오버헤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 적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소켓 프로그래밍 </a:t>
            </a:r>
            <a:r>
              <a:rPr b="1" lang="en-US" sz="36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소켓 관련 클래스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42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다음에 보인 소켓 관련 클래스는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System.Net.Sockets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네임스페이스에 정의되어 있다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Socket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클래스는 다른 컴퓨터에 연결하고 통신하는 역할을 한다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앞에서 배운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WebRequest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클래스나 여기 나열한 소켓 관련 클래스도 내부적으로는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Socket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클래스를 사용한다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386064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-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래스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설명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-Socket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실제 네트워크 연결을 제어하는 클래스입니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cpClient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CP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라이언트를 나타냅니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UdpClient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UDP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라이언트를 나타냅니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cpListener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버 프로그램에서 특정 포트 번호에서 클라이언트 요구를 기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립니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소켓 프로그래밍 </a:t>
            </a:r>
            <a:r>
              <a:rPr b="1" lang="en-US" sz="36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소켓 관련 클래스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소켓 프로그램을 테스트하려면 서버 프로그램과 클라이언트 프로그램을 같이 구현해주어야 한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클라이언트와 서버 프로그램은 구조적인 차이가 있기 때문에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어떤 프로그램을 작성하느냐에 따라 구현 방법이 달라진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◈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서버 프로그램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클라이언트 프로그램이 연결할 때까지 기다렸다가 클라이언트 요구를 처리합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◈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클라이언트 프로그램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서버로 요구를 보냄으로서 통신을 시작하는 역할을 합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소켓 프로그래밍 </a:t>
            </a:r>
            <a:r>
              <a:rPr b="1" lang="en-US" sz="3600" spc="-1" strike="noStrike">
                <a:solidFill>
                  <a:srgbClr val="333399"/>
                </a:solidFill>
                <a:latin typeface="굴림"/>
              </a:rPr>
              <a:t>-</a:t>
            </a: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클라이언트</a:t>
            </a:r>
            <a:r>
              <a:rPr b="1" lang="en-US" sz="3600" spc="-1" strike="noStrike">
                <a:solidFill>
                  <a:srgbClr val="333399"/>
                </a:solidFill>
                <a:latin typeface="굴림"/>
              </a:rPr>
              <a:t>/</a:t>
            </a: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서버 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072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서버는 클라이언트 요구가 들어올 때까지 기다리다가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요구가 들어오면 처리하는 프로그램이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TcpListener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클래스를 생성할 때 특정 포트 번호를 지정하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클라이언트 요구를 기다리도록 한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3645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라이언트 요구를 기다리는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istener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객체 생성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, 1024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포트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cpListener tcpl = new TcpListener( 1024 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cpl.Start(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5013360"/>
            <a:ext cx="83534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TcpListener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클래스의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AcceptSocket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메서드는 클라이언트 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구가 들어올 때까지 기다린다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ocket s = tcpl.AcceptSocket()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소켓 프로그래밍 </a:t>
            </a:r>
            <a:r>
              <a:rPr b="1" lang="en-US" sz="3600" spc="-1" strike="noStrike">
                <a:solidFill>
                  <a:srgbClr val="333399"/>
                </a:solidFill>
                <a:latin typeface="굴림"/>
              </a:rPr>
              <a:t>-</a:t>
            </a: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클라이언트</a:t>
            </a:r>
            <a:r>
              <a:rPr b="1" lang="en-US" sz="3600" spc="-1" strike="noStrike">
                <a:solidFill>
                  <a:srgbClr val="333399"/>
                </a:solidFill>
                <a:latin typeface="굴림"/>
              </a:rPr>
              <a:t>/</a:t>
            </a: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서버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클라이언트는 서버에 요구를 보내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서버가 보내준 결과를 받아 처리하는 프로그램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TcpClient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객체를 생성하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Connect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메서드를  불러서 서버 연결을 시도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연결할 서버 이름과 포트 번호를 지정해준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//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서버 연결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TcpClient tcpc = new TcpClient();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tcpc.Connect(server, 1024);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br>
              <a:rPr sz="2000"/>
            </a:b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날짜 서비스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소켓을 이용해서 서버 프로그램을 만들어보는 예제이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 서버 프로그램은 클라이언트 요구가 들어왔을 때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서버의 현재 날짜와 시간을 보내주는 간단한 서비스이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만들기 대화상자에서 프로젝트 이름과 작업할 폴더를 지정하고 새로운 프로젝트를 생성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br>
              <a:rPr sz="2000"/>
            </a:b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유형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Windows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응용 프로그램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이름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DateServer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날짜 서비스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2.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소켓을 이용한 서버 프로그램을 만들려면 다음 네임스페이스가 필요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코드 윈도우를 열어 추가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using System.Net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using System.Net.Sockets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using System.Text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046840" y="2008080"/>
            <a:ext cx="3681360" cy="2273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24000" y="4653000"/>
            <a:ext cx="86407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다음과 같이 폼 윈도우를 구성하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컨트롤 속성을 지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객체               객체 이름       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속성 지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utton              button1        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Text = "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날짜 서비스 시작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"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Label                label1         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Text = "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포트 번호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"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TextBox            textBox1       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Text = "1024"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ListBox             listBox1       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308720" y="4869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8101080" y="458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날짜 서비스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8664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4. Listen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메서드를 추가하고 구현한다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서버에서 클라이언트로 보낼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,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결과 문자열은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Socket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클래스의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Send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메서드를 불러서 보내준다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3068640"/>
            <a:ext cx="8569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id Listen(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// 1.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포트 번호 구하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nt port = Convert.ToInt16( textBox1.Text 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// 2.Lintener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시작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cpListener listener = new TcpListener( port 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listener.Start(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listBox1.Items.Add(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클라이언트 요구 기다리는 중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..")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웹 프로그래밍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36000" cy="18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웹 관련 클래스 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인터넷에서 파일을 읽어 보여주려면 먼저 파일을 요구하는 과정이 필요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웹 페이지나 파일을 받기위한객체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     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-  WebRequest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객체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,    WebResponse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객체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5113080" cy="3287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300720" y="6093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웹 페이지 읽어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867280" y="6308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날짜 서비스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2060640"/>
            <a:ext cx="8424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while (true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// 3.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라이언트 요구를 기다린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ocket s = listener.AcceptSocket()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// 4.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버 날짜 구하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tring sDate = DateTime.NowToShortDateString()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// 5.Send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메서드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라이언트에 결과를 보낸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Byte[] rawRes = Encoding.Unicode.GetBytes(sRes.ToCharArray()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.Send(rawRes, rawRes.Length, 0)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// 6.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 로그 남기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istBox1.Items.Add("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버 날짜 서비스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"+ sDate 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날짜 서비스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2072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5. [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날짜 서비스 시작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버튼의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벤트 핸들러 구현 쓰레드를 생성해서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Listen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메서드를 실행한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다시 버튼을 누르면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실행중인 쓰레드를 종료되고 날짜 서비스가 멈춘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  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3343320"/>
            <a:ext cx="8351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private void button1_Click(object sender, System.EventArgs e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f ( button1.Text == 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날짜 서비스 시작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" 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1 = new Thread( new ThreadStart( Listen ) ); //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날짜 서비스 시작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1.Start();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 button1.Text = 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날짜 서비스 종료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 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1.Abort(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button1.Text = 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날짜 서비스 시작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날짜 서비스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&lt;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아세요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? -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쓰레드를 사용하는 이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&gt;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만약 쓰레드 생성 없이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Listen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메서드를 부르게되면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윈도우에서 사용자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UI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부분이 멈추어 사용할 수 없게 됩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윈도우를 움직일 수도 없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메시지를 볼 수도 없게되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179280" y="3716280"/>
            <a:ext cx="8820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프로그램을 실행하고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포트 번호를 바꾼 다음 날짜 서비스를 시작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42920" y="4221000"/>
            <a:ext cx="3600360" cy="21085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03120" y="372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날짜 서비스 시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787640" y="602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클라이언트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28400" y="2017800"/>
            <a:ext cx="831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소켓을 사용해서 서버에 연결하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서버로부터 결과를 받아오는 예제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이름과 작업할 폴더를 지정하고 새로운 프로젝트를 생성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br>
              <a:rPr sz="2000"/>
            </a:b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유형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콘솔 응용 프로그램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이름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DateClient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br>
              <a:rPr sz="2000"/>
            </a:b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클라이언트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35164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소켓을 이용한 프로그램을 만들려면 다음 네임스페이스가 필요하므로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,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코드 윈도우를 열어 추가한다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using System.Net;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using System.Net.Sockets;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using System.Text;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using System.IO;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3.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다음과 같이 폼 윈도우를 구성하고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컨트롤 속성을 지정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. </a:t>
            </a:r>
            <a:br>
              <a:rPr sz="1800"/>
            </a:b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4360" y="4941720"/>
            <a:ext cx="3009600" cy="1333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427640" y="5877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폼 윈도우 구성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000" y="609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클라이언트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421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4. [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서버 연결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버튼의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이벤트 핸들러를 구현한다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날짜 서비스가 실행된 서버에 접속해서 서버 날짜 정보를 받아서 보여준다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서버 이름은 “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localhost”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로 지정하고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포트 번호는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1024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로 지정한다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3098880"/>
            <a:ext cx="871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접속 할 서버 이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tring server = "localhost"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// TcpClient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객체 생성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cpClient tcpc = new TcpClient();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//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서버에 접속 시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ry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cpc.Connect(server, 1024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atch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onsole.WriteLine(" {0}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서버에 연결할 수 없음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", server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return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클라이언트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2205000"/>
            <a:ext cx="84978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데이터 스트림 구하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tream stream = tcpc.GetStream()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스트림에서 결과 읽어오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Byte[] res = new Byte[256]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nt bytes = stream.Read( res, 0, res.Length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tring str = Encoding.Unicode.GetString( res )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서버가 보내준 결과를 메시지박스로 보여줍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tring message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message = 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받은 바이트 수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: " + bytes + " bytes  "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message += 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서버 날짜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: " + str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MessageBox.Show( message, 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서버에서 보내준 결과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" )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소켓 닫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cpc.Close(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클라이언트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28036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&lt;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잠시만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스트림 읽기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&gt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서버로부터 받은 결과는 스트림 객체를 통해서 읽어옵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TcpClient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객체의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GetStream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메서드를 불러서 스트림 객체를 구하고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결과를 읽어옵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9640" y="4365720"/>
            <a:ext cx="3810240" cy="21351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68360" y="3645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먼저 날짜 서버 프로그램을 실행한 상태에서 클라이언트 프로그램을 실행한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[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서버 연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버튼을 누르면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서버 날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간 정보를 보여준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148360" y="59500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클라이언트 프로그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1640" y="6165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마무리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지금까지 웹과 인터넷 관련 프로그래밍에 대해서 알아보았습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웹 프로그래밍에서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IE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컨트롤을 사용해서 간단한 브라우저를 만들어 보았습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이렇게 기존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COM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이나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ActiveX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컨트롤을 가져와 사용하는 것을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COM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호환성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(interoperability)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이라고 합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br>
              <a:rPr sz="1800"/>
            </a:b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인터넷에서 컴퓨터를 구분하는 방법은 각 호스트에 할당된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주소이고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실제로 연결되어 데이터를 처리해주는 것은 서비스입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서비스에는 포트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(port)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번호가 할당되어 있습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소켓 프로그래밍을 알아보기 위해 날짜 서비스를 하는 서버와 클라이언트를 만들어보았습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웹 프로그래밍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1.WebRequest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객체에 요구할 웹 페이지를 지정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Create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메서드를 부를 때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을 넘겨주면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Request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객체 리턴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- WebRequest req = WebRequest.Create( url )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2.GetResponse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메서드는 페이지를 요구하고 서버로부터 응답을 기다립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- WebResponse res = req.GetResponse()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3.GetResponseStream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메서드는 스트림 객체를 리턴합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스트림 객체로부터 데이터를 읽는 것은 일반 스트림을 읽는 것과 같습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StreamReader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객체에 연결해서 데이터를 읽어옵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- Stream stream = res.GetResponseStream()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- StreamReader reader = new StreamReader( stream )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웹 페이지 읽어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 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1. WebRequest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객체를 사용해 웹페이지를 받아 보여주는  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예제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프로젝트 만들기 대화상자에서 프로젝트 이름과 작업   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할 폴더를 지정하고 새로운 프로젝트를 생성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유형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Windows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응용 프로그램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이름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WebReader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웹 페이지 읽어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네트워크 관련 프로그램을 작성하기 위해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System.Net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네임스페이스를 추가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스트림을 사용하기 때문에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Text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와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O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네임스페이 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스도 같이 추가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using System.Net;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using System.Text;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using System.IO; </a:t>
            </a:r>
            <a:br>
              <a:rPr sz="2000"/>
            </a:b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웹 페이지 읽어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2090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3. 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폼 윈도우를 구성하고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컨트롤 속성을 지정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06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5256000" cy="3405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67640" y="551664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폼 윈도우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866920" y="57340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웹 페이지 읽어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4. [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페이지 읽어오기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]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버튼의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벤트 핸들러를 구현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WebRequest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객체를 이용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에 연결하여 웹페이지 소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스를 읽어온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private void button1_Click(object sender, System.EventArgs e)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{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//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연결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WebRequest req = WebRequest.Create( textBox1.Text );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 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WebResponse res = req.GetResponse();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02:22:49Z</dcterms:created>
  <dc:creator>박대영</dc:creator>
  <dc:description/>
  <dc:language>en-US</dc:language>
  <cp:lastModifiedBy>임정목</cp:lastModifiedBy>
  <dcterms:modified xsi:type="dcterms:W3CDTF">2002-11-14T12:45:36Z</dcterms:modified>
  <cp:revision>3</cp:revision>
  <dc:subject/>
  <dc:title>18장 인터넷 프로그래밍</dc:title>
</cp:coreProperties>
</file>