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614-089C-4B1B-AA74-FCC6DA31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353-2BEE-4DB8-82EE-0F7A3534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436-38BA-4F7D-B135-08FC5FB6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A68-9A57-4499-9FCA-6E0F3725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E50B-1632-43E7-999D-2DB46A31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1209-7A92-4DD7-9D9F-33EE85F6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7AA1-854B-4BE6-B7BB-A9340BD8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2ACC-709A-4C36-B0A0-CBF351CC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F033-56D6-4307-9C98-6ED96015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3E33-3AA6-4337-9B68-FFC46DD7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7421-B93B-4286-92E2-A1786F86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2C1-B3FC-4029-BD37-46C3364E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3B09-A2F8-4326-BADE-DA88A6FE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F0C4-BC26-4E1A-A7B8-11F2617E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7946-C051-4616-BFCA-3A685D56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DB7A-3712-4794-B15E-E2331805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1066-C510-4DF6-B536-8F65F376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D0E3-8403-4F2F-B96D-C4717198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0222-A7B8-42BA-A824-559E0EAE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D38-13CE-4E55-A39B-E5692DB8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F9C-6C42-47AB-BF3E-E8BADFD0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C59-D01E-4584-AC55-0FA59947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EAE-8167-4F93-B034-FE03B20A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571-50AB-4F95-85B8-26F6C693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535800"/>
            <a:ext cx="9143640" cy="303840"/>
            <a:chOff x="0" y="6535800"/>
            <a:chExt cx="9143640" cy="30384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535800"/>
              <a:ext cx="4571640" cy="303840"/>
              <a:chOff x="0" y="6535800"/>
              <a:chExt cx="4571640" cy="303840"/>
            </a:xfrm>
          </p:grpSpPr>
          <p:sp>
            <p:nvSpPr>
              <p:cNvPr id="2" name="AutoShape 4"/>
              <p:cNvSpPr/>
              <p:nvPr/>
            </p:nvSpPr>
            <p:spPr>
              <a:xfrm>
                <a:off x="4267080" y="6543360"/>
                <a:ext cx="304560" cy="29268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" name="AutoShape 5"/>
              <p:cNvSpPr/>
              <p:nvPr/>
            </p:nvSpPr>
            <p:spPr>
              <a:xfrm>
                <a:off x="4267080" y="6546960"/>
                <a:ext cx="304560" cy="29268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" name="AutoShape 6"/>
              <p:cNvSpPr/>
              <p:nvPr/>
            </p:nvSpPr>
            <p:spPr>
              <a:xfrm>
                <a:off x="3962160" y="6543360"/>
                <a:ext cx="304920" cy="29268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" name="AutoShape 7"/>
              <p:cNvSpPr/>
              <p:nvPr/>
            </p:nvSpPr>
            <p:spPr>
              <a:xfrm>
                <a:off x="3657600" y="6543360"/>
                <a:ext cx="304560" cy="29268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>
                <a:off x="3657600" y="6546960"/>
                <a:ext cx="304560" cy="29268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" name="AutoShape 9"/>
              <p:cNvSpPr/>
              <p:nvPr/>
            </p:nvSpPr>
            <p:spPr>
              <a:xfrm>
                <a:off x="3352680" y="6543360"/>
                <a:ext cx="304560" cy="29268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" name="AutoShape 10"/>
              <p:cNvSpPr/>
              <p:nvPr/>
            </p:nvSpPr>
            <p:spPr>
              <a:xfrm>
                <a:off x="3047760" y="6539400"/>
                <a:ext cx="304920" cy="29268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" name="AutoShape 11"/>
              <p:cNvSpPr/>
              <p:nvPr/>
            </p:nvSpPr>
            <p:spPr>
              <a:xfrm>
                <a:off x="3047760" y="6543360"/>
                <a:ext cx="304920" cy="29268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" name="AutoShape 12"/>
              <p:cNvSpPr/>
              <p:nvPr/>
            </p:nvSpPr>
            <p:spPr>
              <a:xfrm>
                <a:off x="2743200" y="6539400"/>
                <a:ext cx="304560" cy="29268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" name="AutoShape 13"/>
              <p:cNvSpPr/>
              <p:nvPr/>
            </p:nvSpPr>
            <p:spPr>
              <a:xfrm>
                <a:off x="2438280" y="6539400"/>
                <a:ext cx="304560" cy="29268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" name="AutoShape 14"/>
              <p:cNvSpPr/>
              <p:nvPr/>
            </p:nvSpPr>
            <p:spPr>
              <a:xfrm>
                <a:off x="2438280" y="6543360"/>
                <a:ext cx="304560" cy="29268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" name="AutoShape 15"/>
              <p:cNvSpPr/>
              <p:nvPr/>
            </p:nvSpPr>
            <p:spPr>
              <a:xfrm>
                <a:off x="2133360" y="6539400"/>
                <a:ext cx="304920" cy="29268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AutoShape 16"/>
              <p:cNvSpPr/>
              <p:nvPr/>
            </p:nvSpPr>
            <p:spPr>
              <a:xfrm>
                <a:off x="1523880" y="6539400"/>
                <a:ext cx="304560" cy="29268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AutoShape 17"/>
              <p:cNvSpPr/>
              <p:nvPr/>
            </p:nvSpPr>
            <p:spPr>
              <a:xfrm>
                <a:off x="1523880" y="6543360"/>
                <a:ext cx="304560" cy="29268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" name="AutoShape 18"/>
              <p:cNvSpPr/>
              <p:nvPr/>
            </p:nvSpPr>
            <p:spPr>
              <a:xfrm>
                <a:off x="1218960" y="6539400"/>
                <a:ext cx="304920" cy="29268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" name="AutoShape 19"/>
              <p:cNvSpPr/>
              <p:nvPr/>
            </p:nvSpPr>
            <p:spPr>
              <a:xfrm>
                <a:off x="914400" y="6535800"/>
                <a:ext cx="304560" cy="29268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" name="AutoShape 20"/>
              <p:cNvSpPr/>
              <p:nvPr/>
            </p:nvSpPr>
            <p:spPr>
              <a:xfrm>
                <a:off x="914400" y="6539400"/>
                <a:ext cx="304560" cy="29268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" name="AutoShape 21"/>
              <p:cNvSpPr/>
              <p:nvPr/>
            </p:nvSpPr>
            <p:spPr>
              <a:xfrm>
                <a:off x="609480" y="6535800"/>
                <a:ext cx="304560" cy="29268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" name="AutoShape 22"/>
              <p:cNvSpPr/>
              <p:nvPr/>
            </p:nvSpPr>
            <p:spPr>
              <a:xfrm>
                <a:off x="304560" y="6535800"/>
                <a:ext cx="304920" cy="29268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" name="AutoShape 23"/>
              <p:cNvSpPr/>
              <p:nvPr/>
            </p:nvSpPr>
            <p:spPr>
              <a:xfrm>
                <a:off x="304560" y="6539400"/>
                <a:ext cx="304920" cy="29268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" name="AutoShape 24"/>
              <p:cNvSpPr/>
              <p:nvPr/>
            </p:nvSpPr>
            <p:spPr>
              <a:xfrm>
                <a:off x="0" y="6535800"/>
                <a:ext cx="304560" cy="29268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" name="AutoShape 25"/>
              <p:cNvSpPr/>
              <p:nvPr/>
            </p:nvSpPr>
            <p:spPr>
              <a:xfrm>
                <a:off x="1828800" y="6543360"/>
                <a:ext cx="304560" cy="29268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" name="Group 26"/>
            <p:cNvGrpSpPr/>
            <p:nvPr/>
          </p:nvGrpSpPr>
          <p:grpSpPr>
            <a:xfrm>
              <a:off x="4572000" y="6535800"/>
              <a:ext cx="4571640" cy="303840"/>
              <a:chOff x="4572000" y="6535800"/>
              <a:chExt cx="4571640" cy="303840"/>
            </a:xfrm>
          </p:grpSpPr>
          <p:sp>
            <p:nvSpPr>
              <p:cNvPr id="25" name="AutoShape 27"/>
              <p:cNvSpPr/>
              <p:nvPr/>
            </p:nvSpPr>
            <p:spPr>
              <a:xfrm>
                <a:off x="8839080" y="6543360"/>
                <a:ext cx="304560" cy="29268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" name="AutoShape 28"/>
              <p:cNvSpPr/>
              <p:nvPr/>
            </p:nvSpPr>
            <p:spPr>
              <a:xfrm>
                <a:off x="8839080" y="6546960"/>
                <a:ext cx="304560" cy="29268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" name="AutoShape 29"/>
              <p:cNvSpPr/>
              <p:nvPr/>
            </p:nvSpPr>
            <p:spPr>
              <a:xfrm>
                <a:off x="8534160" y="6543360"/>
                <a:ext cx="304560" cy="29268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" name="AutoShape 30"/>
              <p:cNvSpPr/>
              <p:nvPr/>
            </p:nvSpPr>
            <p:spPr>
              <a:xfrm>
                <a:off x="8229240" y="6543360"/>
                <a:ext cx="304560" cy="29268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" name="AutoShape 31"/>
              <p:cNvSpPr/>
              <p:nvPr/>
            </p:nvSpPr>
            <p:spPr>
              <a:xfrm>
                <a:off x="8229240" y="6546960"/>
                <a:ext cx="304560" cy="29268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" name="AutoShape 32"/>
              <p:cNvSpPr/>
              <p:nvPr/>
            </p:nvSpPr>
            <p:spPr>
              <a:xfrm>
                <a:off x="7924680" y="6543360"/>
                <a:ext cx="304560" cy="29268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" name="AutoShape 33"/>
              <p:cNvSpPr/>
              <p:nvPr/>
            </p:nvSpPr>
            <p:spPr>
              <a:xfrm>
                <a:off x="7619760" y="6539400"/>
                <a:ext cx="304560" cy="29268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" name="AutoShape 34"/>
              <p:cNvSpPr/>
              <p:nvPr/>
            </p:nvSpPr>
            <p:spPr>
              <a:xfrm>
                <a:off x="7619760" y="6543360"/>
                <a:ext cx="304560" cy="29268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" name="AutoShape 35"/>
              <p:cNvSpPr/>
              <p:nvPr/>
            </p:nvSpPr>
            <p:spPr>
              <a:xfrm>
                <a:off x="7314840" y="6539400"/>
                <a:ext cx="304560" cy="29268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" name="AutoShape 36"/>
              <p:cNvSpPr/>
              <p:nvPr/>
            </p:nvSpPr>
            <p:spPr>
              <a:xfrm>
                <a:off x="7010280" y="6539400"/>
                <a:ext cx="304560" cy="29268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" name="AutoShape 37"/>
              <p:cNvSpPr/>
              <p:nvPr/>
            </p:nvSpPr>
            <p:spPr>
              <a:xfrm>
                <a:off x="7010280" y="6543360"/>
                <a:ext cx="304560" cy="29268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" name="AutoShape 38"/>
              <p:cNvSpPr/>
              <p:nvPr/>
            </p:nvSpPr>
            <p:spPr>
              <a:xfrm>
                <a:off x="6705360" y="6539400"/>
                <a:ext cx="304560" cy="29268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" name="AutoShape 39"/>
              <p:cNvSpPr/>
              <p:nvPr/>
            </p:nvSpPr>
            <p:spPr>
              <a:xfrm>
                <a:off x="6095880" y="6539400"/>
                <a:ext cx="304560" cy="29268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" name="AutoShape 40"/>
              <p:cNvSpPr/>
              <p:nvPr/>
            </p:nvSpPr>
            <p:spPr>
              <a:xfrm>
                <a:off x="6095880" y="6543360"/>
                <a:ext cx="304560" cy="29268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" name="AutoShape 41"/>
              <p:cNvSpPr/>
              <p:nvPr/>
            </p:nvSpPr>
            <p:spPr>
              <a:xfrm>
                <a:off x="5790960" y="6539400"/>
                <a:ext cx="304560" cy="29268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" name="AutoShape 42"/>
              <p:cNvSpPr/>
              <p:nvPr/>
            </p:nvSpPr>
            <p:spPr>
              <a:xfrm>
                <a:off x="5486040" y="6535800"/>
                <a:ext cx="304560" cy="29268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" name="AutoShape 43"/>
              <p:cNvSpPr/>
              <p:nvPr/>
            </p:nvSpPr>
            <p:spPr>
              <a:xfrm>
                <a:off x="5486040" y="6539400"/>
                <a:ext cx="304560" cy="29268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" name="AutoShape 44"/>
              <p:cNvSpPr/>
              <p:nvPr/>
            </p:nvSpPr>
            <p:spPr>
              <a:xfrm>
                <a:off x="5181480" y="6535800"/>
                <a:ext cx="304560" cy="29268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" name="AutoShape 45"/>
              <p:cNvSpPr/>
              <p:nvPr/>
            </p:nvSpPr>
            <p:spPr>
              <a:xfrm>
                <a:off x="4876560" y="6535800"/>
                <a:ext cx="304560" cy="29268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" name="AutoShape 46"/>
              <p:cNvSpPr/>
              <p:nvPr/>
            </p:nvSpPr>
            <p:spPr>
              <a:xfrm>
                <a:off x="4876560" y="6539400"/>
                <a:ext cx="304560" cy="29268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" name="AutoShape 47"/>
              <p:cNvSpPr/>
              <p:nvPr/>
            </p:nvSpPr>
            <p:spPr>
              <a:xfrm>
                <a:off x="4572000" y="6535800"/>
                <a:ext cx="304560" cy="29268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" name="AutoShape 48"/>
              <p:cNvSpPr/>
              <p:nvPr/>
            </p:nvSpPr>
            <p:spPr>
              <a:xfrm>
                <a:off x="6400440" y="6543360"/>
                <a:ext cx="304560" cy="29268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47" name="Group 49"/>
          <p:cNvGrpSpPr/>
          <p:nvPr/>
        </p:nvGrpSpPr>
        <p:grpSpPr>
          <a:xfrm>
            <a:off x="609480" y="533520"/>
            <a:ext cx="7901280" cy="609480"/>
            <a:chOff x="609480" y="533520"/>
            <a:chExt cx="7901280" cy="609480"/>
          </a:xfrm>
        </p:grpSpPr>
        <p:sp>
          <p:nvSpPr>
            <p:cNvPr id="48" name="Line 50"/>
            <p:cNvSpPr/>
            <p:nvPr/>
          </p:nvSpPr>
          <p:spPr>
            <a:xfrm>
              <a:off x="762120" y="1143000"/>
              <a:ext cx="761976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9" name="Group 51"/>
            <p:cNvGrpSpPr/>
            <p:nvPr/>
          </p:nvGrpSpPr>
          <p:grpSpPr>
            <a:xfrm>
              <a:off x="609480" y="533520"/>
              <a:ext cx="638280" cy="506160"/>
              <a:chOff x="609480" y="533520"/>
              <a:chExt cx="638280" cy="506160"/>
            </a:xfrm>
          </p:grpSpPr>
          <p:sp>
            <p:nvSpPr>
              <p:cNvPr id="50" name="AutoShape 52"/>
              <p:cNvSpPr/>
              <p:nvPr/>
            </p:nvSpPr>
            <p:spPr>
              <a:xfrm>
                <a:off x="789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2840" y="538200"/>
                <a:ext cx="301680" cy="250920"/>
              </a:xfrm>
              <a:prstGeom prst="pie">
                <a:avLst/>
              </a:pr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942840" y="785880"/>
                <a:ext cx="304920" cy="250920"/>
              </a:xfrm>
              <a:prstGeom prst="pie">
                <a:avLst/>
              </a:pr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AutoShape 55"/>
              <p:cNvSpPr/>
              <p:nvPr/>
            </p:nvSpPr>
            <p:spPr>
              <a:xfrm>
                <a:off x="609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717480" y="538200"/>
                <a:ext cx="304920" cy="25092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714240" y="785880"/>
                <a:ext cx="308160" cy="2538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647640" y="623880"/>
                <a:ext cx="136440" cy="1620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647640" y="785880"/>
                <a:ext cx="136440" cy="16200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8" name="Group 60"/>
            <p:cNvGrpSpPr/>
            <p:nvPr/>
          </p:nvGrpSpPr>
          <p:grpSpPr>
            <a:xfrm>
              <a:off x="7872480" y="533520"/>
              <a:ext cx="638280" cy="506160"/>
              <a:chOff x="7872480" y="533520"/>
              <a:chExt cx="638280" cy="506160"/>
            </a:xfrm>
          </p:grpSpPr>
          <p:sp>
            <p:nvSpPr>
              <p:cNvPr id="59" name="AutoShape 61"/>
              <p:cNvSpPr/>
              <p:nvPr/>
            </p:nvSpPr>
            <p:spPr>
              <a:xfrm>
                <a:off x="8052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8205840" y="538200"/>
                <a:ext cx="301680" cy="250920"/>
              </a:xfrm>
              <a:prstGeom prst="pie">
                <a:avLst/>
              </a:pr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205840" y="785880"/>
                <a:ext cx="304920" cy="250920"/>
              </a:xfrm>
              <a:prstGeom prst="pie">
                <a:avLst/>
              </a:pr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AutoShape 64"/>
              <p:cNvSpPr/>
              <p:nvPr/>
            </p:nvSpPr>
            <p:spPr>
              <a:xfrm>
                <a:off x="7872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7980480" y="538200"/>
                <a:ext cx="304920" cy="25092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977240" y="785880"/>
                <a:ext cx="308160" cy="2538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7910640" y="623880"/>
                <a:ext cx="136440" cy="1620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7910640" y="785880"/>
                <a:ext cx="136440" cy="16200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6A09-E54C-461B-8639-666A74D01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6505560"/>
            <a:ext cx="9143640" cy="304200"/>
            <a:chOff x="0" y="6505560"/>
            <a:chExt cx="9143640" cy="304200"/>
          </a:xfrm>
        </p:grpSpPr>
        <p:grpSp>
          <p:nvGrpSpPr>
            <p:cNvPr id="109" name="Group 3"/>
            <p:cNvGrpSpPr/>
            <p:nvPr/>
          </p:nvGrpSpPr>
          <p:grpSpPr>
            <a:xfrm>
              <a:off x="0" y="6505560"/>
              <a:ext cx="4566240" cy="304200"/>
              <a:chOff x="0" y="6505560"/>
              <a:chExt cx="4566240" cy="304200"/>
            </a:xfrm>
          </p:grpSpPr>
          <p:sp>
            <p:nvSpPr>
              <p:cNvPr id="110" name="AutoShape 4"/>
              <p:cNvSpPr/>
              <p:nvPr/>
            </p:nvSpPr>
            <p:spPr>
              <a:xfrm>
                <a:off x="4262040" y="6513120"/>
                <a:ext cx="304200" cy="29304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AutoShape 5"/>
              <p:cNvSpPr/>
              <p:nvPr/>
            </p:nvSpPr>
            <p:spPr>
              <a:xfrm>
                <a:off x="4262040" y="6516720"/>
                <a:ext cx="304200" cy="29304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AutoShape 6"/>
              <p:cNvSpPr/>
              <p:nvPr/>
            </p:nvSpPr>
            <p:spPr>
              <a:xfrm>
                <a:off x="3957480" y="6513120"/>
                <a:ext cx="304200" cy="29304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AutoShape 7"/>
              <p:cNvSpPr/>
              <p:nvPr/>
            </p:nvSpPr>
            <p:spPr>
              <a:xfrm>
                <a:off x="3652920" y="6513120"/>
                <a:ext cx="304200" cy="29304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AutoShape 8"/>
              <p:cNvSpPr/>
              <p:nvPr/>
            </p:nvSpPr>
            <p:spPr>
              <a:xfrm>
                <a:off x="3652920" y="6516720"/>
                <a:ext cx="304200" cy="29304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AutoShape 9"/>
              <p:cNvSpPr/>
              <p:nvPr/>
            </p:nvSpPr>
            <p:spPr>
              <a:xfrm>
                <a:off x="3348720" y="6513120"/>
                <a:ext cx="304200" cy="29304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6" name="AutoShape 10"/>
              <p:cNvSpPr/>
              <p:nvPr/>
            </p:nvSpPr>
            <p:spPr>
              <a:xfrm>
                <a:off x="3044160" y="6509160"/>
                <a:ext cx="304200" cy="29304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AutoShape 11"/>
              <p:cNvSpPr/>
              <p:nvPr/>
            </p:nvSpPr>
            <p:spPr>
              <a:xfrm>
                <a:off x="3044160" y="6513120"/>
                <a:ext cx="304200" cy="29304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AutoShape 12"/>
              <p:cNvSpPr/>
              <p:nvPr/>
            </p:nvSpPr>
            <p:spPr>
              <a:xfrm>
                <a:off x="2739600" y="6509160"/>
                <a:ext cx="304200" cy="29304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" name="AutoShape 13"/>
              <p:cNvSpPr/>
              <p:nvPr/>
            </p:nvSpPr>
            <p:spPr>
              <a:xfrm>
                <a:off x="2435400" y="6509160"/>
                <a:ext cx="304200" cy="29304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AutoShape 14"/>
              <p:cNvSpPr/>
              <p:nvPr/>
            </p:nvSpPr>
            <p:spPr>
              <a:xfrm>
                <a:off x="2435400" y="6513120"/>
                <a:ext cx="304200" cy="29304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AutoShape 15"/>
              <p:cNvSpPr/>
              <p:nvPr/>
            </p:nvSpPr>
            <p:spPr>
              <a:xfrm>
                <a:off x="2130840" y="6509160"/>
                <a:ext cx="304200" cy="29304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" name="AutoShape 16"/>
              <p:cNvSpPr/>
              <p:nvPr/>
            </p:nvSpPr>
            <p:spPr>
              <a:xfrm>
                <a:off x="1522080" y="6509160"/>
                <a:ext cx="304200" cy="29304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AutoShape 17"/>
              <p:cNvSpPr/>
              <p:nvPr/>
            </p:nvSpPr>
            <p:spPr>
              <a:xfrm>
                <a:off x="1522080" y="6513120"/>
                <a:ext cx="304200" cy="29304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" name="AutoShape 18"/>
              <p:cNvSpPr/>
              <p:nvPr/>
            </p:nvSpPr>
            <p:spPr>
              <a:xfrm>
                <a:off x="1217520" y="6509160"/>
                <a:ext cx="304200" cy="29304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AutoShape 19"/>
              <p:cNvSpPr/>
              <p:nvPr/>
            </p:nvSpPr>
            <p:spPr>
              <a:xfrm>
                <a:off x="912960" y="6505560"/>
                <a:ext cx="304200" cy="29304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AutoShape 20"/>
              <p:cNvSpPr/>
              <p:nvPr/>
            </p:nvSpPr>
            <p:spPr>
              <a:xfrm>
                <a:off x="912960" y="6509160"/>
                <a:ext cx="304200" cy="29304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7" name="AutoShape 21"/>
              <p:cNvSpPr/>
              <p:nvPr/>
            </p:nvSpPr>
            <p:spPr>
              <a:xfrm>
                <a:off x="608760" y="6505560"/>
                <a:ext cx="304200" cy="29304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AutoShape 22"/>
              <p:cNvSpPr/>
              <p:nvPr/>
            </p:nvSpPr>
            <p:spPr>
              <a:xfrm>
                <a:off x="304200" y="6505560"/>
                <a:ext cx="304200" cy="29304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AutoShape 23"/>
              <p:cNvSpPr/>
              <p:nvPr/>
            </p:nvSpPr>
            <p:spPr>
              <a:xfrm>
                <a:off x="304200" y="6509160"/>
                <a:ext cx="304200" cy="29304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AutoShape 24"/>
              <p:cNvSpPr/>
              <p:nvPr/>
            </p:nvSpPr>
            <p:spPr>
              <a:xfrm>
                <a:off x="0" y="6505560"/>
                <a:ext cx="304200" cy="29304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AutoShape 25"/>
              <p:cNvSpPr/>
              <p:nvPr/>
            </p:nvSpPr>
            <p:spPr>
              <a:xfrm>
                <a:off x="1826280" y="6513120"/>
                <a:ext cx="304200" cy="29304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2" name="Group 26"/>
            <p:cNvGrpSpPr/>
            <p:nvPr/>
          </p:nvGrpSpPr>
          <p:grpSpPr>
            <a:xfrm>
              <a:off x="4577400" y="6505560"/>
              <a:ext cx="4566240" cy="304200"/>
              <a:chOff x="4577400" y="6505560"/>
              <a:chExt cx="4566240" cy="304200"/>
            </a:xfrm>
          </p:grpSpPr>
          <p:sp>
            <p:nvSpPr>
              <p:cNvPr id="133" name="AutoShape 27"/>
              <p:cNvSpPr/>
              <p:nvPr/>
            </p:nvSpPr>
            <p:spPr>
              <a:xfrm>
                <a:off x="8839440" y="6513120"/>
                <a:ext cx="304200" cy="29304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4" name="AutoShape 28"/>
              <p:cNvSpPr/>
              <p:nvPr/>
            </p:nvSpPr>
            <p:spPr>
              <a:xfrm>
                <a:off x="8839440" y="6516720"/>
                <a:ext cx="304200" cy="29304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5" name="AutoShape 29"/>
              <p:cNvSpPr/>
              <p:nvPr/>
            </p:nvSpPr>
            <p:spPr>
              <a:xfrm>
                <a:off x="8534880" y="6513120"/>
                <a:ext cx="304200" cy="29304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6" name="AutoShape 30"/>
              <p:cNvSpPr/>
              <p:nvPr/>
            </p:nvSpPr>
            <p:spPr>
              <a:xfrm>
                <a:off x="8230320" y="6513120"/>
                <a:ext cx="304200" cy="29304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AutoShape 31"/>
              <p:cNvSpPr/>
              <p:nvPr/>
            </p:nvSpPr>
            <p:spPr>
              <a:xfrm>
                <a:off x="8230320" y="6516720"/>
                <a:ext cx="304200" cy="29304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AutoShape 32"/>
              <p:cNvSpPr/>
              <p:nvPr/>
            </p:nvSpPr>
            <p:spPr>
              <a:xfrm>
                <a:off x="7926120" y="6513120"/>
                <a:ext cx="304200" cy="29304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AutoShape 33"/>
              <p:cNvSpPr/>
              <p:nvPr/>
            </p:nvSpPr>
            <p:spPr>
              <a:xfrm>
                <a:off x="7621560" y="6509160"/>
                <a:ext cx="304200" cy="29304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AutoShape 34"/>
              <p:cNvSpPr/>
              <p:nvPr/>
            </p:nvSpPr>
            <p:spPr>
              <a:xfrm>
                <a:off x="7621560" y="6513120"/>
                <a:ext cx="304200" cy="29304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AutoShape 35"/>
              <p:cNvSpPr/>
              <p:nvPr/>
            </p:nvSpPr>
            <p:spPr>
              <a:xfrm>
                <a:off x="7317000" y="6509160"/>
                <a:ext cx="304200" cy="29304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AutoShape 36"/>
              <p:cNvSpPr/>
              <p:nvPr/>
            </p:nvSpPr>
            <p:spPr>
              <a:xfrm>
                <a:off x="7012800" y="6509160"/>
                <a:ext cx="304200" cy="29304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AutoShape 37"/>
              <p:cNvSpPr/>
              <p:nvPr/>
            </p:nvSpPr>
            <p:spPr>
              <a:xfrm>
                <a:off x="7012800" y="6513120"/>
                <a:ext cx="304200" cy="29304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AutoShape 38"/>
              <p:cNvSpPr/>
              <p:nvPr/>
            </p:nvSpPr>
            <p:spPr>
              <a:xfrm>
                <a:off x="6708240" y="6509160"/>
                <a:ext cx="304200" cy="29304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AutoShape 39"/>
              <p:cNvSpPr/>
              <p:nvPr/>
            </p:nvSpPr>
            <p:spPr>
              <a:xfrm>
                <a:off x="6099480" y="6509160"/>
                <a:ext cx="304200" cy="29304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AutoShape 40"/>
              <p:cNvSpPr/>
              <p:nvPr/>
            </p:nvSpPr>
            <p:spPr>
              <a:xfrm>
                <a:off x="6099480" y="6513120"/>
                <a:ext cx="304200" cy="29304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AutoShape 41"/>
              <p:cNvSpPr/>
              <p:nvPr/>
            </p:nvSpPr>
            <p:spPr>
              <a:xfrm>
                <a:off x="5794920" y="6509160"/>
                <a:ext cx="304200" cy="29304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AutoShape 42"/>
              <p:cNvSpPr/>
              <p:nvPr/>
            </p:nvSpPr>
            <p:spPr>
              <a:xfrm>
                <a:off x="5490360" y="6505560"/>
                <a:ext cx="304200" cy="29304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AutoShape 43"/>
              <p:cNvSpPr/>
              <p:nvPr/>
            </p:nvSpPr>
            <p:spPr>
              <a:xfrm>
                <a:off x="5490360" y="6509160"/>
                <a:ext cx="304200" cy="29304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AutoShape 44"/>
              <p:cNvSpPr/>
              <p:nvPr/>
            </p:nvSpPr>
            <p:spPr>
              <a:xfrm>
                <a:off x="5186160" y="6505560"/>
                <a:ext cx="304200" cy="29304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AutoShape 45"/>
              <p:cNvSpPr/>
              <p:nvPr/>
            </p:nvSpPr>
            <p:spPr>
              <a:xfrm>
                <a:off x="4881600" y="6505560"/>
                <a:ext cx="304200" cy="29304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AutoShape 46"/>
              <p:cNvSpPr/>
              <p:nvPr/>
            </p:nvSpPr>
            <p:spPr>
              <a:xfrm>
                <a:off x="4881600" y="6509160"/>
                <a:ext cx="304200" cy="29304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AutoShape 47"/>
              <p:cNvSpPr/>
              <p:nvPr/>
            </p:nvSpPr>
            <p:spPr>
              <a:xfrm>
                <a:off x="4577400" y="6505560"/>
                <a:ext cx="304200" cy="29304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AutoShape 48"/>
              <p:cNvSpPr/>
              <p:nvPr/>
            </p:nvSpPr>
            <p:spPr>
              <a:xfrm>
                <a:off x="6403680" y="6513120"/>
                <a:ext cx="304200" cy="29304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55" name="Group 49"/>
          <p:cNvGrpSpPr/>
          <p:nvPr/>
        </p:nvGrpSpPr>
        <p:grpSpPr>
          <a:xfrm>
            <a:off x="609480" y="2362320"/>
            <a:ext cx="7925040" cy="761760"/>
            <a:chOff x="609480" y="2362320"/>
            <a:chExt cx="7925040" cy="761760"/>
          </a:xfrm>
        </p:grpSpPr>
        <p:sp>
          <p:nvSpPr>
            <p:cNvPr id="156" name="Line 50"/>
            <p:cNvSpPr/>
            <p:nvPr/>
          </p:nvSpPr>
          <p:spPr>
            <a:xfrm>
              <a:off x="766800" y="2362320"/>
              <a:ext cx="7599240" cy="0"/>
            </a:xfrm>
            <a:prstGeom prst="line">
              <a:avLst/>
            </a:prstGeom>
            <a:ln w="28440">
              <a:solidFill>
                <a:srgbClr val="f3c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Line 51"/>
            <p:cNvSpPr/>
            <p:nvPr/>
          </p:nvSpPr>
          <p:spPr>
            <a:xfrm>
              <a:off x="766800" y="3124080"/>
              <a:ext cx="759924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8" name="Group 52"/>
            <p:cNvGrpSpPr/>
            <p:nvPr/>
          </p:nvGrpSpPr>
          <p:grpSpPr>
            <a:xfrm>
              <a:off x="609480" y="2401920"/>
              <a:ext cx="804960" cy="676080"/>
              <a:chOff x="609480" y="2401920"/>
              <a:chExt cx="804960" cy="676080"/>
            </a:xfrm>
          </p:grpSpPr>
          <p:sp>
            <p:nvSpPr>
              <p:cNvPr id="159" name="AutoShape 53"/>
              <p:cNvSpPr/>
              <p:nvPr/>
            </p:nvSpPr>
            <p:spPr>
              <a:xfrm>
                <a:off x="836640" y="2409840"/>
                <a:ext cx="38412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Freeform 54"/>
              <p:cNvSpPr/>
              <p:nvPr/>
            </p:nvSpPr>
            <p:spPr>
              <a:xfrm>
                <a:off x="1030320" y="2401920"/>
                <a:ext cx="384120" cy="341280"/>
              </a:xfrm>
              <a:prstGeom prst="pie">
                <a:avLst/>
              </a:pr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Freeform 55"/>
              <p:cNvSpPr/>
              <p:nvPr/>
            </p:nvSpPr>
            <p:spPr>
              <a:xfrm>
                <a:off x="1030320" y="2738520"/>
                <a:ext cx="384120" cy="334800"/>
              </a:xfrm>
              <a:prstGeom prst="pie">
                <a:avLst/>
              </a:pr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AutoShape 56"/>
              <p:cNvSpPr/>
              <p:nvPr/>
            </p:nvSpPr>
            <p:spPr>
              <a:xfrm>
                <a:off x="609480" y="2401920"/>
                <a:ext cx="27324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Freeform 57"/>
              <p:cNvSpPr/>
              <p:nvPr/>
            </p:nvSpPr>
            <p:spPr>
              <a:xfrm>
                <a:off x="746280" y="2408400"/>
                <a:ext cx="384120" cy="33480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Freeform 58"/>
              <p:cNvSpPr/>
              <p:nvPr/>
            </p:nvSpPr>
            <p:spPr>
              <a:xfrm>
                <a:off x="741240" y="2738520"/>
                <a:ext cx="389160" cy="3348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Freeform 59"/>
              <p:cNvSpPr/>
              <p:nvPr/>
            </p:nvSpPr>
            <p:spPr>
              <a:xfrm>
                <a:off x="657360" y="2522520"/>
                <a:ext cx="172800" cy="2160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Freeform 60"/>
              <p:cNvSpPr/>
              <p:nvPr/>
            </p:nvSpPr>
            <p:spPr>
              <a:xfrm>
                <a:off x="657360" y="2738520"/>
                <a:ext cx="172800" cy="21744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7" name="Group 61"/>
            <p:cNvGrpSpPr/>
            <p:nvPr/>
          </p:nvGrpSpPr>
          <p:grpSpPr>
            <a:xfrm>
              <a:off x="7770960" y="2401920"/>
              <a:ext cx="763560" cy="676080"/>
              <a:chOff x="7770960" y="2401920"/>
              <a:chExt cx="763560" cy="676080"/>
            </a:xfrm>
          </p:grpSpPr>
          <p:sp>
            <p:nvSpPr>
              <p:cNvPr id="168" name="AutoShape 62"/>
              <p:cNvSpPr/>
              <p:nvPr/>
            </p:nvSpPr>
            <p:spPr>
              <a:xfrm>
                <a:off x="7985160" y="2409840"/>
                <a:ext cx="36504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Freeform 63"/>
              <p:cNvSpPr/>
              <p:nvPr/>
            </p:nvSpPr>
            <p:spPr>
              <a:xfrm>
                <a:off x="8169120" y="2409840"/>
                <a:ext cx="365400" cy="333360"/>
              </a:xfrm>
              <a:prstGeom prst="pie">
                <a:avLst/>
              </a:pr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Freeform 64"/>
              <p:cNvSpPr/>
              <p:nvPr/>
            </p:nvSpPr>
            <p:spPr>
              <a:xfrm>
                <a:off x="8169120" y="2738520"/>
                <a:ext cx="365400" cy="334800"/>
              </a:xfrm>
              <a:prstGeom prst="pie">
                <a:avLst/>
              </a:pr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AutoShape 65"/>
              <p:cNvSpPr/>
              <p:nvPr/>
            </p:nvSpPr>
            <p:spPr>
              <a:xfrm>
                <a:off x="7770960" y="2401920"/>
                <a:ext cx="25848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Freeform 66"/>
              <p:cNvSpPr/>
              <p:nvPr/>
            </p:nvSpPr>
            <p:spPr>
              <a:xfrm>
                <a:off x="7899480" y="2408400"/>
                <a:ext cx="365040" cy="33480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Freeform 67"/>
              <p:cNvSpPr/>
              <p:nvPr/>
            </p:nvSpPr>
            <p:spPr>
              <a:xfrm>
                <a:off x="7896240" y="2738520"/>
                <a:ext cx="368280" cy="3348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Freeform 68"/>
              <p:cNvSpPr/>
              <p:nvPr/>
            </p:nvSpPr>
            <p:spPr>
              <a:xfrm>
                <a:off x="7816680" y="2522520"/>
                <a:ext cx="163800" cy="2160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5" name="Freeform 69"/>
              <p:cNvSpPr/>
              <p:nvPr/>
            </p:nvSpPr>
            <p:spPr>
              <a:xfrm>
                <a:off x="7816680" y="2738520"/>
                <a:ext cx="163800" cy="21744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76" name="Text Box 75"/>
          <p:cNvSpPr/>
          <p:nvPr/>
        </p:nvSpPr>
        <p:spPr>
          <a:xfrm>
            <a:off x="387036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9A6E-C594-4D57-A84E-5C5E83558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6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ko-KR" sz="4000" spc="-1" strike="noStrike">
                <a:solidFill>
                  <a:srgbClr val="0000cc"/>
                </a:solidFill>
                <a:latin typeface="굴림"/>
              </a:rPr>
              <a:t>파일 </a:t>
            </a:r>
            <a:r>
              <a:rPr b="1" lang="en-US" sz="4000" spc="-1" strike="noStrike">
                <a:solidFill>
                  <a:srgbClr val="0000cc"/>
                </a:solidFill>
                <a:latin typeface="굴림"/>
              </a:rPr>
              <a:t>/ </a:t>
            </a:r>
            <a:r>
              <a:rPr b="1" lang="ko-KR" sz="4000" spc="-1" strike="noStrike">
                <a:solidFill>
                  <a:srgbClr val="0000cc"/>
                </a:solidFill>
                <a:latin typeface="굴림"/>
              </a:rPr>
              <a:t>디렉토리 다루기</a:t>
            </a:r>
            <a:endParaRPr b="1" lang="en-US" sz="4000" spc="-1" strike="noStrike">
              <a:solidFill>
                <a:srgbClr val="cc66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971280" y="1412640"/>
            <a:ext cx="6707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1.DirectoryInfo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클래스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2.FileInfo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클래스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파일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디렉토리에서 공통 사용하는 속성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파일 및 디렉토리 조작 예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5. FileFind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파일검색프로그램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만들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목    차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1.DirectoryInfo 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클래스</a:t>
            </a:r>
            <a:endParaRPr b="1" lang="en-US" sz="32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.DirectoryInf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클래스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ystem.IO.DirectoryInf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클래스 메쏘드를 이용해서 디렉토리에 대한 삭제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복사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동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목록 추출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존재 유무 등의 정보를 추출할 수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DirectoryInfo[ ] DirectoryInfo.GetDirectories( 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해당 디렉토리 내의 디렉토리 정보 목록 추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void Create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DirectoryInfo CreateSubdirectory(string path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해당 디렉토리 내의 디렉토리 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void MoveTo(string destDirName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해당 디렉토리을 이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2.FileInfo </a:t>
            </a: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클래스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684360" y="1341360"/>
            <a:ext cx="7920000" cy="52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2. FileInf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클래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System.IO.FileInf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클래스 메쏘드를 이용해서 파일에 대한 삭제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복사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이동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파일 존재 유무 등의 정보를 추출할 수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public FileInfo[ ] DirectoryInfo.GetFiles( 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해당 디렉토리 내의 최 상단 파일 정보 추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public FileInfo FileInfo.CopyTo(string path, bool overwrite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해당 파일을 복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public void FileInfo.Delete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해당 파일을 삭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public void FileInfo.MoveTo(string destpath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해당 파일을 이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3. 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파일</a:t>
            </a: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,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디렉토리의 속성</a:t>
            </a:r>
            <a:endParaRPr b="1" lang="en-US" sz="32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91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FileAttributes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Attributes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{get; set;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 속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DateTime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CreationTime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{get; set;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 생성일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string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Extension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{get;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 확장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string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FullName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{get;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 전체경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long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Length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{get;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 크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string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{get;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 이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나머지는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SDN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참고 하세요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4. </a:t>
            </a: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파일 및 디렉토리 조작 예제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02920" y="1989000"/>
            <a:ext cx="6551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4.1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디렉토리 정보 보기 예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4.2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파일 정보 보기 예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4.3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디렉토리내의 폴더 와 파일 정보 보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4.4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파일 조작 예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5.FileFind(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파일검색프로그램</a:t>
            </a: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)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만들기</a:t>
            </a:r>
            <a:endParaRPr b="1" lang="en-US" sz="32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311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irectoryInfo dinfo = new DirectoryInfo(DirectoryPath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DirectoryInf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객체 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DirectoryPath 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경로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ileInfo finfo = new FileInfo(FileName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FileInf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객체 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FileName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해당 디렉토리의 파일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irectory.GetDirectorys(DirectoryPath); 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목록 가져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irectory.GetFiles(DirectroyPath,SearchPattern); 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 목록 가져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ileInfo.Exists 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의 존재유무 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irectoryInfo.Exists 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존재유무 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5.FileFind(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파일검색프로그램</a:t>
            </a: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)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만들기</a:t>
            </a:r>
            <a:endParaRPr b="1" lang="en-US" sz="32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232" name="Picture 5" descr="제목 없음"/>
          <p:cNvPicPr/>
          <p:nvPr/>
        </p:nvPicPr>
        <p:blipFill>
          <a:blip r:embed="rId1"/>
          <a:stretch/>
        </p:blipFill>
        <p:spPr>
          <a:xfrm>
            <a:off x="755640" y="1197000"/>
            <a:ext cx="5181480" cy="30956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7"/>
          <p:cNvSpPr/>
          <p:nvPr/>
        </p:nvSpPr>
        <p:spPr>
          <a:xfrm>
            <a:off x="755640" y="4292640"/>
            <a:ext cx="741672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ivate System.Windows.Forms.Button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btn_Path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ivate System.Windows.Forms.Button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btn_Search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ivate System.Windows.Forms.ListView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lst_View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ivate System.Windows.Forms.TextBox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txt_Filename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ivate System.Windows.Forms.Label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lbl_Dir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ivate System.Windows.Forms.TextBox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txt_Dir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6156360" y="1700280"/>
            <a:ext cx="23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6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폼 디자인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9:25:25Z</dcterms:created>
  <dc:creator>leedh</dc:creator>
  <dc:description/>
  <dc:language>en-US</dc:language>
  <cp:lastModifiedBy>kkt</cp:lastModifiedBy>
  <dcterms:modified xsi:type="dcterms:W3CDTF">2008-04-10T23:51:37Z</dcterms:modified>
  <cp:revision>7</cp:revision>
  <dc:subject/>
  <dc:title>아아아</dc:title>
</cp:coreProperties>
</file>