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C9A-14AE-43B7-8070-42564216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45D-A209-4299-B0EF-769B372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53C-B33F-4A23-9054-E70B4858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30E-D387-4740-9132-5DD6A11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C06C-FB20-4C69-902B-86D7C11A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03A6-4730-4002-BD8C-57093B09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307-B82A-4FF5-81DE-88A5210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5807-F48F-4B0D-A50A-CB685280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B2A7-F5EA-4F0D-B6D8-FAACAF0F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784D-5E1C-4A95-83DA-3207EE1F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1EE7-F840-4827-8A6E-B40BC628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749-6454-407B-BEB9-C49C504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34F6-40C0-4726-9868-D11FBDF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E35C-E9F0-4B52-87A8-C851FC8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D8D-C70F-46F6-BE1D-FED1E62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C2D-2E0F-426E-9A98-A6BA4F16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180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59960" y="155700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2364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180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59960" y="3964320"/>
            <a:ext cx="27788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7B75-3BE5-4C6E-AFED-B602F6EF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8F5-529C-4F0A-92A6-5D6A3D4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86A-D33E-49F6-9600-C1E36DB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8D1-B4D3-4400-B677-45746491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45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712-7D32-4B4B-9AC5-FEA74F23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A9C-5E9D-4A94-818C-BF81274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96432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96E1-4294-41E5-A69D-04FF9A3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57000"/>
            <a:ext cx="42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964320"/>
            <a:ext cx="863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943-E6DC-42F7-9639-C8845D37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585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585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1008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08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934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477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2682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Click to edit the outline text format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con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Third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our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Fif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ix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굴림"/>
              </a:rPr>
              <a:t>Seventh Outline Level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1096-7A0A-4A63-9376-8BEF7F6105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417-68DF-43DB-88C4-E960D0D595B3}" type="slidenum">
              <a:rPr b="0" lang="en-US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18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장 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번 장에서는 인터넷과 네트워크 관련 클래스를 알아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 프로그래밍에 대해 알아볼 것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를 텍스트로 다운로드받는 예를 알아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브라우저 컨트롤을 이용하면서 기존 액티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X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컨트롤을 가져오는 방법을 알아보고 웹 브라우저를 만들어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컨트롤을 이용한 웹 브라우저 만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이해하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이용한 간단한 날짜 서비스와 클라이언트를 구현해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과 네트워크 스트림을 이용한 채팅 프로그램을 만들어봅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 프로그래밍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날짜 서비스와 채팅 프로그램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) 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 stream = res.GetResponseStream()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스트림에서 데이터 읽어오기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Reader reader = new StreamReader( stream )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while( true )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ing str = reader.ReadLine(); 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한 줄씩 읽어 추가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if ( str == null ) break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listBox1.Items.Add( str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스트림 닫기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tream.Close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7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예제를 실행하고 연결 가능한 웹 사이트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입력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를 다운로드받아 소스를 보여줄 것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824360" cy="35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7236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실행 결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0836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웹 브라우저 컨트롤을 이용해서 브라우저를 만들어본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3960720" cy="3701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587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상자 사용자 지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708280"/>
            <a:ext cx="352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에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Components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탭에 브라우저 컨트롤을 추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Components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탭에서 오른쪽 버튼을 클릭하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 사용자 지정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뉴가 나타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669600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2060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뉴를 선택하면 컴포넌트를 선택할 수 있는 대화상자가 뜬다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처음에 보이는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[COM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구성 요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탭에서 웹 브라우저 컨트롤을 선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브라우저 컨트롤 추가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2805120" cy="295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227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대화상자를 닫으면 도구 상자에 새로 추가된 웹 브라우저 컨트롤이 보일 것이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6093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3933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도구 상자에 추가된 웹 브라우저 컨트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6364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 컨트롤을 이용해서 간단한 웹브라우저를   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만들어보는 예제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과 작업할 폴더를 지정하고 새로운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IEBrows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2720" cy="2441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5280" y="2060640"/>
            <a:ext cx="345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다음과 같이 폼 윈도우를 구성하고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컨트롤 속성을 지정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292428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292640"/>
            <a:ext cx="835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객체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객체 이름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속성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xWebBrowser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xWebBrowser1          Anchor = Top,Bottom,Left,Righ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Box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url  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www.hotmail.com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nchor = Top,Bottom,Left,Right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                           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Anchor = Top,Right      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Back  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&lt;&lt;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utton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btnGoFoward          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Text = "&gt;&gt;"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824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웹 브라우저 컨트롤을 폼 윈도우에 추가하면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참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리스트에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HDocVw.DL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xSHDocVw.DL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 자동으로 추가됨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새로 추가된 컨트롤 이름은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axWebBrowser1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3097440" cy="27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솔루션 탐색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4581360"/>
            <a:ext cx="87138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브라우저가 실행되었을 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홈사이트로 이동하도록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Form1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생성자에 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컨트롤을 초기화하는 메서드를 부른 후에 이동하는 코드를 추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ublic Form1(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itializeComponen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홈 사이트로 이동 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axWebBrowser1.GoHome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5.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동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Navigate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는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를 받아들이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해당 웹 페이지로 이동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   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브라우저 컨트롤은 이동한 웹 페이지를 보여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private void btnGo_Click(object sender, System.EventArgs e)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object o = null; </a:t>
            </a:r>
            <a:br>
              <a:rPr sz="1800"/>
            </a:b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입력받은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로 이동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axWebBrowser1.Navigate( url.Text, ref o, ref o, ref o, ref o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6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전 페이지와 다음 페이지 이동 버튼의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벤트를 구현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GoBack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메서드와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GoFoward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메서드를 불러서 이전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다음 페이지로 이동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private void btnGoBack_Click(object sender, System.EventArgs e)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뒤로 이동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axWebBrowser1.GoBack()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} </a:t>
            </a:r>
            <a:br>
              <a:rPr sz="1600"/>
            </a:b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private void btnGoFoward_Click(object sender, System.EventArgs e)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앞으로 이동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axWebBrowser1.GoForward()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} </a:t>
            </a:r>
            <a:br>
              <a:rPr sz="1600"/>
            </a:b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프로그래밍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관련 클래스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 읽어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브라우저 컨트롤 추가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IE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브라우저 만들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네트워크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포트 번호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관련 클래스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구하기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136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7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예제를 실행하면 다음과 같은 실행 화면을 보여준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을 입력하고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[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동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버튼을 눌러본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앞뒤로 이동하는 버튼도 눌러보세요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5184720" cy="3247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72360" y="587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실행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4360" y="609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IE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브라우저 만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8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대부분의 사용자는 습관적으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을 입력한 후에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를 입력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텍스트박스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를 처리하려면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KeyPress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이벤트를 추가하고 다 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음과 같이 구현해준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입력된 키 값이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Enter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키이면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입력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로 이동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private void url_KeyDown(object sender, System.Windows.Forms.KeyEventArgs e)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if ( e.KeyCode == Keys.Enter )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입력받은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로 이동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object o = null;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 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axWebBrowser1.Navigate( url.Text, ref o, ref o, ref o, ref o);           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400" spc="-1" strike="noStrike">
                <a:solidFill>
                  <a:srgbClr val="660066"/>
                </a:solidFill>
                <a:latin typeface="굴림"/>
              </a:rPr>
              <a:t>}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80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따라하기 예제는 테스트용 프로그램으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브라우저 컨트롤을 어떻게 이용하는지 간단하게 보여준 것이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브라우저 컨트롤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활용하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와 같은 브라우저를 만들어 낼 수 있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en-US" sz="5400" spc="-1" strike="noStrike">
                <a:solidFill>
                  <a:srgbClr val="333399"/>
                </a:solidFill>
                <a:latin typeface="굴림"/>
              </a:rPr>
              <a:t>IP </a:t>
            </a:r>
            <a:r>
              <a:rPr b="1" lang="zh-CN" sz="5400" spc="-1" strike="noStrike">
                <a:solidFill>
                  <a:srgbClr val="333399"/>
                </a:solidFill>
                <a:latin typeface="굴림"/>
              </a:rPr>
              <a:t>주소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0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에서 컴퓨터를 나타내는 고유한 값으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또는 호스트 이름을 사용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인터넷 익스플로러에서 웹 페이지를 볼 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동할 호스트 이름을 입력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46800" y="4105440"/>
            <a:ext cx="3162240" cy="19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3933720"/>
            <a:ext cx="5113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는 숫자로 구성되어 있어 사람이 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억하기가 어렵기 때문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호스트 이름을 지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를 할당해서 사용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호스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름은 사람이 기억하기 편하게 만들어진 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으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실제로 내부에서 호스트를 찾을 때 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는 값은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 이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227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609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www.microsft.com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en-US" sz="5400" spc="-1" strike="noStrike">
                <a:solidFill>
                  <a:srgbClr val="333399"/>
                </a:solidFill>
                <a:latin typeface="굴림"/>
              </a:rPr>
              <a:t>IP </a:t>
            </a:r>
            <a:r>
              <a:rPr b="1" lang="zh-CN" sz="5400" spc="-1" strike="noStrike">
                <a:solidFill>
                  <a:srgbClr val="333399"/>
                </a:solidFill>
                <a:latin typeface="굴림"/>
              </a:rPr>
              <a:t>주소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인터넷 익스플로러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www.microsoft.com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와 같이 호스트 이름을 입력하면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DSN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서버에 의해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주소로 변환되고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구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주소를 사용해서 사이트에 연결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localhost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는 지금 사용하고 있는 컴퓨터 자신을 나타낸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인터넷 익스플로러에서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localhost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라고 입력하면 다른 컴퓨터랑 연결되는 것이 아니라 호스트 자신에게 연결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? - 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 구성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32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비트 정수 값입니다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보통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개의 숫자 값으로 나누어 표시하며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각 숫자 값의 범위는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0~255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입니다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주소 </a:t>
            </a:r>
            <a:r>
              <a:rPr b="0" lang="ko-KR" sz="1400" spc="-1" strike="noStrike">
                <a:solidFill>
                  <a:srgbClr val="660066"/>
                </a:solidFill>
                <a:latin typeface="굴림"/>
              </a:rPr>
              <a:t>: 157.56.176.228 </a:t>
            </a:r>
            <a:br>
              <a:rPr sz="1400"/>
            </a:br>
            <a:endParaRPr b="1" lang="en-US" sz="14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포트 번호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인터넷에서 두 개의 다른 컴퓨터를 구분할 수 있는 것은 각 컴퓨터가 가지고 있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주소이고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상대방 컴퓨터에서 데이터를 받아서 처리해주는 것은 포트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port)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번호로 구분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하나의 호스트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Host)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에서 여러 네트워크 서비스를 제공하는 경우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포트 번호로 서비스를 구분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사용 가능한 포트 번호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0~65535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까지 사용할 수 있지만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일부 포트 번호는 미리 예약되어 있으므로 겹치지 않도록 지정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예약된 포트 번호가 대부분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1000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보다 작으므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 값보다 크게 지정하도록 한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포트 번호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? -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&gt; 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(Protocol)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이란 컴퓨터 사이에서 서로 데이터를 교환하기 위해 미리 결정해놓은 표준화된 규정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서로 다른 컴퓨터 사이에서 데이터를 교환하기 위해 미리 정의해놓은 규칙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웹에서 흔히 쓰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HTT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은 웹 페이지와 파일을 주고받는데 필요한 규칙을 미리 정의해놓은 것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HTTP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프로토콜의 디폴트 포트 번호는 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80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번이다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0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주소 관련 클래스 </a:t>
            </a:r>
            <a:endParaRPr b="1" lang="en-US" sz="40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는 네트워크 프로그램을 작성하는데 필수적인 요소로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닷넷 클래스는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다루는 클래스를 별도로 제공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14172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클래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설명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Address               IP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주소를 나타내는 클래스입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string dotip = ip.ToString(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HostEntry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하나의 호스트에 대한 정보를 제공하는 클래스입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IPAddress ip = iphost.AddressList[0]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hostname = iphost.HostName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ns                    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호스트 이름을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P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주소로 변환할 때 사용하며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내부적으로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NS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와 통신합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                       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) HostEntry host = Dns.Resolve( "www.microsoft.com"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네트워크 </a:t>
            </a:r>
            <a:r>
              <a:rPr b="1" lang="en-US" sz="40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zh-CN" sz="4000" spc="-1" strike="noStrike">
                <a:solidFill>
                  <a:srgbClr val="333399"/>
                </a:solidFill>
                <a:latin typeface="굴림"/>
              </a:rPr>
              <a:t>주소 관련 클래스</a:t>
            </a:r>
            <a:endParaRPr b="1" lang="en-US" sz="40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잠시만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AddressList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프로퍼티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HostEntry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래스는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AddressList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프로퍼티를 제공한다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하나의 호스트에 하나 이상의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주소를 할당할 수 있기 때문에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IPAddress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래스를 여러 개 가지고 있다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호스트 이름을 주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구해보는 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GetIP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72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트워크 프로그램을 작성하기 위해 다음 네임스페이스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추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using System.Net;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다음과 같이 폼 윈도우를 구성하고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4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r>
              <a:rPr b="1" lang="en-US" sz="24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3958920" cy="257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50872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716360" y="551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인터넷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1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소켓 프로그래밍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소켓 관련 클래스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라이언트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/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서버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날짜 서비스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따라하기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클라이언트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4. [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 구하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70828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rivate void button1_Click(object sender, System.EventArgs 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HostEntry host = Dns.Resolve( textBox1.Text 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호스트 이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+ host.HostName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I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주소 리스트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or( int i=0; i&lt; host.AddressList.Length; i++ 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PAddress ip = host.AddressList[i]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 " ["+i+"] = "+ ip.ToString()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IP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주소 구하기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8280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예제를 실행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평소 자주 가는 웹 사이트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입력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을 누르면 실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주소를 구할 수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35772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392720" cy="2747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94036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구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주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003280" y="5877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/IP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토콜을 사용하는 네트워크 프로그램은 소켓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(socket)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을 이용해서 작성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에는 스트림 소켓과 데이터그램 소켓이 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다음은 스트림 방식과 데이터그램 방식을 비교해서 설명한 것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3195720"/>
            <a:ext cx="871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소켓 방식   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트림      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토콜을 사용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형으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속적인 데이터 전송을 보장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통 전화기와 비유되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과 연결을 끊는 절차가 필요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데이터그램  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토콜을 사용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비연결형으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비연속적으로 데이터를 전송하며 데이터 전송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장하지 못한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        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보통 우편물과 비유되며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결 절차가 없기 때문에 통신 오버헤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 적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관련 클래스</a:t>
            </a:r>
            <a:r>
              <a:rPr b="1" lang="en-US" sz="4400" spc="-1" strike="noStrike">
                <a:solidFill>
                  <a:srgbClr val="333399"/>
                </a:solidFill>
                <a:latin typeface="굴림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다음에 보인 소켓 관련 클래스는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ystem.Net.Sockets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네임스페이스에 정의되어 있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는 다른 컴퓨터에 연결하고 통신하는 역할을 한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앞에서 배운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WebReques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나 여기 나열한 소켓 관련 클래스도 내부적으로는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클래스를 사용한다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860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래스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설명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Socket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실제 네트워크 연결을 제어하는 클래스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Client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를 나타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Client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P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를 나타냅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istener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프로그램에서 특정 포트 번호에서 클라이언트 요구를 기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립니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관련 클래스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 프로그램을 테스트하려면 서버 프로그램과 클라이언트 프로그램을 같이 구현해주어야 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와 서버 프로그램은 구조적인 차이가 있기 때문에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어떤 프로그램을 작성하느냐에 따라 구현 방법이 달라진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◈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 프로그램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프로그램이 연결할 때까지 기다렸다가 클라이언트 요구를 처리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◈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프로그램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로 요구를 보냄으로서 통신을 시작하는 역할을 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/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서버 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072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는 클라이언트 요구가 들어올 때까지 기다리다가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요구가 들어오면 처리하는 프로그램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Listener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래스를 생성할 때 특정 포트 번호를 지정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 요구를 기다리도록 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64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 요구를 기다리는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ener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1024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포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istener tcpl = new TcpListener( 1024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cpl.Start(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5013360"/>
            <a:ext cx="8353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TcpListener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클래스의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AcceptSocket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메서드는 클라이언트 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구가 들어올 때까지 기다린다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ocket s = tcpl.AcceptSocket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소켓 프로그래밍 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-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en-US" sz="3600" spc="-1" strike="noStrike">
                <a:solidFill>
                  <a:srgbClr val="333399"/>
                </a:solidFill>
                <a:latin typeface="굴림"/>
              </a:rPr>
              <a:t>/</a:t>
            </a:r>
            <a:r>
              <a:rPr b="1" lang="zh-CN" sz="3600" spc="-1" strike="noStrike">
                <a:solidFill>
                  <a:srgbClr val="333399"/>
                </a:solidFill>
                <a:latin typeface="굴림"/>
              </a:rPr>
              <a:t>서버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클라이언트는 서버에 요구를 보내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가 보내준 결과를 받아 처리하는 프로그램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lien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객체를 생성하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onnec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 불러서 서버 연결을 시도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연결할 서버 이름과 포트 번호를 지정해준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 연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lient tcpc = new TcpClient(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cpc.Connect(server, 1024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이용해서 서버 프로그램을 만들어보는 예제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 서버 프로그램은 클라이언트 요구가 들어왔을 때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의 현재 날짜와 시간을 보내주는 간단한 서비스이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DateServ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소켓을 이용한 서버 프로그램을 만들려면 다음 네임스페이스가 필요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코드 윈도우를 열어 추가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Net.Sockets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046840" y="2008080"/>
            <a:ext cx="3681360" cy="2273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4000" y="4653000"/>
            <a:ext cx="8640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다음과 같이 폼 윈도우를 구성하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컨트롤 속성을 지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               객체 이름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속성 지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utton              button1 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abel                label1  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포트 번호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Box            textBox1        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ext = "1024"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istBox             listBox1       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308720" y="4869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101080" y="458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4. Listen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를 추가하고 구현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에서 클라이언트로 보낼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결과 문자열은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ocket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클래스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Send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메서드를 불러서 보내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2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06864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void Listen(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1.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포트 번호 구하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port = Convert.ToInt16( textBox1.Text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2.Lintener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시작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Listener listener = new TcpListener( port 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listener.Start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listBox1.Items.Add(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클라이언트 요구 기다리는 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.."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프로그래밍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36000" cy="18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웹 관련 클래스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인터넷에서 파일을 읽어 보여주려면 먼저 파일을 요구하는 과정이 필요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웹 페이지나 파일을 받기위한객체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     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-  WebRequest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객체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,    WebResponse 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객체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5113080" cy="328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300720" y="6093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웹 페이지 읽어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867280" y="630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2060640"/>
            <a:ext cx="842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while (true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3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 요구를 기다린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ocket s = listener.AcceptSocket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4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날짜 구하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tring sDate = DateTime.NowToShortDateString(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5.Send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메서드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클라이언트에 결과를 보낸다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yte[] rawRes = Encoding.Unicode.GetBytes(sRes.ToCharArray()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.Send(rawRes, rawRes.Length, 0);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// 6.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로그 남기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istBox1.Items.Add("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버 날짜 서비스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"+ sDate )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5. [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날짜 서비스 시작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 구현 쓰레드를 생성해서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Liste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실행한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다시 버튼을 누르면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실행중인 쓰레드를 종료되고 날짜 서비스가 멈춘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</a:t>
            </a:r>
            <a:endParaRPr b="1" lang="en-US" sz="24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343320"/>
            <a:ext cx="8351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private void button1_Click(object sender, System.EventArgs e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f ( button1.Text =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 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 = new Thread( new ThreadStart( Listen ) );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.Star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button1.Text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종료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 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1.Abort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button1.Text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날짜 서비스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아세요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? -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쓰레드를 사용하는 이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만약 쓰레드 생성 없이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Listen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서드를 부르게되면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윈도우에서 사용자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I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부분이 멈추어 사용할 수 없게 됩니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윈도우를 움직일 수도 없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메시지를 볼 수도 없게되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3716280"/>
            <a:ext cx="882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프로그램을 실행하고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포트 번호를 바꾼 다음 날짜 서비스를 시작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3600360" cy="2108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312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날짜 서비스 시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78764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8400" y="2017800"/>
            <a:ext cx="831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소켓을 사용해서 서버에 연결하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서버로부터 결과를 받아오는 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과 작업할 폴더를 지정하고 새로운 프로젝트를 생성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콘솔 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DateClient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35164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소켓을 이용한 프로그램을 만들려면 다음 네임스페이스가 필요하므로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코드 윈도우를 열어 추가한다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Net.Sockets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using System.IO; </a:t>
            </a: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3.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다음과 같이 폼 윈도우를 구성하고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r>
              <a:rPr b="1" lang="ko-KR" sz="16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1800"/>
            </a:b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3009600" cy="1333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427640" y="587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00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42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4. [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 연결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]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이벤트 핸들러를 구현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날짜 서비스가 실행된 서버에 접속해서 서버 날짜 정보를 받아서 보여준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서버 이름은 “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localhost”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로 지정하고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포트 번호는 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1024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로 지정한다</a:t>
            </a:r>
            <a:r>
              <a:rPr b="0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3098880"/>
            <a:ext cx="871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접속 할 서버 이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server = "localhost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TcpClient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객체 생성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lient tcpc = new TcpClient();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 접속 시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ry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.Connect(server, 1024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atch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nsole.WriteLine(" {0}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 연결할 수 없음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, server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 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return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계속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205000"/>
            <a:ext cx="84978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데이터 스트림 구하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eam stream = tcpc.GetStream(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스트림에서 결과 읽어오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Byte[] res = new Byte[256]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nt bytes = stream.Read( res, 0, res.Length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str = Encoding.Unicode.GetString( res 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가 보내준 결과를 메시지박스로 보여줍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string message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 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받은 바이트 수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: " + bytes + " bytes  "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 +=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 날짜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: " + str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essageBox.Show( message,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서버에서 보내준 결과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 );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소켓 닫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   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cpc.Close();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클라이언트</a:t>
            </a:r>
            <a:r>
              <a:rPr b="1" lang="ko-KR" sz="44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28036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&lt;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잠시만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스트림 읽기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&gt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서버로부터 받은 결과는 스트림 객체를 통해서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TcpClien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의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GetStrea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를 불러서 스트림 객체를 구하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결과를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3810240" cy="2135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360" y="364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먼저 날짜 서버 프로그램을 실행한 상태에서 클라이언트 프로그램을 실행한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[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서버 연결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버튼을 누르면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서버 날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시간 정보를 보여준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148360" y="595008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클라이언트 프로그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61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마무리 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지금까지 웹과 인터넷 관련 프로그래밍에 대해서 알아보았습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웹 프로그래밍에서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I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컨트롤을 사용해서 간단한 브라우저를 만들어 보았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렇게 기존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OM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나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ActiveX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컨트롤을 가져와 사용하는 것을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O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호환성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(interoperability)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이라고 합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br>
              <a:rPr sz="1800"/>
            </a:b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인터넷에서 컴퓨터를 구분하는 방법은 각 호스트에 할당된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IP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주소이고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실제로 연결되어 데이터를 처리해주는 것은 서비스입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서비스에는 포트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(port)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번호가 할당되어 있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소켓 프로그래밍을 알아보기 위해 날짜 서비스를 하는 서버와 클라이언트를 만들어보았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굴림"/>
              </a:rPr>
              <a:t>웹 프로그래밍</a:t>
            </a:r>
            <a:endParaRPr b="1" lang="en-US" sz="4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1.WebReques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에 요구할 웹 페이지를 지정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Creat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를 부를 때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URL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을 넘겨주면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Request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 리턴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WebRequest req = WebRequest.Create( url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2.GetResponse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는 페이지를 요구하고 서버로부터 응답을 기다립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WebResponse res = req.GetResponse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3.GetResponseStream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메서드는 스트림 객체를 리턴합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스트림 객체로부터 데이터를 읽는 것은 일반 스트림을 읽는 것과 같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StreamReader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객체에 연결해서 데이터를 읽어옵니다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.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Stream stream = res.GetResponseStream(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660066"/>
                </a:solidFill>
                <a:latin typeface="굴림"/>
              </a:rPr>
              <a:t>- StreamReader reader = new StreamReader( stream ); </a:t>
            </a:r>
            <a:endParaRPr b="1" lang="en-US" sz="18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 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1. WebRequest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객체를 사용해 웹페이지를 받아 보여주는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예제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프로젝트 만들기 대화상자에서 프로젝트 이름과 작업  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660066"/>
                </a:solidFill>
                <a:latin typeface="굴림"/>
              </a:rPr>
              <a:t>할 폴더를 지정하고 새로운 프로젝트를 생성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유형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indows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응용 프로그램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프로젝트 이름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:  WebReader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--------------------------------------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트워크 관련 프로그램을 작성하기 위해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System.Ne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임스페이스를 추가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트림을 사용하기 때문에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Text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와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IO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네임스페이 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도 같이 추가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Ne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Text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using System.IO; </a:t>
            </a:r>
            <a:br>
              <a:rPr sz="2000"/>
            </a:b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09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3. 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폼 윈도우를 구성하고</a:t>
            </a:r>
            <a:r>
              <a:rPr b="1" lang="en-US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zh-CN" sz="2000" spc="-1" strike="noStrike">
                <a:solidFill>
                  <a:srgbClr val="660066"/>
                </a:solidFill>
                <a:latin typeface="굴림"/>
              </a:rPr>
              <a:t>컨트롤 속성을 지정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06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5256000" cy="3405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67640" y="551664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폼 윈도우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86692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lt;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따라하기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웹 페이지 읽어오기</a:t>
            </a:r>
            <a:r>
              <a:rPr b="1" lang="ko-KR" sz="3600" spc="-1" strike="noStrike">
                <a:solidFill>
                  <a:srgbClr val="333399"/>
                </a:solidFill>
                <a:latin typeface="굴림"/>
              </a:rPr>
              <a:t>&gt;</a:t>
            </a:r>
            <a:endParaRPr b="1" lang="en-US" sz="36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4. [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페이지 읽어오기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]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버튼의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Click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이벤트 핸들러를 구현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quest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객체를 이용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에 연결하여 웹페이지 소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 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스를 읽어온다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.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private void button1_Click(object sender, System.EventArgs e)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{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//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웹 연결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	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 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quest req = WebRequest.Create( textBox1.Text 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     </a:t>
            </a:r>
            <a:r>
              <a:rPr b="1" lang="ko-KR" sz="2000" spc="-1" strike="noStrike">
                <a:solidFill>
                  <a:srgbClr val="660066"/>
                </a:solidFill>
                <a:latin typeface="굴림"/>
              </a:rPr>
              <a:t>WebResponse res = req.GetResponse(); </a:t>
            </a:r>
            <a:endParaRPr b="1" lang="en-US" sz="2000" spc="-1" strike="noStrike">
              <a:solidFill>
                <a:srgbClr val="660066"/>
              </a:solidFill>
              <a:latin typeface="굴림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2:22:49Z</dcterms:created>
  <dc:creator>박대영</dc:creator>
  <dc:description/>
  <dc:language>en-US</dc:language>
  <cp:lastModifiedBy>임정목</cp:lastModifiedBy>
  <dcterms:modified xsi:type="dcterms:W3CDTF">2002-11-14T12:45:36Z</dcterms:modified>
  <cp:revision>3</cp:revision>
  <dc:subject/>
  <dc:title>18장 인터넷 프로그래밍</dc:title>
</cp:coreProperties>
</file>