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24.wmf" ContentType="image/x-wmf"/>
  <Override PartName="/ppt/media/image12.wmf" ContentType="image/x-wmf"/>
  <Override PartName="/ppt/media/image13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5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1.wmf" ContentType="image/x-wmf"/>
  <Override PartName="/ppt/media/image38.wmf" ContentType="image/x-wmf"/>
  <Override PartName="/ppt/media/image40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33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A6F-7931-46B9-BD89-78DFB4D1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B8A-F31F-4E6F-9886-339BB1B0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5A8-EBB7-49E6-95F5-60C1062D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4B1-9F10-4AAD-9192-7B928BF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1DD5-DDEE-4D63-92C7-319C07D9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08EF-75D5-4B2C-B960-AE3C7F4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CF83-73C9-48CC-B40D-6325723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C9C5-0653-4C40-BF4F-7DAC415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8107-9AD3-4E23-A5D0-E9E34E0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771-3410-41D7-AD89-F0006FC0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7359-E900-4DF7-97F8-E78B35CF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391-57B6-4DF5-B37F-3DD1F690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1F1C-1362-4975-9501-CEEC381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4CD0-8D4B-435F-877C-F25A086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B66-49C9-4A49-BCE5-75FAF57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8FDF-DDD4-4B37-90CB-5102C858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818D-0E7C-489D-A002-E6ECCFEC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8D6-A0C0-42F1-AFA3-342C26D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CE4-E57E-43F9-B4FA-6F0EA49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5A3-D722-4289-A93C-8D88D7F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E37-6D79-4204-B2E2-499BAEC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2C-64AF-4C8A-A630-1A34B72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241-DA9B-41FF-9FED-35C4C32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7A8-BBE3-4D0B-8419-1A2F913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C18F-7FA1-4AC7-B7A3-E08342043E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CF68-6806-418C-B289-FA91C14D6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라미터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etParameter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텍스트 필드나 라디오 버튼과 같이 단일 값을 갖는 형태에 사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etParameterValues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체크 박스나 다중 선택 박스와 같이 여러 개의 값을 갖는 형태에 사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etParameterNames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전달된 파라미터의 이름 집합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객체로 반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etParameterMap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 이름과 값의 쌍으로 이루어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p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객체를 반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1720800"/>
            <a:ext cx="6750000" cy="40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name = request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843280"/>
            <a:ext cx="6750000" cy="6732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[] hobby = request.getParameterValues("hobby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(int i = 0; i &lt; hobby.length; i++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002360" y="1569960"/>
            <a:ext cx="1847880" cy="7336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507000" y="2933640"/>
            <a:ext cx="2467080" cy="8002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372440" y="54000"/>
            <a:ext cx="1655640" cy="1461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767720" y="638280"/>
            <a:ext cx="112392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06" idx="1"/>
          </p:cNvCxnSpPr>
          <p:nvPr/>
        </p:nvCxnSpPr>
        <p:spPr>
          <a:xfrm flipV="1" rot="10800000">
            <a:off x="7001640" y="750600"/>
            <a:ext cx="747000" cy="1186560"/>
          </a:xfrm>
          <a:prstGeom prst="curvedConnector5">
            <a:avLst>
              <a:gd name="adj1" fmla="val 130617"/>
              <a:gd name="adj2" fmla="val 49984"/>
              <a:gd name="adj3" fmla="val 13061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12" idx="3"/>
            <a:endCxn id="207" idx="0"/>
          </p:cNvCxnSpPr>
          <p:nvPr/>
        </p:nvCxnSpPr>
        <p:spPr>
          <a:xfrm flipH="1">
            <a:off x="7740360" y="1020600"/>
            <a:ext cx="1170720" cy="1913760"/>
          </a:xfrm>
          <a:prstGeom prst="curvedConnector5">
            <a:avLst>
              <a:gd name="adj1" fmla="val -13134"/>
              <a:gd name="adj2" fmla="val 26453"/>
              <a:gd name="adj3" fmla="val -131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971640" y="5634000"/>
            <a:ext cx="6750000" cy="112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ap paramMap = request.getParameterMa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t paramKeySet = paramMap.keySe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terator keyIterator = paramKeySet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keyIterator.hasNext()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4238640"/>
            <a:ext cx="6750000" cy="7081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param = request.getParameterNam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param.hasMoreElements()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51640" y="4103640"/>
            <a:ext cx="2476440" cy="971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684840" y="5724360"/>
            <a:ext cx="2343240" cy="981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551640" y="4599000"/>
            <a:ext cx="54144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9" idx="3"/>
            <a:endCxn id="217" idx="1"/>
          </p:cNvCxnSpPr>
          <p:nvPr/>
        </p:nvCxnSpPr>
        <p:spPr>
          <a:xfrm>
            <a:off x="5349600" y="4492440"/>
            <a:ext cx="1183320" cy="309960"/>
          </a:xfrm>
          <a:prstGeom prst="curvedConnector5">
            <a:avLst>
              <a:gd name="adj1" fmla="val 50730"/>
              <a:gd name="adj2" fmla="val 50000"/>
              <a:gd name="adj3" fmla="val 5073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245560" y="43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767720" y="4689360"/>
            <a:ext cx="933480" cy="107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97360" y="5609520"/>
            <a:ext cx="2027160" cy="1099440"/>
          </a:xfrm>
          <a:prstGeom prst="cloudCallout">
            <a:avLst>
              <a:gd name="adj1" fmla="val 107472"/>
              <a:gd name="adj2" fmla="val -8763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란 키와 값의 쌍으로 이루어진 배열을 말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키를 이용해서 값을 가져올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67720" y="907920"/>
            <a:ext cx="1123920" cy="22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5 HTT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요청 메시지의 헤더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요청 메시지의 헤더 이름 집합을 생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헤더의 이름 집합을 방문하면서 헤더의 값을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538280"/>
            <a:ext cx="675000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headerEnum = request.getHeaderNam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889360"/>
            <a:ext cx="6750000" cy="184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headerEnum.hasMoreElements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headerName = (String)headerEnum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headerValue = request.getHeader(header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24560" y="4329000"/>
            <a:ext cx="3548160" cy="197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032360" y="5138640"/>
            <a:ext cx="579240" cy="935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5144760"/>
            <a:ext cx="1873080" cy="860760"/>
          </a:xfrm>
          <a:prstGeom prst="cloudCallout">
            <a:avLst>
              <a:gd name="adj1" fmla="val 89907"/>
              <a:gd name="adj2" fmla="val -3499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 메시지의 헤더의 이름과 값을 출력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3 response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1 respon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버에서 클라이언트로 보내는 응답 메시지에 대한 정보를 담고 있는 객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ervletRespons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인터페이스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의 인자로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응답 페이지에 대한 설정 정보 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로 전달될 응답 메시지의 헤더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른 웹 페이지로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97720" y="2933640"/>
            <a:ext cx="689040" cy="966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97720" y="4992480"/>
            <a:ext cx="1784160" cy="860760"/>
          </a:xfrm>
          <a:prstGeom prst="cloudCallout">
            <a:avLst>
              <a:gd name="adj1" fmla="val 19291"/>
              <a:gd name="adj2" fmla="val -15359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는 클라이언트로 보내질 응답 메시지를 나타낸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988920"/>
            <a:ext cx="9144000" cy="5346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6200" y="2664000"/>
            <a:ext cx="8381880" cy="9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응답 페이지 설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객체의 응답 페이지 설정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setContentType(java.lang.String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출력될 페이지의 콘텐츠 타입을 설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setCharacterEncoding(java.lang.String char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문자의 인코딩 스타일을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하지만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는 코드 맨 첫 줄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지시문을 이용해서 콘텐츠 타입과 인코딩 스타일을 지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객체의 응답 헤더 설정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addHeader(java.lang.String name, java.lang.String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름이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고 값이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인 헤더를 추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setHeader(java.lang.String name, java.lang.String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헤더의 값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로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3699000"/>
            <a:ext cx="6750000" cy="8539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contentType = "text/html; charset=euc-kr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73560" y="4214880"/>
            <a:ext cx="54432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콘텐츠 타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5560" y="4124160"/>
            <a:ext cx="81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75520" y="4214880"/>
            <a:ext cx="6357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인코딩 스타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67360" y="4124160"/>
            <a:ext cx="12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3 respon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객체를 이용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ir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irect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를 위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sendRedirect(java.lang.String lo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지정된 웹 페이지로 이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evelCheck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2933640"/>
            <a:ext cx="5175000" cy="17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level = Integer.parseInt(request.getParameter("level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level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Redirect("level_1.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ndRedirect("level_etc.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21640" y="3794040"/>
            <a:ext cx="2036520" cy="1084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29560" y="5224320"/>
            <a:ext cx="2036520" cy="108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71640" y="4869000"/>
            <a:ext cx="4768920" cy="539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localhost:8080/MySample/levelCheck.jsp?level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3080" y="5634000"/>
            <a:ext cx="4768920" cy="539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localhost:8080/MySample/levelCheck.jsp?level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3"/>
            <a:endCxn id="248" idx="1"/>
          </p:cNvCxnSpPr>
          <p:nvPr/>
        </p:nvCxnSpPr>
        <p:spPr>
          <a:xfrm flipV="1">
            <a:off x="5741640" y="5766840"/>
            <a:ext cx="1088280" cy="13716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52" name=""/>
          <p:cNvCxnSpPr>
            <a:stCxn id="249" idx="3"/>
            <a:endCxn id="247" idx="1"/>
          </p:cNvCxnSpPr>
          <p:nvPr/>
        </p:nvCxnSpPr>
        <p:spPr>
          <a:xfrm flipV="1">
            <a:off x="5740200" y="4336200"/>
            <a:ext cx="1081800" cy="80244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7886880" y="3473280"/>
            <a:ext cx="93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_1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42160" y="4913280"/>
            <a:ext cx="1068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level_etc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695920" y="1042920"/>
            <a:ext cx="3152880" cy="13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5607000" y="1538280"/>
            <a:ext cx="310536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4257720" y="189864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507000" y="2309400"/>
            <a:ext cx="2270160" cy="860400"/>
          </a:xfrm>
          <a:prstGeom prst="cloudCallout">
            <a:avLst>
              <a:gd name="adj1" fmla="val -102921"/>
              <a:gd name="adj2" fmla="val -3411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실행 결과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헤더에 위와 같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irec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될 페이지의 주소가 전송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0"/>
            <a:endCxn id="260" idx="3"/>
          </p:cNvCxnSpPr>
          <p:nvPr/>
        </p:nvCxnSpPr>
        <p:spPr>
          <a:xfrm flipH="1" flipV="1">
            <a:off x="7697880" y="1133280"/>
            <a:ext cx="1078200" cy="1607040"/>
          </a:xfrm>
          <a:prstGeom prst="curvedConnector5">
            <a:avLst>
              <a:gd name="adj1" fmla="val -31496"/>
              <a:gd name="adj2" fmla="val 49988"/>
              <a:gd name="adj3" fmla="val -3149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5607000" y="998640"/>
            <a:ext cx="207180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8" idx="1"/>
            <a:endCxn id="256" idx="3"/>
          </p:cNvCxnSpPr>
          <p:nvPr/>
        </p:nvCxnSpPr>
        <p:spPr>
          <a:xfrm flipH="1" flipV="1">
            <a:off x="8730720" y="1672560"/>
            <a:ext cx="45360" cy="1067400"/>
          </a:xfrm>
          <a:prstGeom prst="curvedConnector5">
            <a:avLst>
              <a:gd name="adj1" fmla="val -517600"/>
              <a:gd name="adj2" fmla="val 50000"/>
              <a:gd name="adj3" fmla="val -5176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4 pageContext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.1 pageContex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을 관리하고 정보를 공유하도록 도와주는 객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하나의 서블릿에 하나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 존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른 내장 객체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하나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가 생성 될 때 해당 페이지의 다양한 정보와 특성들을 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 범위 내에서의 정보 공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특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객체를 이용한 정보 공유의 범위는 현재 페이지 내로 제한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.2 ServletContex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객체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letContex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애플리케이션에 존재하는 모든 서블릿들을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하나의 웹 애플리케이션에 하나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Contex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가 존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하나의 서블릿을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하나의 서블릿에 하나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가 존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0" y="3745080"/>
            <a:ext cx="7471080" cy="25192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2000" y="3743280"/>
            <a:ext cx="7471080" cy="4064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97360" y="4330800"/>
            <a:ext cx="3465360" cy="36036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Sample Web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97360" y="4691160"/>
            <a:ext cx="3465360" cy="13921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666120" y="5026680"/>
            <a:ext cx="1752480" cy="36036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15920" y="4869000"/>
            <a:ext cx="1935360" cy="31572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15920" y="5184720"/>
            <a:ext cx="1935360" cy="8542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2523600" y="5295960"/>
            <a:ext cx="1170000" cy="31572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86280" y="4957920"/>
            <a:ext cx="1035000" cy="630000"/>
            <a:chOff x="3986280" y="4957920"/>
            <a:chExt cx="1035000" cy="630000"/>
          </a:xfrm>
        </p:grpSpPr>
        <p:sp>
          <p:nvSpPr>
            <p:cNvPr id="277" name=""/>
            <p:cNvSpPr/>
            <p:nvPr/>
          </p:nvSpPr>
          <p:spPr>
            <a:xfrm>
              <a:off x="3986280" y="4957920"/>
              <a:ext cx="1035000" cy="315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86280" y="5272200"/>
              <a:ext cx="1035000" cy="315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11640" y="5364000"/>
            <a:ext cx="1035000" cy="630000"/>
            <a:chOff x="5111640" y="5364000"/>
            <a:chExt cx="1035000" cy="630000"/>
          </a:xfrm>
        </p:grpSpPr>
        <p:sp>
          <p:nvSpPr>
            <p:cNvPr id="280" name=""/>
            <p:cNvSpPr/>
            <p:nvPr/>
          </p:nvSpPr>
          <p:spPr>
            <a:xfrm>
              <a:off x="5111640" y="5364000"/>
              <a:ext cx="1035000" cy="315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11640" y="5678280"/>
              <a:ext cx="1035000" cy="315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37360" y="4778280"/>
            <a:ext cx="1035000" cy="630000"/>
            <a:chOff x="6237360" y="4778280"/>
            <a:chExt cx="1035000" cy="630000"/>
          </a:xfrm>
        </p:grpSpPr>
        <p:sp>
          <p:nvSpPr>
            <p:cNvPr id="283" name=""/>
            <p:cNvSpPr/>
            <p:nvPr/>
          </p:nvSpPr>
          <p:spPr>
            <a:xfrm>
              <a:off x="6237360" y="4778280"/>
              <a:ext cx="1035000" cy="315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37360" y="5092560"/>
              <a:ext cx="1035000" cy="315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06640" y="5273640"/>
            <a:ext cx="853920" cy="539280"/>
            <a:chOff x="1106640" y="5273640"/>
            <a:chExt cx="853920" cy="539280"/>
          </a:xfrm>
        </p:grpSpPr>
        <p:sp>
          <p:nvSpPr>
            <p:cNvPr id="286" name=""/>
            <p:cNvSpPr/>
            <p:nvPr/>
          </p:nvSpPr>
          <p:spPr>
            <a:xfrm>
              <a:off x="1106640" y="5273640"/>
              <a:ext cx="853920" cy="2703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06640" y="5542560"/>
              <a:ext cx="853920" cy="2703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06640" y="5408640"/>
            <a:ext cx="853920" cy="539280"/>
            <a:chOff x="2006640" y="5408640"/>
            <a:chExt cx="853920" cy="539280"/>
          </a:xfrm>
        </p:grpSpPr>
        <p:sp>
          <p:nvSpPr>
            <p:cNvPr id="289" name=""/>
            <p:cNvSpPr/>
            <p:nvPr/>
          </p:nvSpPr>
          <p:spPr>
            <a:xfrm>
              <a:off x="2006640" y="5408640"/>
              <a:ext cx="853920" cy="2703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06640" y="5677560"/>
              <a:ext cx="853920" cy="2703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.3 PageContex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를 이용한 정보 공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실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5560" y="1089000"/>
            <a:ext cx="837252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같은 페이지에서의 정보공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속성 등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등록된 속성 호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다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페이지에서 속성 호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6280" y="1808280"/>
            <a:ext cx="6750000" cy="67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contextValue  = "Using PageContex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Context.setAttribute("contextName",contextValu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6280" y="3024360"/>
            <a:ext cx="6750000" cy="9428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bject obj = pageContext.getAttribute("context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value = (String)ob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"&lt;h3&gt;PageContext Value = " + value + "&lt;/h3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86280" y="1854360"/>
            <a:ext cx="3178440" cy="2057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35920" y="21589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632720" y="1042920"/>
            <a:ext cx="606240" cy="935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111640" y="1092960"/>
            <a:ext cx="1738440" cy="621720"/>
          </a:xfrm>
          <a:prstGeom prst="cloudCallout">
            <a:avLst>
              <a:gd name="adj1" fmla="val 90537"/>
              <a:gd name="adj2" fmla="val -371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곳에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형을 넣을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8" idx="0"/>
            <a:endCxn id="296" idx="0"/>
          </p:cNvCxnSpPr>
          <p:nvPr/>
        </p:nvCxnSpPr>
        <p:spPr>
          <a:xfrm flipV="1" rot="10800000">
            <a:off x="4488840" y="1404720"/>
            <a:ext cx="627840" cy="7545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476280" y="4643280"/>
            <a:ext cx="6750000" cy="157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bject obj = pageContext.getAttribute("context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f(obj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"Attrubute Not found!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832360" y="4959360"/>
            <a:ext cx="3178440" cy="1363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5021280" y="4778280"/>
            <a:ext cx="739800" cy="12542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642000" y="3990600"/>
            <a:ext cx="2314800" cy="1337760"/>
          </a:xfrm>
          <a:prstGeom prst="cloudCallout">
            <a:avLst>
              <a:gd name="adj1" fmla="val -91902"/>
              <a:gd name="adj2" fmla="val 1690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하나의 서블릿에 한정되기 때문에 다른 페이지에서 등록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는 이용할 수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.4 pageContex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를 위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forward(java.lang.String relativeUrl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해당 페이지로 이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ward()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메소드의 특징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된 해당 페이지로 제어권을 모두 넘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된 페이지로 넘어가기 전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lear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가 호출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5920" y="3652920"/>
            <a:ext cx="8956800" cy="3106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2120" y="478008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16280" y="4059360"/>
            <a:ext cx="3254040" cy="238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62360" y="4119480"/>
            <a:ext cx="14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Forward 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93760" y="5126040"/>
            <a:ext cx="2927520" cy="122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_jspServi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forward(  request   ,   response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19400" y="518472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87720" y="518472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3"/>
            <a:endCxn id="313" idx="0"/>
          </p:cNvCxnSpPr>
          <p:nvPr/>
        </p:nvCxnSpPr>
        <p:spPr>
          <a:xfrm>
            <a:off x="1828800" y="4932000"/>
            <a:ext cx="1597680" cy="25308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06280" y="438480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3"/>
            <a:endCxn id="314" idx="0"/>
          </p:cNvCxnSpPr>
          <p:nvPr/>
        </p:nvCxnSpPr>
        <p:spPr>
          <a:xfrm>
            <a:off x="1812600" y="4536720"/>
            <a:ext cx="2532600" cy="64836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5967360" y="4824360"/>
            <a:ext cx="3016440" cy="124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21720" y="4884840"/>
            <a:ext cx="1698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rwardReceive 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58080" y="5321160"/>
            <a:ext cx="2792160" cy="56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_jspServi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91280" y="546588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67520" y="546588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24" idx="2"/>
            <a:endCxn id="321" idx="2"/>
          </p:cNvCxnSpPr>
          <p:nvPr/>
        </p:nvCxnSpPr>
        <p:spPr>
          <a:xfrm flipH="1" flipV="1" rot="5400000">
            <a:off x="5396400" y="3850560"/>
            <a:ext cx="113400" cy="3888360"/>
          </a:xfrm>
          <a:prstGeom prst="bentConnector3">
            <a:avLst>
              <a:gd name="adj1" fmla="val -63089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25" name=""/>
          <p:cNvCxnSpPr>
            <a:stCxn id="326" idx="2"/>
            <a:endCxn id="322" idx="2"/>
          </p:cNvCxnSpPr>
          <p:nvPr/>
        </p:nvCxnSpPr>
        <p:spPr>
          <a:xfrm flipH="1" flipV="1" rot="5400000">
            <a:off x="6325200" y="3852000"/>
            <a:ext cx="113400" cy="3885480"/>
          </a:xfrm>
          <a:prstGeom prst="bentConnector3">
            <a:avLst>
              <a:gd name="adj1" fmla="val -31528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246640" y="5275440"/>
            <a:ext cx="674640" cy="404640"/>
          </a:xfrm>
          <a:prstGeom prst="rightArrow">
            <a:avLst>
              <a:gd name="adj1" fmla="val 49806"/>
              <a:gd name="adj2" fmla="val 47849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1640" y="5003640"/>
            <a:ext cx="3218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포워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557856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2760" y="557856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1640" y="4035240"/>
            <a:ext cx="1513080" cy="621720"/>
          </a:xfrm>
          <a:prstGeom prst="cloudCallout">
            <a:avLst>
              <a:gd name="adj1" fmla="val -85250"/>
              <a:gd name="adj2" fmla="val 7598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어권을 영구히 넘겨준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947000" y="248436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967360" y="1183680"/>
            <a:ext cx="2027160" cy="1099440"/>
          </a:xfrm>
          <a:prstGeom prst="cloudCallout">
            <a:avLst>
              <a:gd name="adj1" fmla="val 38546"/>
              <a:gd name="adj2" fmla="val 9585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장점은 이전 페이지로부터 넘어온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를 쓸 수 있다는 것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92720" y="3853440"/>
            <a:ext cx="1125720" cy="383040"/>
          </a:xfrm>
          <a:prstGeom prst="cloudCallout">
            <a:avLst>
              <a:gd name="adj1" fmla="val -24490"/>
              <a:gd name="adj2" fmla="val 20136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clea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4.5 pageContex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를 위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include(java.lang.String relativeUrl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해당 페이지를 포함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clude()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메소드의 특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시점에 제어권을 해당 페이지로 넘기지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을 마치고 다시 제어권을 돌려 받아 해당 페이지를 처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920" y="3608280"/>
            <a:ext cx="8956800" cy="31514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2120" y="482292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6280" y="4103640"/>
            <a:ext cx="3254040" cy="238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62360" y="4164120"/>
            <a:ext cx="1396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Include 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3760" y="5168880"/>
            <a:ext cx="2927520" cy="122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_jspService(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clude(  request   ,   response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19400" y="521640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87720" y="521640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8" idx="3"/>
            <a:endCxn id="342" idx="0"/>
          </p:cNvCxnSpPr>
          <p:nvPr/>
        </p:nvCxnSpPr>
        <p:spPr>
          <a:xfrm>
            <a:off x="1828800" y="4975200"/>
            <a:ext cx="1597680" cy="24192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206280" y="4427640"/>
            <a:ext cx="160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5" idx="3"/>
            <a:endCxn id="343" idx="0"/>
          </p:cNvCxnSpPr>
          <p:nvPr/>
        </p:nvCxnSpPr>
        <p:spPr>
          <a:xfrm>
            <a:off x="1812600" y="4579920"/>
            <a:ext cx="2532600" cy="6372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012000" y="4687920"/>
            <a:ext cx="2970000" cy="142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57720" y="4734000"/>
            <a:ext cx="11037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d 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56280" y="5364000"/>
            <a:ext cx="2792520" cy="56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_jspServi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91280" y="551988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67520" y="551988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2"/>
            <a:endCxn id="350" idx="2"/>
          </p:cNvCxnSpPr>
          <p:nvPr/>
        </p:nvCxnSpPr>
        <p:spPr>
          <a:xfrm flipH="1" flipV="1" rot="5400000">
            <a:off x="5366160" y="3862800"/>
            <a:ext cx="102240" cy="3961080"/>
          </a:xfrm>
          <a:prstGeom prst="bentConnector3">
            <a:avLst>
              <a:gd name="adj1" fmla="val -7106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54" name=""/>
          <p:cNvCxnSpPr>
            <a:stCxn id="355" idx="2"/>
            <a:endCxn id="351" idx="2"/>
          </p:cNvCxnSpPr>
          <p:nvPr/>
        </p:nvCxnSpPr>
        <p:spPr>
          <a:xfrm flipH="1" flipV="1" rot="5400000">
            <a:off x="6294960" y="3864240"/>
            <a:ext cx="102240" cy="3958560"/>
          </a:xfrm>
          <a:prstGeom prst="bentConnector3">
            <a:avLst>
              <a:gd name="adj1" fmla="val -35123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3130560" y="5621400"/>
            <a:ext cx="6130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09680" y="5621400"/>
            <a:ext cx="713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3568320"/>
            <a:ext cx="2054160" cy="860760"/>
          </a:xfrm>
          <a:prstGeom prst="cloudCallout">
            <a:avLst>
              <a:gd name="adj1" fmla="val -52925"/>
              <a:gd name="adj2" fmla="val 13047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포함될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페이지를 처리한 후 제어권을 원래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페이지에 되돌려준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48440" y="5229360"/>
            <a:ext cx="718920" cy="269640"/>
          </a:xfrm>
          <a:prstGeom prst="rightArrow">
            <a:avLst>
              <a:gd name="adj1" fmla="val 50000"/>
              <a:gd name="adj2" fmla="val 6665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247720" y="5454720"/>
            <a:ext cx="718920" cy="269640"/>
          </a:xfrm>
          <a:prstGeom prst="rightArrow">
            <a:avLst>
              <a:gd name="adj1" fmla="val 50000"/>
              <a:gd name="adj2" fmla="val 6665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4304160"/>
            <a:ext cx="1123920" cy="383040"/>
          </a:xfrm>
          <a:prstGeom prst="cloudCallout">
            <a:avLst>
              <a:gd name="adj1" fmla="val 27231"/>
              <a:gd name="adj2" fmla="val 15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flush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5 out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5.1 ou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브라우저에 데이터를 전송하기 위한 출력 스트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Writ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Out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로 자동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브라우저에 출력될 내용을 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에 대한 버퍼 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976640" y="5138640"/>
            <a:ext cx="671760" cy="835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102360" y="3614040"/>
            <a:ext cx="2224080" cy="1099440"/>
          </a:xfrm>
          <a:prstGeom prst="cloudCallout">
            <a:avLst>
              <a:gd name="adj1" fmla="val -68837"/>
              <a:gd name="adj2" fmla="val 10420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는 주로 클라이언트의 웹 브라우저에 출력될 내용을 지정하기 위해 사용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5.2 ou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를 이용한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출력을 위한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pri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데이터를 출력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printl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데이터를 출력한 후 줄 바꿈을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oid newLin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줄 바꿈을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intTest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4332240"/>
            <a:ext cx="3060720" cy="1752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"JS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new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참 재미있네요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483160" y="2619360"/>
            <a:ext cx="2943360" cy="1257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932360" y="4419720"/>
            <a:ext cx="4048200" cy="18525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cxnSp>
        <p:nvCxnSpPr>
          <p:cNvPr id="371" name=""/>
          <p:cNvCxnSpPr>
            <a:stCxn id="369" idx="2"/>
            <a:endCxn id="370" idx="0"/>
          </p:cNvCxnSpPr>
          <p:nvPr/>
        </p:nvCxnSpPr>
        <p:spPr>
          <a:xfrm>
            <a:off x="6954840" y="3876840"/>
            <a:ext cx="2160" cy="5436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7122600" y="3990960"/>
            <a:ext cx="4528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소스 보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68" idx="3"/>
            <a:endCxn id="369" idx="1"/>
          </p:cNvCxnSpPr>
          <p:nvPr/>
        </p:nvCxnSpPr>
        <p:spPr>
          <a:xfrm flipV="1">
            <a:off x="4032360" y="3247560"/>
            <a:ext cx="1451520" cy="1961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97120" y="367668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2000" y="5330880"/>
            <a:ext cx="404640" cy="1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42000" y="5499000"/>
            <a:ext cx="135000" cy="1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8440" y="5138640"/>
            <a:ext cx="811080" cy="32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rintl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80560" y="5713560"/>
            <a:ext cx="1001520" cy="32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ewLin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7" idx="1"/>
            <a:endCxn id="375" idx="3"/>
          </p:cNvCxnSpPr>
          <p:nvPr/>
        </p:nvCxnSpPr>
        <p:spPr>
          <a:xfrm flipV="1" rot="10800000">
            <a:off x="6430320" y="5301000"/>
            <a:ext cx="889560" cy="119880"/>
          </a:xfrm>
          <a:prstGeom prst="curvedConnector5">
            <a:avLst>
              <a:gd name="adj1" fmla="val 50890"/>
              <a:gd name="adj2" fmla="val 50000"/>
              <a:gd name="adj3" fmla="val 5089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1"/>
            <a:endCxn id="376" idx="3"/>
          </p:cNvCxnSpPr>
          <p:nvPr/>
        </p:nvCxnSpPr>
        <p:spPr>
          <a:xfrm rot="10800000">
            <a:off x="5891040" y="5589000"/>
            <a:ext cx="1291320" cy="288000"/>
          </a:xfrm>
          <a:prstGeom prst="curvedConnector5">
            <a:avLst>
              <a:gd name="adj1" fmla="val 50557"/>
              <a:gd name="adj2" fmla="val 49937"/>
              <a:gd name="adj3" fmla="val 5055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8442360" y="1403280"/>
            <a:ext cx="458640" cy="1254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292720" y="1274040"/>
            <a:ext cx="2278080" cy="1099440"/>
          </a:xfrm>
          <a:prstGeom prst="cloudCallout">
            <a:avLst>
              <a:gd name="adj1" fmla="val 89087"/>
              <a:gd name="adj2" fmla="val -1939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태그에 의해서만 줄 바꿈을 하기 때문에 소스 코드를 봐야지만 반영된 결과를 확인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5.3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의 버퍼 지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에 대한 정보를 지정하는 데 사용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문서 타입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 임포트 정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러 페이지 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시문의 버퍼 관련 속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버퍼의 크기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uto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자동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lush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여부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7000" y="4503600"/>
            <a:ext cx="5130720" cy="590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    buffer=" 1kb"     autoFlush=" false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7000" y="5634000"/>
            <a:ext cx="8011800" cy="58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Context = _jspxFactory.getPageContext(this, request, response, null, true, 1024, 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63520" y="4194000"/>
            <a:ext cx="694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000" y="5126040"/>
            <a:ext cx="3012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자동 생성된 서블릿 코드 중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내장 객체 생성 코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64560" y="4645080"/>
            <a:ext cx="3538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52600" y="4645080"/>
            <a:ext cx="43020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80920" y="5634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07960" y="5634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89" idx="2"/>
            <a:endCxn id="391" idx="0"/>
          </p:cNvCxnSpPr>
          <p:nvPr/>
        </p:nvCxnSpPr>
        <p:spPr>
          <a:xfrm flipH="1" rot="16200000">
            <a:off x="6393600" y="4793040"/>
            <a:ext cx="689760" cy="992880"/>
          </a:xfrm>
          <a:prstGeom prst="curvedConnector5">
            <a:avLst>
              <a:gd name="adj1" fmla="val 49765"/>
              <a:gd name="adj2" fmla="val 49981"/>
              <a:gd name="adj3" fmla="val 4976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94" name=""/>
          <p:cNvCxnSpPr>
            <a:stCxn id="390" idx="2"/>
            <a:endCxn id="392" idx="0"/>
          </p:cNvCxnSpPr>
          <p:nvPr/>
        </p:nvCxnSpPr>
        <p:spPr>
          <a:xfrm rot="5400000">
            <a:off x="7518960" y="5186160"/>
            <a:ext cx="689760" cy="207000"/>
          </a:xfrm>
          <a:prstGeom prst="curvedConnector5">
            <a:avLst>
              <a:gd name="adj1" fmla="val 49765"/>
              <a:gd name="adj2" fmla="val 50000"/>
              <a:gd name="adj3" fmla="val 4976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858080" y="2529000"/>
            <a:ext cx="895320" cy="1071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751280" y="3074400"/>
            <a:ext cx="2384640" cy="1099440"/>
          </a:xfrm>
          <a:prstGeom prst="cloudCallout">
            <a:avLst>
              <a:gd name="adj1" fmla="val 83416"/>
              <a:gd name="adj2" fmla="val -4119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지시문에 지정된 버퍼 관련 내용은 서블릿 코드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 생성에 그대로 반영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81640" y="1228320"/>
            <a:ext cx="2070360" cy="1099080"/>
          </a:xfrm>
          <a:prstGeom prst="cloudCallout">
            <a:avLst>
              <a:gd name="adj1" fmla="val 28666"/>
              <a:gd name="adj2" fmla="val 998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버퍼 관련 속성을 지정하지 않았을 경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크기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8192, autoFlush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값을 갖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6 application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6.1 applicat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하나의 웹 애플리케이션을 관리하고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 애플리케이션 내에서 정보를 공유하도록 도와주는 객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letContex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인터페이스의 인스턴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ServletContex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메소드로 자동 생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rvletContex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하나의 웹 애플리케이션에 하나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rvletContex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가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 애플리케이션에 존재하는 모든 서블릿들을 관리하고 정보를 공유하도록 도와주는 객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버 정보 출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웹 애플리케이션의 초기화 파라미터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parameter)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애플리케이션 내에서 정보 저장 및 공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000" y="4915080"/>
            <a:ext cx="6572160" cy="18446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000" y="4913280"/>
            <a:ext cx="6572160" cy="40644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29160" y="5365800"/>
            <a:ext cx="2340000" cy="36036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Sample 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29160" y="5726160"/>
            <a:ext cx="2340000" cy="9889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5474160" y="5860080"/>
            <a:ext cx="1349280" cy="36036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8800" y="5454720"/>
            <a:ext cx="1889280" cy="31572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800" y="5770440"/>
            <a:ext cx="1889280" cy="8542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2120400" y="5881680"/>
            <a:ext cx="1170000" cy="31572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632720" y="5408640"/>
            <a:ext cx="671400" cy="834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507000" y="3630600"/>
            <a:ext cx="1917720" cy="1099080"/>
          </a:xfrm>
          <a:prstGeom prst="cloudCallout">
            <a:avLst>
              <a:gd name="adj1" fmla="val 14976"/>
              <a:gd name="adj2" fmla="val 10019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웹 애플리케이션 하나당 하나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Contex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07000" y="5859360"/>
            <a:ext cx="801360" cy="444600"/>
            <a:chOff x="3807000" y="5859360"/>
            <a:chExt cx="801360" cy="444600"/>
          </a:xfrm>
        </p:grpSpPr>
        <p:sp>
          <p:nvSpPr>
            <p:cNvPr id="415" name=""/>
            <p:cNvSpPr/>
            <p:nvPr/>
          </p:nvSpPr>
          <p:spPr>
            <a:xfrm>
              <a:off x="3807000" y="5859360"/>
              <a:ext cx="80136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7000" y="6083280"/>
              <a:ext cx="80136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075280" y="5819760"/>
            <a:ext cx="801720" cy="444600"/>
            <a:chOff x="5075280" y="5819760"/>
            <a:chExt cx="801720" cy="444600"/>
          </a:xfrm>
        </p:grpSpPr>
        <p:sp>
          <p:nvSpPr>
            <p:cNvPr id="418" name=""/>
            <p:cNvSpPr/>
            <p:nvPr/>
          </p:nvSpPr>
          <p:spPr>
            <a:xfrm>
              <a:off x="5075280" y="581976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75280" y="604368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211640" y="6173640"/>
            <a:ext cx="801720" cy="444600"/>
            <a:chOff x="4211640" y="6173640"/>
            <a:chExt cx="801720" cy="444600"/>
          </a:xfrm>
        </p:grpSpPr>
        <p:sp>
          <p:nvSpPr>
            <p:cNvPr id="421" name=""/>
            <p:cNvSpPr/>
            <p:nvPr/>
          </p:nvSpPr>
          <p:spPr>
            <a:xfrm>
              <a:off x="4211640" y="617364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1640" y="639756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46280" y="5859360"/>
            <a:ext cx="801360" cy="444600"/>
            <a:chOff x="746280" y="5859360"/>
            <a:chExt cx="801360" cy="444600"/>
          </a:xfrm>
        </p:grpSpPr>
        <p:sp>
          <p:nvSpPr>
            <p:cNvPr id="424" name=""/>
            <p:cNvSpPr/>
            <p:nvPr/>
          </p:nvSpPr>
          <p:spPr>
            <a:xfrm>
              <a:off x="746280" y="5859360"/>
              <a:ext cx="80136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6280" y="6083280"/>
              <a:ext cx="80136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655640" y="6089760"/>
            <a:ext cx="801720" cy="443880"/>
            <a:chOff x="1655640" y="6089760"/>
            <a:chExt cx="801720" cy="443880"/>
          </a:xfrm>
        </p:grpSpPr>
        <p:sp>
          <p:nvSpPr>
            <p:cNvPr id="427" name=""/>
            <p:cNvSpPr/>
            <p:nvPr/>
          </p:nvSpPr>
          <p:spPr>
            <a:xfrm>
              <a:off x="1655640" y="6089760"/>
              <a:ext cx="801720" cy="220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55640" y="6313320"/>
              <a:ext cx="801720" cy="220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6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버 정보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내장 객체를 이용한 로그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를 이용해서 톰캣의 로그를 작성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기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내장 객체의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71640" y="1989000"/>
            <a:ext cx="634500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pplication.log("::: Print Server Information using application Objec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71640" y="3789360"/>
            <a:ext cx="6345000" cy="1844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ime Type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출력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application.getMimeType("jabook.gif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버 프로그램 정보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application.getServerInfo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실제 위치 경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application.getRealPath("printServerInfo.jsp"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자바 서블릿 버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application.getMajorVersion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자바 서블릿 버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application.getMinorVersion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397480" y="2619360"/>
            <a:ext cx="3630600" cy="6620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6192720" y="5024520"/>
            <a:ext cx="281808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6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웹 애플리케이션 파라미터 공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공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애플리케이션 내에 존재하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등록된 파라미터 정보를 공유해서 사용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200" y="2124000"/>
            <a:ext cx="8867880" cy="41403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2708280"/>
            <a:ext cx="4006800" cy="40464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ample Web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3112920"/>
            <a:ext cx="4006800" cy="3016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6280" y="3340080"/>
            <a:ext cx="3016080" cy="36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A 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6280" y="3700440"/>
            <a:ext cx="3016080" cy="766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6280" y="4824360"/>
            <a:ext cx="3016080" cy="36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B 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6280" y="5184720"/>
            <a:ext cx="3016080" cy="766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57720" y="2708280"/>
            <a:ext cx="2205000" cy="342108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4000" y="3835440"/>
            <a:ext cx="2646720" cy="4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 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pplication.getInitParameter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392720" y="3473280"/>
            <a:ext cx="1935000" cy="2430720"/>
            <a:chOff x="4392720" y="3473280"/>
            <a:chExt cx="1935000" cy="2430720"/>
          </a:xfrm>
        </p:grpSpPr>
        <p:sp>
          <p:nvSpPr>
            <p:cNvPr id="447" name=""/>
            <p:cNvSpPr/>
            <p:nvPr/>
          </p:nvSpPr>
          <p:spPr>
            <a:xfrm>
              <a:off x="4392720" y="3473280"/>
              <a:ext cx="1935000" cy="243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noAutofit/>
            </a:bodyPr>
            <a:p>
              <a:pPr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b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43280" y="3833640"/>
              <a:ext cx="1362960" cy="20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context-param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param-n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파라미터 이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param-n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param-valu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파라미터 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param-valu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context-param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82200" y="5321160"/>
            <a:ext cx="2646720" cy="4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 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pplication.getInitParameter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45" idx="3"/>
            <a:endCxn id="447" idx="1"/>
          </p:cNvCxnSpPr>
          <p:nvPr/>
        </p:nvCxnSpPr>
        <p:spPr>
          <a:xfrm>
            <a:off x="3446640" y="4083120"/>
            <a:ext cx="946800" cy="606960"/>
          </a:xfrm>
          <a:prstGeom prst="curvedConnector5">
            <a:avLst>
              <a:gd name="adj1" fmla="val 49828"/>
              <a:gd name="adj2" fmla="val 49970"/>
              <a:gd name="adj3" fmla="val 49828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cxnSp>
        <p:nvCxnSpPr>
          <p:cNvPr id="451" name=""/>
          <p:cNvCxnSpPr>
            <a:stCxn id="449" idx="3"/>
            <a:endCxn id="447" idx="1"/>
          </p:cNvCxnSpPr>
          <p:nvPr/>
        </p:nvCxnSpPr>
        <p:spPr>
          <a:xfrm flipV="1">
            <a:off x="3444480" y="4688640"/>
            <a:ext cx="948600" cy="88020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786120" y="394668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32200" y="540864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42000" y="4780080"/>
            <a:ext cx="1889280" cy="31572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42000" y="5095800"/>
            <a:ext cx="1889280" cy="85428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8103600" y="5207040"/>
            <a:ext cx="1170000" cy="31572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23000" y="5166720"/>
            <a:ext cx="575640" cy="31536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Serv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9440" y="5157360"/>
            <a:ext cx="575640" cy="31536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Serv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3000" y="5573160"/>
            <a:ext cx="575640" cy="31536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Serv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48720" y="5527080"/>
            <a:ext cx="575640" cy="31536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Serv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07000" y="2055240"/>
            <a:ext cx="2187720" cy="1338120"/>
          </a:xfrm>
          <a:prstGeom prst="cloudCallout">
            <a:avLst>
              <a:gd name="adj1" fmla="val 14361"/>
              <a:gd name="adj2" fmla="val 11718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하나의 웹 애플리케이션에 존재하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시 말해 웹 애플리케이션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밑에 있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902720" y="3384720"/>
            <a:ext cx="93348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1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의 정의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6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라미터 공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등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웹 애플리케이션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웹 애플리케이션의 환경 설정에 대한 정보를 저장하고 있는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웹 애플리케이션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렉터리 밑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나의 웹 애플리케이션에서 사용할 파라미터를 등록할 수 있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라미터 작성 형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web-app&gt;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엘리먼트의 하위 엘리먼트로 기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3338640"/>
            <a:ext cx="6345000" cy="103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context-pa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param-name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 이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param-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param-value&gt;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 값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param-valu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context-pa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6867360" y="2529000"/>
            <a:ext cx="895680" cy="10713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469280" y="1228320"/>
            <a:ext cx="1512720" cy="860400"/>
          </a:xfrm>
          <a:prstGeom prst="cloudCallout">
            <a:avLst>
              <a:gd name="adj1" fmla="val -30518"/>
              <a:gd name="adj2" fmla="val 14962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을 수정한 후 톰캣을 재시작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5920" y="5049720"/>
            <a:ext cx="6526080" cy="166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paramEnum = application.getInitParameterNam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paramEnum.hasMoreElement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ramName = (String)paramEnum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ramValue = application.getInitParameter(param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paramName + " - " + paramValue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7137360" y="533088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877000" y="3710160"/>
            <a:ext cx="3105000" cy="1295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cxnSp>
        <p:nvCxnSpPr>
          <p:cNvPr id="473" name=""/>
          <p:cNvCxnSpPr>
            <a:stCxn id="472" idx="2"/>
            <a:endCxn id="471" idx="0"/>
          </p:cNvCxnSpPr>
          <p:nvPr/>
        </p:nvCxnSpPr>
        <p:spPr>
          <a:xfrm flipH="1" rot="16200000">
            <a:off x="7570800" y="4863960"/>
            <a:ext cx="326160" cy="608400"/>
          </a:xfrm>
          <a:prstGeom prst="curvedConnector5">
            <a:avLst>
              <a:gd name="adj1" fmla="val 49723"/>
              <a:gd name="adj2" fmla="val 49970"/>
              <a:gd name="adj3" fmla="val 4972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8163000" y="3384720"/>
            <a:ext cx="774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7 config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7.1 confi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nfig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컨테이너를 관리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컨테이너 내에 존재하는 모든 웹 애플리케이션들이 초기화 정보를 공유하도록 도와주는 객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C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i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터페이스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ageContex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ervletC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ig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로 자동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ervletConfig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에게 서블릿을 초기화하는 동안 참조해야 할 정보를 전해 주는 역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nfig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에 대한 정보 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블릿 컨테이너의 초기화 파라미터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7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서블릿 컨테이너의 초기화 파라미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라미터 공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컨테이너에 존재하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등록된 초기화 파라미터는 모든 웹 애플리케이션에서 공유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200" y="2168640"/>
            <a:ext cx="5716800" cy="41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7000" y="2168640"/>
            <a:ext cx="3062160" cy="4140000"/>
          </a:xfrm>
          <a:prstGeom prst="rect">
            <a:avLst/>
          </a:prstGeom>
          <a:solidFill>
            <a:srgbClr val="77777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let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80920" y="2752560"/>
            <a:ext cx="3465720" cy="40500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ample Web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80920" y="3157560"/>
            <a:ext cx="3465720" cy="16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09840" y="3384720"/>
            <a:ext cx="2747880" cy="3603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A 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09840" y="3745080"/>
            <a:ext cx="2747880" cy="76644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-423720" y="3473280"/>
            <a:ext cx="2025720" cy="58392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38440" y="3879720"/>
            <a:ext cx="2358720" cy="49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 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onfig.getInitParameter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라미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13080" y="5003640"/>
            <a:ext cx="1889280" cy="31608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13080" y="5319720"/>
            <a:ext cx="1889280" cy="8539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5400000">
            <a:off x="2569680" y="5430600"/>
            <a:ext cx="1170000" cy="315720"/>
          </a:xfrm>
          <a:prstGeom prst="rect">
            <a:avLst/>
          </a:prstGeom>
          <a:solidFill>
            <a:srgbClr val="777777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vle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237360" y="2887560"/>
            <a:ext cx="2384280" cy="3016080"/>
            <a:chOff x="6237360" y="2887560"/>
            <a:chExt cx="2384280" cy="3016080"/>
          </a:xfrm>
        </p:grpSpPr>
        <p:sp>
          <p:nvSpPr>
            <p:cNvPr id="493" name=""/>
            <p:cNvSpPr/>
            <p:nvPr/>
          </p:nvSpPr>
          <p:spPr>
            <a:xfrm>
              <a:off x="6237360" y="2887560"/>
              <a:ext cx="2384280" cy="30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noAutofit/>
            </a:bodyPr>
            <a:p>
              <a:pPr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b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7720" y="3335040"/>
              <a:ext cx="2158920" cy="250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servlet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init-param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param-n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파라미터 이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param-n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param-valu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파라미터 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param-valu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init-param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imes New Roman"/>
                </a:rPr>
                <a:t>&lt;/servlet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5" name=""/>
          <p:cNvCxnSpPr>
            <a:stCxn id="493" idx="1"/>
            <a:endCxn id="488" idx="3"/>
          </p:cNvCxnSpPr>
          <p:nvPr/>
        </p:nvCxnSpPr>
        <p:spPr>
          <a:xfrm rot="10800000">
            <a:off x="4210920" y="4126680"/>
            <a:ext cx="2026440" cy="269280"/>
          </a:xfrm>
          <a:prstGeom prst="curvedConnector5">
            <a:avLst>
              <a:gd name="adj1" fmla="val 50000"/>
              <a:gd name="adj2" fmla="val 49933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96" name=""/>
          <p:cNvCxnSpPr>
            <a:stCxn id="493" idx="1"/>
            <a:endCxn id="497" idx="3"/>
          </p:cNvCxnSpPr>
          <p:nvPr/>
        </p:nvCxnSpPr>
        <p:spPr>
          <a:xfrm flipV="1" rot="10800000">
            <a:off x="5103000" y="4395600"/>
            <a:ext cx="1134360" cy="1350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4541760" y="387828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52840" y="475632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추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57720" y="1993320"/>
            <a:ext cx="2187360" cy="1099440"/>
          </a:xfrm>
          <a:prstGeom prst="cloudCallout">
            <a:avLst>
              <a:gd name="adj1" fmla="val 3907"/>
              <a:gd name="adj2" fmla="val 12295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은 서블릿 컨테이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시 말해 톰캣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밑에 있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067360" y="3159000"/>
            <a:ext cx="6364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3402000" y="5408640"/>
            <a:ext cx="801720" cy="444600"/>
            <a:chOff x="3402000" y="5408640"/>
            <a:chExt cx="801720" cy="444600"/>
          </a:xfrm>
        </p:grpSpPr>
        <p:sp>
          <p:nvSpPr>
            <p:cNvPr id="503" name=""/>
            <p:cNvSpPr/>
            <p:nvPr/>
          </p:nvSpPr>
          <p:spPr>
            <a:xfrm>
              <a:off x="3402000" y="540864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2000" y="563256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302000" y="5634000"/>
            <a:ext cx="801720" cy="444600"/>
            <a:chOff x="4302000" y="5634000"/>
            <a:chExt cx="801720" cy="444600"/>
          </a:xfrm>
        </p:grpSpPr>
        <p:sp>
          <p:nvSpPr>
            <p:cNvPr id="497" name=""/>
            <p:cNvSpPr/>
            <p:nvPr/>
          </p:nvSpPr>
          <p:spPr>
            <a:xfrm>
              <a:off x="4302000" y="563400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02000" y="5857920"/>
              <a:ext cx="801720" cy="2206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ge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rot="5400000">
            <a:off x="744840" y="3744000"/>
            <a:ext cx="1123920" cy="4050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7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전역 초기화 파라미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전역 초기화 파라미터 등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컨테이너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블릿 컨테이너의 환경 설정에 대한 정보를 저장하고 있는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블릿 컨테이너에서 사용할 파라미터를 등록할 수 있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작성 형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전역 초기화 파라미터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80" y="2487600"/>
            <a:ext cx="6615360" cy="21114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servl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servlet-name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블릿 이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servlet-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servlet-class&gt;org.apache.jasper.servlet.JspServlet&lt;/servlet-cla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it-pa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param-name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 이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param-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param-value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라미터 값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param-valu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init-pa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/servl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2840" y="282096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3480" y="3699000"/>
            <a:ext cx="7272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초기화 파라미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5360" y="3384720"/>
            <a:ext cx="335160" cy="900000"/>
          </a:xfrm>
          <a:custGeom>
            <a:avLst/>
            <a:gdLst>
              <a:gd name="textAreaLeft" fmla="*/ 0 w 335160"/>
              <a:gd name="textAreaRight" fmla="*/ 120960 w 33516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2000" y="2944800"/>
            <a:ext cx="27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8486640" y="1268280"/>
            <a:ext cx="459000" cy="12542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786280" y="151560"/>
            <a:ext cx="2206800" cy="1337760"/>
          </a:xfrm>
          <a:prstGeom prst="cloudCallout">
            <a:avLst>
              <a:gd name="adj1" fmla="val 73518"/>
              <a:gd name="adj2" fmla="val 4663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여기서 수정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은 톰캣이 설치된 디렉터리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디렉터리 밑에 있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920" y="5184720"/>
            <a:ext cx="6526080" cy="157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Enumeration paramNames = config.getInitParameterNam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while(paramNames.hasMoreElement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ramName = (String)paramNames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paramValue = config.getInitParameter(param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ln(paramName + " - " + paramValue + "&lt;br&gt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093080" y="4734000"/>
            <a:ext cx="1888920" cy="2033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276960" y="2843280"/>
            <a:ext cx="2795760" cy="1682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22" name=""/>
          <p:cNvSpPr/>
          <p:nvPr/>
        </p:nvSpPr>
        <p:spPr>
          <a:xfrm>
            <a:off x="8263080" y="2529000"/>
            <a:ext cx="774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2720" y="2979720"/>
            <a:ext cx="405000" cy="1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1640" y="3249720"/>
            <a:ext cx="2430360" cy="98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1" idx="2"/>
            <a:endCxn id="520" idx="0"/>
          </p:cNvCxnSpPr>
          <p:nvPr/>
        </p:nvCxnSpPr>
        <p:spPr>
          <a:xfrm flipH="1" rot="16200000">
            <a:off x="7751520" y="4448880"/>
            <a:ext cx="208800" cy="362520"/>
          </a:xfrm>
          <a:prstGeom prst="curvedConnector5">
            <a:avLst>
              <a:gd name="adj1" fmla="val 49568"/>
              <a:gd name="adj2" fmla="val 50000"/>
              <a:gd name="adj3" fmla="val 4956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8 page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8.1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로부터 생성될 서블릿 객체를 참조하는 참조 변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기가 생성할 서블릿 객체를 참조하는 객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의 내부 변수로 선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page = th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자기 자신을 참조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를 받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내부적으로 자기 자신을 참조하기 위한 용도로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150920" y="1719360"/>
            <a:ext cx="2295720" cy="117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92720" y="4284720"/>
            <a:ext cx="1079640" cy="31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16280" y="4700520"/>
            <a:ext cx="1395720" cy="31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11640" y="5118120"/>
            <a:ext cx="2791080" cy="31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8.2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의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ageObject.js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nt sum(int a, int b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turn a +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&lt;title&gt;page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nt aaa = 4, bbb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ln("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처음 생성된 객체를 이용해서 출력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" + sum(aaa, bbb) + "&lt;br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ln("this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객체를 이용해서 출력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" + this.sum(aaa, bbb) + "&lt;br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ln("page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내장 객체를 이용해서 출력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" + ((pageObject_jsp)page).sum(aaa, bbb) + "&lt;br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012000" y="1765440"/>
            <a:ext cx="2724120" cy="1438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4297320" y="2179800"/>
            <a:ext cx="76680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멤버 메소드 선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1"/>
            <a:endCxn id="530" idx="3"/>
          </p:cNvCxnSpPr>
          <p:nvPr/>
        </p:nvCxnSpPr>
        <p:spPr>
          <a:xfrm flipH="1">
            <a:off x="3445920" y="2303640"/>
            <a:ext cx="64044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4348080" y="5614920"/>
            <a:ext cx="1844640" cy="55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형이기 때문에 적절히 캐스팅을 해서 사용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3"/>
            <a:endCxn id="533" idx="2"/>
          </p:cNvCxnSpPr>
          <p:nvPr/>
        </p:nvCxnSpPr>
        <p:spPr>
          <a:xfrm flipV="1">
            <a:off x="6192360" y="5431680"/>
            <a:ext cx="315000" cy="4626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2597040" y="5605560"/>
            <a:ext cx="170496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9 exception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9.1 except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러 처리를 위해 에러 처리 페이지로 지정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에서만 사용할 수 있는 내장 객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ava.lang.Throwabl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 형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장객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처리 도중 발생하는 에러 정보 출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내장 객체의 에러 처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1640" y="4595760"/>
            <a:ext cx="2975040" cy="40500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alcul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1640" y="5000760"/>
            <a:ext cx="2975040" cy="103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errorPage="calculErr.jsp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=100/0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37320" y="4597560"/>
            <a:ext cx="2975040" cy="404640"/>
          </a:xfrm>
          <a:prstGeom prst="rect">
            <a:avLst/>
          </a:prstGeom>
          <a:solidFill>
            <a:srgbClr val="c0c0c0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alculEr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37320" y="5002200"/>
            <a:ext cx="2975040" cy="10368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isErrorPage="true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=exception.getMessage()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41640" y="5137200"/>
            <a:ext cx="1575000" cy="449280"/>
          </a:xfrm>
          <a:prstGeom prst="rightArrow">
            <a:avLst>
              <a:gd name="adj1" fmla="val 50000"/>
              <a:gd name="adj2" fmla="val 8764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40760" y="5721480"/>
            <a:ext cx="9219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발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6880" y="53402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>
            <a:stCxn id="551" idx="0"/>
            <a:endCxn id="552" idx="3"/>
          </p:cNvCxnSpPr>
          <p:nvPr/>
        </p:nvCxnSpPr>
        <p:spPr>
          <a:xfrm flipV="1" rot="16200000">
            <a:off x="1982880" y="5302080"/>
            <a:ext cx="218160" cy="62100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5021280" y="3344400"/>
            <a:ext cx="2027160" cy="860400"/>
          </a:xfrm>
          <a:prstGeom prst="cloudCallout">
            <a:avLst>
              <a:gd name="adj1" fmla="val -40537"/>
              <a:gd name="adj2" fmla="val 9981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발생할 경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객체가 예외 정보를 가지고 넘어간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076640" y="4327560"/>
            <a:ext cx="1031760" cy="836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677000" y="3473280"/>
            <a:ext cx="989280" cy="885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597720" y="1829880"/>
            <a:ext cx="2300040" cy="1337760"/>
          </a:xfrm>
          <a:prstGeom prst="cloudCallout">
            <a:avLst>
              <a:gd name="adj1" fmla="val 7069"/>
              <a:gd name="adj2" fmla="val 8553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지시문을 이용해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ErrorP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을 지정하지 않을 경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를 사용할 수 없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71280" y="518472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stCxn id="556" idx="2"/>
            <a:endCxn id="558" idx="3"/>
          </p:cNvCxnSpPr>
          <p:nvPr/>
        </p:nvCxnSpPr>
        <p:spPr>
          <a:xfrm flipH="1" rot="16200000">
            <a:off x="7728840" y="4801320"/>
            <a:ext cx="989280" cy="104040"/>
          </a:xfrm>
          <a:prstGeom prst="curvedConnector5">
            <a:avLst>
              <a:gd name="adj1" fmla="val 41718"/>
              <a:gd name="adj2" fmla="val 215972"/>
              <a:gd name="adj3" fmla="val 4171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1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mplicit Objec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mplicit Obj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프로그램 코드에서 프로그래머가 선언하지 않아도 사용할 수 있는 미리 선언된 객체를 의미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스크립트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lt;% ~ %&gt;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안에서만 사용할 수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 컨테이너가 해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의 실행 시 자동으로 생성해 준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가 선언되는 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실행 시 자동 생성되는 서블릿 코드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 내에서 선언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601640" y="2979720"/>
            <a:ext cx="3733920" cy="223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01640" y="3251160"/>
            <a:ext cx="1486080" cy="21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46280" y="5634000"/>
            <a:ext cx="4905360" cy="54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9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에러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러 페이지 지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rrorP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현재 페이지에서 에러가 발생할 경우 이동할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페이지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alcul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errorPage="calculErr.jsp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100/0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러 처리 페이지 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sErrorPag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현재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페이지가 에러 처리를 위한 페이지임을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sErrorPage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속성을 기술하지 않을 경우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기본 값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alculEr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에러 형식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exception.getClass().getName()%&gt;&lt;b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70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에러 메시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 &lt;%=exception.getMessage()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71640" y="1943280"/>
            <a:ext cx="6345000" cy="49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page     errorPage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에러 처리 페이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53240" y="3354480"/>
            <a:ext cx="186840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처리 도중 에러 발생 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alculErr.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페이지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97360" y="3249720"/>
            <a:ext cx="108108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예외 발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1"/>
            <a:endCxn id="560" idx="3"/>
          </p:cNvCxnSpPr>
          <p:nvPr/>
        </p:nvCxnSpPr>
        <p:spPr>
          <a:xfrm rot="10800000">
            <a:off x="5334840" y="3091680"/>
            <a:ext cx="1418400" cy="464400"/>
          </a:xfrm>
          <a:prstGeom prst="curvedConnector5">
            <a:avLst>
              <a:gd name="adj1" fmla="val 49936"/>
              <a:gd name="adj2" fmla="val 49961"/>
              <a:gd name="adj3" fmla="val 49936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569" name=""/>
          <p:cNvCxnSpPr>
            <a:stCxn id="567" idx="1"/>
            <a:endCxn id="561" idx="3"/>
          </p:cNvCxnSpPr>
          <p:nvPr/>
        </p:nvCxnSpPr>
        <p:spPr>
          <a:xfrm flipH="1" flipV="1">
            <a:off x="3087000" y="3357360"/>
            <a:ext cx="810360" cy="1656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971640" y="4869000"/>
            <a:ext cx="6345000" cy="49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page     isErrorPage="true | false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27720" y="5634000"/>
            <a:ext cx="159876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를 이용한 에러 출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71" idx="1"/>
            <a:endCxn id="562" idx="3"/>
          </p:cNvCxnSpPr>
          <p:nvPr/>
        </p:nvCxnSpPr>
        <p:spPr>
          <a:xfrm flipV="1" rot="10800000">
            <a:off x="6550920" y="5834520"/>
            <a:ext cx="676800" cy="73800"/>
          </a:xfrm>
          <a:prstGeom prst="curvedConnector5">
            <a:avLst>
              <a:gd name="adj1" fmla="val 49973"/>
              <a:gd name="adj2" fmla="val 50000"/>
              <a:gd name="adj3" fmla="val 4997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197000" y="4059360"/>
            <a:ext cx="4815000" cy="90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6.9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에러 코드별 에러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러 코드에 따른 에러 페이지 기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위에 있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을 이용해서 기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rror404Page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 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sponse.setStatus(HttpServletResponse.SC_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h3&gt;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가 존재하지 않습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&lt;/h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행 결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존재하지 않는 페이지를 요청할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3440" y="1808280"/>
            <a:ext cx="4364280" cy="139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rror-code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에러 코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rror-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에러 페이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L&lt;/lo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64160" y="1808280"/>
            <a:ext cx="4363920" cy="1393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rror-code&gt;404&lt;/error-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location&gt;/error404Page.jsp&lt;/lo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942160" y="5454720"/>
            <a:ext cx="2590560" cy="1036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931280" y="595008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3"/>
            <a:endCxn id="578" idx="1"/>
          </p:cNvCxnSpPr>
          <p:nvPr/>
        </p:nvCxnSpPr>
        <p:spPr>
          <a:xfrm flipV="1">
            <a:off x="5035680" y="5973480"/>
            <a:ext cx="907200" cy="140400"/>
          </a:xfrm>
          <a:prstGeom prst="curvedConnector5">
            <a:avLst>
              <a:gd name="adj1" fmla="val 49900"/>
              <a:gd name="adj2" fmla="val 49871"/>
              <a:gd name="adj3" fmla="val 499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6708600" y="4230720"/>
            <a:ext cx="182412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러를 처리할 페이지는 정상적으로 처리된 페이지임을 지정해 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81" idx="1"/>
            <a:endCxn id="573" idx="3"/>
          </p:cNvCxnSpPr>
          <p:nvPr/>
        </p:nvCxnSpPr>
        <p:spPr>
          <a:xfrm flipH="1">
            <a:off x="6011280" y="4509720"/>
            <a:ext cx="69732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197000" y="4059360"/>
            <a:ext cx="4815000" cy="90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9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예외 종류별 에러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예외 종류에 따른 에러 페이지 기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-INF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하위에 있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.xm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을 이용해서 기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NullPointerException.j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 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.setStatus(HttpServletResponse.SC_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3&gt;NullPointerExcep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 발생하였습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&lt;/h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수행 결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값을 참조했을 경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280" y="1808280"/>
            <a:ext cx="3735720" cy="1301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xception-type&g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예외 종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xception-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에러 페이지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L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1808280"/>
            <a:ext cx="5221440" cy="1301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exception-type&gt;java.lang.NullPointerException&lt;/exception-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location&gt;/errorNullPointerException.jsp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8600" y="4230720"/>
            <a:ext cx="182412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러를 처리할 페이지는 정상적으로 처리된 페이지임을 지정해 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"/>
          <p:cNvCxnSpPr>
            <a:stCxn id="588" idx="1"/>
            <a:endCxn id="583" idx="3"/>
          </p:cNvCxnSpPr>
          <p:nvPr/>
        </p:nvCxnSpPr>
        <p:spPr>
          <a:xfrm flipH="1">
            <a:off x="6011280" y="4509720"/>
            <a:ext cx="69732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3626280" y="5904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90" idx="3"/>
            <a:endCxn id="592" idx="1"/>
          </p:cNvCxnSpPr>
          <p:nvPr/>
        </p:nvCxnSpPr>
        <p:spPr>
          <a:xfrm flipV="1">
            <a:off x="3730680" y="5952600"/>
            <a:ext cx="932400" cy="115200"/>
          </a:xfrm>
          <a:prstGeom prst="curvedConnector5">
            <a:avLst>
              <a:gd name="adj1" fmla="val 49903"/>
              <a:gd name="adj2" fmla="val 49843"/>
              <a:gd name="adj3" fmla="val 4990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662360" y="5454720"/>
            <a:ext cx="305928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1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의 선언과 초기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내장 객체의 선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라이언트로부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로 전달된 요청과 그에 해당하는 응답을 위한 내장 객체로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jspService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의 인자로 전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그 외 다른 내장 객체의 선언 및 초기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의 내부 변수로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560" y="1987560"/>
            <a:ext cx="7966080" cy="67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_jspService(HttpServletRequest request, HttpServletRespon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rows java.io.IOException, ServletException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7360" y="3470400"/>
            <a:ext cx="7966080" cy="49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Factory _jspxFactory = JspFactory.getDefaultFactor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7360" y="4057560"/>
            <a:ext cx="7966080" cy="13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ageContext 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Context = _jspxFactory.getPage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, response,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ll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,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92,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77000" y="3586320"/>
            <a:ext cx="269640" cy="269640"/>
          </a:xfrm>
          <a:custGeom>
            <a:avLst/>
            <a:gdLst>
              <a:gd name="textAreaLeft" fmla="*/ 0 w 269640"/>
              <a:gd name="textAreaRight" fmla="*/ 97200 w 269640"/>
              <a:gd name="textAreaTop" fmla="*/ 6840 h 269640"/>
              <a:gd name="textAreaBottom" fmla="*/ 2628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67840" y="3608280"/>
            <a:ext cx="14295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 객체지만 사용하지 않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8577000" y="338472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372360" y="2712240"/>
            <a:ext cx="2071440" cy="621720"/>
          </a:xfrm>
          <a:prstGeom prst="cloudCallout">
            <a:avLst>
              <a:gd name="adj1" fmla="val 60717"/>
              <a:gd name="adj2" fmla="val 5885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주 사용하는 내장 객체는 중요하므로 반드시 기억하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5448240"/>
            <a:ext cx="7966080" cy="1311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rvletContext application = pageContext.getServletCont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rvletConfig config = pageContext.getServletConfi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HttpSession session = pageContext.getSess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Writer out = pageContext.getOu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bject page = th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1640" y="46432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4643280"/>
            <a:ext cx="148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5543640"/>
            <a:ext cx="290160" cy="1125360"/>
          </a:xfrm>
          <a:custGeom>
            <a:avLst/>
            <a:gdLst>
              <a:gd name="textAreaLeft" fmla="*/ 0 w 290160"/>
              <a:gd name="textAreaRight" fmla="*/ 104760 w 290160"/>
              <a:gd name="textAreaTop" fmla="*/ 29160 h 1125360"/>
              <a:gd name="textAreaBottom" fmla="*/ 109620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8320" y="599436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자주 사용하는 내장 객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65560" y="46432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86280" y="46432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0920" y="4643280"/>
            <a:ext cx="49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46432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8680" y="4743360"/>
            <a:ext cx="7272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하는 서블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0560" y="5070600"/>
            <a:ext cx="13914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jspService(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매개변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9720" y="4756320"/>
            <a:ext cx="10166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러 페이지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2880" y="507060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세션의 사용 여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1840" y="4756320"/>
            <a:ext cx="5443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퍼의 크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9480" y="5070600"/>
            <a:ext cx="1187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utoflush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지원 여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9560" y="43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0200" y="43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0560" y="43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2"/>
            <a:endCxn id="136" idx="0"/>
          </p:cNvCxnSpPr>
          <p:nvPr/>
        </p:nvCxnSpPr>
        <p:spPr>
          <a:xfrm>
            <a:off x="3013200" y="4654440"/>
            <a:ext cx="3600" cy="4168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38" idx="0"/>
          </p:cNvCxnSpPr>
          <p:nvPr/>
        </p:nvCxnSpPr>
        <p:spPr>
          <a:xfrm flipH="1">
            <a:off x="5066640" y="4654440"/>
            <a:ext cx="6840" cy="4168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2"/>
            <a:endCxn id="140" idx="0"/>
          </p:cNvCxnSpPr>
          <p:nvPr/>
        </p:nvCxnSpPr>
        <p:spPr>
          <a:xfrm>
            <a:off x="6603480" y="4654440"/>
            <a:ext cx="1080" cy="4168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2 request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1 requ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생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의 요청에 따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의 매개변수로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560" y="2079720"/>
            <a:ext cx="7966080" cy="121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ublic void _jspService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HttpServletRequest reques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HttpServletResponse response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throws java.io.IOException, Servlet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120" y="3970440"/>
            <a:ext cx="1798920" cy="1668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4400" y="4483080"/>
            <a:ext cx="653760" cy="53028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9360" y="4600440"/>
            <a:ext cx="762120" cy="59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6280" y="4290840"/>
            <a:ext cx="95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8800" y="5008680"/>
            <a:ext cx="1133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7200" y="3924360"/>
            <a:ext cx="1206360" cy="1674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62800" y="55767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27440" y="3564000"/>
            <a:ext cx="4275360" cy="25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16000" y="4554360"/>
            <a:ext cx="1035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16000" y="5005440"/>
            <a:ext cx="1035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92200" y="428472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2200" y="507204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응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4240080"/>
            <a:ext cx="19000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Servlet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1720" y="4603680"/>
            <a:ext cx="189072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32440" y="4554360"/>
            <a:ext cx="765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0280" y="4194000"/>
            <a:ext cx="1441440" cy="362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jspServi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81720" y="4554360"/>
            <a:ext cx="1441440" cy="992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내장 객체 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32440" y="4554360"/>
            <a:ext cx="449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2440" y="5005440"/>
            <a:ext cx="3105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2 reques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에서 서버로 보내는 요청에 대한 정보를 담고 있는 객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ervletReque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인터페이스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소드의 인자로 전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내장 객체의 기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웹 브라우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정보 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버의 정보 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로부터 쿼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query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로 전달된 파라미터 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요청 메시지의 헤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ader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쿠키 및 속성 처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27000" y="5049720"/>
            <a:ext cx="3465720" cy="40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4127400"/>
            <a:ext cx="2924280" cy="40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3676680"/>
            <a:ext cx="3554640" cy="40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0760" y="2617920"/>
            <a:ext cx="809640" cy="36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6120" y="2617920"/>
            <a:ext cx="495360" cy="36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42200" y="2617920"/>
            <a:ext cx="1168200" cy="36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01120" y="2617920"/>
            <a:ext cx="1304640" cy="36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7000" y="1403280"/>
            <a:ext cx="2700360" cy="40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7000" y="1854360"/>
            <a:ext cx="2521080" cy="40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7000" y="2303640"/>
            <a:ext cx="2881440" cy="40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2765520"/>
            <a:ext cx="2206800" cy="40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클라이언트와 서버 정보 출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1640" y="1088640"/>
            <a:ext cx="8372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클라이언트와 서버 정보 출력을 위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객체의 메소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ServerN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서버의 도메인 이름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t getServerPo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서버의 포트 번호를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RequestURI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요청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에서 경로를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QueryString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쿼리 문장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RemoteAdd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클라이언트의 주소를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Protocol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클라이언트가 요청한 프로토콜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Metho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요청 방식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GET, POST)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CharacterEncoding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요청 메시지의 인코딩 형식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long getContentLength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요청 메시지 중 데이터의 길이를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getContentTyp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요청 메시지의 콘텐츠 타입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Contents Type)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을 반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5760" y="2482920"/>
            <a:ext cx="4746960" cy="631800"/>
          </a:xfrm>
          <a:prstGeom prst="rect">
            <a:avLst/>
          </a:prstGeom>
          <a:noFill/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tp://localhost:8080/clientInfo.jsp?name=ja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3"/>
            <a:endCxn id="176" idx="0"/>
          </p:cNvCxnSpPr>
          <p:nvPr/>
        </p:nvCxnSpPr>
        <p:spPr>
          <a:xfrm>
            <a:off x="3627000" y="1606320"/>
            <a:ext cx="1778760" cy="101196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88" name=""/>
          <p:cNvCxnSpPr>
            <a:stCxn id="181" idx="3"/>
            <a:endCxn id="177" idx="0"/>
          </p:cNvCxnSpPr>
          <p:nvPr/>
        </p:nvCxnSpPr>
        <p:spPr>
          <a:xfrm>
            <a:off x="3447720" y="2057040"/>
            <a:ext cx="2656440" cy="56124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89" name=""/>
          <p:cNvCxnSpPr>
            <a:stCxn id="182" idx="3"/>
            <a:endCxn id="178" idx="2"/>
          </p:cNvCxnSpPr>
          <p:nvPr/>
        </p:nvCxnSpPr>
        <p:spPr>
          <a:xfrm>
            <a:off x="3808440" y="2506680"/>
            <a:ext cx="3218400" cy="473760"/>
          </a:xfrm>
          <a:prstGeom prst="bentConnector4">
            <a:avLst>
              <a:gd name="adj1" fmla="val 9967"/>
              <a:gd name="adj2" fmla="val 16038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90" name=""/>
          <p:cNvCxnSpPr>
            <a:stCxn id="183" idx="3"/>
            <a:endCxn id="179" idx="2"/>
          </p:cNvCxnSpPr>
          <p:nvPr/>
        </p:nvCxnSpPr>
        <p:spPr>
          <a:xfrm>
            <a:off x="3133440" y="2968200"/>
            <a:ext cx="5220360" cy="11880"/>
          </a:xfrm>
          <a:prstGeom prst="bentConnector4">
            <a:avLst>
              <a:gd name="adj1" fmla="val 10882"/>
              <a:gd name="adj2" fmla="val 45125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91" name=""/>
          <p:cNvCxnSpPr>
            <a:stCxn id="175" idx="3"/>
            <a:endCxn id="192" idx="0"/>
          </p:cNvCxnSpPr>
          <p:nvPr/>
        </p:nvCxnSpPr>
        <p:spPr>
          <a:xfrm>
            <a:off x="4481640" y="3879360"/>
            <a:ext cx="3085200" cy="47556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93" name=""/>
          <p:cNvCxnSpPr>
            <a:stCxn id="174" idx="3"/>
            <a:endCxn id="194" idx="1"/>
          </p:cNvCxnSpPr>
          <p:nvPr/>
        </p:nvCxnSpPr>
        <p:spPr>
          <a:xfrm>
            <a:off x="3851280" y="4330800"/>
            <a:ext cx="837360" cy="178200"/>
          </a:xfrm>
          <a:prstGeom prst="bentConnector3">
            <a:avLst>
              <a:gd name="adj1" fmla="val 5101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grpSp>
        <p:nvGrpSpPr>
          <p:cNvPr id="195" name=""/>
          <p:cNvGrpSpPr/>
          <p:nvPr/>
        </p:nvGrpSpPr>
        <p:grpSpPr>
          <a:xfrm>
            <a:off x="4768920" y="4419720"/>
            <a:ext cx="4303800" cy="1161720"/>
            <a:chOff x="4768920" y="4419720"/>
            <a:chExt cx="4303800" cy="11617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rcRect l="0" t="0" r="0" b="78551"/>
            <a:stretch/>
          </p:blipFill>
          <p:spPr>
            <a:xfrm>
              <a:off x="4768920" y="4419720"/>
              <a:ext cx="4303800" cy="58320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rcRect l="0" t="78723" r="0" b="0"/>
            <a:stretch/>
          </p:blipFill>
          <p:spPr>
            <a:xfrm>
              <a:off x="4768920" y="5002920"/>
              <a:ext cx="4303800" cy="5785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sp>
        <p:nvSpPr>
          <p:cNvPr id="192" name=""/>
          <p:cNvSpPr/>
          <p:nvPr/>
        </p:nvSpPr>
        <p:spPr>
          <a:xfrm>
            <a:off x="7227720" y="4373640"/>
            <a:ext cx="67500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7000" y="4373640"/>
            <a:ext cx="53964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07000" y="5364000"/>
            <a:ext cx="94464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73" idx="3"/>
            <a:endCxn id="198" idx="1"/>
          </p:cNvCxnSpPr>
          <p:nvPr/>
        </p:nvCxnSpPr>
        <p:spPr>
          <a:xfrm>
            <a:off x="4392720" y="5252760"/>
            <a:ext cx="295560" cy="246600"/>
          </a:xfrm>
          <a:prstGeom prst="bentConnector3">
            <a:avLst>
              <a:gd name="adj1" fmla="val 33292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59Z</dcterms:modified>
  <cp:revision>8401</cp:revision>
  <dc:subject/>
  <dc:title>프로그래밍 언어</dc:title>
</cp:coreProperties>
</file>