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583-5746-4E11-BE37-050EEA9B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E1C-DFD9-47AE-AEC4-AC9B539B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291-1AA8-4799-9CEA-B62B30E3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70A-8F57-4B34-845E-E92AF6B8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2CAA-99F0-4FB8-99F0-EECAA7C6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B72A-654C-408E-BC56-6B6450D3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84DD-C0A1-43A9-B3F8-95F3871C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D5C4-6DDA-455D-AF8E-82C91A33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17C1-0A3F-47D9-BF90-4707F9B4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41D8-D026-4FD1-88E9-9B8507AB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3B13-EEC2-4460-9CD2-089A1488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C24-EDA7-47F8-B777-2652FD27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F7DF-9A33-4AEE-AB0D-2A10B61C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AC7E-2F93-4515-82A4-927A8278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8A11-99F8-416D-B623-9803D0A8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E2E4-CCF0-4C89-BF43-1B1F6BB1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719A-8823-4099-8E01-65082386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1C4-16AF-4139-AF4E-1333B4BC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C4F-B471-4E87-9361-EF9041D5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DC4-AA26-4C2B-9C79-D224CE9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66A-24A7-46BC-B279-62CC9166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561-3F3F-4E8B-9CEB-639CB378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C46-BD40-43BC-A8D3-9BC2E46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B28-64D9-4320-B732-108EF5BD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38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F4EB-AF14-47AB-8A27-9489C2AFDB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907920"/>
            <a:ext cx="9131400" cy="0"/>
          </a:xfrm>
          <a:prstGeom prst="line">
            <a:avLst/>
          </a:prstGeom>
          <a:ln w="117360">
            <a:solidFill>
              <a:srgbClr val="a8a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360" y="609480"/>
            <a:ext cx="8801280" cy="5639040"/>
          </a:xfrm>
          <a:prstGeom prst="rect">
            <a:avLst/>
          </a:prstGeom>
          <a:solidFill>
            <a:srgbClr val="ffead5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760320"/>
            <a:ext cx="8464320" cy="53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26828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52900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86440" y="608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3DD4-DE0E-4EA9-BA47-CCBFFE4935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58080" y="5184720"/>
            <a:ext cx="188892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2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태그 라이브러리 서술파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태그 라이브러리 서술파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Tag Library Descriptor, TL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문서 형태로 작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커스텀 태그의 이름과 태그의 기능이 구현된 태그 핸들러를 연결하는 역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LD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의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D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일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tag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태그를 이용해서 하나의 커스텀 태그를 정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LD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의 저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어디에 저장해도 상관없지만 일반적으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렉터리 하위에 저장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17560" y="4624560"/>
            <a:ext cx="3124440" cy="1684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097000" y="5634000"/>
            <a:ext cx="63036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97360" y="5164200"/>
            <a:ext cx="895320" cy="1071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146640" y="4514400"/>
            <a:ext cx="2027520" cy="860400"/>
          </a:xfrm>
          <a:prstGeom prst="cloudCallout">
            <a:avLst>
              <a:gd name="adj1" fmla="val -69416"/>
              <a:gd name="adj2" fmla="val 8077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필자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/WEB-INF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하위에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lds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라는 폴더를 만들어서 그곳에 저장하였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67360" y="728640"/>
            <a:ext cx="2276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56280" y="54000"/>
            <a:ext cx="2116440" cy="180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43760" y="412920"/>
            <a:ext cx="19368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 핸들러 클래스 작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45200" y="773280"/>
            <a:ext cx="1936800" cy="269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LD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45200" y="1133640"/>
            <a:ext cx="19368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 라이브러리 등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45200" y="1494000"/>
            <a:ext cx="19368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커스텀 태그 사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66040" y="120600"/>
            <a:ext cx="989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커스텀 태그 구현 절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2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태그 라이브러리의 정보 설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65721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태그 라이브러리 사용을 위한 정보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파일의 루트 엘리먼트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web-app&gt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엘리먼트 하위에 추가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1640" y="2260440"/>
            <a:ext cx="6885000" cy="2203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web-ap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agli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aglib-uri&gt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태그 라이브러리 구분을 위한 식별자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taglib-uri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aglib-location&gt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TLD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일의 위치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taglib-loc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tagli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web-ap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67360" y="728640"/>
            <a:ext cx="2276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56280" y="54000"/>
            <a:ext cx="2116440" cy="180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43760" y="412920"/>
            <a:ext cx="19368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 핸들러 클래스 작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45200" y="773280"/>
            <a:ext cx="19368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LD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45200" y="1133640"/>
            <a:ext cx="1936800" cy="269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태그 라이브러리 등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45200" y="1494000"/>
            <a:ext cx="19368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커스텀 태그 사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66040" y="120600"/>
            <a:ext cx="989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커스텀 태그 구현 절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1640" y="4597560"/>
            <a:ext cx="6885000" cy="21175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web-ap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agli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aglib-uri&gt;http://localhost/hellota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taglib-uri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aglib-location&gt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WEB-INF/tlds/HelloTag.t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taglib-loc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tagli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web-ap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576840" y="3473280"/>
            <a:ext cx="2451240" cy="2032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711840" y="4103640"/>
            <a:ext cx="855720" cy="405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8" idx="2"/>
            <a:endCxn id="224" idx="3"/>
          </p:cNvCxnSpPr>
          <p:nvPr/>
        </p:nvCxnSpPr>
        <p:spPr>
          <a:xfrm rot="5400000">
            <a:off x="7562880" y="4955040"/>
            <a:ext cx="454680" cy="94860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746840" y="4689360"/>
            <a:ext cx="1035360" cy="493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3"/>
            <a:endCxn id="228" idx="0"/>
          </p:cNvCxnSpPr>
          <p:nvPr/>
        </p:nvCxnSpPr>
        <p:spPr>
          <a:xfrm>
            <a:off x="7586280" y="4306680"/>
            <a:ext cx="678600" cy="3639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2.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커스텀 태그의 사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커스텀 태그의 지시문 선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커스텀 태그의 사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1719360"/>
            <a:ext cx="5895720" cy="85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@taglib     uri="http://localhost/hellotag"     prefix="novel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41640" y="2147760"/>
            <a:ext cx="252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32720" y="2236680"/>
            <a:ext cx="20512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에 정의된 태그 라이브러리 식별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8360" y="2147760"/>
            <a:ext cx="130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74280" y="2236680"/>
            <a:ext cx="11721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커스텀 태그의 접두어 정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3922560"/>
            <a:ext cx="6796080" cy="85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         :         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0200" y="4029120"/>
            <a:ext cx="50004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39880" y="4037040"/>
            <a:ext cx="45432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8" idx="0"/>
          </p:cNvCxnSpPr>
          <p:nvPr/>
        </p:nvCxnSpPr>
        <p:spPr>
          <a:xfrm rot="5400000">
            <a:off x="3257640" y="1526040"/>
            <a:ext cx="1545480" cy="3461400"/>
          </a:xfrm>
          <a:prstGeom prst="curvedConnector5">
            <a:avLst>
              <a:gd name="adj1" fmla="val 80964"/>
              <a:gd name="adj2" fmla="val 50000"/>
              <a:gd name="adj3" fmla="val 80964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2635200" y="4373640"/>
            <a:ext cx="45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32960" y="4486320"/>
            <a:ext cx="12297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LD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에 정의된 태그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5200" y="405936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2" idx="1"/>
            <a:endCxn id="243" idx="2"/>
          </p:cNvCxnSpPr>
          <p:nvPr/>
        </p:nvCxnSpPr>
        <p:spPr>
          <a:xfrm rot="10800000">
            <a:off x="2867760" y="4384080"/>
            <a:ext cx="342000" cy="22608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21640" y="4373640"/>
            <a:ext cx="1979640" cy="1714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222720" y="5138640"/>
            <a:ext cx="933480" cy="1071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437000" y="5069520"/>
            <a:ext cx="747720" cy="383040"/>
          </a:xfrm>
          <a:prstGeom prst="cloudCallout">
            <a:avLst>
              <a:gd name="adj1" fmla="val -86282"/>
              <a:gd name="adj2" fmla="val 9318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7360" y="728640"/>
            <a:ext cx="2276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6280" y="54000"/>
            <a:ext cx="2116440" cy="180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43760" y="412920"/>
            <a:ext cx="19368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 핸들러 클래스 작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45200" y="773280"/>
            <a:ext cx="19368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LD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45200" y="1133640"/>
            <a:ext cx="19368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 라이브러리 등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45200" y="1494000"/>
            <a:ext cx="1936800" cy="269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커스텀 태그 사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6040" y="120600"/>
            <a:ext cx="989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커스텀 태그 구현 절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3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다양한 형태의 커스텀 태그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3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어트리뷰트를 갖는 커스텀 태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태그 핸들러 클래스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어트리뷰트 이름으로 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tter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소드를 작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LD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커스텀 태그를 정의하는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tag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엘리먼트 하위에 어트리뷰트를 선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1766880"/>
            <a:ext cx="5986440" cy="4032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novel:welcome     name="Grace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2214720"/>
            <a:ext cx="5986440" cy="1663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WelcomeTag extends TagSuppor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rivate String name = "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setName(String nam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name = 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037360" y="998640"/>
            <a:ext cx="636840" cy="1079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642000" y="2651760"/>
            <a:ext cx="2320920" cy="1099440"/>
          </a:xfrm>
          <a:prstGeom prst="cloudCallout">
            <a:avLst>
              <a:gd name="adj1" fmla="val 3208"/>
              <a:gd name="adj2" fmla="val -16597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커스텀 태그의 어트리뷰트 이름에 맞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etter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를 작성함으로써 어트리뷰트를 갖는 커스텀 태그를 지원할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4645080"/>
            <a:ext cx="5986440" cy="2114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tag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attribu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name&gt; name 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required&gt; true &lt;/require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type&gt; java.lang.String &lt;/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attribu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tag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00000" y="5432400"/>
            <a:ext cx="8186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어트리뷰트의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18680" y="5724360"/>
            <a:ext cx="10411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어트리뷰트의 사용 여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65360" y="6018120"/>
            <a:ext cx="11325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어트리뷰트의 데이터 타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812000" y="5724360"/>
            <a:ext cx="1032120" cy="836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967360" y="4784400"/>
            <a:ext cx="1781280" cy="860760"/>
          </a:xfrm>
          <a:prstGeom prst="cloudCallout">
            <a:avLst>
              <a:gd name="adj1" fmla="val 62648"/>
              <a:gd name="adj2" fmla="val 6793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type&gt;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엘리먼트를 생략할 경우 기본 값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3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어트리뷰트를 갖는 커스텀 태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태그 라이브러리의 정보 설정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web.x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커스텀 태그의 사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커스텀 태그의 지시문 선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커스텀 태그의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4059360"/>
            <a:ext cx="6796080" cy="85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@taglib     uri="http://localhost/welcometag"     prefix="novel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41640" y="448776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64280" y="4576680"/>
            <a:ext cx="20512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에 정의된 태그 라이브러리 식별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02360" y="4487760"/>
            <a:ext cx="1304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97920" y="4576680"/>
            <a:ext cx="11721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커스텀 태그의 접두어 정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5452920"/>
            <a:ext cx="6796080" cy="85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novel:welcome                                                                 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20920" y="5904000"/>
            <a:ext cx="1395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30360" y="6016680"/>
            <a:ext cx="11325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커스텀 태그의 어트리뷰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20920" y="5545080"/>
            <a:ext cx="14068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="Grac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19240" y="5545080"/>
            <a:ext cx="17254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="Americ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832360" y="3068640"/>
            <a:ext cx="606600" cy="934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973080" y="1582560"/>
            <a:ext cx="6885000" cy="139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tagli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taglib-uri&gt;http://localhost/welcometag&lt;/taglib-uri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taglib-location&gt;/WEB-INF/tlds/WelcomeTag.tld&lt;/taglib-loc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tagli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845400" y="4981680"/>
            <a:ext cx="2227320" cy="16873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867360" y="3643200"/>
            <a:ext cx="2225880" cy="860760"/>
          </a:xfrm>
          <a:prstGeom prst="cloudCallout">
            <a:avLst>
              <a:gd name="adj1" fmla="val -74449"/>
              <a:gd name="adj2" fmla="val -9606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커스텀 태그의 어트리뷰트를 만나면 태그 핸들러 클래스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etter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가 호출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3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용을 갖는 커스텀 태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태그 핸들러 클래스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doStartTag()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소드의 리턴 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KIP_BODY :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커스텀 태그의 내용을 무시하고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doEndTag()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메소드를 호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VAL_BODY_INCLUDE :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커스텀 태그의 내용을 포함하여 처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doEndTag()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소드의 리턴 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VAL_PAGE :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종료 태그 이후의 나머지 코드를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커스텀 태그의 사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 flipH="1">
            <a:off x="8358120" y="1133640"/>
            <a:ext cx="579600" cy="9349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971640" y="3379680"/>
            <a:ext cx="6796080" cy="9939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ovel:fontMagic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기본 값 글자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novel:fontMagi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ovel:fontMagic color="blue" size="5"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파란색 글자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&lt;/novel:fontMagi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ovel:fontMagic color="red" size="7"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빨강색 글자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&lt;/novel:fontMagi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78640" y="2579040"/>
            <a:ext cx="3349440" cy="860400"/>
          </a:xfrm>
          <a:prstGeom prst="cloudCallout">
            <a:avLst>
              <a:gd name="adj1" fmla="val 26300"/>
              <a:gd name="adj2" fmla="val -12649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doStartTag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의 리턴 값을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EVAL_BODY_INCLUDE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로 지정하면 커스텀 태그의 내용을 포함하여 처리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84480" y="3440160"/>
            <a:ext cx="408420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ovel:fontMagic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기본 값 글자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novel:fontMagi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281640" y="4599000"/>
            <a:ext cx="2659320" cy="21178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3941640" y="4284720"/>
            <a:ext cx="579600" cy="906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56320" y="4486320"/>
            <a:ext cx="3559320" cy="230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ta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ame&gt;fontMagic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tag-class&gt;customtags.FontMagicTag&lt;/tag-clas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attribu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ame&gt;col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&lt;required&gt;false&lt;/require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/attribu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attribu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ame&gt;size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&lt;required&gt;false&lt;/require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/attribu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/ta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6280" y="5458680"/>
            <a:ext cx="2540160" cy="1099440"/>
          </a:xfrm>
          <a:prstGeom prst="cloudCallout">
            <a:avLst>
              <a:gd name="adj1" fmla="val -16388"/>
              <a:gd name="adj2" fmla="val -12734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LD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에서 어트리뷰트 정의 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required&gt;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의 값을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로 선언했기 때문에 어트리뷰트를 사용하지 않아도 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4" idx="1"/>
            <a:endCxn id="297" idx="0"/>
          </p:cNvCxnSpPr>
          <p:nvPr/>
        </p:nvCxnSpPr>
        <p:spPr>
          <a:xfrm flipH="1" flipV="1" rot="10800000">
            <a:off x="1127520" y="3589920"/>
            <a:ext cx="909000" cy="896040"/>
          </a:xfrm>
          <a:prstGeom prst="curvedConnector5">
            <a:avLst>
              <a:gd name="adj1" fmla="val -95087"/>
              <a:gd name="adj2" fmla="val 38183"/>
              <a:gd name="adj3" fmla="val -95087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3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용을 반복하는 커스텀 태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5560" y="1089000"/>
            <a:ext cx="837252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태그 핸들러 클래스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doAfterBody()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소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커스텀 태그의 내용을 처리한 후 호출되는 메소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doAfterBody()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소드의 리턴 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VAL_BODY_A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다시 커스텀 태그의 내용을 처리하기 위한 상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280" y="3159000"/>
            <a:ext cx="5986800" cy="32832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RepeatTag extends TagSuppor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 doStartTag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EVAL_BODY_INCLU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  doAfterBody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반복 조건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 EVAL_BODY_AGAIN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SKIP_BOD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65280" y="4944960"/>
            <a:ext cx="201816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AL_BODY_A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60960" y="4371840"/>
            <a:ext cx="125460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doAfterBod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0000" y="5577840"/>
            <a:ext cx="1331640" cy="860400"/>
          </a:xfrm>
          <a:prstGeom prst="cloudCallout">
            <a:avLst>
              <a:gd name="adj1" fmla="val 43268"/>
              <a:gd name="adj2" fmla="val -15472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태그의 내용이 처리된 후 호출되는 메소드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08800" y="2259000"/>
            <a:ext cx="3419280" cy="11746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novel:repeatBody repeat="5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반복되는 커스텀 태그 작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novel:repeat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776080" y="2668680"/>
            <a:ext cx="105480" cy="326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21800" y="2619360"/>
            <a:ext cx="105480" cy="326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09" idx="2"/>
            <a:endCxn id="304" idx="3"/>
          </p:cNvCxnSpPr>
          <p:nvPr/>
        </p:nvCxnSpPr>
        <p:spPr>
          <a:xfrm rot="5400000">
            <a:off x="6568200" y="2540160"/>
            <a:ext cx="1750320" cy="277200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372360" y="3565440"/>
            <a:ext cx="21160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커스텀 태그의 내용이 처리된 후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doAfterBody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 호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05" idx="3"/>
            <a:endCxn id="310" idx="1"/>
          </p:cNvCxnSpPr>
          <p:nvPr/>
        </p:nvCxnSpPr>
        <p:spPr>
          <a:xfrm flipV="1">
            <a:off x="4481280" y="2801520"/>
            <a:ext cx="1603800" cy="2294640"/>
          </a:xfrm>
          <a:prstGeom prst="curvedConnector5">
            <a:avLst>
              <a:gd name="adj1" fmla="val 50493"/>
              <a:gd name="adj2" fmla="val 49992"/>
              <a:gd name="adj3" fmla="val 50493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3537000" y="4599000"/>
            <a:ext cx="12142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용을 다시 처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13080" y="5500800"/>
            <a:ext cx="116820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82360" y="5859360"/>
            <a:ext cx="6753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용 처리 종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6840" y="4734000"/>
            <a:ext cx="2270160" cy="20257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257720" y="5006880"/>
            <a:ext cx="2744640" cy="1723680"/>
          </a:xfrm>
          <a:prstGeom prst="cloudCallout">
            <a:avLst>
              <a:gd name="adj1" fmla="val -65379"/>
              <a:gd name="adj2" fmla="val -3315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EVAL_BODY_AGAIN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은 커스텀 태그의 내용을 다시 처리하라는 의미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따라서 커스텀 태그의 내용이 처리된 후 다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doAfterBody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가 호출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3.5 BodyTagSuppor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BodyTagSuppor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agSuppor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래스를 상속받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odyTag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터페이스를 구현한 클래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커스텀 태그의 내용을 수정해서 출력해야 할 경우에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내용을 처리하기 위한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BodyTagSuppor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클래스의 메소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getBodyContent(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소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odyContent getBodyContent(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커스텀 태그의 내용을 리턴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BodyConten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spWrit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상속 받은 클래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커스텀 태그의 내용을 처리할 수 있는 다양한 형태의 메소드를 제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3.6 BodyTagSuppor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클래스의 활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5560" y="1088640"/>
            <a:ext cx="837252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dyTagSuppor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클래스를 상속받은 클래스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StartTag(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메소드의 리턴 값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_BODY_BUFF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커스텀 태그의 내용을 담은 버퍼를 생성한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내용을 처리하기 위한 이벤트 메소드 구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AfterBody(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ndTag(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를 이용해서 구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5920" y="1494000"/>
            <a:ext cx="5130720" cy="76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UseContentsTag extends BodyTagSuppor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5920" y="3203640"/>
            <a:ext cx="4321080" cy="103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 doStartTag() throws Jsp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EVAL_BODY_BUFFE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5920" y="5049720"/>
            <a:ext cx="5716440" cy="166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 doEndTag() throws JspException {   // doAfterBod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dyContent body = getBodyCont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content = body.getStrin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 flipH="1" rot="493200">
            <a:off x="7767000" y="1088640"/>
            <a:ext cx="988920" cy="885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742000" y="2128320"/>
            <a:ext cx="2270160" cy="1099440"/>
          </a:xfrm>
          <a:prstGeom prst="cloudCallout">
            <a:avLst>
              <a:gd name="adj1" fmla="val 42291"/>
              <a:gd name="adj2" fmla="val -12200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TagSuppor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래스는 커스텀 태그의 내용을 가져와서 수정을 가한 후 출력하고자 할 경우 이용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18440" y="3659040"/>
            <a:ext cx="2474640" cy="11653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novel:edit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234567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novel:edit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62720" y="4059360"/>
            <a:ext cx="990720" cy="326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662880" y="5097600"/>
            <a:ext cx="2004840" cy="1662120"/>
          </a:xfrm>
          <a:prstGeom prst="rect">
            <a:avLst/>
          </a:prstGeom>
          <a:ln w="0">
            <a:noFill/>
          </a:ln>
        </p:spPr>
      </p:pic>
      <p:cxnSp>
        <p:nvCxnSpPr>
          <p:cNvPr id="333" name=""/>
          <p:cNvCxnSpPr>
            <a:stCxn id="331" idx="1"/>
            <a:endCxn id="334" idx="3"/>
          </p:cNvCxnSpPr>
          <p:nvPr/>
        </p:nvCxnSpPr>
        <p:spPr>
          <a:xfrm flipV="1" rot="10800000">
            <a:off x="4141080" y="4240800"/>
            <a:ext cx="3202560" cy="1647000"/>
          </a:xfrm>
          <a:prstGeom prst="curvedConnector5">
            <a:avLst>
              <a:gd name="adj1" fmla="val 32861"/>
              <a:gd name="adj2" fmla="val 50000"/>
              <a:gd name="adj3" fmla="val 32861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1297080" y="5718240"/>
            <a:ext cx="2802960" cy="30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content = body.getStrin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7" idx="3"/>
            <a:endCxn id="332" idx="1"/>
          </p:cNvCxnSpPr>
          <p:nvPr/>
        </p:nvCxnSpPr>
        <p:spPr>
          <a:xfrm>
            <a:off x="6102000" y="5881680"/>
            <a:ext cx="561240" cy="48240"/>
          </a:xfrm>
          <a:prstGeom prst="curvedConnector5">
            <a:avLst>
              <a:gd name="adj1" fmla="val 49807"/>
              <a:gd name="adj2" fmla="val 49624"/>
              <a:gd name="adj3" fmla="val 49807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1280" y="414360"/>
            <a:ext cx="8912160" cy="5851440"/>
            <a:chOff x="71280" y="414360"/>
            <a:chExt cx="8912160" cy="5851440"/>
          </a:xfrm>
        </p:grpSpPr>
        <p:grpSp>
          <p:nvGrpSpPr>
            <p:cNvPr id="97" name=""/>
            <p:cNvGrpSpPr/>
            <p:nvPr/>
          </p:nvGrpSpPr>
          <p:grpSpPr>
            <a:xfrm>
              <a:off x="71280" y="414360"/>
              <a:ext cx="8912160" cy="5851440"/>
              <a:chOff x="71280" y="414360"/>
              <a:chExt cx="8912160" cy="5851440"/>
            </a:xfrm>
          </p:grpSpPr>
          <p:sp>
            <p:nvSpPr>
              <p:cNvPr id="98" name=""/>
              <p:cNvSpPr/>
              <p:nvPr/>
            </p:nvSpPr>
            <p:spPr>
              <a:xfrm>
                <a:off x="71280" y="414360"/>
                <a:ext cx="8912160" cy="5851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6280" y="639720"/>
                <a:ext cx="8642160" cy="540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295360" y="5308560"/>
              <a:ext cx="457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이 명 진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,  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최 영 관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6699ff"/>
                  </a:solidFill>
                  <a:latin typeface="Times New Roman"/>
                  <a:ea typeface="바탕"/>
                </a:rPr>
                <a:t>Powered by http://www.jabook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5000" y="3286080"/>
              <a:ext cx="182700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66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2</a:t>
              </a:r>
              <a:r>
                <a:rPr b="0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nd</a:t>
              </a: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E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8120" y="3338640"/>
              <a:ext cx="47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소설같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4480" y="360360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J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808520" y="3398760"/>
              <a:ext cx="180720" cy="164880"/>
              <a:chOff x="4808520" y="3398760"/>
              <a:chExt cx="180720" cy="16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4808520" y="3398760"/>
                <a:ext cx="10404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33000" y="346572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85560" y="342216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049640" y="4778280"/>
              <a:ext cx="10350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957240" y="1449360"/>
              <a:ext cx="509760" cy="7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ko-KR" sz="4200" spc="-1" strike="noStrike">
                <a:solidFill>
                  <a:srgbClr val="000000"/>
                </a:solidFill>
                <a:latin typeface="Times New Roman"/>
              </a:rPr>
              <a:t>장 부록 </a:t>
            </a:r>
            <a:r>
              <a:rPr b="1" lang="ko-KR" sz="4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4200" spc="-1" strike="noStrike">
                <a:solidFill>
                  <a:srgbClr val="000000"/>
                </a:solidFill>
                <a:latin typeface="Times New Roman"/>
              </a:rPr>
              <a:t>커스텀 태그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102360" y="5184720"/>
            <a:ext cx="274464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1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커스텀 태그 소개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커스텀 태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커스텀 태그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Custom Tag)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란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용자가 직접 정의해서 사용하는 태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태그 라이브러리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Tag Library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용자가 정의한 커스텀 태그들을 모아 라이브러리 형태로 만든 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커스텀 태그의 장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번 작성한 커스텀 태그는 어디서든 사용 가능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 내에 스크립트 코드를 줄임으로써 가독력을 높일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태그 라이브러리를 잘 정의함으로써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모르는 디자이너도 쉽게 동적인 페이지를 만들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082000" y="1584360"/>
            <a:ext cx="636480" cy="1079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832360" y="1183680"/>
            <a:ext cx="1781280" cy="860400"/>
          </a:xfrm>
          <a:prstGeom prst="cloudCallout">
            <a:avLst>
              <a:gd name="adj1" fmla="val 73337"/>
              <a:gd name="adj2" fmla="val 7212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차원에서 지원하는 커스텀 태그가 바로 액션 태그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200" y="3789360"/>
            <a:ext cx="8381880" cy="297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1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태그 라이브러리의 구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태그 핸들러 클래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ag Handler Clas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커스텀 태그의 기능을 정의한 클래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태그 라이브러리 서술파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ag Library Descriptor, TL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표준을 따르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형식의 문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커스텀 태그를 정의하고 태그 핸들러 클래스와 연결하여 처리를 실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태그를 사용하는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파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사용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L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를 정의하고 커스텀 태그를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77000" y="5018040"/>
            <a:ext cx="663480" cy="72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28560" y="5694480"/>
            <a:ext cx="504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5640" y="6175440"/>
            <a:ext cx="1868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 Handler Cl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41960" y="4524480"/>
            <a:ext cx="2886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LD(Tag Library Descripto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5" idx="2"/>
            <a:endCxn id="127" idx="0"/>
          </p:cNvCxnSpPr>
          <p:nvPr/>
        </p:nvCxnSpPr>
        <p:spPr>
          <a:xfrm>
            <a:off x="3986280" y="4849920"/>
            <a:ext cx="2160" cy="784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4" idx="1"/>
            <a:endCxn id="125" idx="1"/>
          </p:cNvCxnSpPr>
          <p:nvPr/>
        </p:nvCxnSpPr>
        <p:spPr>
          <a:xfrm rot="10800000">
            <a:off x="2545560" y="4687200"/>
            <a:ext cx="553320" cy="1651680"/>
          </a:xfrm>
          <a:prstGeom prst="bentConnector3">
            <a:avLst>
              <a:gd name="adj1" fmla="val 2490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4" idx="3"/>
            <a:endCxn id="123" idx="2"/>
          </p:cNvCxnSpPr>
          <p:nvPr/>
        </p:nvCxnSpPr>
        <p:spPr>
          <a:xfrm flipV="1">
            <a:off x="4960440" y="6019560"/>
            <a:ext cx="1321200" cy="319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2" idx="0"/>
            <a:endCxn id="125" idx="3"/>
          </p:cNvCxnSpPr>
          <p:nvPr/>
        </p:nvCxnSpPr>
        <p:spPr>
          <a:xfrm flipV="1" rot="16200000">
            <a:off x="5650920" y="4460040"/>
            <a:ext cx="330840" cy="784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98680" y="6432480"/>
            <a:ext cx="10807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 핸들러 클래스 작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639936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39360" y="4444920"/>
            <a:ext cx="6933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에 등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0920" y="4398840"/>
            <a:ext cx="298440" cy="3034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33160" y="4597560"/>
            <a:ext cx="1322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 라이브러리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및 커스텀 태그 사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81640" y="466884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2800" y="4959360"/>
            <a:ext cx="1037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접두어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으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해당 클래스 호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0560" y="5030640"/>
            <a:ext cx="298440" cy="3034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90160" y="6432480"/>
            <a:ext cx="12513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해당 태그 처리 및 결과 반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43600" y="639936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27360" y="3878280"/>
            <a:ext cx="630360" cy="63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559320" y="5634000"/>
            <a:ext cx="85536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2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간단한 커스텀 태그의 구현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67360" y="728640"/>
            <a:ext cx="2276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6200" y="2843280"/>
            <a:ext cx="8381880" cy="346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vert="eaVert" rot="10800000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태그 핸들러 클래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태그 핸들러 클래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ag Handler Clas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커스텀 태그의 동작을 정의한 클래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태그 핸들러 클래스 구현을 위한 자바 클래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1640" y="3654360"/>
            <a:ext cx="5445360" cy="17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54520" y="2979720"/>
            <a:ext cx="2382840" cy="471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Tag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14880" y="3924360"/>
            <a:ext cx="2382480" cy="4716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1640" y="5408640"/>
            <a:ext cx="544536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3800" y="4778280"/>
            <a:ext cx="2382840" cy="4716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Suppor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14880" y="5657760"/>
            <a:ext cx="2382480" cy="4716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dyTag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2360" y="5657760"/>
            <a:ext cx="2382840" cy="4716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dyTagSuppor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3924360"/>
            <a:ext cx="2382840" cy="471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impleTag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92720" y="4778280"/>
            <a:ext cx="2382840" cy="471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impleTagSuppor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14880" y="4778280"/>
            <a:ext cx="2382480" cy="4716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terationTag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0" idx="2"/>
            <a:endCxn id="151" idx="0"/>
          </p:cNvCxnSpPr>
          <p:nvPr/>
        </p:nvCxnSpPr>
        <p:spPr>
          <a:xfrm rot="5400000">
            <a:off x="4989960" y="2967840"/>
            <a:ext cx="473760" cy="1440360"/>
          </a:xfrm>
          <a:prstGeom prst="bentConnector3">
            <a:avLst>
              <a:gd name="adj1" fmla="val 285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0" idx="2"/>
            <a:endCxn id="156" idx="0"/>
          </p:cNvCxnSpPr>
          <p:nvPr/>
        </p:nvCxnSpPr>
        <p:spPr>
          <a:xfrm flipH="1" rot="16200000">
            <a:off x="6428520" y="2968560"/>
            <a:ext cx="473760" cy="1438920"/>
          </a:xfrm>
          <a:prstGeom prst="bentConnector3">
            <a:avLst>
              <a:gd name="adj1" fmla="val 291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1" idx="2"/>
            <a:endCxn id="158" idx="0"/>
          </p:cNvCxnSpPr>
          <p:nvPr/>
        </p:nvCxnSpPr>
        <p:spPr>
          <a:xfrm flipV="1" rot="10800000">
            <a:off x="4506120" y="4395600"/>
            <a:ext cx="1080" cy="3830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6" idx="2"/>
            <a:endCxn id="157" idx="0"/>
          </p:cNvCxnSpPr>
          <p:nvPr/>
        </p:nvCxnSpPr>
        <p:spPr>
          <a:xfrm flipV="1" rot="10800000">
            <a:off x="7384320" y="4395600"/>
            <a:ext cx="1080" cy="3830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8" idx="2"/>
            <a:endCxn id="154" idx="0"/>
          </p:cNvCxnSpPr>
          <p:nvPr/>
        </p:nvCxnSpPr>
        <p:spPr>
          <a:xfrm flipV="1" rot="10800000">
            <a:off x="4506120" y="5249520"/>
            <a:ext cx="1080" cy="408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8" idx="1"/>
            <a:endCxn id="153" idx="3"/>
          </p:cNvCxnSpPr>
          <p:nvPr/>
        </p:nvCxnSpPr>
        <p:spPr>
          <a:xfrm rot="10800000">
            <a:off x="2905920" y="5014080"/>
            <a:ext cx="4089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4" idx="1"/>
            <a:endCxn id="155" idx="3"/>
          </p:cNvCxnSpPr>
          <p:nvPr/>
        </p:nvCxnSpPr>
        <p:spPr>
          <a:xfrm rot="10800000">
            <a:off x="2904480" y="5893560"/>
            <a:ext cx="41040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848400" y="3651120"/>
            <a:ext cx="59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9800" y="3651120"/>
            <a:ext cx="59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48400" y="4505400"/>
            <a:ext cx="59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8720" y="4505400"/>
            <a:ext cx="884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8400" y="5405400"/>
            <a:ext cx="59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7680" y="4508640"/>
            <a:ext cx="884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07680" y="5405400"/>
            <a:ext cx="884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6280" y="54000"/>
            <a:ext cx="2116440" cy="180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43760" y="412920"/>
            <a:ext cx="1936800" cy="269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태그 핸들러 클래스 작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45200" y="773280"/>
            <a:ext cx="19368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LD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45200" y="1133640"/>
            <a:ext cx="19368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 라이브러리 등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45200" y="1494000"/>
            <a:ext cx="19368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커스텀 태그 사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6040" y="120600"/>
            <a:ext cx="989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커스텀 태그 구현 절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86120" y="5769000"/>
            <a:ext cx="1132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용을 처리하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를 만들 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1"/>
            <a:endCxn id="152" idx="3"/>
          </p:cNvCxnSpPr>
          <p:nvPr/>
        </p:nvCxnSpPr>
        <p:spPr>
          <a:xfrm rot="10800000">
            <a:off x="5876280" y="5814360"/>
            <a:ext cx="416520" cy="170640"/>
          </a:xfrm>
          <a:prstGeom prst="curvedConnector5">
            <a:avLst>
              <a:gd name="adj1" fmla="val 50000"/>
              <a:gd name="adj2" fmla="val 49894"/>
              <a:gd name="adj3" fmla="val 500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1072800" y="3041640"/>
            <a:ext cx="13546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용을 처리하지 않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간단한 태그를 만들 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1" idx="3"/>
            <a:endCxn id="149" idx="0"/>
          </p:cNvCxnSpPr>
          <p:nvPr/>
        </p:nvCxnSpPr>
        <p:spPr>
          <a:xfrm>
            <a:off x="2681280" y="3257640"/>
            <a:ext cx="473760" cy="39744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2.2 Tag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인터페이스를 이용한 구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인터페이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커스텀 태그의 기능을 정의하기 위한 기본적인 프로토콜과 메소드를 제공하는 인터페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인터페이스를 이용한 구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인터페이스에 정의되어 있는 모든 메소드를 정의해서 구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3521160"/>
            <a:ext cx="5986440" cy="27432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HelloTagUseInterface implements Ta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 doStartTag() throws JspException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 doEndTag() throws JspException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release(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setPageContext(PageContext pg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setParent(Tag p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Tag getParent(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flipH="1">
            <a:off x="8442000" y="3384720"/>
            <a:ext cx="461880" cy="1295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551640" y="1949040"/>
            <a:ext cx="2251080" cy="1099080"/>
          </a:xfrm>
          <a:prstGeom prst="cloudCallout">
            <a:avLst>
              <a:gd name="adj1" fmla="val 44208"/>
              <a:gd name="adj2" fmla="val 7308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페이지에서 커스텀 태그를 만나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doStartTag(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doEndTag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가 자동으로 호출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92520" y="3911400"/>
            <a:ext cx="414396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 doStartTag() throws JspException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87480" y="4241520"/>
            <a:ext cx="408924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 doEndTag() throws JspException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15000" y="4100400"/>
            <a:ext cx="1648080" cy="456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시작 태그를 만났을 때 호출되는 메소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15000" y="4910040"/>
            <a:ext cx="1648080" cy="456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종료 태그를 만났을 때 호출되는 메소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0" idx="1"/>
            <a:endCxn id="188" idx="3"/>
          </p:cNvCxnSpPr>
          <p:nvPr/>
        </p:nvCxnSpPr>
        <p:spPr>
          <a:xfrm rot="10800000">
            <a:off x="6041160" y="4061520"/>
            <a:ext cx="573840" cy="266040"/>
          </a:xfrm>
          <a:prstGeom prst="curvedConnector5">
            <a:avLst>
              <a:gd name="adj1" fmla="val 50094"/>
              <a:gd name="adj2" fmla="val 50000"/>
              <a:gd name="adj3" fmla="val 50094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93" name=""/>
          <p:cNvCxnSpPr>
            <a:stCxn id="191" idx="1"/>
            <a:endCxn id="189" idx="3"/>
          </p:cNvCxnSpPr>
          <p:nvPr/>
        </p:nvCxnSpPr>
        <p:spPr>
          <a:xfrm rot="10800000">
            <a:off x="5979240" y="4392000"/>
            <a:ext cx="635760" cy="745200"/>
          </a:xfrm>
          <a:prstGeom prst="curvedConnector5">
            <a:avLst>
              <a:gd name="adj1" fmla="val 49971"/>
              <a:gd name="adj2" fmla="val 49975"/>
              <a:gd name="adj3" fmla="val 49971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2.3 TagSuppor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클래스를 이용한 구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agSuppor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터페이스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teratorTag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터페이스가 구현된 클래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커스텀 태그를 이용하는데 기본이 되는 클래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agSuppor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클래스를 이용한 구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필요한 메소드만 정의해서 사용하면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4103640"/>
            <a:ext cx="5986440" cy="157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HelloTag extends TagSuppor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 doStartTag() throws JspException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 doEndTag() throws JspException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172360" y="4643280"/>
            <a:ext cx="459000" cy="1254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327720" y="2602800"/>
            <a:ext cx="2563920" cy="1099440"/>
          </a:xfrm>
          <a:prstGeom prst="cloudCallout">
            <a:avLst>
              <a:gd name="adj1" fmla="val 22185"/>
              <a:gd name="adj2" fmla="val 13683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gSuppor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래스를 이용하면 필요한 메소드만 정의해서 구현하면 되기 때문에 인터페이스를 이용하는 것보다 편하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5:03:27Z</dcterms:created>
  <dc:creator>최영관</dc:creator>
  <dc:description/>
  <cp:keywords>프로그래밍 언어</cp:keywords>
  <dc:language>en-US</dc:language>
  <cp:lastModifiedBy>m</cp:lastModifiedBy>
  <cp:lastPrinted>1999-07-19T06:05:37Z</cp:lastPrinted>
  <dcterms:modified xsi:type="dcterms:W3CDTF">2008-04-11T02:02:38Z</dcterms:modified>
  <cp:revision>8401</cp:revision>
  <dc:subject/>
  <dc:title>프로그래밍 언어</dc:title>
</cp:coreProperties>
</file>