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9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44C-27C2-49D8-A984-6B289BC3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E20-6521-460C-ADAD-84147657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96F-7052-4687-8665-B31F26E5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7BAC-94CE-4188-82AA-9A189E22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7B31-FBA4-4195-9A3A-7DF7A74C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399E-1C6A-4176-BE9C-89D2D2EB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6D3A-B6A1-4DEC-AF07-03CF7DCF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55A9-7888-47DF-8267-21844103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A6CE-9D34-485B-AC76-FABEFBE1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979E-983F-4BCF-A099-38A111C0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1D51-42B3-4B2C-A91E-4A426686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99D3-C5C3-4ED2-9436-E3970EAB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CDC9-409B-49A0-AC23-7F96F54C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505A-CDEB-4C62-B363-541EAECA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826E-D5DC-4EFC-9389-70AA154E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D2E0-EC59-4126-8F26-A21AB88D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AE36-80EC-46B1-9A75-FE8B1248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F02-0C1B-4C42-8171-2B9878C9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45AA-F7D4-4644-A52F-958F0163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0C1-3EA6-48DD-9E17-60E4364A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D5E-330B-44D8-8DD3-4ED3DE6A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AC8-D54D-49C2-A099-C88AD781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43E-599E-483C-A31F-36D16471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F39-6E17-469E-BFCA-59B0322A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38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9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549A-828D-429D-B6EA-2A2CDAE9AB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600" y="907920"/>
            <a:ext cx="9131400" cy="0"/>
          </a:xfrm>
          <a:prstGeom prst="line">
            <a:avLst/>
          </a:prstGeom>
          <a:ln w="117360">
            <a:solidFill>
              <a:srgbClr val="a8a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1360" y="609480"/>
            <a:ext cx="8801280" cy="5639040"/>
          </a:xfrm>
          <a:prstGeom prst="rect">
            <a:avLst/>
          </a:prstGeom>
          <a:solidFill>
            <a:srgbClr val="ffead5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760320"/>
            <a:ext cx="8464320" cy="53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2560" y="126828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1120" y="252900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86440" y="608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1261-D0F2-43F9-8AAF-E8DCE2D35D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958080" y="5184720"/>
            <a:ext cx="188892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Tahoma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3.1 &lt;jsp:useBean&gt;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액션 태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jsp:useBean&gt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액션 태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자바빈즈 객체를 생성하기 위한 액션 태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jsp:useBean&gt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액션 태그의 사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jsp:useBean&gt;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액션 태그의 유효 범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pe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속성을 따로 선언하지 않을 경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pe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속성의 기본 값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page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이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현재 페이지 내에서만 자바빈즈 객체를 사용할 수 있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6280" y="2889360"/>
            <a:ext cx="8105760" cy="103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jsp:useBean     id = "acT "     class =  "actiontag.ActionTagTest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59120" y="3430440"/>
            <a:ext cx="1127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67360" y="3429000"/>
            <a:ext cx="3330360" cy="3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73920" y="3541680"/>
            <a:ext cx="11721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생성할 자바빈즈 객체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0720" y="3541680"/>
            <a:ext cx="180000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패키지 명을 포함한 자바빈즈 클래스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46280" y="3968640"/>
            <a:ext cx="5491080" cy="5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actiontag.ActionTagTest acT = new actiontag.ActionTagTes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32840" y="3924360"/>
            <a:ext cx="5551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3.2 &lt;jsp:setProperty&gt;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액션 태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&lt;jsp:setProperty&gt;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액션 태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바빈즈 객체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et~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멤버 메소드를 호출하여 멤버 변수에 값을 설정하는 태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&lt;jsp:setProperty&gt;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액션 태그의 사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바빈즈의 작성 규칙에 따라 자바빈즈를 작성하였다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etStr(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소드가 호출되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t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변수의 값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ello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저장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6280" y="3249720"/>
            <a:ext cx="8105760" cy="103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jsp:setProperty     name = "acT"     property = "str"     value = "Hello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35560" y="3789360"/>
            <a:ext cx="16207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53440" y="3902040"/>
            <a:ext cx="9496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자바빈즈의 변수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81640" y="3789360"/>
            <a:ext cx="1621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78160" y="3924360"/>
            <a:ext cx="4528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변수의 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51280" y="3789360"/>
            <a:ext cx="13064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57920" y="3902040"/>
            <a:ext cx="8582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자바빈즈 객체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46280" y="4373640"/>
            <a:ext cx="5221080" cy="5396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cT.setStr("Hello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32840" y="4349880"/>
            <a:ext cx="5551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7.3.3 &l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sp:getProperty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태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sp:getProperty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액션 태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생성된 자바빈즈 객체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get~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멤버 메소드를 호출해서 멤버 변수의 값을 리턴하는 태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sp:getProperty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액션 태그의 사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바빈즈의 작성 규칙에 따라 자바빈즈를 작성하였다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getStr(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소드가 호출되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t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변수의 값이 리턴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6280" y="3249720"/>
            <a:ext cx="8105760" cy="103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jsp:getProperty     name = "acT"     property = "str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16280" y="379080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25920" y="3789360"/>
            <a:ext cx="1621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11840" y="3902040"/>
            <a:ext cx="8582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자바빈즈 객체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44160" y="3902040"/>
            <a:ext cx="9496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자바빈즈의 변수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46280" y="4373640"/>
            <a:ext cx="5221080" cy="5396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(acT.getStr(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32840" y="4349880"/>
            <a:ext cx="5551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3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액션 태그를 이용한 자바빈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자바빈즈 객체 생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~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멤버 메소드 호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~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멤버 메소드 호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50920" y="1673280"/>
            <a:ext cx="5761080" cy="5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jsp:useBean id = "acT" class =  "actiontagActionTagTest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50920" y="3024360"/>
            <a:ext cx="5761080" cy="90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jsp:setProperty name = "acT" property = "str" value = "Hello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jsp:setProperty name = "acT" property = "id" value = "JSP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50920" y="4778280"/>
            <a:ext cx="5761080" cy="8985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jsp:getProperty name = "acT" property = "str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jsp:getProperty name = "acT" property = "content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46280" y="2033640"/>
            <a:ext cx="2070000" cy="720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46280" y="3024360"/>
            <a:ext cx="2251080" cy="36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22360" y="3699000"/>
            <a:ext cx="2428920" cy="36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22360" y="4282920"/>
            <a:ext cx="5354640" cy="36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22360" y="4959360"/>
            <a:ext cx="5670720" cy="674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22360" y="5904000"/>
            <a:ext cx="4815000" cy="720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46280" y="1359000"/>
            <a:ext cx="5626080" cy="36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3.5 J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코드와 액션 태그의 비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41280" y="1039680"/>
            <a:ext cx="6210360" cy="3063960"/>
          </a:xfrm>
          <a:prstGeom prst="rect">
            <a:avLst/>
          </a:prstGeom>
          <a:noFill/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marL="4572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actiontag.ActionTagTest acT = new actiontag.ActionTagTes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acT.setStr("JSP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acT.setId("jabook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out.print(acT.getStr(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&lt;%= acT.getContent()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41280" y="4194000"/>
            <a:ext cx="6210360" cy="2521080"/>
          </a:xfrm>
          <a:prstGeom prst="rect">
            <a:avLst/>
          </a:prstGeom>
          <a:noFill/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marL="4572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&lt;jsp:useBean id="acT" class="actiontag.ActionTagTest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&lt;jsp:setProperty name="acT" property="str" value="Hello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&lt;jsp:setProperty name="acT" property="id" value="JSP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&lt;jsp:getProperty name="acT" property="str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&lt;jsp:getProperty name="acT" property="content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78" idx="1"/>
            <a:endCxn id="175" idx="1"/>
          </p:cNvCxnSpPr>
          <p:nvPr/>
        </p:nvCxnSpPr>
        <p:spPr>
          <a:xfrm flipV="1" rot="10800000">
            <a:off x="1421640" y="1538640"/>
            <a:ext cx="224640" cy="2925000"/>
          </a:xfrm>
          <a:prstGeom prst="bentConnector3">
            <a:avLst>
              <a:gd name="adj1" fmla="val 336757"/>
            </a:avLst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84" name=""/>
          <p:cNvCxnSpPr>
            <a:stCxn id="172" idx="3"/>
            <a:endCxn id="176" idx="3"/>
          </p:cNvCxnSpPr>
          <p:nvPr/>
        </p:nvCxnSpPr>
        <p:spPr>
          <a:xfrm>
            <a:off x="3716280" y="2393640"/>
            <a:ext cx="3377520" cy="2904120"/>
          </a:xfrm>
          <a:prstGeom prst="bentConnector3">
            <a:avLst>
              <a:gd name="adj1" fmla="val 136904"/>
            </a:avLst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85" name=""/>
          <p:cNvCxnSpPr>
            <a:stCxn id="186" idx="3"/>
            <a:endCxn id="177" idx="3"/>
          </p:cNvCxnSpPr>
          <p:nvPr/>
        </p:nvCxnSpPr>
        <p:spPr>
          <a:xfrm>
            <a:off x="4302000" y="3547800"/>
            <a:ext cx="1936080" cy="2716920"/>
          </a:xfrm>
          <a:prstGeom prst="bentConnector3">
            <a:avLst>
              <a:gd name="adj1" fmla="val 18201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218520" y="2664000"/>
            <a:ext cx="452880" cy="498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자바빈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객체 생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76800" y="2079720"/>
            <a:ext cx="1720440" cy="24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~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메소드 호출하여 변수에 값 저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26400" y="3249720"/>
            <a:ext cx="1737360" cy="24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~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메소드 호출하여 변수의 값 리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 flipH="1">
            <a:off x="8037360" y="1719360"/>
            <a:ext cx="989280" cy="885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182000" y="822960"/>
            <a:ext cx="1514160" cy="621720"/>
          </a:xfrm>
          <a:prstGeom prst="cloudCallout">
            <a:avLst>
              <a:gd name="adj1" fmla="val 8995"/>
              <a:gd name="adj2" fmla="val 148203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무엇을 쓰든 동일한 결과를 보여주리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73" idx="3"/>
            <a:endCxn id="174" idx="3"/>
          </p:cNvCxnSpPr>
          <p:nvPr/>
        </p:nvCxnSpPr>
        <p:spPr>
          <a:xfrm flipH="1">
            <a:off x="3850920" y="3205080"/>
            <a:ext cx="46800" cy="675360"/>
          </a:xfrm>
          <a:prstGeom prst="bentConnector3">
            <a:avLst>
              <a:gd name="adj1" fmla="val -896124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4197960" y="338472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3.6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파라미터로부터 자바빈즈 객체 생성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자바빈즈에 생성자 추가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방법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스크립트릿을 사용한 자바빈즈의 초기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방법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: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액션 태그를 사용한 자바빈즈의 초기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="*"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를 사용하면 파라미터의 이름을 검사한 후 자동으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ter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메소드들을 호출하여 변수에 값을 할당한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0920" y="1403280"/>
            <a:ext cx="5715000" cy="1530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class ActionTagTes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ActionTagTest(String id, String str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his.id = 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his.str = 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50920" y="3336840"/>
            <a:ext cx="5715000" cy="13525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id = request.getParameter("id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str = request.getParameter("st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ctionTagTest acT = new ActionTagTest(id, 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362720" y="2529000"/>
            <a:ext cx="1525680" cy="1697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50920" y="5091120"/>
            <a:ext cx="5761080" cy="10825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jsp:useBean id="acT" class="actiontag.ActionTagTest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jsp:setProperty name="acT" property="*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jsp:useBea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676840"/>
            <a:ext cx="1125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80680" y="5788080"/>
            <a:ext cx="19000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자동으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~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메소드를 호출하여 초기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257960" y="4419720"/>
            <a:ext cx="1724040" cy="1698480"/>
          </a:xfrm>
          <a:prstGeom prst="rect">
            <a:avLst/>
          </a:prstGeom>
          <a:ln w="0">
            <a:noFill/>
          </a:ln>
        </p:spPr>
      </p:pic>
      <p:cxnSp>
        <p:nvCxnSpPr>
          <p:cNvPr id="204" name=""/>
          <p:cNvCxnSpPr>
            <a:stCxn id="200" idx="3"/>
            <a:endCxn id="203" idx="1"/>
          </p:cNvCxnSpPr>
          <p:nvPr/>
        </p:nvCxnSpPr>
        <p:spPr>
          <a:xfrm flipV="1">
            <a:off x="6911640" y="5268600"/>
            <a:ext cx="346680" cy="364320"/>
          </a:xfrm>
          <a:prstGeom prst="curvedConnector5">
            <a:avLst>
              <a:gd name="adj1" fmla="val 49480"/>
              <a:gd name="adj2" fmla="val 49950"/>
              <a:gd name="adj3" fmla="val 4948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9" idx="1"/>
          </p:cNvCxnSpPr>
          <p:nvPr/>
        </p:nvCxnSpPr>
        <p:spPr>
          <a:xfrm flipV="1">
            <a:off x="6865920" y="3377880"/>
            <a:ext cx="497520" cy="635760"/>
          </a:xfrm>
          <a:prstGeom prst="curvedConnector5">
            <a:avLst>
              <a:gd name="adj1" fmla="val 49818"/>
              <a:gd name="adj2" fmla="val 49971"/>
              <a:gd name="adj3" fmla="val 49818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97000" y="1719360"/>
            <a:ext cx="4957560" cy="10792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000" y="2979720"/>
            <a:ext cx="4995720" cy="33274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97000" y="3294000"/>
            <a:ext cx="2565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97000" y="3924360"/>
            <a:ext cx="2654280" cy="20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97000" y="2079720"/>
            <a:ext cx="387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3.7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파라미터로부터 자바빈즈 객체 생성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y="*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의 동작 과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7000" y="1719360"/>
            <a:ext cx="49114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jsp:useBean id="acT" class="actiontag.ActionTagTest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jsp:setProperty name="acT" property="*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jsp:useBea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000" y="2981160"/>
            <a:ext cx="494964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class ActionTagTes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ActionTagTest()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void set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tring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his.st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setId(String id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his.id = 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562720" y="1009800"/>
            <a:ext cx="3544920" cy="1698480"/>
          </a:xfrm>
          <a:prstGeom prst="rect">
            <a:avLst/>
          </a:prstGeom>
          <a:ln w="0">
            <a:noFill/>
          </a:ln>
        </p:spPr>
      </p:pic>
      <p:cxnSp>
        <p:nvCxnSpPr>
          <p:cNvPr id="216" name=""/>
          <p:cNvCxnSpPr>
            <a:stCxn id="217" idx="1"/>
            <a:endCxn id="218" idx="3"/>
          </p:cNvCxnSpPr>
          <p:nvPr/>
        </p:nvCxnSpPr>
        <p:spPr>
          <a:xfrm flipV="1" rot="10800000">
            <a:off x="5079240" y="1541160"/>
            <a:ext cx="1048320" cy="612000"/>
          </a:xfrm>
          <a:prstGeom prst="curvedConnector5">
            <a:avLst>
              <a:gd name="adj1" fmla="val 49089"/>
              <a:gd name="adj2" fmla="val 49970"/>
              <a:gd name="adj3" fmla="val 49089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20" idx="3"/>
            <a:endCxn id="221" idx="3"/>
          </p:cNvCxnSpPr>
          <p:nvPr/>
        </p:nvCxnSpPr>
        <p:spPr>
          <a:xfrm flipH="1">
            <a:off x="3762000" y="2377800"/>
            <a:ext cx="1318320" cy="989280"/>
          </a:xfrm>
          <a:prstGeom prst="curvedConnector5">
            <a:avLst>
              <a:gd name="adj1" fmla="val -28298"/>
              <a:gd name="adj2" fmla="val 49981"/>
              <a:gd name="adj3" fmla="val -28298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23" idx="3"/>
            <a:endCxn id="209" idx="3"/>
          </p:cNvCxnSpPr>
          <p:nvPr/>
        </p:nvCxnSpPr>
        <p:spPr>
          <a:xfrm>
            <a:off x="3762000" y="3581280"/>
            <a:ext cx="89640" cy="1356120"/>
          </a:xfrm>
          <a:prstGeom prst="curvedConnector5">
            <a:avLst>
              <a:gd name="adj1" fmla="val 781854"/>
              <a:gd name="adj2" fmla="val 50000"/>
              <a:gd name="adj3" fmla="val 78185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3657960" y="320364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57960" y="341784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75560" y="198900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75560" y="221472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61760" y="1359000"/>
            <a:ext cx="2412720" cy="326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..?id=Marry&amp;str=Tha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 flipH="1">
            <a:off x="8172000" y="2933640"/>
            <a:ext cx="552600" cy="1251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012000" y="4603320"/>
            <a:ext cx="2673360" cy="1576800"/>
          </a:xfrm>
          <a:prstGeom prst="cloudCallout">
            <a:avLst>
              <a:gd name="adj1" fmla="val 25587"/>
              <a:gd name="adj2" fmla="val -12968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jsp:setProperty&gt;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태그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="*"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을 사용하면 클라이언트로부터 전송된 데이터의 이름을 검사한 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자동으로 자바빈즈에 있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메소드를 사용하여 값을 설정해준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62360" y="3388680"/>
            <a:ext cx="2025720" cy="1099440"/>
          </a:xfrm>
          <a:prstGeom prst="cloudCallout">
            <a:avLst>
              <a:gd name="adj1" fmla="val -83773"/>
              <a:gd name="adj2" fmla="val -4074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="*"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를 사용하려면 반드시 자바빈즈에 매개변수가 없는 생성자가 있어야만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7.3.8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실전 팁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자바 코드를 쓸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액션 태그를 쓸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자바빈즈를 사용하는 두 가지 방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자바 코드를 이용하는 방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액션 태그를 이용하는 방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둘 중에 어떤 방법을 써야 할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자바 코드를 이용하는 방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개발자에게 더 친숙한 방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액션 태그를 이용하는 방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개발자가 개발해 놓은 자바빈즈를 쓰는 디자이너에게 더 친숙한 방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50920" y="1717560"/>
            <a:ext cx="5761080" cy="990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marL="4572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ctionTagTest acT = new ActionTagTes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cT.setStr("JSP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(acT.getStr(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50920" y="3068640"/>
            <a:ext cx="5761080" cy="990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marL="4572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jsp:useBean id="acT" class="actiontag.ActionTagTest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jsp:setProperty name="acT" property="str" value="Hello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jsp:getProperty name="acT" property="str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8920" y="5699160"/>
            <a:ext cx="5551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5480" y="5794200"/>
            <a:ext cx="2810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결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알아서 편한 방법을 쓰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.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217000" y="3159000"/>
            <a:ext cx="606240" cy="935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551640" y="1360080"/>
            <a:ext cx="2187720" cy="1007640"/>
          </a:xfrm>
          <a:prstGeom prst="cloudCallout">
            <a:avLst>
              <a:gd name="adj1" fmla="val 22703"/>
              <a:gd name="adj2" fmla="val 12003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당신은 개발자인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디자이너인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하지만 그 둘은 결국 똑같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7.4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그 외 액션 태그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7.4.1 &lt;jsp:forward&gt;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액션 태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&lt;jsp:forward&gt;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액션 태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다른 페이지를 호출하고 자신의 제어권을 해당 페이지로 전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pageContext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내장 객체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forward()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메소드와 기능이 동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&lt;jsp:forward&gt;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액션 태그의 사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&lt;jsp:forward&gt;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액션 태그의 동작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8800" y="4959360"/>
            <a:ext cx="3465360" cy="1035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06640" y="5452920"/>
            <a:ext cx="3152520" cy="419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lt;jsp:forward path="ForwardTo.jsp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76320" y="5003640"/>
            <a:ext cx="1461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ForwardFrom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6280" y="3024360"/>
            <a:ext cx="4591080" cy="103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jsp:forward     path="ForwardTo.jsp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76640" y="3565440"/>
            <a:ext cx="220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15280" y="3676680"/>
            <a:ext cx="9766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호출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페이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45160" y="5227560"/>
            <a:ext cx="3218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포워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0" idx="3"/>
            <a:endCxn id="247" idx="1"/>
          </p:cNvCxnSpPr>
          <p:nvPr/>
        </p:nvCxnSpPr>
        <p:spPr>
          <a:xfrm flipV="1">
            <a:off x="4258800" y="5239440"/>
            <a:ext cx="1662840" cy="42300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842000" y="3699000"/>
            <a:ext cx="461880" cy="1295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786280" y="2142000"/>
            <a:ext cx="3079800" cy="1962000"/>
          </a:xfrm>
          <a:prstGeom prst="cloudCallout">
            <a:avLst>
              <a:gd name="adj1" fmla="val -63861"/>
              <a:gd name="adj2" fmla="val 3977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jsp:forward&gt;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태그에 의해 다른 페이지가 호출되면 제어권이 완전히 넘어가게 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또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다른 페이지가 호출되는 순간 내부적으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out.crear()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메소드가 호출되어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에 있던 내용이 모두 지워진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21280" y="4238640"/>
            <a:ext cx="2860920" cy="20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1280" y="414360"/>
            <a:ext cx="8912160" cy="5851440"/>
            <a:chOff x="71280" y="414360"/>
            <a:chExt cx="8912160" cy="5851440"/>
          </a:xfrm>
        </p:grpSpPr>
        <p:grpSp>
          <p:nvGrpSpPr>
            <p:cNvPr id="97" name=""/>
            <p:cNvGrpSpPr/>
            <p:nvPr/>
          </p:nvGrpSpPr>
          <p:grpSpPr>
            <a:xfrm>
              <a:off x="71280" y="414360"/>
              <a:ext cx="8912160" cy="5851440"/>
              <a:chOff x="71280" y="414360"/>
              <a:chExt cx="8912160" cy="5851440"/>
            </a:xfrm>
          </p:grpSpPr>
          <p:sp>
            <p:nvSpPr>
              <p:cNvPr id="98" name=""/>
              <p:cNvSpPr/>
              <p:nvPr/>
            </p:nvSpPr>
            <p:spPr>
              <a:xfrm>
                <a:off x="71280" y="414360"/>
                <a:ext cx="8912160" cy="5851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6280" y="639720"/>
                <a:ext cx="8642160" cy="5400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295360" y="5308560"/>
              <a:ext cx="4572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이 명 진</a:t>
              </a: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,  </a:t>
              </a: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최 영 관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6699ff"/>
                  </a:solidFill>
                  <a:latin typeface="Times New Roman"/>
                  <a:ea typeface="바탕"/>
                </a:rPr>
                <a:t>Powered by http://www.jabook.or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45000" y="3286080"/>
              <a:ext cx="182700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66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2</a:t>
              </a:r>
              <a:r>
                <a:rPr b="0" lang="ko-KR" sz="2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nd</a:t>
              </a:r>
              <a:r>
                <a:rPr b="0" lang="ko-KR" sz="18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Ed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18120" y="3338640"/>
              <a:ext cx="47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소설같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14480" y="3603600"/>
              <a:ext cx="373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J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808520" y="3398760"/>
              <a:ext cx="180720" cy="164880"/>
              <a:chOff x="4808520" y="3398760"/>
              <a:chExt cx="180720" cy="16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4808520" y="3398760"/>
                <a:ext cx="10404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833000" y="3465720"/>
                <a:ext cx="10368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85560" y="3422160"/>
                <a:ext cx="10368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049640" y="4778280"/>
              <a:ext cx="10350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957240" y="1449360"/>
              <a:ext cx="509760" cy="7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장 액션 태그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856560" y="4373640"/>
            <a:ext cx="2035080" cy="2293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4.2 &lt;jsp:include&gt;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액션 태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jsp:include&gt;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액션 태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다른 페이지를 현재의 페이지에 포함하는 태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서블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geContex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객체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de(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메소드와 기능이 동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jsp:include&gt;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액션 태그의 사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jsp:include&gt;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액션 태그의 동작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6280" y="2843280"/>
            <a:ext cx="4591080" cy="103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jsp:include     path="IncludeTo.jsp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63760" y="3384720"/>
            <a:ext cx="2028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44800" y="3495600"/>
            <a:ext cx="11077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포함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6320" y="6108840"/>
            <a:ext cx="477720" cy="35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진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560" y="5537160"/>
            <a:ext cx="47772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진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86320" y="4900680"/>
            <a:ext cx="47772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진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52640" y="5726160"/>
            <a:ext cx="140004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280" y="4772160"/>
            <a:ext cx="2990880" cy="1909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5920" y="5472000"/>
            <a:ext cx="2881080" cy="38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lt;jsp:include page="IncludeTo.jsp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48240" y="5448240"/>
            <a:ext cx="1400040" cy="5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IncludeTo.j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5240" y="441972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ncludeFrom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22600" y="4772160"/>
            <a:ext cx="1654200" cy="1909800"/>
          </a:xfrm>
          <a:custGeom>
            <a:avLst/>
            <a:gdLst/>
            <a:ahLst/>
            <a:rect l="l" t="t" r="r" b="b"/>
            <a:pathLst>
              <a:path w="1179" h="1361">
                <a:moveTo>
                  <a:pt x="0" y="0"/>
                </a:moveTo>
                <a:lnTo>
                  <a:pt x="0" y="409"/>
                </a:lnTo>
                <a:lnTo>
                  <a:pt x="1179" y="409"/>
                </a:lnTo>
                <a:lnTo>
                  <a:pt x="1179" y="908"/>
                </a:lnTo>
                <a:lnTo>
                  <a:pt x="0" y="908"/>
                </a:lnTo>
                <a:lnTo>
                  <a:pt x="0" y="1361"/>
                </a:lnTo>
              </a:path>
            </a:pathLst>
          </a:custGeom>
          <a:noFill/>
          <a:ln w="7632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94080" y="4962600"/>
            <a:ext cx="245880" cy="255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13440" y="5600880"/>
            <a:ext cx="245880" cy="253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4080" y="6172200"/>
            <a:ext cx="245880" cy="255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640" y="4836960"/>
            <a:ext cx="0" cy="571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1640" y="5918040"/>
            <a:ext cx="0" cy="7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0160" y="4900680"/>
            <a:ext cx="47808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진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160" y="6045120"/>
            <a:ext cx="4780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진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83120" y="5110200"/>
            <a:ext cx="296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11840" y="5702400"/>
            <a:ext cx="1235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76640" y="6284880"/>
            <a:ext cx="297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11480" y="4749840"/>
            <a:ext cx="9702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out.flush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10040" y="5326200"/>
            <a:ext cx="9702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out.flush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10040" y="5902200"/>
            <a:ext cx="9702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out.flush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8397720" y="1268280"/>
            <a:ext cx="459000" cy="12542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5562720" y="2514960"/>
            <a:ext cx="2765160" cy="1485000"/>
          </a:xfrm>
          <a:prstGeom prst="cloudCallout">
            <a:avLst>
              <a:gd name="adj1" fmla="val 47407"/>
              <a:gd name="adj2" fmla="val -115606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jsp:include&gt;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태그는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jsp:forward&gt;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태그와 달리 다른 페이지를 포함해서 실행하는 기능을 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또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다른 페이지 호출 시 제어권을 넘겨주었다가 다시 돌려받는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7.4.3 &lt;jsp:param&gt;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액션 태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5920" y="1089000"/>
            <a:ext cx="83721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&lt;jsp:param&gt;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액션 태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jsp:forward&gt;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jsp:include&gt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액션 태그를 사용해서 다른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페이지를 호출할 때 매개변수를 전달하기 위한 액션 태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동일한 이름의 매개변수가 있을 경우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jsp:param&gt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태그에 의해 정의된 매개변수가 제일 우선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5920" y="3114720"/>
            <a:ext cx="410976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jsp:param&gt;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액션 태그의 동작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8320" y="2663640"/>
            <a:ext cx="4109760" cy="11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jsp:param&gt;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액션 태그의 사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02000" y="3157560"/>
            <a:ext cx="4591080" cy="103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jsp:param     name="id"     value="Micheal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07000" y="3699000"/>
            <a:ext cx="112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74400" y="3809880"/>
            <a:ext cx="72720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매개변수의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58080" y="3699000"/>
            <a:ext cx="161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53800" y="3809880"/>
            <a:ext cx="6357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매개변수의 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8800" y="5273640"/>
            <a:ext cx="3778560" cy="1305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b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jsp:include path="ParamTo.jsp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jsp:param name="id" value="Michea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jsp:includ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1640" y="6022800"/>
            <a:ext cx="3375000" cy="241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lt;jsp:param name="id" value="Michea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7760" y="5319720"/>
            <a:ext cx="1290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aramFrom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880920" y="3608280"/>
            <a:ext cx="2767320" cy="1324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18600" y="3855960"/>
            <a:ext cx="2139840" cy="300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?id=Marry&amp;str=Tha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98" idx="2"/>
            <a:endCxn id="294" idx="0"/>
          </p:cNvCxnSpPr>
          <p:nvPr/>
        </p:nvCxnSpPr>
        <p:spPr>
          <a:xfrm rot="5400000">
            <a:off x="1752480" y="4737600"/>
            <a:ext cx="1061280" cy="11880"/>
          </a:xfrm>
          <a:prstGeom prst="curvedConnector5">
            <a:avLst>
              <a:gd name="adj1" fmla="val 48931"/>
              <a:gd name="adj2" fmla="val 50000"/>
              <a:gd name="adj3" fmla="val 48931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4313520" y="4915080"/>
            <a:ext cx="977040" cy="634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d: Mich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: Tha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5427720" y="4329000"/>
            <a:ext cx="3311640" cy="24307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472000" y="5184720"/>
            <a:ext cx="90036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72000" y="5994360"/>
            <a:ext cx="90036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294" idx="3"/>
            <a:endCxn id="301" idx="1"/>
          </p:cNvCxnSpPr>
          <p:nvPr/>
        </p:nvCxnSpPr>
        <p:spPr>
          <a:xfrm flipV="1">
            <a:off x="4167000" y="5544720"/>
            <a:ext cx="126108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7572240" y="3833640"/>
            <a:ext cx="1500480" cy="9050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757920" y="5503680"/>
            <a:ext cx="2314800" cy="860760"/>
          </a:xfrm>
          <a:prstGeom prst="cloudCallout">
            <a:avLst>
              <a:gd name="adj1" fmla="val -7754"/>
              <a:gd name="adj2" fmla="val -150833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동일한 이름의 매개변수가 있을 경우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jsp:param&gt;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태그에 의해 정의된 매개변수가 우선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6102360" y="5184720"/>
            <a:ext cx="274464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0" spc="-1" strike="noStrike">
                <a:solidFill>
                  <a:srgbClr val="ffcc00"/>
                </a:solidFill>
                <a:latin typeface="Tahoma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7.1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액션 태그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1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액션 태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tion Tag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액션 태그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Action Tag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태그와 같은 모양을 가지며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JSP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서 제공하는 특별한 기능을 사용하기 위한 태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실행 시 자바 코드로 자동 변환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액션 태그의 사용 목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코드를 보다 쉽고 빠르게 작성하기 위해 사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자바빈즈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JavaBeans)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의 활용과 관련된 액션 태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jsp:useBean&gt; : JSP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페이지 내에서 사용할 자바빈즈 객체를 생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jsp:setProperty&gt; :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생성된 자바빈즈 객체의 멤버 변수 값을 지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jsp:getProperty&gt; :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생성된 자바빈즈 객체의 특정 멤버 변수 값을 반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의 실행 제어와 관련된 액션 태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jsp:forward&gt; :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다른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페이지로 처리 제어권을 넘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jsp:include&gt; :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다른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페이지를 호출하여 실행한 후 돌아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jsp:param&gt; :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다른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페이지 실행 시 파라미터를 전달하기 위해 사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7.2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자바빈즈 생성과 사용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2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자바빈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JavaBean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자바빈즈란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즈니스 로직을 담고 있으며 자바빈즈 규약을 따르는 클래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http://java.sun.com/products/javabeans/docs/spec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특정 데이터를 관리하고 표현하기 위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사용하는 특수한 형태의 클래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자바빈즈의 구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생성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멤버 변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저장을 위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et~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형태의 멤버 메소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추출을 위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get~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형태의 멤버 메소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2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자바빈즈 만들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패키지 선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자바빈즈는 패키지 형태로 관리된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자바빈즈 클래스 선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멤버 변수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클래스 내의 멤버 변수는 소문자로 시작한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멤버 메소드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멤버 변수의 값을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하거나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하는 메소드는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이여야 한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ter : set~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멤버 메소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값을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하는 메소드의 이름은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set" +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대문자로 시작하는 멤버 변수 이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ter : get~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멤버 메소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값을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하는 메소드의 이름은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get" +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대문자로 시작하는 멤버 변수 이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50920" y="1673280"/>
            <a:ext cx="5715000" cy="3585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ackage actionta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50920" y="3929040"/>
            <a:ext cx="5715000" cy="3556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rivate String str = "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50920" y="2440080"/>
            <a:ext cx="5715000" cy="8096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class ActionTagTes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ActionTagTest()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15920" y="5861160"/>
            <a:ext cx="3241800" cy="8985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void set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tring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his.st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16280" y="5861160"/>
            <a:ext cx="3241800" cy="8985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ring getS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86640" y="1538280"/>
            <a:ext cx="606600" cy="934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642000" y="3162960"/>
            <a:ext cx="2273400" cy="1337760"/>
          </a:xfrm>
          <a:prstGeom prst="cloudCallout">
            <a:avLst>
              <a:gd name="adj1" fmla="val 22828"/>
              <a:gd name="adj2" fmla="val -11849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의 메소드 규칙을 지켜야 하는 이유는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jsp:setProperty&gt;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jsp:getProperty&gt;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액션 태그를 사용하기 위해서 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2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스크립트릿을 이용한 자바빈즈 사용하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자바빈즈를 사용하기 위한 클래스 임포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자바빈즈 클래스를 임포트 해야만 자바빈즈 객체를 생성해서 사용할 수 있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자바빈즈 객체 생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자바빈즈 객체 사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50920" y="2122560"/>
            <a:ext cx="5221440" cy="5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&lt;%@page import="actiontag.*"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50920" y="3473280"/>
            <a:ext cx="5221440" cy="5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ActionTagTest acT = new ActionTagTes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50920" y="4824360"/>
            <a:ext cx="5221440" cy="10796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cT.setStr("JSP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cT.setId("jabook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(acT.getStr(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7.3 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액션 태그를 이용한 자바빈즈 사용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05:03:27Z</dcterms:created>
  <dc:creator>최영관</dc:creator>
  <dc:description/>
  <cp:keywords>프로그래밍 언어</cp:keywords>
  <dc:language>en-US</dc:language>
  <cp:lastModifiedBy>m</cp:lastModifiedBy>
  <cp:lastPrinted>1999-07-19T06:05:37Z</cp:lastPrinted>
  <dcterms:modified xsi:type="dcterms:W3CDTF">2008-04-11T02:00:38Z</dcterms:modified>
  <cp:revision>8401</cp:revision>
  <dc:subject/>
  <dc:title>프로그래밍 언어</dc:title>
</cp:coreProperties>
</file>