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4.wmf" ContentType="image/x-wmf"/>
  <Override PartName="/ppt/media/image22.png" ContentType="image/png"/>
  <Override PartName="/ppt/media/image4.wmf" ContentType="image/x-wmf"/>
  <Override PartName="/ppt/media/image5.wmf" ContentType="image/x-wmf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wmf" ContentType="image/x-wmf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9B7-2CC5-4B33-8658-F7B10AAC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3D0-B547-4E15-8151-21D8F323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0CF-8596-4C58-AF2D-4368A36A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A68-F689-44D6-8FD9-49DDAB8F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2472-998C-4CF0-81C2-6B3FE2F8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F6BD-834B-4E6F-9798-93B7F2B6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E868-DCF4-486A-A104-EC5D201B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F850-6BF2-4E2B-9A30-52DF3FFD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5010-1847-4677-81ED-98EA2CD2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FA08-E213-4739-80B5-4B1B1B91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AD37-3A6E-40AD-9C7D-D8319BAE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7F1-F57E-4632-AE10-5EDAAA7A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C50F-2380-406B-AD4C-61F3A740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0576-C01A-457C-B8A9-C63361B0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AC1C-DDCC-4E34-88A1-E155A698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1387-6A82-4872-9872-5F1815CA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A061-EAAB-43E2-A0C4-22C6F18C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2A56-F6FA-4F9B-8060-F215958F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236-7450-4820-89C7-F2CD3EF6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9FC-0C5A-4DCF-A84B-06DDF87B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371-BEAB-4D37-AF13-D033F8BB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FA6-A8B1-4D0B-A95D-5802A40E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617-E292-485E-BB75-49E17058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BBA-5D69-4978-B7DD-7AA6170A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38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9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9F7A-7428-4D7D-A1AF-54F7F7B9C9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600" y="907920"/>
            <a:ext cx="9131400" cy="0"/>
          </a:xfrm>
          <a:prstGeom prst="line">
            <a:avLst/>
          </a:prstGeom>
          <a:ln w="117360">
            <a:solidFill>
              <a:srgbClr val="a8a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1360" y="609480"/>
            <a:ext cx="8801280" cy="5639040"/>
          </a:xfrm>
          <a:prstGeom prst="rect">
            <a:avLst/>
          </a:prstGeom>
          <a:solidFill>
            <a:srgbClr val="ffead5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760320"/>
            <a:ext cx="8464320" cy="53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2560" y="126828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1120" y="252900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86440" y="608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B13B-0116-4437-ABDF-5E93257210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958080" y="5184720"/>
            <a:ext cx="188892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Tahoma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2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서블릿의 상속 구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56080" y="1628640"/>
            <a:ext cx="1981080" cy="67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Servl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1628640"/>
            <a:ext cx="2441520" cy="67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ServletConfi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46920" y="1628640"/>
            <a:ext cx="2341440" cy="67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Seri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52880" y="3618000"/>
            <a:ext cx="2787480" cy="67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GenericServl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5205240"/>
            <a:ext cx="4226040" cy="62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HttpServl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4" idx="2"/>
            <a:endCxn id="196" idx="0"/>
          </p:cNvCxnSpPr>
          <p:nvPr/>
        </p:nvCxnSpPr>
        <p:spPr>
          <a:xfrm flipH="1" rot="16200000">
            <a:off x="2546280" y="1603080"/>
            <a:ext cx="1286640" cy="2715120"/>
          </a:xfrm>
          <a:prstGeom prst="bentConnector3">
            <a:avLst>
              <a:gd name="adj1" fmla="val 49874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99" name=""/>
          <p:cNvCxnSpPr>
            <a:stCxn id="193" idx="2"/>
            <a:endCxn id="196" idx="0"/>
          </p:cNvCxnSpPr>
          <p:nvPr/>
        </p:nvCxnSpPr>
        <p:spPr>
          <a:xfrm flipV="1" rot="10800000">
            <a:off x="4545720" y="2317320"/>
            <a:ext cx="1080" cy="1286640"/>
          </a:xfrm>
          <a:prstGeom prst="bent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00" name=""/>
          <p:cNvCxnSpPr>
            <a:stCxn id="195" idx="2"/>
            <a:endCxn id="196" idx="0"/>
          </p:cNvCxnSpPr>
          <p:nvPr/>
        </p:nvCxnSpPr>
        <p:spPr>
          <a:xfrm rot="5400000">
            <a:off x="5238720" y="1624680"/>
            <a:ext cx="1286640" cy="2672640"/>
          </a:xfrm>
          <a:prstGeom prst="bentConnector3">
            <a:avLst>
              <a:gd name="adj1" fmla="val 49874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385800" y="5899320"/>
            <a:ext cx="23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프로토콜을 위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전용 서블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13120" y="126828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서블릿 환경을 위한 인터페이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65520" y="126828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서블릿 기능 구현을 위한 인터페이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36440" y="1268280"/>
            <a:ext cx="157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서블릿 직렬화를 위한 인터페이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" y="234468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17920" y="234468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37200" y="234468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89600" y="3284640"/>
            <a:ext cx="6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43680" y="4869000"/>
            <a:ext cx="6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24240" y="5205240"/>
            <a:ext cx="4225680" cy="62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HttpServl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4120" y="3068640"/>
            <a:ext cx="363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구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196" idx="2"/>
            <a:endCxn id="210" idx="0"/>
          </p:cNvCxnSpPr>
          <p:nvPr/>
        </p:nvCxnSpPr>
        <p:spPr>
          <a:xfrm flipH="1">
            <a:off x="4536720" y="4307040"/>
            <a:ext cx="10080" cy="8848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3423600" y="4329000"/>
            <a:ext cx="220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일반적인 네트워크 프로토콜을 위한 추상 서블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967360" y="3349800"/>
            <a:ext cx="606600" cy="934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912000" y="3928680"/>
            <a:ext cx="2027160" cy="860760"/>
          </a:xfrm>
          <a:prstGeom prst="cloudCallout">
            <a:avLst>
              <a:gd name="adj1" fmla="val -66828"/>
              <a:gd name="adj2" fmla="val -10430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서블릿을 위해 필요한 인터페이스들을 구현해서 만든 추상 클래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743120" y="5049720"/>
            <a:ext cx="579240" cy="906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58760" y="3515400"/>
            <a:ext cx="2300400" cy="1337760"/>
          </a:xfrm>
          <a:prstGeom prst="cloudCallout">
            <a:avLst>
              <a:gd name="adj1" fmla="val 12865"/>
              <a:gd name="adj2" fmla="val 10942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icServle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추상 클래스를 상속 받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프로토콜에 맞게 만든 추상 클래스가 바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Servle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클래스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6640" y="1973160"/>
            <a:ext cx="4456080" cy="46357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2.2 HttpServle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클래스의 동작 과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ervle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클래스는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icServle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클래스를 상속받아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프로토콜에 맞게 작성한 클래스이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62280" y="3656160"/>
            <a:ext cx="1179360" cy="2358720"/>
          </a:xfrm>
          <a:prstGeom prst="cube">
            <a:avLst>
              <a:gd name="adj" fmla="val 9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9840" y="404352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t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6280" y="499284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t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0280" y="526896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0280" y="43243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2593800"/>
            <a:ext cx="4049640" cy="459000"/>
          </a:xfrm>
          <a:prstGeom prst="rect">
            <a:avLst/>
          </a:prstGeom>
          <a:solidFill>
            <a:srgbClr val="4d4d4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xtends Http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3052800"/>
            <a:ext cx="4049640" cy="333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86280" y="4087800"/>
            <a:ext cx="1125720" cy="12603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022720" y="4222800"/>
            <a:ext cx="809640" cy="690480"/>
            <a:chOff x="5022720" y="4222800"/>
            <a:chExt cx="809640" cy="690480"/>
          </a:xfrm>
        </p:grpSpPr>
        <p:sp>
          <p:nvSpPr>
            <p:cNvPr id="232" name="Gear"/>
            <p:cNvSpPr/>
            <p:nvPr/>
          </p:nvSpPr>
          <p:spPr>
            <a:xfrm>
              <a:off x="5471640" y="4222800"/>
              <a:ext cx="360720" cy="316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22720" y="4353120"/>
              <a:ext cx="431280" cy="378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02440" y="4492800"/>
              <a:ext cx="479520" cy="4204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7227720" y="3278160"/>
            <a:ext cx="1125720" cy="12603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Get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364520" y="3413160"/>
            <a:ext cx="809640" cy="690480"/>
            <a:chOff x="7364520" y="3413160"/>
            <a:chExt cx="809640" cy="690480"/>
          </a:xfrm>
        </p:grpSpPr>
        <p:sp>
          <p:nvSpPr>
            <p:cNvPr id="237" name="Gear"/>
            <p:cNvSpPr/>
            <p:nvPr/>
          </p:nvSpPr>
          <p:spPr>
            <a:xfrm>
              <a:off x="7813440" y="3413160"/>
              <a:ext cx="360720" cy="316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64520" y="3543480"/>
              <a:ext cx="431280" cy="378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44240" y="3683160"/>
              <a:ext cx="479520" cy="4204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227720" y="4897440"/>
            <a:ext cx="1125720" cy="12603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Post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364520" y="5032440"/>
            <a:ext cx="809640" cy="690480"/>
            <a:chOff x="7364520" y="5032440"/>
            <a:chExt cx="809640" cy="690480"/>
          </a:xfrm>
        </p:grpSpPr>
        <p:sp>
          <p:nvSpPr>
            <p:cNvPr id="242" name="Gear"/>
            <p:cNvSpPr/>
            <p:nvPr/>
          </p:nvSpPr>
          <p:spPr>
            <a:xfrm>
              <a:off x="7813440" y="5032440"/>
              <a:ext cx="360720" cy="316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64520" y="5162760"/>
              <a:ext cx="431280" cy="378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44240" y="5302440"/>
              <a:ext cx="479520" cy="4204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376280" y="4178160"/>
            <a:ext cx="1395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6280" y="4492800"/>
            <a:ext cx="135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6280" y="5167440"/>
            <a:ext cx="1395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6280" y="5437080"/>
            <a:ext cx="135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41640" y="4537080"/>
            <a:ext cx="944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41640" y="4853160"/>
            <a:ext cx="944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012000" y="3773160"/>
            <a:ext cx="1215720" cy="539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012000" y="3997080"/>
            <a:ext cx="1215720" cy="539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2000" y="4898880"/>
            <a:ext cx="1215720" cy="540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12000" y="5122800"/>
            <a:ext cx="1215720" cy="539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1280" y="2039400"/>
            <a:ext cx="2700360" cy="1337760"/>
          </a:xfrm>
          <a:prstGeom prst="cloudCallout">
            <a:avLst>
              <a:gd name="adj1" fmla="val 69620"/>
              <a:gd name="adj2" fmla="val 9347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프로토콜을 통해 서블릿 컨테이너에 요청이 들어오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Servle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클래스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()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메소드가 가장 먼저 호출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57720" y="5446440"/>
            <a:ext cx="1935000" cy="1337760"/>
          </a:xfrm>
          <a:prstGeom prst="cloudCallout">
            <a:avLst>
              <a:gd name="adj1" fmla="val -18583"/>
              <a:gd name="adj2" fmla="val -8249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()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메소드에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의 요청방식에 따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et(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ost()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메소드를 호출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2.3 GE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방식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방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방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 전달하고자 하는 정보를 포함해서 정보를 전달하는 방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단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정보가 노출되므로 보안 취약하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보내는 정보의 크기가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024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바이트로 제한된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OST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방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전달하고자 하는 정보를 첨부파일 형태로 포함해서 전송하는 방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장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의 주소 창에 보내는 정보에 대한 노출이 없기 때문에 보안성이 좋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보내는 정보의 크기에 제한이 없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55560" y="2619360"/>
            <a:ext cx="5402520" cy="13032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106640" y="3024360"/>
            <a:ext cx="4184640" cy="31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60" idx="2"/>
            <a:endCxn id="262" idx="0"/>
          </p:cNvCxnSpPr>
          <p:nvPr/>
        </p:nvCxnSpPr>
        <p:spPr>
          <a:xfrm flipH="1" rot="16200000">
            <a:off x="4051800" y="2503440"/>
            <a:ext cx="746640" cy="2454480"/>
          </a:xfrm>
          <a:prstGeom prst="curvedConnector5">
            <a:avLst>
              <a:gd name="adj1" fmla="val 48721"/>
              <a:gd name="adj2" fmla="val 49992"/>
              <a:gd name="adj3" fmla="val 48721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457360" y="4103640"/>
            <a:ext cx="6391440" cy="495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요청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주소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라미터이름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라미터값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라미터이름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라미터값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amp;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8217000" y="4689360"/>
            <a:ext cx="689040" cy="9669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551640" y="3028320"/>
            <a:ext cx="2027160" cy="860400"/>
          </a:xfrm>
          <a:prstGeom prst="cloudCallout">
            <a:avLst>
              <a:gd name="adj1" fmla="val 28212"/>
              <a:gd name="adj2" fmla="val 150541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방식과 달리 파라미터 정보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에 포함되지 않고 전달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8352000" y="1673280"/>
            <a:ext cx="606240" cy="934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578640" y="209160"/>
            <a:ext cx="2403360" cy="1099080"/>
          </a:xfrm>
          <a:prstGeom prst="cloudCallout">
            <a:avLst>
              <a:gd name="adj1" fmla="val 18546"/>
              <a:gd name="adj2" fmla="val 11165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방식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뒤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?"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기호와 파라미터 이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"="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기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그리고 파라미터 값을 이용해서 호출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2.4 GE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방식 처리를 위한 코드 작성하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Get(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메소드 재정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Get(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메소드의 코드 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파라미터 값 추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1628640"/>
            <a:ext cx="6345000" cy="1125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doGet(HttpServletRequest req, HttpServletResponse re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71640" y="3968640"/>
            <a:ext cx="6345000" cy="49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helloName = req.getParameter("nam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902040" y="4869000"/>
            <a:ext cx="579600" cy="906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5742000" y="4812480"/>
            <a:ext cx="2449440" cy="1099440"/>
          </a:xfrm>
          <a:prstGeom prst="cloudCallout">
            <a:avLst>
              <a:gd name="adj1" fmla="val -96583"/>
              <a:gd name="adj2" fmla="val -3723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서블릿으로 전달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HttpServletRequest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객체의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getParameter()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메소드를 이용해서 파라미터의 값을 추출할 수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3.2.5 ExcuteGetServlet.html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작성하기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9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form&gt;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태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라이언트에서 서버로 값을 전달하고자 할 때 사용하는 태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form&gt;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태그의 속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on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사용자의 요청정보를 받아서 처리하는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프로그램의 위치를 지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사용자의 요청정보를 어떤 방식으로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프로그램에 전달할 것인지를 지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T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중 하나를 지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71640" y="4194000"/>
            <a:ext cx="6345000" cy="16671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form     action ="/MySample/servlet/HttpGetServlet"     method="GET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15840" y="4826160"/>
            <a:ext cx="16689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다음으로 실행될 서블릿의 위치를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81280" y="4735440"/>
            <a:ext cx="3644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33880" y="4826160"/>
            <a:ext cx="76680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메시지 전달 방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4735440"/>
            <a:ext cx="134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3.2.6 ExcuteGetServlet.html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작성하기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9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input&gt;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태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텍스트 상자나 버튼을 만들기 위한 태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input&gt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태그의 속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nput&gt;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태그의 종류를 지정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text | subm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nput&gt;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태그의 이름을 지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파라미터 이름으로 사용된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버튼에 나타날 값을 지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4194000"/>
            <a:ext cx="6345000" cy="1890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nput     type="text"     name="name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nput     type="submit"     value="Submit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78200" y="4780080"/>
            <a:ext cx="5443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텍스트 박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81280" y="4689360"/>
            <a:ext cx="94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15160" y="4780080"/>
            <a:ext cx="6357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라미터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51280" y="4689360"/>
            <a:ext cx="121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71160" y="5746680"/>
            <a:ext cx="4528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전송 버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827360" y="5634000"/>
            <a:ext cx="1123920" cy="2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84240" y="5746680"/>
            <a:ext cx="4528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버튼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67000" y="5634000"/>
            <a:ext cx="130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 flipH="1">
            <a:off x="8081640" y="3384720"/>
            <a:ext cx="579240" cy="9349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5786280" y="1362960"/>
            <a:ext cx="2540160" cy="1337760"/>
          </a:xfrm>
          <a:prstGeom prst="cloudCallout">
            <a:avLst>
              <a:gd name="adj1" fmla="val 30115"/>
              <a:gd name="adj2" fmla="val 11628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input&gt;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태그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속성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으로 주면 버튼이 만들어지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 버튼을 누르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rm&gt;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태그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속성에서 지정된 서블릿이 실행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2.7 POS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방식 처리를 위한 코드 작성하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Post(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메소드 재정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Post(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메소드의 코드 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파라미터 값 추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71640" y="1628640"/>
            <a:ext cx="6345000" cy="1125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doPost(HttpServletRequest req, HttpServletResponse re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71640" y="3968640"/>
            <a:ext cx="6345000" cy="49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helloName = req.getParameter("nam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42000" y="4812480"/>
            <a:ext cx="2449440" cy="1099440"/>
          </a:xfrm>
          <a:prstGeom prst="cloudCallout">
            <a:avLst>
              <a:gd name="adj1" fmla="val -96583"/>
              <a:gd name="adj2" fmla="val -3723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서블릿으로 전달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HttpServletRequest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객체의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getParameter()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메소드를 이용해서 파라미터의 값을 추출할 수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581280" y="4869000"/>
            <a:ext cx="989280" cy="88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3.2.8 ExcutePostServlet.html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작성하기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9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form&gt;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태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input&gt;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태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71640" y="1628640"/>
            <a:ext cx="6345000" cy="16671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form     action ="/MySample/servlet/HttpPostServlet"     method="POST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15840" y="2260440"/>
            <a:ext cx="16689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다음으로 실행될 서블릿의 위치를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81280" y="2170080"/>
            <a:ext cx="3644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24240" y="2260440"/>
            <a:ext cx="76680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메시지 전달 방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43440" y="2170080"/>
            <a:ext cx="134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71640" y="4194000"/>
            <a:ext cx="6345000" cy="1890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nput     type="text"     name="name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nput     type="submit"     value="Submit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78200" y="4780080"/>
            <a:ext cx="5443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텍스트 박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81280" y="4689360"/>
            <a:ext cx="94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15160" y="4780080"/>
            <a:ext cx="6357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라미터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51280" y="4689360"/>
            <a:ext cx="121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71160" y="5746680"/>
            <a:ext cx="4528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전송 버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827360" y="5634000"/>
            <a:ext cx="1123920" cy="2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84240" y="5746680"/>
            <a:ext cx="4528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버튼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67000" y="5634000"/>
            <a:ext cx="130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858080" y="1854360"/>
            <a:ext cx="671400" cy="834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954840" y="3642480"/>
            <a:ext cx="2027160" cy="1099440"/>
          </a:xfrm>
          <a:prstGeom prst="cloudCallout">
            <a:avLst>
              <a:gd name="adj1" fmla="val 29629"/>
              <a:gd name="adj2" fmla="val -14315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rm&gt;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태그의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속성 값이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POST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이므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POST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방식을 이용해서 파라미터가 전달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100" spc="-1" strike="noStrike">
                <a:solidFill>
                  <a:srgbClr val="000000"/>
                </a:solidFill>
                <a:latin typeface="Times New Roman"/>
              </a:rPr>
              <a:t>3.3 HttpServletRequest</a:t>
            </a:r>
            <a:r>
              <a:rPr b="1" lang="ko-KR" sz="31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1" lang="ko-KR" sz="3100" spc="-1" strike="noStrike">
                <a:solidFill>
                  <a:srgbClr val="000000"/>
                </a:solidFill>
                <a:latin typeface="Times New Roman"/>
              </a:rPr>
              <a:t>HttpServletReaponse</a:t>
            </a:r>
            <a:endParaRPr b="1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3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서블릿 작업의 중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HttpServletRequest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HttpServletRespons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객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doGet()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doPost()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소드의 매개변수로 넘어오는 인자 타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클라이언트가 요청할 때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를 클래스의 형태로 맵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클라이언트의 요청 →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HttpServletRequest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클라이언트의 응답 →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HttpServletRespons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4640" y="3381480"/>
            <a:ext cx="801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6280" y="3703680"/>
            <a:ext cx="1138320" cy="93672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70000" y="3728880"/>
            <a:ext cx="1011240" cy="7844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374120" y="3816360"/>
            <a:ext cx="624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83840" y="4243320"/>
            <a:ext cx="734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40040" y="3251160"/>
            <a:ext cx="765000" cy="1674720"/>
          </a:xfrm>
          <a:prstGeom prst="cube">
            <a:avLst>
              <a:gd name="adj" fmla="val 3547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51680" y="283356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18040" y="2300400"/>
            <a:ext cx="4863960" cy="28382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57720" y="2833560"/>
            <a:ext cx="4589280" cy="366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ds Http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57720" y="3193920"/>
            <a:ext cx="4589280" cy="1806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48480" y="3470400"/>
            <a:ext cx="204480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doGet(request, respon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67560" y="4459320"/>
            <a:ext cx="204480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doPost(request, respon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44840" y="3332160"/>
            <a:ext cx="2027520" cy="15778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service(request, respon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27720" y="3470400"/>
            <a:ext cx="1606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Servlet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40320" y="4470480"/>
            <a:ext cx="1606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Servlet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72360" y="3605040"/>
            <a:ext cx="26964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72360" y="3740040"/>
            <a:ext cx="26964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72360" y="4595760"/>
            <a:ext cx="26964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360" y="4730760"/>
            <a:ext cx="26964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85920" y="4370400"/>
            <a:ext cx="193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85920" y="3921120"/>
            <a:ext cx="193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01280" y="404496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831280" y="392112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34" idx="2"/>
            <a:endCxn id="342" idx="0"/>
          </p:cNvCxnSpPr>
          <p:nvPr/>
        </p:nvCxnSpPr>
        <p:spPr>
          <a:xfrm rot="5400000">
            <a:off x="5157360" y="3871800"/>
            <a:ext cx="270720" cy="7668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5" idx="0"/>
            <a:endCxn id="343" idx="2"/>
          </p:cNvCxnSpPr>
          <p:nvPr/>
        </p:nvCxnSpPr>
        <p:spPr>
          <a:xfrm flipH="1" flipV="1" rot="5400000">
            <a:off x="5501880" y="4087440"/>
            <a:ext cx="224640" cy="542160"/>
          </a:xfrm>
          <a:prstGeom prst="bentConnector3">
            <a:avLst>
              <a:gd name="adj1" fmla="val 5024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3402000" y="1954080"/>
            <a:ext cx="606600" cy="9352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701640" y="1993320"/>
            <a:ext cx="1873440" cy="1099440"/>
          </a:xfrm>
          <a:prstGeom prst="cloudCallout">
            <a:avLst>
              <a:gd name="adj1" fmla="val 89824"/>
              <a:gd name="adj2" fmla="val -2112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클라이언트의 요청 방식에 따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et(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ost()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메소드가 알아서 호출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1280" y="414360"/>
            <a:ext cx="8912160" cy="5851440"/>
            <a:chOff x="71280" y="414360"/>
            <a:chExt cx="8912160" cy="5851440"/>
          </a:xfrm>
        </p:grpSpPr>
        <p:grpSp>
          <p:nvGrpSpPr>
            <p:cNvPr id="97" name=""/>
            <p:cNvGrpSpPr/>
            <p:nvPr/>
          </p:nvGrpSpPr>
          <p:grpSpPr>
            <a:xfrm>
              <a:off x="71280" y="414360"/>
              <a:ext cx="8912160" cy="5851440"/>
              <a:chOff x="71280" y="414360"/>
              <a:chExt cx="8912160" cy="5851440"/>
            </a:xfrm>
          </p:grpSpPr>
          <p:sp>
            <p:nvSpPr>
              <p:cNvPr id="98" name=""/>
              <p:cNvSpPr/>
              <p:nvPr/>
            </p:nvSpPr>
            <p:spPr>
              <a:xfrm>
                <a:off x="71280" y="414360"/>
                <a:ext cx="8912160" cy="5851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6280" y="639720"/>
                <a:ext cx="8642160" cy="5400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295360" y="5308560"/>
              <a:ext cx="4572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이 명 진</a:t>
              </a: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,  </a:t>
              </a: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최 영 관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6699ff"/>
                  </a:solidFill>
                  <a:latin typeface="Times New Roman"/>
                  <a:ea typeface="바탕"/>
                </a:rPr>
                <a:t>Powered by http://www.jabook.or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45000" y="3286080"/>
              <a:ext cx="182700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66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2</a:t>
              </a:r>
              <a:r>
                <a:rPr b="0" lang="ko-KR" sz="2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nd</a:t>
              </a:r>
              <a:r>
                <a:rPr b="0" lang="ko-KR" sz="18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Ed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8120" y="3338640"/>
              <a:ext cx="47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소설같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14480" y="360360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J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808520" y="3398760"/>
              <a:ext cx="180720" cy="164880"/>
              <a:chOff x="4808520" y="3398760"/>
              <a:chExt cx="180720" cy="16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4808520" y="3398760"/>
                <a:ext cx="10404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833000" y="3465720"/>
                <a:ext cx="10368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85560" y="3422160"/>
                <a:ext cx="10368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049640" y="4778280"/>
              <a:ext cx="10350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957240" y="1449360"/>
              <a:ext cx="509760" cy="7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장 서블릿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3.2 HttpServletReque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ServletRespon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의 개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HttpServletRequest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객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클라이언트의 모든 요청 정보를 포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요청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헤더 정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블릿으로 전달된 파라미터 정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nputStream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형태의 클라이언트로부터 전송된 데이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세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Session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쿠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Cookie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같은 기타 정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HttpServletResponse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객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클라이언트로 보내지는 응답 정보를 포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응답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헤더 정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OutputStream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형태의 클라이언트로 전송되는 데이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세션과 쿠기 설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3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간단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pons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예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서블릿 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방식의 요청을 처리하기 위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et(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메소드 재정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객체로부터 파라미터 값 얻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객체로부터 응답을 위한 스트림 객체 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71640" y="3471840"/>
            <a:ext cx="7335720" cy="8571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ublic void doGet(HttpServletRequest request, HttpServletResponse respon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46280" y="3900600"/>
            <a:ext cx="225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32360" y="3900600"/>
            <a:ext cx="243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37760" y="3990960"/>
            <a:ext cx="10411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클라이언트의 요청 객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25720" y="3990960"/>
            <a:ext cx="11325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클라이언트로의 응답 객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71640" y="4870440"/>
            <a:ext cx="7335720" cy="8539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tring helloName = request.getParameter("nam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81640" y="5321160"/>
            <a:ext cx="53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39160" y="5411880"/>
            <a:ext cx="6357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라미터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71640" y="6219720"/>
            <a:ext cx="7335720" cy="49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intWriter out = response.getWri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71640" y="1496880"/>
            <a:ext cx="7335720" cy="10321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marL="4572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form action ="/MySample/servlet/SimpleResponse" method="GET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put type="text" name="name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put type="submit" value="submit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039080" y="1274760"/>
            <a:ext cx="2033640" cy="15685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137360" y="2259000"/>
            <a:ext cx="170964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3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간단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 동작과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4640" y="1224000"/>
            <a:ext cx="801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6280" y="1546200"/>
            <a:ext cx="1138320" cy="93672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539640" y="1571760"/>
            <a:ext cx="101124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165240" y="2567160"/>
            <a:ext cx="1785960" cy="13856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165240" y="4870440"/>
            <a:ext cx="1779480" cy="10922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851280" y="1719360"/>
            <a:ext cx="5221440" cy="40496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44960" y="3733920"/>
            <a:ext cx="16066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Servlet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54400" y="5003640"/>
            <a:ext cx="1362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ntWri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40560" y="2212920"/>
            <a:ext cx="3241440" cy="2656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7719840" y="2533680"/>
            <a:ext cx="944640" cy="804600"/>
            <a:chOff x="7719840" y="2533680"/>
            <a:chExt cx="944640" cy="804600"/>
          </a:xfrm>
        </p:grpSpPr>
        <p:sp>
          <p:nvSpPr>
            <p:cNvPr id="377" name="Gear"/>
            <p:cNvSpPr/>
            <p:nvPr/>
          </p:nvSpPr>
          <p:spPr>
            <a:xfrm>
              <a:off x="8243640" y="2533680"/>
              <a:ext cx="420840" cy="3690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19840" y="2685600"/>
              <a:ext cx="503280" cy="441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46360" y="2848320"/>
              <a:ext cx="559440" cy="489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792040" y="2319480"/>
            <a:ext cx="20271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impleResponse 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21280" y="4121280"/>
            <a:ext cx="2880000" cy="568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Get(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1200" y="3417840"/>
            <a:ext cx="1575000" cy="316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42160" y="4265640"/>
            <a:ext cx="61308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73760" y="4265640"/>
            <a:ext cx="71352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86" idx="3"/>
            <a:endCxn id="373" idx="1"/>
          </p:cNvCxnSpPr>
          <p:nvPr/>
        </p:nvCxnSpPr>
        <p:spPr>
          <a:xfrm flipV="1">
            <a:off x="1985760" y="3885840"/>
            <a:ext cx="2059560" cy="364320"/>
          </a:xfrm>
          <a:prstGeom prst="bentConnector3">
            <a:avLst>
              <a:gd name="adj1" fmla="val 6444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387" name=""/>
          <p:cNvCxnSpPr>
            <a:stCxn id="373" idx="3"/>
            <a:endCxn id="383" idx="0"/>
          </p:cNvCxnSpPr>
          <p:nvPr/>
        </p:nvCxnSpPr>
        <p:spPr>
          <a:xfrm>
            <a:off x="5651640" y="3886200"/>
            <a:ext cx="1497600" cy="38016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388" name=""/>
          <p:cNvCxnSpPr>
            <a:stCxn id="384" idx="2"/>
            <a:endCxn id="374" idx="3"/>
          </p:cNvCxnSpPr>
          <p:nvPr/>
        </p:nvCxnSpPr>
        <p:spPr>
          <a:xfrm rot="5400000">
            <a:off x="6464160" y="3589920"/>
            <a:ext cx="618480" cy="251532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389" name=""/>
          <p:cNvCxnSpPr>
            <a:stCxn id="374" idx="1"/>
            <a:endCxn id="371" idx="3"/>
          </p:cNvCxnSpPr>
          <p:nvPr/>
        </p:nvCxnSpPr>
        <p:spPr>
          <a:xfrm flipV="1" rot="10800000">
            <a:off x="1944000" y="5155200"/>
            <a:ext cx="2210400" cy="261000"/>
          </a:xfrm>
          <a:prstGeom prst="bentConnector3">
            <a:avLst>
              <a:gd name="adj1" fmla="val 31878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2264760" y="5275440"/>
            <a:ext cx="7347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240" y="4125960"/>
            <a:ext cx="1906920" cy="24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SimpleResponse?name=G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82" idx="2"/>
            <a:endCxn id="386" idx="0"/>
          </p:cNvCxnSpPr>
          <p:nvPr/>
        </p:nvCxnSpPr>
        <p:spPr>
          <a:xfrm>
            <a:off x="1028520" y="3753000"/>
            <a:ext cx="1080" cy="373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4032360" y="3340080"/>
            <a:ext cx="1606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Servlet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86" idx="3"/>
            <a:endCxn id="392" idx="1"/>
          </p:cNvCxnSpPr>
          <p:nvPr/>
        </p:nvCxnSpPr>
        <p:spPr>
          <a:xfrm flipV="1">
            <a:off x="1986120" y="3492000"/>
            <a:ext cx="2046960" cy="758160"/>
          </a:xfrm>
          <a:prstGeom prst="bentConnector3">
            <a:avLst>
              <a:gd name="adj1" fmla="val 64925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2274480" y="4105440"/>
            <a:ext cx="6249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>
            <a:stCxn id="392" idx="3"/>
            <a:endCxn id="384" idx="0"/>
          </p:cNvCxnSpPr>
          <p:nvPr/>
        </p:nvCxnSpPr>
        <p:spPr>
          <a:xfrm>
            <a:off x="5638680" y="3492360"/>
            <a:ext cx="2393280" cy="77400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96" name=""/>
          <p:cNvSpPr/>
          <p:nvPr/>
        </p:nvSpPr>
        <p:spPr>
          <a:xfrm>
            <a:off x="6195960" y="5184720"/>
            <a:ext cx="130032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response.getWrite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3.5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서블릿의 한글 문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ponse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객체의 한글 인코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응답으로 전송되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객체의 한글 표현을 위해 한글 인코딩을 설정해 주어야 한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객체의 한글 인코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라이언트로부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방식으로 전송된 요청 정보는 한글 인코딩을 설정해 주어야 제대로 사용할 수 있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71640" y="2168640"/>
            <a:ext cx="6345000" cy="49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ponse.setContentType("text/html;charset=euc-k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71640" y="3878280"/>
            <a:ext cx="6345000" cy="49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quest.setCharacterEncoding("euc-k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4640" y="4778280"/>
            <a:ext cx="801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80" y="5100480"/>
            <a:ext cx="1138320" cy="93672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539640" y="5126040"/>
            <a:ext cx="1011240" cy="7840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644120" y="5213520"/>
            <a:ext cx="624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53480" y="5640480"/>
            <a:ext cx="734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11640" y="4599000"/>
            <a:ext cx="5400720" cy="16653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54120" y="5815080"/>
            <a:ext cx="1216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454120" y="5363640"/>
            <a:ext cx="117180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30600" y="5194440"/>
            <a:ext cx="16066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Servlet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75240" y="5645160"/>
            <a:ext cx="1606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Servlet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5560" y="4915080"/>
            <a:ext cx="3241800" cy="1215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5470560" y="5234040"/>
            <a:ext cx="944640" cy="804600"/>
            <a:chOff x="5470560" y="5234040"/>
            <a:chExt cx="944640" cy="804600"/>
          </a:xfrm>
        </p:grpSpPr>
        <p:sp>
          <p:nvSpPr>
            <p:cNvPr id="413" name="Gear"/>
            <p:cNvSpPr/>
            <p:nvPr/>
          </p:nvSpPr>
          <p:spPr>
            <a:xfrm>
              <a:off x="5994360" y="5234040"/>
              <a:ext cx="420840" cy="3690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70560" y="5385960"/>
              <a:ext cx="503280" cy="441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97080" y="5548680"/>
              <a:ext cx="559440" cy="489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387040" y="5019840"/>
            <a:ext cx="622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611760" y="5668920"/>
            <a:ext cx="1740240" cy="325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객체 인코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611760" y="5218200"/>
            <a:ext cx="1740240" cy="325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객체 인코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4 HttpServletRequest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객체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4.1 HTT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요청 메시지의 구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요청 메시지의 구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요청 라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헤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t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rcRect l="0" t="0" r="24727" b="0"/>
          <a:stretch/>
        </p:blipFill>
        <p:spPr>
          <a:xfrm>
            <a:off x="382680" y="2928960"/>
            <a:ext cx="3600360" cy="30211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424" name=""/>
          <p:cNvSpPr/>
          <p:nvPr/>
        </p:nvSpPr>
        <p:spPr>
          <a:xfrm>
            <a:off x="4071960" y="3244680"/>
            <a:ext cx="271440" cy="2249640"/>
          </a:xfrm>
          <a:custGeom>
            <a:avLst/>
            <a:gdLst>
              <a:gd name="textAreaLeft" fmla="*/ 0 w 271440"/>
              <a:gd name="textAreaRight" fmla="*/ 97920 w 271440"/>
              <a:gd name="textAreaTop" fmla="*/ 58320 h 2249640"/>
              <a:gd name="textAreaBottom" fmla="*/ 2191320 h 224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71960" y="2928960"/>
            <a:ext cx="271440" cy="231840"/>
          </a:xfrm>
          <a:custGeom>
            <a:avLst/>
            <a:gdLst>
              <a:gd name="textAreaLeft" fmla="*/ 0 w 271440"/>
              <a:gd name="textAreaRight" fmla="*/ 97920 w 2714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071960" y="5584680"/>
            <a:ext cx="271440" cy="314640"/>
          </a:xfrm>
          <a:custGeom>
            <a:avLst/>
            <a:gdLst>
              <a:gd name="textAreaLeft" fmla="*/ 0 w 271440"/>
              <a:gd name="textAreaRight" fmla="*/ 97920 w 271440"/>
              <a:gd name="textAreaTop" fmla="*/ 7920 h 314640"/>
              <a:gd name="textAreaBottom" fmla="*/ 306720 h 3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33760" y="2889360"/>
            <a:ext cx="1440000" cy="328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33760" y="4181400"/>
            <a:ext cx="1440000" cy="328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der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33760" y="5545080"/>
            <a:ext cx="1440000" cy="328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ity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29280" y="2844720"/>
            <a:ext cx="2544840" cy="328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hod   URL   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32520" y="3654360"/>
            <a:ext cx="2544840" cy="132084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Header_Field_Name   :  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Header_Field_Name   :  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Header_Field_Name   :  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32520" y="5530680"/>
            <a:ext cx="2544840" cy="328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Request_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4751280" y="1584360"/>
            <a:ext cx="579600" cy="9064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327720" y="1347480"/>
            <a:ext cx="1873440" cy="860760"/>
          </a:xfrm>
          <a:prstGeom prst="cloudCallout">
            <a:avLst>
              <a:gd name="adj1" fmla="val -95587"/>
              <a:gd name="adj2" fmla="val 1237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프로토콜을 통해 전달되는 요청 메시지는 아래와 같은 구조를 갖는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4.2 HTT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요청 메시지의 헤더 출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객체로부터 헤더의 이름 집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Enumeration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얻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헤더 이름 집합으로부터 헤더 얻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971640" y="1673280"/>
            <a:ext cx="6345000" cy="76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Enumeration headerNames = request.getHeaderName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76640" y="2077920"/>
            <a:ext cx="157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94040" y="2146320"/>
            <a:ext cx="20908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객체로부터 헤더의 이름 집합을 반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71640" y="3514680"/>
            <a:ext cx="6345000" cy="22096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while(headerNames.hasMoreElements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name = (String)headerNames.nextEle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value = request.getHeader(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81280" y="3968640"/>
            <a:ext cx="162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2040" y="4035600"/>
            <a:ext cx="24382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umeratio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객체로부터 다음 요소가 있는지 검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86280" y="4599000"/>
            <a:ext cx="121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27640" y="4665600"/>
            <a:ext cx="20329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umeratio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객체로부터 다음 요소 반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60920" y="5273640"/>
            <a:ext cx="148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733560" y="5340240"/>
            <a:ext cx="15256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헤더 이름을 이용해서 해당 값 추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5 HttpServletResponse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객체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551640" y="3271680"/>
            <a:ext cx="541440" cy="223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5.1 HTT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응답 메시지의 구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응답 메시지의 구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상태 라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헤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657360" y="3718080"/>
            <a:ext cx="2814480" cy="17859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453" name=""/>
          <p:cNvSpPr/>
          <p:nvPr/>
        </p:nvSpPr>
        <p:spPr>
          <a:xfrm>
            <a:off x="3538440" y="4029120"/>
            <a:ext cx="271440" cy="588960"/>
          </a:xfrm>
          <a:custGeom>
            <a:avLst/>
            <a:gdLst>
              <a:gd name="textAreaLeft" fmla="*/ 0 w 271440"/>
              <a:gd name="textAreaRight" fmla="*/ 97920 w 271440"/>
              <a:gd name="textAreaTop" fmla="*/ 15120 h 588960"/>
              <a:gd name="textAreaBottom" fmla="*/ 573840 h 58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38440" y="3713040"/>
            <a:ext cx="271440" cy="231840"/>
          </a:xfrm>
          <a:custGeom>
            <a:avLst/>
            <a:gdLst>
              <a:gd name="textAreaLeft" fmla="*/ 0 w 271440"/>
              <a:gd name="textAreaRight" fmla="*/ 97920 w 2714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38440" y="4708440"/>
            <a:ext cx="271440" cy="765360"/>
          </a:xfrm>
          <a:custGeom>
            <a:avLst/>
            <a:gdLst>
              <a:gd name="textAreaLeft" fmla="*/ 0 w 271440"/>
              <a:gd name="textAreaRight" fmla="*/ 97920 w 271440"/>
              <a:gd name="textAreaTop" fmla="*/ 19800 h 765360"/>
              <a:gd name="textAreaBottom" fmla="*/ 745560 h 76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299120" y="3267000"/>
            <a:ext cx="1439640" cy="328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pons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99120" y="4378320"/>
            <a:ext cx="1439640" cy="328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der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99120" y="5621400"/>
            <a:ext cx="1439640" cy="328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94280" y="3222720"/>
            <a:ext cx="2544840" cy="328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sion  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97520" y="3881520"/>
            <a:ext cx="2544840" cy="132084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Header_Field_Name   :  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Header_Field_Name   :  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Header_Field_Name   :  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97520" y="5607000"/>
            <a:ext cx="2544840" cy="328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Response_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54" idx="1"/>
            <a:endCxn id="456" idx="1"/>
          </p:cNvCxnSpPr>
          <p:nvPr/>
        </p:nvCxnSpPr>
        <p:spPr>
          <a:xfrm flipV="1">
            <a:off x="3823920" y="3431880"/>
            <a:ext cx="475560" cy="397440"/>
          </a:xfrm>
          <a:prstGeom prst="curvedConnector5">
            <a:avLst>
              <a:gd name="adj1" fmla="val 48106"/>
              <a:gd name="adj2" fmla="val 49954"/>
              <a:gd name="adj3" fmla="val 48106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463" name=""/>
          <p:cNvCxnSpPr>
            <a:stCxn id="453" idx="1"/>
            <a:endCxn id="457" idx="1"/>
          </p:cNvCxnSpPr>
          <p:nvPr/>
        </p:nvCxnSpPr>
        <p:spPr>
          <a:xfrm>
            <a:off x="3823920" y="4323960"/>
            <a:ext cx="475560" cy="219960"/>
          </a:xfrm>
          <a:prstGeom prst="curvedConnector5">
            <a:avLst>
              <a:gd name="adj1" fmla="val 48106"/>
              <a:gd name="adj2" fmla="val 50000"/>
              <a:gd name="adj3" fmla="val 48106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464" name=""/>
          <p:cNvCxnSpPr>
            <a:stCxn id="455" idx="1"/>
            <a:endCxn id="458" idx="1"/>
          </p:cNvCxnSpPr>
          <p:nvPr/>
        </p:nvCxnSpPr>
        <p:spPr>
          <a:xfrm>
            <a:off x="3823920" y="5090760"/>
            <a:ext cx="475560" cy="695520"/>
          </a:xfrm>
          <a:prstGeom prst="curvedConnector5">
            <a:avLst>
              <a:gd name="adj1" fmla="val 48106"/>
              <a:gd name="adj2" fmla="val 49974"/>
              <a:gd name="adj3" fmla="val 48106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6069240" y="1647720"/>
            <a:ext cx="2145960" cy="124956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1 Moved Perman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 Bad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4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5 HTTP Version Not Suppo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49" idx="0"/>
            <a:endCxn id="465" idx="2"/>
          </p:cNvCxnSpPr>
          <p:nvPr/>
        </p:nvCxnSpPr>
        <p:spPr>
          <a:xfrm flipH="1" flipV="1" rot="5400000">
            <a:off x="6791040" y="2920680"/>
            <a:ext cx="383040" cy="319680"/>
          </a:xfrm>
          <a:prstGeom prst="curvedConnector5">
            <a:avLst>
              <a:gd name="adj1" fmla="val 49764"/>
              <a:gd name="adj2" fmla="val 49943"/>
              <a:gd name="adj3" fmla="val 49764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6057720" y="1359000"/>
            <a:ext cx="10245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457360" y="2573280"/>
            <a:ext cx="689040" cy="96696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716280" y="1707840"/>
            <a:ext cx="1781280" cy="860760"/>
          </a:xfrm>
          <a:prstGeom prst="cloudCallout">
            <a:avLst>
              <a:gd name="adj1" fmla="val -85824"/>
              <a:gd name="adj2" fmla="val 6178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응답 메시지는 처리 결과에 따라 상태 코드를 기술하여 전송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5.2 respon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 상태 코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태 코드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Status Cod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HttpServletRespons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인터페이스에 상태 코드와 관련된 다양한 멤버 필드가 정의되어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태 코드의 구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번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클라이언트의 요청을 성공적으로 수행하였음을 의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HttpServletResponse.SC_OK :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정상적인 수행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(2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번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일들이 이동되었을 때 사용되는 코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일의 이동 위치를 나타내는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Location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헤더가 포함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번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클라이언트의 요청에 문제가 있을 경우 발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HttpServletResponse.SC_BAD_REQUEST :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잘못된 요청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(4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번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웹 서버가 클라이언트의 요청을 처리하는 도중 에러가 발생하였을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HttpServletResponse.SC_INTERNAL_SERVER_ERROR : HTTP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서버 에러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(5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서블릿의 동작 원리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5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상태 코드 예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파라미터 저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파라미터 값에 따라 해당 에러 페이지 전송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71640" y="1538280"/>
            <a:ext cx="7650000" cy="76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t status = Integer.parseInt(request.getParameter("status"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006640" y="1943280"/>
            <a:ext cx="387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45440" y="2011320"/>
            <a:ext cx="22719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us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라미터 값을 가져와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형으로 변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89360"/>
            <a:ext cx="7650000" cy="337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witch(statu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ase 400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ponse.sendError(HttpServletResponse.SC_BAD_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ase 404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ponse.sendError(HttpServletResponse.SC_NOT_FOU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ase 500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ponse.sendError(HttpServletResponse.SC_INTERNAL_SERVER_ERRO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default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ponse.sendError(HttpServletResponse.SC_O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11360" y="3743280"/>
            <a:ext cx="4400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24280" y="3811680"/>
            <a:ext cx="183960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라미터 값에 따라 해당 에러 페이지 전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5.4 Refresh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헤더 항목 설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reshPage.java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reshPage.java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컴파일과 실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71640" y="1584360"/>
            <a:ext cx="6345000" cy="76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ponse.setHeader("Refresh", "5;URL=http://www.jabook.co.k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781280" y="1943280"/>
            <a:ext cx="4681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779920" y="2011320"/>
            <a:ext cx="27424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esh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헤더 항목을 설정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초 후 다른 웹 사이트로 이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280" y="3068640"/>
            <a:ext cx="5356440" cy="585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:\...\MySample\WEB-INF\classes&gt; javac RefreshPage.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80" y="3745080"/>
            <a:ext cx="5356440" cy="585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localhost:8080/MySample/servlet/Refresh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5977080" y="2987640"/>
            <a:ext cx="2735280" cy="1432080"/>
          </a:xfrm>
          <a:prstGeom prst="rect">
            <a:avLst/>
          </a:prstGeom>
          <a:ln w="0">
            <a:noFill/>
          </a:ln>
        </p:spPr>
      </p:pic>
      <p:cxnSp>
        <p:nvCxnSpPr>
          <p:cNvPr id="488" name=""/>
          <p:cNvCxnSpPr>
            <a:stCxn id="486" idx="3"/>
            <a:endCxn id="487" idx="1"/>
          </p:cNvCxnSpPr>
          <p:nvPr/>
        </p:nvCxnSpPr>
        <p:spPr>
          <a:xfrm flipV="1">
            <a:off x="5427720" y="3703320"/>
            <a:ext cx="550080" cy="335520"/>
          </a:xfrm>
          <a:prstGeom prst="curvedConnector5">
            <a:avLst>
              <a:gd name="adj1" fmla="val 49967"/>
              <a:gd name="adj2" fmla="val 49946"/>
              <a:gd name="adj3" fmla="val 49967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489" name=""/>
          <p:cNvCxnSpPr>
            <a:stCxn id="487" idx="3"/>
            <a:endCxn id="490" idx="3"/>
          </p:cNvCxnSpPr>
          <p:nvPr/>
        </p:nvCxnSpPr>
        <p:spPr>
          <a:xfrm flipH="1">
            <a:off x="7992720" y="3703680"/>
            <a:ext cx="720000" cy="1730880"/>
          </a:xfrm>
          <a:prstGeom prst="curvedConnector5">
            <a:avLst>
              <a:gd name="adj1" fmla="val -31565"/>
              <a:gd name="adj2" fmla="val 49989"/>
              <a:gd name="adj3" fmla="val -31565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1614600" y="4419720"/>
            <a:ext cx="2778120" cy="18619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492" name=""/>
          <p:cNvSpPr/>
          <p:nvPr/>
        </p:nvSpPr>
        <p:spPr>
          <a:xfrm>
            <a:off x="1569960" y="4741920"/>
            <a:ext cx="2745000" cy="26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5230800" y="4643280"/>
            <a:ext cx="2762280" cy="15814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668880" y="4464000"/>
            <a:ext cx="82764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102360" y="5184720"/>
            <a:ext cx="274464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0" spc="-1" strike="noStrike">
                <a:solidFill>
                  <a:srgbClr val="ffcc00"/>
                </a:solidFill>
                <a:latin typeface="Tahoma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88920"/>
            <a:ext cx="9144000" cy="5346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6200" y="3274920"/>
            <a:ext cx="8381880" cy="10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920" y="4626000"/>
            <a:ext cx="8381880" cy="16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1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웹 서버의 역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일반적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요청 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라이언트의 요청이 전달되면 해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문서가 웹 서버에 존재하는지 검사한 후 직접 서비스가 이루어진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서블릿 요청 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웹 서버는 클라이언트로부터 전달된 요청 정보를 묶어서 서블릿 컨테이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rvlet Container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에게 전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서블릿 컨테이너는 해당 서블릿을 검색한 후 서블릿이 존재하면 서블릿을 실행하여 클라이언트의 요청을 처리하고 응답해 준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280" y="1270080"/>
            <a:ext cx="946080" cy="11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6280" y="2077920"/>
            <a:ext cx="681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2760" y="1538280"/>
            <a:ext cx="647640" cy="501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67000" y="1179360"/>
            <a:ext cx="2023920" cy="1573200"/>
          </a:xfrm>
          <a:prstGeom prst="cube">
            <a:avLst>
              <a:gd name="adj" fmla="val 9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72000" y="1179360"/>
            <a:ext cx="2024280" cy="1573200"/>
          </a:xfrm>
          <a:prstGeom prst="cube">
            <a:avLst>
              <a:gd name="adj" fmla="val 9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95920" y="1763640"/>
            <a:ext cx="576360" cy="6462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788080" y="1825560"/>
            <a:ext cx="358560" cy="306360"/>
            <a:chOff x="5788080" y="1825560"/>
            <a:chExt cx="358560" cy="306360"/>
          </a:xfrm>
        </p:grpSpPr>
        <p:sp>
          <p:nvSpPr>
            <p:cNvPr id="125" name="Gear"/>
            <p:cNvSpPr/>
            <p:nvPr/>
          </p:nvSpPr>
          <p:spPr>
            <a:xfrm>
              <a:off x="5986800" y="1825560"/>
              <a:ext cx="159840" cy="140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88080" y="1883160"/>
              <a:ext cx="191160" cy="167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11920" y="1945440"/>
              <a:ext cx="212400" cy="1864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302000" y="2664000"/>
            <a:ext cx="1500480" cy="904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470640" y="1943280"/>
            <a:ext cx="576360" cy="6458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562800" y="2004840"/>
            <a:ext cx="358560" cy="306720"/>
            <a:chOff x="6562800" y="2004840"/>
            <a:chExt cx="358560" cy="306720"/>
          </a:xfrm>
        </p:grpSpPr>
        <p:sp>
          <p:nvSpPr>
            <p:cNvPr id="131" name="Gear"/>
            <p:cNvSpPr/>
            <p:nvPr/>
          </p:nvSpPr>
          <p:spPr>
            <a:xfrm>
              <a:off x="6761520" y="2004840"/>
              <a:ext cx="159840" cy="140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62800" y="2062800"/>
              <a:ext cx="191160" cy="168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86640" y="2124720"/>
              <a:ext cx="212400" cy="1868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686640" y="2293200"/>
            <a:ext cx="2341440" cy="1099440"/>
          </a:xfrm>
          <a:prstGeom prst="cloudCallout">
            <a:avLst>
              <a:gd name="adj1" fmla="val -102740"/>
              <a:gd name="adj2" fmla="val 3955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클라이언트의 요청 종류에 따라 웹 서버는 자신이 서비스를 해주거나 서블릿 컨테이너를 호출하여 서블릿을 실행한 후 응답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03520" y="2023920"/>
            <a:ext cx="517680" cy="595440"/>
          </a:xfrm>
          <a:prstGeom prst="foldedCorner">
            <a:avLst>
              <a:gd name="adj" fmla="val 12500"/>
            </a:avLst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90840" y="1719360"/>
            <a:ext cx="517680" cy="595080"/>
          </a:xfrm>
          <a:prstGeom prst="foldedCorner">
            <a:avLst>
              <a:gd name="adj" fmla="val 12500"/>
            </a:avLst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92720" y="1719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92720" y="1989000"/>
            <a:ext cx="107928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87360" y="1719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87360" y="1989000"/>
            <a:ext cx="107964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1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서블릿 컨테이너의 역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요청 및 응답 객체 생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웹 서버로부터 넘겨 받은 요청 정보를 이용해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ServletReques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객체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ServletResponse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객체 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서블릿 객체 생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서블릿 객체가 서블릿 컨테이너에 로딩되어 있다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바로 해당 서블릿 객체 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서블릿 객체가 서블릿 컨테이너에 로딩되어 있지 않다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해당 서블릿의 클래스 파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.class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을 로딩한 후 객체 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서블릿의 실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사용자가 작성한 서블릿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et(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메소드 호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033640"/>
            <a:ext cx="6030720" cy="7300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HttpServletRequest req = new HttpServletReques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HttpServletResponse res = new HttpServletRespo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4545000"/>
            <a:ext cx="6030720" cy="504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Servlet m = new MyServle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71640" y="6039000"/>
            <a:ext cx="6030720" cy="504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.doGet(req, re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1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프로그래머의 역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ervle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클래스 상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서블릿이 되기 위해서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Servle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을 반드시 상속해야 한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서블릿 클래스는 반드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이어야 한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Get(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메소드 재정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et(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메소드의 매개변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ServletReque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ServletRespons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가 들어 올 것이라는 가정하에  클라이언트로 서비스할 프로그램 작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2347920"/>
            <a:ext cx="6345000" cy="112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class MyServlet extends HttpServle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5048280"/>
            <a:ext cx="6345000" cy="112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doGet(HttpServletRequest req, HttpServletResponse re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58080" y="1694880"/>
            <a:ext cx="2027160" cy="1099440"/>
          </a:xfrm>
          <a:prstGeom prst="cloudCallout">
            <a:avLst>
              <a:gd name="adj1" fmla="val -3111"/>
              <a:gd name="adj2" fmla="val 9484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서블릿 클래스는 누구나 호출해서 쓸 수 있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어야만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잊지 말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21680" y="2979720"/>
            <a:ext cx="895320" cy="10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1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프로그래머의 역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Get(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메소드의 코드 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ServletResponse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객체의 한글 처리 지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ServletResponse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객체로부터 클라이언트 스트림 얻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라이언트의 요청 정보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ServletReque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의 정보 추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1898640"/>
            <a:ext cx="6345000" cy="49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.setContentType("text/html;charset=euc-k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3068640"/>
            <a:ext cx="6345000" cy="49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rintWriter out = res.getWri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4237200"/>
            <a:ext cx="6345000" cy="207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ln(req.getProtocol() + "&lt;br&gt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ln(req.getRemoteAddr() + "&lt;br&gt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ln(req.getRemoteHost() + "&lt;br&gt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ln(req.getScheme() + "&lt;br&gt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ln(req.getServerName() + "&lt;br&gt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ln(req.getServerPort() + "&lt;br&gt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1.5 MyServle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실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920" y="3790800"/>
            <a:ext cx="6807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34880" y="3197160"/>
            <a:ext cx="647640" cy="501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rot="16200000">
            <a:off x="3871080" y="3245400"/>
            <a:ext cx="2305080" cy="44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195560" y="3203640"/>
            <a:ext cx="355572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95560" y="3654360"/>
            <a:ext cx="3555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6120" y="2913120"/>
            <a:ext cx="54432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서블릿 요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78200" y="3722760"/>
            <a:ext cx="54432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서블릿 응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97000" y="4179960"/>
            <a:ext cx="3260520" cy="1904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5120" y="2508120"/>
            <a:ext cx="4189680" cy="300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localhost:8080/MySample/servlet/My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67360" y="1314360"/>
            <a:ext cx="2970360" cy="48592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7720" y="5454720"/>
            <a:ext cx="2116080" cy="404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y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246640" y="2033640"/>
            <a:ext cx="1081080" cy="1125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246280" y="3698640"/>
            <a:ext cx="1081080" cy="1935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2720" y="5094360"/>
            <a:ext cx="10911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et()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메소드 호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50560" y="4284720"/>
            <a:ext cx="8200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oke()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호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198520" y="1133640"/>
            <a:ext cx="933480" cy="1071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07000" y="1049400"/>
            <a:ext cx="2027160" cy="1099080"/>
          </a:xfrm>
          <a:prstGeom prst="cloudCallout">
            <a:avLst>
              <a:gd name="adj1" fmla="val -84763"/>
              <a:gd name="adj2" fmla="val -582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Servle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객체가 로딩되어 있지 않다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Servle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객체를 로딩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7720" y="1854360"/>
            <a:ext cx="2116080" cy="404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yServlet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97720" y="2665440"/>
            <a:ext cx="1260360" cy="58428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yServlet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객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생성 및 로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7720" y="3651120"/>
            <a:ext cx="2116080" cy="58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요청 정보를 이용해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요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응답 객체 생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7720" y="4645080"/>
            <a:ext cx="2116080" cy="404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386480" y="2258640"/>
            <a:ext cx="742320" cy="407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82" name=""/>
          <p:cNvCxnSpPr>
            <a:stCxn id="178" idx="2"/>
            <a:endCxn id="179" idx="0"/>
          </p:cNvCxnSpPr>
          <p:nvPr/>
        </p:nvCxnSpPr>
        <p:spPr>
          <a:xfrm flipH="1">
            <a:off x="7386120" y="3249360"/>
            <a:ext cx="742320" cy="4021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6371280" y="257328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7" idx="2"/>
            <a:endCxn id="183" idx="2"/>
          </p:cNvCxnSpPr>
          <p:nvPr/>
        </p:nvCxnSpPr>
        <p:spPr>
          <a:xfrm flipH="1">
            <a:off x="6424200" y="2258640"/>
            <a:ext cx="962640" cy="6404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185" name=""/>
          <p:cNvCxnSpPr>
            <a:stCxn id="183" idx="2"/>
            <a:endCxn id="179" idx="0"/>
          </p:cNvCxnSpPr>
          <p:nvPr/>
        </p:nvCxnSpPr>
        <p:spPr>
          <a:xfrm>
            <a:off x="6424560" y="2898720"/>
            <a:ext cx="962640" cy="7531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86" name=""/>
          <p:cNvCxnSpPr>
            <a:stCxn id="179" idx="2"/>
            <a:endCxn id="180" idx="0"/>
          </p:cNvCxnSpPr>
          <p:nvPr/>
        </p:nvCxnSpPr>
        <p:spPr>
          <a:xfrm>
            <a:off x="7386120" y="4238280"/>
            <a:ext cx="1080" cy="407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87" name=""/>
          <p:cNvCxnSpPr>
            <a:stCxn id="180" idx="2"/>
            <a:endCxn id="170" idx="0"/>
          </p:cNvCxnSpPr>
          <p:nvPr/>
        </p:nvCxnSpPr>
        <p:spPr>
          <a:xfrm>
            <a:off x="7386120" y="5049360"/>
            <a:ext cx="1080" cy="4057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7868880" y="2259000"/>
            <a:ext cx="4528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없을 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47960" y="2259000"/>
            <a:ext cx="4528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있을 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2 HttpServlet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의 동작과 구현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05:03:27Z</dcterms:created>
  <dc:creator>최영관</dc:creator>
  <dc:description/>
  <cp:keywords>프로그래밍 언어</cp:keywords>
  <dc:language>en-US</dc:language>
  <cp:lastModifiedBy>Chamsae</cp:lastModifiedBy>
  <cp:lastPrinted>1999-07-19T06:05:37Z</cp:lastPrinted>
  <dcterms:modified xsi:type="dcterms:W3CDTF">2008-04-11T13:17:12Z</dcterms:modified>
  <cp:revision>8401</cp:revision>
  <dc:subject/>
  <dc:title>프로그래밍 언어</dc:title>
</cp:coreProperties>
</file>