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2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8.wmf" ContentType="image/x-wmf"/>
  <Override PartName="/ppt/media/image9.png" ContentType="image/png"/>
  <Override PartName="/ppt/media/image31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1E5-9EF1-4D28-AF49-560EF566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468-7856-4508-876E-4192B473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BA9-BA39-47E7-8817-7BE09F6F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CFA-D026-4926-8D58-4D2A23F9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B615-6208-42AB-9706-FBF8C8DA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4249-53F4-4261-AA3A-06874F75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956B-EDBE-49FE-957A-17C8B2FC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7061-A0F6-4DF4-8A06-B84BC2F4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EA99-EE3B-46FE-9F78-55CDAD93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51FB-E9A4-4316-B142-DFD655CD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9AA0-D92C-499B-8CDC-2C948C0F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84A-2FCB-4464-B799-2DB6EE47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BBB0-B87C-42E3-88EA-9EA39E20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93F8-2EAD-4292-9035-7DF65345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7E5C-065D-43A1-93FE-1B8B33A6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F268-9503-46D0-B73C-53C1B217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BA1C-CBEC-4173-AC98-0F44B439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2CD-27D8-4B14-ACC3-83F3E382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9AF-9E44-4301-AB18-240802DB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9A3-4B50-481B-8AB7-2933FA16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E85-06A5-4CD5-980A-44DCF9C5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455-3278-4468-A3C1-8B2BCCE9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A37-1843-41FF-AABC-67EADAF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39B-2398-4B01-9DD6-B3AC95A2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38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9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C56F-FE63-4ABC-BC64-5DA9D9DF38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600" y="907920"/>
            <a:ext cx="9131400" cy="0"/>
          </a:xfrm>
          <a:prstGeom prst="line">
            <a:avLst/>
          </a:prstGeom>
          <a:ln w="117360">
            <a:solidFill>
              <a:srgbClr val="a8a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1360" y="609480"/>
            <a:ext cx="8801280" cy="5639040"/>
          </a:xfrm>
          <a:prstGeom prst="rect">
            <a:avLst/>
          </a:prstGeom>
          <a:solidFill>
            <a:srgbClr val="ffead5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760320"/>
            <a:ext cx="8464320" cy="53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560" y="126828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1120" y="252900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86440" y="608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98E7-4C0E-4823-A8BC-C9F554EBA1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9.wmf"/><Relationship Id="rId3" Type="http://schemas.openxmlformats.org/officeDocument/2006/relationships/image" Target="../media/image31.png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958080" y="5184720"/>
            <a:ext cx="188892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2.3 POS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방식에서의 한글처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방식에서의 한글 처리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장 객체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etCharacterEncoding(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소드를 이용해서 데이터의 인코딩을 변환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equest.getParameter(...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호출하기 전에 한글 인코딩이 설정되어 있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방식에서의 한글 인코딩 방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4059360"/>
            <a:ext cx="6345000" cy="17524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quest.setCharacterEncoding("euc-k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tr = request.getParameter("name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858080" y="5138640"/>
            <a:ext cx="1031760" cy="83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686640" y="3209760"/>
            <a:ext cx="2027160" cy="860760"/>
          </a:xfrm>
          <a:prstGeom prst="cloudCallout">
            <a:avLst>
              <a:gd name="adj1" fmla="val 18356"/>
              <a:gd name="adj2" fmla="val 15986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방식에서의 한글 설정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Parameter()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메소드 앞에 선언되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.3 HTML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의 양식 데이터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3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대화형 웹 페이지를 위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태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form&gt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태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웹 서버로 정보를 전달하기 위한 기본 태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속성을 사용해서 정보 전달 방식과 실행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GI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애플리케이션을 지정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input&gt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태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텍스트 필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체크 박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라디오 버튼 등을 만들기 위한 태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textarea&gt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태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대화 상자를 만들기 위한 태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select&gt;, &lt;option&gt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태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선택 목록을 만들기 위한 태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246640" y="4689360"/>
            <a:ext cx="606600" cy="935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732720" y="4542840"/>
            <a:ext cx="2206440" cy="1338120"/>
          </a:xfrm>
          <a:prstGeom prst="cloudCallout">
            <a:avLst>
              <a:gd name="adj1" fmla="val -87259"/>
              <a:gd name="adj2" fmla="val -34643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rm&gt;, &lt;input&gt;, &lt;textarea&gt;, &lt;select&gt;, &lt;option&gt;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태그를 이용해서 웹 서버에 정보를 전달하는 대화형 웹 페이지를 만들 수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3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텍스트 필드 만들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일반적인 텍스트 필드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한 줄로 된 가장 일반적인 형태의 텍스트 필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패스워드 형태의 텍스트 필드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글을 입력하면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*'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기호로 표시되는 텍스트 필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숨겨진 텍스트 필드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겉으로 보이지 않는 텍스트 필드를 작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일반적으로 사용자에 의해 변경되지 않는 고정 값을 전달하기 위해 사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텍스트 상자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여러 줄을 입력할 수 있는 형태의 텍스트 입력 상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1628640"/>
            <a:ext cx="6345000" cy="76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nput     type="text"     name="nam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7360" y="1989000"/>
            <a:ext cx="94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95560" y="1989000"/>
            <a:ext cx="126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08560" y="2089080"/>
            <a:ext cx="8582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텍스트 필드를 생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5680" y="2079720"/>
            <a:ext cx="2000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텍스트 필드의 이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라미터 이름으로 사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2979720"/>
            <a:ext cx="6345000" cy="76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    type="password"     name="pwd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7360" y="3340080"/>
            <a:ext cx="134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46640" y="3340080"/>
            <a:ext cx="1125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4160" y="3392640"/>
            <a:ext cx="12636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패스워드 텍스트 필드를 생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10320" y="3382920"/>
            <a:ext cx="2000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텍스트 필드의 이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라미터 이름으로 사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451640" y="1179360"/>
            <a:ext cx="1524240" cy="295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451640" y="2798640"/>
            <a:ext cx="1476360" cy="304920"/>
          </a:xfrm>
          <a:prstGeom prst="rect">
            <a:avLst/>
          </a:prstGeom>
          <a:ln w="0">
            <a:noFill/>
          </a:ln>
        </p:spPr>
      </p:pic>
      <p:cxnSp>
        <p:nvCxnSpPr>
          <p:cNvPr id="224" name=""/>
          <p:cNvCxnSpPr>
            <a:stCxn id="212" idx="3"/>
            <a:endCxn id="222" idx="2"/>
          </p:cNvCxnSpPr>
          <p:nvPr/>
        </p:nvCxnSpPr>
        <p:spPr>
          <a:xfrm flipV="1">
            <a:off x="7316640" y="1474920"/>
            <a:ext cx="897840" cy="53676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225" name=""/>
          <p:cNvCxnSpPr>
            <a:stCxn id="217" idx="3"/>
            <a:endCxn id="223" idx="2"/>
          </p:cNvCxnSpPr>
          <p:nvPr/>
        </p:nvCxnSpPr>
        <p:spPr>
          <a:xfrm flipV="1">
            <a:off x="7316640" y="3102840"/>
            <a:ext cx="874080" cy="25956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971640" y="4554360"/>
            <a:ext cx="6345000" cy="76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    type="hidden"     value="3"     name="hiddenTex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7360" y="4915080"/>
            <a:ext cx="117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02000" y="4915080"/>
            <a:ext cx="1663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18200" y="5014800"/>
            <a:ext cx="11721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숨겨진 텍스트 필드를 생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72440" y="5005440"/>
            <a:ext cx="2000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텍스트 필드의 이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라미터 이름으로 사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76640" y="4913280"/>
            <a:ext cx="9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45920" y="5002200"/>
            <a:ext cx="3614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값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5994360"/>
            <a:ext cx="7245360" cy="76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textarea     name="myTextarea"     cols="30"     rows="4"&gt; ~~~~~~~~~ &lt;/textare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08080" y="6354720"/>
            <a:ext cx="175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86280" y="6354720"/>
            <a:ext cx="80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52600" y="6454800"/>
            <a:ext cx="10807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텍스트 상자의 이름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57000" y="6445080"/>
            <a:ext cx="3614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좌우 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67360" y="6354720"/>
            <a:ext cx="80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03520" y="6443640"/>
            <a:ext cx="452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상하 길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958080" y="5362560"/>
            <a:ext cx="1923840" cy="676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012000" y="6354720"/>
            <a:ext cx="9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13680" y="6443640"/>
            <a:ext cx="10807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초기 출력 텍스트를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33" idx="3"/>
            <a:endCxn id="240" idx="3"/>
          </p:cNvCxnSpPr>
          <p:nvPr/>
        </p:nvCxnSpPr>
        <p:spPr>
          <a:xfrm flipV="1">
            <a:off x="8216640" y="5699880"/>
            <a:ext cx="665640" cy="677160"/>
          </a:xfrm>
          <a:prstGeom prst="curvedConnector5">
            <a:avLst>
              <a:gd name="adj1" fmla="val 134361"/>
              <a:gd name="adj2" fmla="val 50000"/>
              <a:gd name="adj3" fmla="val 134361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 flipH="1">
            <a:off x="8351640" y="3429000"/>
            <a:ext cx="579240" cy="934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423200" y="4633560"/>
            <a:ext cx="1604880" cy="860760"/>
          </a:xfrm>
          <a:prstGeom prst="cloudCallout">
            <a:avLst>
              <a:gd name="adj1" fmla="val 1129"/>
              <a:gd name="adj2" fmla="val -13716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textarea&gt;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태그는 반드시 닫는 태그를 써주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3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버튼 만들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0920" y="1089000"/>
            <a:ext cx="44564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전송 버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릭 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rm&gt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태그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on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속성에 지정된 작업을 실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초기화 버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릭 시 모든 텍스트 필드의 값을 초기화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파일 찾기 버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릭 시 파일을 선택할 수 있는 대화 상자 출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18080" y="1089000"/>
            <a:ext cx="44100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일반 버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일반적인 형태의 버튼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이미지 버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이미지 파일을 이용해서 버튼을 생성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5920" y="2079720"/>
            <a:ext cx="4321080" cy="720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nput     type="submit"     value=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전송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71640" y="2441520"/>
            <a:ext cx="117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11280" y="2441520"/>
            <a:ext cx="112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40920" y="2532240"/>
            <a:ext cx="6753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전송 버튼 생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43560" y="2532240"/>
            <a:ext cx="11721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버튼에 출력될 텍스트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5920" y="3968640"/>
            <a:ext cx="4321080" cy="720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nput     type="reset"     value=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초기화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71640" y="4330800"/>
            <a:ext cx="107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30560" y="4330800"/>
            <a:ext cx="135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91880" y="4421160"/>
            <a:ext cx="7668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초기화 버튼 생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08920" y="4421160"/>
            <a:ext cx="11721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버튼에 출력될 텍스트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5920" y="5857920"/>
            <a:ext cx="4321080" cy="720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    type="file"     name="fileNam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971640" y="6218280"/>
            <a:ext cx="944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95560" y="6219720"/>
            <a:ext cx="153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7600" y="6307200"/>
            <a:ext cx="10807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 대화상자 버튼 생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72120" y="6310440"/>
            <a:ext cx="8582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필드의 이름을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167360" y="1943280"/>
            <a:ext cx="419040" cy="2570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986280" y="3833640"/>
            <a:ext cx="600120" cy="2476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662360" y="6129360"/>
            <a:ext cx="2419560" cy="276120"/>
          </a:xfrm>
          <a:prstGeom prst="rect">
            <a:avLst/>
          </a:prstGeom>
          <a:ln w="0">
            <a:noFill/>
          </a:ln>
        </p:spPr>
      </p:pic>
      <p:cxnSp>
        <p:nvCxnSpPr>
          <p:cNvPr id="269" name=""/>
          <p:cNvCxnSpPr>
            <a:stCxn id="261" idx="3"/>
            <a:endCxn id="268" idx="2"/>
          </p:cNvCxnSpPr>
          <p:nvPr/>
        </p:nvCxnSpPr>
        <p:spPr>
          <a:xfrm>
            <a:off x="4436640" y="6218280"/>
            <a:ext cx="1435680" cy="187920"/>
          </a:xfrm>
          <a:prstGeom prst="curvedConnector5">
            <a:avLst>
              <a:gd name="adj1" fmla="val 7850"/>
              <a:gd name="adj2" fmla="val 110940"/>
              <a:gd name="adj3" fmla="val 785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4707000" y="1854360"/>
            <a:ext cx="4321080" cy="720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nput     type="button"     value=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클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16160"/>
            <a:ext cx="117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02360" y="2216160"/>
            <a:ext cx="112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32000" y="2306520"/>
            <a:ext cx="6753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일반 버튼 생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34640" y="2306520"/>
            <a:ext cx="11721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버튼에 출력될 텍스트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51280" y="3654360"/>
            <a:ext cx="4321440" cy="720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input     type="image"     src="imageButton.gif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07000" y="4016520"/>
            <a:ext cx="1123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02360" y="4016520"/>
            <a:ext cx="1798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19600" y="4106880"/>
            <a:ext cx="7668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미지 버튼 생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09640" y="4106880"/>
            <a:ext cx="14860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버튼에 사용될 이미지 파일을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8753400" y="1673280"/>
            <a:ext cx="390600" cy="2286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7677000" y="4599000"/>
            <a:ext cx="1009800" cy="419040"/>
          </a:xfrm>
          <a:prstGeom prst="rect">
            <a:avLst/>
          </a:prstGeom>
          <a:ln w="0">
            <a:noFill/>
          </a:ln>
        </p:spPr>
      </p:pic>
      <p:cxnSp>
        <p:nvCxnSpPr>
          <p:cNvPr id="282" name=""/>
          <p:cNvCxnSpPr>
            <a:stCxn id="275" idx="2"/>
            <a:endCxn id="281" idx="1"/>
          </p:cNvCxnSpPr>
          <p:nvPr/>
        </p:nvCxnSpPr>
        <p:spPr>
          <a:xfrm flipH="1" rot="16200000">
            <a:off x="7076880" y="4209120"/>
            <a:ext cx="434160" cy="76572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6200" y="4014720"/>
            <a:ext cx="6040440" cy="274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6200" y="1069920"/>
            <a:ext cx="6040440" cy="2629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92000" y="2303640"/>
            <a:ext cx="3959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30200" y="2708280"/>
            <a:ext cx="46371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32000" y="1449360"/>
            <a:ext cx="2565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32000" y="1898640"/>
            <a:ext cx="2835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3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텍스트 필드와 버튼 예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5560" y="1089000"/>
            <a:ext cx="5986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rm action="textExample.jsp" method="post"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이름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&lt;input type="text" name="name"&gt;&lt;p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암호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&lt;input type="password" name="pwd"&gt;&lt;p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input type="hidden" name="hiddenText" value="3"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기타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&lt;textarea name="myTextarea" cols="25" rows="4"&gt;&lt;/textarea&gt;&lt;p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input type="submit" value="Submit"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912000" y="1498680"/>
            <a:ext cx="1897200" cy="26510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316640" y="2128680"/>
            <a:ext cx="126072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6640" y="2489040"/>
            <a:ext cx="1260720" cy="271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9" idx="3"/>
            <a:endCxn id="294" idx="1"/>
          </p:cNvCxnSpPr>
          <p:nvPr/>
        </p:nvCxnSpPr>
        <p:spPr>
          <a:xfrm>
            <a:off x="3897000" y="1630080"/>
            <a:ext cx="3400920" cy="633960"/>
          </a:xfrm>
          <a:prstGeom prst="curvedConnector5">
            <a:avLst>
              <a:gd name="adj1" fmla="val 50275"/>
              <a:gd name="adj2" fmla="val 50000"/>
              <a:gd name="adj3" fmla="val 5027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0" idx="3"/>
            <a:endCxn id="295" idx="1"/>
          </p:cNvCxnSpPr>
          <p:nvPr/>
        </p:nvCxnSpPr>
        <p:spPr>
          <a:xfrm>
            <a:off x="4167000" y="2079360"/>
            <a:ext cx="3130920" cy="546480"/>
          </a:xfrm>
          <a:prstGeom prst="curvedConnector5">
            <a:avLst>
              <a:gd name="adj1" fmla="val 50298"/>
              <a:gd name="adj2" fmla="val 49967"/>
              <a:gd name="adj3" fmla="val 50298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7677000" y="233280"/>
            <a:ext cx="579600" cy="9064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130720" y="823680"/>
            <a:ext cx="1781280" cy="860400"/>
          </a:xfrm>
          <a:prstGeom prst="cloudCallout">
            <a:avLst>
              <a:gd name="adj1" fmla="val 92773"/>
              <a:gd name="adj2" fmla="val -90944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속성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으로 지정된 텍스트 필드는 보이지 않는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87" idx="1"/>
            <a:endCxn id="299" idx="0"/>
          </p:cNvCxnSpPr>
          <p:nvPr/>
        </p:nvCxnSpPr>
        <p:spPr>
          <a:xfrm flipH="1" rot="10800000">
            <a:off x="790560" y="1253520"/>
            <a:ext cx="4343760" cy="1230840"/>
          </a:xfrm>
          <a:prstGeom prst="curvedConnector5">
            <a:avLst>
              <a:gd name="adj1" fmla="val -12424"/>
              <a:gd name="adj2" fmla="val 50000"/>
              <a:gd name="adj3" fmla="val -12424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7002360" y="2984400"/>
            <a:ext cx="1575000" cy="54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8" idx="3"/>
            <a:endCxn id="301" idx="1"/>
          </p:cNvCxnSpPr>
          <p:nvPr/>
        </p:nvCxnSpPr>
        <p:spPr>
          <a:xfrm>
            <a:off x="5967360" y="2889360"/>
            <a:ext cx="1016640" cy="365760"/>
          </a:xfrm>
          <a:prstGeom prst="curvedConnector5">
            <a:avLst>
              <a:gd name="adj1" fmla="val 50761"/>
              <a:gd name="adj2" fmla="val 49950"/>
              <a:gd name="adj3" fmla="val 50761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6933240" y="1154160"/>
            <a:ext cx="15973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textExample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92000" y="4238640"/>
            <a:ext cx="305928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71640" y="5769000"/>
            <a:ext cx="1439640" cy="9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92000" y="4735440"/>
            <a:ext cx="391500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5920" y="4103640"/>
            <a:ext cx="598644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request.setCharacterEncoding("euc-k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String name = request.getParameter("nam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String pwd = request.getParameter("pw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String hidden = request.getParameter("hiddenTex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String etc = request.getParameter("myTextarea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이름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&lt;%=name%&gt;&lt;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암호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&lt;%=pwd%&gt;&lt;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등급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&lt;%=hidden%&gt;&lt;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기타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&lt;%=etc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6912000" y="4626000"/>
            <a:ext cx="1897200" cy="2027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7316640" y="5257800"/>
            <a:ext cx="900360" cy="11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305" idx="3"/>
            <a:endCxn id="309" idx="1"/>
          </p:cNvCxnSpPr>
          <p:nvPr/>
        </p:nvCxnSpPr>
        <p:spPr>
          <a:xfrm flipV="1">
            <a:off x="2410920" y="5820480"/>
            <a:ext cx="4887000" cy="421560"/>
          </a:xfrm>
          <a:prstGeom prst="curvedConnector5">
            <a:avLst>
              <a:gd name="adj1" fmla="val 50154"/>
              <a:gd name="adj2" fmla="val 50000"/>
              <a:gd name="adj3" fmla="val 5015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6913440" y="4329000"/>
            <a:ext cx="14511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textExample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37000" y="4238640"/>
            <a:ext cx="101304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방식의 한글 인코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2" idx="1"/>
            <a:endCxn id="304" idx="3"/>
          </p:cNvCxnSpPr>
          <p:nvPr/>
        </p:nvCxnSpPr>
        <p:spPr>
          <a:xfrm rot="10800000">
            <a:off x="3850560" y="4440960"/>
            <a:ext cx="586440" cy="108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>
            <a:off x="7002360" y="3608280"/>
            <a:ext cx="54000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4" idx="1"/>
            <a:endCxn id="306" idx="3"/>
          </p:cNvCxnSpPr>
          <p:nvPr/>
        </p:nvCxnSpPr>
        <p:spPr>
          <a:xfrm flipV="1" rot="10800000">
            <a:off x="4706280" y="3720600"/>
            <a:ext cx="2277000" cy="1464480"/>
          </a:xfrm>
          <a:prstGeom prst="curvedConnector5">
            <a:avLst>
              <a:gd name="adj1" fmla="val 49573"/>
              <a:gd name="adj2" fmla="val 49987"/>
              <a:gd name="adj3" fmla="val 49573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5.3.5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선택형 버튼 만들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라디오 버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여러 가지 항목 중 한가지를 선택할 수 있는 선택형 버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input&gt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태그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속성에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radio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로 지정하고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동일한 항목들에 대해 똑같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속성 값을 부여하며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속성에는 해당 항목만 갖는 값을 할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체크 박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여러 가지 항목 중 하나 이상 선택 가능한 선택형 버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input&gt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태그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속성에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heckbox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로 지정하고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동일한 항목들에 대해 똑같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속성 값을 부여하며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속성에는 해당 항목만 갖는 값을 할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1640" y="2529000"/>
            <a:ext cx="6345000" cy="117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nput     type="radio"     name="sex"     value="man"&gt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남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nput     type="radio"     name="sex"     value="woman"&gt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여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827360" y="2933280"/>
            <a:ext cx="103500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086280" y="2933280"/>
            <a:ext cx="10364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92240" y="3025800"/>
            <a:ext cx="76680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라디오 버튼 생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68160" y="3025800"/>
            <a:ext cx="452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버튼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346640" y="2933280"/>
            <a:ext cx="1081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7960" y="3022560"/>
            <a:ext cx="452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항목의 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71640" y="5362560"/>
            <a:ext cx="6345000" cy="117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nput     type="checkbox"     name="hobby"     value="ski"&gt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스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nput     type="checkbox"     name="hobby"     value="inline"&gt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인라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827360" y="5767560"/>
            <a:ext cx="1395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490920" y="5767560"/>
            <a:ext cx="11714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85560" y="5859360"/>
            <a:ext cx="6753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체크 버튼 생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36520" y="5859360"/>
            <a:ext cx="452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버튼 이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930920" y="5767560"/>
            <a:ext cx="946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31880" y="5856120"/>
            <a:ext cx="4528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항목의 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829640" y="2573280"/>
            <a:ext cx="1152360" cy="2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7767720" y="5364000"/>
            <a:ext cx="1295280" cy="3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336" name=""/>
          <p:cNvCxnSpPr>
            <a:stCxn id="320" idx="3"/>
            <a:endCxn id="334" idx="1"/>
          </p:cNvCxnSpPr>
          <p:nvPr/>
        </p:nvCxnSpPr>
        <p:spPr>
          <a:xfrm flipV="1">
            <a:off x="7316280" y="2720520"/>
            <a:ext cx="513720" cy="394560"/>
          </a:xfrm>
          <a:prstGeom prst="curvedConnector5">
            <a:avLst>
              <a:gd name="adj1" fmla="val 49789"/>
              <a:gd name="adj2" fmla="val 49954"/>
              <a:gd name="adj3" fmla="val 49789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337" name=""/>
          <p:cNvCxnSpPr>
            <a:stCxn id="327" idx="3"/>
            <a:endCxn id="335" idx="1"/>
          </p:cNvCxnSpPr>
          <p:nvPr/>
        </p:nvCxnSpPr>
        <p:spPr>
          <a:xfrm flipV="1">
            <a:off x="7316280" y="5525280"/>
            <a:ext cx="451800" cy="423000"/>
          </a:xfrm>
          <a:prstGeom prst="curvedConnector5">
            <a:avLst>
              <a:gd name="adj1" fmla="val 49601"/>
              <a:gd name="adj2" fmla="val 50000"/>
              <a:gd name="adj3" fmla="val 49601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76200" y="1042920"/>
            <a:ext cx="5591160" cy="2432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6200" y="3654360"/>
            <a:ext cx="4691160" cy="2656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6280" y="1538280"/>
            <a:ext cx="445608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46280" y="2349360"/>
            <a:ext cx="5040000" cy="4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5.3.6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선택형 버튼 예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rm action="selectButton.jsp" method="get"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성별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input type="radio" name="sex" value="Man"&gt;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남자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input type="radio" name="sex" value="Woman"&gt;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여자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p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취미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input type="checkbox" name="hobby" value="Ski"&gt;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스키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input type="checkbox" name="hobby" value="Inline"&gt;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인라인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p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input type="submit" value="Submit"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7272360" y="1854360"/>
            <a:ext cx="1701720" cy="1800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713720" y="2484360"/>
            <a:ext cx="103644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713720" y="2800440"/>
            <a:ext cx="1036440" cy="26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0" idx="3"/>
            <a:endCxn id="345" idx="1"/>
          </p:cNvCxnSpPr>
          <p:nvPr/>
        </p:nvCxnSpPr>
        <p:spPr>
          <a:xfrm>
            <a:off x="5202000" y="1763280"/>
            <a:ext cx="2493000" cy="856440"/>
          </a:xfrm>
          <a:prstGeom prst="curvedConnector5">
            <a:avLst>
              <a:gd name="adj1" fmla="val 50317"/>
              <a:gd name="adj2" fmla="val 50000"/>
              <a:gd name="adj3" fmla="val 5031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41" idx="3"/>
            <a:endCxn id="346" idx="2"/>
          </p:cNvCxnSpPr>
          <p:nvPr/>
        </p:nvCxnSpPr>
        <p:spPr>
          <a:xfrm>
            <a:off x="5786280" y="2596680"/>
            <a:ext cx="2447280" cy="492840"/>
          </a:xfrm>
          <a:prstGeom prst="curvedConnector5">
            <a:avLst>
              <a:gd name="adj1" fmla="val 39311"/>
              <a:gd name="adj2" fmla="val 71271"/>
              <a:gd name="adj3" fmla="val 39311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102360" y="954000"/>
            <a:ext cx="579600" cy="9352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047000" y="284040"/>
            <a:ext cx="2027160" cy="860760"/>
          </a:xfrm>
          <a:prstGeom prst="cloudCallout">
            <a:avLst>
              <a:gd name="adj1" fmla="val -66189"/>
              <a:gd name="adj2" fmla="val 84611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라디오 버튼은 하나만 선택 가능하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체크 박스는 여러 개가 선택 가능하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67680" y="1554120"/>
            <a:ext cx="15732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selectButton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6280" y="3924360"/>
            <a:ext cx="310500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6280" y="4329000"/>
            <a:ext cx="412740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71640" y="4778280"/>
            <a:ext cx="85572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46280" y="5364000"/>
            <a:ext cx="2790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5920" y="3700440"/>
            <a:ext cx="837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String sex = request.getParameter("sex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String[] hobby = request.getParameterValues("hobby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성별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&lt;%=sex%&gt;&lt;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취미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for(int i = 0; i &lt; hobby.length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ut.print(hobby[i] + " 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5516640" y="4508640"/>
            <a:ext cx="1701720" cy="1800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5921280" y="5160960"/>
            <a:ext cx="40500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21280" y="5452920"/>
            <a:ext cx="630360" cy="225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4" idx="3"/>
            <a:endCxn id="358" idx="1"/>
          </p:cNvCxnSpPr>
          <p:nvPr/>
        </p:nvCxnSpPr>
        <p:spPr>
          <a:xfrm>
            <a:off x="1827000" y="4915080"/>
            <a:ext cx="4075200" cy="358920"/>
          </a:xfrm>
          <a:prstGeom prst="curvedConnector5">
            <a:avLst>
              <a:gd name="adj1" fmla="val 50216"/>
              <a:gd name="adj2" fmla="val 50000"/>
              <a:gd name="adj3" fmla="val 50216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5" idx="3"/>
            <a:endCxn id="359" idx="1"/>
          </p:cNvCxnSpPr>
          <p:nvPr/>
        </p:nvCxnSpPr>
        <p:spPr>
          <a:xfrm flipV="1">
            <a:off x="3537000" y="5564880"/>
            <a:ext cx="2365920" cy="159480"/>
          </a:xfrm>
          <a:prstGeom prst="curvedConnector5">
            <a:avLst>
              <a:gd name="adj1" fmla="val 50388"/>
              <a:gd name="adj2" fmla="val 50000"/>
              <a:gd name="adj3" fmla="val 50388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7812000" y="3833640"/>
            <a:ext cx="689040" cy="966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912000" y="5233680"/>
            <a:ext cx="1920960" cy="860760"/>
          </a:xfrm>
          <a:prstGeom prst="cloudCallout">
            <a:avLst>
              <a:gd name="adj1" fmla="val -6384"/>
              <a:gd name="adj2" fmla="val -139921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체크 박스는 여러 항목이 선택 가능하므로 값의 배열 형태로 다룬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54160" y="4164120"/>
            <a:ext cx="14266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selectButton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3.7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선택 박스 만들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&lt;select&gt;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태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선택 박스를 만들기 위한 태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속성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select&gt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태그의 이름을 지정하며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는 파라미터 이름으로 사용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select&gt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태그의 속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mutiple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다중 선택 가능한 선택 박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&lt;option&gt;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태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선택 박스에 사용될 항목을 작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option&gt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태그의 속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elected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초기 선택 여부를 지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86280" y="2303640"/>
            <a:ext cx="4049640" cy="19810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elect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ame="liv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ption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ed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서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op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ption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경기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op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elec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769000" y="2638440"/>
            <a:ext cx="10350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730920" y="3292560"/>
            <a:ext cx="7207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86280" y="2730600"/>
            <a:ext cx="9892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선택 박스의 이름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57480" y="3384720"/>
            <a:ext cx="89784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초기 선택 항목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86280" y="4508640"/>
            <a:ext cx="4049640" cy="166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elect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="language"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p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ption&gt;JSP&lt;/op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ption&gt;ASP&lt;/op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elec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769000" y="4843440"/>
            <a:ext cx="1503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13080" y="4935600"/>
            <a:ext cx="98928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선택 박스의 이름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453440" y="4846680"/>
            <a:ext cx="718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30560" y="4937040"/>
            <a:ext cx="67536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다중 선택 옵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76200" y="1042920"/>
            <a:ext cx="4330800" cy="2971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6200" y="4103640"/>
            <a:ext cx="5005440" cy="2656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2000" y="1270080"/>
            <a:ext cx="2835360" cy="10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2000" y="2349360"/>
            <a:ext cx="3600720" cy="12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3.8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선택 박스 예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5920" y="1042920"/>
            <a:ext cx="837216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rm action="selectBox.jsp" method="get"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사는 곳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&lt;select name="live"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option selected&gt;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서울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option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option&gt;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경기도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option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option&gt;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강원도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option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select&gt;&lt;p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개발 언어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&lt;select name="language" multiple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option&gt;JSP&lt;/option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option&gt;ASP&lt;/option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option&gt;Java&lt;/option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option&gt;C#&lt;/option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select&gt;&lt;p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input type="submit" value="Submit"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5911920" y="1268280"/>
            <a:ext cx="1630440" cy="24274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6588000" y="1987560"/>
            <a:ext cx="62892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23000" y="2347920"/>
            <a:ext cx="539640" cy="63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81" idx="3"/>
            <a:endCxn id="386" idx="1"/>
          </p:cNvCxnSpPr>
          <p:nvPr/>
        </p:nvCxnSpPr>
        <p:spPr>
          <a:xfrm>
            <a:off x="3627000" y="1787040"/>
            <a:ext cx="2942280" cy="335880"/>
          </a:xfrm>
          <a:prstGeom prst="curvedConnector5">
            <a:avLst>
              <a:gd name="adj1" fmla="val 50293"/>
              <a:gd name="adj2" fmla="val 50000"/>
              <a:gd name="adj3" fmla="val 5029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9" name=""/>
          <p:cNvCxnSpPr>
            <a:stCxn id="382" idx="3"/>
            <a:endCxn id="387" idx="1"/>
          </p:cNvCxnSpPr>
          <p:nvPr/>
        </p:nvCxnSpPr>
        <p:spPr>
          <a:xfrm flipV="1">
            <a:off x="4392720" y="2663280"/>
            <a:ext cx="2311920" cy="316440"/>
          </a:xfrm>
          <a:prstGeom prst="curvedConnector5">
            <a:avLst>
              <a:gd name="adj1" fmla="val 50397"/>
              <a:gd name="adj2" fmla="val 50000"/>
              <a:gd name="adj3" fmla="val 5039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4976280" y="3024360"/>
            <a:ext cx="675360" cy="24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다중 선택 박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2000" y="1584360"/>
            <a:ext cx="675360" cy="24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단일 선택 박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23080" y="995400"/>
            <a:ext cx="1315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selectBo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" y="4329000"/>
            <a:ext cx="310680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92000" y="4778280"/>
            <a:ext cx="445464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50920" y="5229360"/>
            <a:ext cx="94608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92000" y="5813280"/>
            <a:ext cx="2970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5920" y="4149720"/>
            <a:ext cx="837216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String live = request.getParameter("liv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String[] language = request.getParameterValues("languag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사는 곳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&lt;%=live%&gt;&lt;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개발 언어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for(int i = 0; i &lt; language.length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ut.print(language[i] + " 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6372360" y="4869000"/>
            <a:ext cx="1817640" cy="16635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381360" y="4568760"/>
            <a:ext cx="11692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selectBox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47000" y="5589720"/>
            <a:ext cx="40464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137360" y="5950080"/>
            <a:ext cx="67464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5" idx="3"/>
            <a:endCxn id="400" idx="1"/>
          </p:cNvCxnSpPr>
          <p:nvPr/>
        </p:nvCxnSpPr>
        <p:spPr>
          <a:xfrm>
            <a:off x="2096640" y="5364000"/>
            <a:ext cx="4931640" cy="339120"/>
          </a:xfrm>
          <a:prstGeom prst="curvedConnector5">
            <a:avLst>
              <a:gd name="adj1" fmla="val 50189"/>
              <a:gd name="adj2" fmla="val 49946"/>
              <a:gd name="adj3" fmla="val 50189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96" idx="3"/>
            <a:endCxn id="401" idx="1"/>
          </p:cNvCxnSpPr>
          <p:nvPr/>
        </p:nvCxnSpPr>
        <p:spPr>
          <a:xfrm flipV="1">
            <a:off x="3762360" y="6062400"/>
            <a:ext cx="3356640" cy="111600"/>
          </a:xfrm>
          <a:prstGeom prst="curvedConnector5">
            <a:avLst>
              <a:gd name="adj1" fmla="val 50230"/>
              <a:gd name="adj2" fmla="val 49838"/>
              <a:gd name="adj3" fmla="val 5023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7632720" y="3297960"/>
            <a:ext cx="1287360" cy="621720"/>
          </a:xfrm>
          <a:prstGeom prst="cloudCallout">
            <a:avLst>
              <a:gd name="adj1" fmla="val -74041"/>
              <a:gd name="adj2" fmla="val -13125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다중 선택 박스는 배열로 처리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1280" y="414360"/>
            <a:ext cx="8912160" cy="5851440"/>
            <a:chOff x="71280" y="414360"/>
            <a:chExt cx="8912160" cy="5851440"/>
          </a:xfrm>
        </p:grpSpPr>
        <p:grpSp>
          <p:nvGrpSpPr>
            <p:cNvPr id="97" name=""/>
            <p:cNvGrpSpPr/>
            <p:nvPr/>
          </p:nvGrpSpPr>
          <p:grpSpPr>
            <a:xfrm>
              <a:off x="71280" y="414360"/>
              <a:ext cx="8912160" cy="5851440"/>
              <a:chOff x="71280" y="414360"/>
              <a:chExt cx="8912160" cy="5851440"/>
            </a:xfrm>
          </p:grpSpPr>
          <p:sp>
            <p:nvSpPr>
              <p:cNvPr id="98" name=""/>
              <p:cNvSpPr/>
              <p:nvPr/>
            </p:nvSpPr>
            <p:spPr>
              <a:xfrm>
                <a:off x="71280" y="414360"/>
                <a:ext cx="8912160" cy="5851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6280" y="639720"/>
                <a:ext cx="8642160" cy="5400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295360" y="5308560"/>
              <a:ext cx="4572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이 명 진</a:t>
              </a: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,  </a:t>
              </a: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최 영 관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6699ff"/>
                  </a:solidFill>
                  <a:latin typeface="Times New Roman"/>
                  <a:ea typeface="바탕"/>
                </a:rPr>
                <a:t>Powered by http://www.jabook.or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45000" y="3286080"/>
              <a:ext cx="182700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66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2</a:t>
              </a:r>
              <a:r>
                <a:rPr b="0" lang="ko-KR" sz="2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nd</a:t>
              </a:r>
              <a:r>
                <a:rPr b="0" lang="ko-KR" sz="18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Ed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8120" y="3338640"/>
              <a:ext cx="47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소설같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14480" y="360360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J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808520" y="3398760"/>
              <a:ext cx="180720" cy="164880"/>
              <a:chOff x="4808520" y="3398760"/>
              <a:chExt cx="180720" cy="16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4808520" y="3398760"/>
                <a:ext cx="10404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33000" y="3465720"/>
                <a:ext cx="10368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85560" y="3422160"/>
                <a:ext cx="10368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049640" y="4778280"/>
              <a:ext cx="10350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957240" y="1449360"/>
              <a:ext cx="509760" cy="7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장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3.9 getParameterNames(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메소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ParameterNames(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메소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페이지에 파라미터로 전달된 모든 파라미터의 이름을 반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71640" y="1989000"/>
            <a:ext cx="6345000" cy="5432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java.util.Enumeration getParameterNames()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00" y="3033720"/>
            <a:ext cx="4321080" cy="1619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lt;form action="ParameterNames.jsp" method="post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lt;input type="text" name="nam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lt;input type="text" name="sex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lt;input type="text" name="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lt;input type="text" name="birth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lt;input type="submit" text="Submit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2680" y="2708280"/>
            <a:ext cx="2252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arameterName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795920" y="3035160"/>
            <a:ext cx="4321080" cy="30495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Enumeration param = request.getParameterName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while(param.hasMoreElements()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String name = (String)param.nextEleme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out.println(name + request.getParameter(name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83400" y="2709720"/>
            <a:ext cx="2100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arameterNames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7002360" y="3591000"/>
          <a:ext cx="765000" cy="1098360"/>
        </p:xfrm>
        <a:graphic>
          <a:graphicData uri="http://schemas.openxmlformats.org/drawingml/2006/table">
            <a:tbl>
              <a:tblPr/>
              <a:tblGrid>
                <a:gridCol w="765000"/>
              </a:tblGrid>
              <a:tr h="27648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46800" rIns="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3" name=""/>
          <p:cNvSpPr/>
          <p:nvPr/>
        </p:nvSpPr>
        <p:spPr>
          <a:xfrm>
            <a:off x="5967360" y="3432240"/>
            <a:ext cx="4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132960" y="311796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01280" y="356544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6" name=""/>
          <p:cNvCxnSpPr>
            <a:stCxn id="414" idx="2"/>
            <a:endCxn id="415" idx="1"/>
          </p:cNvCxnSpPr>
          <p:nvPr/>
        </p:nvCxnSpPr>
        <p:spPr>
          <a:xfrm flipH="1" rot="16200000">
            <a:off x="6451560" y="3177720"/>
            <a:ext cx="286200" cy="81648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17" name=""/>
          <p:cNvSpPr/>
          <p:nvPr/>
        </p:nvSpPr>
        <p:spPr>
          <a:xfrm>
            <a:off x="5609160" y="3767040"/>
            <a:ext cx="949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라미터 이름을 저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92720" y="3346560"/>
            <a:ext cx="360360" cy="718920"/>
          </a:xfrm>
          <a:prstGeom prst="rightArrow">
            <a:avLst>
              <a:gd name="adj1" fmla="val 50111"/>
              <a:gd name="adj2" fmla="val 53745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4599000"/>
            <a:ext cx="1667160" cy="16668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3670200" y="4869000"/>
            <a:ext cx="1025640" cy="13921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635200" y="5184720"/>
            <a:ext cx="944640" cy="719280"/>
          </a:xfrm>
          <a:prstGeom prst="rightArrow">
            <a:avLst>
              <a:gd name="adj1" fmla="val 50111"/>
              <a:gd name="adj2" fmla="val 40390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49840" y="432900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22" idx="2"/>
            <a:endCxn id="419" idx="1"/>
          </p:cNvCxnSpPr>
          <p:nvPr/>
        </p:nvCxnSpPr>
        <p:spPr>
          <a:xfrm flipH="1" rot="16200000">
            <a:off x="201960" y="4754160"/>
            <a:ext cx="778680" cy="57852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424" name=""/>
          <p:cNvCxnSpPr>
            <a:stCxn id="410" idx="2"/>
            <a:endCxn id="420" idx="2"/>
          </p:cNvCxnSpPr>
          <p:nvPr/>
        </p:nvCxnSpPr>
        <p:spPr>
          <a:xfrm rot="5400000">
            <a:off x="5480640" y="4786200"/>
            <a:ext cx="177120" cy="2773800"/>
          </a:xfrm>
          <a:prstGeom prst="curvedConnector5">
            <a:avLst>
              <a:gd name="adj1" fmla="val 294501"/>
              <a:gd name="adj2" fmla="val 50000"/>
              <a:gd name="adj3" fmla="val 294501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102360" y="5184720"/>
            <a:ext cx="274464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cc00"/>
                </a:solidFill>
                <a:latin typeface="Tahoma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.1 GET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OST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1.1 GE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 요청 방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109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방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에 전달하고자 하는 정보를 포함해서 정보를 전달하는 방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요청 메시지 형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109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방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전달하고자 하는 정보를 첨부파일 형태로 포함해서 전송하는 방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73560" y="4106880"/>
            <a:ext cx="3584520" cy="226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22360" y="4824360"/>
            <a:ext cx="3576600" cy="154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76280" y="4749840"/>
            <a:ext cx="2746440" cy="31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80680" y="6459480"/>
            <a:ext cx="1621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방식의 요청 메시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8400" y="6459480"/>
            <a:ext cx="1724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방식의 요청 메시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11640" y="4029120"/>
            <a:ext cx="2206800" cy="315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11640" y="6145200"/>
            <a:ext cx="765360" cy="316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2529000"/>
            <a:ext cx="3195720" cy="49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RL?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이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이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amp;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98600" y="3879720"/>
            <a:ext cx="1733400" cy="403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에 파라미터 정보가 포함되어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2"/>
            <a:endCxn id="120" idx="0"/>
          </p:cNvCxnSpPr>
          <p:nvPr/>
        </p:nvCxnSpPr>
        <p:spPr>
          <a:xfrm rot="5400000">
            <a:off x="1832760" y="4298760"/>
            <a:ext cx="448560" cy="416880"/>
          </a:xfrm>
          <a:prstGeom prst="bentConnector3">
            <a:avLst>
              <a:gd name="adj1" fmla="val 52128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6418440" y="3200400"/>
            <a:ext cx="1753920" cy="403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라미터 정보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메시지의 첨부파일 형태로 포함되어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1"/>
            <a:endCxn id="123" idx="0"/>
          </p:cNvCxnSpPr>
          <p:nvPr/>
        </p:nvCxnSpPr>
        <p:spPr>
          <a:xfrm flipV="1" rot="10800000">
            <a:off x="6214320" y="3478680"/>
            <a:ext cx="204120" cy="53100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30" name=""/>
          <p:cNvCxnSpPr>
            <a:stCxn id="128" idx="1"/>
            <a:endCxn id="124" idx="1"/>
          </p:cNvCxnSpPr>
          <p:nvPr/>
        </p:nvCxnSpPr>
        <p:spPr>
          <a:xfrm flipV="1" rot="10800000">
            <a:off x="5091840" y="3478680"/>
            <a:ext cx="1326240" cy="2824920"/>
          </a:xfrm>
          <a:prstGeom prst="bentConnector3">
            <a:avLst>
              <a:gd name="adj1" fmla="val 129595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15920" y="3294000"/>
            <a:ext cx="4271760" cy="2412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672080" y="2573280"/>
            <a:ext cx="4221000" cy="2304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3132000" y="3249720"/>
            <a:ext cx="765360" cy="31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67720" y="2529000"/>
            <a:ext cx="765000" cy="31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26" idx="3"/>
            <a:endCxn id="133" idx="2"/>
          </p:cNvCxnSpPr>
          <p:nvPr/>
        </p:nvCxnSpPr>
        <p:spPr>
          <a:xfrm flipV="1">
            <a:off x="3131640" y="3582720"/>
            <a:ext cx="383400" cy="498960"/>
          </a:xfrm>
          <a:prstGeom prst="bent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36" name=""/>
          <p:cNvCxnSpPr>
            <a:stCxn id="128" idx="0"/>
            <a:endCxn id="134" idx="2"/>
          </p:cNvCxnSpPr>
          <p:nvPr/>
        </p:nvCxnSpPr>
        <p:spPr>
          <a:xfrm flipH="1" flipV="1" rot="5400000">
            <a:off x="7553880" y="2603520"/>
            <a:ext cx="338760" cy="855000"/>
          </a:xfrm>
          <a:prstGeom prst="bentConnector3">
            <a:avLst>
              <a:gd name="adj1" fmla="val 52553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987480"/>
            <a:ext cx="9144000" cy="57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200" y="3608280"/>
            <a:ext cx="5051520" cy="310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6200" y="998640"/>
            <a:ext cx="8381880" cy="25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4689360"/>
            <a:ext cx="1216080" cy="316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46280" y="5140440"/>
            <a:ext cx="328608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46280" y="5545080"/>
            <a:ext cx="328608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4689360"/>
            <a:ext cx="1711440" cy="316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1.2 GE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요청을 위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작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5920" y="3654360"/>
            <a:ext cx="837216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TITLE&gt;GET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POST&lt;/TITLE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rm     action="formTest.jsp"     method="GET"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input type="text" name="name" 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input type="submit" value="Submit"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21640" y="4645080"/>
            <a:ext cx="1914480" cy="403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방식을 사용할 것인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방식을 사용할 것인지를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59520" y="4086360"/>
            <a:ext cx="1573200" cy="403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버튼을 누르면 실행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GI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프로그램을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494320" y="5319720"/>
            <a:ext cx="3487680" cy="1440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934320" y="6040440"/>
            <a:ext cx="630000" cy="31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83240" y="6040440"/>
            <a:ext cx="1260360" cy="31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3" idx="1"/>
            <a:endCxn id="152" idx="2"/>
          </p:cNvCxnSpPr>
          <p:nvPr/>
        </p:nvCxnSpPr>
        <p:spPr>
          <a:xfrm flipH="1" flipV="1" rot="10800000">
            <a:off x="1645200" y="5297040"/>
            <a:ext cx="4568040" cy="1077120"/>
          </a:xfrm>
          <a:prstGeom prst="curvedConnector5">
            <a:avLst>
              <a:gd name="adj1" fmla="val -4996"/>
              <a:gd name="adj2" fmla="val 59712"/>
              <a:gd name="adj3" fmla="val -4996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4" idx="3"/>
            <a:endCxn id="151" idx="3"/>
          </p:cNvCxnSpPr>
          <p:nvPr/>
        </p:nvCxnSpPr>
        <p:spPr>
          <a:xfrm>
            <a:off x="4932360" y="5702400"/>
            <a:ext cx="2651760" cy="496080"/>
          </a:xfrm>
          <a:prstGeom prst="curvedConnector5">
            <a:avLst>
              <a:gd name="adj1" fmla="val 107834"/>
              <a:gd name="adj2" fmla="val 49963"/>
              <a:gd name="adj3" fmla="val 10783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2" idx="2"/>
            <a:endCxn id="148" idx="1"/>
          </p:cNvCxnSpPr>
          <p:nvPr/>
        </p:nvCxnSpPr>
        <p:spPr>
          <a:xfrm flipH="1" flipV="1" rot="5400000">
            <a:off x="5599800" y="3783240"/>
            <a:ext cx="81360" cy="2363040"/>
          </a:xfrm>
          <a:prstGeom prst="curvedConnector5">
            <a:avLst>
              <a:gd name="adj1" fmla="val -281333"/>
              <a:gd name="adj2" fmla="val 31449"/>
              <a:gd name="adj3" fmla="val -28133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5" idx="0"/>
            <a:endCxn id="149" idx="1"/>
          </p:cNvCxnSpPr>
          <p:nvPr/>
        </p:nvCxnSpPr>
        <p:spPr>
          <a:xfrm flipH="1" flipV="1" rot="5400000">
            <a:off x="3871080" y="3400560"/>
            <a:ext cx="324360" cy="225360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7723080" y="6129360"/>
            <a:ext cx="1123920" cy="248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전송 버튼 작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46640" y="6040440"/>
            <a:ext cx="1528560" cy="498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텍스트 상자 작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라미터 이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920" y="998640"/>
            <a:ext cx="837216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form&gt;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태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클라이언트에서 서버로 값을 전달하고자 할 때 사용하는 태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action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속성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사용자의 입력정보를 받아서 처리하는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CGI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프로그램의 위치를 지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method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속성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사용자의 입력정보가 어떤 방법으로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CGI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프로그램에 전달되게 할 것인지를 지정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(GET | PO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input&gt;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태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텍스트 상자와 버튼을 만들기 위한 태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type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속성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대화 컨트롤의 종류를 지정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(text | subm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name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속성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: &lt;input&gt;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태그의 이름을 지정하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,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파라미터 이름으로 사용된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value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속성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버튼에 나타날 값을 지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32720" y="3388680"/>
            <a:ext cx="1782720" cy="1099440"/>
          </a:xfrm>
          <a:prstGeom prst="cloudCallout">
            <a:avLst>
              <a:gd name="adj1" fmla="val 64777"/>
              <a:gd name="adj2" fmla="val -61944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input&gt;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태그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속성은 파라미터의 이름으로 사용되므로 아주 중요하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2720" y="2009880"/>
            <a:ext cx="2027160" cy="1099080"/>
          </a:xfrm>
          <a:prstGeom prst="cloudCallout">
            <a:avLst>
              <a:gd name="adj1" fmla="val 51171"/>
              <a:gd name="adj2" fmla="val 7128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rm&gt;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태그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속성 값에 따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방식이 결정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8569440" y="3068640"/>
            <a:ext cx="45864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1.3 JS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에서 파라미터 처리하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5920" y="1088640"/>
            <a:ext cx="6121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서 자동으로 제공되는 내장 객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getParameter()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소드를 이용해서 해당 파라미터가 가진 값을 얻을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다중 선택이 가능한 항목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체크 박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다중 선택 박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경우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getParameterValues()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소드를 이용해서 해당 파라미터가 가진 값을 배열 형태로 얻을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2000" y="2303640"/>
            <a:ext cx="6705360" cy="76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public void _jspService(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HttpServletRequest request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, HttpServletResponse respon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throws java.io.IOException, ServletExcepti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03360" y="1989000"/>
            <a:ext cx="357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실행 시 자동 생성된 서블릿 파일의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jspService()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메소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2000" y="4778280"/>
            <a:ext cx="6345000" cy="13971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41440"/>
                <a:tab algn="l" pos="1082520"/>
                <a:tab algn="l" pos="1623960"/>
                <a:tab algn="l" pos="2165400"/>
                <a:tab algn="l" pos="2706840"/>
                <a:tab algn="l" pos="3247920"/>
                <a:tab algn="l" pos="3789360"/>
                <a:tab algn="l" pos="4330800"/>
                <a:tab algn="l" pos="4871880"/>
                <a:tab algn="l" pos="54133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41440"/>
                <a:tab algn="l" pos="1082520"/>
                <a:tab algn="l" pos="1623960"/>
                <a:tab algn="l" pos="2165400"/>
                <a:tab algn="l" pos="2706840"/>
                <a:tab algn="l" pos="3247920"/>
                <a:tab algn="l" pos="3789360"/>
                <a:tab algn="l" pos="4330800"/>
                <a:tab algn="l" pos="4871880"/>
                <a:tab algn="l" pos="54133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 str = request.getParameter("nam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41440"/>
                <a:tab algn="l" pos="1082520"/>
                <a:tab algn="l" pos="1623960"/>
                <a:tab algn="l" pos="2165400"/>
                <a:tab algn="l" pos="2706840"/>
                <a:tab algn="l" pos="3247920"/>
                <a:tab algn="l" pos="3789360"/>
                <a:tab algn="l" pos="4330800"/>
                <a:tab algn="l" pos="4871880"/>
                <a:tab algn="l" pos="54133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ring[] strArray = request.getParameterValues("hobby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541440"/>
                <a:tab algn="l" pos="1082520"/>
                <a:tab algn="l" pos="1623960"/>
                <a:tab algn="l" pos="2165400"/>
                <a:tab algn="l" pos="2706840"/>
                <a:tab algn="l" pos="3247920"/>
                <a:tab algn="l" pos="3789360"/>
                <a:tab algn="l" pos="4330800"/>
                <a:tab algn="l" pos="4871880"/>
                <a:tab algn="l" pos="54133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3280" y="1719360"/>
            <a:ext cx="2944800" cy="315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nput type="text" name="name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77160" y="2260440"/>
            <a:ext cx="2050920" cy="1212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086600" y="2935440"/>
            <a:ext cx="1041480" cy="268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8" idx="2"/>
            <a:endCxn id="170" idx="0"/>
          </p:cNvCxnSpPr>
          <p:nvPr/>
        </p:nvCxnSpPr>
        <p:spPr>
          <a:xfrm flipH="1" rot="16200000">
            <a:off x="7140240" y="2450160"/>
            <a:ext cx="882000" cy="51480"/>
          </a:xfrm>
          <a:prstGeom prst="curvedConnector5">
            <a:avLst>
              <a:gd name="adj1" fmla="val 50959"/>
              <a:gd name="adj2" fmla="val 50000"/>
              <a:gd name="adj3" fmla="val 50959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6686640" y="4148280"/>
            <a:ext cx="2340000" cy="2071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실행 결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24520" y="4508640"/>
            <a:ext cx="2051280" cy="1539720"/>
          </a:xfrm>
          <a:prstGeom prst="rect">
            <a:avLst/>
          </a:prstGeom>
          <a:ln w="0">
            <a:noFill/>
          </a:ln>
        </p:spPr>
      </p:pic>
      <p:cxnSp>
        <p:nvCxnSpPr>
          <p:cNvPr id="174" name=""/>
          <p:cNvCxnSpPr>
            <a:stCxn id="175" idx="2"/>
            <a:endCxn id="173" idx="0"/>
          </p:cNvCxnSpPr>
          <p:nvPr/>
        </p:nvCxnSpPr>
        <p:spPr>
          <a:xfrm rot="5400000">
            <a:off x="7557120" y="3514680"/>
            <a:ext cx="1286640" cy="702360"/>
          </a:xfrm>
          <a:prstGeom prst="curvedConnector5">
            <a:avLst>
              <a:gd name="adj1" fmla="val 49258"/>
              <a:gd name="adj2" fmla="val 50000"/>
              <a:gd name="adj3" fmla="val 49258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8244360" y="3789360"/>
            <a:ext cx="3765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56600" y="2933640"/>
            <a:ext cx="590400" cy="27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.2 JSP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에서의 한글 처리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2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웹 브라우저에서의 한글 처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웹 브라우저의 한글 처리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클라이언트의 웹 브라우저는 해당 문서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Typ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을 보고 문자 인코딩 방법을 결정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지시문을 이용한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nt Typ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설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3294000"/>
            <a:ext cx="6345000" cy="855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@ page contentType = "text/html; charset=euc-kr"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06640" y="3722760"/>
            <a:ext cx="3465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3811680"/>
            <a:ext cx="16171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현재 문서의 타입과 인코딩 정보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5003640"/>
            <a:ext cx="6345000" cy="4986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esponse.setContentType("text/html; charset=euc-k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3807720" y="4328280"/>
            <a:ext cx="674640" cy="495360"/>
          </a:xfrm>
          <a:custGeom>
            <a:avLst/>
            <a:gdLst>
              <a:gd name="textAreaLeft" fmla="*/ 105120 w 674640"/>
              <a:gd name="textAreaRight" fmla="*/ 590400 w 67464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89800" y="4643280"/>
            <a:ext cx="125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자동 변환된 서블릿 파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316640" y="3743280"/>
            <a:ext cx="895320" cy="1071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777000" y="2128320"/>
            <a:ext cx="1827360" cy="860400"/>
          </a:xfrm>
          <a:prstGeom prst="cloudCallout">
            <a:avLst>
              <a:gd name="adj1" fmla="val 18976"/>
              <a:gd name="adj2" fmla="val 11879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s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c-k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로 지정해야 한글을 제대로 출력할 수 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2.2 GE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방식에서의 한글 처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톰캣 차원에서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방식의 한글 문제 해결 방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%CATALINA_HOME%\conf\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.x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nnector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태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IEncoding="euc-kr"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속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추가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후 톰캣 재 시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22360" y="2652840"/>
            <a:ext cx="6361200" cy="136188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5532480" y="2878200"/>
            <a:ext cx="1665360" cy="31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278160" y="5003640"/>
            <a:ext cx="933480" cy="1071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52440" y="4379400"/>
            <a:ext cx="2027160" cy="1099440"/>
          </a:xfrm>
          <a:prstGeom prst="cloudCallout">
            <a:avLst>
              <a:gd name="adj1" fmla="val 96430"/>
              <a:gd name="adj2" fmla="val 10064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server.xml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URLEncoding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만 수정하면 모든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방식의 한글 인식이 가능해 진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427720" y="4329000"/>
            <a:ext cx="636480" cy="1079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732720" y="4963680"/>
            <a:ext cx="2027160" cy="860400"/>
          </a:xfrm>
          <a:prstGeom prst="cloudCallout">
            <a:avLst>
              <a:gd name="adj1" fmla="val -79203"/>
              <a:gd name="adj2" fmla="val -11118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.xm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을 변경한 후 반듯이 톰캣을 재 시작해야 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05:03:27Z</dcterms:created>
  <dc:creator>최영관</dc:creator>
  <dc:description/>
  <cp:keywords>프로그래밍 언어</cp:keywords>
  <dc:language>en-US</dc:language>
  <cp:lastModifiedBy>Chamsae</cp:lastModifiedBy>
  <cp:lastPrinted>1999-07-19T06:05:37Z</cp:lastPrinted>
  <dcterms:modified xsi:type="dcterms:W3CDTF">2008-04-11T13:17:47Z</dcterms:modified>
  <cp:revision>8401</cp:revision>
  <dc:subject/>
  <dc:title>프로그래밍 언어</dc:title>
</cp:coreProperties>
</file>