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5.wmf" ContentType="image/x-wmf"/>
  <Override PartName="/ppt/media/image29.png" ContentType="image/png"/>
  <Override PartName="/ppt/media/image14.wmf" ContentType="image/x-wmf"/>
  <Override PartName="/ppt/media/image1.wmf" ContentType="image/x-wmf"/>
  <Override PartName="/ppt/media/image28.png" ContentType="image/png"/>
  <Override PartName="/ppt/media/image3.jpeg" ContentType="image/jpeg"/>
  <Override PartName="/ppt/media/image30.png" ContentType="image/png"/>
  <Override PartName="/ppt/media/image7.wmf" ContentType="image/x-wmf"/>
  <Override PartName="/ppt/media/image16.wmf" ContentType="image/x-wmf"/>
  <Override PartName="/ppt/media/image8.png" ContentType="image/png"/>
  <Override PartName="/ppt/media/image38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47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D67-65EE-42BA-B768-071C6C60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E3D-9414-4FDC-82BE-1589EB6D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617-A281-45EF-9888-43DC1D85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FDC-554B-4B3A-9CF7-53620133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36A1-AD80-49A2-93C3-C748687B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A58A-0BC4-4246-897B-E67C0538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C1F1-8F9A-4F28-81B9-D7532F11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4B74-A5C6-4E74-8B59-74F426C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C7B5-6FCE-4E11-9B79-759378D4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F965-F42A-4173-AE16-7F35457C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FA6B-403B-46F9-8A21-17471B4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FF8-C918-4145-99DC-75FC3292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5414-4EB4-438B-A28F-50FB6F0D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0BD4-5552-47BD-A9B8-776C2BB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3DD3-52F6-4E55-9490-19BF91E8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610B-AF55-4A9A-8930-AE0216B0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30F8-4400-4259-82DF-859F35E9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D39-6C70-4C84-B0E1-E3CCA4AE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3AF-8E9B-43CB-A80A-06EDC63A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877-6F84-4A8A-B19E-81BD4BB7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899-6025-4A72-A4FE-F753CD8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110-357B-43AE-844C-4750930D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55B-1E69-4466-942E-76D5D60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BBE-B378-4931-8C99-1F220A1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41E3-9E73-4886-A57E-27D8CD4015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A1E0-5D64-4ED9-9560-A076BBB876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5.png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.wmf"/><Relationship Id="rId4" Type="http://schemas.openxmlformats.org/officeDocument/2006/relationships/image" Target="../media/image20.png"/><Relationship Id="rId5" Type="http://schemas.openxmlformats.org/officeDocument/2006/relationships/image" Target="../media/image13.wmf"/><Relationship Id="rId6" Type="http://schemas.openxmlformats.org/officeDocument/2006/relationships/image" Target="../media/image2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wmf"/><Relationship Id="rId3" Type="http://schemas.openxmlformats.org/officeDocument/2006/relationships/image" Target="../media/image32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160" y="2124000"/>
            <a:ext cx="8116920" cy="2519280"/>
          </a:xfrm>
          <a:custGeom>
            <a:avLst/>
            <a:gdLst/>
            <a:ahLst/>
            <a:rect l="l" t="t" r="r" b="b"/>
            <a:pathLst>
              <a:path w="5807" h="1762">
                <a:moveTo>
                  <a:pt x="2363" y="179"/>
                </a:moveTo>
                <a:cubicBezTo>
                  <a:pt x="2065" y="174"/>
                  <a:pt x="1357" y="188"/>
                  <a:pt x="1002" y="179"/>
                </a:cubicBezTo>
                <a:cubicBezTo>
                  <a:pt x="647" y="170"/>
                  <a:pt x="392" y="28"/>
                  <a:pt x="236" y="122"/>
                </a:cubicBezTo>
                <a:cubicBezTo>
                  <a:pt x="80" y="216"/>
                  <a:pt x="85" y="496"/>
                  <a:pt x="66" y="746"/>
                </a:cubicBezTo>
                <a:cubicBezTo>
                  <a:pt x="47" y="996"/>
                  <a:pt x="0" y="1488"/>
                  <a:pt x="123" y="1625"/>
                </a:cubicBezTo>
                <a:cubicBezTo>
                  <a:pt x="246" y="1762"/>
                  <a:pt x="246" y="1563"/>
                  <a:pt x="803" y="1568"/>
                </a:cubicBezTo>
                <a:cubicBezTo>
                  <a:pt x="1360" y="1573"/>
                  <a:pt x="2745" y="1629"/>
                  <a:pt x="3468" y="1653"/>
                </a:cubicBezTo>
                <a:cubicBezTo>
                  <a:pt x="4191" y="1677"/>
                  <a:pt x="4782" y="1738"/>
                  <a:pt x="5141" y="1710"/>
                </a:cubicBezTo>
                <a:cubicBezTo>
                  <a:pt x="5500" y="1682"/>
                  <a:pt x="5533" y="1662"/>
                  <a:pt x="5623" y="1483"/>
                </a:cubicBezTo>
                <a:cubicBezTo>
                  <a:pt x="5713" y="1304"/>
                  <a:pt x="5694" y="864"/>
                  <a:pt x="5680" y="633"/>
                </a:cubicBezTo>
                <a:cubicBezTo>
                  <a:pt x="5666" y="402"/>
                  <a:pt x="5807" y="188"/>
                  <a:pt x="5538" y="94"/>
                </a:cubicBezTo>
                <a:cubicBezTo>
                  <a:pt x="5269" y="0"/>
                  <a:pt x="4522" y="47"/>
                  <a:pt x="4064" y="66"/>
                </a:cubicBezTo>
                <a:cubicBezTo>
                  <a:pt x="3606" y="85"/>
                  <a:pt x="3076" y="188"/>
                  <a:pt x="2788" y="207"/>
                </a:cubicBezTo>
                <a:cubicBezTo>
                  <a:pt x="2500" y="226"/>
                  <a:pt x="2661" y="184"/>
                  <a:pt x="2363" y="179"/>
                </a:cubicBez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1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전통적인 웹 구조의 한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전통적 웹의 한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정적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Static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웹 페이지만을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미 만들어져 있는 웹 페이지를 클라이언트의 요청에 따라 서비스하는 형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고정된 웹 페이지의 제공만이 가능하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해결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동적 웹 페이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Dynamic Web P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프로그래밍을 이용함으로써 요청이 들어 왔을 때 동적으로 웹 페이지를 생성하여 서비스를 제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GI(Common Gateway Interface)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모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78200" y="2438280"/>
            <a:ext cx="2862360" cy="190044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000" y="2558880"/>
            <a:ext cx="1798560" cy="166860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58920" y="3071880"/>
            <a:ext cx="654120" cy="530280"/>
          </a:xfrm>
          <a:prstGeom prst="rect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248" name=""/>
          <p:cNvSpPr/>
          <p:nvPr/>
        </p:nvSpPr>
        <p:spPr>
          <a:xfrm>
            <a:off x="2182680" y="2629080"/>
            <a:ext cx="2433600" cy="568080"/>
          </a:xfrm>
          <a:prstGeom prst="rightArrow">
            <a:avLst>
              <a:gd name="adj1" fmla="val 46370"/>
              <a:gd name="adj2" fmla="val 51704"/>
            </a:avLst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"title.html"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문서 요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181960" y="3546360"/>
            <a:ext cx="1893960" cy="568440"/>
          </a:xfrm>
          <a:prstGeom prst="rightArrow">
            <a:avLst>
              <a:gd name="adj1" fmla="val 43583"/>
              <a:gd name="adj2" fmla="val 50564"/>
            </a:avLst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"title.html" 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문서 응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4293360" y="3234600"/>
            <a:ext cx="1347840" cy="320400"/>
          </a:xfrm>
          <a:prstGeom prst="rect">
            <a:avLst/>
          </a:prstGeom>
          <a:solidFill>
            <a:srgbClr val="c0c0c0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53880" y="3189240"/>
            <a:ext cx="762120" cy="593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03320" y="3597120"/>
            <a:ext cx="113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311800" y="3195720"/>
            <a:ext cx="762120" cy="593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087880" y="2886120"/>
            <a:ext cx="125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200480" y="3618000"/>
          <a:ext cx="330120" cy="3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0480" y="3618000"/>
                    <a:ext cx="3301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4032360" y="396252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itle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073920" y="2541600"/>
            <a:ext cx="642960" cy="588960"/>
            <a:chOff x="6073920" y="2541600"/>
            <a:chExt cx="642960" cy="588960"/>
          </a:xfrm>
        </p:grpSpPr>
        <p:graphicFrame>
          <p:nvGraphicFramePr>
            <p:cNvPr id="259" name=""/>
            <p:cNvGraphicFramePr/>
            <p:nvPr/>
          </p:nvGraphicFramePr>
          <p:xfrm>
            <a:off x="6242400" y="2541600"/>
            <a:ext cx="330120" cy="38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42400" y="2541600"/>
                      <a:ext cx="33012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"/>
            <p:cNvSpPr/>
            <p:nvPr/>
          </p:nvSpPr>
          <p:spPr>
            <a:xfrm>
              <a:off x="6073920" y="2886120"/>
              <a:ext cx="642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</a:rPr>
                <a:t>title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716880" y="2795760"/>
            <a:ext cx="642600" cy="588960"/>
            <a:chOff x="6716880" y="2795760"/>
            <a:chExt cx="642600" cy="588960"/>
          </a:xfrm>
        </p:grpSpPr>
        <p:graphicFrame>
          <p:nvGraphicFramePr>
            <p:cNvPr id="263" name=""/>
            <p:cNvGraphicFramePr/>
            <p:nvPr/>
          </p:nvGraphicFramePr>
          <p:xfrm>
            <a:off x="6885000" y="2795760"/>
            <a:ext cx="329760" cy="384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85000" y="2795760"/>
                      <a:ext cx="32976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"/>
            <p:cNvSpPr/>
            <p:nvPr/>
          </p:nvSpPr>
          <p:spPr>
            <a:xfrm>
              <a:off x="6716880" y="3140280"/>
              <a:ext cx="642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</a:rPr>
                <a:t>game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211800" y="3309840"/>
            <a:ext cx="642960" cy="588960"/>
            <a:chOff x="6211800" y="3309840"/>
            <a:chExt cx="642960" cy="588960"/>
          </a:xfrm>
        </p:grpSpPr>
        <p:graphicFrame>
          <p:nvGraphicFramePr>
            <p:cNvPr id="267" name=""/>
            <p:cNvGraphicFramePr/>
            <p:nvPr/>
          </p:nvGraphicFramePr>
          <p:xfrm>
            <a:off x="6380280" y="3309840"/>
            <a:ext cx="330120" cy="384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380280" y="3309840"/>
                      <a:ext cx="33012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" name=""/>
            <p:cNvSpPr/>
            <p:nvPr/>
          </p:nvSpPr>
          <p:spPr>
            <a:xfrm>
              <a:off x="6211800" y="3654360"/>
              <a:ext cx="642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</a:rPr>
                <a:t>content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843600" y="3603600"/>
            <a:ext cx="642960" cy="588960"/>
            <a:chOff x="6843600" y="3603600"/>
            <a:chExt cx="642960" cy="588960"/>
          </a:xfrm>
        </p:grpSpPr>
        <p:graphicFrame>
          <p:nvGraphicFramePr>
            <p:cNvPr id="271" name=""/>
            <p:cNvGraphicFramePr/>
            <p:nvPr/>
          </p:nvGraphicFramePr>
          <p:xfrm>
            <a:off x="7012080" y="3603600"/>
            <a:ext cx="330120" cy="384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12080" y="3603600"/>
                      <a:ext cx="33012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>
              <a:off x="6843600" y="3948120"/>
              <a:ext cx="642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</a:rPr>
                <a:t>software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14"/>
          <a:stretch/>
        </p:blipFill>
        <p:spPr>
          <a:xfrm flipH="1">
            <a:off x="8351640" y="270828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77000" y="672840"/>
            <a:ext cx="2181240" cy="860760"/>
          </a:xfrm>
          <a:prstGeom prst="cloudCallout">
            <a:avLst>
              <a:gd name="adj1" fmla="val 22472"/>
              <a:gd name="adj2" fmla="val 20581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정적인 웹 페이지는 개발자가 미리 작성하여 서버에 올려놓고 서비스하는 형태로 제공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86280" y="4289040"/>
            <a:ext cx="2989440" cy="860760"/>
          </a:xfrm>
          <a:prstGeom prst="cloudCallout">
            <a:avLst>
              <a:gd name="adj1" fmla="val 31564"/>
              <a:gd name="adj2" fmla="val -16112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하지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동적인 웹 페이지는 프로그래밍을 통해 클라이언트의 요청에 따라 다양한 형태로 생성되어 제공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6200" y="1069920"/>
            <a:ext cx="838188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6200" y="2754360"/>
            <a:ext cx="838188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1.8 CGI(Common Gateway Interfa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정적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문서 서비스의 한계 극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사이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rver-Side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스크립트 언어의 시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GI =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프로그래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G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프로그래밍을 이용해서 동적으로 생성된 웹 페이지를 클라이언트에 제공하는 모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67360" y="3878280"/>
            <a:ext cx="3825720" cy="203508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6280" y="3998880"/>
            <a:ext cx="1798560" cy="166860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Cloud"/>
          <p:cNvSpPr/>
          <p:nvPr/>
        </p:nvSpPr>
        <p:spPr>
          <a:xfrm>
            <a:off x="2141640" y="4025880"/>
            <a:ext cx="2273040" cy="15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66960" y="459900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68560" y="4511520"/>
            <a:ext cx="653760" cy="530280"/>
          </a:xfrm>
          <a:prstGeom prst="rect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287" name=""/>
          <p:cNvSpPr/>
          <p:nvPr/>
        </p:nvSpPr>
        <p:spPr>
          <a:xfrm>
            <a:off x="2052720" y="4121280"/>
            <a:ext cx="2970000" cy="568080"/>
          </a:xfrm>
          <a:prstGeom prst="rightArrow">
            <a:avLst>
              <a:gd name="adj1" fmla="val 46630"/>
              <a:gd name="adj2" fmla="val 32845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"title.cgi"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처리 요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052720" y="4913280"/>
            <a:ext cx="2533680" cy="568440"/>
          </a:xfrm>
          <a:prstGeom prst="rightArrow">
            <a:avLst>
              <a:gd name="adj1" fmla="val 41907"/>
              <a:gd name="adj2" fmla="val 3111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"title.html" 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문서 응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4681800" y="4809240"/>
            <a:ext cx="134784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3520" y="4629240"/>
            <a:ext cx="762120" cy="59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12960" y="5037120"/>
            <a:ext cx="1133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649840" y="5005440"/>
            <a:ext cx="762120" cy="593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425920" y="4695840"/>
            <a:ext cx="125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654440" y="4984920"/>
          <a:ext cx="330480" cy="3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54440" y="4984920"/>
                    <a:ext cx="330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4483080" y="5329080"/>
            <a:ext cx="64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title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97720" y="4246560"/>
            <a:ext cx="1193760" cy="720720"/>
          </a:xfrm>
          <a:prstGeom prst="rect">
            <a:avLst/>
          </a:prstGeom>
          <a:solidFill>
            <a:srgbClr val="eaeaea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I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프로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551640" y="5189400"/>
            <a:ext cx="642960" cy="588960"/>
            <a:chOff x="6551640" y="5189400"/>
            <a:chExt cx="642960" cy="588960"/>
          </a:xfrm>
        </p:grpSpPr>
        <p:graphicFrame>
          <p:nvGraphicFramePr>
            <p:cNvPr id="299" name=""/>
            <p:cNvGraphicFramePr/>
            <p:nvPr/>
          </p:nvGraphicFramePr>
          <p:xfrm>
            <a:off x="6719760" y="5189400"/>
            <a:ext cx="330120" cy="384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19760" y="5189400"/>
                      <a:ext cx="33012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6551640" y="5533920"/>
              <a:ext cx="642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</a:rPr>
                <a:t>title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2" name=""/>
          <p:cNvCxnSpPr>
            <a:stCxn id="297" idx="3"/>
          </p:cNvCxnSpPr>
          <p:nvPr/>
        </p:nvCxnSpPr>
        <p:spPr>
          <a:xfrm flipH="1">
            <a:off x="7049520" y="4606920"/>
            <a:ext cx="741960" cy="775440"/>
          </a:xfrm>
          <a:prstGeom prst="curvedConnector5">
            <a:avLst>
              <a:gd name="adj1" fmla="val -30825"/>
              <a:gd name="adj2" fmla="val 49976"/>
              <a:gd name="adj3" fmla="val -30825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7679160" y="5229360"/>
            <a:ext cx="103212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동적으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89" idx="1"/>
            <a:endCxn id="297" idx="1"/>
          </p:cNvCxnSpPr>
          <p:nvPr/>
        </p:nvCxnSpPr>
        <p:spPr>
          <a:xfrm flipH="1" rot="16200000">
            <a:off x="5822280" y="3831120"/>
            <a:ext cx="311760" cy="1240560"/>
          </a:xfrm>
          <a:prstGeom prst="curvedConnector5">
            <a:avLst>
              <a:gd name="adj1" fmla="val -73410"/>
              <a:gd name="adj2" fmla="val 28156"/>
              <a:gd name="adj3" fmla="val -73410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5993640" y="3932280"/>
            <a:ext cx="401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86280" y="5950080"/>
            <a:ext cx="2554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프로그램을 통해 동적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문서를 생성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2360" y="5462640"/>
            <a:ext cx="1006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동적 웹 페이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서비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1280" y="5703840"/>
            <a:ext cx="148284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는 동적인 웹 페이지를 웹 브라우저에서 확인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 flipH="1">
            <a:off x="6281280" y="2033640"/>
            <a:ext cx="636840" cy="1079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912000" y="1137600"/>
            <a:ext cx="2027160" cy="860400"/>
          </a:xfrm>
          <a:prstGeom prst="cloudCallout">
            <a:avLst>
              <a:gd name="adj1" fmla="val -42884"/>
              <a:gd name="adj2" fmla="val 11712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라이언트의 요청에 따라 동적으로 웹 페이지가 생성된 후 제공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1.9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확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의 단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의 요청만큼 프로세서를 생성해서 처리하기 때문에 처리량에 한계가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확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처음 클라이언트의 요청에 따라 라이브러리를 메모리에 로딩한 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모리에 적재된 라이브러리를 사용해서 클라이언트의 요청을 처리하는 방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다수의 요청이라도 한 개에 해당하는 메모리만을 사용하기 때문에 일반적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비해 효율적이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확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G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언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바 기반의 확장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GI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프로그래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서블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ervl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자바로 된 확장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TTP) +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자바 프로그래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바 기반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확장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GI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기반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스크립트 방식의 프로그래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(Java Server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서블릿보다 쉽게 동적 웹 페이지를 생성할 수 있는 프로그래밍 언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TTP) +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프로그래밍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Java) +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스크립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cript)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기능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스크립트 방식의 서버 측 프로그래밍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erver Side Programm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 flipH="1">
            <a:off x="8128080" y="4284720"/>
            <a:ext cx="552240" cy="1251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478480" y="3695040"/>
            <a:ext cx="2027160" cy="860400"/>
          </a:xfrm>
          <a:prstGeom prst="cloudCallout">
            <a:avLst>
              <a:gd name="adj1" fmla="val 69495"/>
              <a:gd name="adj2" fmla="val 7618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요즘에는 대부분 확장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사용해서 서버 애플리케이션을 구현하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서블릿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(Servlet)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블릿이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서블릿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Servle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rver + Let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허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합성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Server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애플리케이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pplication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허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Le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라는 의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서블릿의 구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웹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바 프로그래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그래밍 기반의 확장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서블릿을 실행하기 위한 필요 조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DK(Java Development Kit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설치 필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 컨테이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Servlet Container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설치 필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n Java System Web Server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TOMCAT, Re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454880" y="457200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861160" y="2957040"/>
            <a:ext cx="2027160" cy="860400"/>
          </a:xfrm>
          <a:prstGeom prst="cloudCallout">
            <a:avLst>
              <a:gd name="adj1" fmla="val 33699"/>
              <a:gd name="adj2" fmla="val 12820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의 웹 서버는 일반적으로 서블릿 컨테이너를 모두 포함하고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블릿 컨테이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ervlet Containe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서블릿 컨테이너란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 객체를 만들어 보관하는 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을 관리하고 서비스하는 프로그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대표적인 서블릿 컨테이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톰캣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OMCAT)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esin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서블릿 컨테이너의 역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웹 서버 역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체적으로 웹 서버 기능이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을 담고 있다가 클라이언트의 요청에 따라 서비스하는 역할을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 flipH="1">
            <a:off x="7677000" y="1584360"/>
            <a:ext cx="462240" cy="1295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649840" y="3508200"/>
            <a:ext cx="2027160" cy="860760"/>
          </a:xfrm>
          <a:prstGeom prst="cloudCallout">
            <a:avLst>
              <a:gd name="adj1" fmla="val 44740"/>
              <a:gd name="adj2" fmla="val -15029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컨테이너는 서블릿을 담아두고 클라이언트에게 서비스해주는 웹 서버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987480"/>
            <a:ext cx="9144000" cy="57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6200" y="4356000"/>
            <a:ext cx="8381880" cy="23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블릿의 요청과 처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5920" y="4373640"/>
            <a:ext cx="837216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서블릿 실행 절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로부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loServle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요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컨테이너에서 해당 서블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elloServlet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 검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있다면 진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없다면 생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해당 서블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elloServlet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을 처리하기 위해 데이터베이스 작업이 필요하면 데이터베이스 연결 및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loServle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의 응답 전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16280" y="1413000"/>
            <a:ext cx="4861080" cy="27367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63320" y="2133720"/>
            <a:ext cx="3166920" cy="1942920"/>
          </a:xfrm>
          <a:custGeom>
            <a:avLst/>
            <a:gdLst/>
            <a:ahLst/>
            <a:rect l="l" t="t" r="r" b="b"/>
            <a:pathLst>
              <a:path w="2351" h="1369">
                <a:moveTo>
                  <a:pt x="45" y="454"/>
                </a:moveTo>
                <a:cubicBezTo>
                  <a:pt x="68" y="326"/>
                  <a:pt x="105" y="341"/>
                  <a:pt x="181" y="273"/>
                </a:cubicBezTo>
                <a:cubicBezTo>
                  <a:pt x="257" y="205"/>
                  <a:pt x="393" y="92"/>
                  <a:pt x="499" y="46"/>
                </a:cubicBezTo>
                <a:cubicBezTo>
                  <a:pt x="605" y="0"/>
                  <a:pt x="680" y="0"/>
                  <a:pt x="816" y="0"/>
                </a:cubicBezTo>
                <a:cubicBezTo>
                  <a:pt x="952" y="0"/>
                  <a:pt x="1118" y="8"/>
                  <a:pt x="1315" y="46"/>
                </a:cubicBezTo>
                <a:cubicBezTo>
                  <a:pt x="1512" y="84"/>
                  <a:pt x="1845" y="152"/>
                  <a:pt x="1996" y="227"/>
                </a:cubicBezTo>
                <a:cubicBezTo>
                  <a:pt x="2147" y="302"/>
                  <a:pt x="2169" y="363"/>
                  <a:pt x="2222" y="499"/>
                </a:cubicBezTo>
                <a:cubicBezTo>
                  <a:pt x="2275" y="635"/>
                  <a:pt x="2320" y="915"/>
                  <a:pt x="2313" y="1044"/>
                </a:cubicBezTo>
                <a:cubicBezTo>
                  <a:pt x="2306" y="1173"/>
                  <a:pt x="2351" y="1218"/>
                  <a:pt x="2177" y="1271"/>
                </a:cubicBezTo>
                <a:cubicBezTo>
                  <a:pt x="2003" y="1324"/>
                  <a:pt x="1580" y="1353"/>
                  <a:pt x="1270" y="1361"/>
                </a:cubicBezTo>
                <a:cubicBezTo>
                  <a:pt x="960" y="1369"/>
                  <a:pt x="521" y="1369"/>
                  <a:pt x="317" y="1316"/>
                </a:cubicBezTo>
                <a:cubicBezTo>
                  <a:pt x="113" y="1263"/>
                  <a:pt x="90" y="1188"/>
                  <a:pt x="45" y="1044"/>
                </a:cubicBezTo>
                <a:cubicBezTo>
                  <a:pt x="0" y="900"/>
                  <a:pt x="22" y="582"/>
                  <a:pt x="45" y="45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88000" y="2514600"/>
            <a:ext cx="2000160" cy="12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74120" y="2786040"/>
            <a:ext cx="749160" cy="792360"/>
          </a:xfrm>
          <a:prstGeom prst="flowChartMagneticDisk">
            <a:avLst/>
          </a:prstGeom>
          <a:solidFill>
            <a:srgbClr val="c0c0c0"/>
          </a:solidFill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45360" y="2733840"/>
            <a:ext cx="201600" cy="180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56280" y="1660680"/>
            <a:ext cx="199800" cy="180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8200" y="1604880"/>
            <a:ext cx="14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loServlet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객체 검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790800" y="1420920"/>
            <a:ext cx="1202040" cy="928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938760" y="1141560"/>
            <a:ext cx="76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11560" y="3789360"/>
            <a:ext cx="1665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811560" y="299736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6811560" y="3201480"/>
            <a:ext cx="865080" cy="11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4520" y="2754360"/>
            <a:ext cx="1293840" cy="82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Hellos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1280" y="1154160"/>
            <a:ext cx="801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65280" y="3173400"/>
            <a:ext cx="34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539360" y="1863720"/>
            <a:ext cx="2357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66840" y="1738440"/>
            <a:ext cx="127008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loServlet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62000" y="1751040"/>
            <a:ext cx="201600" cy="18108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2920" y="1413000"/>
            <a:ext cx="1137960" cy="273672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76280" y="2284560"/>
            <a:ext cx="1011240" cy="784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5011560" y="1916280"/>
            <a:ext cx="1408320" cy="598320"/>
          </a:xfrm>
          <a:custGeom>
            <a:avLst/>
            <a:gdLst/>
            <a:ahLst/>
            <a:rect l="l" t="t" r="r" b="b"/>
            <a:pathLst>
              <a:path w="618" h="532">
                <a:moveTo>
                  <a:pt x="0" y="0"/>
                </a:moveTo>
                <a:lnTo>
                  <a:pt x="618" y="0"/>
                </a:lnTo>
                <a:lnTo>
                  <a:pt x="618" y="5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05000" y="3057480"/>
            <a:ext cx="1270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loServlet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응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08080" y="3070080"/>
            <a:ext cx="201600" cy="18108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4514400" y="2514240"/>
            <a:ext cx="273240" cy="1274760"/>
          </a:xfrm>
          <a:prstGeom prst="rect">
            <a:avLst/>
          </a:prstGeom>
          <a:solidFill>
            <a:srgbClr val="77777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rvlet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 flipH="1">
            <a:off x="8402400" y="1841400"/>
            <a:ext cx="579240" cy="935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7137360" y="1077480"/>
            <a:ext cx="1698840" cy="860400"/>
          </a:xfrm>
          <a:prstGeom prst="cloudCallout">
            <a:avLst>
              <a:gd name="adj1" fmla="val 19999"/>
              <a:gd name="adj2" fmla="val 10269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객체는 서블릿 컨테이너에 로딩되어있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블릿의 특징과 단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서블릿의 특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자바 언어를 사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블릿은 자바 프로그램 차원에서 동적으로 웹 페이지를 서비스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스레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ead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기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GI :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 접속 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 접속 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생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서블릿의 단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화면에 표현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코드를 프로그램적으로 작성해야 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비스하기 전에 반드시 컴파일을 해야 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352000" y="4643280"/>
            <a:ext cx="458640" cy="12542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012000" y="3687120"/>
            <a:ext cx="2027160" cy="860400"/>
          </a:xfrm>
          <a:prstGeom prst="cloudCallout">
            <a:avLst>
              <a:gd name="adj1" fmla="val 64874"/>
              <a:gd name="adj2" fmla="val 5940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과 서블릿 코드와의 조화를 맞추기가 생각처럼 쉽지 않을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.3 JSP(Java Server Page)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3.1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(Java Server Pa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블릿 기반 위에 보다 편리하게 웹 프로그래밍을 할 수 있도록 만든 동적 웹 페이지 작성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자바 프로그래밍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소스코드 자동 생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스크립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 등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자바 계열의 확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는 서블릿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블릿보다 편리하게 프로그래밍할 수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로 할 수 있는 것은 서블릿으로도 가능하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왜 서블릿 대신에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를 사용하는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컴파일 하기 싫어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필요한 부분에만 프로그램을 작성하기 위해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결과적으로 프로그래머의 편의성을 위해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가 탄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 flipH="1">
            <a:off x="8182080" y="4248000"/>
            <a:ext cx="552240" cy="1251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891480" y="2855520"/>
            <a:ext cx="2027160" cy="860400"/>
          </a:xfrm>
          <a:prstGeom prst="cloudCallout">
            <a:avLst>
              <a:gd name="adj1" fmla="val 5893"/>
              <a:gd name="adj2" fmla="val 13853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알고 보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도 서블릿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음 페이지에서 확인해 보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grpSp>
          <p:nvGrpSpPr>
            <p:cNvPr id="97" name=""/>
            <p:cNvGrpSpPr/>
            <p:nvPr/>
          </p:nvGrpSpPr>
          <p:grpSpPr>
            <a:xfrm>
              <a:off x="71280" y="414360"/>
              <a:ext cx="8912160" cy="5851440"/>
              <a:chOff x="71280" y="414360"/>
              <a:chExt cx="8912160" cy="5851440"/>
            </a:xfrm>
          </p:grpSpPr>
          <p:sp>
            <p:nvSpPr>
              <p:cNvPr id="98" name=""/>
              <p:cNvSpPr/>
              <p:nvPr/>
            </p:nvSpPr>
            <p:spPr>
              <a:xfrm>
                <a:off x="71280" y="414360"/>
                <a:ext cx="8912160" cy="5851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6280" y="639720"/>
                <a:ext cx="8642160" cy="540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95360" y="5308560"/>
              <a:ext cx="457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이 명 진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,  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최 영 관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6699ff"/>
                  </a:solidFill>
                  <a:latin typeface="Times New Roman"/>
                  <a:ea typeface="바탕"/>
                </a:rPr>
                <a:t>Powered by http://www.jabook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5000" y="3286080"/>
              <a:ext cx="1827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66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2</a:t>
              </a:r>
              <a:r>
                <a:rPr b="0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nd</a:t>
              </a: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8120" y="3338640"/>
              <a:ext cx="47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소설같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4480" y="360360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J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808520" y="3398760"/>
              <a:ext cx="180720" cy="164880"/>
              <a:chOff x="4808520" y="3398760"/>
              <a:chExt cx="180720" cy="16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4808520" y="3398760"/>
                <a:ext cx="10404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33000" y="346572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85560" y="342216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049640" y="4778280"/>
              <a:ext cx="10350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57240" y="1449360"/>
              <a:ext cx="5097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장 웹 프로그래밍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95640" y="1494000"/>
            <a:ext cx="4537080" cy="38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3.2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요청과 처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3040" y="1494000"/>
            <a:ext cx="1150920" cy="38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994920" y="2790720"/>
            <a:ext cx="4537080" cy="2519640"/>
          </a:xfrm>
          <a:custGeom>
            <a:avLst/>
            <a:gdLst/>
            <a:ahLst/>
            <a:rect l="l" t="t" r="r" b="b"/>
            <a:pathLst>
              <a:path w="2351" h="1369">
                <a:moveTo>
                  <a:pt x="45" y="454"/>
                </a:moveTo>
                <a:cubicBezTo>
                  <a:pt x="68" y="326"/>
                  <a:pt x="105" y="341"/>
                  <a:pt x="181" y="273"/>
                </a:cubicBezTo>
                <a:cubicBezTo>
                  <a:pt x="257" y="205"/>
                  <a:pt x="393" y="92"/>
                  <a:pt x="499" y="46"/>
                </a:cubicBezTo>
                <a:cubicBezTo>
                  <a:pt x="605" y="0"/>
                  <a:pt x="680" y="0"/>
                  <a:pt x="816" y="0"/>
                </a:cubicBezTo>
                <a:cubicBezTo>
                  <a:pt x="952" y="0"/>
                  <a:pt x="1118" y="8"/>
                  <a:pt x="1315" y="46"/>
                </a:cubicBezTo>
                <a:cubicBezTo>
                  <a:pt x="1512" y="84"/>
                  <a:pt x="1845" y="152"/>
                  <a:pt x="1996" y="227"/>
                </a:cubicBezTo>
                <a:cubicBezTo>
                  <a:pt x="2147" y="302"/>
                  <a:pt x="2169" y="363"/>
                  <a:pt x="2222" y="499"/>
                </a:cubicBezTo>
                <a:cubicBezTo>
                  <a:pt x="2275" y="635"/>
                  <a:pt x="2320" y="915"/>
                  <a:pt x="2313" y="1044"/>
                </a:cubicBezTo>
                <a:cubicBezTo>
                  <a:pt x="2306" y="1173"/>
                  <a:pt x="2351" y="1218"/>
                  <a:pt x="2177" y="1271"/>
                </a:cubicBezTo>
                <a:cubicBezTo>
                  <a:pt x="2003" y="1324"/>
                  <a:pt x="1580" y="1353"/>
                  <a:pt x="1270" y="1361"/>
                </a:cubicBezTo>
                <a:cubicBezTo>
                  <a:pt x="960" y="1369"/>
                  <a:pt x="521" y="1369"/>
                  <a:pt x="317" y="1316"/>
                </a:cubicBezTo>
                <a:cubicBezTo>
                  <a:pt x="113" y="1263"/>
                  <a:pt x="90" y="1188"/>
                  <a:pt x="45" y="1044"/>
                </a:cubicBezTo>
                <a:cubicBezTo>
                  <a:pt x="0" y="900"/>
                  <a:pt x="22" y="582"/>
                  <a:pt x="45" y="45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3280" y="3510000"/>
            <a:ext cx="3600720" cy="14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24520" y="3968640"/>
            <a:ext cx="2247840" cy="909720"/>
          </a:xfrm>
          <a:custGeom>
            <a:avLst/>
            <a:gdLst/>
            <a:ahLst/>
            <a:rect l="l" t="t" r="r" b="b"/>
            <a:pathLst>
              <a:path w="800" h="508">
                <a:moveTo>
                  <a:pt x="796" y="234"/>
                </a:moveTo>
                <a:cubicBezTo>
                  <a:pt x="796" y="184"/>
                  <a:pt x="789" y="146"/>
                  <a:pt x="761" y="112"/>
                </a:cubicBezTo>
                <a:cubicBezTo>
                  <a:pt x="733" y="78"/>
                  <a:pt x="680" y="45"/>
                  <a:pt x="628" y="27"/>
                </a:cubicBezTo>
                <a:cubicBezTo>
                  <a:pt x="576" y="9"/>
                  <a:pt x="506" y="2"/>
                  <a:pt x="447" y="1"/>
                </a:cubicBezTo>
                <a:cubicBezTo>
                  <a:pt x="388" y="0"/>
                  <a:pt x="328" y="4"/>
                  <a:pt x="272" y="19"/>
                </a:cubicBezTo>
                <a:cubicBezTo>
                  <a:pt x="216" y="34"/>
                  <a:pt x="148" y="64"/>
                  <a:pt x="108" y="93"/>
                </a:cubicBezTo>
                <a:cubicBezTo>
                  <a:pt x="68" y="122"/>
                  <a:pt x="45" y="147"/>
                  <a:pt x="30" y="192"/>
                </a:cubicBezTo>
                <a:cubicBezTo>
                  <a:pt x="15" y="237"/>
                  <a:pt x="0" y="315"/>
                  <a:pt x="16" y="362"/>
                </a:cubicBezTo>
                <a:cubicBezTo>
                  <a:pt x="32" y="409"/>
                  <a:pt x="70" y="448"/>
                  <a:pt x="127" y="472"/>
                </a:cubicBezTo>
                <a:cubicBezTo>
                  <a:pt x="184" y="496"/>
                  <a:pt x="279" y="504"/>
                  <a:pt x="360" y="506"/>
                </a:cubicBezTo>
                <a:cubicBezTo>
                  <a:pt x="441" y="508"/>
                  <a:pt x="549" y="499"/>
                  <a:pt x="616" y="484"/>
                </a:cubicBezTo>
                <a:cubicBezTo>
                  <a:pt x="683" y="469"/>
                  <a:pt x="731" y="456"/>
                  <a:pt x="761" y="414"/>
                </a:cubicBezTo>
                <a:cubicBezTo>
                  <a:pt x="791" y="372"/>
                  <a:pt x="800" y="285"/>
                  <a:pt x="796" y="234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83040" y="1133640"/>
            <a:ext cx="8701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562360" y="4470480"/>
            <a:ext cx="361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24760" y="4183200"/>
            <a:ext cx="83016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소스코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생성 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컴파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07280" y="4183200"/>
            <a:ext cx="68436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lo.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49680" y="3664080"/>
            <a:ext cx="10137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자동 컴파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054560" y="4470480"/>
            <a:ext cx="2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22920" y="1606680"/>
            <a:ext cx="17654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서블릿 컨테이너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75280" y="1860480"/>
            <a:ext cx="2232000" cy="1649520"/>
          </a:xfrm>
          <a:custGeom>
            <a:avLst/>
            <a:gdLst/>
            <a:ahLst/>
            <a:rect l="l" t="t" r="r" b="b"/>
            <a:pathLst>
              <a:path w="618" h="532">
                <a:moveTo>
                  <a:pt x="0" y="0"/>
                </a:moveTo>
                <a:lnTo>
                  <a:pt x="618" y="0"/>
                </a:lnTo>
                <a:lnTo>
                  <a:pt x="618" y="5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0240" y="3968640"/>
            <a:ext cx="869760" cy="93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서블릿객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0000" y="1619280"/>
            <a:ext cx="228600" cy="2001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37200" y="3689280"/>
            <a:ext cx="228600" cy="2001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00720" y="1998720"/>
            <a:ext cx="2016360" cy="55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원하는 서블릿 객체가 없다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번 과정을 거치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가 있다면 바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번 을 실행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011480" y="1503360"/>
            <a:ext cx="1224000" cy="9478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 flipH="1">
            <a:off x="1618920" y="4446720"/>
            <a:ext cx="3097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4370400" y="3510000"/>
            <a:ext cx="272880" cy="1440000"/>
          </a:xfrm>
          <a:prstGeom prst="rect">
            <a:avLst/>
          </a:prstGeom>
          <a:solidFill>
            <a:srgbClr val="77777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rvlet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5920" y="1149480"/>
            <a:ext cx="912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81280" y="4175280"/>
            <a:ext cx="228600" cy="1998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11280" y="1638360"/>
            <a:ext cx="976320" cy="19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lo.jsp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54240" y="1638360"/>
            <a:ext cx="228600" cy="1998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09880" y="4157640"/>
            <a:ext cx="18586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lo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서블릿 서비스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응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619280" y="1878120"/>
            <a:ext cx="23637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73120" y="2717640"/>
            <a:ext cx="907920" cy="7034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5472000" y="4957920"/>
            <a:ext cx="1665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4302000" y="5273640"/>
            <a:ext cx="1500480" cy="9050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009880" y="4993560"/>
            <a:ext cx="1787400" cy="621720"/>
          </a:xfrm>
          <a:prstGeom prst="cloudCallout">
            <a:avLst>
              <a:gd name="adj1" fmla="val 70416"/>
              <a:gd name="adj2" fmla="val 7424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결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도 서블릿으로 만들어 진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987480"/>
            <a:ext cx="9144000" cy="57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23080" y="2077920"/>
            <a:ext cx="2474640" cy="252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3.3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컴파일과 실행 과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2760" y="1133640"/>
            <a:ext cx="2205000" cy="328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90680" y="1690560"/>
            <a:ext cx="2205000" cy="328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Server / Servlet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90680" y="2274840"/>
            <a:ext cx="2205000" cy="328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 Servlet Ha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58080" y="2303640"/>
            <a:ext cx="2205000" cy="328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58080" y="2889360"/>
            <a:ext cx="2205000" cy="3286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파일 변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.ja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58080" y="3473280"/>
            <a:ext cx="2205000" cy="3286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컴파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58080" y="4059360"/>
            <a:ext cx="2205000" cy="328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객체 생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87720" y="2843280"/>
            <a:ext cx="2409840" cy="718920"/>
          </a:xfrm>
          <a:prstGeom prst="diamond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서블릿 객체 존재 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89160" y="3835440"/>
            <a:ext cx="2409840" cy="718920"/>
          </a:xfrm>
          <a:prstGeom prst="diamond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컴파일 후 변경 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2" idx="2"/>
            <a:endCxn id="403" idx="0"/>
          </p:cNvCxnSpPr>
          <p:nvPr/>
        </p:nvCxnSpPr>
        <p:spPr>
          <a:xfrm>
            <a:off x="3386160" y="1461600"/>
            <a:ext cx="8640" cy="2293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12" name=""/>
          <p:cNvCxnSpPr>
            <a:stCxn id="403" idx="2"/>
            <a:endCxn id="404" idx="0"/>
          </p:cNvCxnSpPr>
          <p:nvPr/>
        </p:nvCxnSpPr>
        <p:spPr>
          <a:xfrm>
            <a:off x="3393720" y="2019240"/>
            <a:ext cx="1080" cy="2559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13" name=""/>
          <p:cNvCxnSpPr>
            <a:stCxn id="404" idx="2"/>
            <a:endCxn id="409" idx="0"/>
          </p:cNvCxnSpPr>
          <p:nvPr/>
        </p:nvCxnSpPr>
        <p:spPr>
          <a:xfrm flipH="1">
            <a:off x="3392280" y="2603520"/>
            <a:ext cx="2160" cy="2404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14" name=""/>
          <p:cNvCxnSpPr>
            <a:stCxn id="409" idx="2"/>
            <a:endCxn id="410" idx="0"/>
          </p:cNvCxnSpPr>
          <p:nvPr/>
        </p:nvCxnSpPr>
        <p:spPr>
          <a:xfrm>
            <a:off x="3392640" y="3561840"/>
            <a:ext cx="2160" cy="2739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15" name=""/>
          <p:cNvCxnSpPr>
            <a:stCxn id="405" idx="2"/>
            <a:endCxn id="406" idx="0"/>
          </p:cNvCxnSpPr>
          <p:nvPr/>
        </p:nvCxnSpPr>
        <p:spPr>
          <a:xfrm>
            <a:off x="7160760" y="2631600"/>
            <a:ext cx="1080" cy="258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16" name=""/>
          <p:cNvCxnSpPr>
            <a:stCxn id="406" idx="2"/>
            <a:endCxn id="407" idx="0"/>
          </p:cNvCxnSpPr>
          <p:nvPr/>
        </p:nvCxnSpPr>
        <p:spPr>
          <a:xfrm>
            <a:off x="7160760" y="3217680"/>
            <a:ext cx="1080" cy="2559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17" name=""/>
          <p:cNvCxnSpPr>
            <a:stCxn id="407" idx="2"/>
            <a:endCxn id="408" idx="0"/>
          </p:cNvCxnSpPr>
          <p:nvPr/>
        </p:nvCxnSpPr>
        <p:spPr>
          <a:xfrm>
            <a:off x="7160760" y="3801600"/>
            <a:ext cx="1080" cy="258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5921280" y="1673280"/>
            <a:ext cx="2476440" cy="404640"/>
          </a:xfrm>
          <a:prstGeom prst="rect">
            <a:avLst/>
          </a:prstGeom>
          <a:solidFill>
            <a:srgbClr val="77777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let 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생성 루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18080" y="5364000"/>
            <a:ext cx="3284640" cy="11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16640" y="4959360"/>
            <a:ext cx="3286080" cy="404640"/>
          </a:xfrm>
          <a:prstGeom prst="rect">
            <a:avLst/>
          </a:prstGeom>
          <a:solidFill>
            <a:srgbClr val="77777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let Cont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42000" y="5543640"/>
            <a:ext cx="1012680" cy="4572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40400" y="5942160"/>
            <a:ext cx="1013040" cy="4572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42360" y="5589720"/>
            <a:ext cx="1012680" cy="4572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0" idx="2"/>
            <a:endCxn id="420" idx="0"/>
          </p:cNvCxnSpPr>
          <p:nvPr/>
        </p:nvCxnSpPr>
        <p:spPr>
          <a:xfrm flipH="1">
            <a:off x="7159320" y="4598640"/>
            <a:ext cx="2160" cy="36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909040" y="402588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22000" y="303516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10" idx="3"/>
            <a:endCxn id="425" idx="1"/>
          </p:cNvCxnSpPr>
          <p:nvPr/>
        </p:nvCxnSpPr>
        <p:spPr>
          <a:xfrm flipV="1">
            <a:off x="4599000" y="4188960"/>
            <a:ext cx="1311480" cy="72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28" name=""/>
          <p:cNvCxnSpPr>
            <a:stCxn id="409" idx="3"/>
            <a:endCxn id="426" idx="1"/>
          </p:cNvCxnSpPr>
          <p:nvPr/>
        </p:nvCxnSpPr>
        <p:spPr>
          <a:xfrm flipV="1">
            <a:off x="4597560" y="3198240"/>
            <a:ext cx="1326240" cy="54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29" name=""/>
          <p:cNvCxnSpPr>
            <a:stCxn id="410" idx="2"/>
            <a:endCxn id="419" idx="1"/>
          </p:cNvCxnSpPr>
          <p:nvPr/>
        </p:nvCxnSpPr>
        <p:spPr>
          <a:xfrm flipH="1" rot="16200000">
            <a:off x="3758040" y="4189680"/>
            <a:ext cx="1396440" cy="212472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3433320" y="351936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3080" y="390204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85680" y="2979720"/>
            <a:ext cx="23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09200" y="4508640"/>
            <a:ext cx="23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62000" y="2168640"/>
            <a:ext cx="907920" cy="1000080"/>
            <a:chOff x="162000" y="2168640"/>
            <a:chExt cx="907920" cy="100008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162000" y="2168640"/>
              <a:ext cx="90792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62000" y="2843280"/>
              <a:ext cx="90000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7" name=""/>
          <p:cNvCxnSpPr>
            <a:stCxn id="435" idx="0"/>
            <a:endCxn id="402" idx="1"/>
          </p:cNvCxnSpPr>
          <p:nvPr/>
        </p:nvCxnSpPr>
        <p:spPr>
          <a:xfrm flipH="1" flipV="1" rot="5400000">
            <a:off x="1014120" y="899640"/>
            <a:ext cx="870840" cy="166752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38" name="Cloud"/>
          <p:cNvSpPr/>
          <p:nvPr/>
        </p:nvSpPr>
        <p:spPr>
          <a:xfrm>
            <a:off x="250920" y="1133640"/>
            <a:ext cx="1081080" cy="585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880920" y="3743280"/>
            <a:ext cx="636840" cy="1079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792000" y="5549040"/>
            <a:ext cx="1528920" cy="621720"/>
          </a:xfrm>
          <a:prstGeom prst="cloudCallout">
            <a:avLst>
              <a:gd name="adj1" fmla="val -22694"/>
              <a:gd name="adj2" fmla="val -15775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는 서블릿으로 변환되어 실행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056280" y="4991040"/>
            <a:ext cx="360360" cy="306360"/>
            <a:chOff x="6056280" y="4991040"/>
            <a:chExt cx="360360" cy="306360"/>
          </a:xfrm>
        </p:grpSpPr>
        <p:sp>
          <p:nvSpPr>
            <p:cNvPr id="442" name="Gear"/>
            <p:cNvSpPr/>
            <p:nvPr/>
          </p:nvSpPr>
          <p:spPr>
            <a:xfrm>
              <a:off x="6256080" y="4991040"/>
              <a:ext cx="160560" cy="140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56280" y="5048640"/>
              <a:ext cx="191880" cy="1677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80840" y="5110920"/>
              <a:ext cx="213480" cy="186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.4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프로그래밍을 위한 환경 설정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1 JDK(J2SE Development Ki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J2SE(Java 2 Standard Editio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반적인 데스크톱용 애플리케이션 개발을 위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현재 가장 최신 버전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2SE 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ttp://java.sun.com/javase/6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J2S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설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셋업 형태의 실행 파일이기 때문에 간단히 설치 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ttp://java.sun.com/javase/downloads/index.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설치 순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2S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운로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2S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설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환경 설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필요에 따라 도움말 파일 설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500720" y="765000"/>
            <a:ext cx="46432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2 J2SE 6.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설치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48760" y="1089000"/>
            <a:ext cx="8372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2SE 6.0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다운로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tp://java.sun.com/javase/download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886280" y="142920"/>
            <a:ext cx="4078440" cy="31226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68200" y="2692440"/>
            <a:ext cx="4078440" cy="31226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419640" y="5032440"/>
            <a:ext cx="863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54" idx="0"/>
            <a:endCxn id="452" idx="1"/>
          </p:cNvCxnSpPr>
          <p:nvPr/>
        </p:nvCxnSpPr>
        <p:spPr>
          <a:xfrm flipH="1" flipV="1" rot="5400000">
            <a:off x="2714040" y="2841120"/>
            <a:ext cx="3309120" cy="103572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>
            <a:off x="5021280" y="2428920"/>
            <a:ext cx="158436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 flipH="1">
            <a:off x="5111280" y="1492200"/>
            <a:ext cx="1032120" cy="8366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508800" y="234720"/>
            <a:ext cx="2563920" cy="1723680"/>
          </a:xfrm>
          <a:prstGeom prst="cloudCallout">
            <a:avLst>
              <a:gd name="adj1" fmla="val -66773"/>
              <a:gd name="adj2" fmla="val 6106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만약 설치 디렉터리를 변경하고 싶다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hange]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을 클릭하여 설치 디렉터리를 수정하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K]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을 클릭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Next]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을 누르면 설치가 진행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516640" y="3473280"/>
            <a:ext cx="3390840" cy="28195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7316640" y="4627440"/>
            <a:ext cx="1305000" cy="1035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5"/>
          <a:stretch/>
        </p:blipFill>
        <p:spPr>
          <a:xfrm>
            <a:off x="5202360" y="5184720"/>
            <a:ext cx="636480" cy="1079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058080" y="3523680"/>
            <a:ext cx="2027160" cy="860400"/>
          </a:xfrm>
          <a:prstGeom prst="cloudCallout">
            <a:avLst>
              <a:gd name="adj1" fmla="val -66509"/>
              <a:gd name="adj2" fmla="val 14610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를 설치한 디렉터리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dk1.6.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re1.6.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 설치되어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4076640" y="5319720"/>
            <a:ext cx="933480" cy="10717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150920" y="4871520"/>
            <a:ext cx="2293920" cy="1393560"/>
          </a:xfrm>
          <a:prstGeom prst="cloudCallout">
            <a:avLst>
              <a:gd name="adj1" fmla="val 89851"/>
              <a:gd name="adj2" fmla="val 2443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기본 설치 디렉터리를 변경하지 않았다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\Program Files\Java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 설치되어 있을 것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7"/>
          <a:srcRect l="1905" t="42196" r="10936" b="23464"/>
          <a:stretch/>
        </p:blipFill>
        <p:spPr>
          <a:xfrm>
            <a:off x="1376280" y="1898640"/>
            <a:ext cx="2025720" cy="58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5157720" y="765000"/>
            <a:ext cx="39862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3 J2SE 6.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환경설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6814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AVA_HOM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바가 설치된 디렉터리를 환경변수에 추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ath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바 컴파일러인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avac.exe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와 자바 명령해석기인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ava.ex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및 기타 실행 파일을 어디서나 실행 가능하도록 지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ath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환경변수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%JAVA_HOME%\bin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추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LASSPATH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바 라이브러리의 물리적인 위치를 지정하기 위해 선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202360" y="2460600"/>
            <a:ext cx="3838320" cy="12384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202360" y="3745080"/>
            <a:ext cx="3838320" cy="12380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5202360" y="5025960"/>
            <a:ext cx="3838320" cy="123840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5349960" y="189000"/>
            <a:ext cx="3671640" cy="1934640"/>
            <a:chOff x="5349960" y="189000"/>
            <a:chExt cx="3671640" cy="1934640"/>
          </a:xfrm>
        </p:grpSpPr>
        <p:pic>
          <p:nvPicPr>
            <p:cNvPr id="473" name="" descr=""/>
            <p:cNvPicPr/>
            <p:nvPr/>
          </p:nvPicPr>
          <p:blipFill>
            <a:blip r:embed="rId4"/>
            <a:srcRect l="0" t="0" r="0" b="91750"/>
            <a:stretch/>
          </p:blipFill>
          <p:spPr>
            <a:xfrm>
              <a:off x="5349960" y="189000"/>
              <a:ext cx="36716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5"/>
            <a:srcRect l="0" t="49329" r="0" b="0"/>
            <a:stretch/>
          </p:blipFill>
          <p:spPr>
            <a:xfrm>
              <a:off x="5349960" y="458640"/>
              <a:ext cx="3671640" cy="16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 rot="5400000">
            <a:off x="7092000" y="1809000"/>
            <a:ext cx="269640" cy="988920"/>
          </a:xfrm>
          <a:custGeom>
            <a:avLst/>
            <a:gdLst>
              <a:gd name="textAreaLeft" fmla="*/ 42120 w 269640"/>
              <a:gd name="textAreaRight" fmla="*/ 155520 w 269640"/>
              <a:gd name="textAreaTop" fmla="*/ 196560 h 988920"/>
              <a:gd name="textAreaBottom" fmla="*/ 792360 h 988920"/>
            </a:gdLst>
            <a:ahLst/>
            <a:rect l="textAreaLeft" t="textAreaTop" r="textAreaRight" b="textAreaBottom"/>
            <a:pathLst>
              <a:path w="21600" h="21600">
                <a:moveTo>
                  <a:pt x="3375" y="4299"/>
                </a:moveTo>
                <a:lnTo>
                  <a:pt x="6388" y="4299"/>
                </a:lnTo>
                <a:lnTo>
                  <a:pt x="6388" y="0"/>
                </a:lnTo>
                <a:lnTo>
                  <a:pt x="21600" y="10800"/>
                </a:lnTo>
                <a:lnTo>
                  <a:pt x="6388" y="21600"/>
                </a:lnTo>
                <a:lnTo>
                  <a:pt x="6388" y="17301"/>
                </a:lnTo>
                <a:lnTo>
                  <a:pt x="3375" y="17301"/>
                </a:lnTo>
                <a:close/>
              </a:path>
              <a:path w="21600" h="21600">
                <a:moveTo>
                  <a:pt x="0" y="4299"/>
                </a:moveTo>
                <a:lnTo>
                  <a:pt x="675" y="4299"/>
                </a:lnTo>
                <a:lnTo>
                  <a:pt x="675" y="17301"/>
                </a:lnTo>
                <a:lnTo>
                  <a:pt x="0" y="17301"/>
                </a:lnTo>
                <a:close/>
              </a:path>
              <a:path w="21600" h="21600">
                <a:moveTo>
                  <a:pt x="1350" y="4299"/>
                </a:moveTo>
                <a:lnTo>
                  <a:pt x="2700" y="4299"/>
                </a:lnTo>
                <a:lnTo>
                  <a:pt x="2700" y="17301"/>
                </a:lnTo>
                <a:lnTo>
                  <a:pt x="1350" y="1730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 anchorCtr="1" vert="eaVert" rot="10800000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4 TOMC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이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시키기 위한 서블릿 컨테이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Servlet Contai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un Microsystem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pache Software Foundati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akarta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젝트를 통해 공동으로 개발한 서블릿 컨테이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의 기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웹 서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Web Server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능 포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 컨테이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Servlet Container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동시에 지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서블릿 컨테이너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Servlet Container)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의 종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OMCAT, Resin, Apache JServ, JRun/JRun Pro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등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 flipH="1">
            <a:off x="7811640" y="465300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443640" y="3189240"/>
            <a:ext cx="2027160" cy="1099080"/>
          </a:xfrm>
          <a:prstGeom prst="cloudCallout">
            <a:avLst>
              <a:gd name="adj1" fmla="val 14361"/>
              <a:gd name="adj2" fmla="val 9390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양한 서블릿 컨테이너 중에서 우리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을 사용하도록 하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5 TOMC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설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61640" y="998640"/>
            <a:ext cx="8372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MCA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다운로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tomcat.apache.org/download-60.c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97360" y="765000"/>
            <a:ext cx="434664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276120" y="3564000"/>
            <a:ext cx="4070520" cy="3179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5002200" y="189000"/>
            <a:ext cx="4070520" cy="31795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5002200" y="3564000"/>
            <a:ext cx="4070520" cy="31798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176640" y="5392800"/>
            <a:ext cx="855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1640" y="6338880"/>
            <a:ext cx="855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9" idx="3"/>
            <a:endCxn id="486" idx="1"/>
          </p:cNvCxnSpPr>
          <p:nvPr/>
        </p:nvCxnSpPr>
        <p:spPr>
          <a:xfrm flipV="1">
            <a:off x="3646440" y="1779120"/>
            <a:ext cx="1356120" cy="4741200"/>
          </a:xfrm>
          <a:prstGeom prst="curvedConnector5">
            <a:avLst>
              <a:gd name="adj1" fmla="val 82899"/>
              <a:gd name="adj2" fmla="val 49996"/>
              <a:gd name="adj3" fmla="val 8289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1646280" y="4468320"/>
            <a:ext cx="1512720" cy="621720"/>
          </a:xfrm>
          <a:prstGeom prst="cloudCallout">
            <a:avLst>
              <a:gd name="adj1" fmla="val 43907"/>
              <a:gd name="adj2" fmla="val 8709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설치할 디렉터리를 변경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92920" y="954000"/>
            <a:ext cx="80964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37200" y="1538280"/>
            <a:ext cx="1395720" cy="63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67560" y="2979720"/>
            <a:ext cx="72072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4" idx="1"/>
            <a:endCxn id="487" idx="0"/>
          </p:cNvCxnSpPr>
          <p:nvPr/>
        </p:nvCxnSpPr>
        <p:spPr>
          <a:xfrm flipV="1" rot="10800000">
            <a:off x="7036560" y="3114360"/>
            <a:ext cx="511920" cy="45000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5092560" y="5138640"/>
            <a:ext cx="2745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57920" y="3989160"/>
            <a:ext cx="2027160" cy="621720"/>
          </a:xfrm>
          <a:prstGeom prst="cloudCallout">
            <a:avLst>
              <a:gd name="adj1" fmla="val -60402"/>
              <a:gd name="adj2" fmla="val 11834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R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가 설치된 디렉터리를 지정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67560" y="6399360"/>
            <a:ext cx="72072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37200" y="209160"/>
            <a:ext cx="1620720" cy="621720"/>
          </a:xfrm>
          <a:prstGeom prst="cloudCallout">
            <a:avLst>
              <a:gd name="adj1" fmla="val 45180"/>
              <a:gd name="adj2" fmla="val 8720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 서버의 포트 번호를 입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2262960"/>
            <a:ext cx="1754280" cy="621720"/>
          </a:xfrm>
          <a:prstGeom prst="cloudCallout">
            <a:avLst>
              <a:gd name="adj1" fmla="val 41379"/>
              <a:gd name="adj2" fmla="val -13506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 서버의 관리자 아이디와 패스워드를 입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4"/>
          <a:srcRect l="27708" t="17499" r="4069" b="30151"/>
          <a:stretch/>
        </p:blipFill>
        <p:spPr>
          <a:xfrm>
            <a:off x="385920" y="1673280"/>
            <a:ext cx="3817800" cy="18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1509840" y="2841480"/>
            <a:ext cx="2295360" cy="22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6 TOMC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환경설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INA_HOM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이 설치된 디렉터리를 환경 변수에 추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PATH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MCA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라이브러리의 물리적인 위치를 지정하기 위해 선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을 지원하는 클래스들을 프로그램적으로 이용하기 위해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let-api.jar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일을 포함시켜야 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4842000" y="3654360"/>
            <a:ext cx="3838320" cy="12384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 flipH="1">
            <a:off x="7902360" y="2438280"/>
            <a:ext cx="988920" cy="8859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6551640" y="1093320"/>
            <a:ext cx="2320920" cy="860400"/>
          </a:xfrm>
          <a:prstGeom prst="cloudCallout">
            <a:avLst>
              <a:gd name="adj1" fmla="val 9162"/>
              <a:gd name="adj2" fmla="val 12691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ervlet-api.jar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일의 경로명을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에 추가하는 것을 잊지 말자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4842000" y="4959360"/>
            <a:ext cx="3838320" cy="123840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431640" y="3924360"/>
            <a:ext cx="3671640" cy="1934640"/>
            <a:chOff x="431640" y="3924360"/>
            <a:chExt cx="3671640" cy="1934640"/>
          </a:xfrm>
        </p:grpSpPr>
        <p:pic>
          <p:nvPicPr>
            <p:cNvPr id="510" name="" descr=""/>
            <p:cNvPicPr/>
            <p:nvPr/>
          </p:nvPicPr>
          <p:blipFill>
            <a:blip r:embed="rId4"/>
            <a:srcRect l="0" t="0" r="0" b="91750"/>
            <a:stretch/>
          </p:blipFill>
          <p:spPr>
            <a:xfrm>
              <a:off x="431640" y="3924360"/>
              <a:ext cx="36716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5"/>
            <a:srcRect l="0" t="49329" r="0" b="0"/>
            <a:stretch/>
          </p:blipFill>
          <p:spPr>
            <a:xfrm>
              <a:off x="431640" y="4194000"/>
              <a:ext cx="3671640" cy="16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4257720" y="4192560"/>
            <a:ext cx="404640" cy="1440000"/>
          </a:xfrm>
          <a:custGeom>
            <a:avLst/>
            <a:gdLst>
              <a:gd name="textAreaLeft" fmla="*/ 63000 w 404640"/>
              <a:gd name="textAreaRight" fmla="*/ 263160 w 404640"/>
              <a:gd name="textAreaTop" fmla="*/ 255600 h 1440000"/>
              <a:gd name="textAreaBottom" fmla="*/ 1184400 h 1440000"/>
            </a:gdLst>
            <a:ahLst/>
            <a:rect l="textAreaLeft" t="textAreaTop" r="textAreaRight" b="textAreaBottom"/>
            <a:pathLst>
              <a:path w="21600" h="21600">
                <a:moveTo>
                  <a:pt x="3375" y="3834"/>
                </a:moveTo>
                <a:lnTo>
                  <a:pt x="9896" y="3834"/>
                </a:lnTo>
                <a:lnTo>
                  <a:pt x="9896" y="0"/>
                </a:lnTo>
                <a:lnTo>
                  <a:pt x="21600" y="10800"/>
                </a:lnTo>
                <a:lnTo>
                  <a:pt x="9896" y="21600"/>
                </a:lnTo>
                <a:lnTo>
                  <a:pt x="9896" y="17766"/>
                </a:lnTo>
                <a:lnTo>
                  <a:pt x="3375" y="17766"/>
                </a:lnTo>
                <a:close/>
              </a:path>
              <a:path w="21600" h="21600">
                <a:moveTo>
                  <a:pt x="0" y="3834"/>
                </a:moveTo>
                <a:lnTo>
                  <a:pt x="675" y="3834"/>
                </a:lnTo>
                <a:lnTo>
                  <a:pt x="675" y="17766"/>
                </a:lnTo>
                <a:lnTo>
                  <a:pt x="0" y="17766"/>
                </a:lnTo>
                <a:close/>
              </a:path>
              <a:path w="21600" h="21600">
                <a:moveTo>
                  <a:pt x="1350" y="3834"/>
                </a:moveTo>
                <a:lnTo>
                  <a:pt x="2700" y="3834"/>
                </a:lnTo>
                <a:lnTo>
                  <a:pt x="2700" y="17766"/>
                </a:lnTo>
                <a:lnTo>
                  <a:pt x="1350" y="1776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7 TOMC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모든 프로그램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&gt; Apache Tomcat 6.0 &gt; Configure Tomc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OMCA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행 확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웹 브라우저에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tp://localhost:8080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입력하여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 동작하는지 확인하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ervlet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엔진 버전 확인하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설치 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in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 안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ersion.ba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도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창에서 실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rcRect l="0" t="0" r="0" b="47420"/>
          <a:stretch/>
        </p:blipFill>
        <p:spPr>
          <a:xfrm>
            <a:off x="3706920" y="4643280"/>
            <a:ext cx="5365800" cy="21164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381560" y="6105600"/>
            <a:ext cx="2251080" cy="325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localhost:80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67280" y="5205240"/>
            <a:ext cx="153036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2"/>
            <a:endCxn id="518" idx="0"/>
          </p:cNvCxnSpPr>
          <p:nvPr/>
        </p:nvCxnSpPr>
        <p:spPr>
          <a:xfrm flipH="1" rot="16200000">
            <a:off x="4863960" y="5462280"/>
            <a:ext cx="612000" cy="675360"/>
          </a:xfrm>
          <a:prstGeom prst="curvedConnector5">
            <a:avLst>
              <a:gd name="adj1" fmla="val 48263"/>
              <a:gd name="adj2" fmla="val 49973"/>
              <a:gd name="adj3" fmla="val 4826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5630760" y="1538280"/>
            <a:ext cx="3181320" cy="30290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571680" y="1557360"/>
            <a:ext cx="3504960" cy="1241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371680" y="1512720"/>
            <a:ext cx="117000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3" idx="3"/>
            <a:endCxn id="521" idx="1"/>
          </p:cNvCxnSpPr>
          <p:nvPr/>
        </p:nvCxnSpPr>
        <p:spPr>
          <a:xfrm>
            <a:off x="3560760" y="1647360"/>
            <a:ext cx="2070720" cy="1405440"/>
          </a:xfrm>
          <a:prstGeom prst="curvedConnector5">
            <a:avLst>
              <a:gd name="adj1" fmla="val 49452"/>
              <a:gd name="adj2" fmla="val 49987"/>
              <a:gd name="adj3" fmla="val 4945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5" name=""/>
          <p:cNvSpPr/>
          <p:nvPr/>
        </p:nvSpPr>
        <p:spPr>
          <a:xfrm>
            <a:off x="5765760" y="3878280"/>
            <a:ext cx="76536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40400" y="3068640"/>
            <a:ext cx="94464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21640" y="3539880"/>
            <a:ext cx="1865160" cy="860400"/>
          </a:xfrm>
          <a:prstGeom prst="cloudCallout">
            <a:avLst>
              <a:gd name="adj1" fmla="val -43111"/>
              <a:gd name="adj2" fmla="val -6789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utomatic]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면 윈도우가 시작될 때 자동 실행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웹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(Web)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8 MySQ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이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데이터베이스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Databa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나 이상의 자료를 저장하고 효율적으로 관리하기 위한 시스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형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elational Database, R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를 표의 형태로 표현하는 데이터베이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양한 종류의 관계형 데이터베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icrosoft SQL Server, IBM Oracle 10g, MySQ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공개 소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Open Source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관계형 데이터베이스 관리 시스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원 운영체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indows, Linux, Unix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제공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, C++, Java, PHP, Per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ttp://www.mysql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976640" y="5229360"/>
            <a:ext cx="1032120" cy="8366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597720" y="4828680"/>
            <a:ext cx="2027160" cy="1099080"/>
          </a:xfrm>
          <a:prstGeom prst="cloudCallout">
            <a:avLst>
              <a:gd name="adj1" fmla="val -94157"/>
              <a:gd name="adj2" fmla="val -1673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SQL Community Edi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은 무료로써 소규모의 사이트에 가장 많이 사용되는 데이터베이스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9 MySQ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설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SQ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다운로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dev.mysql.com/download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rcRect l="1277" t="32835" r="40996" b="11412"/>
          <a:stretch/>
        </p:blipFill>
        <p:spPr>
          <a:xfrm>
            <a:off x="297000" y="2035080"/>
            <a:ext cx="4095720" cy="1528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2906640" y="2709720"/>
            <a:ext cx="71928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rcRect l="4155" t="47513" r="12128" b="30918"/>
          <a:stretch/>
        </p:blipFill>
        <p:spPr>
          <a:xfrm>
            <a:off x="611280" y="4576680"/>
            <a:ext cx="3419280" cy="6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7" name="" descr=""/>
          <p:cNvPicPr/>
          <p:nvPr/>
        </p:nvPicPr>
        <p:blipFill>
          <a:blip r:embed="rId3"/>
          <a:srcRect l="4118" t="28020" r="12128" b="51831"/>
          <a:stretch/>
        </p:blipFill>
        <p:spPr>
          <a:xfrm>
            <a:off x="611280" y="3900600"/>
            <a:ext cx="3421080" cy="63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611280" y="5295960"/>
            <a:ext cx="3419280" cy="65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5052960" y="1763640"/>
            <a:ext cx="3840120" cy="2940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6"/>
          <a:stretch/>
        </p:blipFill>
        <p:spPr>
          <a:xfrm>
            <a:off x="4886280" y="5319720"/>
            <a:ext cx="4124520" cy="64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cxnSp>
        <p:nvCxnSpPr>
          <p:cNvPr id="541" name=""/>
          <p:cNvCxnSpPr>
            <a:stCxn id="538" idx="3"/>
            <a:endCxn id="539" idx="1"/>
          </p:cNvCxnSpPr>
          <p:nvPr/>
        </p:nvCxnSpPr>
        <p:spPr>
          <a:xfrm flipV="1">
            <a:off x="4030560" y="3233880"/>
            <a:ext cx="1023120" cy="238932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2" name=""/>
          <p:cNvSpPr/>
          <p:nvPr/>
        </p:nvSpPr>
        <p:spPr>
          <a:xfrm>
            <a:off x="7304040" y="4373640"/>
            <a:ext cx="80964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07000" y="765000"/>
            <a:ext cx="443700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10 MySQ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640" y="998640"/>
            <a:ext cx="83725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모든 프로그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MySQL &gt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SQL Server 5.0 &gt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SQL Server Instance Config Wizar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03200" y="2079720"/>
            <a:ext cx="4078440" cy="31226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950000" y="117360"/>
            <a:ext cx="4078080" cy="31226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520560" y="3879720"/>
            <a:ext cx="3645000" cy="67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33560" y="4870440"/>
            <a:ext cx="81144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51" idx="3"/>
            <a:endCxn id="549" idx="1"/>
          </p:cNvCxnSpPr>
          <p:nvPr/>
        </p:nvCxnSpPr>
        <p:spPr>
          <a:xfrm flipV="1">
            <a:off x="3664080" y="1678680"/>
            <a:ext cx="1286640" cy="3326760"/>
          </a:xfrm>
          <a:prstGeom prst="curvedConnector5">
            <a:avLst>
              <a:gd name="adj1" fmla="val 78505"/>
              <a:gd name="adj2" fmla="val 50000"/>
              <a:gd name="adj3" fmla="val 7850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5067360" y="2052720"/>
            <a:ext cx="3510000" cy="67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81800" y="2916360"/>
            <a:ext cx="81144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950000" y="3546360"/>
            <a:ext cx="4078080" cy="31226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5084640" y="4446720"/>
            <a:ext cx="3691080" cy="1035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80360" y="6337440"/>
            <a:ext cx="81108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"/>
          <p:cNvCxnSpPr>
            <a:stCxn id="554" idx="1"/>
            <a:endCxn id="555" idx="0"/>
          </p:cNvCxnSpPr>
          <p:nvPr/>
        </p:nvCxnSpPr>
        <p:spPr>
          <a:xfrm flipV="1" rot="10800000">
            <a:off x="6989040" y="3050640"/>
            <a:ext cx="373680" cy="49608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4167360" y="5634000"/>
            <a:ext cx="579240" cy="9349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71280" y="4585320"/>
            <a:ext cx="2741760" cy="1962360"/>
          </a:xfrm>
          <a:prstGeom prst="cloudCallout">
            <a:avLst>
              <a:gd name="adj1" fmla="val 91851"/>
              <a:gd name="adj2" fmla="val 2109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dify Security Settings]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선택하고 관리자 암호를 입력한 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Next]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을 누른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Execute]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을 누르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설정이 시작되고 처리가 끝난 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Finish]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을 누르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 실행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11 MySQ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비스 확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제어판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관리도구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서비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SQL Server 5.0 &gt; MySQL Command Line Cli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403200" y="4284720"/>
            <a:ext cx="4124520" cy="647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341360" y="1508040"/>
            <a:ext cx="6291360" cy="21463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4076640" y="2859120"/>
            <a:ext cx="315108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79640" y="4284720"/>
            <a:ext cx="2114640" cy="223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5211720" y="4238640"/>
            <a:ext cx="3591000" cy="2351160"/>
          </a:xfrm>
          <a:prstGeom prst="rect">
            <a:avLst/>
          </a:prstGeom>
          <a:ln w="0">
            <a:noFill/>
          </a:ln>
        </p:spPr>
      </p:pic>
      <p:cxnSp>
        <p:nvCxnSpPr>
          <p:cNvPr id="568" name=""/>
          <p:cNvCxnSpPr>
            <a:stCxn id="566" idx="3"/>
            <a:endCxn id="567" idx="1"/>
          </p:cNvCxnSpPr>
          <p:nvPr/>
        </p:nvCxnSpPr>
        <p:spPr>
          <a:xfrm>
            <a:off x="4113000" y="4397040"/>
            <a:ext cx="1099080" cy="1018440"/>
          </a:xfrm>
          <a:prstGeom prst="curvedConnector5">
            <a:avLst>
              <a:gd name="adj1" fmla="val 49115"/>
              <a:gd name="adj2" fmla="val 50000"/>
              <a:gd name="adj3" fmla="val 491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3524400" y="5013360"/>
            <a:ext cx="552240" cy="1251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566640" y="5114520"/>
            <a:ext cx="2160720" cy="1099080"/>
          </a:xfrm>
          <a:prstGeom prst="cloudCallout">
            <a:avLst>
              <a:gd name="adj1" fmla="val 81000"/>
              <a:gd name="adj2" fmla="val -4040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SQL Command Line Clien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실행한 후 설치 시 입력했던 관리자 패스워드를 입력하면 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6200" y="5229360"/>
            <a:ext cx="838188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6200" y="1069920"/>
            <a:ext cx="8381880" cy="13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12 MySQ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설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DBC(Java Database Connectivity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바 프로그램 내에서 데이터베이스 질의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SQL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실행하기 위한 자바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 및 애플리케이션 개발자들을 위한 표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AP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바를 이용해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ySQ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서버에 연결하고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처리하기 위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AP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7360" y="3276720"/>
            <a:ext cx="1619280" cy="96516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자바 프로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48080" y="3321000"/>
            <a:ext cx="1179360" cy="89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00880" y="2657520"/>
            <a:ext cx="1266840" cy="681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94400" y="3422520"/>
            <a:ext cx="1266840" cy="681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soft 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394400" y="4187880"/>
            <a:ext cx="1266840" cy="681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27720" y="2792520"/>
            <a:ext cx="2385720" cy="4046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드라이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27720" y="3557520"/>
            <a:ext cx="2385720" cy="40500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S-SQL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드라이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27720" y="4322880"/>
            <a:ext cx="2385720" cy="4046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드라이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81" idx="3"/>
            <a:endCxn id="578" idx="2"/>
          </p:cNvCxnSpPr>
          <p:nvPr/>
        </p:nvCxnSpPr>
        <p:spPr>
          <a:xfrm>
            <a:off x="6913440" y="2995200"/>
            <a:ext cx="488160" cy="39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585" name=""/>
          <p:cNvCxnSpPr>
            <a:stCxn id="582" idx="3"/>
            <a:endCxn id="579" idx="2"/>
          </p:cNvCxnSpPr>
          <p:nvPr/>
        </p:nvCxnSpPr>
        <p:spPr>
          <a:xfrm>
            <a:off x="6913440" y="3760920"/>
            <a:ext cx="481680" cy="36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586" name=""/>
          <p:cNvCxnSpPr>
            <a:stCxn id="583" idx="3"/>
            <a:endCxn id="580" idx="2"/>
          </p:cNvCxnSpPr>
          <p:nvPr/>
        </p:nvCxnSpPr>
        <p:spPr>
          <a:xfrm>
            <a:off x="6913440" y="4525560"/>
            <a:ext cx="481680" cy="39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587" name=""/>
          <p:cNvCxnSpPr>
            <a:stCxn id="577" idx="3"/>
            <a:endCxn id="582" idx="1"/>
          </p:cNvCxnSpPr>
          <p:nvPr/>
        </p:nvCxnSpPr>
        <p:spPr>
          <a:xfrm flipV="1">
            <a:off x="3727080" y="3760200"/>
            <a:ext cx="801000" cy="6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588" name=""/>
          <p:cNvCxnSpPr>
            <a:stCxn id="577" idx="3"/>
            <a:endCxn id="581" idx="1"/>
          </p:cNvCxnSpPr>
          <p:nvPr/>
        </p:nvCxnSpPr>
        <p:spPr>
          <a:xfrm flipV="1">
            <a:off x="3727080" y="2994840"/>
            <a:ext cx="801000" cy="7722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589" name=""/>
          <p:cNvCxnSpPr>
            <a:stCxn id="577" idx="3"/>
            <a:endCxn id="583" idx="1"/>
          </p:cNvCxnSpPr>
          <p:nvPr/>
        </p:nvCxnSpPr>
        <p:spPr>
          <a:xfrm>
            <a:off x="3727080" y="3767040"/>
            <a:ext cx="801000" cy="7596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590" name=""/>
          <p:cNvCxnSpPr>
            <a:stCxn id="577" idx="1"/>
            <a:endCxn id="576" idx="3"/>
          </p:cNvCxnSpPr>
          <p:nvPr/>
        </p:nvCxnSpPr>
        <p:spPr>
          <a:xfrm flipH="1" flipV="1">
            <a:off x="2006280" y="3758760"/>
            <a:ext cx="542160" cy="86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4.13 MySQ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설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다운로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dev.mysql.com/download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PATH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라이브러리의 물리적인 위치를 지정하기 위해 선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rcRect l="34454" t="26646" r="3426" b="10006"/>
          <a:stretch/>
        </p:blipFill>
        <p:spPr>
          <a:xfrm>
            <a:off x="115920" y="2033640"/>
            <a:ext cx="4321080" cy="170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4" name="" descr=""/>
          <p:cNvPicPr/>
          <p:nvPr/>
        </p:nvPicPr>
        <p:blipFill>
          <a:blip r:embed="rId2"/>
          <a:srcRect l="32197" t="32543" r="8589" b="12423"/>
          <a:stretch/>
        </p:blipFill>
        <p:spPr>
          <a:xfrm>
            <a:off x="4662360" y="1989000"/>
            <a:ext cx="4411800" cy="12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5" name=""/>
          <p:cNvSpPr/>
          <p:nvPr/>
        </p:nvSpPr>
        <p:spPr>
          <a:xfrm>
            <a:off x="490680" y="2887560"/>
            <a:ext cx="3914640" cy="1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97720" y="2800440"/>
            <a:ext cx="76536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5" idx="3"/>
            <a:endCxn id="594" idx="1"/>
          </p:cNvCxnSpPr>
          <p:nvPr/>
        </p:nvCxnSpPr>
        <p:spPr>
          <a:xfrm flipV="1">
            <a:off x="4424040" y="2596320"/>
            <a:ext cx="238680" cy="381960"/>
          </a:xfrm>
          <a:prstGeom prst="curvedConnector5">
            <a:avLst>
              <a:gd name="adj1" fmla="val 45921"/>
              <a:gd name="adj2" fmla="val 50000"/>
              <a:gd name="adj3" fmla="val 4592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2502000" y="4915080"/>
            <a:ext cx="383832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640" y="3629160"/>
            <a:ext cx="7732800" cy="2544480"/>
          </a:xfrm>
          <a:custGeom>
            <a:avLst/>
            <a:gdLst/>
            <a:ahLst/>
            <a:rect l="l" t="t" r="r" b="b"/>
            <a:pathLst>
              <a:path w="4871" h="1603">
                <a:moveTo>
                  <a:pt x="2523" y="104"/>
                </a:moveTo>
                <a:cubicBezTo>
                  <a:pt x="2282" y="113"/>
                  <a:pt x="1837" y="189"/>
                  <a:pt x="1502" y="189"/>
                </a:cubicBezTo>
                <a:cubicBezTo>
                  <a:pt x="1167" y="189"/>
                  <a:pt x="760" y="0"/>
                  <a:pt x="510" y="104"/>
                </a:cubicBezTo>
                <a:cubicBezTo>
                  <a:pt x="260" y="208"/>
                  <a:pt x="0" y="610"/>
                  <a:pt x="0" y="813"/>
                </a:cubicBezTo>
                <a:cubicBezTo>
                  <a:pt x="0" y="1016"/>
                  <a:pt x="340" y="1276"/>
                  <a:pt x="510" y="1323"/>
                </a:cubicBezTo>
                <a:cubicBezTo>
                  <a:pt x="680" y="1370"/>
                  <a:pt x="831" y="1073"/>
                  <a:pt x="1020" y="1097"/>
                </a:cubicBezTo>
                <a:cubicBezTo>
                  <a:pt x="1209" y="1121"/>
                  <a:pt x="1403" y="1390"/>
                  <a:pt x="1644" y="1465"/>
                </a:cubicBezTo>
                <a:cubicBezTo>
                  <a:pt x="1885" y="1540"/>
                  <a:pt x="2197" y="1550"/>
                  <a:pt x="2466" y="1550"/>
                </a:cubicBezTo>
                <a:cubicBezTo>
                  <a:pt x="2735" y="1550"/>
                  <a:pt x="2995" y="1460"/>
                  <a:pt x="3260" y="1465"/>
                </a:cubicBezTo>
                <a:cubicBezTo>
                  <a:pt x="3525" y="1470"/>
                  <a:pt x="3799" y="1603"/>
                  <a:pt x="4054" y="1579"/>
                </a:cubicBezTo>
                <a:cubicBezTo>
                  <a:pt x="4309" y="1555"/>
                  <a:pt x="4711" y="1531"/>
                  <a:pt x="4791" y="1323"/>
                </a:cubicBezTo>
                <a:cubicBezTo>
                  <a:pt x="4871" y="1115"/>
                  <a:pt x="4715" y="515"/>
                  <a:pt x="4536" y="331"/>
                </a:cubicBezTo>
                <a:cubicBezTo>
                  <a:pt x="4357" y="147"/>
                  <a:pt x="3979" y="251"/>
                  <a:pt x="3714" y="218"/>
                </a:cubicBezTo>
                <a:cubicBezTo>
                  <a:pt x="3449" y="185"/>
                  <a:pt x="3146" y="157"/>
                  <a:pt x="2948" y="133"/>
                </a:cubicBezTo>
                <a:cubicBezTo>
                  <a:pt x="2750" y="109"/>
                  <a:pt x="2764" y="95"/>
                  <a:pt x="2523" y="104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3240" y="3862440"/>
            <a:ext cx="2881440" cy="1492200"/>
          </a:xfrm>
          <a:custGeom>
            <a:avLst/>
            <a:gdLst/>
            <a:ahLst/>
            <a:rect l="l" t="t" r="r" b="b"/>
            <a:pathLst>
              <a:path w="1815" h="940">
                <a:moveTo>
                  <a:pt x="894" y="71"/>
                </a:moveTo>
                <a:cubicBezTo>
                  <a:pt x="800" y="52"/>
                  <a:pt x="605" y="0"/>
                  <a:pt x="468" y="14"/>
                </a:cubicBezTo>
                <a:cubicBezTo>
                  <a:pt x="331" y="28"/>
                  <a:pt x="142" y="85"/>
                  <a:pt x="71" y="156"/>
                </a:cubicBezTo>
                <a:cubicBezTo>
                  <a:pt x="0" y="227"/>
                  <a:pt x="43" y="330"/>
                  <a:pt x="43" y="439"/>
                </a:cubicBezTo>
                <a:cubicBezTo>
                  <a:pt x="43" y="548"/>
                  <a:pt x="19" y="728"/>
                  <a:pt x="71" y="808"/>
                </a:cubicBezTo>
                <a:cubicBezTo>
                  <a:pt x="123" y="888"/>
                  <a:pt x="204" y="940"/>
                  <a:pt x="355" y="921"/>
                </a:cubicBezTo>
                <a:cubicBezTo>
                  <a:pt x="506" y="902"/>
                  <a:pt x="800" y="718"/>
                  <a:pt x="979" y="694"/>
                </a:cubicBezTo>
                <a:cubicBezTo>
                  <a:pt x="1158" y="670"/>
                  <a:pt x="1295" y="831"/>
                  <a:pt x="1432" y="779"/>
                </a:cubicBezTo>
                <a:cubicBezTo>
                  <a:pt x="1569" y="727"/>
                  <a:pt x="1787" y="492"/>
                  <a:pt x="1801" y="383"/>
                </a:cubicBezTo>
                <a:cubicBezTo>
                  <a:pt x="1815" y="274"/>
                  <a:pt x="1645" y="170"/>
                  <a:pt x="1517" y="127"/>
                </a:cubicBezTo>
                <a:cubicBezTo>
                  <a:pt x="1389" y="84"/>
                  <a:pt x="1144" y="136"/>
                  <a:pt x="1035" y="127"/>
                </a:cubicBezTo>
                <a:cubicBezTo>
                  <a:pt x="926" y="118"/>
                  <a:pt x="988" y="90"/>
                  <a:pt x="894" y="71"/>
                </a:cubicBezTo>
                <a:close/>
              </a:path>
            </a:pathLst>
          </a:custGeom>
          <a:solidFill>
            <a:srgbClr val="eaeaea"/>
          </a:solidFill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68720" y="4379760"/>
            <a:ext cx="2671920" cy="1663920"/>
          </a:xfrm>
          <a:custGeom>
            <a:avLst/>
            <a:gdLst/>
            <a:ahLst/>
            <a:rect l="l" t="t" r="r" b="b"/>
            <a:pathLst>
              <a:path w="1683" h="1100">
                <a:moveTo>
                  <a:pt x="742" y="52"/>
                </a:moveTo>
                <a:cubicBezTo>
                  <a:pt x="624" y="66"/>
                  <a:pt x="322" y="118"/>
                  <a:pt x="204" y="222"/>
                </a:cubicBezTo>
                <a:cubicBezTo>
                  <a:pt x="86" y="326"/>
                  <a:pt x="0" y="567"/>
                  <a:pt x="33" y="676"/>
                </a:cubicBezTo>
                <a:cubicBezTo>
                  <a:pt x="66" y="785"/>
                  <a:pt x="274" y="851"/>
                  <a:pt x="402" y="874"/>
                </a:cubicBezTo>
                <a:cubicBezTo>
                  <a:pt x="530" y="897"/>
                  <a:pt x="686" y="784"/>
                  <a:pt x="799" y="817"/>
                </a:cubicBezTo>
                <a:cubicBezTo>
                  <a:pt x="912" y="850"/>
                  <a:pt x="950" y="1044"/>
                  <a:pt x="1082" y="1072"/>
                </a:cubicBezTo>
                <a:cubicBezTo>
                  <a:pt x="1214" y="1100"/>
                  <a:pt x="1503" y="1091"/>
                  <a:pt x="1593" y="987"/>
                </a:cubicBezTo>
                <a:cubicBezTo>
                  <a:pt x="1683" y="883"/>
                  <a:pt x="1682" y="605"/>
                  <a:pt x="1621" y="449"/>
                </a:cubicBezTo>
                <a:cubicBezTo>
                  <a:pt x="1560" y="293"/>
                  <a:pt x="1342" y="104"/>
                  <a:pt x="1224" y="52"/>
                </a:cubicBezTo>
                <a:cubicBezTo>
                  <a:pt x="1106" y="0"/>
                  <a:pt x="997" y="137"/>
                  <a:pt x="912" y="137"/>
                </a:cubicBezTo>
                <a:cubicBezTo>
                  <a:pt x="827" y="137"/>
                  <a:pt x="860" y="38"/>
                  <a:pt x="742" y="52"/>
                </a:cubicBezTo>
                <a:close/>
              </a:path>
            </a:pathLst>
          </a:custGeom>
          <a:solidFill>
            <a:srgbClr val="eaeaea"/>
          </a:solidFill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200" y="2619360"/>
            <a:ext cx="8381880" cy="9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1069920"/>
            <a:ext cx="8381880" cy="12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네트워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Network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와 인터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네트워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etwork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로간의 통신을 위해 두 개 이상의 장치들이 연결되어 있는 통신 구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인터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수많은 컴퓨터 네트워크들을 연결시키는 네트워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02000" y="3884760"/>
            <a:ext cx="541440" cy="422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80200" y="4983120"/>
            <a:ext cx="541080" cy="42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722680" y="4230720"/>
            <a:ext cx="541080" cy="422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760920" y="5532480"/>
            <a:ext cx="541080" cy="422280"/>
          </a:xfrm>
          <a:prstGeom prst="rect">
            <a:avLst/>
          </a:prstGeom>
          <a:ln w="0">
            <a:noFill/>
          </a:ln>
        </p:spPr>
      </p:pic>
      <p:cxnSp>
        <p:nvCxnSpPr>
          <p:cNvPr id="125" name=""/>
          <p:cNvCxnSpPr>
            <a:stCxn id="121" idx="1"/>
            <a:endCxn id="123" idx="0"/>
          </p:cNvCxnSpPr>
          <p:nvPr/>
        </p:nvCxnSpPr>
        <p:spPr>
          <a:xfrm flipH="1">
            <a:off x="2993400" y="4095360"/>
            <a:ext cx="1308600" cy="13572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"/>
          <p:cNvCxnSpPr>
            <a:stCxn id="121" idx="3"/>
            <a:endCxn id="122" idx="0"/>
          </p:cNvCxnSpPr>
          <p:nvPr/>
        </p:nvCxnSpPr>
        <p:spPr>
          <a:xfrm>
            <a:off x="4843080" y="4095360"/>
            <a:ext cx="808920" cy="888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3" idx="2"/>
            <a:endCxn id="124" idx="0"/>
          </p:cNvCxnSpPr>
          <p:nvPr/>
        </p:nvCxnSpPr>
        <p:spPr>
          <a:xfrm>
            <a:off x="2994120" y="4652640"/>
            <a:ext cx="1038600" cy="88020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" name=""/>
          <p:cNvCxnSpPr>
            <a:stCxn id="123" idx="3"/>
            <a:endCxn id="122" idx="1"/>
          </p:cNvCxnSpPr>
          <p:nvPr/>
        </p:nvCxnSpPr>
        <p:spPr>
          <a:xfrm>
            <a:off x="3263400" y="4441320"/>
            <a:ext cx="2116800" cy="75348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4" idx="0"/>
          </p:cNvCxnSpPr>
          <p:nvPr/>
        </p:nvCxnSpPr>
        <p:spPr>
          <a:xfrm flipH="1">
            <a:off x="4031640" y="4307040"/>
            <a:ext cx="541800" cy="12261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22" idx="1"/>
          </p:cNvCxnSpPr>
          <p:nvPr/>
        </p:nvCxnSpPr>
        <p:spPr>
          <a:xfrm flipV="1">
            <a:off x="4032360" y="5193720"/>
            <a:ext cx="1348560" cy="3387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7811640" y="3929040"/>
            <a:ext cx="988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730920" y="4740120"/>
            <a:ext cx="541440" cy="422280"/>
          </a:xfrm>
          <a:prstGeom prst="rect">
            <a:avLst/>
          </a:prstGeom>
          <a:ln w="0">
            <a:noFill/>
          </a:ln>
        </p:spPr>
      </p:pic>
      <p:cxnSp>
        <p:nvCxnSpPr>
          <p:cNvPr id="133" name=""/>
          <p:cNvCxnSpPr>
            <a:stCxn id="122" idx="3"/>
            <a:endCxn id="132" idx="1"/>
          </p:cNvCxnSpPr>
          <p:nvPr/>
        </p:nvCxnSpPr>
        <p:spPr>
          <a:xfrm flipV="1">
            <a:off x="5920920" y="4950720"/>
            <a:ext cx="810360" cy="24372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730920" y="5425920"/>
            <a:ext cx="541440" cy="422280"/>
          </a:xfrm>
          <a:prstGeom prst="rect">
            <a:avLst/>
          </a:prstGeom>
          <a:ln w="0">
            <a:noFill/>
          </a:ln>
        </p:spPr>
      </p:pic>
      <p:cxnSp>
        <p:nvCxnSpPr>
          <p:cNvPr id="135" name=""/>
          <p:cNvCxnSpPr>
            <a:stCxn id="122" idx="3"/>
            <a:endCxn id="134" idx="1"/>
          </p:cNvCxnSpPr>
          <p:nvPr/>
        </p:nvCxnSpPr>
        <p:spPr>
          <a:xfrm>
            <a:off x="5920920" y="5194440"/>
            <a:ext cx="810360" cy="44352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41280" y="4019400"/>
            <a:ext cx="541440" cy="422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1241280" y="4705200"/>
            <a:ext cx="541440" cy="422280"/>
          </a:xfrm>
          <a:prstGeom prst="rect">
            <a:avLst/>
          </a:prstGeom>
          <a:ln w="0">
            <a:noFill/>
          </a:ln>
        </p:spPr>
      </p:pic>
      <p:cxnSp>
        <p:nvCxnSpPr>
          <p:cNvPr id="138" name=""/>
          <p:cNvCxnSpPr>
            <a:stCxn id="136" idx="3"/>
            <a:endCxn id="123" idx="1"/>
          </p:cNvCxnSpPr>
          <p:nvPr/>
        </p:nvCxnSpPr>
        <p:spPr>
          <a:xfrm>
            <a:off x="1782360" y="4230720"/>
            <a:ext cx="940680" cy="21168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"/>
          <p:cNvCxnSpPr>
            <a:stCxn id="137" idx="3"/>
            <a:endCxn id="123" idx="1"/>
          </p:cNvCxnSpPr>
          <p:nvPr/>
        </p:nvCxnSpPr>
        <p:spPr>
          <a:xfrm flipV="1">
            <a:off x="1782360" y="4440960"/>
            <a:ext cx="940680" cy="475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989680" y="4170240"/>
            <a:ext cx="9424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97360" y="5054760"/>
            <a:ext cx="9424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6200" y="1069920"/>
            <a:ext cx="838188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1.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월드 와이드 웹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World Wide Web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이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혹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이란 용어로 통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년도 초반에 등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9920" y="3479760"/>
            <a:ext cx="1541160" cy="16700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4520" y="3487680"/>
            <a:ext cx="1798560" cy="166860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Cloud"/>
          <p:cNvSpPr/>
          <p:nvPr/>
        </p:nvSpPr>
        <p:spPr>
          <a:xfrm>
            <a:off x="2862360" y="3503520"/>
            <a:ext cx="3459240" cy="1635120"/>
          </a:xfrm>
          <a:prstGeom prst="pie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06440" y="4000680"/>
            <a:ext cx="654120" cy="529920"/>
          </a:xfrm>
          <a:prstGeom prst="rect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150" name=""/>
          <p:cNvSpPr/>
          <p:nvPr/>
        </p:nvSpPr>
        <p:spPr>
          <a:xfrm>
            <a:off x="2228760" y="3564000"/>
            <a:ext cx="4795920" cy="568440"/>
          </a:xfrm>
          <a:prstGeom prst="rightArrow">
            <a:avLst>
              <a:gd name="adj1" fmla="val 46630"/>
              <a:gd name="adj2" fmla="val 53005"/>
            </a:avLst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문서 요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228040" y="4481640"/>
            <a:ext cx="4343400" cy="568080"/>
          </a:xfrm>
          <a:prstGeom prst="rightArrow">
            <a:avLst>
              <a:gd name="adj1" fmla="val 41907"/>
              <a:gd name="adj2" fmla="val 53379"/>
            </a:avLst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문서 응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27320" y="3944880"/>
            <a:ext cx="1130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HTT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8040" y="3274920"/>
            <a:ext cx="75754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6804720" y="4161600"/>
            <a:ext cx="1347480" cy="3207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01760" y="4118040"/>
            <a:ext cx="761760" cy="593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7840" y="3808440"/>
            <a:ext cx="125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50840" y="4525920"/>
            <a:ext cx="1133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823160" y="4122720"/>
            <a:ext cx="762120" cy="593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599240" y="3813120"/>
            <a:ext cx="125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673680" y="4554360"/>
          <a:ext cx="330480" cy="38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73680" y="4554360"/>
                    <a:ext cx="33048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188120" y="5214960"/>
            <a:ext cx="154296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라이언트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문서를 요청하면 웹 서버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문서를 보내준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5960" y="5221440"/>
            <a:ext cx="17971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 브라우저는 서버로부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문서를 다운받아 웹 브라우저 화면에 보여준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5560" y="4898880"/>
            <a:ext cx="64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문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60560" y="2498400"/>
            <a:ext cx="2027160" cy="860400"/>
          </a:xfrm>
          <a:prstGeom prst="cloudCallout">
            <a:avLst>
              <a:gd name="adj1" fmla="val -80837"/>
              <a:gd name="adj2" fmla="val -905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Explorer, Netscap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등의 웹 브라우저가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10560" y="1907280"/>
            <a:ext cx="2027160" cy="621720"/>
          </a:xfrm>
          <a:prstGeom prst="cloudCallout">
            <a:avLst>
              <a:gd name="adj1" fmla="val -42564"/>
              <a:gd name="adj2" fmla="val 11116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아파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IS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등 다양한 웹 서버들이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161040" y="2513160"/>
            <a:ext cx="689040" cy="966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344520" y="2529000"/>
            <a:ext cx="988920" cy="88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68440" y="2266920"/>
            <a:ext cx="3762360" cy="2376360"/>
          </a:xfrm>
          <a:prstGeom prst="rect">
            <a:avLst/>
          </a:prstGeom>
          <a:solidFill>
            <a:srgbClr val="ccecff"/>
          </a:solidFill>
          <a:ln w="3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360" y="2268360"/>
            <a:ext cx="996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1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웹의 주요 기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하이퍼링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yper Link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특정 단어나 이미지를 다른 문서와 연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멀티미디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ultimedia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서비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음성과 정지 화상 및 동화상 등의 서비스를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16040" y="2700360"/>
            <a:ext cx="1500120" cy="974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25920" y="2968560"/>
            <a:ext cx="87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ff"/>
                </a:solidFill>
                <a:uFillTx/>
                <a:latin typeface="굴림"/>
              </a:rPr>
              <a:t>홈페이지 링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78760" y="2664000"/>
            <a:ext cx="1541520" cy="1670040"/>
          </a:xfrm>
          <a:prstGeom prst="rect">
            <a:avLst/>
          </a:prstGeom>
          <a:solidFill>
            <a:srgbClr val="ffffff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6793200" y="3345480"/>
            <a:ext cx="1347840" cy="320760"/>
          </a:xfrm>
          <a:prstGeom prst="rect">
            <a:avLst/>
          </a:prstGeom>
          <a:solidFill>
            <a:srgbClr val="dddddd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812000" y="3306600"/>
            <a:ext cx="762120" cy="594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588080" y="2997360"/>
            <a:ext cx="125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662880" y="3789360"/>
          <a:ext cx="33012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2880" y="3789360"/>
                    <a:ext cx="3301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494400" y="413388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문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395440" y="3384720"/>
            <a:ext cx="1741680" cy="1131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89160" y="4061520"/>
            <a:ext cx="927000" cy="383040"/>
          </a:xfrm>
          <a:prstGeom prst="cloudCallout">
            <a:avLst>
              <a:gd name="adj1" fmla="val 34546"/>
              <a:gd name="adj2" fmla="val -11572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1440" y="2673360"/>
            <a:ext cx="4795920" cy="568440"/>
          </a:xfrm>
          <a:prstGeom prst="rightArrow">
            <a:avLst>
              <a:gd name="adj1" fmla="val 46370"/>
              <a:gd name="adj2" fmla="val 57262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문서 요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57000" y="3686040"/>
            <a:ext cx="2327400" cy="568440"/>
          </a:xfrm>
          <a:prstGeom prst="rightArrow">
            <a:avLst>
              <a:gd name="adj1" fmla="val 45259"/>
              <a:gd name="adj2" fmla="val 51123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문서 응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3040" y="3683160"/>
            <a:ext cx="1079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1736640" y="3206880"/>
            <a:ext cx="528840" cy="492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83080" y="2365200"/>
            <a:ext cx="405000" cy="405000"/>
          </a:xfrm>
          <a:prstGeom prst="ellipse">
            <a:avLst/>
          </a:prstGeom>
          <a:solidFill>
            <a:srgbClr val="ffcccc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24640" y="2295360"/>
            <a:ext cx="405000" cy="405000"/>
          </a:xfrm>
          <a:prstGeom prst="ellipse">
            <a:avLst/>
          </a:prstGeom>
          <a:solidFill>
            <a:srgbClr val="ffcccc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57360" y="2390760"/>
            <a:ext cx="401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처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1280" y="4133880"/>
            <a:ext cx="405000" cy="404640"/>
          </a:xfrm>
          <a:prstGeom prst="ellipse">
            <a:avLst/>
          </a:prstGeom>
          <a:solidFill>
            <a:srgbClr val="ffcccc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23600" y="4197240"/>
            <a:ext cx="401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응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5400" y="2427120"/>
            <a:ext cx="401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1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웹의 구성 요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웹 서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eb Serv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라이언트의 요청을 받아서 처리한 후 결과를 클라이언트에 전송해 주는 주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웹 클라이언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eb Cli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필요한 데이터를 웹 서버에 요청하는 주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웹 브라우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eb Brows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웹 서버로부터 받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문서를 해석하고 보여주는 애플리케이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Explorer, Netscape Browser, Mozilla Firef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87480"/>
            <a:ext cx="9144000" cy="57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6200" y="1069920"/>
            <a:ext cx="838188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5920" y="2394000"/>
            <a:ext cx="83818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1.5 HTTP(HyperText Transfer Protoco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1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프로토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Protocol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른 시스템과 정보를 교환하기 위한 규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외계인과 대화하려면 외계어를 사용해야 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웹에서 정보 교환을 위해 사용되는 프로토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rot="21389400">
            <a:off x="6748560" y="5530680"/>
            <a:ext cx="1873080" cy="1008000"/>
          </a:xfrm>
          <a:custGeom>
            <a:avLst/>
            <a:gdLst/>
            <a:ahLst/>
            <a:rect l="l" t="t" r="r" b="b"/>
            <a:pathLst>
              <a:path w="2135" h="2130">
                <a:moveTo>
                  <a:pt x="325" y="134"/>
                </a:moveTo>
                <a:lnTo>
                  <a:pt x="300" y="139"/>
                </a:lnTo>
                <a:lnTo>
                  <a:pt x="275" y="143"/>
                </a:lnTo>
                <a:lnTo>
                  <a:pt x="252" y="149"/>
                </a:lnTo>
                <a:lnTo>
                  <a:pt x="229" y="155"/>
                </a:lnTo>
                <a:lnTo>
                  <a:pt x="207" y="162"/>
                </a:lnTo>
                <a:lnTo>
                  <a:pt x="187" y="170"/>
                </a:lnTo>
                <a:lnTo>
                  <a:pt x="166" y="179"/>
                </a:lnTo>
                <a:lnTo>
                  <a:pt x="146" y="188"/>
                </a:lnTo>
                <a:lnTo>
                  <a:pt x="128" y="198"/>
                </a:lnTo>
                <a:lnTo>
                  <a:pt x="110" y="210"/>
                </a:lnTo>
                <a:lnTo>
                  <a:pt x="93" y="221"/>
                </a:lnTo>
                <a:lnTo>
                  <a:pt x="77" y="235"/>
                </a:lnTo>
                <a:lnTo>
                  <a:pt x="63" y="249"/>
                </a:lnTo>
                <a:lnTo>
                  <a:pt x="51" y="265"/>
                </a:lnTo>
                <a:lnTo>
                  <a:pt x="38" y="281"/>
                </a:lnTo>
                <a:lnTo>
                  <a:pt x="28" y="300"/>
                </a:lnTo>
                <a:lnTo>
                  <a:pt x="13" y="340"/>
                </a:lnTo>
                <a:lnTo>
                  <a:pt x="4" y="391"/>
                </a:lnTo>
                <a:lnTo>
                  <a:pt x="0" y="448"/>
                </a:lnTo>
                <a:lnTo>
                  <a:pt x="1" y="511"/>
                </a:lnTo>
                <a:lnTo>
                  <a:pt x="5" y="550"/>
                </a:lnTo>
                <a:lnTo>
                  <a:pt x="9" y="590"/>
                </a:lnTo>
                <a:lnTo>
                  <a:pt x="15" y="631"/>
                </a:lnTo>
                <a:lnTo>
                  <a:pt x="21" y="671"/>
                </a:lnTo>
                <a:lnTo>
                  <a:pt x="28" y="710"/>
                </a:lnTo>
                <a:lnTo>
                  <a:pt x="36" y="748"/>
                </a:lnTo>
                <a:lnTo>
                  <a:pt x="44" y="784"/>
                </a:lnTo>
                <a:lnTo>
                  <a:pt x="52" y="818"/>
                </a:lnTo>
                <a:lnTo>
                  <a:pt x="68" y="883"/>
                </a:lnTo>
                <a:lnTo>
                  <a:pt x="88" y="957"/>
                </a:lnTo>
                <a:lnTo>
                  <a:pt x="107" y="1038"/>
                </a:lnTo>
                <a:lnTo>
                  <a:pt x="128" y="1127"/>
                </a:lnTo>
                <a:lnTo>
                  <a:pt x="148" y="1220"/>
                </a:lnTo>
                <a:lnTo>
                  <a:pt x="165" y="1317"/>
                </a:lnTo>
                <a:lnTo>
                  <a:pt x="179" y="1417"/>
                </a:lnTo>
                <a:lnTo>
                  <a:pt x="189" y="1518"/>
                </a:lnTo>
                <a:lnTo>
                  <a:pt x="194" y="1586"/>
                </a:lnTo>
                <a:lnTo>
                  <a:pt x="197" y="1654"/>
                </a:lnTo>
                <a:lnTo>
                  <a:pt x="202" y="1722"/>
                </a:lnTo>
                <a:lnTo>
                  <a:pt x="207" y="1788"/>
                </a:lnTo>
                <a:lnTo>
                  <a:pt x="216" y="1853"/>
                </a:lnTo>
                <a:lnTo>
                  <a:pt x="227" y="1914"/>
                </a:lnTo>
                <a:lnTo>
                  <a:pt x="243" y="1969"/>
                </a:lnTo>
                <a:lnTo>
                  <a:pt x="264" y="2019"/>
                </a:lnTo>
                <a:lnTo>
                  <a:pt x="278" y="2042"/>
                </a:lnTo>
                <a:lnTo>
                  <a:pt x="293" y="2063"/>
                </a:lnTo>
                <a:lnTo>
                  <a:pt x="310" y="2081"/>
                </a:lnTo>
                <a:lnTo>
                  <a:pt x="330" y="2096"/>
                </a:lnTo>
                <a:lnTo>
                  <a:pt x="350" y="2110"/>
                </a:lnTo>
                <a:lnTo>
                  <a:pt x="374" y="2119"/>
                </a:lnTo>
                <a:lnTo>
                  <a:pt x="401" y="2126"/>
                </a:lnTo>
                <a:lnTo>
                  <a:pt x="430" y="2130"/>
                </a:lnTo>
                <a:lnTo>
                  <a:pt x="440" y="2130"/>
                </a:lnTo>
                <a:lnTo>
                  <a:pt x="452" y="2130"/>
                </a:lnTo>
                <a:lnTo>
                  <a:pt x="463" y="2130"/>
                </a:lnTo>
                <a:lnTo>
                  <a:pt x="476" y="2128"/>
                </a:lnTo>
                <a:lnTo>
                  <a:pt x="489" y="2127"/>
                </a:lnTo>
                <a:lnTo>
                  <a:pt x="502" y="2126"/>
                </a:lnTo>
                <a:lnTo>
                  <a:pt x="516" y="2125"/>
                </a:lnTo>
                <a:lnTo>
                  <a:pt x="530" y="2123"/>
                </a:lnTo>
                <a:lnTo>
                  <a:pt x="545" y="2120"/>
                </a:lnTo>
                <a:lnTo>
                  <a:pt x="560" y="2117"/>
                </a:lnTo>
                <a:lnTo>
                  <a:pt x="575" y="2115"/>
                </a:lnTo>
                <a:lnTo>
                  <a:pt x="590" y="2111"/>
                </a:lnTo>
                <a:lnTo>
                  <a:pt x="606" y="2108"/>
                </a:lnTo>
                <a:lnTo>
                  <a:pt x="622" y="2104"/>
                </a:lnTo>
                <a:lnTo>
                  <a:pt x="638" y="2100"/>
                </a:lnTo>
                <a:lnTo>
                  <a:pt x="654" y="2096"/>
                </a:lnTo>
                <a:lnTo>
                  <a:pt x="673" y="2092"/>
                </a:lnTo>
                <a:lnTo>
                  <a:pt x="690" y="2087"/>
                </a:lnTo>
                <a:lnTo>
                  <a:pt x="709" y="2082"/>
                </a:lnTo>
                <a:lnTo>
                  <a:pt x="727" y="2078"/>
                </a:lnTo>
                <a:lnTo>
                  <a:pt x="745" y="2072"/>
                </a:lnTo>
                <a:lnTo>
                  <a:pt x="763" y="2067"/>
                </a:lnTo>
                <a:lnTo>
                  <a:pt x="781" y="2062"/>
                </a:lnTo>
                <a:lnTo>
                  <a:pt x="800" y="2057"/>
                </a:lnTo>
                <a:lnTo>
                  <a:pt x="817" y="2051"/>
                </a:lnTo>
                <a:lnTo>
                  <a:pt x="834" y="2047"/>
                </a:lnTo>
                <a:lnTo>
                  <a:pt x="851" y="2041"/>
                </a:lnTo>
                <a:lnTo>
                  <a:pt x="868" y="2036"/>
                </a:lnTo>
                <a:lnTo>
                  <a:pt x="885" y="2030"/>
                </a:lnTo>
                <a:lnTo>
                  <a:pt x="901" y="2026"/>
                </a:lnTo>
                <a:lnTo>
                  <a:pt x="916" y="2021"/>
                </a:lnTo>
                <a:lnTo>
                  <a:pt x="931" y="2017"/>
                </a:lnTo>
                <a:lnTo>
                  <a:pt x="944" y="2013"/>
                </a:lnTo>
                <a:lnTo>
                  <a:pt x="956" y="2010"/>
                </a:lnTo>
                <a:lnTo>
                  <a:pt x="969" y="2006"/>
                </a:lnTo>
                <a:lnTo>
                  <a:pt x="982" y="2003"/>
                </a:lnTo>
                <a:lnTo>
                  <a:pt x="994" y="1999"/>
                </a:lnTo>
                <a:lnTo>
                  <a:pt x="1008" y="1997"/>
                </a:lnTo>
                <a:lnTo>
                  <a:pt x="1021" y="1994"/>
                </a:lnTo>
                <a:lnTo>
                  <a:pt x="1035" y="1991"/>
                </a:lnTo>
                <a:lnTo>
                  <a:pt x="1047" y="1989"/>
                </a:lnTo>
                <a:lnTo>
                  <a:pt x="1060" y="1987"/>
                </a:lnTo>
                <a:lnTo>
                  <a:pt x="1074" y="1984"/>
                </a:lnTo>
                <a:lnTo>
                  <a:pt x="1088" y="1982"/>
                </a:lnTo>
                <a:lnTo>
                  <a:pt x="1100" y="1981"/>
                </a:lnTo>
                <a:lnTo>
                  <a:pt x="1114" y="1979"/>
                </a:lnTo>
                <a:lnTo>
                  <a:pt x="1127" y="1977"/>
                </a:lnTo>
                <a:lnTo>
                  <a:pt x="1141" y="1976"/>
                </a:lnTo>
                <a:lnTo>
                  <a:pt x="1168" y="1974"/>
                </a:lnTo>
                <a:lnTo>
                  <a:pt x="1197" y="1972"/>
                </a:lnTo>
                <a:lnTo>
                  <a:pt x="1225" y="1971"/>
                </a:lnTo>
                <a:lnTo>
                  <a:pt x="1254" y="1969"/>
                </a:lnTo>
                <a:lnTo>
                  <a:pt x="1281" y="1969"/>
                </a:lnTo>
                <a:lnTo>
                  <a:pt x="1309" y="1969"/>
                </a:lnTo>
                <a:lnTo>
                  <a:pt x="1338" y="1969"/>
                </a:lnTo>
                <a:lnTo>
                  <a:pt x="1365" y="1969"/>
                </a:lnTo>
                <a:lnTo>
                  <a:pt x="1393" y="1971"/>
                </a:lnTo>
                <a:lnTo>
                  <a:pt x="1421" y="1971"/>
                </a:lnTo>
                <a:lnTo>
                  <a:pt x="1448" y="1972"/>
                </a:lnTo>
                <a:lnTo>
                  <a:pt x="1476" y="1973"/>
                </a:lnTo>
                <a:lnTo>
                  <a:pt x="1502" y="1974"/>
                </a:lnTo>
                <a:lnTo>
                  <a:pt x="1530" y="1975"/>
                </a:lnTo>
                <a:lnTo>
                  <a:pt x="1557" y="1976"/>
                </a:lnTo>
                <a:lnTo>
                  <a:pt x="1583" y="1977"/>
                </a:lnTo>
                <a:lnTo>
                  <a:pt x="1596" y="1979"/>
                </a:lnTo>
                <a:lnTo>
                  <a:pt x="1608" y="1979"/>
                </a:lnTo>
                <a:lnTo>
                  <a:pt x="1622" y="1980"/>
                </a:lnTo>
                <a:lnTo>
                  <a:pt x="1635" y="1980"/>
                </a:lnTo>
                <a:lnTo>
                  <a:pt x="1648" y="1980"/>
                </a:lnTo>
                <a:lnTo>
                  <a:pt x="1659" y="1981"/>
                </a:lnTo>
                <a:lnTo>
                  <a:pt x="1672" y="1981"/>
                </a:lnTo>
                <a:lnTo>
                  <a:pt x="1684" y="1981"/>
                </a:lnTo>
                <a:lnTo>
                  <a:pt x="1697" y="1982"/>
                </a:lnTo>
                <a:lnTo>
                  <a:pt x="1709" y="1982"/>
                </a:lnTo>
                <a:lnTo>
                  <a:pt x="1721" y="1982"/>
                </a:lnTo>
                <a:lnTo>
                  <a:pt x="1733" y="1982"/>
                </a:lnTo>
                <a:lnTo>
                  <a:pt x="1745" y="1982"/>
                </a:lnTo>
                <a:lnTo>
                  <a:pt x="1757" y="1982"/>
                </a:lnTo>
                <a:lnTo>
                  <a:pt x="1768" y="1982"/>
                </a:lnTo>
                <a:lnTo>
                  <a:pt x="1780" y="1982"/>
                </a:lnTo>
                <a:lnTo>
                  <a:pt x="1802" y="1981"/>
                </a:lnTo>
                <a:lnTo>
                  <a:pt x="1824" y="1980"/>
                </a:lnTo>
                <a:lnTo>
                  <a:pt x="1846" y="1977"/>
                </a:lnTo>
                <a:lnTo>
                  <a:pt x="1866" y="1975"/>
                </a:lnTo>
                <a:lnTo>
                  <a:pt x="1886" y="1973"/>
                </a:lnTo>
                <a:lnTo>
                  <a:pt x="1906" y="1969"/>
                </a:lnTo>
                <a:lnTo>
                  <a:pt x="1924" y="1966"/>
                </a:lnTo>
                <a:lnTo>
                  <a:pt x="1941" y="1961"/>
                </a:lnTo>
                <a:lnTo>
                  <a:pt x="1959" y="1956"/>
                </a:lnTo>
                <a:lnTo>
                  <a:pt x="1976" y="1949"/>
                </a:lnTo>
                <a:lnTo>
                  <a:pt x="1991" y="1939"/>
                </a:lnTo>
                <a:lnTo>
                  <a:pt x="2006" y="1930"/>
                </a:lnTo>
                <a:lnTo>
                  <a:pt x="2020" y="1919"/>
                </a:lnTo>
                <a:lnTo>
                  <a:pt x="2031" y="1906"/>
                </a:lnTo>
                <a:lnTo>
                  <a:pt x="2044" y="1893"/>
                </a:lnTo>
                <a:lnTo>
                  <a:pt x="2054" y="1878"/>
                </a:lnTo>
                <a:lnTo>
                  <a:pt x="2067" y="1860"/>
                </a:lnTo>
                <a:lnTo>
                  <a:pt x="2077" y="1839"/>
                </a:lnTo>
                <a:lnTo>
                  <a:pt x="2088" y="1818"/>
                </a:lnTo>
                <a:lnTo>
                  <a:pt x="2097" y="1795"/>
                </a:lnTo>
                <a:lnTo>
                  <a:pt x="2104" y="1771"/>
                </a:lnTo>
                <a:lnTo>
                  <a:pt x="2111" y="1747"/>
                </a:lnTo>
                <a:lnTo>
                  <a:pt x="2118" y="1722"/>
                </a:lnTo>
                <a:lnTo>
                  <a:pt x="2122" y="1695"/>
                </a:lnTo>
                <a:lnTo>
                  <a:pt x="2129" y="1648"/>
                </a:lnTo>
                <a:lnTo>
                  <a:pt x="2133" y="1600"/>
                </a:lnTo>
                <a:lnTo>
                  <a:pt x="2135" y="1550"/>
                </a:lnTo>
                <a:lnTo>
                  <a:pt x="2135" y="1499"/>
                </a:lnTo>
                <a:lnTo>
                  <a:pt x="2133" y="1443"/>
                </a:lnTo>
                <a:lnTo>
                  <a:pt x="2129" y="1388"/>
                </a:lnTo>
                <a:lnTo>
                  <a:pt x="2124" y="1332"/>
                </a:lnTo>
                <a:lnTo>
                  <a:pt x="2118" y="1279"/>
                </a:lnTo>
                <a:lnTo>
                  <a:pt x="2111" y="1231"/>
                </a:lnTo>
                <a:lnTo>
                  <a:pt x="2101" y="1185"/>
                </a:lnTo>
                <a:lnTo>
                  <a:pt x="2093" y="1142"/>
                </a:lnTo>
                <a:lnTo>
                  <a:pt x="2084" y="1103"/>
                </a:lnTo>
                <a:lnTo>
                  <a:pt x="2075" y="1070"/>
                </a:lnTo>
                <a:lnTo>
                  <a:pt x="2066" y="1040"/>
                </a:lnTo>
                <a:lnTo>
                  <a:pt x="2057" y="1015"/>
                </a:lnTo>
                <a:lnTo>
                  <a:pt x="2048" y="997"/>
                </a:lnTo>
                <a:lnTo>
                  <a:pt x="2038" y="976"/>
                </a:lnTo>
                <a:lnTo>
                  <a:pt x="2028" y="957"/>
                </a:lnTo>
                <a:lnTo>
                  <a:pt x="2020" y="936"/>
                </a:lnTo>
                <a:lnTo>
                  <a:pt x="2012" y="915"/>
                </a:lnTo>
                <a:lnTo>
                  <a:pt x="2005" y="894"/>
                </a:lnTo>
                <a:lnTo>
                  <a:pt x="1999" y="874"/>
                </a:lnTo>
                <a:lnTo>
                  <a:pt x="1994" y="853"/>
                </a:lnTo>
                <a:lnTo>
                  <a:pt x="1990" y="832"/>
                </a:lnTo>
                <a:lnTo>
                  <a:pt x="1980" y="772"/>
                </a:lnTo>
                <a:lnTo>
                  <a:pt x="1976" y="713"/>
                </a:lnTo>
                <a:lnTo>
                  <a:pt x="1977" y="656"/>
                </a:lnTo>
                <a:lnTo>
                  <a:pt x="1980" y="598"/>
                </a:lnTo>
                <a:lnTo>
                  <a:pt x="1986" y="542"/>
                </a:lnTo>
                <a:lnTo>
                  <a:pt x="1995" y="486"/>
                </a:lnTo>
                <a:lnTo>
                  <a:pt x="2005" y="433"/>
                </a:lnTo>
                <a:lnTo>
                  <a:pt x="2014" y="383"/>
                </a:lnTo>
                <a:lnTo>
                  <a:pt x="2024" y="329"/>
                </a:lnTo>
                <a:lnTo>
                  <a:pt x="2032" y="278"/>
                </a:lnTo>
                <a:lnTo>
                  <a:pt x="2038" y="230"/>
                </a:lnTo>
                <a:lnTo>
                  <a:pt x="2040" y="186"/>
                </a:lnTo>
                <a:lnTo>
                  <a:pt x="2036" y="147"/>
                </a:lnTo>
                <a:lnTo>
                  <a:pt x="2027" y="112"/>
                </a:lnTo>
                <a:lnTo>
                  <a:pt x="2009" y="82"/>
                </a:lnTo>
                <a:lnTo>
                  <a:pt x="1983" y="57"/>
                </a:lnTo>
                <a:lnTo>
                  <a:pt x="1972" y="50"/>
                </a:lnTo>
                <a:lnTo>
                  <a:pt x="1961" y="44"/>
                </a:lnTo>
                <a:lnTo>
                  <a:pt x="1948" y="37"/>
                </a:lnTo>
                <a:lnTo>
                  <a:pt x="1936" y="33"/>
                </a:lnTo>
                <a:lnTo>
                  <a:pt x="1922" y="27"/>
                </a:lnTo>
                <a:lnTo>
                  <a:pt x="1907" y="23"/>
                </a:lnTo>
                <a:lnTo>
                  <a:pt x="1892" y="19"/>
                </a:lnTo>
                <a:lnTo>
                  <a:pt x="1876" y="15"/>
                </a:lnTo>
                <a:lnTo>
                  <a:pt x="1858" y="12"/>
                </a:lnTo>
                <a:lnTo>
                  <a:pt x="1840" y="9"/>
                </a:lnTo>
                <a:lnTo>
                  <a:pt x="1823" y="7"/>
                </a:lnTo>
                <a:lnTo>
                  <a:pt x="1803" y="5"/>
                </a:lnTo>
                <a:lnTo>
                  <a:pt x="1783" y="3"/>
                </a:lnTo>
                <a:lnTo>
                  <a:pt x="1764" y="1"/>
                </a:lnTo>
                <a:lnTo>
                  <a:pt x="1743" y="1"/>
                </a:lnTo>
                <a:lnTo>
                  <a:pt x="1722" y="0"/>
                </a:lnTo>
                <a:lnTo>
                  <a:pt x="1695" y="0"/>
                </a:lnTo>
                <a:lnTo>
                  <a:pt x="1667" y="0"/>
                </a:lnTo>
                <a:lnTo>
                  <a:pt x="1638" y="0"/>
                </a:lnTo>
                <a:lnTo>
                  <a:pt x="1608" y="1"/>
                </a:lnTo>
                <a:lnTo>
                  <a:pt x="1580" y="3"/>
                </a:lnTo>
                <a:lnTo>
                  <a:pt x="1548" y="5"/>
                </a:lnTo>
                <a:lnTo>
                  <a:pt x="1518" y="7"/>
                </a:lnTo>
                <a:lnTo>
                  <a:pt x="1489" y="9"/>
                </a:lnTo>
                <a:lnTo>
                  <a:pt x="1457" y="12"/>
                </a:lnTo>
                <a:lnTo>
                  <a:pt x="1427" y="15"/>
                </a:lnTo>
                <a:lnTo>
                  <a:pt x="1396" y="19"/>
                </a:lnTo>
                <a:lnTo>
                  <a:pt x="1365" y="22"/>
                </a:lnTo>
                <a:lnTo>
                  <a:pt x="1335" y="26"/>
                </a:lnTo>
                <a:lnTo>
                  <a:pt x="1305" y="29"/>
                </a:lnTo>
                <a:lnTo>
                  <a:pt x="1275" y="33"/>
                </a:lnTo>
                <a:lnTo>
                  <a:pt x="1245" y="37"/>
                </a:lnTo>
                <a:lnTo>
                  <a:pt x="1216" y="42"/>
                </a:lnTo>
                <a:lnTo>
                  <a:pt x="1187" y="45"/>
                </a:lnTo>
                <a:lnTo>
                  <a:pt x="1159" y="50"/>
                </a:lnTo>
                <a:lnTo>
                  <a:pt x="1131" y="53"/>
                </a:lnTo>
                <a:lnTo>
                  <a:pt x="1104" y="58"/>
                </a:lnTo>
                <a:lnTo>
                  <a:pt x="1077" y="61"/>
                </a:lnTo>
                <a:lnTo>
                  <a:pt x="1052" y="66"/>
                </a:lnTo>
                <a:lnTo>
                  <a:pt x="1028" y="69"/>
                </a:lnTo>
                <a:lnTo>
                  <a:pt x="1005" y="73"/>
                </a:lnTo>
                <a:lnTo>
                  <a:pt x="982" y="76"/>
                </a:lnTo>
                <a:lnTo>
                  <a:pt x="960" y="80"/>
                </a:lnTo>
                <a:lnTo>
                  <a:pt x="940" y="83"/>
                </a:lnTo>
                <a:lnTo>
                  <a:pt x="921" y="86"/>
                </a:lnTo>
                <a:lnTo>
                  <a:pt x="903" y="88"/>
                </a:lnTo>
                <a:lnTo>
                  <a:pt x="887" y="90"/>
                </a:lnTo>
                <a:lnTo>
                  <a:pt x="872" y="92"/>
                </a:lnTo>
                <a:lnTo>
                  <a:pt x="839" y="96"/>
                </a:lnTo>
                <a:lnTo>
                  <a:pt x="805" y="99"/>
                </a:lnTo>
                <a:lnTo>
                  <a:pt x="771" y="102"/>
                </a:lnTo>
                <a:lnTo>
                  <a:pt x="736" y="104"/>
                </a:lnTo>
                <a:lnTo>
                  <a:pt x="702" y="105"/>
                </a:lnTo>
                <a:lnTo>
                  <a:pt x="666" y="107"/>
                </a:lnTo>
                <a:lnTo>
                  <a:pt x="631" y="109"/>
                </a:lnTo>
                <a:lnTo>
                  <a:pt x="596" y="111"/>
                </a:lnTo>
                <a:lnTo>
                  <a:pt x="560" y="112"/>
                </a:lnTo>
                <a:lnTo>
                  <a:pt x="525" y="114"/>
                </a:lnTo>
                <a:lnTo>
                  <a:pt x="491" y="117"/>
                </a:lnTo>
                <a:lnTo>
                  <a:pt x="456" y="119"/>
                </a:lnTo>
                <a:lnTo>
                  <a:pt x="423" y="121"/>
                </a:lnTo>
                <a:lnTo>
                  <a:pt x="389" y="125"/>
                </a:lnTo>
                <a:lnTo>
                  <a:pt x="357" y="129"/>
                </a:lnTo>
                <a:lnTo>
                  <a:pt x="325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20800">
            <a:off x="312480" y="5740560"/>
            <a:ext cx="2014560" cy="792000"/>
          </a:xfrm>
          <a:custGeom>
            <a:avLst/>
            <a:gdLst/>
            <a:ahLst/>
            <a:rect l="l" t="t" r="r" b="b"/>
            <a:pathLst>
              <a:path w="2135" h="2130">
                <a:moveTo>
                  <a:pt x="325" y="134"/>
                </a:moveTo>
                <a:lnTo>
                  <a:pt x="300" y="139"/>
                </a:lnTo>
                <a:lnTo>
                  <a:pt x="275" y="143"/>
                </a:lnTo>
                <a:lnTo>
                  <a:pt x="252" y="149"/>
                </a:lnTo>
                <a:lnTo>
                  <a:pt x="229" y="155"/>
                </a:lnTo>
                <a:lnTo>
                  <a:pt x="207" y="162"/>
                </a:lnTo>
                <a:lnTo>
                  <a:pt x="187" y="170"/>
                </a:lnTo>
                <a:lnTo>
                  <a:pt x="166" y="179"/>
                </a:lnTo>
                <a:lnTo>
                  <a:pt x="146" y="188"/>
                </a:lnTo>
                <a:lnTo>
                  <a:pt x="128" y="198"/>
                </a:lnTo>
                <a:lnTo>
                  <a:pt x="110" y="210"/>
                </a:lnTo>
                <a:lnTo>
                  <a:pt x="93" y="221"/>
                </a:lnTo>
                <a:lnTo>
                  <a:pt x="77" y="235"/>
                </a:lnTo>
                <a:lnTo>
                  <a:pt x="63" y="249"/>
                </a:lnTo>
                <a:lnTo>
                  <a:pt x="51" y="265"/>
                </a:lnTo>
                <a:lnTo>
                  <a:pt x="38" y="281"/>
                </a:lnTo>
                <a:lnTo>
                  <a:pt x="28" y="300"/>
                </a:lnTo>
                <a:lnTo>
                  <a:pt x="13" y="340"/>
                </a:lnTo>
                <a:lnTo>
                  <a:pt x="4" y="391"/>
                </a:lnTo>
                <a:lnTo>
                  <a:pt x="0" y="448"/>
                </a:lnTo>
                <a:lnTo>
                  <a:pt x="1" y="511"/>
                </a:lnTo>
                <a:lnTo>
                  <a:pt x="5" y="550"/>
                </a:lnTo>
                <a:lnTo>
                  <a:pt x="9" y="590"/>
                </a:lnTo>
                <a:lnTo>
                  <a:pt x="15" y="631"/>
                </a:lnTo>
                <a:lnTo>
                  <a:pt x="21" y="671"/>
                </a:lnTo>
                <a:lnTo>
                  <a:pt x="28" y="710"/>
                </a:lnTo>
                <a:lnTo>
                  <a:pt x="36" y="748"/>
                </a:lnTo>
                <a:lnTo>
                  <a:pt x="44" y="784"/>
                </a:lnTo>
                <a:lnTo>
                  <a:pt x="52" y="818"/>
                </a:lnTo>
                <a:lnTo>
                  <a:pt x="68" y="883"/>
                </a:lnTo>
                <a:lnTo>
                  <a:pt x="88" y="957"/>
                </a:lnTo>
                <a:lnTo>
                  <a:pt x="107" y="1038"/>
                </a:lnTo>
                <a:lnTo>
                  <a:pt x="128" y="1127"/>
                </a:lnTo>
                <a:lnTo>
                  <a:pt x="148" y="1220"/>
                </a:lnTo>
                <a:lnTo>
                  <a:pt x="165" y="1317"/>
                </a:lnTo>
                <a:lnTo>
                  <a:pt x="179" y="1417"/>
                </a:lnTo>
                <a:lnTo>
                  <a:pt x="189" y="1518"/>
                </a:lnTo>
                <a:lnTo>
                  <a:pt x="194" y="1586"/>
                </a:lnTo>
                <a:lnTo>
                  <a:pt x="197" y="1654"/>
                </a:lnTo>
                <a:lnTo>
                  <a:pt x="202" y="1722"/>
                </a:lnTo>
                <a:lnTo>
                  <a:pt x="207" y="1788"/>
                </a:lnTo>
                <a:lnTo>
                  <a:pt x="216" y="1853"/>
                </a:lnTo>
                <a:lnTo>
                  <a:pt x="227" y="1914"/>
                </a:lnTo>
                <a:lnTo>
                  <a:pt x="243" y="1969"/>
                </a:lnTo>
                <a:lnTo>
                  <a:pt x="264" y="2019"/>
                </a:lnTo>
                <a:lnTo>
                  <a:pt x="278" y="2042"/>
                </a:lnTo>
                <a:lnTo>
                  <a:pt x="293" y="2063"/>
                </a:lnTo>
                <a:lnTo>
                  <a:pt x="310" y="2081"/>
                </a:lnTo>
                <a:lnTo>
                  <a:pt x="330" y="2096"/>
                </a:lnTo>
                <a:lnTo>
                  <a:pt x="350" y="2110"/>
                </a:lnTo>
                <a:lnTo>
                  <a:pt x="374" y="2119"/>
                </a:lnTo>
                <a:lnTo>
                  <a:pt x="401" y="2126"/>
                </a:lnTo>
                <a:lnTo>
                  <a:pt x="430" y="2130"/>
                </a:lnTo>
                <a:lnTo>
                  <a:pt x="440" y="2130"/>
                </a:lnTo>
                <a:lnTo>
                  <a:pt x="452" y="2130"/>
                </a:lnTo>
                <a:lnTo>
                  <a:pt x="463" y="2130"/>
                </a:lnTo>
                <a:lnTo>
                  <a:pt x="476" y="2128"/>
                </a:lnTo>
                <a:lnTo>
                  <a:pt x="489" y="2127"/>
                </a:lnTo>
                <a:lnTo>
                  <a:pt x="502" y="2126"/>
                </a:lnTo>
                <a:lnTo>
                  <a:pt x="516" y="2125"/>
                </a:lnTo>
                <a:lnTo>
                  <a:pt x="530" y="2123"/>
                </a:lnTo>
                <a:lnTo>
                  <a:pt x="545" y="2120"/>
                </a:lnTo>
                <a:lnTo>
                  <a:pt x="560" y="2117"/>
                </a:lnTo>
                <a:lnTo>
                  <a:pt x="575" y="2115"/>
                </a:lnTo>
                <a:lnTo>
                  <a:pt x="590" y="2111"/>
                </a:lnTo>
                <a:lnTo>
                  <a:pt x="606" y="2108"/>
                </a:lnTo>
                <a:lnTo>
                  <a:pt x="622" y="2104"/>
                </a:lnTo>
                <a:lnTo>
                  <a:pt x="638" y="2100"/>
                </a:lnTo>
                <a:lnTo>
                  <a:pt x="654" y="2096"/>
                </a:lnTo>
                <a:lnTo>
                  <a:pt x="673" y="2092"/>
                </a:lnTo>
                <a:lnTo>
                  <a:pt x="690" y="2087"/>
                </a:lnTo>
                <a:lnTo>
                  <a:pt x="709" y="2082"/>
                </a:lnTo>
                <a:lnTo>
                  <a:pt x="727" y="2078"/>
                </a:lnTo>
                <a:lnTo>
                  <a:pt x="745" y="2072"/>
                </a:lnTo>
                <a:lnTo>
                  <a:pt x="763" y="2067"/>
                </a:lnTo>
                <a:lnTo>
                  <a:pt x="781" y="2062"/>
                </a:lnTo>
                <a:lnTo>
                  <a:pt x="800" y="2057"/>
                </a:lnTo>
                <a:lnTo>
                  <a:pt x="817" y="2051"/>
                </a:lnTo>
                <a:lnTo>
                  <a:pt x="834" y="2047"/>
                </a:lnTo>
                <a:lnTo>
                  <a:pt x="851" y="2041"/>
                </a:lnTo>
                <a:lnTo>
                  <a:pt x="868" y="2036"/>
                </a:lnTo>
                <a:lnTo>
                  <a:pt x="885" y="2030"/>
                </a:lnTo>
                <a:lnTo>
                  <a:pt x="901" y="2026"/>
                </a:lnTo>
                <a:lnTo>
                  <a:pt x="916" y="2021"/>
                </a:lnTo>
                <a:lnTo>
                  <a:pt x="931" y="2017"/>
                </a:lnTo>
                <a:lnTo>
                  <a:pt x="944" y="2013"/>
                </a:lnTo>
                <a:lnTo>
                  <a:pt x="956" y="2010"/>
                </a:lnTo>
                <a:lnTo>
                  <a:pt x="969" y="2006"/>
                </a:lnTo>
                <a:lnTo>
                  <a:pt x="982" y="2003"/>
                </a:lnTo>
                <a:lnTo>
                  <a:pt x="994" y="1999"/>
                </a:lnTo>
                <a:lnTo>
                  <a:pt x="1008" y="1997"/>
                </a:lnTo>
                <a:lnTo>
                  <a:pt x="1021" y="1994"/>
                </a:lnTo>
                <a:lnTo>
                  <a:pt x="1035" y="1991"/>
                </a:lnTo>
                <a:lnTo>
                  <a:pt x="1047" y="1989"/>
                </a:lnTo>
                <a:lnTo>
                  <a:pt x="1060" y="1987"/>
                </a:lnTo>
                <a:lnTo>
                  <a:pt x="1074" y="1984"/>
                </a:lnTo>
                <a:lnTo>
                  <a:pt x="1088" y="1982"/>
                </a:lnTo>
                <a:lnTo>
                  <a:pt x="1100" y="1981"/>
                </a:lnTo>
                <a:lnTo>
                  <a:pt x="1114" y="1979"/>
                </a:lnTo>
                <a:lnTo>
                  <a:pt x="1127" y="1977"/>
                </a:lnTo>
                <a:lnTo>
                  <a:pt x="1141" y="1976"/>
                </a:lnTo>
                <a:lnTo>
                  <a:pt x="1168" y="1974"/>
                </a:lnTo>
                <a:lnTo>
                  <a:pt x="1197" y="1972"/>
                </a:lnTo>
                <a:lnTo>
                  <a:pt x="1225" y="1971"/>
                </a:lnTo>
                <a:lnTo>
                  <a:pt x="1254" y="1969"/>
                </a:lnTo>
                <a:lnTo>
                  <a:pt x="1281" y="1969"/>
                </a:lnTo>
                <a:lnTo>
                  <a:pt x="1309" y="1969"/>
                </a:lnTo>
                <a:lnTo>
                  <a:pt x="1338" y="1969"/>
                </a:lnTo>
                <a:lnTo>
                  <a:pt x="1365" y="1969"/>
                </a:lnTo>
                <a:lnTo>
                  <a:pt x="1393" y="1971"/>
                </a:lnTo>
                <a:lnTo>
                  <a:pt x="1421" y="1971"/>
                </a:lnTo>
                <a:lnTo>
                  <a:pt x="1448" y="1972"/>
                </a:lnTo>
                <a:lnTo>
                  <a:pt x="1476" y="1973"/>
                </a:lnTo>
                <a:lnTo>
                  <a:pt x="1502" y="1974"/>
                </a:lnTo>
                <a:lnTo>
                  <a:pt x="1530" y="1975"/>
                </a:lnTo>
                <a:lnTo>
                  <a:pt x="1557" y="1976"/>
                </a:lnTo>
                <a:lnTo>
                  <a:pt x="1583" y="1977"/>
                </a:lnTo>
                <a:lnTo>
                  <a:pt x="1596" y="1979"/>
                </a:lnTo>
                <a:lnTo>
                  <a:pt x="1608" y="1979"/>
                </a:lnTo>
                <a:lnTo>
                  <a:pt x="1622" y="1980"/>
                </a:lnTo>
                <a:lnTo>
                  <a:pt x="1635" y="1980"/>
                </a:lnTo>
                <a:lnTo>
                  <a:pt x="1648" y="1980"/>
                </a:lnTo>
                <a:lnTo>
                  <a:pt x="1659" y="1981"/>
                </a:lnTo>
                <a:lnTo>
                  <a:pt x="1672" y="1981"/>
                </a:lnTo>
                <a:lnTo>
                  <a:pt x="1684" y="1981"/>
                </a:lnTo>
                <a:lnTo>
                  <a:pt x="1697" y="1982"/>
                </a:lnTo>
                <a:lnTo>
                  <a:pt x="1709" y="1982"/>
                </a:lnTo>
                <a:lnTo>
                  <a:pt x="1721" y="1982"/>
                </a:lnTo>
                <a:lnTo>
                  <a:pt x="1733" y="1982"/>
                </a:lnTo>
                <a:lnTo>
                  <a:pt x="1745" y="1982"/>
                </a:lnTo>
                <a:lnTo>
                  <a:pt x="1757" y="1982"/>
                </a:lnTo>
                <a:lnTo>
                  <a:pt x="1768" y="1982"/>
                </a:lnTo>
                <a:lnTo>
                  <a:pt x="1780" y="1982"/>
                </a:lnTo>
                <a:lnTo>
                  <a:pt x="1802" y="1981"/>
                </a:lnTo>
                <a:lnTo>
                  <a:pt x="1824" y="1980"/>
                </a:lnTo>
                <a:lnTo>
                  <a:pt x="1846" y="1977"/>
                </a:lnTo>
                <a:lnTo>
                  <a:pt x="1866" y="1975"/>
                </a:lnTo>
                <a:lnTo>
                  <a:pt x="1886" y="1973"/>
                </a:lnTo>
                <a:lnTo>
                  <a:pt x="1906" y="1969"/>
                </a:lnTo>
                <a:lnTo>
                  <a:pt x="1924" y="1966"/>
                </a:lnTo>
                <a:lnTo>
                  <a:pt x="1941" y="1961"/>
                </a:lnTo>
                <a:lnTo>
                  <a:pt x="1959" y="1956"/>
                </a:lnTo>
                <a:lnTo>
                  <a:pt x="1976" y="1949"/>
                </a:lnTo>
                <a:lnTo>
                  <a:pt x="1991" y="1939"/>
                </a:lnTo>
                <a:lnTo>
                  <a:pt x="2006" y="1930"/>
                </a:lnTo>
                <a:lnTo>
                  <a:pt x="2020" y="1919"/>
                </a:lnTo>
                <a:lnTo>
                  <a:pt x="2031" y="1906"/>
                </a:lnTo>
                <a:lnTo>
                  <a:pt x="2044" y="1893"/>
                </a:lnTo>
                <a:lnTo>
                  <a:pt x="2054" y="1878"/>
                </a:lnTo>
                <a:lnTo>
                  <a:pt x="2067" y="1860"/>
                </a:lnTo>
                <a:lnTo>
                  <a:pt x="2077" y="1839"/>
                </a:lnTo>
                <a:lnTo>
                  <a:pt x="2088" y="1818"/>
                </a:lnTo>
                <a:lnTo>
                  <a:pt x="2097" y="1795"/>
                </a:lnTo>
                <a:lnTo>
                  <a:pt x="2104" y="1771"/>
                </a:lnTo>
                <a:lnTo>
                  <a:pt x="2111" y="1747"/>
                </a:lnTo>
                <a:lnTo>
                  <a:pt x="2118" y="1722"/>
                </a:lnTo>
                <a:lnTo>
                  <a:pt x="2122" y="1695"/>
                </a:lnTo>
                <a:lnTo>
                  <a:pt x="2129" y="1648"/>
                </a:lnTo>
                <a:lnTo>
                  <a:pt x="2133" y="1600"/>
                </a:lnTo>
                <a:lnTo>
                  <a:pt x="2135" y="1550"/>
                </a:lnTo>
                <a:lnTo>
                  <a:pt x="2135" y="1499"/>
                </a:lnTo>
                <a:lnTo>
                  <a:pt x="2133" y="1443"/>
                </a:lnTo>
                <a:lnTo>
                  <a:pt x="2129" y="1388"/>
                </a:lnTo>
                <a:lnTo>
                  <a:pt x="2124" y="1332"/>
                </a:lnTo>
                <a:lnTo>
                  <a:pt x="2118" y="1279"/>
                </a:lnTo>
                <a:lnTo>
                  <a:pt x="2111" y="1231"/>
                </a:lnTo>
                <a:lnTo>
                  <a:pt x="2101" y="1185"/>
                </a:lnTo>
                <a:lnTo>
                  <a:pt x="2093" y="1142"/>
                </a:lnTo>
                <a:lnTo>
                  <a:pt x="2084" y="1103"/>
                </a:lnTo>
                <a:lnTo>
                  <a:pt x="2075" y="1070"/>
                </a:lnTo>
                <a:lnTo>
                  <a:pt x="2066" y="1040"/>
                </a:lnTo>
                <a:lnTo>
                  <a:pt x="2057" y="1015"/>
                </a:lnTo>
                <a:lnTo>
                  <a:pt x="2048" y="997"/>
                </a:lnTo>
                <a:lnTo>
                  <a:pt x="2038" y="976"/>
                </a:lnTo>
                <a:lnTo>
                  <a:pt x="2028" y="957"/>
                </a:lnTo>
                <a:lnTo>
                  <a:pt x="2020" y="936"/>
                </a:lnTo>
                <a:lnTo>
                  <a:pt x="2012" y="915"/>
                </a:lnTo>
                <a:lnTo>
                  <a:pt x="2005" y="894"/>
                </a:lnTo>
                <a:lnTo>
                  <a:pt x="1999" y="874"/>
                </a:lnTo>
                <a:lnTo>
                  <a:pt x="1994" y="853"/>
                </a:lnTo>
                <a:lnTo>
                  <a:pt x="1990" y="832"/>
                </a:lnTo>
                <a:lnTo>
                  <a:pt x="1980" y="772"/>
                </a:lnTo>
                <a:lnTo>
                  <a:pt x="1976" y="713"/>
                </a:lnTo>
                <a:lnTo>
                  <a:pt x="1977" y="656"/>
                </a:lnTo>
                <a:lnTo>
                  <a:pt x="1980" y="598"/>
                </a:lnTo>
                <a:lnTo>
                  <a:pt x="1986" y="542"/>
                </a:lnTo>
                <a:lnTo>
                  <a:pt x="1995" y="486"/>
                </a:lnTo>
                <a:lnTo>
                  <a:pt x="2005" y="433"/>
                </a:lnTo>
                <a:lnTo>
                  <a:pt x="2014" y="383"/>
                </a:lnTo>
                <a:lnTo>
                  <a:pt x="2024" y="329"/>
                </a:lnTo>
                <a:lnTo>
                  <a:pt x="2032" y="278"/>
                </a:lnTo>
                <a:lnTo>
                  <a:pt x="2038" y="230"/>
                </a:lnTo>
                <a:lnTo>
                  <a:pt x="2040" y="186"/>
                </a:lnTo>
                <a:lnTo>
                  <a:pt x="2036" y="147"/>
                </a:lnTo>
                <a:lnTo>
                  <a:pt x="2027" y="112"/>
                </a:lnTo>
                <a:lnTo>
                  <a:pt x="2009" y="82"/>
                </a:lnTo>
                <a:lnTo>
                  <a:pt x="1983" y="57"/>
                </a:lnTo>
                <a:lnTo>
                  <a:pt x="1972" y="50"/>
                </a:lnTo>
                <a:lnTo>
                  <a:pt x="1961" y="44"/>
                </a:lnTo>
                <a:lnTo>
                  <a:pt x="1948" y="37"/>
                </a:lnTo>
                <a:lnTo>
                  <a:pt x="1936" y="33"/>
                </a:lnTo>
                <a:lnTo>
                  <a:pt x="1922" y="27"/>
                </a:lnTo>
                <a:lnTo>
                  <a:pt x="1907" y="23"/>
                </a:lnTo>
                <a:lnTo>
                  <a:pt x="1892" y="19"/>
                </a:lnTo>
                <a:lnTo>
                  <a:pt x="1876" y="15"/>
                </a:lnTo>
                <a:lnTo>
                  <a:pt x="1858" y="12"/>
                </a:lnTo>
                <a:lnTo>
                  <a:pt x="1840" y="9"/>
                </a:lnTo>
                <a:lnTo>
                  <a:pt x="1823" y="7"/>
                </a:lnTo>
                <a:lnTo>
                  <a:pt x="1803" y="5"/>
                </a:lnTo>
                <a:lnTo>
                  <a:pt x="1783" y="3"/>
                </a:lnTo>
                <a:lnTo>
                  <a:pt x="1764" y="1"/>
                </a:lnTo>
                <a:lnTo>
                  <a:pt x="1743" y="1"/>
                </a:lnTo>
                <a:lnTo>
                  <a:pt x="1722" y="0"/>
                </a:lnTo>
                <a:lnTo>
                  <a:pt x="1695" y="0"/>
                </a:lnTo>
                <a:lnTo>
                  <a:pt x="1667" y="0"/>
                </a:lnTo>
                <a:lnTo>
                  <a:pt x="1638" y="0"/>
                </a:lnTo>
                <a:lnTo>
                  <a:pt x="1608" y="1"/>
                </a:lnTo>
                <a:lnTo>
                  <a:pt x="1580" y="3"/>
                </a:lnTo>
                <a:lnTo>
                  <a:pt x="1548" y="5"/>
                </a:lnTo>
                <a:lnTo>
                  <a:pt x="1518" y="7"/>
                </a:lnTo>
                <a:lnTo>
                  <a:pt x="1489" y="9"/>
                </a:lnTo>
                <a:lnTo>
                  <a:pt x="1457" y="12"/>
                </a:lnTo>
                <a:lnTo>
                  <a:pt x="1427" y="15"/>
                </a:lnTo>
                <a:lnTo>
                  <a:pt x="1396" y="19"/>
                </a:lnTo>
                <a:lnTo>
                  <a:pt x="1365" y="22"/>
                </a:lnTo>
                <a:lnTo>
                  <a:pt x="1335" y="26"/>
                </a:lnTo>
                <a:lnTo>
                  <a:pt x="1305" y="29"/>
                </a:lnTo>
                <a:lnTo>
                  <a:pt x="1275" y="33"/>
                </a:lnTo>
                <a:lnTo>
                  <a:pt x="1245" y="37"/>
                </a:lnTo>
                <a:lnTo>
                  <a:pt x="1216" y="42"/>
                </a:lnTo>
                <a:lnTo>
                  <a:pt x="1187" y="45"/>
                </a:lnTo>
                <a:lnTo>
                  <a:pt x="1159" y="50"/>
                </a:lnTo>
                <a:lnTo>
                  <a:pt x="1131" y="53"/>
                </a:lnTo>
                <a:lnTo>
                  <a:pt x="1104" y="58"/>
                </a:lnTo>
                <a:lnTo>
                  <a:pt x="1077" y="61"/>
                </a:lnTo>
                <a:lnTo>
                  <a:pt x="1052" y="66"/>
                </a:lnTo>
                <a:lnTo>
                  <a:pt x="1028" y="69"/>
                </a:lnTo>
                <a:lnTo>
                  <a:pt x="1005" y="73"/>
                </a:lnTo>
                <a:lnTo>
                  <a:pt x="982" y="76"/>
                </a:lnTo>
                <a:lnTo>
                  <a:pt x="960" y="80"/>
                </a:lnTo>
                <a:lnTo>
                  <a:pt x="940" y="83"/>
                </a:lnTo>
                <a:lnTo>
                  <a:pt x="921" y="86"/>
                </a:lnTo>
                <a:lnTo>
                  <a:pt x="903" y="88"/>
                </a:lnTo>
                <a:lnTo>
                  <a:pt x="887" y="90"/>
                </a:lnTo>
                <a:lnTo>
                  <a:pt x="872" y="92"/>
                </a:lnTo>
                <a:lnTo>
                  <a:pt x="839" y="96"/>
                </a:lnTo>
                <a:lnTo>
                  <a:pt x="805" y="99"/>
                </a:lnTo>
                <a:lnTo>
                  <a:pt x="771" y="102"/>
                </a:lnTo>
                <a:lnTo>
                  <a:pt x="736" y="104"/>
                </a:lnTo>
                <a:lnTo>
                  <a:pt x="702" y="105"/>
                </a:lnTo>
                <a:lnTo>
                  <a:pt x="666" y="107"/>
                </a:lnTo>
                <a:lnTo>
                  <a:pt x="631" y="109"/>
                </a:lnTo>
                <a:lnTo>
                  <a:pt x="596" y="111"/>
                </a:lnTo>
                <a:lnTo>
                  <a:pt x="560" y="112"/>
                </a:lnTo>
                <a:lnTo>
                  <a:pt x="525" y="114"/>
                </a:lnTo>
                <a:lnTo>
                  <a:pt x="491" y="117"/>
                </a:lnTo>
                <a:lnTo>
                  <a:pt x="456" y="119"/>
                </a:lnTo>
                <a:lnTo>
                  <a:pt x="423" y="121"/>
                </a:lnTo>
                <a:lnTo>
                  <a:pt x="389" y="125"/>
                </a:lnTo>
                <a:lnTo>
                  <a:pt x="357" y="129"/>
                </a:lnTo>
                <a:lnTo>
                  <a:pt x="325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19840" y="3800520"/>
            <a:ext cx="1671840" cy="173988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640" y="5772240"/>
            <a:ext cx="16779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여러 대의 클라이언트가 독립적으로 문서를 요청하고 서비스 받는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21640" y="3519360"/>
            <a:ext cx="1077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4789440"/>
            <a:ext cx="1689120" cy="90648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76280" y="4994280"/>
            <a:ext cx="635040" cy="493560"/>
          </a:xfrm>
          <a:prstGeom prst="rect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84280" y="5113440"/>
            <a:ext cx="743040" cy="552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8200" y="4881600"/>
            <a:ext cx="97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25360" y="5484960"/>
            <a:ext cx="110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6430680" y="4503600"/>
            <a:ext cx="1405080" cy="347760"/>
          </a:xfrm>
          <a:prstGeom prst="rect">
            <a:avLst/>
          </a:prstGeom>
          <a:solidFill>
            <a:srgbClr val="dddddd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507440" y="4468680"/>
            <a:ext cx="825480" cy="621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19840" y="5607000"/>
            <a:ext cx="172584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 서버는 클라이언트의 요청을 받을 때마다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문서를 보내주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네트워크를 끊어 버린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341440" y="3679200"/>
            <a:ext cx="4173120" cy="813600"/>
            <a:chOff x="2341440" y="3679200"/>
            <a:chExt cx="4173120" cy="813600"/>
          </a:xfrm>
        </p:grpSpPr>
        <p:sp>
          <p:nvSpPr>
            <p:cNvPr id="215" name=""/>
            <p:cNvSpPr/>
            <p:nvPr/>
          </p:nvSpPr>
          <p:spPr>
            <a:xfrm>
              <a:off x="2373480" y="3679200"/>
              <a:ext cx="4141080" cy="59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2341440" y="3902040"/>
              <a:ext cx="4141080" cy="59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rot="493200">
            <a:off x="2743200" y="3522600"/>
            <a:ext cx="6696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65200">
            <a:off x="5519160" y="4395600"/>
            <a:ext cx="7549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120" y="4910040"/>
            <a:ext cx="189000" cy="18108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3680" y="3522600"/>
            <a:ext cx="1689120" cy="90648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1376280" y="3727440"/>
            <a:ext cx="635040" cy="493560"/>
          </a:xfrm>
          <a:prstGeom prst="rect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584280" y="3846600"/>
            <a:ext cx="743040" cy="554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8200" y="3616200"/>
            <a:ext cx="97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5360" y="4218120"/>
            <a:ext cx="110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9120" y="3643200"/>
            <a:ext cx="189000" cy="18108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405000">
            <a:off x="4047480" y="3943440"/>
            <a:ext cx="67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바탕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359440" y="4758480"/>
            <a:ext cx="4147560" cy="810720"/>
            <a:chOff x="2359440" y="4758480"/>
            <a:chExt cx="4147560" cy="810720"/>
          </a:xfrm>
        </p:grpSpPr>
        <p:sp>
          <p:nvSpPr>
            <p:cNvPr id="228" name=""/>
            <p:cNvSpPr/>
            <p:nvPr/>
          </p:nvSpPr>
          <p:spPr>
            <a:xfrm flipV="1">
              <a:off x="2384640" y="4980960"/>
              <a:ext cx="4122360" cy="588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359440" y="4758480"/>
              <a:ext cx="4122000" cy="58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21151200">
            <a:off x="2670120" y="5003280"/>
            <a:ext cx="6696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1129600">
            <a:off x="5544720" y="5052600"/>
            <a:ext cx="7549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21175200">
            <a:off x="4093560" y="5025600"/>
            <a:ext cx="67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바탕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2563920" y="578160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124160" y="5614560"/>
            <a:ext cx="2502000" cy="1007640"/>
          </a:xfrm>
          <a:prstGeom prst="cloudCallout">
            <a:avLst>
              <a:gd name="adj1" fmla="val -75504"/>
              <a:gd name="adj2" fmla="val 3685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b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상에서 정보를 주고 받기 위한 하나의 규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1.6 HTML(HyperText Markup Languag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웹에서 사용되는 문서를 작성하는데 사용되는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이퍼링크와 멀티미디어를 표현할 수 있는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GML(Standard Generalized Markup Language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기초하여 만들어진 언어로써 태그를 사용해서 데이터를 기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2360" y="3249720"/>
            <a:ext cx="3058920" cy="2700360"/>
          </a:xfrm>
          <a:prstGeom prst="rect">
            <a:avLst/>
          </a:prstGeom>
          <a:solidFill>
            <a:srgbClr val="eaeaea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title&gt;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소설같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2&gt;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소설같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&lt;/h2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소설같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는 여러분들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를 보다 더 쉽고 재미있게 알려주기 위한 책입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img src="smalljsp.jpg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62360" y="3384720"/>
            <a:ext cx="3981600" cy="2585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716280" y="4329000"/>
            <a:ext cx="900000" cy="5400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15000" y="4756320"/>
            <a:ext cx="3708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해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Chamsae</cp:lastModifiedBy>
  <cp:lastPrinted>1999-07-19T06:05:37Z</cp:lastPrinted>
  <dcterms:modified xsi:type="dcterms:W3CDTF">2008-04-11T13:17:23Z</dcterms:modified>
  <cp:revision>8400</cp:revision>
  <dc:subject/>
  <dc:title>프로그래밍 언어</dc:title>
</cp:coreProperties>
</file>