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292-3FEF-4A15-8359-BCA29306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8C3-9073-42A8-AA73-6CA075D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8F8-2BC6-4EAD-91D4-7E2C350F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61C-027A-488A-AE9E-5ED3477F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DD63-E52E-4C6B-BAE7-8AA2EE0F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7401-2B80-45DF-A71C-CA8410F8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84E8-1B0D-46B6-85BD-EE6FF104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2CE7-FF98-4790-AB46-D523EAD1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B1A8-AA05-4C52-82C0-641EBB5B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18BE-2BCB-4781-B7BE-ED9096D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A05F-ADBE-4B54-BDDF-7A0BC92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0AD-D984-4CCC-8D30-86A3B1DD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228D-D93F-449A-A276-A78466D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20AF-F3D9-497A-A419-D824B0E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6EEF-8153-49C0-9375-8F61C7F5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EEDB-6658-45F0-A22C-DE3A7DBD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2865-317F-450E-8A88-680D027E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C69-D0D1-4B78-9DC6-D6C0FAA0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FB4-B59D-481E-BC89-20F1444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718-8406-4EEB-AABC-1B933C3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21C-23FC-4B4A-8E25-B2308D0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51B-1E50-4F25-A6C6-302C52F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5CE-2542-4E1D-A61F-ADCD2C2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0A7-741F-48D7-8FAE-F8BBC1D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2BA1-5175-49BF-A0D8-34D7495145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E6EC-518C-4DDF-979F-D20B56B0CD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데이터베이스 관련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Factor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데이터베이스와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을 위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Poo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 필요할 때마다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로부터 하나씩 꺼내서 사용하고 사용이 끝나면 다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을 보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 데이터베이스의 연결과 해제를 직접 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5920" y="3878280"/>
            <a:ext cx="8912160" cy="243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1200" y="4149720"/>
            <a:ext cx="1847880" cy="11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emb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238640"/>
            <a:ext cx="18493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0120" y="4059360"/>
            <a:ext cx="184788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4040" y="5454720"/>
            <a:ext cx="1620720" cy="799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7778880" y="4755960"/>
            <a:ext cx="495000" cy="720720"/>
          </a:xfrm>
          <a:custGeom>
            <a:avLst/>
            <a:gdLst>
              <a:gd name="textAreaLeft" fmla="*/ 66240 w 495000"/>
              <a:gd name="textAreaRight" fmla="*/ 428760 w 495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37360" y="5138640"/>
            <a:ext cx="855720" cy="45900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9" idx="1"/>
            <a:endCxn id="248" idx="3"/>
          </p:cNvCxnSpPr>
          <p:nvPr/>
        </p:nvCxnSpPr>
        <p:spPr>
          <a:xfrm flipV="1" rot="10800000">
            <a:off x="5734800" y="4440600"/>
            <a:ext cx="1345320" cy="158040"/>
          </a:xfrm>
          <a:prstGeom prst="bentConnector3">
            <a:avLst>
              <a:gd name="adj1" fmla="val 5005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2085840" y="446400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8840" y="464508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37000" y="4869000"/>
            <a:ext cx="855360" cy="260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4689360"/>
            <a:ext cx="1035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생성 및 보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86280" y="475308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9280" y="4130640"/>
            <a:ext cx="126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20840" y="410364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81200" y="5132520"/>
            <a:ext cx="126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2760" y="510552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0480" y="4908600"/>
            <a:ext cx="126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040" y="488160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47" idx="2"/>
            <a:endCxn id="248" idx="2"/>
          </p:cNvCxnSpPr>
          <p:nvPr/>
        </p:nvCxnSpPr>
        <p:spPr>
          <a:xfrm flipH="1" flipV="1" rot="5400000">
            <a:off x="2829240" y="3293640"/>
            <a:ext cx="316800" cy="3647160"/>
          </a:xfrm>
          <a:prstGeom prst="bentConnector3">
            <a:avLst>
              <a:gd name="adj1" fmla="val -15119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502000" y="5886360"/>
            <a:ext cx="1260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반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3560" y="585936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97000" y="482436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데이터 캡슐화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oardData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게시판 데이터를 캡슐화해서 객체로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를 얻고 설정하기 위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tter/getter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1494000"/>
            <a:ext cx="6207120" cy="85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BoardDat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2795760"/>
            <a:ext cx="3060720" cy="157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String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String su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ring cont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Date d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String passwo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4778280"/>
            <a:ext cx="6207120" cy="193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tSubject(String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subjec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this.subject = su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tring getSubjec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su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21280" y="2798640"/>
            <a:ext cx="3060720" cy="157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int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int r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int ste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int dep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private int child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02360" y="2263320"/>
            <a:ext cx="1844640" cy="1099080"/>
          </a:xfrm>
          <a:prstGeom prst="cloudCallout">
            <a:avLst>
              <a:gd name="adj1" fmla="val 10837"/>
              <a:gd name="adj2" fmla="val 11496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oardData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클래스의 멤버 변수는 데이터베이스의 테이블 구조와 동일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947000" y="4149720"/>
            <a:ext cx="10317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0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게시판 관리 컴포넌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관리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컴포넌트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2720" y="2303640"/>
            <a:ext cx="2340000" cy="3601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2720" y="1854360"/>
            <a:ext cx="234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02360" y="293364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생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02360" y="338292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목록보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02360" y="383364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정보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02360" y="428292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02360" y="491652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02360" y="5365800"/>
            <a:ext cx="1981080" cy="3585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커넥션 생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02360" y="2484360"/>
            <a:ext cx="1981080" cy="3589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관리자 인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67720" y="5003640"/>
            <a:ext cx="1266840" cy="765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185920" y="1719360"/>
            <a:ext cx="2090880" cy="1469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2000" y="3924360"/>
            <a:ext cx="3554280" cy="2205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76120" y="4016520"/>
            <a:ext cx="2090880" cy="2022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77320" y="3263760"/>
            <a:ext cx="111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리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09160" y="5964120"/>
            <a:ext cx="125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관리 컴포넌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4" idx="3"/>
            <a:endCxn id="285" idx="1"/>
          </p:cNvCxnSpPr>
          <p:nvPr/>
        </p:nvCxnSpPr>
        <p:spPr>
          <a:xfrm flipV="1">
            <a:off x="4276800" y="2079360"/>
            <a:ext cx="746640" cy="375120"/>
          </a:xfrm>
          <a:prstGeom prst="bentConnector3">
            <a:avLst>
              <a:gd name="adj1" fmla="val 49782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1" idx="3"/>
            <a:endCxn id="293" idx="2"/>
          </p:cNvCxnSpPr>
          <p:nvPr/>
        </p:nvCxnSpPr>
        <p:spPr>
          <a:xfrm flipV="1">
            <a:off x="7183080" y="5385600"/>
            <a:ext cx="58500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664720" y="4529160"/>
            <a:ext cx="710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생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8240" y="4933800"/>
            <a:ext cx="710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58240" y="5338800"/>
            <a:ext cx="710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게시판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4" idx="1"/>
            <a:endCxn id="296" idx="0"/>
          </p:cNvCxnSpPr>
          <p:nvPr/>
        </p:nvCxnSpPr>
        <p:spPr>
          <a:xfrm flipV="1" rot="10800000">
            <a:off x="1321560" y="2453760"/>
            <a:ext cx="864360" cy="156312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858080" y="275436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7000920" y="688320"/>
            <a:ext cx="2027160" cy="1099440"/>
          </a:xfrm>
          <a:prstGeom prst="cloudCallout">
            <a:avLst>
              <a:gd name="adj1" fmla="val 6689"/>
              <a:gd name="adj2" fmla="val 13625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게시판 관리 컴포넌트는 게시판 생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수정 및 삭제 기능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와 관련된 메소드를 제공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관리를 위한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Manage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컴포넌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관리자 확인 및 새로운 게시판을 생성하거나 게시판을 수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삭제하는 기능을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2173320"/>
            <a:ext cx="7110360" cy="4451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AdminManag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atic ConnectionPool connectionPool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atic AdminManager adminManager = null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atic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Pool = connectionPool.getConnectionPoo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= adminManager.getInstan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catch(Exception e){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AdminManager(){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tatic AdminManager getInstanc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= new AdminManager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adminMana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4828320"/>
            <a:ext cx="2187360" cy="1337760"/>
          </a:xfrm>
          <a:prstGeom prst="cloudCallout">
            <a:avLst>
              <a:gd name="adj1" fmla="val 46870"/>
              <a:gd name="adj2" fmla="val -12218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dminManage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클래스가 호출되면 커넥션 풀로부터 객체를 얻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AdminManage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인스턴스를 생성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8217000" y="2754360"/>
            <a:ext cx="60624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97360" y="1854360"/>
            <a:ext cx="4276800" cy="4770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ector adminExecuteQuery(String sq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ector v = new Vec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data = new Board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ata.setNum(rs.getInt(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ata.setName(rs.getString(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.addElement(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71480" y="2317680"/>
            <a:ext cx="20505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ctor v = new Vec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02040" y="3639960"/>
            <a:ext cx="29419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 data = new Board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01320" y="4957920"/>
            <a:ext cx="16513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.addElement(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71840" y="5951520"/>
            <a:ext cx="6940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3 SQ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행을 위한 공통 메소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1097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리턴 값이 없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리턴 값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형 하나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리턴 값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형 하나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109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물의 전체 내용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로 반환하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80" y="3249720"/>
            <a:ext cx="4635720" cy="13078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int adminExecuteQueryNum(String sq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um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280" y="5451480"/>
            <a:ext cx="4635720" cy="130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tring adminExecuteQueryString(String sq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 = rs.getString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45080" y="3819600"/>
            <a:ext cx="15400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um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36800" y="4059360"/>
            <a:ext cx="9532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6160" y="6006960"/>
            <a:ext cx="16527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 = rs.getString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39320" y="6251400"/>
            <a:ext cx="7948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280" y="1492200"/>
            <a:ext cx="4635720" cy="85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adminExecuteUpdate(String sq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mt.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39680" y="1825560"/>
            <a:ext cx="203544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mt.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관리자 확인과 게시판 확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관리자 인증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동일한 이름의 게시판 존재 유무 확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1495440"/>
            <a:ext cx="5986440" cy="220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ring id = "jabook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ring password = "jabook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boolean chkAdmin(String id, String pas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 this.id.equals(id) &amp;&amp; this.password.equals(pass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els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4194000"/>
            <a:ext cx="5986440" cy="256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boolean existBoard(String boardNam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select count(boardName) from BoardAdmi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where boardName='" + boardName + "'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num = this.adminExecuteQueryNum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num == 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082000" y="2708280"/>
            <a:ext cx="671400" cy="835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281640" y="1250280"/>
            <a:ext cx="2430720" cy="1099440"/>
          </a:xfrm>
          <a:prstGeom prst="cloudCallout">
            <a:avLst>
              <a:gd name="adj1" fmla="val 21773"/>
              <a:gd name="adj2" fmla="val 10031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hkAdmin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로 전달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를 이용해서 로그인 정보와 일치한다면 게시판 관리를 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44720" y="5032440"/>
            <a:ext cx="36889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num = this.adminExecuteQueryNum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39920" y="2259000"/>
            <a:ext cx="39477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id.equals(id) &amp;&amp; this.password.equals(pa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6146640" y="523872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272360" y="4468320"/>
            <a:ext cx="1684440" cy="1099080"/>
          </a:xfrm>
          <a:prstGeom prst="cloudCallout">
            <a:avLst>
              <a:gd name="adj1" fmla="val -73180"/>
              <a:gd name="adj2" fmla="val 9259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동일한 이름의 게시판이 존재하는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구문을 작성해서 질의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새로운 게시판 생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새로운 게시판 생성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280" y="1538280"/>
            <a:ext cx="8731440" cy="5089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makeBoard(String boardName, String boardSubjec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insertBoardSQL = "insert BoardAdmin values('" + boardName + "', '" + boardSubject + "'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makeBoardSQL = "create table " + boardName + " (" 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num int NOT NULL PRIMARY KEY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name varchar(20)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subject varchar(100) defaul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content text defaul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writeDate datetime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password varchar(20)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count int NOT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ref in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step in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depth in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childCount int NOT NULL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adminExecuteUpdate(insertBoard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adminExecuteUpdate(makeBoard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9160" y="1920960"/>
            <a:ext cx="80352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insertBoardSQL = "insert BoardAdmin values('" + boardName + "', '" + boardSubject + "'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640" y="2401920"/>
            <a:ext cx="5332320" cy="31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makeBoardSQL = "create table " + boardName + " ("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num int NOT NULL PRIMARY KEY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name varchar(20)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subject varchar(100)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content tex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writeDate datetime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password varchar(20)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count int NOT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ref in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step in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depth int NOT NULL,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childCount int NOT NULL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SQL += "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821640" y="522936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42000" y="4289400"/>
            <a:ext cx="1844640" cy="1576440"/>
          </a:xfrm>
          <a:prstGeom prst="cloudCallout">
            <a:avLst>
              <a:gd name="adj1" fmla="val 56356"/>
              <a:gd name="adj2" fmla="val 7234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akeBoard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게시판 관리 테이블에 게시판 정보를 삽입하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인자로 전달된 이름의 새로운 테이블을 생성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102360" y="2367000"/>
            <a:ext cx="3016080" cy="1511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362720" y="3924360"/>
            <a:ext cx="1744920" cy="1881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451640" y="4869000"/>
            <a:ext cx="76536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92720" y="3041640"/>
            <a:ext cx="270036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2"/>
            <a:endCxn id="356" idx="0"/>
          </p:cNvCxnSpPr>
          <p:nvPr/>
        </p:nvCxnSpPr>
        <p:spPr>
          <a:xfrm flipH="1" rot="16200000">
            <a:off x="5663160" y="1141560"/>
            <a:ext cx="894600" cy="2867760"/>
          </a:xfrm>
          <a:prstGeom prst="curvedConnector5">
            <a:avLst>
              <a:gd name="adj1" fmla="val 16304"/>
              <a:gd name="adj2" fmla="val 49993"/>
              <a:gd name="adj3" fmla="val 1630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0" idx="3"/>
            <a:endCxn id="355" idx="1"/>
          </p:cNvCxnSpPr>
          <p:nvPr/>
        </p:nvCxnSpPr>
        <p:spPr>
          <a:xfrm>
            <a:off x="5979600" y="3973680"/>
            <a:ext cx="1453320" cy="1008720"/>
          </a:xfrm>
          <a:prstGeom prst="curvedConnector5">
            <a:avLst>
              <a:gd name="adj1" fmla="val 50594"/>
              <a:gd name="adj2" fmla="val 49982"/>
              <a:gd name="adj3" fmla="val 5059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목록 반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판 목록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shtabl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로 반환하는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1673280"/>
            <a:ext cx="6570720" cy="4092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Hashtable getBoardList() throws 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ashtable ht = new Hashtab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"select * from BoardAdmi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s.getString("board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Subject = rs.getString("boardSubjec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.put(boardName, boardSubj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79320"/>
                <a:tab algn="l" pos="1359000"/>
                <a:tab algn="l" pos="2038320"/>
                <a:tab algn="l" pos="2717640"/>
                <a:tab algn="l" pos="3397320"/>
                <a:tab algn="l" pos="4076640"/>
                <a:tab algn="l" pos="4756320"/>
                <a:tab algn="l" pos="5435640"/>
                <a:tab algn="l" pos="6114960"/>
                <a:tab algn="l" pos="6794640"/>
                <a:tab algn="l" pos="7473960"/>
                <a:tab algn="l" pos="8153280"/>
                <a:tab algn="l" pos="8832960"/>
                <a:tab algn="l" pos="9512280"/>
                <a:tab algn="l" pos="10191600"/>
                <a:tab algn="l" pos="108712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172360" y="2979720"/>
            <a:ext cx="739800" cy="12542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246640" y="5049720"/>
            <a:ext cx="3735360" cy="121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42000" y="1438200"/>
            <a:ext cx="1827360" cy="860760"/>
          </a:xfrm>
          <a:prstGeom prst="cloudCallout">
            <a:avLst>
              <a:gd name="adj1" fmla="val 40250"/>
              <a:gd name="adj2" fmla="val 14272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게시판 이름을 키로 갖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게시판 설명을 값으로 갖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htab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반환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5427720" y="5543640"/>
          <a:ext cx="3419280" cy="609480"/>
        </p:xfrm>
        <a:graphic>
          <a:graphicData uri="http://schemas.openxmlformats.org/drawingml/2006/table">
            <a:tbl>
              <a:tblPr/>
              <a:tblGrid>
                <a:gridCol w="842760"/>
                <a:gridCol w="2576520"/>
              </a:tblGrid>
              <a:tr h="3070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누구나 쓸 수 있는 자유 게시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5425560" y="5184720"/>
            <a:ext cx="1199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83920" y="4103640"/>
            <a:ext cx="278064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.put(boardName, boardSubj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15400" y="2798640"/>
            <a:ext cx="52416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"select * from BoardAdmi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04960" y="5105520"/>
            <a:ext cx="7506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3"/>
            <a:endCxn id="363" idx="1"/>
          </p:cNvCxnSpPr>
          <p:nvPr/>
        </p:nvCxnSpPr>
        <p:spPr>
          <a:xfrm>
            <a:off x="2457360" y="5209920"/>
            <a:ext cx="2790000" cy="448200"/>
          </a:xfrm>
          <a:prstGeom prst="curvedConnector5">
            <a:avLst>
              <a:gd name="adj1" fmla="val 49967"/>
              <a:gd name="adj2" fmla="val 50000"/>
              <a:gd name="adj3" fmla="val 4996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2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정보 수정 및 삭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판 정보 수정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판 삭제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1538280"/>
            <a:ext cx="6526080" cy="175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updateBoard(String boardName, String boardSubjec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update BoardAdmin set boardSubject='" + boardSu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' where boardName='" + boardName + "'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admin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3876840"/>
            <a:ext cx="6526080" cy="2387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deleteBoard(String boardNam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deleteRecordSQL = "delete from BoardAdmi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leteRecordSQL += "where boardName ='" + boardName + "'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dropBoardSQL = "Drop Table " + board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adminExecuteUpdate(deleteRecord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adminExecuteUpdate(dropBoard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32240" y="1989000"/>
            <a:ext cx="5712840" cy="5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update BoardAdmin set boardSubject='" + boardSu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' where boardName='" + boardName + "'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39800" y="4307040"/>
            <a:ext cx="5275440" cy="5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deleteRecordSQL = "delete from BoardAdmi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leteRecordSQL += "where boardName ='" + boardName + "'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29000" y="4959360"/>
            <a:ext cx="437760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dropBoardSQL = "Drop Table " + board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912000" y="2394000"/>
            <a:ext cx="458640" cy="12542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362720" y="3924360"/>
            <a:ext cx="1500120" cy="904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597720" y="5217840"/>
            <a:ext cx="2027160" cy="860760"/>
          </a:xfrm>
          <a:prstGeom prst="cloudCallout">
            <a:avLst>
              <a:gd name="adj1" fmla="val 51009"/>
              <a:gd name="adj2" fmla="val -12407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게시판 삭제 시 게시판 관리 테이블의 정보와 해당 테이블을 삭제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32720" y="1543680"/>
            <a:ext cx="1332000" cy="621720"/>
          </a:xfrm>
          <a:prstGeom prst="cloudCallout">
            <a:avLst>
              <a:gd name="adj1" fmla="val -66074"/>
              <a:gd name="adj2" fmla="val 14565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게시판의 이름은 수정할 수 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sp>
          <p:nvSpPr>
            <p:cNvPr id="97" name=""/>
            <p:cNvSpPr/>
            <p:nvPr/>
          </p:nvSpPr>
          <p:spPr>
            <a:xfrm>
              <a:off x="71280" y="414360"/>
              <a:ext cx="8912160" cy="5851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280" y="639720"/>
              <a:ext cx="8642160" cy="54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295360" y="5308560"/>
            <a:ext cx="4572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이 명 진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,  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최 영 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99ff"/>
                </a:solidFill>
                <a:latin typeface="Times New Roman"/>
                <a:ea typeface="바탕"/>
              </a:rPr>
              <a:t>Powered by http://www.jabook.or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286080"/>
            <a:ext cx="1827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2</a:t>
            </a:r>
            <a:r>
              <a:rPr b="0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nd</a:t>
            </a: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8120" y="3338640"/>
            <a:ext cx="47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소설같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14480" y="3603600"/>
            <a:ext cx="373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08520" y="3398760"/>
            <a:ext cx="180720" cy="164880"/>
            <a:chOff x="4808520" y="3398760"/>
            <a:chExt cx="180720" cy="164880"/>
          </a:xfrm>
        </p:grpSpPr>
        <p:sp>
          <p:nvSpPr>
            <p:cNvPr id="104" name=""/>
            <p:cNvSpPr/>
            <p:nvPr/>
          </p:nvSpPr>
          <p:spPr>
            <a:xfrm>
              <a:off x="4808520" y="3398760"/>
              <a:ext cx="10404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33000" y="346572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85560" y="342216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049640" y="4778280"/>
            <a:ext cx="1035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2360" y="1449360"/>
            <a:ext cx="509400" cy="765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장 게시판 설계와 구현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0.3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게시판 관리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페이지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3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관리자 확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관리자 확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게시판 관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는 관리자로 로그인 되어 있는지 여부를 판단해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3832200"/>
            <a:ext cx="6975360" cy="2387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adminManager = AdminManager.getInstan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 ( session.getAttribute("id") != null 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isAdmin((String)session.getAttribute("id")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관리자 페이지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로그인 페이지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0160" y="4430880"/>
            <a:ext cx="26769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ssion.getAttribute("id") !=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5160" y="4762440"/>
            <a:ext cx="48211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isAdmin((String)session.getAttribute("id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52800" y="2416320"/>
            <a:ext cx="1698480" cy="1163520"/>
          </a:xfrm>
          <a:prstGeom prst="diamond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관리자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로그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상태인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03880" y="2460600"/>
            <a:ext cx="2733480" cy="39708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게시판 관리를 위한 페이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3880" y="3135240"/>
            <a:ext cx="2733480" cy="39708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로그인 페이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9" idx="3"/>
            <a:endCxn id="390" idx="1"/>
          </p:cNvCxnSpPr>
          <p:nvPr/>
        </p:nvCxnSpPr>
        <p:spPr>
          <a:xfrm flipV="1">
            <a:off x="3850920" y="2658960"/>
            <a:ext cx="553320" cy="3402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89" idx="3"/>
            <a:endCxn id="391" idx="1"/>
          </p:cNvCxnSpPr>
          <p:nvPr/>
        </p:nvCxnSpPr>
        <p:spPr>
          <a:xfrm>
            <a:off x="3850920" y="2998800"/>
            <a:ext cx="553320" cy="335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998520" y="2394000"/>
            <a:ext cx="283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98160" y="3338640"/>
            <a:ext cx="233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5920" y="2685960"/>
            <a:ext cx="1260360" cy="6303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세션 체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3"/>
            <a:endCxn id="389" idx="1"/>
          </p:cNvCxnSpPr>
          <p:nvPr/>
        </p:nvCxnSpPr>
        <p:spPr>
          <a:xfrm flipV="1">
            <a:off x="1645920" y="2998080"/>
            <a:ext cx="50688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781760" y="2619360"/>
            <a:ext cx="1295640" cy="2041560"/>
          </a:xfrm>
          <a:prstGeom prst="rect">
            <a:avLst/>
          </a:prstGeom>
          <a:ln w="0">
            <a:noFill/>
          </a:ln>
        </p:spPr>
      </p:pic>
      <p:cxnSp>
        <p:nvCxnSpPr>
          <p:cNvPr id="399" name=""/>
          <p:cNvCxnSpPr>
            <a:stCxn id="391" idx="3"/>
            <a:endCxn id="398" idx="1"/>
          </p:cNvCxnSpPr>
          <p:nvPr/>
        </p:nvCxnSpPr>
        <p:spPr>
          <a:xfrm>
            <a:off x="7137360" y="3333240"/>
            <a:ext cx="645120" cy="306720"/>
          </a:xfrm>
          <a:prstGeom prst="curvedConnector5">
            <a:avLst>
              <a:gd name="adj1" fmla="val 49972"/>
              <a:gd name="adj2" fmla="val 49941"/>
              <a:gd name="adj3" fmla="val 49972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3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생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판 생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게시판 생성 처리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1494000"/>
            <a:ext cx="6615000" cy="175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action="makeBoard.jsp" method="post" name="crea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text" name="boardName" size="2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extarea name="boardSubject" cols="35" rows="3"&gt;&lt;/textare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submit" value=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게시판 생성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3743280"/>
            <a:ext cx="5986440" cy="301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equest.getParameter("boardName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Subject = request.getParameter("boardSubjec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adminManager = AdminManager.getInstan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!adminManager.existBoard(boardName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makeBoard(boardName, boardSubj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Redirect("boardAdmin.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동일한 이름의 게시판이 존재합니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086520" y="3294000"/>
            <a:ext cx="3016080" cy="151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821640" y="4886280"/>
            <a:ext cx="1744560" cy="1881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967360" y="816120"/>
            <a:ext cx="3135240" cy="1352520"/>
          </a:xfrm>
          <a:prstGeom prst="rect">
            <a:avLst/>
          </a:prstGeom>
          <a:ln w="0">
            <a:noFill/>
          </a:ln>
        </p:spPr>
      </p:pic>
      <p:cxnSp>
        <p:nvCxnSpPr>
          <p:cNvPr id="409" name=""/>
          <p:cNvCxnSpPr>
            <a:stCxn id="410" idx="2"/>
            <a:endCxn id="406" idx="0"/>
          </p:cNvCxnSpPr>
          <p:nvPr/>
        </p:nvCxnSpPr>
        <p:spPr>
          <a:xfrm rot="5400000">
            <a:off x="7419240" y="2136600"/>
            <a:ext cx="1332720" cy="983520"/>
          </a:xfrm>
          <a:prstGeom prst="curvedConnector5">
            <a:avLst>
              <a:gd name="adj1" fmla="val 49202"/>
              <a:gd name="adj2" fmla="val 49981"/>
              <a:gd name="adj3" fmla="val 4920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8217000" y="1628640"/>
            <a:ext cx="72072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92720" y="3924360"/>
            <a:ext cx="72072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12000" y="5769000"/>
            <a:ext cx="72072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5960" y="4824360"/>
            <a:ext cx="324072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existBoard(board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4320" y="5149800"/>
            <a:ext cx="452556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makeBoard(boardName, boardSubj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3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목록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게시판 목록 출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280" y="1673280"/>
            <a:ext cx="5986440" cy="310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adminManager = AdminManager.getInstan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ashtable ht = adminManager.getBoard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e = ht.key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e.hasMoreElements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key = (String)e.nextEl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value = (String)ht.get(ke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게시판 이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 + ke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게시판 설명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 +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81640" y="2889360"/>
            <a:ext cx="3735360" cy="11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562720" y="3338640"/>
          <a:ext cx="3419280" cy="609480"/>
        </p:xfrm>
        <a:graphic>
          <a:graphicData uri="http://schemas.openxmlformats.org/drawingml/2006/table">
            <a:tbl>
              <a:tblPr/>
              <a:tblGrid>
                <a:gridCol w="842760"/>
                <a:gridCol w="2576520"/>
              </a:tblGrid>
              <a:tr h="3070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누구나 쓸 수 있는 자유 게시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560560" y="2979720"/>
            <a:ext cx="1199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5080" y="2135160"/>
            <a:ext cx="3766680" cy="2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ashtable ht = adminManager.getBoard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>
            <a:off x="4036680" y="5283360"/>
            <a:ext cx="895320" cy="1071360"/>
          </a:xfrm>
          <a:prstGeom prst="rect">
            <a:avLst/>
          </a:prstGeom>
          <a:ln w="0">
            <a:noFill/>
          </a:ln>
        </p:spPr>
      </p:pic>
      <p:cxnSp>
        <p:nvCxnSpPr>
          <p:cNvPr id="423" name=""/>
          <p:cNvCxnSpPr>
            <a:stCxn id="421" idx="3"/>
            <a:endCxn id="418" idx="0"/>
          </p:cNvCxnSpPr>
          <p:nvPr/>
        </p:nvCxnSpPr>
        <p:spPr>
          <a:xfrm>
            <a:off x="4729320" y="2239920"/>
            <a:ext cx="2521440" cy="6501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886280" y="4599000"/>
            <a:ext cx="4186440" cy="1670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021280" y="5549760"/>
            <a:ext cx="94608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56280" y="5459400"/>
            <a:ext cx="1711440" cy="45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endCxn id="425" idx="0"/>
          </p:cNvCxnSpPr>
          <p:nvPr/>
        </p:nvCxnSpPr>
        <p:spPr>
          <a:xfrm rot="5400000">
            <a:off x="4947480" y="4493880"/>
            <a:ext cx="1583280" cy="491400"/>
          </a:xfrm>
          <a:prstGeom prst="curvedConnector5">
            <a:avLst>
              <a:gd name="adj1" fmla="val 50534"/>
              <a:gd name="adj2" fmla="val 50000"/>
              <a:gd name="adj3" fmla="val 5053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endCxn id="426" idx="0"/>
          </p:cNvCxnSpPr>
          <p:nvPr/>
        </p:nvCxnSpPr>
        <p:spPr>
          <a:xfrm rot="5400000">
            <a:off x="6556680" y="4302720"/>
            <a:ext cx="1492920" cy="783360"/>
          </a:xfrm>
          <a:prstGeom prst="curvedConnector5">
            <a:avLst>
              <a:gd name="adj1" fmla="val 50627"/>
              <a:gd name="adj2" fmla="val 49977"/>
              <a:gd name="adj3" fmla="val 506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1376280" y="4963680"/>
            <a:ext cx="2027160" cy="1099080"/>
          </a:xfrm>
          <a:prstGeom prst="cloudCallout">
            <a:avLst>
              <a:gd name="adj1" fmla="val 89148"/>
              <a:gd name="adj2" fmla="val -2898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BoardList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게시판 관리 테이블의 내용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Hashtable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반환하는 메소드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3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수정 및 삭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게시판 설명 수정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게시판 삭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71640" y="1673280"/>
            <a:ext cx="5986440" cy="148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equest.getParameter("board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Subject = request.getParameter("boardSubjec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adminManager = AdminManager.getInstan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updateBoard(boardName, boardSubj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4911840"/>
            <a:ext cx="5986440" cy="112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boardName = request.getParameter("boardName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 adminManager = AdminManager.getInstan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minManager.deleteBoard(board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703760" y="3336840"/>
            <a:ext cx="4189320" cy="13971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7993080" y="4149720"/>
            <a:ext cx="31428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53440" y="4149720"/>
            <a:ext cx="31428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5" idx="0"/>
            <a:endCxn id="432" idx="3"/>
          </p:cNvCxnSpPr>
          <p:nvPr/>
        </p:nvCxnSpPr>
        <p:spPr>
          <a:xfrm flipV="1" rot="16200000">
            <a:off x="6697800" y="2677680"/>
            <a:ext cx="1713600" cy="11926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6" idx="2"/>
            <a:endCxn id="433" idx="3"/>
          </p:cNvCxnSpPr>
          <p:nvPr/>
        </p:nvCxnSpPr>
        <p:spPr>
          <a:xfrm rot="5400000">
            <a:off x="7237440" y="4202640"/>
            <a:ext cx="992880" cy="155340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7536240" y="2394000"/>
            <a:ext cx="130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editBoardInfo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82320" y="5364000"/>
            <a:ext cx="1167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eleteBoard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게시판 설계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게시판이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인터넷에서 목록 형태의 정보를 저장 및 표현하기 위한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게시판으로 할 수 있는 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방명록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자유게시판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그림게시판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상품 리스트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블로그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Blog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게시판 설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게시판을 위한 정보를 가져오거나 입력하는 등의 과정에 필요한 요소를 파악하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각의 컴포넌트 및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를 구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게시판의 기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200" y="4284720"/>
            <a:ext cx="8381880" cy="243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95560" y="4329000"/>
            <a:ext cx="3197160" cy="23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7360" y="4848120"/>
            <a:ext cx="1260360" cy="960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80920" y="580788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2720" y="5403240"/>
            <a:ext cx="8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311640" y="4414680"/>
            <a:ext cx="723960" cy="9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272360" y="507348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62720" y="57477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27480" y="5094360"/>
            <a:ext cx="16956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쓰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27480" y="5410080"/>
            <a:ext cx="1695600" cy="270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수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27480" y="5724360"/>
            <a:ext cx="1695600" cy="270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삭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27480" y="4780080"/>
            <a:ext cx="16956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읽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27480" y="4464000"/>
            <a:ext cx="1695600" cy="270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목록보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6640" y="5164200"/>
            <a:ext cx="853920" cy="404640"/>
          </a:xfrm>
          <a:prstGeom prst="leftRightArrow">
            <a:avLst>
              <a:gd name="adj1" fmla="val 50000"/>
              <a:gd name="adj2" fmla="val 42011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3440" y="5164200"/>
            <a:ext cx="853920" cy="404640"/>
          </a:xfrm>
          <a:prstGeom prst="leftRightArrow">
            <a:avLst>
              <a:gd name="adj1" fmla="val 50000"/>
              <a:gd name="adj2" fmla="val 42011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26040" y="6040440"/>
            <a:ext cx="1695240" cy="270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답변 글 달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6040" y="6354720"/>
            <a:ext cx="1695240" cy="270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 검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의 구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51280" y="1042920"/>
            <a:ext cx="4095720" cy="52657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3240" y="1054080"/>
            <a:ext cx="3976920" cy="45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게시판 관련 컴포넌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2360" y="4824360"/>
            <a:ext cx="2249640" cy="1395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연결 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97360" y="4959360"/>
            <a:ext cx="1981440" cy="450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7360" y="5408640"/>
            <a:ext cx="1981440" cy="450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50200" y="1042920"/>
            <a:ext cx="1531800" cy="52657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87720" y="2754360"/>
            <a:ext cx="2384280" cy="1393920"/>
            <a:chOff x="3087720" y="2754360"/>
            <a:chExt cx="2384280" cy="1393920"/>
          </a:xfrm>
        </p:grpSpPr>
        <p:sp>
          <p:nvSpPr>
            <p:cNvPr id="141" name=""/>
            <p:cNvSpPr/>
            <p:nvPr/>
          </p:nvSpPr>
          <p:spPr>
            <a:xfrm>
              <a:off x="3087720" y="2754360"/>
              <a:ext cx="2384280" cy="1393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b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게시판 기능 구현 컴포넌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26280" y="2754360"/>
              <a:ext cx="105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580160" y="5138640"/>
            <a:ext cx="1266840" cy="765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65560" y="3336840"/>
            <a:ext cx="1981080" cy="45108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rd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37000" y="1584360"/>
            <a:ext cx="2384640" cy="9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게시판정보 캡슐화 컴포넌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4840" y="1719360"/>
            <a:ext cx="1981080" cy="450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2000" y="1042920"/>
            <a:ext cx="2071440" cy="52657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4320" y="1054080"/>
            <a:ext cx="2011320" cy="45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게시판 기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440" y="1538280"/>
            <a:ext cx="1754280" cy="189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게시판 관리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000" y="3564000"/>
            <a:ext cx="1753920" cy="260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글 관련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1640" y="4780080"/>
            <a:ext cx="1487520" cy="358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da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72520" y="1054080"/>
            <a:ext cx="1487160" cy="45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데이터베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9" idx="3"/>
            <a:endCxn id="154" idx="1"/>
          </p:cNvCxnSpPr>
          <p:nvPr/>
        </p:nvCxnSpPr>
        <p:spPr>
          <a:xfrm>
            <a:off x="2052720" y="2484360"/>
            <a:ext cx="1216800" cy="629280"/>
          </a:xfrm>
          <a:prstGeom prst="bentConnector3">
            <a:avLst>
              <a:gd name="adj1" fmla="val 49866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"/>
          <p:cNvCxnSpPr>
            <a:stCxn id="136" idx="3"/>
            <a:endCxn id="143" idx="2"/>
          </p:cNvCxnSpPr>
          <p:nvPr/>
        </p:nvCxnSpPr>
        <p:spPr>
          <a:xfrm flipV="1">
            <a:off x="6912000" y="5520960"/>
            <a:ext cx="668880" cy="2160"/>
          </a:xfrm>
          <a:prstGeom prst="bentConnector3">
            <a:avLst>
              <a:gd name="adj1" fmla="val 4986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"/>
          <p:cNvCxnSpPr>
            <a:stCxn id="141" idx="2"/>
            <a:endCxn id="136" idx="0"/>
          </p:cNvCxnSpPr>
          <p:nvPr/>
        </p:nvCxnSpPr>
        <p:spPr>
          <a:xfrm flipH="1" rot="16200000">
            <a:off x="4695120" y="3732120"/>
            <a:ext cx="676800" cy="1508760"/>
          </a:xfrm>
          <a:prstGeom prst="bentConnector3">
            <a:avLst>
              <a:gd name="adj1" fmla="val 4997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127600" y="1123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45" idx="1"/>
            <a:endCxn id="157" idx="3"/>
          </p:cNvCxnSpPr>
          <p:nvPr/>
        </p:nvCxnSpPr>
        <p:spPr>
          <a:xfrm rot="10800000">
            <a:off x="2231280" y="1286640"/>
            <a:ext cx="2205720" cy="770760"/>
          </a:xfrm>
          <a:prstGeom prst="bentConnector3">
            <a:avLst>
              <a:gd name="adj1" fmla="val 50032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45" idx="1"/>
            <a:endCxn id="142" idx="0"/>
          </p:cNvCxnSpPr>
          <p:nvPr/>
        </p:nvCxnSpPr>
        <p:spPr>
          <a:xfrm flipV="1" rot="10800000">
            <a:off x="3679200" y="2057040"/>
            <a:ext cx="757800" cy="69768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268800" y="2887560"/>
            <a:ext cx="1981080" cy="45108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min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86280" y="4689360"/>
            <a:ext cx="1123920" cy="812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회원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컴포넌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1640" y="2755800"/>
            <a:ext cx="1487520" cy="358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deleteBoar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3440" y="2395440"/>
            <a:ext cx="1487520" cy="358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ditBoardInfo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3"/>
            <a:endCxn id="136" idx="1"/>
          </p:cNvCxnSpPr>
          <p:nvPr/>
        </p:nvCxnSpPr>
        <p:spPr>
          <a:xfrm>
            <a:off x="4210200" y="5095800"/>
            <a:ext cx="452880" cy="427680"/>
          </a:xfrm>
          <a:prstGeom prst="bentConnector3">
            <a:avLst>
              <a:gd name="adj1" fmla="val 49801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31640" y="2035080"/>
            <a:ext cx="1487520" cy="358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keBoar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1640" y="1673280"/>
            <a:ext cx="1487520" cy="358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Admin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640" y="4417920"/>
            <a:ext cx="1487520" cy="358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Wri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1640" y="4059360"/>
            <a:ext cx="1487520" cy="358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Re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3699000"/>
            <a:ext cx="1487520" cy="358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List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1640" y="5140440"/>
            <a:ext cx="1487520" cy="358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Uploa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1640" y="5500800"/>
            <a:ext cx="1487520" cy="358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Delet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21640" y="3294000"/>
            <a:ext cx="993600" cy="2700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21640" y="3652920"/>
            <a:ext cx="9936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BoardAd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21640" y="4013280"/>
            <a:ext cx="9936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ard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21640" y="4373640"/>
            <a:ext cx="9936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ard_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21640" y="4734000"/>
            <a:ext cx="993600" cy="269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46880" y="31035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46880" y="58482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3"/>
            <a:endCxn id="160" idx="1"/>
          </p:cNvCxnSpPr>
          <p:nvPr/>
        </p:nvCxnSpPr>
        <p:spPr>
          <a:xfrm>
            <a:off x="2050920" y="3267000"/>
            <a:ext cx="1036080" cy="1829520"/>
          </a:xfrm>
          <a:prstGeom prst="bentConnector3">
            <a:avLst>
              <a:gd name="adj1" fmla="val 36183"/>
            </a:avLst>
          </a:prstGeom>
          <a:ln w="3816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7" idx="3"/>
            <a:endCxn id="160" idx="1"/>
          </p:cNvCxnSpPr>
          <p:nvPr/>
        </p:nvCxnSpPr>
        <p:spPr>
          <a:xfrm flipV="1">
            <a:off x="2050920" y="5095080"/>
            <a:ext cx="1036080" cy="916920"/>
          </a:xfrm>
          <a:prstGeom prst="bentConnector3">
            <a:avLst>
              <a:gd name="adj1" fmla="val 36322"/>
            </a:avLst>
          </a:prstGeom>
          <a:ln w="3816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>
            <a:stCxn id="150" idx="3"/>
            <a:endCxn id="144" idx="1"/>
          </p:cNvCxnSpPr>
          <p:nvPr/>
        </p:nvCxnSpPr>
        <p:spPr>
          <a:xfrm flipV="1">
            <a:off x="2050920" y="3561840"/>
            <a:ext cx="1215360" cy="1307520"/>
          </a:xfrm>
          <a:prstGeom prst="bentConnector3">
            <a:avLst>
              <a:gd name="adj1" fmla="val 4992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 관리를 위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테이블 구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테이블 생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구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95560" y="1673280"/>
          <a:ext cx="7111800" cy="1144440"/>
        </p:xfrm>
        <a:graphic>
          <a:graphicData uri="http://schemas.openxmlformats.org/drawingml/2006/table">
            <a:tbl>
              <a:tblPr/>
              <a:tblGrid>
                <a:gridCol w="2369880"/>
                <a:gridCol w="2371680"/>
                <a:gridCol w="2370240"/>
              </a:tblGrid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필드 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데이터 타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32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r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CHAR(1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게시판의 이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rd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CHAR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게시판의 제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설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50920" y="4376880"/>
            <a:ext cx="6570720" cy="1482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reate table BoardAdmin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Name VARCHAR(16) NOT NULL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ardSubject VARCHAR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게시판을 위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테이블 구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93080" y="2401920"/>
            <a:ext cx="89532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930240" y="1673280"/>
          <a:ext cx="7112160" cy="4573440"/>
        </p:xfrm>
        <a:graphic>
          <a:graphicData uri="http://schemas.openxmlformats.org/drawingml/2006/table">
            <a:tbl>
              <a:tblPr/>
              <a:tblGrid>
                <a:gridCol w="2027160"/>
                <a:gridCol w="2159280"/>
                <a:gridCol w="2925720"/>
              </a:tblGrid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필드 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데이터 타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6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CHAR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작성자 이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CHAR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제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내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작성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CHAR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비밀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글 조회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원문 글의 참조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원문 글로부터의 답변 출력 순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원문 글에 대한 답변 레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글의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692760" y="823320"/>
            <a:ext cx="1917720" cy="860400"/>
          </a:xfrm>
          <a:prstGeom prst="cloudCallout">
            <a:avLst>
              <a:gd name="adj1" fmla="val 42282"/>
              <a:gd name="adj2" fmla="val 12506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게시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관리자가 게시판을 생성하고자 할 때 동적으로 생성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 구현을 위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구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089000"/>
            <a:ext cx="83725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데이터베이스 필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um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글 번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작성 순서에 따라 순차적으로 할당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f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이 참조하는 원문 번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tep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의 출력 순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epth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의 깊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ildCount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답변 글의 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92000" y="3519360"/>
          <a:ext cx="7426080" cy="2656080"/>
        </p:xfrm>
        <a:graphic>
          <a:graphicData uri="http://schemas.openxmlformats.org/drawingml/2006/table">
            <a:tbl>
              <a:tblPr/>
              <a:tblGrid>
                <a:gridCol w="546120"/>
                <a:gridCol w="3098520"/>
                <a:gridCol w="946440"/>
                <a:gridCol w="944280"/>
                <a:gridCol w="946440"/>
                <a:gridCol w="944280"/>
              </a:tblGrid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37360" y="1179360"/>
            <a:ext cx="933480" cy="1071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616280" y="2009880"/>
            <a:ext cx="1710000" cy="1099080"/>
          </a:xfrm>
          <a:prstGeom prst="cloudCallout">
            <a:avLst>
              <a:gd name="adj1" fmla="val 93439"/>
              <a:gd name="adj2" fmla="val -5373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 모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므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 글에 대한 답변이라는 것을 알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22360" y="4194000"/>
            <a:ext cx="136440" cy="135000"/>
            <a:chOff x="1422360" y="4194000"/>
            <a:chExt cx="136440" cy="135000"/>
          </a:xfrm>
        </p:grpSpPr>
        <p:sp>
          <p:nvSpPr>
            <p:cNvPr id="196" name=""/>
            <p:cNvSpPr/>
            <p:nvPr/>
          </p:nvSpPr>
          <p:spPr>
            <a:xfrm>
              <a:off x="1422360" y="4194000"/>
              <a:ext cx="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2360" y="4329000"/>
              <a:ext cx="13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692360" y="4508640"/>
            <a:ext cx="136440" cy="134640"/>
            <a:chOff x="1692360" y="4508640"/>
            <a:chExt cx="136440" cy="134640"/>
          </a:xfrm>
        </p:grpSpPr>
        <p:sp>
          <p:nvSpPr>
            <p:cNvPr id="199" name=""/>
            <p:cNvSpPr/>
            <p:nvPr/>
          </p:nvSpPr>
          <p:spPr>
            <a:xfrm>
              <a:off x="1692360" y="4508640"/>
              <a:ext cx="0" cy="13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92360" y="4643280"/>
              <a:ext cx="13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916280" y="4857840"/>
            <a:ext cx="136440" cy="135000"/>
            <a:chOff x="1916280" y="4857840"/>
            <a:chExt cx="136440" cy="135000"/>
          </a:xfrm>
        </p:grpSpPr>
        <p:sp>
          <p:nvSpPr>
            <p:cNvPr id="202" name=""/>
            <p:cNvSpPr/>
            <p:nvPr/>
          </p:nvSpPr>
          <p:spPr>
            <a:xfrm>
              <a:off x="1916280" y="4857840"/>
              <a:ext cx="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16280" y="4992840"/>
              <a:ext cx="13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16280" y="5184720"/>
            <a:ext cx="136440" cy="135000"/>
            <a:chOff x="1916280" y="5184720"/>
            <a:chExt cx="136440" cy="135000"/>
          </a:xfrm>
        </p:grpSpPr>
        <p:sp>
          <p:nvSpPr>
            <p:cNvPr id="205" name=""/>
            <p:cNvSpPr/>
            <p:nvPr/>
          </p:nvSpPr>
          <p:spPr>
            <a:xfrm>
              <a:off x="1916280" y="5184720"/>
              <a:ext cx="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16280" y="5319720"/>
              <a:ext cx="13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92360" y="5521320"/>
            <a:ext cx="136440" cy="135000"/>
            <a:chOff x="1692360" y="5521320"/>
            <a:chExt cx="136440" cy="135000"/>
          </a:xfrm>
        </p:grpSpPr>
        <p:sp>
          <p:nvSpPr>
            <p:cNvPr id="208" name=""/>
            <p:cNvSpPr/>
            <p:nvPr/>
          </p:nvSpPr>
          <p:spPr>
            <a:xfrm>
              <a:off x="1692360" y="5521320"/>
              <a:ext cx="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92360" y="5656320"/>
              <a:ext cx="13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20920" y="5859360"/>
            <a:ext cx="136440" cy="135000"/>
            <a:chOff x="1420920" y="5859360"/>
            <a:chExt cx="136440" cy="135000"/>
          </a:xfrm>
        </p:grpSpPr>
        <p:sp>
          <p:nvSpPr>
            <p:cNvPr id="211" name=""/>
            <p:cNvSpPr/>
            <p:nvPr/>
          </p:nvSpPr>
          <p:spPr>
            <a:xfrm>
              <a:off x="1420920" y="5859360"/>
              <a:ext cx="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20920" y="5994360"/>
              <a:ext cx="13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858080" y="2595240"/>
            <a:ext cx="1170000" cy="860400"/>
          </a:xfrm>
          <a:prstGeom prst="cloudCallout">
            <a:avLst>
              <a:gd name="adj1" fmla="val -20472"/>
              <a:gd name="adj2" fmla="val -11306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 글에 달린 답변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7720" y="2758320"/>
            <a:ext cx="1305000" cy="621720"/>
          </a:xfrm>
          <a:prstGeom prst="cloudCallout">
            <a:avLst>
              <a:gd name="adj1" fmla="val 52782"/>
              <a:gd name="adj2" fmla="val -12893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답변이 출력되는 순서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12600" y="4194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3"/>
          </p:cNvCxnSpPr>
          <p:nvPr/>
        </p:nvCxnSpPr>
        <p:spPr>
          <a:xfrm flipH="1">
            <a:off x="8216280" y="3025800"/>
            <a:ext cx="810360" cy="1332720"/>
          </a:xfrm>
          <a:prstGeom prst="curvedConnector5">
            <a:avLst>
              <a:gd name="adj1" fmla="val -3511"/>
              <a:gd name="adj2" fmla="val 49986"/>
              <a:gd name="adj3" fmla="val -351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17" name=""/>
          <p:cNvCxnSpPr>
            <a:stCxn id="194" idx="0"/>
          </p:cNvCxnSpPr>
          <p:nvPr/>
        </p:nvCxnSpPr>
        <p:spPr>
          <a:xfrm rot="5400000">
            <a:off x="4971960" y="3020040"/>
            <a:ext cx="437040" cy="562680"/>
          </a:xfrm>
          <a:prstGeom prst="curvedConnector5">
            <a:avLst>
              <a:gd name="adj1" fmla="val 50123"/>
              <a:gd name="adj2" fmla="val 50000"/>
              <a:gd name="adj3" fmla="val 5012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18" name=""/>
          <p:cNvCxnSpPr>
            <a:stCxn id="214" idx="0"/>
          </p:cNvCxnSpPr>
          <p:nvPr/>
        </p:nvCxnSpPr>
        <p:spPr>
          <a:xfrm flipV="1" rot="10800000">
            <a:off x="5855400" y="3069720"/>
            <a:ext cx="477000" cy="45000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1280" y="2418840"/>
            <a:ext cx="943200" cy="1576800"/>
          </a:xfrm>
          <a:prstGeom prst="cloudCallout">
            <a:avLst>
              <a:gd name="adj1" fmla="val -38250"/>
              <a:gd name="adj2" fmla="val -8690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필드는 글이 작성된 순서대로 값이 할당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1359000"/>
            <a:ext cx="63648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1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답변 글의 구조 자세히 살펴보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22360" y="1042920"/>
          <a:ext cx="7426080" cy="663480"/>
        </p:xfrm>
        <a:graphic>
          <a:graphicData uri="http://schemas.openxmlformats.org/drawingml/2006/table">
            <a:tbl>
              <a:tblPr/>
              <a:tblGrid>
                <a:gridCol w="546120"/>
                <a:gridCol w="3098880"/>
                <a:gridCol w="946080"/>
                <a:gridCol w="944640"/>
                <a:gridCol w="946080"/>
                <a:gridCol w="944280"/>
              </a:tblGrid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22360" y="1808280"/>
          <a:ext cx="7426080" cy="663480"/>
        </p:xfrm>
        <a:graphic>
          <a:graphicData uri="http://schemas.openxmlformats.org/drawingml/2006/table">
            <a:tbl>
              <a:tblPr/>
              <a:tblGrid>
                <a:gridCol w="546120"/>
                <a:gridCol w="3098880"/>
                <a:gridCol w="946080"/>
                <a:gridCol w="944640"/>
                <a:gridCol w="946080"/>
                <a:gridCol w="944280"/>
              </a:tblGrid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22360" y="2573280"/>
          <a:ext cx="7426080" cy="996840"/>
        </p:xfrm>
        <a:graphic>
          <a:graphicData uri="http://schemas.openxmlformats.org/drawingml/2006/table">
            <a:tbl>
              <a:tblPr/>
              <a:tblGrid>
                <a:gridCol w="546120"/>
                <a:gridCol w="3098880"/>
                <a:gridCol w="946080"/>
                <a:gridCol w="944640"/>
                <a:gridCol w="946080"/>
                <a:gridCol w="944280"/>
              </a:tblGrid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33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22360" y="3654360"/>
          <a:ext cx="7426080" cy="1328760"/>
        </p:xfrm>
        <a:graphic>
          <a:graphicData uri="http://schemas.openxmlformats.org/drawingml/2006/table">
            <a:tbl>
              <a:tblPr/>
              <a:tblGrid>
                <a:gridCol w="546120"/>
                <a:gridCol w="3098880"/>
                <a:gridCol w="946080"/>
                <a:gridCol w="944640"/>
                <a:gridCol w="946080"/>
                <a:gridCol w="944280"/>
              </a:tblGrid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22360" y="5065560"/>
          <a:ext cx="7426080" cy="1660680"/>
        </p:xfrm>
        <a:graphic>
          <a:graphicData uri="http://schemas.openxmlformats.org/drawingml/2006/table">
            <a:tbl>
              <a:tblPr/>
              <a:tblGrid>
                <a:gridCol w="546120"/>
                <a:gridCol w="3098880"/>
                <a:gridCol w="946080"/>
                <a:gridCol w="944640"/>
                <a:gridCol w="946080"/>
                <a:gridCol w="944280"/>
              </a:tblGrid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를 잘 하려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33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192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46240"/>
                          <a:tab algn="l" pos="492120"/>
                          <a:tab algn="l" pos="738360"/>
                          <a:tab algn="l" pos="984240"/>
                          <a:tab algn="l" pos="1230480"/>
                          <a:tab algn="l" pos="1476360"/>
                          <a:tab algn="l" pos="1722600"/>
                          <a:tab algn="l" pos="1968480"/>
                          <a:tab algn="l" pos="2214720"/>
                          <a:tab algn="l" pos="2460600"/>
                          <a:tab algn="l" pos="2706840"/>
                          <a:tab algn="l" pos="2952720"/>
                          <a:tab algn="l" pos="3198960"/>
                          <a:tab algn="l" pos="3444840"/>
                          <a:tab algn="l" pos="3691080"/>
                          <a:tab algn="l" pos="3936960"/>
                          <a:tab algn="l" pos="4183200"/>
                          <a:tab algn="l" pos="4429080"/>
                          <a:tab algn="l" pos="4675320"/>
                          <a:tab algn="l" pos="4921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RE]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답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 flipH="1">
            <a:off x="7993080" y="1494000"/>
            <a:ext cx="22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37240" y="138924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원문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993080" y="2259000"/>
            <a:ext cx="22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18880" y="2154240"/>
            <a:ext cx="565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의 답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993080" y="3384720"/>
            <a:ext cx="22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8880" y="3279600"/>
            <a:ext cx="565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의 답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93080" y="4780080"/>
            <a:ext cx="22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18880" y="4675320"/>
            <a:ext cx="565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의 답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993080" y="6219720"/>
            <a:ext cx="22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8880" y="6114960"/>
            <a:ext cx="565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번의 답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2000" y="104292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000" y="182088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2000" y="257328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2000" y="362124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2000" y="504972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m</cp:lastModifiedBy>
  <cp:lastPrinted>1999-07-19T06:05:37Z</cp:lastPrinted>
  <dcterms:modified xsi:type="dcterms:W3CDTF">2008-04-11T02:01:57Z</dcterms:modified>
  <cp:revision>8401</cp:revision>
  <dc:subject/>
  <dc:title>프로그래밍 언어</dc:title>
</cp:coreProperties>
</file>