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wmf" ContentType="image/x-wmf"/>
  <Override PartName="/ppt/media/image25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12.wmf" ContentType="image/x-wmf"/>
  <Override PartName="/ppt/media/image27.png" ContentType="image/png"/>
  <Override PartName="/ppt/media/image9.wmf" ContentType="image/x-wmf"/>
  <Override PartName="/ppt/media/image13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3.png" ContentType="image/png"/>
  <Override PartName="/ppt/media/image2.png" ContentType="image/png"/>
  <Override PartName="/ppt/media/image28.png" ContentType="image/png"/>
  <Override PartName="/ppt/media/image1.wmf" ContentType="image/x-wmf"/>
  <Override PartName="/ppt/media/image24.wmf" ContentType="image/x-wmf"/>
  <Override PartName="/ppt/media/image15.png" ContentType="image/png"/>
  <Override PartName="/ppt/media/image16.png" ContentType="image/png"/>
  <Override PartName="/ppt/media/image17.wmf" ContentType="image/x-wmf"/>
  <Override PartName="/ppt/media/image18.wmf" ContentType="image/x-wmf"/>
  <Override PartName="/ppt/media/image20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7008813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190A-2138-4CF9-81AA-ED6EBFE16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5920" y="3815280"/>
            <a:ext cx="83721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8421-1D04-41FF-A123-03AD53239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568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5920" y="381528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5680" y="381528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511F-998B-4A41-8B3A-9206A16F8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16600" y="108864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47640" y="108864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85920" y="381528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16600" y="381528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47640" y="381528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6BD2-0EE0-4C9C-B0E7-9DA2D3448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5BD42-13B0-4364-873E-9A1666698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82B47-E471-4FA4-A7B3-5E63D4555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AA426-B650-4761-846B-C14C5BF0E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408528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5680" y="1088640"/>
            <a:ext cx="408528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3ED6E-A8FB-45DC-8A61-004BA5C9C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87025-6266-436E-B71E-1C171AACE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2240" y="97920"/>
            <a:ext cx="913140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324B0-55AC-4767-AB45-0052B4042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5680" y="1088640"/>
            <a:ext cx="408528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5920" y="381528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55640-697B-468C-AD46-8CA02FA45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F494-E420-4598-B377-B8847E237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408528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568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5680" y="381528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D1BEA-D84E-4E15-BADE-5514D908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568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5920" y="3815280"/>
            <a:ext cx="83721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90179-6222-4333-B00E-F69F0FC5A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5920" y="3815280"/>
            <a:ext cx="83721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08D2C-4A37-4709-9148-2FE12736A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568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5920" y="381528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5680" y="381528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63B77-90FF-47BD-A2EA-86FC8F07F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6600" y="108864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7640" y="108864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5920" y="381528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6600" y="381528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7640" y="381528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6EFF9-6692-4868-B760-B652B3638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BB89-D47E-4F3A-B67A-83219FC8B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408528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5680" y="1088640"/>
            <a:ext cx="408528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AEA2-9EC3-4C76-8D34-4029DD393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55E5-A5E3-4488-BF17-E3089BB7F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240" y="97920"/>
            <a:ext cx="913140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56F2-DD6D-4548-9B7D-2BB4F98FD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5680" y="1088640"/>
            <a:ext cx="408528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5920" y="381528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512E-9D30-4D03-BD10-5A1C320E1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408528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568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5680" y="381528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72AB-7BCE-46D0-813E-7D43FAEF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568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5920" y="3815280"/>
            <a:ext cx="83721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FE2E-5176-4037-A32D-A9BBECEE3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338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바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바탕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38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바탕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바탕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92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바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E9635-8074-4713-B8E6-9FB5C668EC8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338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바탕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553080" y="6338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2600" y="6354720"/>
            <a:ext cx="9131400" cy="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2600" y="907920"/>
            <a:ext cx="9131400" cy="0"/>
          </a:xfrm>
          <a:prstGeom prst="line">
            <a:avLst/>
          </a:prstGeom>
          <a:ln w="117360">
            <a:solidFill>
              <a:srgbClr val="a8a8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2600" y="6354720"/>
            <a:ext cx="9131400" cy="0"/>
          </a:xfrm>
          <a:prstGeom prst="line">
            <a:avLst/>
          </a:prstGeom>
          <a:ln w="12600">
            <a:solidFill>
              <a:srgbClr val="8c8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71360" y="609480"/>
            <a:ext cx="8801280" cy="5639040"/>
          </a:xfrm>
          <a:prstGeom prst="rect">
            <a:avLst/>
          </a:prstGeom>
          <a:solidFill>
            <a:srgbClr val="ffead5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3080" y="760320"/>
            <a:ext cx="8464320" cy="5356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바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바탕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바탕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바탕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title"/>
          </p:nvPr>
        </p:nvSpPr>
        <p:spPr>
          <a:xfrm>
            <a:off x="479520" y="1267920"/>
            <a:ext cx="818496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바탕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2560" y="1268280"/>
            <a:ext cx="7777080" cy="0"/>
          </a:xfrm>
          <a:prstGeom prst="line">
            <a:avLst/>
          </a:prstGeom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1120" y="2529000"/>
            <a:ext cx="7777080" cy="0"/>
          </a:xfrm>
          <a:prstGeom prst="line">
            <a:avLst/>
          </a:prstGeom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886440" y="608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바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77E68-55F7-46B1-9813-627CFA0AC14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26.wmf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13.wmf"/><Relationship Id="rId7" Type="http://schemas.openxmlformats.org/officeDocument/2006/relationships/image" Target="../media/image17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4.wmf"/><Relationship Id="rId7" Type="http://schemas.openxmlformats.org/officeDocument/2006/relationships/image" Target="../media/image17.wmf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██████████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6850080"/>
          </a:xfrm>
          <a:prstGeom prst="rect">
            <a:avLst/>
          </a:prstGeom>
          <a:solidFill>
            <a:srgbClr val="ffeb97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311640" y="2259000"/>
            <a:ext cx="2206440" cy="17892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958080" y="5184720"/>
            <a:ext cx="1888920" cy="1130040"/>
          </a:xfrm>
          <a:prstGeom prst="rect">
            <a:avLst/>
          </a:prstGeom>
          <a:noFill/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cc00"/>
                </a:solidFill>
                <a:latin typeface="Tahoma"/>
              </a:rPr>
              <a:t>8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6173640"/>
            <a:ext cx="9144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600" y="6804000"/>
            <a:ext cx="9131400" cy="0"/>
          </a:xfrm>
          <a:prstGeom prst="line">
            <a:avLst/>
          </a:prstGeom>
          <a:ln w="12600">
            <a:solidFill>
              <a:srgbClr val="8c8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.2.2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쿠키 설정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쿠키 사용을 위한 클래스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javax.servlet.http.Cook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JSP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파일을 서블릿으로 변환할 때 자동 임포트되기 때문에 따로 선언하지 않아도 된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쿠키 생성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쿠키 저장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response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내장 객체를 이용해 쿠키를 전송한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쿠키의 생성 확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71640" y="2981160"/>
            <a:ext cx="5986440" cy="85428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Cookie cookie = new Cookie("name", "Grace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610080" y="3406680"/>
            <a:ext cx="628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329000" y="3406680"/>
            <a:ext cx="674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498840" y="3497400"/>
            <a:ext cx="54432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쿠키의 이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493880" y="3497400"/>
            <a:ext cx="45288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쿠키의 값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71640" y="4689360"/>
            <a:ext cx="5986440" cy="49536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response.addCookie(cooki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7950240" y="863640"/>
            <a:ext cx="1031760" cy="83664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5157720" y="148680"/>
            <a:ext cx="2521080" cy="860400"/>
          </a:xfrm>
          <a:prstGeom prst="cloudCallout">
            <a:avLst>
              <a:gd name="adj1" fmla="val 60689"/>
              <a:gd name="adj2" fmla="val 99435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쿠키는 이름과 값의 쌍으로 구성되어 있으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동일한 이름이 존재할 경우 쿠키가 덮어써진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5832360" y="2168640"/>
            <a:ext cx="552600" cy="12510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6750000" y="2805840"/>
            <a:ext cx="2278080" cy="1337760"/>
          </a:xfrm>
          <a:prstGeom prst="cloudCallout">
            <a:avLst>
              <a:gd name="adj1" fmla="val -62037"/>
              <a:gd name="adj2" fmla="val -81824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쿠키는 하나의 도메인 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클라이언트에 총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개를 저장할 수 있으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쿠키의 크기는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96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바이트까지만 허용된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07000" y="2055600"/>
            <a:ext cx="1303200" cy="860400"/>
          </a:xfrm>
          <a:prstGeom prst="cloudCallout">
            <a:avLst>
              <a:gd name="adj1" fmla="val 15888"/>
              <a:gd name="adj2" fmla="val 73587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쿠키의 값은 문자열만 가능하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01640" y="5724360"/>
            <a:ext cx="4500720" cy="4953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:\Documents and Settings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\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사용자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\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ok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3"/>
          <a:srcRect l="8062" t="18679" r="0" b="10675"/>
          <a:stretch/>
        </p:blipFill>
        <p:spPr>
          <a:xfrm>
            <a:off x="6012000" y="4329000"/>
            <a:ext cx="3060720" cy="2384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3" name=""/>
          <p:cNvSpPr/>
          <p:nvPr/>
        </p:nvSpPr>
        <p:spPr>
          <a:xfrm>
            <a:off x="6148440" y="6399360"/>
            <a:ext cx="765000" cy="225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273800" y="4508640"/>
            <a:ext cx="1710000" cy="495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4"/>
          <a:stretch/>
        </p:blipFill>
        <p:spPr>
          <a:xfrm>
            <a:off x="7226280" y="5207040"/>
            <a:ext cx="1838520" cy="13716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cxnSp>
        <p:nvCxnSpPr>
          <p:cNvPr id="226" name=""/>
          <p:cNvCxnSpPr>
            <a:stCxn id="224" idx="2"/>
            <a:endCxn id="225" idx="0"/>
          </p:cNvCxnSpPr>
          <p:nvPr/>
        </p:nvCxnSpPr>
        <p:spPr>
          <a:xfrm flipH="1" rot="16200000">
            <a:off x="8054640" y="5096880"/>
            <a:ext cx="165960" cy="16560"/>
          </a:xfrm>
          <a:prstGeom prst="curvedConnector5">
            <a:avLst>
              <a:gd name="adj1" fmla="val 50000"/>
              <a:gd name="adj2" fmla="val 48888"/>
              <a:gd name="adj3" fmla="val 50000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1" idx="3"/>
            <a:endCxn id="222" idx="1"/>
          </p:cNvCxnSpPr>
          <p:nvPr/>
        </p:nvCxnSpPr>
        <p:spPr>
          <a:xfrm flipV="1">
            <a:off x="5202000" y="5520960"/>
            <a:ext cx="810360" cy="451440"/>
          </a:xfrm>
          <a:prstGeom prst="curvedConnector5">
            <a:avLst>
              <a:gd name="adj1" fmla="val 49777"/>
              <a:gd name="adj2" fmla="val 49960"/>
              <a:gd name="adj3" fmla="val 49777"/>
            </a:avLst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6173640"/>
            <a:ext cx="9144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2600" y="6804000"/>
            <a:ext cx="9131400" cy="0"/>
          </a:xfrm>
          <a:prstGeom prst="line">
            <a:avLst/>
          </a:prstGeom>
          <a:ln w="12600">
            <a:solidFill>
              <a:srgbClr val="8c8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.2.3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쿠키의 속성 설정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85920" y="1089000"/>
            <a:ext cx="83721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쿠키의 유효시간 설정을 위한 메소드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쿠키의 유효시간을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분으로 설정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쿠키 삭제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쿠키를 삭제하는 메소드가 따로 존재하지 않는다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main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속성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쿠키가 전송될 서버의 도메인 명을 명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기본 값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쿠키를 전송한 서버의 주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th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속성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쿠키를 사용할 수 있는 도메인 내의 주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기본 값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쿠키를 설정한 페이지 경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71640" y="1719360"/>
            <a:ext cx="5491080" cy="49536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okie.setMaxAge(60 * 5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1640" y="2889360"/>
            <a:ext cx="5491080" cy="49536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okie.setMaxAge(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8307360" y="1763640"/>
            <a:ext cx="579600" cy="9064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5742000" y="2623680"/>
            <a:ext cx="2071800" cy="1099080"/>
          </a:xfrm>
          <a:prstGeom prst="cloudCallout">
            <a:avLst>
              <a:gd name="adj1" fmla="val 69611"/>
              <a:gd name="adj2" fmla="val -108347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쿠키의 유효시간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으로 설정해 줌으로써 쿠키를 삭제하는 것과 동일한 효과를 얻을 수 있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6013440" y="1087560"/>
            <a:ext cx="579600" cy="934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6958080" y="582480"/>
            <a:ext cx="2027160" cy="860760"/>
          </a:xfrm>
          <a:prstGeom prst="cloudCallout">
            <a:avLst>
              <a:gd name="adj1" fmla="val -74111"/>
              <a:gd name="adj2" fmla="val 23032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쿠키의 유효시간을 설정하지 않을 경우 쿠키의 생명주기는 브라우저가 종료될 때까지이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71640" y="4284720"/>
            <a:ext cx="5986440" cy="72072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cookie.setDomain("www.jabook.co.kr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71640" y="6037200"/>
            <a:ext cx="5986440" cy="72072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cookie.setPath("/book/noveljsp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781280" y="4600440"/>
            <a:ext cx="2746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540880" y="4711680"/>
            <a:ext cx="126360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쿠키가 전송될 도메인을 설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781280" y="6377040"/>
            <a:ext cx="2116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055240" y="6465960"/>
            <a:ext cx="157752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쿠키가 사용될 도메인의 경로를 지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8082000" y="4734000"/>
            <a:ext cx="689040" cy="9666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5832360" y="3928320"/>
            <a:ext cx="2159280" cy="1099440"/>
          </a:xfrm>
          <a:prstGeom prst="cloudCallout">
            <a:avLst>
              <a:gd name="adj1" fmla="val 52564"/>
              <a:gd name="adj2" fmla="val 60175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ain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속성을 설정하지 않을 경우 기본적으로 쿠키를 생성한 서버에만 해당 쿠키가 전송된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427720" y="5298120"/>
            <a:ext cx="2160360" cy="1337760"/>
          </a:xfrm>
          <a:prstGeom prst="cloudCallout">
            <a:avLst>
              <a:gd name="adj1" fmla="val 71523"/>
              <a:gd name="adj2" fmla="val -61675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ain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속성은 다른 서버에서도 해당 쿠키가 동작하도록 하기 위해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ain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속성을 추가로 설정해서 사용한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.2.4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쿠키 읽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HTTP Header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로부터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Cookie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항목 읽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HTTP Heade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로부터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Cookie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항목을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형태로 읽는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Cookie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읽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public     Cookie[]     getCookies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71640" y="1628640"/>
            <a:ext cx="5986440" cy="85428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tring cookieValue = request.getHeader("Cookie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51280" y="2077920"/>
            <a:ext cx="2565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903040" y="2189160"/>
            <a:ext cx="270756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Header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로부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kie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항목을 문자열로 반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971640" y="4375080"/>
            <a:ext cx="5986440" cy="85428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Cookie[] cookies = request.getCookies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727360" y="4824360"/>
            <a:ext cx="1754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629080" y="4935600"/>
            <a:ext cx="201708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kie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를 읽어서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kie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배열로 반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7586640" y="3249720"/>
            <a:ext cx="671400" cy="83484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6327720" y="4919040"/>
            <a:ext cx="2027160" cy="1099440"/>
          </a:xfrm>
          <a:prstGeom prst="cloudCallout">
            <a:avLst>
              <a:gd name="adj1" fmla="val 45453"/>
              <a:gd name="adj2" fmla="val -122305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한 도메인에서 여러 개의 쿠키를 사용할 수 있기 때문에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kie[]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배열이 반환된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.2.5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실전 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쿠키에서 한글 사용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URLEncoder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클래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일반 문자열을 웹에서 통용되는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'x-www-form-urlencoded'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형식으로 변환하는 역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URLDecoder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클래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URLEncode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로 인코딩된 결과를 디코딩하는 클래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971640" y="2394000"/>
            <a:ext cx="6570720" cy="58428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Cookie cookie = new Cookie("name",  URLEncoder.encode("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이명진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")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971640" y="4599000"/>
            <a:ext cx="6570720" cy="58428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URLDecoder.decode( cookie.getValue( )   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410000" y="2532240"/>
            <a:ext cx="2517480" cy="3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URLEncoder.encode("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이명진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"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129320" y="4746600"/>
            <a:ext cx="1833480" cy="3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URLDecoder.decode(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548240" y="4738680"/>
            <a:ext cx="114480" cy="3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 flipH="1">
            <a:off x="7632360" y="3429000"/>
            <a:ext cx="988920" cy="88596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6372360" y="5144760"/>
            <a:ext cx="1844640" cy="860760"/>
          </a:xfrm>
          <a:prstGeom prst="cloudCallout">
            <a:avLst>
              <a:gd name="adj1" fmla="val 49898"/>
              <a:gd name="adj2" fmla="val -142888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인코딩을 해서 저장했기 때문에 당연히 디코딩을 해서 읽어야 한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79520" y="1267920"/>
            <a:ext cx="818496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8.3 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</a:rPr>
              <a:t>세션</a:t>
            </a:r>
            <a:endParaRPr b="1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2363400" y="3141720"/>
            <a:ext cx="445788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.3.1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세션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85920" y="1089000"/>
            <a:ext cx="837216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세션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Session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클라이언트와 서버간의 상태를 유지하기 위한 방법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클라이언트가 처음 접속했을 때 세션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를 부여하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서버에 세션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를 저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다시 클라이언트가 접속했을 때 부여된 세션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를 이용해서 클라이언트를 구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76200" y="2978280"/>
            <a:ext cx="8381880" cy="33303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700200" y="3187800"/>
            <a:ext cx="1260360" cy="96048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1959120" y="3195000"/>
            <a:ext cx="81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167360" y="3241080"/>
            <a:ext cx="89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184480" y="3608280"/>
            <a:ext cx="0" cy="2521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888080" y="3608280"/>
            <a:ext cx="0" cy="2521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319480" y="4135320"/>
            <a:ext cx="2431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319480" y="4314960"/>
            <a:ext cx="2431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819880" y="3787920"/>
            <a:ext cx="565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502000" y="3787920"/>
            <a:ext cx="298440" cy="30312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102360" y="3247920"/>
            <a:ext cx="2519280" cy="74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세션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가 존재하지 않는다면 세션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D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부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서버에 세션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와 메모리 공간 확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764160" y="4395960"/>
            <a:ext cx="72360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세션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부여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359160" y="4373640"/>
            <a:ext cx="298440" cy="30312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322360" y="5452920"/>
            <a:ext cx="2432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844000" y="5105520"/>
            <a:ext cx="1216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quest +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세션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505240" y="5105520"/>
            <a:ext cx="298440" cy="30312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973400" y="5765760"/>
            <a:ext cx="1097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ssion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6102360" y="4373640"/>
          <a:ext cx="2563920" cy="1349280"/>
        </p:xfrm>
        <a:graphic>
          <a:graphicData uri="http://schemas.openxmlformats.org/drawingml/2006/table">
            <a:tbl>
              <a:tblPr/>
              <a:tblGrid>
                <a:gridCol w="642960"/>
                <a:gridCol w="639720"/>
                <a:gridCol w="642960"/>
                <a:gridCol w="638280"/>
              </a:tblGrid>
              <a:tr h="338040">
                <a:tc gridSpan="4"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ssion Memo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6600">
                <a:tc gridSpan="2"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D: 350975BC23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D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040"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변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값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6600"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변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값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5067360" y="3205080"/>
            <a:ext cx="723960" cy="9446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3"/>
          <a:stretch/>
        </p:blipFill>
        <p:spPr>
          <a:xfrm>
            <a:off x="5111640" y="4965840"/>
            <a:ext cx="809640" cy="80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.3.2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쿠키와 세션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15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쿠키와 세션을 공통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클라이언트의 상태 유지를 위한 기능 제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쿠키와 세션의 차이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407880" y="2619360"/>
          <a:ext cx="8213760" cy="3600000"/>
        </p:xfrm>
        <a:graphic>
          <a:graphicData uri="http://schemas.openxmlformats.org/drawingml/2006/table">
            <a:tbl>
              <a:tblPr/>
              <a:tblGrid>
                <a:gridCol w="1689120"/>
                <a:gridCol w="3262320"/>
                <a:gridCol w="3262320"/>
              </a:tblGrid>
              <a:tr h="385200">
                <a:tc>
                  <a:txBody>
                    <a:bodyPr lIns="46800" rIns="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구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6800" rIns="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쿠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6800" rIns="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세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85200">
                <a:tc>
                  <a:txBody>
                    <a:bodyPr lIns="46800" rIns="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저장되는 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6800" rIns="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클라이언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서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46800" rIns="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저장되는 형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6800" rIns="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텍스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je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800">
                <a:tc>
                  <a:txBody>
                    <a:bodyPr lIns="46800" rIns="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만료시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6800" rIns="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쿠키 저장 시 설정 가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설정하지 않을 경우 브라우저 종료 시 소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클라이언트가 로그아웃 하거나 설정한 시간 동안 반응이 없을 경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46800" rIns="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리소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6800" rIns="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클라이언트의 리소스 사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서버의 리소스 사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7680">
                <a:tc>
                  <a:txBody>
                    <a:bodyPr lIns="46800" rIns="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용량 제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6800" rIns="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한 도메인 당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쿠키 하나당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K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총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서버가 허용하는 용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.3.3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세션 생성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JSP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페이지에서 세션 사용하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지시문을 이용해서 설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session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속성의 기본 값이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이기 때문에 생략해도 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session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객체 생성하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내장 객체로부터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getSession()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메소드를 이용해서 생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session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내장 객체를 사용해도 동일하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971640" y="1989000"/>
            <a:ext cx="6570720" cy="58428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%@page     session="true"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971640" y="4330800"/>
            <a:ext cx="6570720" cy="58428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HttpSession session = request.getSession(tru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0" y="6173640"/>
            <a:ext cx="9144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2600" y="6804000"/>
            <a:ext cx="9131400" cy="0"/>
          </a:xfrm>
          <a:prstGeom prst="line">
            <a:avLst/>
          </a:prstGeom>
          <a:ln w="12600">
            <a:solidFill>
              <a:srgbClr val="8c8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.3.4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세션 사용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새로운 세션 여부 출력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세션 아이디 출력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세션 생성시간 출력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마지막 접속시간 출력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세션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ctive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시간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971640" y="1494000"/>
            <a:ext cx="6570720" cy="58392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%=session.isNew()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971640" y="2619360"/>
            <a:ext cx="6570720" cy="58428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%=session.getId()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971640" y="3700440"/>
            <a:ext cx="6570720" cy="58428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%=new java.util.Date(session.getCreationTime()).toString()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971640" y="4824360"/>
            <a:ext cx="6570720" cy="58428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%=new java.util.Date(session.getLastAccessedTime()).toString()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971640" y="5905440"/>
            <a:ext cx="6570720" cy="58428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%=session.getMaxInactiveInterval()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353200" y="1089000"/>
            <a:ext cx="3674880" cy="229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0" y="6173640"/>
            <a:ext cx="9144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600" y="6804000"/>
            <a:ext cx="9131400" cy="0"/>
          </a:xfrm>
          <a:prstGeom prst="line">
            <a:avLst/>
          </a:prstGeom>
          <a:ln w="12600">
            <a:solidFill>
              <a:srgbClr val="8c8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.3.5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세션의 데이터 사용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85920" y="1089000"/>
            <a:ext cx="83721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세션에 데이터 저장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void setAttribute(java.lang.String name, java.lang.Object valu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세션으로부터 데이터 출력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java.lang.Object getAttribute(java.lang.String nam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세션으로부터 데이터 삭제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void removeAttribute(java.lang.String na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971640" y="1943280"/>
            <a:ext cx="5580000" cy="85392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ession.setAttribute( "userId",   "Grace"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860560" y="2392200"/>
            <a:ext cx="676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217960" y="2503440"/>
            <a:ext cx="108072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세션 데이터의 변수 이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762360" y="2392200"/>
            <a:ext cx="674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954240" y="2503440"/>
            <a:ext cx="76680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세션 데이터의 값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971640" y="3924360"/>
            <a:ext cx="5580000" cy="85392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(String)session.getAttribute( "userId"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551400" y="4373640"/>
            <a:ext cx="676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343320" y="4484520"/>
            <a:ext cx="108072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세션 데이터의 변수 이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6867360" y="3833640"/>
            <a:ext cx="2005200" cy="166212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6867360" y="1854360"/>
            <a:ext cx="2005200" cy="166212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4932360" y="3990600"/>
            <a:ext cx="1873080" cy="1337760"/>
          </a:xfrm>
          <a:prstGeom prst="cloudCallout">
            <a:avLst>
              <a:gd name="adj1" fmla="val 93638"/>
              <a:gd name="adj2" fmla="val 76606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Attribute()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메소드의 리턴 형이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이기 때문에 캐스팅을 해서 사용해야 한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 flipH="1">
            <a:off x="7857720" y="5094360"/>
            <a:ext cx="552600" cy="125100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971640" y="5815080"/>
            <a:ext cx="5580000" cy="85392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ession.removeAttribute( "userId"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325680" y="6264360"/>
            <a:ext cx="676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17960" y="6375240"/>
            <a:ext cx="108072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세션 데이터의 변수 이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71280" y="414360"/>
            <a:ext cx="8912160" cy="5851440"/>
            <a:chOff x="71280" y="414360"/>
            <a:chExt cx="8912160" cy="5851440"/>
          </a:xfrm>
        </p:grpSpPr>
        <p:grpSp>
          <p:nvGrpSpPr>
            <p:cNvPr id="97" name=""/>
            <p:cNvGrpSpPr/>
            <p:nvPr/>
          </p:nvGrpSpPr>
          <p:grpSpPr>
            <a:xfrm>
              <a:off x="71280" y="414360"/>
              <a:ext cx="8912160" cy="5851440"/>
              <a:chOff x="71280" y="414360"/>
              <a:chExt cx="8912160" cy="5851440"/>
            </a:xfrm>
          </p:grpSpPr>
          <p:sp>
            <p:nvSpPr>
              <p:cNvPr id="98" name=""/>
              <p:cNvSpPr/>
              <p:nvPr/>
            </p:nvSpPr>
            <p:spPr>
              <a:xfrm>
                <a:off x="71280" y="414360"/>
                <a:ext cx="8912160" cy="58514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3600" rIns="93600" tIns="46800" bIns="46800" anchor="ctr">
                <a:noAutofit/>
              </a:bodyPr>
              <a:p>
                <a:pPr algn="ctr">
                  <a:lnSpc>
                    <a:spcPct val="8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06280" y="639720"/>
                <a:ext cx="8642160" cy="54000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3600" rIns="93600" tIns="46800" bIns="46800" anchor="ctr">
                <a:noAutofit/>
              </a:bodyPr>
              <a:p>
                <a:pPr algn="ctr">
                  <a:lnSpc>
                    <a:spcPct val="8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2295360" y="5308560"/>
              <a:ext cx="457200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cc"/>
                  </a:solidFill>
                  <a:latin typeface="Times New Roman"/>
                </a:rPr>
                <a:t>이 명 진</a:t>
              </a:r>
              <a:r>
                <a:rPr b="0" lang="ko-KR" sz="900" spc="-1" strike="noStrike">
                  <a:solidFill>
                    <a:srgbClr val="0000cc"/>
                  </a:solidFill>
                  <a:latin typeface="Times New Roman"/>
                </a:rPr>
                <a:t>,  </a:t>
              </a:r>
              <a:r>
                <a:rPr b="0" lang="ko-KR" sz="900" spc="-1" strike="noStrike">
                  <a:solidFill>
                    <a:srgbClr val="0000cc"/>
                  </a:solidFill>
                  <a:latin typeface="Times New Roman"/>
                </a:rPr>
                <a:t>최 영 관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6699ff"/>
                  </a:solidFill>
                  <a:latin typeface="Times New Roman"/>
                  <a:ea typeface="바탕"/>
                </a:rPr>
                <a:t>Powered by http://www.jabook.or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45000" y="3286080"/>
              <a:ext cx="1827000" cy="180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800" rIns="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6600" spc="-1" strike="noStrike">
                  <a:solidFill>
                    <a:srgbClr val="6699ff"/>
                  </a:solidFill>
                  <a:latin typeface="휴먼모음T"/>
                  <a:ea typeface="휴먼모음T"/>
                </a:rPr>
                <a:t>2</a:t>
              </a:r>
              <a:r>
                <a:rPr b="0" lang="ko-KR" sz="2400" spc="-1" strike="noStrike">
                  <a:solidFill>
                    <a:srgbClr val="6699ff"/>
                  </a:solidFill>
                  <a:latin typeface="휴먼모음T"/>
                  <a:ea typeface="휴먼모음T"/>
                </a:rPr>
                <a:t>nd</a:t>
              </a:r>
              <a:r>
                <a:rPr b="0" lang="ko-KR" sz="1800" spc="-1" strike="noStrike">
                  <a:solidFill>
                    <a:srgbClr val="6699ff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6699ff"/>
                  </a:solidFill>
                  <a:latin typeface="휴먼모음T"/>
                  <a:ea typeface="휴먼모음T"/>
                </a:rPr>
                <a:t>Ed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218120" y="3338640"/>
              <a:ext cx="4741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800" rIns="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6699ff"/>
                  </a:solidFill>
                  <a:latin typeface="휴먼모음T"/>
                  <a:ea typeface="휴먼모음T"/>
                </a:rPr>
                <a:t>소설같은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614480" y="3603600"/>
              <a:ext cx="37368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800" rIns="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6699ff"/>
                  </a:solidFill>
                  <a:latin typeface="휴먼모음T"/>
                  <a:ea typeface="휴먼모음T"/>
                </a:rPr>
                <a:t>J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4808520" y="3398760"/>
              <a:ext cx="180720" cy="164880"/>
              <a:chOff x="4808520" y="3398760"/>
              <a:chExt cx="180720" cy="164880"/>
            </a:xfrm>
          </p:grpSpPr>
          <p:sp>
            <p:nvSpPr>
              <p:cNvPr id="105" name=""/>
              <p:cNvSpPr/>
              <p:nvPr/>
            </p:nvSpPr>
            <p:spPr>
              <a:xfrm>
                <a:off x="4808520" y="3398760"/>
                <a:ext cx="104040" cy="97920"/>
              </a:xfrm>
              <a:prstGeom prst="rect">
                <a:avLst/>
              </a:prstGeom>
              <a:noFill/>
              <a:ln w="93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80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833000" y="3465720"/>
                <a:ext cx="103680" cy="97920"/>
              </a:xfrm>
              <a:prstGeom prst="rect">
                <a:avLst/>
              </a:prstGeom>
              <a:noFill/>
              <a:ln w="93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80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885560" y="3422160"/>
                <a:ext cx="103680" cy="97920"/>
              </a:xfrm>
              <a:prstGeom prst="rect">
                <a:avLst/>
              </a:prstGeom>
              <a:noFill/>
              <a:ln w="93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80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4049640" y="4778280"/>
              <a:ext cx="1035000" cy="22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9" name="" descr=""/>
            <p:cNvPicPr/>
            <p:nvPr/>
          </p:nvPicPr>
          <p:blipFill>
            <a:blip r:embed="rId1"/>
            <a:stretch/>
          </p:blipFill>
          <p:spPr>
            <a:xfrm>
              <a:off x="957240" y="1449360"/>
              <a:ext cx="509760" cy="76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79520" y="1267920"/>
            <a:ext cx="8184960" cy="1243080"/>
          </a:xfrm>
          <a:prstGeom prst="rect">
            <a:avLst/>
          </a:prstGeom>
          <a:noFill/>
          <a:ln w="9360">
            <a:solidFill>
              <a:srgbClr val="6699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</a:rPr>
              <a:t>장 쿠키와 세션</a:t>
            </a:r>
            <a:endParaRPr b="1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4843440" y="3519360"/>
            <a:ext cx="4184640" cy="27003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.3.6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세션의 생명주기와 세션 종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세션의 생명주기 설정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void setMaxInactiveInterval(int interv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마지막으로 세션을 사용한 후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분이 지나면 세션 정보가 삭제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세션 종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void invalidate(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971640" y="2033640"/>
            <a:ext cx="5986440" cy="85392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ssion.setMaxInactiveInterval(60 * 1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781280" y="2482920"/>
            <a:ext cx="2655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318760" y="2593800"/>
            <a:ext cx="158004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세션의 생명주기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분으로 설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971640" y="4780080"/>
            <a:ext cx="3600360" cy="58392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ession.invalidate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4937040" y="3700440"/>
            <a:ext cx="677880" cy="51588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5562720" y="3700080"/>
            <a:ext cx="81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002360" y="366192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88080" y="4014720"/>
            <a:ext cx="0" cy="2070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723080" y="4014720"/>
            <a:ext cx="0" cy="2070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878440" y="4645080"/>
            <a:ext cx="1708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923440" y="4387680"/>
            <a:ext cx="48636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934040" y="4519440"/>
            <a:ext cx="45288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세션 생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23080" y="4689360"/>
            <a:ext cx="0" cy="630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559920" y="4846680"/>
            <a:ext cx="55008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분 경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878440" y="5769000"/>
            <a:ext cx="1711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923440" y="5769000"/>
            <a:ext cx="48636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813800" y="5005440"/>
            <a:ext cx="1068480" cy="49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ssion Time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세션 삭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821640" y="5319720"/>
            <a:ext cx="765000" cy="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932240" y="5657760"/>
            <a:ext cx="45288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세션 생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7858080" y="3699000"/>
            <a:ext cx="449280" cy="58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.3.7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실전 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알고 보면 세션도 쿠키이다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85920" y="1089000"/>
            <a:ext cx="83721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세션의 원리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알고 보면 세션도 쿠키를 이용해서 동작한다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76200" y="1854360"/>
            <a:ext cx="8381880" cy="4454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611280" y="2079720"/>
            <a:ext cx="1260360" cy="96048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1870200" y="2086920"/>
            <a:ext cx="81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688080" y="213300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095560" y="2500200"/>
            <a:ext cx="0" cy="371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408800" y="2500200"/>
            <a:ext cx="0" cy="3673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230560" y="2921040"/>
            <a:ext cx="5043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230560" y="4014720"/>
            <a:ext cx="50432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31320" y="2573280"/>
            <a:ext cx="565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413080" y="2573280"/>
            <a:ext cx="298440" cy="30312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886920" y="4081320"/>
            <a:ext cx="144288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쿠키를 이용해서 세션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부여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270240" y="4059360"/>
            <a:ext cx="298440" cy="30312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233440" y="6129360"/>
            <a:ext cx="5085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942640" y="5803920"/>
            <a:ext cx="173124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+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쿠키를 이용한 세션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416320" y="5781600"/>
            <a:ext cx="298440" cy="30312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527600" y="5991120"/>
            <a:ext cx="1097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ssion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7588080" y="2097000"/>
            <a:ext cx="723960" cy="94464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3"/>
          <a:stretch/>
        </p:blipFill>
        <p:spPr>
          <a:xfrm>
            <a:off x="7666200" y="5191200"/>
            <a:ext cx="809640" cy="80316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2556000" y="3024360"/>
            <a:ext cx="4448160" cy="94284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5"/>
          <a:stretch/>
        </p:blipFill>
        <p:spPr>
          <a:xfrm>
            <a:off x="2727360" y="4419720"/>
            <a:ext cx="4113000" cy="133668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2503440" y="3249720"/>
            <a:ext cx="4545000" cy="314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638440" y="5499000"/>
            <a:ext cx="4275000" cy="27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6"/>
          <a:stretch/>
        </p:blipFill>
        <p:spPr>
          <a:xfrm>
            <a:off x="5743440" y="3743280"/>
            <a:ext cx="765360" cy="509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4" name=""/>
          <p:cNvGraphicFramePr/>
          <p:nvPr/>
        </p:nvGraphicFramePr>
        <p:xfrm>
          <a:off x="792000" y="4172040"/>
          <a:ext cx="989280" cy="1373040"/>
        </p:xfrm>
        <a:graphic>
          <a:graphicData uri="http://schemas.openxmlformats.org/drawingml/2006/table">
            <a:tbl>
              <a:tblPr/>
              <a:tblGrid>
                <a:gridCol w="989280"/>
              </a:tblGrid>
              <a:tr h="276480"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ient Dis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okie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okie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okie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okie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75" name="" descr=""/>
          <p:cNvPicPr/>
          <p:nvPr/>
        </p:nvPicPr>
        <p:blipFill>
          <a:blip r:embed="rId7"/>
          <a:stretch/>
        </p:blipFill>
        <p:spPr>
          <a:xfrm>
            <a:off x="836640" y="3384720"/>
            <a:ext cx="990720" cy="42840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8"/>
          <a:stretch/>
        </p:blipFill>
        <p:spPr>
          <a:xfrm>
            <a:off x="4889520" y="1943280"/>
            <a:ext cx="1031760" cy="83628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6327720" y="823320"/>
            <a:ext cx="2673360" cy="1099440"/>
          </a:xfrm>
          <a:prstGeom prst="cloudCallout">
            <a:avLst>
              <a:gd name="adj1" fmla="val -59851"/>
              <a:gd name="adj2" fmla="val 85449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세션도 내부적으로는 쿠키를 이용하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쿠키와 마찬가지로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헤더를 이용해서 세션의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를 부여하고 전송한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 ██████████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0" y="0"/>
            <a:ext cx="9144000" cy="6850080"/>
          </a:xfrm>
          <a:prstGeom prst="rect">
            <a:avLst/>
          </a:prstGeom>
          <a:solidFill>
            <a:srgbClr val="ffeb97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3311640" y="2259000"/>
            <a:ext cx="2206440" cy="178920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6102360" y="5184720"/>
            <a:ext cx="2744640" cy="1130040"/>
          </a:xfrm>
          <a:prstGeom prst="rect">
            <a:avLst/>
          </a:prstGeom>
          <a:noFill/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0" spc="-1" strike="noStrike">
                <a:solidFill>
                  <a:srgbClr val="ffcc00"/>
                </a:solidFill>
                <a:latin typeface="Tahoma"/>
              </a:rPr>
              <a:t>End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79520" y="1267920"/>
            <a:ext cx="818496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8.1 HTTP, 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</a:rPr>
              <a:t>그리고 쿠키와 세션</a:t>
            </a:r>
            <a:endParaRPr b="1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2363400" y="3141720"/>
            <a:ext cx="445788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76200" y="3159000"/>
            <a:ext cx="8381880" cy="31053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.1.1 HTTP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HTTP(Hypertext Transfer Protocol)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란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인터넷에서 웹 서버와 사용자의 인터넷 브라우저 사이에 하이퍼텍스트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hypertext)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문서를 전송하기 위해 사용되는 프로토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HTTP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의 연결과 동작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927000" y="3324240"/>
            <a:ext cx="1260720" cy="9604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185920" y="3331440"/>
            <a:ext cx="81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46640" y="337752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11280" y="3745080"/>
            <a:ext cx="0" cy="2339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67360" y="3745080"/>
            <a:ext cx="0" cy="2339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46280" y="4149720"/>
            <a:ext cx="4186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46280" y="4329000"/>
            <a:ext cx="4186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331080" y="3789360"/>
            <a:ext cx="605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n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55200" y="4371840"/>
            <a:ext cx="565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13200" y="3789360"/>
            <a:ext cx="298440" cy="30312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13200" y="4375080"/>
            <a:ext cx="298440" cy="30312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46280" y="5318280"/>
            <a:ext cx="4186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29880" y="4956120"/>
            <a:ext cx="675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087880" y="4959360"/>
            <a:ext cx="298440" cy="30312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6281640" y="4734000"/>
            <a:ext cx="401760" cy="495360"/>
            <a:chOff x="6281640" y="4734000"/>
            <a:chExt cx="401760" cy="495360"/>
          </a:xfrm>
        </p:grpSpPr>
        <p:sp>
          <p:nvSpPr>
            <p:cNvPr id="131" name=""/>
            <p:cNvSpPr/>
            <p:nvPr/>
          </p:nvSpPr>
          <p:spPr>
            <a:xfrm>
              <a:off x="6281640" y="4734000"/>
              <a:ext cx="401760" cy="49536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26280" y="4824720"/>
              <a:ext cx="315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326280" y="4869000"/>
              <a:ext cx="181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326280" y="4913640"/>
              <a:ext cx="2696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26280" y="4959720"/>
              <a:ext cx="315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416640" y="5004000"/>
              <a:ext cx="135000" cy="903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800" rIns="0" tIns="43560" bIns="435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326280" y="5139000"/>
              <a:ext cx="2696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4098240" y="5318280"/>
            <a:ext cx="118584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/1.1 20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54000" y="5732640"/>
            <a:ext cx="416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o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11280" y="5735520"/>
            <a:ext cx="298440" cy="30348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000200" y="4935600"/>
            <a:ext cx="1035000" cy="5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trieve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rom D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09480" y="4329000"/>
            <a:ext cx="216144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GET www.jabook.co.kr HTTP/1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7053120" y="3294000"/>
            <a:ext cx="723960" cy="9446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1827360" y="5094360"/>
            <a:ext cx="433080" cy="44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.1.2 HTT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의 극복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HTTP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의 특징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작업을 마치면 연결을 해제하는 방식으로 동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의 지속성이 없기 때문에 각각의 클라이언트를 구분할 수 없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TCP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프로토콜의 구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지속적인 연결을 유지하지 않는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stateless)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프로토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지속적인 연결을 유지하는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stateful)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프로토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FTP, Tel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HTTP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에서 상태를 유지하기 위한 방법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URL Rewri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Cook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07000" y="5297400"/>
            <a:ext cx="310644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dden Form Fie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7677000" y="2843280"/>
            <a:ext cx="933480" cy="10713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6821640" y="4693680"/>
            <a:ext cx="1873080" cy="860400"/>
          </a:xfrm>
          <a:prstGeom prst="cloudCallout">
            <a:avLst>
              <a:gd name="adj1" fmla="val 25745"/>
              <a:gd name="adj2" fmla="val -130925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쿠키와 세션 또한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에서 상태 유지를 위한 하나의 방법이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.1.3 URL Rewrit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RL Rewriting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상태 유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T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형식에서만 사용 가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다른 페이지로 이동할 때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RL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의 뒷 부분에 정보를 가지고 다니는 방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RL Rewrit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의 문제점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정보의 양이 제한되어 있으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보안의 문제가 있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76280" y="2754360"/>
            <a:ext cx="2295360" cy="17920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426360" y="2900520"/>
            <a:ext cx="2286000" cy="15094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566640" y="3970440"/>
            <a:ext cx="855720" cy="314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38760" y="3249720"/>
            <a:ext cx="3145680" cy="3268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URLRewritingB.jsp?id=OnlyJi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7362720" y="4734000"/>
            <a:ext cx="636840" cy="10792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4257720" y="4182840"/>
            <a:ext cx="2027160" cy="860760"/>
          </a:xfrm>
          <a:prstGeom prst="cloudCallout">
            <a:avLst>
              <a:gd name="adj1" fmla="val 95009"/>
              <a:gd name="adj2" fmla="val 68393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L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뒤에 정보가 가지고 다니기 때문에 보다시피 보안에 취약할 수 밖에 없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8" name=""/>
          <p:cNvCxnSpPr>
            <a:stCxn id="152" idx="3"/>
            <a:endCxn id="153" idx="1"/>
          </p:cNvCxnSpPr>
          <p:nvPr/>
        </p:nvCxnSpPr>
        <p:spPr>
          <a:xfrm>
            <a:off x="2771640" y="3651120"/>
            <a:ext cx="3655440" cy="5760"/>
          </a:xfrm>
          <a:prstGeom prst="straightConnector1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.1.4 Hidden Form Fiel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idden Form Fiel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T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방식으로 처리하기 위한 방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의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form&gt;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태그와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input&gt;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태그의 숨겨진 텍스트 필드를 이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idden Form Fiel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의 문제점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텍스트 필드를 이용해서 값을 계속 가지고 다녀야 하는 번거로움이 있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12720" y="2529000"/>
            <a:ext cx="2292480" cy="18129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6149880" y="2682720"/>
            <a:ext cx="2292480" cy="1500480"/>
          </a:xfrm>
          <a:prstGeom prst="rect">
            <a:avLst/>
          </a:prstGeom>
          <a:ln w="0">
            <a:noFill/>
          </a:ln>
        </p:spPr>
      </p:pic>
      <p:cxnSp>
        <p:nvCxnSpPr>
          <p:cNvPr id="163" name=""/>
          <p:cNvCxnSpPr>
            <a:stCxn id="161" idx="3"/>
            <a:endCxn id="162" idx="1"/>
          </p:cNvCxnSpPr>
          <p:nvPr/>
        </p:nvCxnSpPr>
        <p:spPr>
          <a:xfrm flipV="1">
            <a:off x="2904840" y="3432960"/>
            <a:ext cx="3245400" cy="2520"/>
          </a:xfrm>
          <a:prstGeom prst="straightConnector1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sp>
        <p:nvSpPr>
          <p:cNvPr id="164" name=""/>
          <p:cNvSpPr/>
          <p:nvPr/>
        </p:nvSpPr>
        <p:spPr>
          <a:xfrm>
            <a:off x="701640" y="3790800"/>
            <a:ext cx="405000" cy="314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762920" y="4510080"/>
            <a:ext cx="1419120" cy="275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dden Form Fie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" name=""/>
          <p:cNvCxnSpPr>
            <a:stCxn id="165" idx="1"/>
            <a:endCxn id="164" idx="3"/>
          </p:cNvCxnSpPr>
          <p:nvPr/>
        </p:nvCxnSpPr>
        <p:spPr>
          <a:xfrm rot="10800000">
            <a:off x="1125360" y="3947400"/>
            <a:ext cx="643320" cy="699120"/>
          </a:xfrm>
          <a:prstGeom prst="curvedConnector5">
            <a:avLst>
              <a:gd name="adj1" fmla="val 51623"/>
              <a:gd name="adj2" fmla="val 49974"/>
              <a:gd name="adj3" fmla="val 51623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3597120" y="2944800"/>
            <a:ext cx="900360" cy="7984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4450680" y="3084480"/>
            <a:ext cx="106704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id=OnlyJi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79520" y="1267920"/>
            <a:ext cx="818496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8.2 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</a:rPr>
              <a:t>쿠키</a:t>
            </a:r>
            <a:endParaRPr b="1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2363400" y="3141720"/>
            <a:ext cx="445788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6173640"/>
            <a:ext cx="9144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600" y="6804000"/>
            <a:ext cx="9131400" cy="0"/>
          </a:xfrm>
          <a:prstGeom prst="line">
            <a:avLst/>
          </a:prstGeom>
          <a:ln w="12600">
            <a:solidFill>
              <a:srgbClr val="8c8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6920" y="3473280"/>
            <a:ext cx="8740800" cy="3286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.2.1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쿠키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쿠키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ookie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의 상태 유지를 위한 방법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클라이언트의 상태 정보를 클라이언트의 하드 디스크에 저장한 후 필요 시 저장된 쿠키를 읽어서 클라이언트를 식별하는 방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쿠키란 서버가 클라이언트에 전송하여 저장하는 텍스트 조각을 의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쿠키의 동작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41280" y="3503520"/>
            <a:ext cx="1260360" cy="9604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600200" y="3421800"/>
            <a:ext cx="81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246640" y="342828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825560" y="3789360"/>
            <a:ext cx="0" cy="2925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967360" y="3789360"/>
            <a:ext cx="0" cy="2925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60560" y="5724360"/>
            <a:ext cx="3871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960560" y="6669000"/>
            <a:ext cx="3871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4660920" y="5378400"/>
            <a:ext cx="450720" cy="3002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6883560" y="3519360"/>
            <a:ext cx="622080" cy="7207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2701080" y="4194000"/>
            <a:ext cx="565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382840" y="4194000"/>
            <a:ext cx="298440" cy="30348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960560" y="4554360"/>
            <a:ext cx="3871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06560" y="5416560"/>
            <a:ext cx="155736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를 이용해서 쿠키 전송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32000" y="5394240"/>
            <a:ext cx="298440" cy="30312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694320" y="6343560"/>
            <a:ext cx="168696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를 이용해서 쿠키 정보 획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059280" y="6321600"/>
            <a:ext cx="298440" cy="30312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477720" y="5138640"/>
          <a:ext cx="989280" cy="1373400"/>
        </p:xfrm>
        <a:graphic>
          <a:graphicData uri="http://schemas.openxmlformats.org/drawingml/2006/table">
            <a:tbl>
              <a:tblPr/>
              <a:tblGrid>
                <a:gridCol w="989280"/>
              </a:tblGrid>
              <a:tr h="276480"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ient Dis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okie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okie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okie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okie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"/>
          <p:cNvSpPr/>
          <p:nvPr/>
        </p:nvSpPr>
        <p:spPr>
          <a:xfrm>
            <a:off x="6102360" y="5100480"/>
            <a:ext cx="2744640" cy="104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쿠키 생성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생성된 쿠키를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 Header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에 포함시켜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로 전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클라이언트 영역에 자료 보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102360" y="6154560"/>
            <a:ext cx="2744640" cy="5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클라이언트에 보관한 정보 추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쿠키 정보 활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694640" y="3989880"/>
            <a:ext cx="568440" cy="383040"/>
          </a:xfrm>
          <a:prstGeom prst="cloudCallout">
            <a:avLst>
              <a:gd name="adj1" fmla="val -88226"/>
              <a:gd name="adj2" fmla="val -87837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휴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4"/>
          <a:srcRect l="0" t="71859" r="0" b="0"/>
          <a:stretch/>
        </p:blipFill>
        <p:spPr>
          <a:xfrm>
            <a:off x="2513160" y="5834160"/>
            <a:ext cx="2733480" cy="423720"/>
          </a:xfrm>
          <a:prstGeom prst="rect">
            <a:avLst/>
          </a:prstGeom>
          <a:ln w="9360">
            <a:solidFill>
              <a:srgbClr val="777777"/>
            </a:solidFill>
            <a:miter/>
          </a:ln>
        </p:spPr>
      </p:pic>
      <p:pic>
        <p:nvPicPr>
          <p:cNvPr id="197" name="" descr=""/>
          <p:cNvPicPr/>
          <p:nvPr/>
        </p:nvPicPr>
        <p:blipFill>
          <a:blip r:embed="rId5"/>
          <a:srcRect l="0" t="0" r="0" b="33882"/>
          <a:stretch/>
        </p:blipFill>
        <p:spPr>
          <a:xfrm>
            <a:off x="2185920" y="4686480"/>
            <a:ext cx="3465720" cy="663480"/>
          </a:xfrm>
          <a:prstGeom prst="rect">
            <a:avLst/>
          </a:prstGeom>
          <a:ln w="9360">
            <a:solidFill>
              <a:srgbClr val="777777"/>
            </a:solidFill>
            <a:miter/>
          </a:ln>
        </p:spPr>
      </p:pic>
      <p:sp>
        <p:nvSpPr>
          <p:cNvPr id="198" name=""/>
          <p:cNvSpPr/>
          <p:nvPr/>
        </p:nvSpPr>
        <p:spPr>
          <a:xfrm>
            <a:off x="2097000" y="4956120"/>
            <a:ext cx="3645000" cy="27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62680" y="4641840"/>
            <a:ext cx="1492200" cy="275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sponse's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48400" y="5985000"/>
            <a:ext cx="1391760" cy="275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quest's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411280" y="5942160"/>
            <a:ext cx="1440000" cy="315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6"/>
          <a:stretch/>
        </p:blipFill>
        <p:spPr>
          <a:xfrm>
            <a:off x="6146640" y="3519360"/>
            <a:ext cx="723960" cy="9446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7"/>
          <a:stretch/>
        </p:blipFill>
        <p:spPr>
          <a:xfrm>
            <a:off x="522360" y="4621320"/>
            <a:ext cx="990360" cy="428400"/>
          </a:xfrm>
          <a:prstGeom prst="rect">
            <a:avLst/>
          </a:prstGeom>
          <a:ln w="0">
            <a:noFill/>
          </a:ln>
        </p:spPr>
      </p:pic>
      <p:cxnSp>
        <p:nvCxnSpPr>
          <p:cNvPr id="204" name=""/>
          <p:cNvCxnSpPr>
            <a:stCxn id="189" idx="2"/>
            <a:endCxn id="198" idx="1"/>
          </p:cNvCxnSpPr>
          <p:nvPr/>
        </p:nvCxnSpPr>
        <p:spPr>
          <a:xfrm rot="10800000">
            <a:off x="2077200" y="5090400"/>
            <a:ext cx="154800" cy="456480"/>
          </a:xfrm>
          <a:prstGeom prst="curvedConnector5">
            <a:avLst>
              <a:gd name="adj1" fmla="val 196736"/>
              <a:gd name="adj2" fmla="val 49960"/>
              <a:gd name="adj3" fmla="val 196736"/>
            </a:avLst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cxnSp>
        <p:nvCxnSpPr>
          <p:cNvPr id="205" name=""/>
          <p:cNvCxnSpPr>
            <a:stCxn id="191" idx="2"/>
            <a:endCxn id="201" idx="1"/>
          </p:cNvCxnSpPr>
          <p:nvPr/>
        </p:nvCxnSpPr>
        <p:spPr>
          <a:xfrm rot="10800000">
            <a:off x="2391480" y="6100200"/>
            <a:ext cx="667800" cy="373680"/>
          </a:xfrm>
          <a:prstGeom prst="curvedConnector5">
            <a:avLst>
              <a:gd name="adj1" fmla="val 131391"/>
              <a:gd name="adj2" fmla="val 49951"/>
              <a:gd name="adj3" fmla="val 131391"/>
            </a:avLst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4T05:03:27Z</dcterms:created>
  <dc:creator>최영관</dc:creator>
  <dc:description/>
  <cp:keywords>프로그래밍 언어</cp:keywords>
  <dc:language>en-US</dc:language>
  <cp:lastModifiedBy>m</cp:lastModifiedBy>
  <cp:lastPrinted>1999-07-19T06:05:37Z</cp:lastPrinted>
  <dcterms:modified xsi:type="dcterms:W3CDTF">2008-04-11T02:01:13Z</dcterms:modified>
  <cp:revision>8401</cp:revision>
  <dc:subject/>
  <dc:title>프로그래밍 언어</dc:title>
</cp:coreProperties>
</file>