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29.png" ContentType="image/png"/>
  <Override PartName="/ppt/media/image3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.wmf" ContentType="image/x-wmf"/>
  <Override PartName="/ppt/media/image26.wmf" ContentType="image/x-wmf"/>
  <Override PartName="/ppt/media/image28.png" ContentType="image/png"/>
  <Override PartName="/ppt/media/image31.wmf" ContentType="image/x-wmf"/>
  <Override PartName="/ppt/media/image1.wmf" ContentType="image/x-wmf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B7C-222F-4A67-8017-6906B429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606-7F79-48BA-B592-C1D599E5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E8F-44E1-4B88-A4ED-0DB60873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7AA-CAA5-40F9-9245-E2B7E9D2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30C5-003B-48D8-949A-B6D0F1DC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03E0-413E-4964-ABB5-45CFC5B1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7716-1A7F-44C6-876C-5B100E7A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C785-1162-4722-8447-78429675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2DA3-97A7-498C-B146-8D735A9C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1EA2-C29B-4E32-850B-A95358AB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A3DF-AD33-401C-97D8-E2E6A04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237-3C22-49D4-8218-60BD687C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15B3-9792-4E95-BAE9-71932A16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78E0-0B92-405B-8622-00F23251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54E6-A4EA-413A-9DCA-E72A4880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E775-A558-4D6F-8EA3-CD24CF5D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933B-8D58-4681-8A54-DC9A822A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5F6-A9A4-429F-B000-152756E0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B8E-7447-4AEB-B298-D2A14BC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6E7-1E52-4FE1-8761-5FC58798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104-E67D-4F4B-85DD-D3AA4FAA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3EE-53E9-47B1-8FDF-79D2FD4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232-A1CA-4DD5-9E41-9E5F6A0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969-27A1-4A2F-B89C-D76F4EA7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4FA7-F424-4079-B7DC-50F3395294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D135-A23C-4A03-A61B-F970FF468D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0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간단한 데이터베이스 프로그래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.sq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패키지 임포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DBC Drive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로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연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정의 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로부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반환 결과 처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연결 닫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1449360"/>
            <a:ext cx="6526080" cy="40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@page import="java.sql.*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2214720"/>
            <a:ext cx="6526080" cy="406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lass.forName("com.mysql.jdbc.Driv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3024360"/>
            <a:ext cx="6526080" cy="396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 conn = DriverManager.getConnection(url, id, passwor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3832200"/>
            <a:ext cx="6526080" cy="40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atement stmt = conn.createStat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128080" y="1042920"/>
            <a:ext cx="895320" cy="1071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57720" y="1137240"/>
            <a:ext cx="2630520" cy="1337760"/>
          </a:xfrm>
          <a:prstGeom prst="cloudCallout">
            <a:avLst>
              <a:gd name="adj1" fmla="val 73162"/>
              <a:gd name="adj2" fmla="val -2681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드라이버는 자신의 데이터베이스에 맞는 드라이버를 사용해야 하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반드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드라이버를 클래스 패스에 포함시켜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(1.4.13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참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599000"/>
            <a:ext cx="6526080" cy="40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ultSet rs = stmt.executeQuery("select * from NovelJS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6264360"/>
            <a:ext cx="6526080" cy="399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s.close();   stmt.close();   conn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5408640"/>
            <a:ext cx="6526080" cy="404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rs.next()) { out.print(rs.getString(1) + ", " + rs.getInt(2) + "&lt;br&gt;"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993080" y="2889360"/>
            <a:ext cx="933480" cy="1071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246640" y="3479400"/>
            <a:ext cx="2584440" cy="1099080"/>
          </a:xfrm>
          <a:prstGeom prst="cloudCallout">
            <a:avLst>
              <a:gd name="adj1" fmla="val 68537"/>
              <a:gd name="adj2" fmla="val -5700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어떤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질의를 실행하느냐에 따라 반환 결과가 없을 수도 있기 때문에 반환 결과를 처리할 필요가 없을 때도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102360" y="5770440"/>
            <a:ext cx="636480" cy="1079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470720" y="5458680"/>
            <a:ext cx="1557360" cy="621720"/>
          </a:xfrm>
          <a:prstGeom prst="cloudCallout">
            <a:avLst>
              <a:gd name="adj1" fmla="val -98092"/>
              <a:gd name="adj2" fmla="val 2314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사용 후에는 반드시 닫아 주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.4 Conne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인터페이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데이터베이스에 접근하기 위한 객체를 생성하는 인터페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객체의 생성 방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드라이버 로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객체를 생성하는 두 가지 방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종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065400"/>
            <a:ext cx="652608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lass.forName("com.mysql.jdbc.Driv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4032360"/>
            <a:ext cx="6526080" cy="485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 conn = DriverManager.getConnection(url, user, passwor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5769000"/>
            <a:ext cx="652608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4653000"/>
            <a:ext cx="6526080" cy="485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 conn = DriverManager.getConnection(ur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431040" y="3753000"/>
            <a:ext cx="2641680" cy="3006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067360" y="1943280"/>
            <a:ext cx="606240" cy="934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327720" y="2444040"/>
            <a:ext cx="2673360" cy="1337760"/>
          </a:xfrm>
          <a:prstGeom prst="cloudCallout">
            <a:avLst>
              <a:gd name="adj1" fmla="val -73143"/>
              <a:gd name="adj2" fmla="val -6918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드라이버는 자신의 데이터베이스에 맞는 드라이버를 사용해야 하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반드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드라이버를 클래스 패스에 포함시켜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(1.4.13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참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.5 Stat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인터페이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질의문을 실행하고 실행 결과를 가져오기 위한 인터페이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의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질의문 실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결과 값이 없을 경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sert, update, delete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사용 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결과 값이 있을 경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elect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사용 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 종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1640" y="2664000"/>
            <a:ext cx="5491080" cy="49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atement stmt = conn.createStat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4010040"/>
            <a:ext cx="549108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mt.executeUpdate(String 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5000760"/>
            <a:ext cx="5491080" cy="49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ultSet rs = stmt.executeQuery(String 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6084720"/>
            <a:ext cx="549108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mt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607000" y="1943280"/>
            <a:ext cx="579600" cy="906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116840" y="1572840"/>
            <a:ext cx="2027160" cy="860760"/>
          </a:xfrm>
          <a:prstGeom prst="cloudCallout">
            <a:avLst>
              <a:gd name="adj1" fmla="val -91564"/>
              <a:gd name="adj2" fmla="val 3361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질의문을 실행 한 후 결과 값의 유무에 따라 적절한 메소드를 골라 써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67360" y="2979720"/>
            <a:ext cx="2125800" cy="1825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551640" y="4869000"/>
            <a:ext cx="2442960" cy="18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.6 ResultS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5560" y="1089000"/>
            <a:ext cx="54464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e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인터페이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uteQuery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의 반환 결과가 저장된 인터페이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조회 결과를 가리키는 커서를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e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의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레코드 질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Se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조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Se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 종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3065400"/>
            <a:ext cx="594036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ultSet rs = stmt.executeQuery("select * from NovelJS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3968640"/>
            <a:ext cx="5940360" cy="171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rs.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rs.getString(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rs.getInt("age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6170760"/>
            <a:ext cx="5940360" cy="49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s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72360" y="1042920"/>
            <a:ext cx="2609640" cy="193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16640" y="4513320"/>
            <a:ext cx="1525680" cy="220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7542360" y="1568520"/>
          <a:ext cx="1304640" cy="909360"/>
        </p:xfrm>
        <a:graphic>
          <a:graphicData uri="http://schemas.openxmlformats.org/drawingml/2006/table">
            <a:tbl>
              <a:tblPr/>
              <a:tblGrid>
                <a:gridCol w="651960"/>
                <a:gridCol w="652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이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나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이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나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이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나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7200720" y="210996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00720" y="221940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00720" y="190512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00720" y="179532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84520" y="158904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84520" y="147960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8" idx="1"/>
            <a:endCxn id="257" idx="1"/>
          </p:cNvCxnSpPr>
          <p:nvPr/>
        </p:nvCxnSpPr>
        <p:spPr>
          <a:xfrm flipH="1" flipV="1" rot="10800000">
            <a:off x="7525080" y="1757880"/>
            <a:ext cx="16920" cy="207000"/>
          </a:xfrm>
          <a:prstGeom prst="bentConnector3">
            <a:avLst>
              <a:gd name="adj1" fmla="val -143913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6" idx="1"/>
            <a:endCxn id="254" idx="1"/>
          </p:cNvCxnSpPr>
          <p:nvPr/>
        </p:nvCxnSpPr>
        <p:spPr>
          <a:xfrm flipH="1" flipV="1" rot="10800000">
            <a:off x="7542000" y="2074680"/>
            <a:ext cx="2160" cy="205200"/>
          </a:xfrm>
          <a:prstGeom prst="bentConnector3">
            <a:avLst>
              <a:gd name="adj1" fmla="val -144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200720" y="239868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00720" y="129852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3" idx="1"/>
            <a:endCxn id="259" idx="1"/>
          </p:cNvCxnSpPr>
          <p:nvPr/>
        </p:nvCxnSpPr>
        <p:spPr>
          <a:xfrm flipV="1" rot="10800000">
            <a:off x="7525440" y="1467360"/>
            <a:ext cx="16920" cy="181800"/>
          </a:xfrm>
          <a:prstGeom prst="bentConnector3">
            <a:avLst>
              <a:gd name="adj1" fmla="val 153913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5" idx="1"/>
            <a:endCxn id="262" idx="1"/>
          </p:cNvCxnSpPr>
          <p:nvPr/>
        </p:nvCxnSpPr>
        <p:spPr>
          <a:xfrm flipH="1" flipV="1" rot="10800000">
            <a:off x="7542000" y="2388960"/>
            <a:ext cx="2160" cy="180000"/>
          </a:xfrm>
          <a:prstGeom prst="bentConnector3">
            <a:avLst>
              <a:gd name="adj1" fmla="val -144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6255720" y="1433520"/>
            <a:ext cx="1410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rs.nex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55720" y="1717560"/>
            <a:ext cx="1410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rs.nex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55720" y="2031840"/>
            <a:ext cx="1410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rs.nex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55720" y="2346480"/>
            <a:ext cx="1410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rs.nex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1440" y="2630520"/>
            <a:ext cx="1162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2160" y="1042920"/>
            <a:ext cx="164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947000" y="3203640"/>
            <a:ext cx="579600" cy="934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157720" y="3884040"/>
            <a:ext cx="2027160" cy="1099440"/>
          </a:xfrm>
          <a:prstGeom prst="cloudCallout">
            <a:avLst>
              <a:gd name="adj1" fmla="val 81708"/>
              <a:gd name="adj2" fmla="val -5402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데이터베이스에 저장된 데이터의 타입에 맞추어 적당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~()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를 사용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4720" y="433080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73560" y="4441680"/>
            <a:ext cx="8582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다음 레코드로 이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47880" y="1281240"/>
            <a:ext cx="11412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시작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.7 PreparedStat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paredStatemen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인터페이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반복되는 질의문을 수행하기 위한 인터페이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미리 컴파일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문을 사용하기 때문에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 비해 실행 속도가 빠르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paredStatemen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의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edStatemen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질의문 실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edStatemen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 종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3068640"/>
            <a:ext cx="6435720" cy="11206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Insert into NovelJSP (name, age) value (?,     ?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edStatement pstmt = conn.prepareStatement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6129360"/>
            <a:ext cx="643572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stmt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45080" y="34732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160" y="3584520"/>
            <a:ext cx="6570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위치표시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51520" y="3473280"/>
            <a:ext cx="150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77520" y="3584520"/>
            <a:ext cx="6570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위치표시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4600440"/>
            <a:ext cx="6435720" cy="112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stmt.setString(1, "Grac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stmt.setInt(2, 2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stmt.executeUp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9520" y="464328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33440" y="500364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59160" y="313380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63800" y="315900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88" idx="3"/>
            <a:endCxn id="290" idx="0"/>
          </p:cNvCxnSpPr>
          <p:nvPr/>
        </p:nvCxnSpPr>
        <p:spPr>
          <a:xfrm flipV="1">
            <a:off x="3492360" y="3133080"/>
            <a:ext cx="2129760" cy="1680120"/>
          </a:xfrm>
          <a:prstGeom prst="curvedConnector5">
            <a:avLst>
              <a:gd name="adj1" fmla="val 170464"/>
              <a:gd name="adj2" fmla="val 76918"/>
              <a:gd name="adj3" fmla="val 170464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93" name=""/>
          <p:cNvCxnSpPr>
            <a:stCxn id="289" idx="3"/>
            <a:endCxn id="291" idx="0"/>
          </p:cNvCxnSpPr>
          <p:nvPr/>
        </p:nvCxnSpPr>
        <p:spPr>
          <a:xfrm flipV="1">
            <a:off x="2816280" y="3158640"/>
            <a:ext cx="3210480" cy="2015280"/>
          </a:xfrm>
          <a:prstGeom prst="curvedConnector5">
            <a:avLst>
              <a:gd name="adj1" fmla="val 139755"/>
              <a:gd name="adj2" fmla="val 61532"/>
              <a:gd name="adj3" fmla="val 13975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629400" y="4643280"/>
            <a:ext cx="2443320" cy="2117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8217000" y="3811680"/>
            <a:ext cx="689040" cy="9666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183440" y="2174400"/>
            <a:ext cx="1844640" cy="1099080"/>
          </a:xfrm>
          <a:prstGeom prst="cloudCallout">
            <a:avLst>
              <a:gd name="adj1" fmla="val 30874"/>
              <a:gd name="adj2" fmla="val 9590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reparedStatement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인터페이스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et~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는 인자로 위치 표시자와 값을 갖는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.3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데이터베이스 실전 프로그래밍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988920"/>
            <a:ext cx="9144000" cy="534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6200" y="2708280"/>
            <a:ext cx="8381880" cy="12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5920" y="1089000"/>
            <a:ext cx="8381880" cy="12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3.1 Factor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기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actory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기법이란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와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위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actory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래스를 활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actory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래스를 이용하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actory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기법의 장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코드의 중복성을 줄이고 간결한 코딩이 가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재사용성을 높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0560" y="4643280"/>
            <a:ext cx="1847880" cy="10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actory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43440" y="4643280"/>
            <a:ext cx="1847880" cy="10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0920" y="4373640"/>
            <a:ext cx="1620720" cy="1395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8440" y="5003640"/>
            <a:ext cx="1575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8440" y="5318280"/>
            <a:ext cx="1575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53160" y="4687920"/>
            <a:ext cx="1994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요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53160" y="5303880"/>
            <a:ext cx="1994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제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30920" y="4778280"/>
            <a:ext cx="1125360" cy="720720"/>
          </a:xfrm>
          <a:custGeom>
            <a:avLst/>
            <a:gdLst>
              <a:gd name="textAreaLeft" fmla="*/ 150480 w 1125360"/>
              <a:gd name="textAreaRight" fmla="*/ 974880 w 1125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71080" y="5710320"/>
            <a:ext cx="1994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42000" y="5175360"/>
            <a:ext cx="855720" cy="4586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3.2 ConnectionFactor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작성과 활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nnectionFactory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actoryTest.jsp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nnectionFactory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임포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1538280"/>
            <a:ext cx="6435720" cy="26607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ConnectionFacto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onnection createConnectio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 conn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lass.forName("com.mysql.jdbc.Driv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 = DriverManager.getConnection(url, user, passwor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catch(Exception e) {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turn con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948440" y="1808280"/>
            <a:ext cx="989280" cy="8856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607000" y="1334880"/>
            <a:ext cx="2475000" cy="621720"/>
          </a:xfrm>
          <a:prstGeom prst="cloudCallout">
            <a:avLst>
              <a:gd name="adj1" fmla="val 57240"/>
              <a:gd name="adj2" fmla="val 7060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NotFoundExcep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처리가 필요하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0360" y="288936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21080" y="261936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320" idx="0"/>
            <a:endCxn id="322" idx="3"/>
          </p:cNvCxnSpPr>
          <p:nvPr/>
        </p:nvCxnSpPr>
        <p:spPr>
          <a:xfrm rot="5400000">
            <a:off x="5895360" y="1839600"/>
            <a:ext cx="857880" cy="104220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7702560" y="3209040"/>
            <a:ext cx="1441440" cy="621720"/>
          </a:xfrm>
          <a:prstGeom prst="cloudCallout">
            <a:avLst>
              <a:gd name="adj1" fmla="val -13773"/>
              <a:gd name="adj2" fmla="val -16695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LExcep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처리가 필요하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4" idx="0"/>
            <a:endCxn id="321" idx="3"/>
          </p:cNvCxnSpPr>
          <p:nvPr/>
        </p:nvCxnSpPr>
        <p:spPr>
          <a:xfrm rot="10800000">
            <a:off x="7152480" y="3058560"/>
            <a:ext cx="554760" cy="462600"/>
          </a:xfrm>
          <a:prstGeom prst="curvedConnector5">
            <a:avLst>
              <a:gd name="adj1" fmla="val 50389"/>
              <a:gd name="adj2" fmla="val 50000"/>
              <a:gd name="adj3" fmla="val 50389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971640" y="5997600"/>
            <a:ext cx="6570720" cy="7621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Factory connFactory = ConnectionFactory.getDefaultFactor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 conn = connFactory.createConnec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5003640"/>
            <a:ext cx="657072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page import="jabook.sql.ConnectionFactory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547040" y="4059360"/>
            <a:ext cx="152568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3.3 Pooling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기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5920" y="1042920"/>
            <a:ext cx="837216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oling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기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미리 여러 개의 데이터베이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을 생성해서 보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이 필요할 때마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 Poo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로부터 하나씩 꺼내서 사용하고 사용이 끝나면 다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을 보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 Poo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이 데이터베이스의 연결과 해제를 직접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oling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기법의 장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속도 향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원 공유 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 제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5920" y="2529000"/>
            <a:ext cx="8912160" cy="306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1200" y="2664000"/>
            <a:ext cx="184788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ooling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2752560"/>
            <a:ext cx="18493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87640" y="3473280"/>
            <a:ext cx="1849680" cy="207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338720" y="3697200"/>
          <a:ext cx="1022400" cy="1441080"/>
        </p:xfrm>
        <a:graphic>
          <a:graphicData uri="http://schemas.openxmlformats.org/drawingml/2006/table">
            <a:tbl>
              <a:tblPr/>
              <a:tblGrid>
                <a:gridCol w="10224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3768120" y="5168880"/>
            <a:ext cx="2122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nection P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27640" y="3743280"/>
            <a:ext cx="855720" cy="260280"/>
          </a:xfrm>
          <a:prstGeom prst="ellipse">
            <a:avLst/>
          </a:prstGeom>
          <a:noFill/>
          <a:ln w="9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4113360"/>
            <a:ext cx="855720" cy="260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4471920"/>
            <a:ext cx="855720" cy="260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80120" y="2573280"/>
            <a:ext cx="1847880" cy="7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04040" y="4373640"/>
            <a:ext cx="1620720" cy="1170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7554240" y="3494880"/>
            <a:ext cx="944640" cy="720720"/>
          </a:xfrm>
          <a:custGeom>
            <a:avLst/>
            <a:gdLst>
              <a:gd name="textAreaLeft" fmla="*/ 126360 w 944640"/>
              <a:gd name="textAreaRight" fmla="*/ 818280 w 944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9040" y="4094280"/>
            <a:ext cx="855720" cy="4586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2" idx="1"/>
            <a:endCxn id="336" idx="3"/>
          </p:cNvCxnSpPr>
          <p:nvPr/>
        </p:nvCxnSpPr>
        <p:spPr>
          <a:xfrm flipV="1" rot="10800000">
            <a:off x="5736600" y="2954880"/>
            <a:ext cx="1343520" cy="1553400"/>
          </a:xfrm>
          <a:prstGeom prst="bentConnector3">
            <a:avLst>
              <a:gd name="adj1" fmla="val 49986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2085840" y="297828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18840" y="3159000"/>
            <a:ext cx="924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39" idx="2"/>
            <a:endCxn id="348" idx="3"/>
          </p:cNvCxnSpPr>
          <p:nvPr/>
        </p:nvCxnSpPr>
        <p:spPr>
          <a:xfrm rot="10800000">
            <a:off x="2100960" y="3328200"/>
            <a:ext cx="2326680" cy="545400"/>
          </a:xfrm>
          <a:prstGeom prst="bentConnector3">
            <a:avLst>
              <a:gd name="adj1" fmla="val 4995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2851200" y="3473280"/>
            <a:ext cx="855720" cy="2606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27640" y="4535640"/>
            <a:ext cx="1035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생성 및 보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29200" y="459900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19280" y="2644920"/>
            <a:ext cx="1260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요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20840" y="261792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81200" y="3922560"/>
            <a:ext cx="1260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제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2760" y="3895560"/>
            <a:ext cx="298440" cy="303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0480" y="3422520"/>
            <a:ext cx="1260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040" y="3395520"/>
            <a:ext cx="298440" cy="303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34" idx="2"/>
            <a:endCxn id="360" idx="2"/>
          </p:cNvCxnSpPr>
          <p:nvPr/>
        </p:nvCxnSpPr>
        <p:spPr>
          <a:xfrm flipH="1" rot="16200000">
            <a:off x="2218320" y="2735640"/>
            <a:ext cx="1166040" cy="327240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>
            <a:off x="1990800" y="5087880"/>
            <a:ext cx="1260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반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506088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41640" y="4824360"/>
            <a:ext cx="855720" cy="260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37000" y="4824360"/>
            <a:ext cx="855720" cy="260280"/>
          </a:xfrm>
          <a:prstGeom prst="ellipse">
            <a:avLst/>
          </a:prstGeom>
          <a:noFill/>
          <a:ln w="9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3.4 Pool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구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5920" y="1042560"/>
            <a:ext cx="83721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을 담아둘 버퍼 생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초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생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요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반환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1401840"/>
            <a:ext cx="7335720" cy="40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vate Vector buffer = new Vec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71640" y="2303640"/>
            <a:ext cx="7335720" cy="10285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synchronized static void initConnectionPool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or(int i = 0; i &lt; MAX_CONNECTIO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buffer.addElement(connectionFactory.createConnection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8385120" y="1998720"/>
            <a:ext cx="552600" cy="1251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146640" y="974160"/>
            <a:ext cx="1827360" cy="1337760"/>
          </a:xfrm>
          <a:prstGeom prst="cloudCallout">
            <a:avLst>
              <a:gd name="adj1" fmla="val 74833"/>
              <a:gd name="adj2" fmla="val 3533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Pooling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 사용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을 최대 개수만큼 미리 생성해 놓는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71640" y="5638680"/>
            <a:ext cx="7335720" cy="11210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synchronized void releaseConnection(Connection Connection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Connection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버퍼의 마지막에 반납된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을 추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this.buffer.addElement(connec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3743280"/>
            <a:ext cx="7335720" cy="14889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synchronized Connection getConnectio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사용 중인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의 수가 생성된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보다 많을 경우 대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wait_count &gt; MAX_CONNECTION){ return null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// Connection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버퍼로부터 첫 번째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을 꺼내서 전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return (Connection)this.buffer.remove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sp>
          <p:nvSpPr>
            <p:cNvPr id="97" name=""/>
            <p:cNvSpPr/>
            <p:nvPr/>
          </p:nvSpPr>
          <p:spPr>
            <a:xfrm>
              <a:off x="71280" y="414360"/>
              <a:ext cx="8912160" cy="5851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6280" y="639720"/>
              <a:ext cx="8642160" cy="54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295360" y="5308560"/>
            <a:ext cx="4572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이 명 진</a:t>
            </a: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,  </a:t>
            </a:r>
            <a:r>
              <a:rPr b="0" lang="ko-KR" sz="900" spc="-1" strike="noStrike">
                <a:solidFill>
                  <a:srgbClr val="0000cc"/>
                </a:solidFill>
                <a:latin typeface="Times New Roman"/>
              </a:rPr>
              <a:t>최 영 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99ff"/>
                </a:solidFill>
                <a:latin typeface="Times New Roman"/>
                <a:ea typeface="바탕"/>
              </a:rPr>
              <a:t>Powered by http://www.jabook.or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45000" y="3286080"/>
            <a:ext cx="1827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2</a:t>
            </a:r>
            <a:r>
              <a:rPr b="0" lang="ko-KR" sz="2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nd</a:t>
            </a:r>
            <a:r>
              <a:rPr b="0" lang="ko-KR" sz="18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8120" y="3338640"/>
            <a:ext cx="47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소설같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14480" y="3603600"/>
            <a:ext cx="373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99ff"/>
                </a:solidFill>
                <a:latin typeface="휴먼모음T"/>
                <a:ea typeface="휴먼모음T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08520" y="3398760"/>
            <a:ext cx="180720" cy="164880"/>
            <a:chOff x="4808520" y="3398760"/>
            <a:chExt cx="180720" cy="164880"/>
          </a:xfrm>
        </p:grpSpPr>
        <p:sp>
          <p:nvSpPr>
            <p:cNvPr id="104" name=""/>
            <p:cNvSpPr/>
            <p:nvPr/>
          </p:nvSpPr>
          <p:spPr>
            <a:xfrm>
              <a:off x="4808520" y="3398760"/>
              <a:ext cx="10404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33000" y="3465720"/>
              <a:ext cx="10368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85560" y="3422160"/>
              <a:ext cx="103680" cy="9792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049640" y="4778280"/>
            <a:ext cx="1035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1520" y="1449360"/>
            <a:ext cx="509400" cy="765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장 데이터베이스와 파일 업로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3.5 ConnectionPo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사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oolingTest.jsp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nnectionPoo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임포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반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oolingTest.jsp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1640" y="2846520"/>
            <a:ext cx="6570720" cy="7617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Pool pool = ConnectionPool.getConnectionPoo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nnection conn = pool.getConnec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71640" y="1898640"/>
            <a:ext cx="657072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page import="jabook.sql.*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90560" y="5408640"/>
            <a:ext cx="4816440" cy="587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localhost:8080/MySample/PoolingTest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3"/>
            <a:endCxn id="380" idx="1"/>
          </p:cNvCxnSpPr>
          <p:nvPr/>
        </p:nvCxnSpPr>
        <p:spPr>
          <a:xfrm flipV="1">
            <a:off x="5606640" y="4982760"/>
            <a:ext cx="1801080" cy="72000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971640" y="4194000"/>
            <a:ext cx="657072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ool.releaseConnection(con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407360" y="3656160"/>
            <a:ext cx="1377720" cy="26524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751280" y="1008000"/>
            <a:ext cx="4297320" cy="1295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6777000" y="3203640"/>
            <a:ext cx="461880" cy="12952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616280" y="3719520"/>
            <a:ext cx="1783080" cy="1099080"/>
          </a:xfrm>
          <a:prstGeom prst="cloudCallout">
            <a:avLst>
              <a:gd name="adj1" fmla="val 64226"/>
              <a:gd name="adj2" fmla="val -7354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처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접속 시 지정된 수만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 생성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.4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파일 업로드의 구현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일 업로드를 위한 데이터 전송 방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 데이터 전송 방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방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에 전달하고자 하는 정보를 포함해서 정보를 전달하는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방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전달하고자 하는 정보를 첨부파일 형태로 포함해서 전송하는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pplication/x-www-form-urlenco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방식의 기본 값으로써 전송하려는 데이터를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URL Encoding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해서 첨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ultipart/form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파일을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MIME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형태의 데이터 스트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(Data Stream)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으로 전송하기 위한 방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3833640"/>
            <a:ext cx="8829720" cy="2926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51200" y="3909960"/>
            <a:ext cx="1260360" cy="960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209760" y="3917160"/>
            <a:ext cx="8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91200" y="39632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60840" y="4330800"/>
            <a:ext cx="0" cy="234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11920" y="4330800"/>
            <a:ext cx="0" cy="234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41920" y="4643280"/>
            <a:ext cx="3735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52600" y="4237200"/>
            <a:ext cx="4528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전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7897680" y="3879720"/>
            <a:ext cx="723960" cy="9446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5715000" y="410220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85840" y="4959360"/>
            <a:ext cx="3195720" cy="148572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rm name="fileUploa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action="fileUpload.js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method="pos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enctype="multipart/form-data"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930480" y="4824360"/>
            <a:ext cx="3465360" cy="1851120"/>
            <a:chOff x="3930480" y="4824360"/>
            <a:chExt cx="3465360" cy="1851120"/>
          </a:xfrm>
        </p:grpSpPr>
        <p:sp>
          <p:nvSpPr>
            <p:cNvPr id="404" name=""/>
            <p:cNvSpPr/>
            <p:nvPr/>
          </p:nvSpPr>
          <p:spPr>
            <a:xfrm>
              <a:off x="3930480" y="4824360"/>
              <a:ext cx="3465360" cy="18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3930480" y="4824360"/>
              <a:ext cx="34290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3930480" y="5770440"/>
              <a:ext cx="2448000" cy="90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"/>
          <p:cNvSpPr/>
          <p:nvPr/>
        </p:nvSpPr>
        <p:spPr>
          <a:xfrm>
            <a:off x="3897360" y="5499000"/>
            <a:ext cx="193500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97360" y="4778280"/>
            <a:ext cx="238428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97360" y="6264360"/>
            <a:ext cx="2609640" cy="40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82040" y="5994360"/>
            <a:ext cx="41328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첨부파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10" idx="2"/>
            <a:endCxn id="409" idx="3"/>
          </p:cNvCxnSpPr>
          <p:nvPr/>
        </p:nvCxnSpPr>
        <p:spPr>
          <a:xfrm rot="5400000">
            <a:off x="6644520" y="6122880"/>
            <a:ext cx="226080" cy="464400"/>
          </a:xfrm>
          <a:prstGeom prst="curvedConnector2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일 업로드 컴포넌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파일 업로드 컴포넌트의 역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방식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art/form-dat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형태로 전송된 첨부파일을 받아서 서버의 특정 디렉터리에 저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2349360"/>
            <a:ext cx="8829720" cy="391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208160" y="2513160"/>
            <a:ext cx="1260360" cy="9601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467080" y="252036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67360" y="25664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17800" y="2933640"/>
            <a:ext cx="0" cy="3195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88080" y="2933640"/>
            <a:ext cx="0" cy="270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1640" y="3246480"/>
            <a:ext cx="261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65320" y="2840040"/>
            <a:ext cx="4528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전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973840" y="2482920"/>
            <a:ext cx="723960" cy="9446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527720" y="270504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297000" y="3562200"/>
            <a:ext cx="2441520" cy="112716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&lt;form name="fileUpload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action="fileUpload.jsp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method="post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enctype="multipart/form-data"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211560" y="3338640"/>
            <a:ext cx="2216160" cy="1182600"/>
            <a:chOff x="3211560" y="3338640"/>
            <a:chExt cx="2216160" cy="1182600"/>
          </a:xfrm>
        </p:grpSpPr>
        <p:sp>
          <p:nvSpPr>
            <p:cNvPr id="426" name=""/>
            <p:cNvSpPr/>
            <p:nvPr/>
          </p:nvSpPr>
          <p:spPr>
            <a:xfrm>
              <a:off x="3211560" y="3338640"/>
              <a:ext cx="2216160" cy="11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7" name="" descr=""/>
            <p:cNvPicPr/>
            <p:nvPr/>
          </p:nvPicPr>
          <p:blipFill>
            <a:blip r:embed="rId4"/>
            <a:stretch/>
          </p:blipFill>
          <p:spPr>
            <a:xfrm>
              <a:off x="3211560" y="3338640"/>
              <a:ext cx="2192760" cy="6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5"/>
            <a:stretch/>
          </p:blipFill>
          <p:spPr>
            <a:xfrm>
              <a:off x="3211560" y="3943080"/>
              <a:ext cx="15652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"/>
          <p:cNvSpPr/>
          <p:nvPr/>
        </p:nvSpPr>
        <p:spPr>
          <a:xfrm>
            <a:off x="6689880" y="3922560"/>
            <a:ext cx="1842840" cy="2081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MultiPart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13440" y="4338720"/>
            <a:ext cx="1390680" cy="361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첨부파일 추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13440" y="4921200"/>
            <a:ext cx="1390680" cy="3621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첨부파일 저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13440" y="5508720"/>
            <a:ext cx="1390680" cy="361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파일 정보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0" idx="2"/>
            <a:endCxn id="431" idx="0"/>
          </p:cNvCxnSpPr>
          <p:nvPr/>
        </p:nvCxnSpPr>
        <p:spPr>
          <a:xfrm>
            <a:off x="7608600" y="4700160"/>
            <a:ext cx="1080" cy="2214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34" name=""/>
          <p:cNvCxnSpPr>
            <a:stCxn id="431" idx="2"/>
            <a:endCxn id="432" idx="0"/>
          </p:cNvCxnSpPr>
          <p:nvPr/>
        </p:nvCxnSpPr>
        <p:spPr>
          <a:xfrm>
            <a:off x="7608600" y="5283360"/>
            <a:ext cx="1080" cy="22608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7632720" y="2573280"/>
            <a:ext cx="1079640" cy="674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37" idx="2"/>
            <a:endCxn id="430" idx="1"/>
          </p:cNvCxnSpPr>
          <p:nvPr/>
        </p:nvCxnSpPr>
        <p:spPr>
          <a:xfrm flipH="1" rot="16200000">
            <a:off x="6129360" y="3735000"/>
            <a:ext cx="1126080" cy="44352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38" name=""/>
          <p:cNvCxnSpPr>
            <a:stCxn id="431" idx="3"/>
            <a:endCxn id="435" idx="3"/>
          </p:cNvCxnSpPr>
          <p:nvPr/>
        </p:nvCxnSpPr>
        <p:spPr>
          <a:xfrm flipH="1" flipV="1">
            <a:off x="8172000" y="3247200"/>
            <a:ext cx="132480" cy="1855080"/>
          </a:xfrm>
          <a:prstGeom prst="bentConnector4">
            <a:avLst>
              <a:gd name="adj1" fmla="val -356403"/>
              <a:gd name="adj2" fmla="val 75407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39" name=""/>
          <p:cNvCxnSpPr>
            <a:stCxn id="432" idx="1"/>
            <a:endCxn id="440" idx="2"/>
          </p:cNvCxnSpPr>
          <p:nvPr/>
        </p:nvCxnSpPr>
        <p:spPr>
          <a:xfrm rot="10800000">
            <a:off x="6050880" y="3437640"/>
            <a:ext cx="862560" cy="225180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5997960" y="31129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47000" y="3578040"/>
            <a:ext cx="800280" cy="2563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417360" y="30686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527600" y="3429000"/>
            <a:ext cx="4528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저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24000" y="5742000"/>
            <a:ext cx="675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혹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정보 리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23080" y="2798640"/>
            <a:ext cx="8874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d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일 정보 저장을 위한 데이터베이스 생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데이터베이스 접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파일 정보 테이블 생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71640" y="1628640"/>
            <a:ext cx="7831080" cy="1216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:\...\MySQL Server 5.0\bin&gt; mysql          -u    root          -p            no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27720" y="2077920"/>
            <a:ext cx="76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89040" y="2189160"/>
            <a:ext cx="9100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데이터베이스의 계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95920" y="2079720"/>
            <a:ext cx="3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9040" y="2550960"/>
            <a:ext cx="13550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패스워드를 지정했을 경우 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78560" y="2077920"/>
            <a:ext cx="58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32720" y="2190600"/>
            <a:ext cx="13154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접근하려는 데이터베이스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40920" y="18954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51" idx="0"/>
            <a:endCxn id="454" idx="2"/>
          </p:cNvCxnSpPr>
          <p:nvPr/>
        </p:nvCxnSpPr>
        <p:spPr>
          <a:xfrm flipV="1" rot="16200000">
            <a:off x="5664960" y="2348640"/>
            <a:ext cx="330840" cy="73800"/>
          </a:xfrm>
          <a:prstGeom prst="bentConnector3">
            <a:avLst>
              <a:gd name="adj1" fmla="val 5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>
            <a:off x="971640" y="3833640"/>
            <a:ext cx="7831080" cy="2203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reate table FileUpload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num   INT   NOT NULL   PRIMARY KEY   auto_increme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ubject   VARCHAR(50)  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ileName   VARCHAR(50)  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ileSize   INT   NOT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52200" y="4307040"/>
            <a:ext cx="10072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번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동 증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89200" y="462132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제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09960" y="4937040"/>
            <a:ext cx="7668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저장된 파일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66880" y="529596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크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일 업로드 페이지 작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파일 업로드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71640" y="1673280"/>
            <a:ext cx="7200720" cy="319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form      name="fileUpload"      method="po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ction="fileUpload.jsp"      enctype="multipart/form-data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text" name="subject" size="4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type="file" name="file" size="3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input type="submit" value="submit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78200" y="2077920"/>
            <a:ext cx="155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54840" y="2189160"/>
            <a:ext cx="6354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22840" y="2079720"/>
            <a:ext cx="1334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22280" y="2190600"/>
            <a:ext cx="9435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전송 방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6280" y="275436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31000" y="2865600"/>
            <a:ext cx="11642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업로드를 위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83200" y="2755800"/>
            <a:ext cx="254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80000" y="2867040"/>
            <a:ext cx="15256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전송을 위한 인코딩 타입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32120" y="3745080"/>
            <a:ext cx="344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2720" y="3855960"/>
            <a:ext cx="6753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선택 박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707000" y="4643280"/>
            <a:ext cx="4181400" cy="18208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3762360" y="4689360"/>
            <a:ext cx="739800" cy="12542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431640" y="5233680"/>
            <a:ext cx="2854440" cy="860760"/>
          </a:xfrm>
          <a:prstGeom prst="cloudCallout">
            <a:avLst>
              <a:gd name="adj1" fmla="val 64953"/>
              <a:gd name="adj2" fmla="val -7570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일 업로드를 위해서는 반드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enctype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속성의 값을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multipart/form-data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로 지정해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81640" y="5724360"/>
            <a:ext cx="229536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67960" y="3429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3"/>
            <a:endCxn id="477" idx="0"/>
          </p:cNvCxnSpPr>
          <p:nvPr/>
        </p:nvCxnSpPr>
        <p:spPr>
          <a:xfrm>
            <a:off x="5471640" y="3592440"/>
            <a:ext cx="1058040" cy="211392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일 업로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일 업로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- MultiPartReques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객체 생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라미터 정보 출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일 정보 출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일 정보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71640" y="1496880"/>
            <a:ext cx="7561080" cy="7621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ultiPartRequest mRequest = new MultiPartRequest(request,    uploadDir,     "euc-k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71640" y="2803680"/>
            <a:ext cx="7561080" cy="8506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ubject = mRequest.getParameter("subjec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71640" y="4195800"/>
            <a:ext cx="7561080" cy="9428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ileInfo fInfo= mRequest.getFileInfo("fil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ileName = fInfo.fil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ileSize = String.valueOf(fInfo.file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98920" y="1859040"/>
            <a:ext cx="61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60920" y="1969920"/>
            <a:ext cx="18651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라이언트로부터 전달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53200" y="1857240"/>
            <a:ext cx="88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07560" y="1968480"/>
            <a:ext cx="8582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저장 디렉터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432560" y="1857240"/>
            <a:ext cx="69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4800" y="1960560"/>
            <a:ext cx="3218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인코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4479840" y="3247560"/>
            <a:ext cx="81288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64440" y="336060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273560" y="4509720"/>
            <a:ext cx="52380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98880" y="4600440"/>
            <a:ext cx="1080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업로드 필드의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8613720" y="1268280"/>
            <a:ext cx="459000" cy="12542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058080" y="192960"/>
            <a:ext cx="2233440" cy="1099440"/>
          </a:xfrm>
          <a:prstGeom prst="cloudCallout">
            <a:avLst>
              <a:gd name="adj1" fmla="val 66337"/>
              <a:gd name="adj2" fmla="val 6047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일 업로드 필드의 이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즉 파라미터의 이름을 이용해서 파일 정보를 담고 있는 객체를 얻을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71640" y="5769000"/>
            <a:ext cx="6570720" cy="9428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ql = "Insert into FileUpload (subject, fileName, fileSize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ql += " values('" + subject + "', '" + fileName + "', " + fileSize + "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mt.executeUpdate(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6958080" y="2394000"/>
            <a:ext cx="1500120" cy="9046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5832360" y="3567960"/>
            <a:ext cx="2027520" cy="621720"/>
          </a:xfrm>
          <a:prstGeom prst="cloudCallout">
            <a:avLst>
              <a:gd name="adj1" fmla="val 55004"/>
              <a:gd name="adj2" fmla="val -11672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앞서 작성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Poo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을 이용해서 접속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46640" y="4587120"/>
            <a:ext cx="2657520" cy="1099440"/>
          </a:xfrm>
          <a:prstGeom prst="cloudCallout">
            <a:avLst>
              <a:gd name="adj1" fmla="val 47666"/>
              <a:gd name="adj2" fmla="val 6211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일 업로드 데이터베이스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num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필드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uto_increment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로 지정했기 때문에 값을 넣어주지 않아도 자동으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씩 증가된 값이 저장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7497720" y="5732640"/>
            <a:ext cx="89532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일 리스트 출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파일 정보 출력 및 다운로드 링크 작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71640" y="1674720"/>
            <a:ext cx="7470720" cy="391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atement stmt = conn.createStat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ultSet rs = stmt.executeQuery("select * from FileUpload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rs.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rs.getInt("num"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rs.getString("subject"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a href="servlet/FileDownload?fileName=&lt;%=rs.getString("fileName")%&gt;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rs.getString("fileName"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rs.getInt("fileSize"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4842000" y="4419720"/>
            <a:ext cx="418608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일 다운로드 서블릿 작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방식의 서블릿 작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다운로드 할 파일 객체 생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응답 객체의 헤더 설정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응답 객체의 헤더에 파일 이름을 명시한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입출력 스트림 생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클라이언트로 파일 보내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71640" y="1449360"/>
            <a:ext cx="7065720" cy="8510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FileDownload extends HttpServ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doGet(HttpServletRequest req, HttpServletResponse res) {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71640" y="2708280"/>
            <a:ext cx="7065720" cy="4096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ile file = new File(filePath + file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484960" y="3159000"/>
            <a:ext cx="3659040" cy="16462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971640" y="3789360"/>
            <a:ext cx="7065720" cy="5875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.setHeader("Content-Disposition", "attachment;filename=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new String(fileName.getBytes("euc-kr"), "ISO8859_1")  + "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7993080" y="1673280"/>
            <a:ext cx="933480" cy="10713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761160" y="357120"/>
            <a:ext cx="2098800" cy="860760"/>
          </a:xfrm>
          <a:prstGeom prst="cloudCallout">
            <a:avLst>
              <a:gd name="adj1" fmla="val 20481"/>
              <a:gd name="adj2" fmla="val 12077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응답 객체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에 다운로드 할 파일 이름을 명시해 주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5899320"/>
            <a:ext cx="7110360" cy="8604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yte b[] = new byte[(int)file.length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(i = bis.read(b)) != 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os.write(b, 0, 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5904000" y="5170320"/>
            <a:ext cx="3132000" cy="167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971640" y="4870440"/>
            <a:ext cx="711036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ufferedInputStream bis = new BufferedInputStream(new FileInputStream(file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ufferedOutputStream bos = new BufferedOutputStream(res.getOutputStrea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61040" y="4329000"/>
            <a:ext cx="117000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1" idx="2"/>
            <a:endCxn id="523" idx="0"/>
          </p:cNvCxnSpPr>
          <p:nvPr/>
        </p:nvCxnSpPr>
        <p:spPr>
          <a:xfrm flipH="1" rot="16200000">
            <a:off x="7847640" y="4461120"/>
            <a:ext cx="523080" cy="924480"/>
          </a:xfrm>
          <a:prstGeom prst="curvedConnector5">
            <a:avLst>
              <a:gd name="adj1" fmla="val 48002"/>
              <a:gd name="adj2" fmla="val 49980"/>
              <a:gd name="adj3" fmla="val 4800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3" name=""/>
          <p:cNvSpPr/>
          <p:nvPr/>
        </p:nvSpPr>
        <p:spPr>
          <a:xfrm>
            <a:off x="8517600" y="51847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4.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실전 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왜 다운로드는 서블릿으로 만들었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클라이언트로 데이터를 전송하기 위한 스트림 생성 코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개발자가 범하는 실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에서 위와 같은 코드를 사용하여 스트림을 개설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무엇이 문제인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에서는 이미 클라이언트로 데이터를 전송하기 위한 스트림이 열려있기 때문에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OutputStream(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메소드를 호출하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 발생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71640" y="1673280"/>
            <a:ext cx="7605720" cy="58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BufferedOutputStream outs = new BufferedOutputStream(response.getOutputStrea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5632560"/>
            <a:ext cx="7921440" cy="58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java.lang.IllegalStateException: getOutputStream() has already been called for this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.1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데이터베이스란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87480"/>
            <a:ext cx="9144000" cy="57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920" y="2122560"/>
            <a:ext cx="838188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920" y="3473280"/>
            <a:ext cx="8381880" cy="8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200" y="1069920"/>
            <a:ext cx="8381880" cy="78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데이터베이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57360" y="4373640"/>
            <a:ext cx="6029280" cy="238428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데이터베이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Databas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나 이상의 자료를 저장하고 효율적으로 관리하기 위한 데이터 집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BMS(Database Management System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를 효율적으로 관리하기 위한 시스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MySQL, MS SQL, Oracl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관계형 데이터베이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Relational Database, RDB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를 표와 같이 행과 열의 관계로 표현하는 데이터베이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8080" y="5410080"/>
            <a:ext cx="2654280" cy="121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5229360"/>
            <a:ext cx="2655720" cy="12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57720" y="5048280"/>
          <a:ext cx="2656800" cy="1215720"/>
        </p:xfrm>
        <a:graphic>
          <a:graphicData uri="http://schemas.openxmlformats.org/drawingml/2006/table">
            <a:tbl>
              <a:tblPr/>
              <a:tblGrid>
                <a:gridCol w="715320"/>
                <a:gridCol w="663480"/>
                <a:gridCol w="613080"/>
                <a:gridCol w="664920"/>
              </a:tblGrid>
              <a:tr h="30420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아이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비밀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이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생년월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38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j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이명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6.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8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ce1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변은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6.1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8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bo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자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605040" y="4799160"/>
            <a:ext cx="544320" cy="24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회원 테이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20960" y="4373640"/>
            <a:ext cx="1198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관계형 데이터베이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2720" y="5408640"/>
            <a:ext cx="2879640" cy="2030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81520" y="5397480"/>
            <a:ext cx="6231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레코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3"/>
            <a:endCxn id="126" idx="1"/>
          </p:cNvCxnSpPr>
          <p:nvPr/>
        </p:nvCxnSpPr>
        <p:spPr>
          <a:xfrm flipV="1">
            <a:off x="2771640" y="5509440"/>
            <a:ext cx="432720" cy="11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4797360" y="4959360"/>
            <a:ext cx="495360" cy="1349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79720" y="4419720"/>
            <a:ext cx="5317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2"/>
            <a:endCxn id="129" idx="0"/>
          </p:cNvCxnSpPr>
          <p:nvPr/>
        </p:nvCxnSpPr>
        <p:spPr>
          <a:xfrm flipH="1">
            <a:off x="5044320" y="4667400"/>
            <a:ext cx="2520" cy="273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2000" y="2754360"/>
            <a:ext cx="8820000" cy="2428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1.2 JD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DBC(Java Database Connectivity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바를 이용해서 데이터베이스 프로그래밍을 하기 위한 표준 인터페이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바 프로그램 내에서 데이터베이스 질의문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SQL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실행하기 위한 자바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 및 애플리케이션 개발자들을 위한 표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AP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제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QL(Structured Query Languag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에 접근하여 데이터를 삽입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수정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삭제하기 위한 데이터베이스 질의 언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7360" y="3462480"/>
            <a:ext cx="1619280" cy="96516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자바 프로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48080" y="3506760"/>
            <a:ext cx="1179360" cy="89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00880" y="2843280"/>
            <a:ext cx="1266840" cy="681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4400" y="3608280"/>
            <a:ext cx="1266840" cy="681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soft 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4400" y="4373640"/>
            <a:ext cx="1266840" cy="681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7720" y="2978280"/>
            <a:ext cx="2385720" cy="4046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드라이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27720" y="3743280"/>
            <a:ext cx="2385720" cy="40500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S-SQL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드라이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4508640"/>
            <a:ext cx="2385720" cy="4046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드라이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0" idx="3"/>
            <a:endCxn id="137" idx="2"/>
          </p:cNvCxnSpPr>
          <p:nvPr/>
        </p:nvCxnSpPr>
        <p:spPr>
          <a:xfrm>
            <a:off x="6913440" y="3180960"/>
            <a:ext cx="488160" cy="39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44" name=""/>
          <p:cNvCxnSpPr>
            <a:stCxn id="141" idx="3"/>
            <a:endCxn id="138" idx="2"/>
          </p:cNvCxnSpPr>
          <p:nvPr/>
        </p:nvCxnSpPr>
        <p:spPr>
          <a:xfrm>
            <a:off x="6913440" y="3946680"/>
            <a:ext cx="481680" cy="36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45" name=""/>
          <p:cNvCxnSpPr>
            <a:stCxn id="142" idx="3"/>
            <a:endCxn id="139" idx="2"/>
          </p:cNvCxnSpPr>
          <p:nvPr/>
        </p:nvCxnSpPr>
        <p:spPr>
          <a:xfrm>
            <a:off x="6913440" y="4711320"/>
            <a:ext cx="481680" cy="39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46" name=""/>
          <p:cNvCxnSpPr>
            <a:stCxn id="136" idx="3"/>
            <a:endCxn id="141" idx="1"/>
          </p:cNvCxnSpPr>
          <p:nvPr/>
        </p:nvCxnSpPr>
        <p:spPr>
          <a:xfrm flipV="1">
            <a:off x="3727080" y="3945960"/>
            <a:ext cx="801000" cy="6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47" name=""/>
          <p:cNvCxnSpPr>
            <a:stCxn id="136" idx="3"/>
            <a:endCxn id="140" idx="1"/>
          </p:cNvCxnSpPr>
          <p:nvPr/>
        </p:nvCxnSpPr>
        <p:spPr>
          <a:xfrm flipV="1">
            <a:off x="3727080" y="3180600"/>
            <a:ext cx="801000" cy="7722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48" name=""/>
          <p:cNvCxnSpPr>
            <a:stCxn id="136" idx="3"/>
            <a:endCxn id="142" idx="1"/>
          </p:cNvCxnSpPr>
          <p:nvPr/>
        </p:nvCxnSpPr>
        <p:spPr>
          <a:xfrm>
            <a:off x="3727080" y="3952800"/>
            <a:ext cx="801000" cy="7596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49" name=""/>
          <p:cNvCxnSpPr>
            <a:stCxn id="136" idx="1"/>
            <a:endCxn id="135" idx="3"/>
          </p:cNvCxnSpPr>
          <p:nvPr/>
        </p:nvCxnSpPr>
        <p:spPr>
          <a:xfrm flipH="1" flipV="1">
            <a:off x="2006280" y="3944520"/>
            <a:ext cx="542160" cy="86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1.3 MySQ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을 이용한 프로그래밍 준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공개 소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en Sourc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 관계 데이터베이스 관리 시스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드라이버 설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dev.mysql.com/download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1.4.13 MySQ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설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참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 새로운 데이터베이스 생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4595760"/>
            <a:ext cx="7831080" cy="1263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:\...\MySQL Server 5.0\bin&gt; mysqladmin          -u   root          -p            create            no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86360" y="5048280"/>
            <a:ext cx="75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38320" y="5159520"/>
            <a:ext cx="9100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데이터베이스의 계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49880" y="5049720"/>
            <a:ext cx="3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4760" y="5521320"/>
            <a:ext cx="13550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패스워드를 지정했을 경우 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54840" y="5048280"/>
            <a:ext cx="58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7440" y="5159520"/>
            <a:ext cx="10411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데이터베이스 생성 명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45280" y="5048280"/>
            <a:ext cx="58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32160" y="5521320"/>
            <a:ext cx="8186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데이터베이스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67960" y="473076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93680" y="473076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6" idx="0"/>
            <a:endCxn id="161" idx="2"/>
          </p:cNvCxnSpPr>
          <p:nvPr/>
        </p:nvCxnSpPr>
        <p:spPr>
          <a:xfrm flipH="1" flipV="1" rot="5400000">
            <a:off x="6019560" y="5219280"/>
            <a:ext cx="465840" cy="138960"/>
          </a:xfrm>
          <a:prstGeom prst="bentConnector3">
            <a:avLst>
              <a:gd name="adj1" fmla="val 50116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0" idx="0"/>
            <a:endCxn id="162" idx="2"/>
          </p:cNvCxnSpPr>
          <p:nvPr/>
        </p:nvCxnSpPr>
        <p:spPr>
          <a:xfrm flipH="1" flipV="1" rot="5400000">
            <a:off x="8061480" y="5235840"/>
            <a:ext cx="465840" cy="105480"/>
          </a:xfrm>
          <a:prstGeom prst="bentConnector3">
            <a:avLst>
              <a:gd name="adj1" fmla="val 50116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27720" y="2259000"/>
            <a:ext cx="552240" cy="1251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46640" y="3041640"/>
            <a:ext cx="2810160" cy="1484640"/>
          </a:xfrm>
          <a:prstGeom prst="cloudCallout">
            <a:avLst>
              <a:gd name="adj1" fmla="val -51342"/>
              <a:gd name="adj2" fmla="val -8209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설치 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계정의 패스워드를 설정했다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옵션을 써주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패스워드를 입력하지 않았다면 생략해도 상관없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.2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데이터베이스 프로그래밍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실전 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MySQ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설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을 쓰기 위해서는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반드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라이브러리를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잡아주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하지만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라이브러리를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잡아주었건만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m.mysql.jdbc.Driver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를 찾을 수 없다는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 발생할 경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해결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MySQ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라이브러리를 톰캣의 라이브러리 폴더에 복사해 버리자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62360" y="1763640"/>
            <a:ext cx="3105000" cy="1000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707000" y="2033640"/>
            <a:ext cx="2070000" cy="44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1640" y="4711680"/>
            <a:ext cx="3926160" cy="1417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921200" y="4373640"/>
            <a:ext cx="3925800" cy="1942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66640" y="5207040"/>
            <a:ext cx="139536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5251320"/>
            <a:ext cx="2071800" cy="49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02360" y="5634000"/>
            <a:ext cx="44928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95920" y="5184720"/>
            <a:ext cx="2071800" cy="49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26960" y="6337440"/>
            <a:ext cx="4032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CATALINA_HOME%\common\lib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3"/>
            <a:endCxn id="179" idx="1"/>
          </p:cNvCxnSpPr>
          <p:nvPr/>
        </p:nvCxnSpPr>
        <p:spPr>
          <a:xfrm>
            <a:off x="4141440" y="5499000"/>
            <a:ext cx="1042200" cy="270720"/>
          </a:xfrm>
          <a:prstGeom prst="curvedConnector5">
            <a:avLst>
              <a:gd name="adj1" fmla="val 49827"/>
              <a:gd name="adj2" fmla="val 49933"/>
              <a:gd name="adj3" fmla="val 4982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.2 JS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를 이용한 데이터베이스 프로그래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5560" y="4869000"/>
            <a:ext cx="4771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.sql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패키지 임포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DBC Driver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로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연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정의 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생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객체로부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생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7360" y="4869000"/>
            <a:ext cx="360036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반환 결과 처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연결 닫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5920" y="1089000"/>
            <a:ext cx="837216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데이터베이스 프로그래밍 절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6200" y="1494000"/>
            <a:ext cx="8381880" cy="2879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1280" y="1568520"/>
            <a:ext cx="1260360" cy="960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70200" y="157572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57680" y="1621800"/>
            <a:ext cx="8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95560" y="1989000"/>
            <a:ext cx="0" cy="224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78400" y="1989000"/>
            <a:ext cx="0" cy="224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21640" y="2935440"/>
            <a:ext cx="19144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c0c0"/>
                </a:solidFill>
                <a:latin typeface="Times New Roman"/>
              </a:rPr>
              <a:t>HTT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30560" y="2378160"/>
            <a:ext cx="21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30560" y="2557440"/>
            <a:ext cx="2117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19840" y="2073240"/>
            <a:ext cx="56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0560" y="2571840"/>
            <a:ext cx="675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02320" y="2709720"/>
            <a:ext cx="1935000" cy="363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웹 서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2320" y="3292560"/>
            <a:ext cx="1935000" cy="363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엔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02320" y="3878280"/>
            <a:ext cx="1935000" cy="363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QL JDB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82000" y="2979720"/>
            <a:ext cx="1209600" cy="96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199" idx="0"/>
          </p:cNvCxnSpPr>
          <p:nvPr/>
        </p:nvCxnSpPr>
        <p:spPr>
          <a:xfrm>
            <a:off x="5670360" y="3072960"/>
            <a:ext cx="1080" cy="21996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3" name=""/>
          <p:cNvCxnSpPr>
            <a:stCxn id="199" idx="2"/>
            <a:endCxn id="200" idx="0"/>
          </p:cNvCxnSpPr>
          <p:nvPr/>
        </p:nvCxnSpPr>
        <p:spPr>
          <a:xfrm>
            <a:off x="5670360" y="3655800"/>
            <a:ext cx="1080" cy="22284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4" name=""/>
          <p:cNvCxnSpPr>
            <a:stCxn id="200" idx="3"/>
            <a:endCxn id="201" idx="2"/>
          </p:cNvCxnSpPr>
          <p:nvPr/>
        </p:nvCxnSpPr>
        <p:spPr>
          <a:xfrm flipV="1">
            <a:off x="6636960" y="3465000"/>
            <a:ext cx="545400" cy="596160"/>
          </a:xfrm>
          <a:prstGeom prst="bentConnector3">
            <a:avLst>
              <a:gd name="adj1" fmla="val 49801"/>
            </a:avLst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62360" y="1582560"/>
            <a:ext cx="725760" cy="94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m</cp:lastModifiedBy>
  <cp:lastPrinted>1999-07-19T06:05:37Z</cp:lastPrinted>
  <dcterms:modified xsi:type="dcterms:W3CDTF">2008-04-11T02:01:37Z</dcterms:modified>
  <cp:revision>8401</cp:revision>
  <dc:subject/>
  <dc:title>프로그래밍 언어</dc:title>
</cp:coreProperties>
</file>