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4CC-6727-4D1E-90EC-6DAA1CA0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FAF-57D2-4336-B90D-D8B2641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A86-687C-455C-9684-DB6BA0D3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42A-CC8C-4A29-A527-FB21EDB4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EAE-117A-474C-A439-410C5230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AB08-C35C-4093-9A7E-EDAFF69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FCA2-4BF2-448A-82DD-DE2ED301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31B-6DF3-497C-B5FE-E41163E8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5324-2C1C-4811-865B-118DF94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D766-9671-4F77-A661-257059C8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266-02C0-452C-B9E3-AD60054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62B-E18E-4AA8-B252-64DE4AB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29D8-8A93-4748-9D73-A28B1EB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5ABE-4B02-4C1C-BF96-7A17CCD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7BF-7D77-48FF-9925-BCBDC858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F6C-704C-420C-80A3-CCE8BFE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AD7F-2235-45F2-A124-D4BC0BC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A6A-442D-43CA-9285-6AECA4D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646-57F5-4CDA-81C0-29ACCBCD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752-6CEB-4364-AC57-EF5719A7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F82-D941-45AB-A8CF-F6B1B909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67D-11DA-4D12-A449-DA98C65F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70-9B3F-4826-A8EC-C0CAA30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F50-27A3-4EFB-999D-8A0C24A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AB1-9565-4409-97AC-8E346786EF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CE3A-A4C6-4B06-97B2-F8B9BCFA66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9.wmf"/><Relationship Id="rId3" Type="http://schemas.openxmlformats.org/officeDocument/2006/relationships/image" Target="../media/image31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16280" y="684360"/>
            <a:ext cx="4527720" cy="58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작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5920" y="1314360"/>
          <a:ext cx="4186080" cy="331560"/>
        </p:xfrm>
        <a:graphic>
          <a:graphicData uri="http://schemas.openxmlformats.org/drawingml/2006/table">
            <a:tbl>
              <a:tblPr/>
              <a:tblGrid>
                <a:gridCol w="270000"/>
                <a:gridCol w="2474640"/>
                <a:gridCol w="360360"/>
                <a:gridCol w="360360"/>
                <a:gridCol w="360360"/>
                <a:gridCol w="360360"/>
              </a:tblGrid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751280" y="98280"/>
          <a:ext cx="4275360" cy="978120"/>
        </p:xfrm>
        <a:graphic>
          <a:graphicData uri="http://schemas.openxmlformats.org/drawingml/2006/table">
            <a:tbl>
              <a:tblPr/>
              <a:tblGrid>
                <a:gridCol w="314280"/>
                <a:gridCol w="2205360"/>
                <a:gridCol w="315720"/>
                <a:gridCol w="358920"/>
                <a:gridCol w="406440"/>
                <a:gridCol w="674640"/>
              </a:tblGrid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31000" y="998640"/>
            <a:ext cx="1806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번 글에 대한 새로운 답변 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50200" y="907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endCxn id="224" idx="1"/>
          </p:cNvCxnSpPr>
          <p:nvPr/>
        </p:nvCxnSpPr>
        <p:spPr>
          <a:xfrm flipV="1">
            <a:off x="4302000" y="1071000"/>
            <a:ext cx="450000" cy="410040"/>
          </a:xfrm>
          <a:prstGeom prst="curvedConnector5">
            <a:avLst>
              <a:gd name="adj1" fmla="val 49799"/>
              <a:gd name="adj2" fmla="val 50000"/>
              <a:gd name="adj3" fmla="val 4979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3947040" y="1020600"/>
            <a:ext cx="41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삽입위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80" y="1898640"/>
            <a:ext cx="643572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의 삽입위치 계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6280" y="2303640"/>
            <a:ext cx="548964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elect min(step) from freeboard where ref = 1 and step &gt; 2 and depth &lt;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628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7164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4628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endCxn id="230" idx="0"/>
          </p:cNvCxnSpPr>
          <p:nvPr/>
        </p:nvCxnSpPr>
        <p:spPr>
          <a:xfrm flipH="1" rot="16200000">
            <a:off x="4312440" y="1095840"/>
            <a:ext cx="691200" cy="1791360"/>
          </a:xfrm>
          <a:prstGeom prst="curvedConnector5">
            <a:avLst>
              <a:gd name="adj1" fmla="val 20427"/>
              <a:gd name="adj2" fmla="val 49989"/>
              <a:gd name="adj3" fmla="val 20427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233" name=""/>
          <p:cNvCxnSpPr>
            <a:endCxn id="229" idx="0"/>
          </p:cNvCxnSpPr>
          <p:nvPr/>
        </p:nvCxnSpPr>
        <p:spPr>
          <a:xfrm flipH="1" rot="16200000">
            <a:off x="3568680" y="1478520"/>
            <a:ext cx="691200" cy="1026360"/>
          </a:xfrm>
          <a:prstGeom prst="curvedConnector5">
            <a:avLst>
              <a:gd name="adj1" fmla="val 24127"/>
              <a:gd name="adj2" fmla="val 50000"/>
              <a:gd name="adj3" fmla="val 24127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234" name=""/>
          <p:cNvCxnSpPr>
            <a:endCxn id="231" idx="0"/>
          </p:cNvCxnSpPr>
          <p:nvPr/>
        </p:nvCxnSpPr>
        <p:spPr>
          <a:xfrm flipH="1" rot="16200000">
            <a:off x="2938320" y="1748520"/>
            <a:ext cx="691200" cy="486360"/>
          </a:xfrm>
          <a:prstGeom prst="curvedConnector5">
            <a:avLst>
              <a:gd name="adj1" fmla="val 49869"/>
              <a:gd name="adj2" fmla="val 50000"/>
              <a:gd name="adj3" fmla="val 4986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277720" y="2845080"/>
            <a:ext cx="1791720" cy="600840"/>
          </a:xfrm>
          <a:prstGeom prst="diamond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결과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49840" y="3699000"/>
            <a:ext cx="261324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위 답변 글들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증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86280" y="4103640"/>
            <a:ext cx="234000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02040" y="2303640"/>
            <a:ext cx="690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55200" y="225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280" y="3699000"/>
            <a:ext cx="454500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삽입 위치 다시 계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가장 마지막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2000" y="4103640"/>
            <a:ext cx="387036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step) from freeboard where ref = 1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)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76640" y="4824360"/>
            <a:ext cx="41403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삽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5229360"/>
            <a:ext cx="387036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ert into freeboard( ... ) values(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, ..., 1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5" idx="2"/>
            <a:endCxn id="240" idx="0"/>
          </p:cNvCxnSpPr>
          <p:nvPr/>
        </p:nvCxnSpPr>
        <p:spPr>
          <a:xfrm rot="5400000">
            <a:off x="2610000" y="3134520"/>
            <a:ext cx="299160" cy="830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5" idx="2"/>
            <a:endCxn id="236" idx="0"/>
          </p:cNvCxnSpPr>
          <p:nvPr/>
        </p:nvCxnSpPr>
        <p:spPr>
          <a:xfrm flipH="1" rot="16200000">
            <a:off x="4916160" y="1658520"/>
            <a:ext cx="299160" cy="378216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7" idx="2"/>
            <a:endCxn id="235" idx="0"/>
          </p:cNvCxnSpPr>
          <p:nvPr/>
        </p:nvCxnSpPr>
        <p:spPr>
          <a:xfrm rot="5400000">
            <a:off x="3141000" y="2741400"/>
            <a:ext cx="181800" cy="1152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6" idx="2"/>
            <a:endCxn id="248" idx="0"/>
          </p:cNvCxnSpPr>
          <p:nvPr/>
        </p:nvCxnSpPr>
        <p:spPr>
          <a:xfrm rot="5400000">
            <a:off x="4277880" y="2146320"/>
            <a:ext cx="316440" cy="5040720"/>
          </a:xfrm>
          <a:prstGeom prst="bentConnector3">
            <a:avLst>
              <a:gd name="adj1" fmla="val 4965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0" idx="2"/>
            <a:endCxn id="248" idx="0"/>
          </p:cNvCxnSpPr>
          <p:nvPr/>
        </p:nvCxnSpPr>
        <p:spPr>
          <a:xfrm rot="5400000">
            <a:off x="1972080" y="4452120"/>
            <a:ext cx="316440" cy="429120"/>
          </a:xfrm>
          <a:prstGeom prst="bentConnector3">
            <a:avLst>
              <a:gd name="adj1" fmla="val 4965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15920" y="4824360"/>
            <a:ext cx="36003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번호 계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가장 높은 번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5229360"/>
            <a:ext cx="287964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Num) from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freeboard)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7040" y="5229360"/>
            <a:ext cx="448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89840" y="518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94200" y="5256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9092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628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200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48" idx="3"/>
            <a:endCxn id="242" idx="1"/>
          </p:cNvCxnSpPr>
          <p:nvPr/>
        </p:nvCxnSpPr>
        <p:spPr>
          <a:xfrm>
            <a:off x="3715920" y="5229000"/>
            <a:ext cx="3610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9" idx="2"/>
            <a:endCxn id="255" idx="0"/>
          </p:cNvCxnSpPr>
          <p:nvPr/>
        </p:nvCxnSpPr>
        <p:spPr>
          <a:xfrm flipH="1" rot="16200000">
            <a:off x="5474520" y="3340080"/>
            <a:ext cx="878400" cy="2967480"/>
          </a:xfrm>
          <a:prstGeom prst="curvedConnector5">
            <a:avLst>
              <a:gd name="adj1" fmla="val 25830"/>
              <a:gd name="adj2" fmla="val 50000"/>
              <a:gd name="adj3" fmla="val 25830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260" name=""/>
          <p:cNvCxnSpPr>
            <a:stCxn id="261" idx="2"/>
            <a:endCxn id="254" idx="0"/>
          </p:cNvCxnSpPr>
          <p:nvPr/>
        </p:nvCxnSpPr>
        <p:spPr>
          <a:xfrm flipH="1" rot="16200000">
            <a:off x="4928400" y="3018240"/>
            <a:ext cx="878400" cy="3610800"/>
          </a:xfrm>
          <a:prstGeom prst="curvedConnector5">
            <a:avLst>
              <a:gd name="adj1" fmla="val 40467"/>
              <a:gd name="adj2" fmla="val 49995"/>
              <a:gd name="adj3" fmla="val 40467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657360" y="5813280"/>
            <a:ext cx="7245360" cy="9464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수 증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2" idx="2"/>
            <a:endCxn id="253" idx="2"/>
          </p:cNvCxnSpPr>
          <p:nvPr/>
        </p:nvCxnSpPr>
        <p:spPr>
          <a:xfrm flipH="1" rot="16200000">
            <a:off x="5158440" y="3894480"/>
            <a:ext cx="2520" cy="3232800"/>
          </a:xfrm>
          <a:prstGeom prst="curvedConnector5">
            <a:avLst>
              <a:gd name="adj1" fmla="val 14400000"/>
              <a:gd name="adj2" fmla="val 49994"/>
              <a:gd name="adj3" fmla="val 14400000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8305200" y="4824360"/>
            <a:ext cx="815760" cy="32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4" idx="1"/>
            <a:endCxn id="256" idx="0"/>
          </p:cNvCxnSpPr>
          <p:nvPr/>
        </p:nvCxnSpPr>
        <p:spPr>
          <a:xfrm flipV="1" rot="10800000">
            <a:off x="7622280" y="4986720"/>
            <a:ext cx="685080" cy="275400"/>
          </a:xfrm>
          <a:prstGeom prst="curvedConnector2">
            <a:avLst/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266" name=""/>
          <p:cNvCxnSpPr>
            <a:stCxn id="242" idx="3"/>
            <a:endCxn id="262" idx="3"/>
          </p:cNvCxnSpPr>
          <p:nvPr/>
        </p:nvCxnSpPr>
        <p:spPr>
          <a:xfrm flipH="1">
            <a:off x="7902000" y="5229000"/>
            <a:ext cx="315000" cy="1058040"/>
          </a:xfrm>
          <a:prstGeom prst="bentConnector3">
            <a:avLst>
              <a:gd name="adj1" fmla="val -726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2398320" y="327168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18720" y="327168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2000" y="6173640"/>
            <a:ext cx="3692520" cy="4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freeboard set childCount = childCount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1 and depth = r and step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10240" y="6173640"/>
            <a:ext cx="3057480" cy="4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step) from free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1 and step &lt; 4 and depth 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1"/>
            <a:endCxn id="272" idx="3"/>
          </p:cNvCxnSpPr>
          <p:nvPr/>
        </p:nvCxnSpPr>
        <p:spPr>
          <a:xfrm flipV="1" rot="10800000">
            <a:off x="4147560" y="6420240"/>
            <a:ext cx="562680" cy="1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657036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55" idx="2"/>
            <a:endCxn id="273" idx="0"/>
          </p:cNvCxnSpPr>
          <p:nvPr/>
        </p:nvCxnSpPr>
        <p:spPr>
          <a:xfrm rot="5400000">
            <a:off x="6582600" y="5585040"/>
            <a:ext cx="883440" cy="746640"/>
          </a:xfrm>
          <a:prstGeom prst="curvedConnector5">
            <a:avLst>
              <a:gd name="adj1" fmla="val 55197"/>
              <a:gd name="adj2" fmla="val 49975"/>
              <a:gd name="adj3" fmla="val 55197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65128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54" idx="2"/>
            <a:endCxn id="275" idx="0"/>
          </p:cNvCxnSpPr>
          <p:nvPr/>
        </p:nvCxnSpPr>
        <p:spPr>
          <a:xfrm rot="5400000">
            <a:off x="6010200" y="5238000"/>
            <a:ext cx="883440" cy="14403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4038840" y="4094280"/>
            <a:ext cx="448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81200" y="413064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77240" y="40593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30" idx="2"/>
            <a:endCxn id="264" idx="0"/>
          </p:cNvCxnSpPr>
          <p:nvPr/>
        </p:nvCxnSpPr>
        <p:spPr>
          <a:xfrm flipH="1" rot="16200000">
            <a:off x="6016680" y="2126880"/>
            <a:ext cx="2234160" cy="3161520"/>
          </a:xfrm>
          <a:prstGeom prst="curvedConnector5">
            <a:avLst>
              <a:gd name="adj1" fmla="val 11071"/>
              <a:gd name="adj2" fmla="val 49994"/>
              <a:gd name="adj3" fmla="val 11071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760536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56" idx="2"/>
            <a:endCxn id="279" idx="0"/>
          </p:cNvCxnSpPr>
          <p:nvPr/>
        </p:nvCxnSpPr>
        <p:spPr>
          <a:xfrm flipH="1" rot="16200000">
            <a:off x="7212600" y="5925960"/>
            <a:ext cx="883440" cy="644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631280" y="5815080"/>
            <a:ext cx="547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pth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6036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6964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8592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416640" y="122400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316640" y="1767960"/>
            <a:ext cx="1648080" cy="860400"/>
          </a:xfrm>
          <a:prstGeom prst="cloudCallout">
            <a:avLst>
              <a:gd name="adj1" fmla="val -64347"/>
              <a:gd name="adj2" fmla="val -8149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아주 복잡해 보이지만 잘 생각해 보면 아주 간단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16280" y="684360"/>
            <a:ext cx="4527720" cy="58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작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5920" y="1314360"/>
          <a:ext cx="4186080" cy="331560"/>
        </p:xfrm>
        <a:graphic>
          <a:graphicData uri="http://schemas.openxmlformats.org/drawingml/2006/table">
            <a:tbl>
              <a:tblPr/>
              <a:tblGrid>
                <a:gridCol w="270000"/>
                <a:gridCol w="2474640"/>
                <a:gridCol w="360360"/>
                <a:gridCol w="360360"/>
                <a:gridCol w="360360"/>
                <a:gridCol w="360360"/>
              </a:tblGrid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751280" y="98280"/>
          <a:ext cx="4275000" cy="1711440"/>
        </p:xfrm>
        <a:graphic>
          <a:graphicData uri="http://schemas.openxmlformats.org/drawingml/2006/table">
            <a:tbl>
              <a:tblPr/>
              <a:tblGrid>
                <a:gridCol w="314280"/>
                <a:gridCol w="2205000"/>
                <a:gridCol w="316080"/>
                <a:gridCol w="358560"/>
                <a:gridCol w="406440"/>
                <a:gridCol w="674640"/>
              </a:tblGrid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531000" y="998640"/>
            <a:ext cx="1806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번 글에 대한 새로운 답변 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50200" y="1133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endCxn id="293" idx="1"/>
          </p:cNvCxnSpPr>
          <p:nvPr/>
        </p:nvCxnSpPr>
        <p:spPr>
          <a:xfrm flipV="1">
            <a:off x="4302000" y="1296360"/>
            <a:ext cx="450000" cy="184680"/>
          </a:xfrm>
          <a:prstGeom prst="curvedConnector5">
            <a:avLst>
              <a:gd name="adj1" fmla="val 49799"/>
              <a:gd name="adj2" fmla="val 50000"/>
              <a:gd name="adj3" fmla="val 4979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4153320" y="1020600"/>
            <a:ext cx="41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삽입위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280" y="1898640"/>
            <a:ext cx="62103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의 삽입위치 계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6280" y="2303640"/>
            <a:ext cx="548964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elect min(step) from freeboard where ref = 1 and step &gt; 2 and depth &lt;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628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7164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6280" y="23367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endCxn id="299" idx="0"/>
          </p:cNvCxnSpPr>
          <p:nvPr/>
        </p:nvCxnSpPr>
        <p:spPr>
          <a:xfrm flipH="1" rot="16200000">
            <a:off x="4312440" y="1095840"/>
            <a:ext cx="691200" cy="1791360"/>
          </a:xfrm>
          <a:prstGeom prst="curvedConnector5">
            <a:avLst>
              <a:gd name="adj1" fmla="val 30797"/>
              <a:gd name="adj2" fmla="val 49989"/>
              <a:gd name="adj3" fmla="val 30797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302" name=""/>
          <p:cNvCxnSpPr>
            <a:endCxn id="298" idx="0"/>
          </p:cNvCxnSpPr>
          <p:nvPr/>
        </p:nvCxnSpPr>
        <p:spPr>
          <a:xfrm flipH="1" rot="16200000">
            <a:off x="3568680" y="1478520"/>
            <a:ext cx="691200" cy="1026360"/>
          </a:xfrm>
          <a:prstGeom prst="curvedConnector5">
            <a:avLst>
              <a:gd name="adj1" fmla="val 32621"/>
              <a:gd name="adj2" fmla="val 50000"/>
              <a:gd name="adj3" fmla="val 32621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303" name=""/>
          <p:cNvCxnSpPr>
            <a:endCxn id="300" idx="0"/>
          </p:cNvCxnSpPr>
          <p:nvPr/>
        </p:nvCxnSpPr>
        <p:spPr>
          <a:xfrm flipH="1" rot="16200000">
            <a:off x="2938320" y="1748520"/>
            <a:ext cx="691200" cy="486360"/>
          </a:xfrm>
          <a:prstGeom prst="curvedConnector5">
            <a:avLst>
              <a:gd name="adj1" fmla="val 49869"/>
              <a:gd name="adj2" fmla="val 50000"/>
              <a:gd name="adj3" fmla="val 4986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277720" y="2845080"/>
            <a:ext cx="1791720" cy="600840"/>
          </a:xfrm>
          <a:prstGeom prst="diamond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결과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0560" y="3699000"/>
            <a:ext cx="50421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위 답변 글들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증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65560" y="4103640"/>
            <a:ext cx="477216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freeboard set step = step + 1 where ref = 1 and step &gt;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02400" y="2303640"/>
            <a:ext cx="448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8960" y="413712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712000" y="414180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0" idx="2"/>
            <a:endCxn id="308" idx="0"/>
          </p:cNvCxnSpPr>
          <p:nvPr/>
        </p:nvCxnSpPr>
        <p:spPr>
          <a:xfrm flipH="1" rot="16200000">
            <a:off x="4880520" y="1236960"/>
            <a:ext cx="1546920" cy="4253760"/>
          </a:xfrm>
          <a:prstGeom prst="curvedConnector5">
            <a:avLst>
              <a:gd name="adj1" fmla="val 38803"/>
              <a:gd name="adj2" fmla="val 49995"/>
              <a:gd name="adj3" fmla="val 38803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6055200" y="225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2"/>
            <a:endCxn id="309" idx="0"/>
          </p:cNvCxnSpPr>
          <p:nvPr/>
        </p:nvCxnSpPr>
        <p:spPr>
          <a:xfrm flipH="1" rot="16200000">
            <a:off x="6672240" y="2020680"/>
            <a:ext cx="1558080" cy="2684880"/>
          </a:xfrm>
          <a:prstGeom prst="curvedConnector5">
            <a:avLst>
              <a:gd name="adj1" fmla="val 32701"/>
              <a:gd name="adj2" fmla="val 49993"/>
              <a:gd name="adj3" fmla="val 32701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71280" y="3699000"/>
            <a:ext cx="368964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삽입 위치 다시 계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2000" y="4103640"/>
            <a:ext cx="350820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step) from freeboard where ref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76640" y="4824360"/>
            <a:ext cx="41403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삽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11640" y="5229360"/>
            <a:ext cx="387036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ert into freeboard( ... ) values(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, ..., 1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4" idx="2"/>
            <a:endCxn id="313" idx="0"/>
          </p:cNvCxnSpPr>
          <p:nvPr/>
        </p:nvCxnSpPr>
        <p:spPr>
          <a:xfrm rot="5400000">
            <a:off x="2395800" y="2920320"/>
            <a:ext cx="299160" cy="125928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4" idx="2"/>
            <a:endCxn id="305" idx="0"/>
          </p:cNvCxnSpPr>
          <p:nvPr/>
        </p:nvCxnSpPr>
        <p:spPr>
          <a:xfrm flipH="1" rot="16200000">
            <a:off x="4713840" y="1860840"/>
            <a:ext cx="299160" cy="3377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96" idx="2"/>
            <a:endCxn id="304" idx="0"/>
          </p:cNvCxnSpPr>
          <p:nvPr/>
        </p:nvCxnSpPr>
        <p:spPr>
          <a:xfrm rot="5400000">
            <a:off x="3084480" y="2797560"/>
            <a:ext cx="18180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05" idx="2"/>
            <a:endCxn id="321" idx="0"/>
          </p:cNvCxnSpPr>
          <p:nvPr/>
        </p:nvCxnSpPr>
        <p:spPr>
          <a:xfrm rot="5400000">
            <a:off x="4075560" y="2348640"/>
            <a:ext cx="316440" cy="4636080"/>
          </a:xfrm>
          <a:prstGeom prst="bentConnector3">
            <a:avLst>
              <a:gd name="adj1" fmla="val 4965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3" idx="2"/>
            <a:endCxn id="321" idx="0"/>
          </p:cNvCxnSpPr>
          <p:nvPr/>
        </p:nvCxnSpPr>
        <p:spPr>
          <a:xfrm flipV="1" rot="10800000">
            <a:off x="1915560" y="4508280"/>
            <a:ext cx="1080" cy="316440"/>
          </a:xfrm>
          <a:prstGeom prst="bent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115920" y="4824360"/>
            <a:ext cx="360036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번호 계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가장 높은 번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5229360"/>
            <a:ext cx="287964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Num) from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freeboard)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37040" y="5229360"/>
            <a:ext cx="448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89840" y="518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94200" y="5256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9092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628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42000" y="526248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3"/>
            <a:endCxn id="315" idx="1"/>
          </p:cNvCxnSpPr>
          <p:nvPr/>
        </p:nvCxnSpPr>
        <p:spPr>
          <a:xfrm>
            <a:off x="3715920" y="5229000"/>
            <a:ext cx="3610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09" idx="2"/>
            <a:endCxn id="328" idx="0"/>
          </p:cNvCxnSpPr>
          <p:nvPr/>
        </p:nvCxnSpPr>
        <p:spPr>
          <a:xfrm rot="5400000">
            <a:off x="7661880" y="4131360"/>
            <a:ext cx="867240" cy="1395720"/>
          </a:xfrm>
          <a:prstGeom prst="curvedConnector5">
            <a:avLst>
              <a:gd name="adj1" fmla="val 31312"/>
              <a:gd name="adj2" fmla="val 50000"/>
              <a:gd name="adj3" fmla="val 31312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332" name=""/>
          <p:cNvCxnSpPr>
            <a:stCxn id="308" idx="2"/>
            <a:endCxn id="327" idx="0"/>
          </p:cNvCxnSpPr>
          <p:nvPr/>
        </p:nvCxnSpPr>
        <p:spPr>
          <a:xfrm rot="5400000">
            <a:off x="7039800" y="4522320"/>
            <a:ext cx="872280" cy="608760"/>
          </a:xfrm>
          <a:prstGeom prst="curvedConnector5">
            <a:avLst>
              <a:gd name="adj1" fmla="val 33691"/>
              <a:gd name="adj2" fmla="val 50000"/>
              <a:gd name="adj3" fmla="val 33691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657360" y="5813280"/>
            <a:ext cx="7245360" cy="9464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수 증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25" idx="2"/>
            <a:endCxn id="326" idx="2"/>
          </p:cNvCxnSpPr>
          <p:nvPr/>
        </p:nvCxnSpPr>
        <p:spPr>
          <a:xfrm flipH="1" rot="16200000">
            <a:off x="5158440" y="3894480"/>
            <a:ext cx="2520" cy="3232800"/>
          </a:xfrm>
          <a:prstGeom prst="curvedConnector5">
            <a:avLst>
              <a:gd name="adj1" fmla="val 22500000"/>
              <a:gd name="adj2" fmla="val 49994"/>
              <a:gd name="adj3" fmla="val 22500000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8305200" y="4824360"/>
            <a:ext cx="815760" cy="32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5" idx="1"/>
            <a:endCxn id="329" idx="0"/>
          </p:cNvCxnSpPr>
          <p:nvPr/>
        </p:nvCxnSpPr>
        <p:spPr>
          <a:xfrm flipV="1" rot="10800000">
            <a:off x="7622280" y="4986720"/>
            <a:ext cx="685080" cy="275400"/>
          </a:xfrm>
          <a:prstGeom prst="curvedConnector2">
            <a:avLst/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cxnSp>
        <p:nvCxnSpPr>
          <p:cNvPr id="337" name=""/>
          <p:cNvCxnSpPr>
            <a:stCxn id="315" idx="3"/>
            <a:endCxn id="333" idx="3"/>
          </p:cNvCxnSpPr>
          <p:nvPr/>
        </p:nvCxnSpPr>
        <p:spPr>
          <a:xfrm flipH="1">
            <a:off x="7902000" y="5229000"/>
            <a:ext cx="315000" cy="1058040"/>
          </a:xfrm>
          <a:prstGeom prst="bentConnector3">
            <a:avLst>
              <a:gd name="adj1" fmla="val -726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2398320" y="327168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8720" y="327168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2000" y="6173640"/>
            <a:ext cx="3692520" cy="4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freeboard set childCount = childCount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1 and depth = r and step = max_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10240" y="6173640"/>
            <a:ext cx="3057480" cy="4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step) from free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1 and step &lt; 4 and depth 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78480" y="6454800"/>
            <a:ext cx="717120" cy="181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_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1" idx="1"/>
            <a:endCxn id="342" idx="3"/>
          </p:cNvCxnSpPr>
          <p:nvPr/>
        </p:nvCxnSpPr>
        <p:spPr>
          <a:xfrm flipV="1" rot="10800000">
            <a:off x="4392720" y="6420960"/>
            <a:ext cx="317880" cy="124560"/>
          </a:xfrm>
          <a:prstGeom prst="curvedConnector5">
            <a:avLst>
              <a:gd name="adj1" fmla="val 50000"/>
              <a:gd name="adj2" fmla="val 49855"/>
              <a:gd name="adj3" fmla="val 50000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655128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28" idx="2"/>
            <a:endCxn id="344" idx="0"/>
          </p:cNvCxnSpPr>
          <p:nvPr/>
        </p:nvCxnSpPr>
        <p:spPr>
          <a:xfrm rot="5400000">
            <a:off x="6572880" y="5575320"/>
            <a:ext cx="883440" cy="76572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565128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27" idx="2"/>
            <a:endCxn id="346" idx="0"/>
          </p:cNvCxnSpPr>
          <p:nvPr/>
        </p:nvCxnSpPr>
        <p:spPr>
          <a:xfrm rot="5400000">
            <a:off x="6010200" y="5238000"/>
            <a:ext cx="883440" cy="14403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7605720" y="6399360"/>
            <a:ext cx="1519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29" idx="2"/>
            <a:endCxn id="348" idx="0"/>
          </p:cNvCxnSpPr>
          <p:nvPr/>
        </p:nvCxnSpPr>
        <p:spPr>
          <a:xfrm flipH="1" rot="16200000">
            <a:off x="7211160" y="5928120"/>
            <a:ext cx="883440" cy="59760"/>
          </a:xfrm>
          <a:prstGeom prst="curvedConnector5">
            <a:avLst>
              <a:gd name="adj1" fmla="val 49979"/>
              <a:gd name="adj2" fmla="val 49696"/>
              <a:gd name="adj3" fmla="val 49979"/>
            </a:avLst>
          </a:prstGeom>
          <a:ln w="38160">
            <a:solidFill>
              <a:srgbClr val="ff8989"/>
            </a:solidFill>
            <a:prstDash val="sysDot"/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631280" y="5815080"/>
            <a:ext cx="547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pth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36280" y="6399360"/>
            <a:ext cx="1627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54360" y="6399360"/>
            <a:ext cx="151920" cy="25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9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작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답변 글 삽입 위치 계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step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보다 큰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Yes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위 답변 글들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te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씩 증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이 삽입될 위치 재계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마지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tep 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1449360"/>
            <a:ext cx="7380360" cy="14000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min(step) from " + boardName + " where ref = " + data.getRe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and depth &lt;= " + data.getDepth() + " and step &gt; " + data.getSte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mstep = adminExecuteQueryNum(sql)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inste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3297240"/>
            <a:ext cx="5986440" cy="492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mstep &gt; 0) { ... } else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194000"/>
            <a:ext cx="5986440" cy="1400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update " + boardName + " set step = step + 1 where ref =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data.getRef() + " and step &gt;= " + mst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step = mst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71640" y="6000840"/>
            <a:ext cx="6796080" cy="7588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select max(step) from " + boardName + " where ref = " + data.getRe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step = adminExecuteQueryNum(sql)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82000" y="2979720"/>
            <a:ext cx="579240" cy="934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418440" y="4587120"/>
            <a:ext cx="2609640" cy="1099440"/>
          </a:xfrm>
          <a:prstGeom prst="cloudCallout">
            <a:avLst>
              <a:gd name="adj1" fmla="val 6810"/>
              <a:gd name="adj2" fmla="val -1434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ste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보다 크지 않다는 것은 작성된 답변 글이 원문 글에 대한 답변이라는 것을 의미하기 때문에 답변 글 중 가장 마지막에 삽입되는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작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번호 계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삽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답변 글 수 증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만큼 반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이 달려있는 상위 글 선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해당 글의 카운트 증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1449360"/>
            <a:ext cx="5986440" cy="399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maxNum = getMaxNum(boardName)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2259000"/>
            <a:ext cx="7740720" cy="8510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Insert into " + boardName + ... + "values(" + ...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data.getRef() + ", " + instep + ", " + (++depth) + ", 0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462720" y="1133640"/>
            <a:ext cx="689040" cy="966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137360" y="1949040"/>
            <a:ext cx="1738440" cy="860400"/>
          </a:xfrm>
          <a:prstGeom prst="cloudCallout">
            <a:avLst>
              <a:gd name="adj1" fmla="val -54634"/>
              <a:gd name="adj2" fmla="val -12870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답변 글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인자로 전달된 값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더하면 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5865840"/>
            <a:ext cx="7561080" cy="860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update " + boardName + " set childCount = childCount + 1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where ref = " + data.getRef() + " and depth = " + r + " and step = " + max_St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3743280"/>
            <a:ext cx="5986440" cy="40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(int r = depth - 1; r &gt;= 0; r--) {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4576680"/>
            <a:ext cx="7561080" cy="860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select max(step) from " + boardName + " where ref = " + data.getRe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and depth = " + r + " and step &lt; " + inst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max_Step = 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902720" y="4373640"/>
            <a:ext cx="988920" cy="8856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562720" y="3298320"/>
            <a:ext cx="2314440" cy="1099440"/>
          </a:xfrm>
          <a:prstGeom prst="cloudCallout">
            <a:avLst>
              <a:gd name="adj1" fmla="val 64398"/>
              <a:gd name="adj2" fmla="val 7114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답변 글 작성의 마지막 단계로 해당 답변 글을 포함하고 있는 글들의 답변 글 수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씩 증가시켜 준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0360" y="1808280"/>
            <a:ext cx="8982360" cy="22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목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목록보기 구현 방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순으로 정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에 해당하는 목록 출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목록보기 구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06280" y="1914480"/>
          <a:ext cx="3960720" cy="1739880"/>
        </p:xfrm>
        <a:graphic>
          <a:graphicData uri="http://schemas.openxmlformats.org/drawingml/2006/table">
            <a:tbl>
              <a:tblPr/>
              <a:tblGrid>
                <a:gridCol w="360360"/>
                <a:gridCol w="1528560"/>
                <a:gridCol w="360360"/>
                <a:gridCol w="451080"/>
                <a:gridCol w="495000"/>
                <a:gridCol w="765360"/>
              </a:tblGrid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방가 방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사랑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4976640" y="1914480"/>
          <a:ext cx="3960720" cy="1739880"/>
        </p:xfrm>
        <a:graphic>
          <a:graphicData uri="http://schemas.openxmlformats.org/drawingml/2006/table">
            <a:tbl>
              <a:tblPr/>
              <a:tblGrid>
                <a:gridCol w="360360"/>
                <a:gridCol w="1528560"/>
                <a:gridCol w="360360"/>
                <a:gridCol w="451080"/>
                <a:gridCol w="495000"/>
                <a:gridCol w="765360"/>
              </a:tblGrid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사랑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방가 방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1411560" y="3745080"/>
            <a:ext cx="1617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데이터베이스에 저장된 순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87880" y="3743280"/>
            <a:ext cx="2052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순으로 정렬된 순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11640" y="2575080"/>
            <a:ext cx="720720" cy="495000"/>
          </a:xfrm>
          <a:custGeom>
            <a:avLst/>
            <a:gdLst>
              <a:gd name="textAreaLeft" fmla="*/ 112320 w 720720"/>
              <a:gd name="textAreaRight" fmla="*/ 551160 w 720720"/>
              <a:gd name="textAreaTop" fmla="*/ 118800 h 495000"/>
              <a:gd name="textAreaBottom" fmla="*/ 376200 h 495000"/>
            </a:gdLst>
            <a:ahLst/>
            <a:rect l="textAreaLeft" t="textAreaTop" r="textAreaRight" b="textAreaBottom"/>
            <a:pathLst>
              <a:path w="21600" h="21600">
                <a:moveTo>
                  <a:pt x="3375" y="5192"/>
                </a:moveTo>
                <a:lnTo>
                  <a:pt x="11799" y="5192"/>
                </a:lnTo>
                <a:lnTo>
                  <a:pt x="11799" y="0"/>
                </a:lnTo>
                <a:lnTo>
                  <a:pt x="21600" y="10800"/>
                </a:lnTo>
                <a:lnTo>
                  <a:pt x="11799" y="21600"/>
                </a:lnTo>
                <a:lnTo>
                  <a:pt x="11799" y="16408"/>
                </a:lnTo>
                <a:lnTo>
                  <a:pt x="3375" y="16408"/>
                </a:lnTo>
                <a:close/>
              </a:path>
              <a:path w="21600" h="21600">
                <a:moveTo>
                  <a:pt x="0" y="5192"/>
                </a:moveTo>
                <a:lnTo>
                  <a:pt x="675" y="5192"/>
                </a:lnTo>
                <a:lnTo>
                  <a:pt x="675" y="16408"/>
                </a:lnTo>
                <a:lnTo>
                  <a:pt x="0" y="16408"/>
                </a:lnTo>
                <a:close/>
              </a:path>
              <a:path w="21600" h="21600">
                <a:moveTo>
                  <a:pt x="1350" y="5192"/>
                </a:moveTo>
                <a:lnTo>
                  <a:pt x="2700" y="5192"/>
                </a:lnTo>
                <a:lnTo>
                  <a:pt x="2700" y="16408"/>
                </a:lnTo>
                <a:lnTo>
                  <a:pt x="1350" y="1640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721480"/>
            <a:ext cx="7335720" cy="103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select * from " + boardName + " order by ref desc, step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limit " + LINE_PER_PAGE * (currentPage - 1) + ", " + LINE_PER_P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admin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4554360"/>
            <a:ext cx="733572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lect   ...   limit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시작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레코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번호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레코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0720" y="4373640"/>
            <a:ext cx="8261640" cy="1936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1.1.1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페이징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페이징이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이 많아질 경우 한 페이지에 전체 글 목록을 보여줄 수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따라서 게시판 하단에 페이지 간의 이동을 원활하게 해줄 수 있는 페이지 링크를 만들기 위한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페이징의 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한 페이지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의 글을 보여줄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71640" y="4734000"/>
          <a:ext cx="2609640" cy="869760"/>
        </p:xfrm>
        <a:graphic>
          <a:graphicData uri="http://schemas.openxmlformats.org/drawingml/2006/table">
            <a:tbl>
              <a:tblPr/>
              <a:tblGrid>
                <a:gridCol w="360360"/>
                <a:gridCol w="1528560"/>
                <a:gridCol w="720720"/>
              </a:tblGrid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사랑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ji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ji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안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989600" y="4494240"/>
          <a:ext cx="2609640" cy="869760"/>
        </p:xfrm>
        <a:graphic>
          <a:graphicData uri="http://schemas.openxmlformats.org/drawingml/2006/table">
            <a:tbl>
              <a:tblPr/>
              <a:tblGrid>
                <a:gridCol w="360360"/>
                <a:gridCol w="1528560"/>
                <a:gridCol w="720720"/>
              </a:tblGrid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합니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270000"/>
                          <a:tab algn="l" pos="539640"/>
                          <a:tab algn="l" pos="809640"/>
                          <a:tab algn="l" pos="1079640"/>
                          <a:tab algn="l" pos="1349280"/>
                          <a:tab algn="l" pos="1619280"/>
                          <a:tab algn="l" pos="1889280"/>
                          <a:tab algn="l" pos="2158920"/>
                          <a:tab algn="l" pos="2428920"/>
                          <a:tab algn="l" pos="2698920"/>
                          <a:tab algn="l" pos="2968560"/>
                          <a:tab algn="l" pos="3238560"/>
                          <a:tab algn="l" pos="3508200"/>
                          <a:tab algn="l" pos="3778200"/>
                          <a:tab algn="l" pos="4048200"/>
                          <a:tab algn="l" pos="4317840"/>
                          <a:tab algn="l" pos="4587840"/>
                          <a:tab algn="l" pos="4857840"/>
                          <a:tab algn="l" pos="5127480"/>
                          <a:tab algn="l" pos="53974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축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ji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89600" y="5784840"/>
          <a:ext cx="2609640" cy="434880"/>
        </p:xfrm>
        <a:graphic>
          <a:graphicData uri="http://schemas.openxmlformats.org/drawingml/2006/table">
            <a:tbl>
              <a:tblPr/>
              <a:tblGrid>
                <a:gridCol w="360360"/>
                <a:gridCol w="1528560"/>
                <a:gridCol w="720720"/>
              </a:tblGrid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방가 방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970200" y="4373640"/>
            <a:ext cx="66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88520" y="4768920"/>
            <a:ext cx="66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88520" y="5830920"/>
            <a:ext cx="66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24320" y="5632560"/>
            <a:ext cx="1195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1]   [2]   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84840" y="5587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7600" y="56228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3"/>
          </p:cNvCxnSpPr>
          <p:nvPr/>
        </p:nvCxnSpPr>
        <p:spPr>
          <a:xfrm>
            <a:off x="2815920" y="5795640"/>
            <a:ext cx="2174040" cy="20700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01" name=""/>
          <p:cNvCxnSpPr>
            <a:stCxn id="398" idx="2"/>
          </p:cNvCxnSpPr>
          <p:nvPr/>
        </p:nvCxnSpPr>
        <p:spPr>
          <a:xfrm flipH="1" flipV="1" rot="5400000">
            <a:off x="3121560" y="4045320"/>
            <a:ext cx="984960" cy="2751840"/>
          </a:xfrm>
          <a:prstGeom prst="curvedConnector5">
            <a:avLst>
              <a:gd name="adj1" fmla="val -23034"/>
              <a:gd name="adj2" fmla="val 33926"/>
              <a:gd name="adj3" fmla="val -23034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987480" y="6045120"/>
            <a:ext cx="5443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현재 페이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91280" y="56325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2" idx="0"/>
            <a:endCxn id="403" idx="1"/>
          </p:cNvCxnSpPr>
          <p:nvPr/>
        </p:nvCxnSpPr>
        <p:spPr>
          <a:xfrm flipH="1" flipV="1" rot="5400000">
            <a:off x="1351440" y="5704200"/>
            <a:ext cx="249840" cy="4327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927240" y="5837400"/>
            <a:ext cx="2851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411800" y="1611360"/>
            <a:ext cx="279360" cy="2565360"/>
          </a:xfrm>
          <a:custGeom>
            <a:avLst/>
            <a:gdLst>
              <a:gd name="textAreaLeft" fmla="*/ 178560 w 279360"/>
              <a:gd name="textAreaRight" fmla="*/ 279720 w 27936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40360" y="3078000"/>
            <a:ext cx="85824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각 페이지로의 링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68160" y="3078000"/>
            <a:ext cx="133308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 목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1~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644920" y="2490840"/>
            <a:ext cx="3817800" cy="27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1780560" y="3078000"/>
            <a:ext cx="12567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 목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~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47360" y="2448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8320" y="243828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1" idx="2"/>
            <a:endCxn id="408" idx="0"/>
          </p:cNvCxnSpPr>
          <p:nvPr/>
        </p:nvCxnSpPr>
        <p:spPr>
          <a:xfrm flipH="1" rot="16200000">
            <a:off x="6315840" y="2657880"/>
            <a:ext cx="305280" cy="535680"/>
          </a:xfrm>
          <a:prstGeom prst="bentConnector3">
            <a:avLst>
              <a:gd name="adj1" fmla="val 49468"/>
            </a:avLst>
          </a:prstGeom>
          <a:ln w="28440">
            <a:solidFill>
              <a:srgbClr val="ff0000"/>
            </a:solidFill>
            <a:prstDash val="sysDot"/>
            <a:miter/>
          </a:ln>
        </p:spPr>
      </p:cxnSp>
      <p:cxnSp>
        <p:nvCxnSpPr>
          <p:cNvPr id="414" name=""/>
          <p:cNvCxnSpPr>
            <a:stCxn id="412" idx="2"/>
            <a:endCxn id="410" idx="0"/>
          </p:cNvCxnSpPr>
          <p:nvPr/>
        </p:nvCxnSpPr>
        <p:spPr>
          <a:xfrm rot="5400000">
            <a:off x="2498040" y="2674440"/>
            <a:ext cx="315000" cy="492840"/>
          </a:xfrm>
          <a:prstGeom prst="bentConnector3">
            <a:avLst>
              <a:gd name="adj1" fmla="val 49427"/>
            </a:avLst>
          </a:prstGeom>
          <a:ln w="28440">
            <a:solidFill>
              <a:srgbClr val="ff0000"/>
            </a:solidFill>
            <a:prstDash val="sysDot"/>
            <a:miter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1.1.1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페이징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출력될 시작 페이지와 끝 페이지 계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버튼 출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현재 페이지가 한 페이지에 출력될 페이지 수보다 클 경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버튼의 링크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페이지 링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버튼 출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전체 페이지가 현재 페이지에 출력된 페이지 리스트의 마지막 페이지보다 클 경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버튼의 링크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71640" y="1449360"/>
            <a:ext cx="6391080" cy="806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NUM = 10;     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한 페이지에 출력될 페이지의 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artPage = ((currentPage - 1) / PAGENUM) * PAGENUM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dpage = (((startpage - 1) + PAGENUM) / PAGENUM) * PAGE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71640" y="2933640"/>
            <a:ext cx="7291440" cy="1041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currentPage &gt; PAGENU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linkPage = startPage -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List = "&lt;a href='" + list_url + "&amp;page=" + linkPage + "'&gt;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&lt;/a&gt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984920" y="3833640"/>
            <a:ext cx="3817800" cy="2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4886280" y="3789360"/>
            <a:ext cx="585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1"/>
            <a:endCxn id="420" idx="2"/>
          </p:cNvCxnSpPr>
          <p:nvPr/>
        </p:nvCxnSpPr>
        <p:spPr>
          <a:xfrm flipV="1" rot="10800000">
            <a:off x="4617360" y="3969360"/>
            <a:ext cx="249840" cy="5400"/>
          </a:xfrm>
          <a:prstGeom prst="curvedConnector5">
            <a:avLst>
              <a:gd name="adj1" fmla="val 30447"/>
              <a:gd name="adj2" fmla="val 2600000"/>
              <a:gd name="adj3" fmla="val 3044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71640" y="5718240"/>
            <a:ext cx="7470720" cy="1041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totalPage &gt; endPag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linkPage = endPage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List += "&lt;a href='" + boardLink + "&amp;page=" + linkPage + "'&gt;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&lt;/a&gt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4419720"/>
            <a:ext cx="7380360" cy="40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startPage &lt;= endPage) 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각 페이지의 링크 작성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86840" y="3789360"/>
            <a:ext cx="585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6" idx="3"/>
            <a:endCxn id="424" idx="3"/>
          </p:cNvCxnSpPr>
          <p:nvPr/>
        </p:nvCxnSpPr>
        <p:spPr>
          <a:xfrm flipH="1">
            <a:off x="8442000" y="3970080"/>
            <a:ext cx="450000" cy="2269080"/>
          </a:xfrm>
          <a:prstGeom prst="curvedConnector5">
            <a:avLst>
              <a:gd name="adj1" fmla="val -46277"/>
              <a:gd name="adj2" fmla="val 50000"/>
              <a:gd name="adj3" fmla="val -4627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5540400" y="3789360"/>
            <a:ext cx="2655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28" idx="2"/>
            <a:endCxn id="425" idx="0"/>
          </p:cNvCxnSpPr>
          <p:nvPr/>
        </p:nvCxnSpPr>
        <p:spPr>
          <a:xfrm rot="5400000">
            <a:off x="5639760" y="3190680"/>
            <a:ext cx="251640" cy="2207520"/>
          </a:xfrm>
          <a:prstGeom prst="curvedConnector5">
            <a:avLst>
              <a:gd name="adj1" fmla="val 45558"/>
              <a:gd name="adj2" fmla="val 49991"/>
              <a:gd name="adj3" fmla="val 4555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검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글 검색의 구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검색단어 설정 메소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앞서 작성한 글 목록보기 메소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getPage()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검색된 글 목록 출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71640" y="1763640"/>
            <a:ext cx="5986440" cy="112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검색 조건 설정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내용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작성자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Search(String search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검색 단어 설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Text(String text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427800" y="1042920"/>
            <a:ext cx="2419200" cy="7812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427800" y="1089000"/>
            <a:ext cx="674640" cy="717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92800" y="1089000"/>
            <a:ext cx="1170000" cy="314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0920" y="2033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21640" y="2563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6" idx="1"/>
            <a:endCxn id="438" idx="3"/>
          </p:cNvCxnSpPr>
          <p:nvPr/>
        </p:nvCxnSpPr>
        <p:spPr>
          <a:xfrm flipV="1" rot="10800000">
            <a:off x="4674600" y="1446840"/>
            <a:ext cx="1734120" cy="749880"/>
          </a:xfrm>
          <a:prstGeom prst="curvedConnector5">
            <a:avLst>
              <a:gd name="adj1" fmla="val 49439"/>
              <a:gd name="adj2" fmla="val 50000"/>
              <a:gd name="adj3" fmla="val 4943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41" name=""/>
          <p:cNvCxnSpPr>
            <a:stCxn id="437" idx="2"/>
            <a:endCxn id="439" idx="3"/>
          </p:cNvCxnSpPr>
          <p:nvPr/>
        </p:nvCxnSpPr>
        <p:spPr>
          <a:xfrm rot="5400000">
            <a:off x="5349240" y="298080"/>
            <a:ext cx="1305720" cy="35535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 flipH="1">
            <a:off x="8172000" y="162864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971640" y="6129360"/>
            <a:ext cx="7291440" cy="58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select * from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where upper(" + search + ") like upper('%" + text + "%'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53680" y="6450120"/>
            <a:ext cx="5187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85040" y="6450120"/>
            <a:ext cx="3056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3521160"/>
            <a:ext cx="6210360" cy="2022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ector getPage(String boardName, int currentPag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!(text.trim()).equals(""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text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변수에 저장된 값을 포함하는 글의 목록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검색 조건이 없는 일반적인 글 목록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admin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8400" y="4118040"/>
            <a:ext cx="3081960" cy="1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tex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변수에 저장된 값을 포함하는 글의 목록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12000" y="3163320"/>
            <a:ext cx="1801800" cy="860400"/>
          </a:xfrm>
          <a:prstGeom prst="cloudCallout">
            <a:avLst>
              <a:gd name="adj1" fmla="val 12620"/>
              <a:gd name="adj2" fmla="val -19052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은 제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작성자에 따라 검색을 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5697360" y="4824360"/>
            <a:ext cx="462240" cy="12952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932360" y="5159160"/>
            <a:ext cx="566640" cy="621720"/>
          </a:xfrm>
          <a:prstGeom prst="cloudCallout">
            <a:avLst>
              <a:gd name="adj1" fmla="val 84412"/>
              <a:gd name="adj2" fmla="val -751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 조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7360" y="5295600"/>
            <a:ext cx="765000" cy="621720"/>
          </a:xfrm>
          <a:prstGeom prst="cloudCallout">
            <a:avLst>
              <a:gd name="adj1" fmla="val -64060"/>
              <a:gd name="adj2" fmla="val -10752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 문자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0"/>
            <a:endCxn id="445" idx="0"/>
          </p:cNvCxnSpPr>
          <p:nvPr/>
        </p:nvCxnSpPr>
        <p:spPr>
          <a:xfrm rot="5400000">
            <a:off x="5900040" y="5730840"/>
            <a:ext cx="558000" cy="882000"/>
          </a:xfrm>
          <a:prstGeom prst="curvedConnector5">
            <a:avLst>
              <a:gd name="adj1" fmla="val 49838"/>
              <a:gd name="adj2" fmla="val 49979"/>
              <a:gd name="adj3" fmla="val 4983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53" name=""/>
          <p:cNvCxnSpPr>
            <a:stCxn id="450" idx="0"/>
            <a:endCxn id="444" idx="0"/>
          </p:cNvCxnSpPr>
          <p:nvPr/>
        </p:nvCxnSpPr>
        <p:spPr>
          <a:xfrm rot="5400000">
            <a:off x="4017240" y="5251320"/>
            <a:ext cx="694440" cy="1703880"/>
          </a:xfrm>
          <a:prstGeom prst="curvedConnector5">
            <a:avLst>
              <a:gd name="adj1" fmla="val 49844"/>
              <a:gd name="adj2" fmla="val 50000"/>
              <a:gd name="adj3" fmla="val 4984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삭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글 삭제하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86280" y="1673280"/>
            <a:ext cx="315108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삭제할 글의 데이터 질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9480" y="2077920"/>
            <a:ext cx="288288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* from freeboard where num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09080" y="2754360"/>
            <a:ext cx="1898640" cy="600840"/>
          </a:xfrm>
          <a:prstGeom prst="diamond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글 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73080" y="3743280"/>
            <a:ext cx="315108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해당 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06640" y="4148280"/>
            <a:ext cx="2882880" cy="3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 from freeboard where num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0920" y="5229360"/>
            <a:ext cx="7424640" cy="9460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수 감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3760" y="5589720"/>
            <a:ext cx="3692520" cy="495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freeboard set childCount = childCount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depth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step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5920" y="5589720"/>
            <a:ext cx="3057480" cy="495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max(step) from free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 ref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step &lt;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depth =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63" idx="3"/>
            <a:endCxn id="462" idx="1"/>
          </p:cNvCxnSpPr>
          <p:nvPr/>
        </p:nvCxnSpPr>
        <p:spPr>
          <a:xfrm>
            <a:off x="3443040" y="5837040"/>
            <a:ext cx="36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842000" y="3743280"/>
            <a:ext cx="315108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이 존재하는 글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삭제할 수 없습니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56" idx="2"/>
            <a:endCxn id="458" idx="0"/>
          </p:cNvCxnSpPr>
          <p:nvPr/>
        </p:nvCxnSpPr>
        <p:spPr>
          <a:xfrm flipH="1">
            <a:off x="4659120" y="2482560"/>
            <a:ext cx="3600" cy="316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58" idx="2"/>
            <a:endCxn id="459" idx="0"/>
          </p:cNvCxnSpPr>
          <p:nvPr/>
        </p:nvCxnSpPr>
        <p:spPr>
          <a:xfrm rot="5400000">
            <a:off x="3386880" y="2471400"/>
            <a:ext cx="434160" cy="21106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58" idx="2"/>
            <a:endCxn id="465" idx="0"/>
          </p:cNvCxnSpPr>
          <p:nvPr/>
        </p:nvCxnSpPr>
        <p:spPr>
          <a:xfrm flipH="1" rot="16200000">
            <a:off x="5322240" y="2646720"/>
            <a:ext cx="434160" cy="17596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59" idx="2"/>
            <a:endCxn id="461" idx="0"/>
          </p:cNvCxnSpPr>
          <p:nvPr/>
        </p:nvCxnSpPr>
        <p:spPr>
          <a:xfrm flipH="1" rot="16200000">
            <a:off x="2917440" y="4183560"/>
            <a:ext cx="677160" cy="1415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851280" y="2573280"/>
            <a:ext cx="7257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hild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45920" y="324972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39800" y="324972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41280" y="2394000"/>
            <a:ext cx="739800" cy="12542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197000" y="1767600"/>
            <a:ext cx="1692360" cy="621720"/>
          </a:xfrm>
          <a:prstGeom prst="cloudCallout">
            <a:avLst>
              <a:gd name="adj1" fmla="val -56356"/>
              <a:gd name="adj2" fmla="val 11602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하위 답변 글이 존재하는 글은 삭제할 수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8082000" y="2168640"/>
            <a:ext cx="458640" cy="12538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469280" y="4620600"/>
            <a:ext cx="1603440" cy="1099440"/>
          </a:xfrm>
          <a:prstGeom prst="cloudCallout">
            <a:avLst>
              <a:gd name="adj1" fmla="val 20074"/>
              <a:gd name="adj2" fmla="val -14872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삭제한 글을 포함하는 상위 글들의 답변 글 수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씩 감소시켜 준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삭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삭제 메소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삭제할 글의 데이터 질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답변 글의 존재 여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해당 글 삭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답변 글 수 감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3114720"/>
            <a:ext cx="5986440" cy="112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childCount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해당 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삭제된 글을 포함하고 있는 상위 답글 수 감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 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이 존재하므로 삭제할 수 없음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71640" y="4734000"/>
            <a:ext cx="598644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delete from " + boardName + " where num =" +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5589720"/>
            <a:ext cx="7245360" cy="112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(int r = depth - 1; r &gt;= 0; r--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삭제하려는 글을 포함하고 있는 모든 글들의 답변 수를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씩 감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 작성에서의 답변 글 수 증가와 동일한 구조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단지 감소일 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15000" y="3460680"/>
            <a:ext cx="9288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해당 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34120" y="3697200"/>
            <a:ext cx="27802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삭제된 글을 포함하고 있는 상위 답글 수 감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2" idx="1"/>
            <a:endCxn id="484" idx="1"/>
          </p:cNvCxnSpPr>
          <p:nvPr/>
        </p:nvCxnSpPr>
        <p:spPr>
          <a:xfrm flipH="1" rot="10800000">
            <a:off x="970560" y="3564720"/>
            <a:ext cx="967320" cy="1372320"/>
          </a:xfrm>
          <a:prstGeom prst="curvedConnector5">
            <a:avLst>
              <a:gd name="adj1" fmla="val -78629"/>
              <a:gd name="adj2" fmla="val 49986"/>
              <a:gd name="adj3" fmla="val -7862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87" name=""/>
          <p:cNvCxnSpPr>
            <a:stCxn id="483" idx="3"/>
            <a:endCxn id="485" idx="3"/>
          </p:cNvCxnSpPr>
          <p:nvPr/>
        </p:nvCxnSpPr>
        <p:spPr>
          <a:xfrm flipH="1" flipV="1">
            <a:off x="6112800" y="3801240"/>
            <a:ext cx="2104200" cy="2351880"/>
          </a:xfrm>
          <a:prstGeom prst="curvedConnector5">
            <a:avLst>
              <a:gd name="adj1" fmla="val -27019"/>
              <a:gd name="adj2" fmla="val 50000"/>
              <a:gd name="adj3" fmla="val -2701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912000" y="4554360"/>
            <a:ext cx="895320" cy="10717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642000" y="2532960"/>
            <a:ext cx="2357640" cy="1099440"/>
          </a:xfrm>
          <a:prstGeom prst="cloudCallout">
            <a:avLst>
              <a:gd name="adj1" fmla="val -5361"/>
              <a:gd name="adj2" fmla="val 13759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답변 글 작성에서 살펴보았던 답변 글 수 증가와 동일한 형태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단지 글 수를 감소시키는 것만 다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1403280"/>
            <a:ext cx="5986440" cy="40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tring deleteNotice(String boardName, int num)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2259000"/>
            <a:ext cx="5986440" cy="399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* from " + boardName + " where num=" +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sp>
          <p:nvSpPr>
            <p:cNvPr id="97" name=""/>
            <p:cNvSpPr/>
            <p:nvPr/>
          </p:nvSpPr>
          <p:spPr>
            <a:xfrm>
              <a:off x="71280" y="414360"/>
              <a:ext cx="8912160" cy="5851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80" y="639720"/>
              <a:ext cx="8642160" cy="54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95360" y="5308560"/>
            <a:ext cx="4572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이 명 진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,  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최 영 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99ff"/>
                </a:solidFill>
                <a:latin typeface="Times New Roman"/>
                <a:ea typeface="바탕"/>
              </a:rPr>
              <a:t>Powered by http://www.jabook.o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286080"/>
            <a:ext cx="182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2</a:t>
            </a:r>
            <a:r>
              <a:rPr b="0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nd</a:t>
            </a: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8120" y="3338640"/>
            <a:ext cx="47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소설같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14480" y="3603600"/>
            <a:ext cx="373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08520" y="3398760"/>
            <a:ext cx="180720" cy="164880"/>
            <a:chOff x="4808520" y="3398760"/>
            <a:chExt cx="180720" cy="164880"/>
          </a:xfrm>
        </p:grpSpPr>
        <p:sp>
          <p:nvSpPr>
            <p:cNvPr id="104" name=""/>
            <p:cNvSpPr/>
            <p:nvPr/>
          </p:nvSpPr>
          <p:spPr>
            <a:xfrm>
              <a:off x="4808520" y="3398760"/>
              <a:ext cx="10404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33000" y="346572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85560" y="342216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049640" y="4778280"/>
            <a:ext cx="1035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2600" y="1449360"/>
            <a:ext cx="509400" cy="76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장 게시판 설계와 구현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그 밖의 메소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의 조회수 증가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이전 글과 다음 글을 구하기 위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71640" y="1494000"/>
            <a:ext cx="6661080" cy="148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increaseCnt(String boardName, int nu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update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set count = count + 1 where num=" + nu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71640" y="3564000"/>
            <a:ext cx="6661080" cy="265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[] getNextPrevNum(String boardName,int nu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[] nums = new int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num from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where num &gt; " + num + " order by Num desc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s[0] = 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= "select num from " + boardName + " where num &lt; " +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s[1] = 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num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858080" y="113364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327720" y="2922120"/>
            <a:ext cx="2630520" cy="1338120"/>
          </a:xfrm>
          <a:prstGeom prst="cloudCallout">
            <a:avLst>
              <a:gd name="adj1" fmla="val 11069"/>
              <a:gd name="adj2" fmla="val -13533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creaseCnt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글을 읽을 때마다 한번씩 호출되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getNextPrevNum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앞뒤에 작성된 글의 글 번호를 가져오기 위한 기능을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게시판의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페이지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146640" y="1089000"/>
            <a:ext cx="2881440" cy="4770360"/>
          </a:xfrm>
          <a:prstGeom prst="leftArrowCallout">
            <a:avLst>
              <a:gd name="adj1" fmla="val 41377"/>
              <a:gd name="adj2" fmla="val 41389"/>
              <a:gd name="adj3" fmla="val 17741"/>
              <a:gd name="adj4" fmla="val 75215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20600" y="591804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6280" y="1089000"/>
            <a:ext cx="5896080" cy="477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42320" y="591804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1 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의 전체 구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00400" y="1673280"/>
            <a:ext cx="16192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목록보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00400" y="2062080"/>
            <a:ext cx="1619280" cy="38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List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79680" y="1673280"/>
            <a:ext cx="16192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79680" y="2062080"/>
            <a:ext cx="1619280" cy="38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97360" y="3473280"/>
            <a:ext cx="202572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새 글 쓰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쓰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97360" y="3862440"/>
            <a:ext cx="202572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41640" y="347328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41640" y="3862440"/>
            <a:ext cx="161928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da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7360" y="347328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7360" y="3862440"/>
            <a:ext cx="161928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ele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06640" y="5049720"/>
            <a:ext cx="1619280" cy="38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04160" y="3078000"/>
            <a:ext cx="1888920" cy="530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361280" y="4284720"/>
            <a:ext cx="1260360" cy="58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02360" y="2031840"/>
            <a:ext cx="1889280" cy="530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53440" y="2573280"/>
            <a:ext cx="1035000" cy="495360"/>
          </a:xfrm>
          <a:prstGeom prst="downArrow">
            <a:avLst>
              <a:gd name="adj1" fmla="val 49944"/>
              <a:gd name="adj2" fmla="val 58333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05" idx="1"/>
            <a:endCxn id="507" idx="3"/>
          </p:cNvCxnSpPr>
          <p:nvPr/>
        </p:nvCxnSpPr>
        <p:spPr>
          <a:xfrm flipH="1">
            <a:off x="3198600" y="1868040"/>
            <a:ext cx="90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3"/>
            <a:endCxn id="506" idx="1"/>
          </p:cNvCxnSpPr>
          <p:nvPr/>
        </p:nvCxnSpPr>
        <p:spPr>
          <a:xfrm>
            <a:off x="3198960" y="2257200"/>
            <a:ext cx="90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2"/>
            <a:endCxn id="511" idx="0"/>
          </p:cNvCxnSpPr>
          <p:nvPr/>
        </p:nvCxnSpPr>
        <p:spPr>
          <a:xfrm>
            <a:off x="2388960" y="2450880"/>
            <a:ext cx="562680" cy="102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8" idx="2"/>
            <a:endCxn id="513" idx="0"/>
          </p:cNvCxnSpPr>
          <p:nvPr/>
        </p:nvCxnSpPr>
        <p:spPr>
          <a:xfrm flipH="1">
            <a:off x="1197000" y="2450880"/>
            <a:ext cx="1192680" cy="102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08" idx="2"/>
            <a:endCxn id="509" idx="0"/>
          </p:cNvCxnSpPr>
          <p:nvPr/>
        </p:nvCxnSpPr>
        <p:spPr>
          <a:xfrm>
            <a:off x="2389320" y="2450880"/>
            <a:ext cx="2521440" cy="102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06" idx="2"/>
            <a:endCxn id="509" idx="0"/>
          </p:cNvCxnSpPr>
          <p:nvPr/>
        </p:nvCxnSpPr>
        <p:spPr>
          <a:xfrm>
            <a:off x="4909680" y="2450880"/>
            <a:ext cx="1080" cy="102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2" idx="2"/>
            <a:endCxn id="515" idx="0"/>
          </p:cNvCxnSpPr>
          <p:nvPr/>
        </p:nvCxnSpPr>
        <p:spPr>
          <a:xfrm>
            <a:off x="2950920" y="4251240"/>
            <a:ext cx="76572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10" idx="2"/>
            <a:endCxn id="515" idx="3"/>
          </p:cNvCxnSpPr>
          <p:nvPr/>
        </p:nvCxnSpPr>
        <p:spPr>
          <a:xfrm rot="5400000">
            <a:off x="4220280" y="4555800"/>
            <a:ext cx="994680" cy="384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778800" y="4119480"/>
            <a:ext cx="2249280" cy="16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2000" y="2498760"/>
            <a:ext cx="5850000" cy="328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쓰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쓰기의 구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7000" y="2631960"/>
            <a:ext cx="287964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 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000" y="3021120"/>
            <a:ext cx="2879640" cy="262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57720" y="4422600"/>
            <a:ext cx="1619280" cy="513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 처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57720" y="4929120"/>
            <a:ext cx="1619280" cy="51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31640" y="3392640"/>
            <a:ext cx="2613240" cy="2165040"/>
          </a:xfrm>
          <a:prstGeom prst="rect">
            <a:avLst/>
          </a:prstGeom>
          <a:ln w="0">
            <a:noFill/>
          </a:ln>
        </p:spPr>
      </p:pic>
      <p:cxnSp>
        <p:nvCxnSpPr>
          <p:cNvPr id="537" name=""/>
          <p:cNvCxnSpPr>
            <a:stCxn id="538" idx="3"/>
            <a:endCxn id="534" idx="1"/>
          </p:cNvCxnSpPr>
          <p:nvPr/>
        </p:nvCxnSpPr>
        <p:spPr>
          <a:xfrm flipV="1">
            <a:off x="2788920" y="4679640"/>
            <a:ext cx="146916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958080" y="4343400"/>
            <a:ext cx="1888920" cy="530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56280" y="5018040"/>
            <a:ext cx="1890720" cy="53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21280" y="4554360"/>
            <a:ext cx="990720" cy="193680"/>
          </a:xfrm>
          <a:prstGeom prst="leftArrow">
            <a:avLst>
              <a:gd name="adj1" fmla="val 50000"/>
              <a:gd name="adj2" fmla="val 127881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21280" y="5094360"/>
            <a:ext cx="990720" cy="193680"/>
          </a:xfrm>
          <a:prstGeom prst="leftArrow">
            <a:avLst>
              <a:gd name="adj1" fmla="val 50000"/>
              <a:gd name="adj2" fmla="val 127881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4480" y="3983040"/>
            <a:ext cx="2025720" cy="1395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2320" y="1673280"/>
            <a:ext cx="3593880" cy="32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Write.jsp?boardName=free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79200" y="582768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16960" y="587376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5021280" y="135900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327720" y="2353320"/>
            <a:ext cx="2357640" cy="1337760"/>
          </a:xfrm>
          <a:prstGeom prst="cloudCallout">
            <a:avLst>
              <a:gd name="adj1" fmla="val -59615"/>
              <a:gd name="adj2" fmla="val -8300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새로운 글을 쓰는 것은 글 쓰기 양식을 출력하기 위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와 작성된 글을 처리하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이루어진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3" idx="2"/>
            <a:endCxn id="532" idx="0"/>
          </p:cNvCxnSpPr>
          <p:nvPr/>
        </p:nvCxnSpPr>
        <p:spPr>
          <a:xfrm rot="5400000">
            <a:off x="1595520" y="2138760"/>
            <a:ext cx="633960" cy="353160"/>
          </a:xfrm>
          <a:prstGeom prst="bentConnector3">
            <a:avLst>
              <a:gd name="adj1" fmla="val 4982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2148840" y="2014560"/>
            <a:ext cx="756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68080" y="4708440"/>
            <a:ext cx="75636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146640" y="684360"/>
            <a:ext cx="29973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쓰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내용 설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Data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쓰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60" y="1577880"/>
            <a:ext cx="7245360" cy="1311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name="write" method="po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ion="boardUpload.jsp?boardName=&lt;%=boardName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415200" y="142920"/>
            <a:ext cx="2612880" cy="2165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971640" y="3792600"/>
            <a:ext cx="5986440" cy="850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name = request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5005440"/>
            <a:ext cx="598644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boardData = new Board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.set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71640" y="6308640"/>
            <a:ext cx="5986440" cy="409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writeNotice(boardName, board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7993080" y="297972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5381640" y="4784040"/>
            <a:ext cx="2879640" cy="621720"/>
          </a:xfrm>
          <a:prstGeom prst="cloudCallout">
            <a:avLst>
              <a:gd name="adj1" fmla="val 38199"/>
              <a:gd name="adj2" fmla="val -19537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새로운 글의 글 번호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장 높은 글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]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번호를 갖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목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글 목록보기의 구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글 목록 구현 시 고려사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글 목록 출력 시 한 페이지에 일정한 개수씩을 보여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특정 단어를 포함한 글 목록 출력에 이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58080" y="1704960"/>
            <a:ext cx="2249280" cy="16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37360" y="1928880"/>
            <a:ext cx="1888920" cy="530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35560" y="2603520"/>
            <a:ext cx="1890720" cy="53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8480" y="341316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71640" y="1703520"/>
            <a:ext cx="4140000" cy="2595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67800" y="438948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30560" y="197316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목록보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0560" y="2362320"/>
            <a:ext cx="161928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List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41280" y="320508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1280" y="3594240"/>
            <a:ext cx="161928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20920" y="320508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20920" y="3594240"/>
            <a:ext cx="1619280" cy="38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2" idx="2"/>
            <a:endCxn id="573" idx="0"/>
          </p:cNvCxnSpPr>
          <p:nvPr/>
        </p:nvCxnSpPr>
        <p:spPr>
          <a:xfrm rot="5400000">
            <a:off x="2318040" y="2483280"/>
            <a:ext cx="454680" cy="990000"/>
          </a:xfrm>
          <a:prstGeom prst="bentConnector3">
            <a:avLst>
              <a:gd name="adj1" fmla="val 496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72" idx="2"/>
            <a:endCxn id="575" idx="0"/>
          </p:cNvCxnSpPr>
          <p:nvPr/>
        </p:nvCxnSpPr>
        <p:spPr>
          <a:xfrm flipH="1" rot="16200000">
            <a:off x="3307320" y="2482560"/>
            <a:ext cx="454680" cy="991080"/>
          </a:xfrm>
          <a:prstGeom prst="bentConnector3">
            <a:avLst>
              <a:gd name="adj1" fmla="val 496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3852720" y="2093760"/>
            <a:ext cx="2384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2273400"/>
            <a:ext cx="2384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03800" y="1209600"/>
            <a:ext cx="7729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urrent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6640" y="2303640"/>
            <a:ext cx="471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427720" y="3924360"/>
            <a:ext cx="606240" cy="9349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6732720" y="4198320"/>
            <a:ext cx="2049480" cy="860400"/>
          </a:xfrm>
          <a:prstGeom prst="cloudCallout">
            <a:avLst>
              <a:gd name="adj1" fmla="val -84981"/>
              <a:gd name="adj2" fmla="val -7007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글 목록보기 구현 시 페이징과 검색에 관한 것을 고려하여 구현하여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목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페이징을 고려한 글 목록 데이터 가져오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글 목록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5920" y="1494000"/>
            <a:ext cx="6300720" cy="13968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currentPage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quest.getParameter("page")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urrentPage = Integer.parseInt(request.getParameter("page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ging = boardManager.getPaging(boardName, currentP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ector v = boardManager.getPage(boardName, currentPag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920" y="3381480"/>
            <a:ext cx="6300720" cy="337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boardData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v.size()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(int i = 0; i &lt; v.size()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= (BoardData)v.elementAt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depth = boardData.getDept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depth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pth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&amp;nbsp;&amp;nbsp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boardData.getSubjec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832360" y="2708280"/>
            <a:ext cx="3138480" cy="24750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5067360" y="4599000"/>
            <a:ext cx="315720" cy="1260360"/>
          </a:xfrm>
          <a:custGeom>
            <a:avLst/>
            <a:gdLst>
              <a:gd name="textAreaLeft" fmla="*/ 0 w 315720"/>
              <a:gd name="textAreaRight" fmla="*/ 114120 w 31572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"/>
          <p:cNvCxnSpPr>
            <a:stCxn id="594" idx="0"/>
            <a:endCxn id="592" idx="1"/>
          </p:cNvCxnSpPr>
          <p:nvPr/>
        </p:nvCxnSpPr>
        <p:spPr>
          <a:xfrm rot="10800000">
            <a:off x="5401440" y="5228640"/>
            <a:ext cx="796320" cy="780120"/>
          </a:xfrm>
          <a:prstGeom prst="curvedConnector5">
            <a:avLst>
              <a:gd name="adj1" fmla="val 51469"/>
              <a:gd name="adj2" fmla="val 50000"/>
              <a:gd name="adj3" fmla="val 51469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397720" y="576900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92720" y="5458680"/>
            <a:ext cx="1782720" cy="1099080"/>
          </a:xfrm>
          <a:prstGeom prst="cloudCallout">
            <a:avLst>
              <a:gd name="adj1" fmla="val 79916"/>
              <a:gd name="adj2" fmla="val -368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보다 크다는 것은 답글을 의미하며 답글일 경우 들여쓰기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목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검색을 위한 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검색된 글 목록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92000" y="1494000"/>
            <a:ext cx="6661440" cy="2831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method = post action="boardList.jsp?boardName=&lt;%=boardName%&gt;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ame="se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select name="search" onChange="" align="cente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option selected value="subject"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option value="content"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내용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option value="name"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작성자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sele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text" name="tex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submit" name="search" value=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2000" y="4826160"/>
            <a:ext cx="6075360" cy="193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quest.getParameter("text") != null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arch = (String)request.getParameter("search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ext = request.getParameter("tex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setSearch(searc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setText(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ector v = boardManager.getPage(boardName, currentP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6643800" y="3359160"/>
            <a:ext cx="242892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03" name=""/>
          <p:cNvCxnSpPr>
            <a:stCxn id="600" idx="3"/>
            <a:endCxn id="602" idx="0"/>
          </p:cNvCxnSpPr>
          <p:nvPr/>
        </p:nvCxnSpPr>
        <p:spPr>
          <a:xfrm>
            <a:off x="7453440" y="2909880"/>
            <a:ext cx="405360" cy="45000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604" name=""/>
          <p:cNvCxnSpPr>
            <a:stCxn id="602" idx="2"/>
            <a:endCxn id="601" idx="3"/>
          </p:cNvCxnSpPr>
          <p:nvPr/>
        </p:nvCxnSpPr>
        <p:spPr>
          <a:xfrm rot="5400000">
            <a:off x="6540480" y="4475880"/>
            <a:ext cx="1643760" cy="9914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5877000" y="4194000"/>
            <a:ext cx="579240" cy="9352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935760" y="4665240"/>
            <a:ext cx="2181240" cy="1099080"/>
          </a:xfrm>
          <a:prstGeom prst="cloudCallout">
            <a:avLst>
              <a:gd name="adj1" fmla="val -70657"/>
              <a:gd name="adj2" fmla="val -7242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을 하려는 필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arch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와 검색 문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ext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 인자로 전달될 경우 검색된 글 목록을 출력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2000" y="1042920"/>
            <a:ext cx="5715000" cy="18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읽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페이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글 읽기의 구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글 읽기를 위한 링크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List.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37000" y="1522440"/>
            <a:ext cx="224928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16280" y="1644480"/>
            <a:ext cx="1889280" cy="5302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4520" y="249876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1280" y="1509840"/>
            <a:ext cx="2251080" cy="10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23040" y="254484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5560" y="1614600"/>
            <a:ext cx="16192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5560" y="2003400"/>
            <a:ext cx="1619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78080" y="180972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78080" y="198900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94960" y="2021040"/>
            <a:ext cx="705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83800" y="1314360"/>
            <a:ext cx="75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글 번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5920" y="5364000"/>
            <a:ext cx="5986440" cy="139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currentPage = request.getParameter("pag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num = Integer.parseInt(request.getParameter("num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boardData = boardManager.getNotice(boardName,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increaseCnt(boardName,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5920" y="3519360"/>
            <a:ext cx="6435720" cy="1400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a href="boardRead.jsp?page=&lt;%=currentPage%&gt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Name=&lt;%=boardName%&gt;&amp;num=&lt;%=boardData.getNum()%&gt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arch=&lt;%=search%&gt;&amp;text=&lt;%=text%&gt;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boardData.getSubject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5967360" y="1042920"/>
            <a:ext cx="3138480" cy="26701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8037360" y="5678640"/>
            <a:ext cx="689040" cy="9666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5742000" y="5114160"/>
            <a:ext cx="1917720" cy="860400"/>
          </a:xfrm>
          <a:prstGeom prst="cloudCallout">
            <a:avLst>
              <a:gd name="adj1" fmla="val 63231"/>
              <a:gd name="adj2" fmla="val 8441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글을 읽은 후 글의 조회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unt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증가시켜 준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76440" y="3597120"/>
            <a:ext cx="23065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=&lt;%=currentPage%&gt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79480" y="3878280"/>
            <a:ext cx="58438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Name=&lt;%=boardName%&gt;&amp;num=&lt;%=boardData.getNum()%&gt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67960" y="4138560"/>
            <a:ext cx="33948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=&lt;%=search%&gt;&amp;text=&lt;%=text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54280" y="3137040"/>
            <a:ext cx="152568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해당 페이지의 글 목록 유지에 필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83080" y="4284720"/>
            <a:ext cx="6753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글 읽기에 필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3080" y="4554360"/>
            <a:ext cx="989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 목록 유지에 필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1" idx="2"/>
            <a:endCxn id="628" idx="3"/>
          </p:cNvCxnSpPr>
          <p:nvPr/>
        </p:nvCxnSpPr>
        <p:spPr>
          <a:xfrm rot="5400000">
            <a:off x="4843080" y="3327120"/>
            <a:ext cx="317880" cy="4327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635" name=""/>
          <p:cNvCxnSpPr>
            <a:stCxn id="632" idx="0"/>
            <a:endCxn id="629" idx="3"/>
          </p:cNvCxnSpPr>
          <p:nvPr/>
        </p:nvCxnSpPr>
        <p:spPr>
          <a:xfrm flipV="1" rot="16200000">
            <a:off x="6975720" y="3738960"/>
            <a:ext cx="302400" cy="78948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4018320" y="401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>
            <a:stCxn id="633" idx="1"/>
            <a:endCxn id="636" idx="2"/>
          </p:cNvCxnSpPr>
          <p:nvPr/>
        </p:nvCxnSpPr>
        <p:spPr>
          <a:xfrm rot="10800000">
            <a:off x="4071240" y="4339440"/>
            <a:ext cx="500760" cy="3387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5878440" y="4284720"/>
            <a:ext cx="2430360" cy="202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쓰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답변 글 쓰기의 구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3080" y="1628640"/>
            <a:ext cx="2293920" cy="1768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53840" y="341316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1080" y="1584360"/>
            <a:ext cx="5697360" cy="472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68040" y="126828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" y="3213000"/>
            <a:ext cx="17560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1640" y="3602160"/>
            <a:ext cx="1756080" cy="1771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28480" y="3932280"/>
            <a:ext cx="15685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130560" y="1719360"/>
            <a:ext cx="19810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새 글 쓰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쓰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30560" y="2108160"/>
            <a:ext cx="1981080" cy="3121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3357720" y="3840120"/>
            <a:ext cx="1568160" cy="13003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3357720" y="2440080"/>
            <a:ext cx="1568160" cy="129996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80240" y="2809800"/>
            <a:ext cx="1183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답변 글일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720" y="1709640"/>
            <a:ext cx="1380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새로운 글일 경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46" idx="3"/>
            <a:endCxn id="650" idx="1"/>
          </p:cNvCxnSpPr>
          <p:nvPr/>
        </p:nvCxnSpPr>
        <p:spPr>
          <a:xfrm>
            <a:off x="2187720" y="4487400"/>
            <a:ext cx="1170720" cy="3960"/>
          </a:xfrm>
          <a:prstGeom prst="bentConnector3">
            <a:avLst>
              <a:gd name="adj1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2277720" y="4518000"/>
            <a:ext cx="75636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17360" y="2170080"/>
            <a:ext cx="756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"/>
          <p:cNvCxnSpPr>
            <a:stCxn id="653" idx="3"/>
            <a:endCxn id="651" idx="1"/>
          </p:cNvCxnSpPr>
          <p:nvPr/>
        </p:nvCxnSpPr>
        <p:spPr>
          <a:xfrm>
            <a:off x="2173320" y="1872720"/>
            <a:ext cx="1185120" cy="1218600"/>
          </a:xfrm>
          <a:prstGeom prst="bentConnector3">
            <a:avLst>
              <a:gd name="adj1" fmla="val 499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"/>
          <p:cNvSpPr/>
          <p:nvPr/>
        </p:nvSpPr>
        <p:spPr>
          <a:xfrm>
            <a:off x="5742000" y="4756320"/>
            <a:ext cx="19810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 처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42000" y="5140440"/>
            <a:ext cx="1981080" cy="40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32720" y="1778040"/>
            <a:ext cx="1935000" cy="144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23080" y="2722680"/>
            <a:ext cx="1754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plyNoti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23080" y="2227320"/>
            <a:ext cx="1754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riteNoti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1" idx="3"/>
            <a:endCxn id="658" idx="1"/>
          </p:cNvCxnSpPr>
          <p:nvPr/>
        </p:nvCxnSpPr>
        <p:spPr>
          <a:xfrm>
            <a:off x="4925520" y="3090960"/>
            <a:ext cx="816840" cy="1861200"/>
          </a:xfrm>
          <a:prstGeom prst="bentConnector3">
            <a:avLst>
              <a:gd name="adj1" fmla="val 6574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4" name=""/>
          <p:cNvCxnSpPr>
            <a:stCxn id="650" idx="3"/>
            <a:endCxn id="659" idx="1"/>
          </p:cNvCxnSpPr>
          <p:nvPr/>
        </p:nvCxnSpPr>
        <p:spPr>
          <a:xfrm>
            <a:off x="4925520" y="4491000"/>
            <a:ext cx="816840" cy="853200"/>
          </a:xfrm>
          <a:prstGeom prst="bentConnector3">
            <a:avLst>
              <a:gd name="adj1" fmla="val 4276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58" idx="3"/>
            <a:endCxn id="662" idx="1"/>
          </p:cNvCxnSpPr>
          <p:nvPr/>
        </p:nvCxnSpPr>
        <p:spPr>
          <a:xfrm flipH="1" flipV="1">
            <a:off x="6822720" y="2421720"/>
            <a:ext cx="900720" cy="2529720"/>
          </a:xfrm>
          <a:prstGeom prst="bentConnector5">
            <a:avLst>
              <a:gd name="adj1" fmla="val -25389"/>
              <a:gd name="adj2" fmla="val 40293"/>
              <a:gd name="adj3" fmla="val 15925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59" idx="3"/>
            <a:endCxn id="661" idx="3"/>
          </p:cNvCxnSpPr>
          <p:nvPr/>
        </p:nvCxnSpPr>
        <p:spPr>
          <a:xfrm flipV="1">
            <a:off x="7722720" y="2917440"/>
            <a:ext cx="855000" cy="2426400"/>
          </a:xfrm>
          <a:prstGeom prst="bentConnector3">
            <a:avLst>
              <a:gd name="adj1" fmla="val 14422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게시판 기능 컴포넌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9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쓰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oardRead.jsp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을 위한 폼 양식 추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답변을 위해 필요한 정보들을 글 읽기 페이지에 숨겨진 텍스트 박스로 추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oardWrite.jsp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로 전달된 파라미터 처리 코드 삽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글 쓰기 요청이 답변 글일 경우 각 파라미터 정보 저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히든 필드 추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답변 글에 필요한 정보를 글 쓰기 페이지에 숨겨진 텍스트 상자로 추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0920" y="1898640"/>
            <a:ext cx="8642160" cy="15778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name="replyForm" method="post" action="boardWrite.jsp?boardName=&lt;%=boardName%&gt;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hidden" name="reply" value="ok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 쓰기에 필요한 글의 각 정보를 숨겨진 텍스트 박스로 추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글읽기 데이터 출력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a href="javascript:document.replyForm.submit()"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 flipH="1" rot="2677800">
            <a:off x="4842000" y="76464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642000" y="94680"/>
            <a:ext cx="2027160" cy="1099440"/>
          </a:xfrm>
          <a:prstGeom prst="cloudCallout">
            <a:avLst>
              <a:gd name="adj1" fmla="val -89449"/>
              <a:gd name="adj2" fmla="val 1887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글 내용 출력 시 답변을 위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을 작성하고 각 데이터를 히든 필드로 삽입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71640" y="5905440"/>
            <a:ext cx="5986440" cy="85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hidden" name="page" value="&lt;%=currentPage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hidden" name="num" value="&lt;%=num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71640" y="4281480"/>
            <a:ext cx="7650000" cy="103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quest.getParameter("reply") != null &amp;&amp; request.getParameter("reply").equals("ok"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 = Integer.parseInt(request.getParameter("num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일 경우 각 파라미터 저장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1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쓰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Upload.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ply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라미터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"ok"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값이 전달되었을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답변 글이므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plyNotice(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아닐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새로운 글이므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riteNotice(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1640" y="2892600"/>
            <a:ext cx="5986440" cy="3371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ply.equals("ok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f = Integer.parseInt(request.getParameter("ref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ep = Integer.parseInt(request.getParameter("step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pth = Integer.parseInt(request.getParameter("depth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ply.equals("ok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replyNotice(boardName, board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writeNotice(boardName, board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41120" y="5111640"/>
            <a:ext cx="42771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replyNotice(boardName, board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41840" y="5724360"/>
            <a:ext cx="42757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writeNotice(boardName, board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7586640" y="297972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686640" y="4468320"/>
            <a:ext cx="1062000" cy="383040"/>
          </a:xfrm>
          <a:prstGeom prst="cloudCallout">
            <a:avLst>
              <a:gd name="adj1" fmla="val 32037"/>
              <a:gd name="adj2" fmla="val -21506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답변 글일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82000" y="5368320"/>
            <a:ext cx="1304640" cy="383040"/>
          </a:xfrm>
          <a:prstGeom prst="cloudCallout">
            <a:avLst>
              <a:gd name="adj1" fmla="val 19819"/>
              <a:gd name="adj2" fmla="val -30257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새로운 글일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2" idx="0"/>
            <a:endCxn id="679" idx="3"/>
          </p:cNvCxnSpPr>
          <p:nvPr/>
        </p:nvCxnSpPr>
        <p:spPr>
          <a:xfrm flipV="1" rot="10800000">
            <a:off x="6225480" y="4659840"/>
            <a:ext cx="464400" cy="556200"/>
          </a:xfrm>
          <a:prstGeom prst="curvedConnector5">
            <a:avLst>
              <a:gd name="adj1" fmla="val 50271"/>
              <a:gd name="adj2" fmla="val 50000"/>
              <a:gd name="adj3" fmla="val 5027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685" name=""/>
          <p:cNvCxnSpPr>
            <a:stCxn id="683" idx="0"/>
            <a:endCxn id="680" idx="3"/>
          </p:cNvCxnSpPr>
          <p:nvPr/>
        </p:nvCxnSpPr>
        <p:spPr>
          <a:xfrm flipV="1" rot="10800000">
            <a:off x="6225480" y="5560560"/>
            <a:ext cx="961200" cy="269280"/>
          </a:xfrm>
          <a:prstGeom prst="curvedConnector5">
            <a:avLst>
              <a:gd name="adj1" fmla="val 50243"/>
              <a:gd name="adj2" fmla="val 49933"/>
              <a:gd name="adj3" fmla="val 5024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1280" y="3141720"/>
            <a:ext cx="9001440" cy="361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280" y="1042920"/>
            <a:ext cx="9001440" cy="202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1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수정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수정하기의 구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수정하기의 절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83440" y="1461960"/>
            <a:ext cx="2249280" cy="12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62720" y="1674720"/>
            <a:ext cx="1889280" cy="5302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0960" y="279864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1640" y="1449360"/>
            <a:ext cx="4454640" cy="12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43880" y="279864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02000" y="155412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02000" y="1943280"/>
            <a:ext cx="1619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da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22720" y="19731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44560" y="1477800"/>
            <a:ext cx="7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6640" y="1555920"/>
            <a:ext cx="16192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6640" y="1944720"/>
            <a:ext cx="1619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57360" y="197316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3840" y="2031840"/>
            <a:ext cx="756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76280" y="3654360"/>
            <a:ext cx="2000160" cy="53964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g =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2000" y="4603680"/>
            <a:ext cx="1655640" cy="399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tSuccess(tr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000" y="5452920"/>
            <a:ext cx="2295360" cy="81144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일치하는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51280" y="5003640"/>
            <a:ext cx="1655640" cy="400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tSuccess(tr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3294000"/>
            <a:ext cx="2116080" cy="53964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getSucc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56280" y="4154400"/>
            <a:ext cx="1655640" cy="399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tSuccess(fa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56280" y="4734000"/>
            <a:ext cx="1655640" cy="399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 양식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87800" y="5408640"/>
            <a:ext cx="2000520" cy="539640"/>
          </a:xfrm>
          <a:prstGeom prst="diamond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g =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51280" y="6308640"/>
            <a:ext cx="1656000" cy="399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56360" y="4160880"/>
            <a:ext cx="1656000" cy="5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입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양식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05" idx="2"/>
            <a:endCxn id="706" idx="0"/>
          </p:cNvCxnSpPr>
          <p:nvPr/>
        </p:nvCxnSpPr>
        <p:spPr>
          <a:xfrm rot="5400000">
            <a:off x="1027800" y="4155840"/>
            <a:ext cx="410400" cy="486360"/>
          </a:xfrm>
          <a:prstGeom prst="bentConnector3">
            <a:avLst>
              <a:gd name="adj1" fmla="val 4995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6" idx="2"/>
            <a:endCxn id="707" idx="0"/>
          </p:cNvCxnSpPr>
          <p:nvPr/>
        </p:nvCxnSpPr>
        <p:spPr>
          <a:xfrm flipH="1" rot="16200000">
            <a:off x="992160" y="5001120"/>
            <a:ext cx="450000" cy="45468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07" idx="3"/>
            <a:endCxn id="708" idx="1"/>
          </p:cNvCxnSpPr>
          <p:nvPr/>
        </p:nvCxnSpPr>
        <p:spPr>
          <a:xfrm flipV="1">
            <a:off x="2592000" y="5203080"/>
            <a:ext cx="359640" cy="656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8" idx="3"/>
            <a:endCxn id="709" idx="1"/>
          </p:cNvCxnSpPr>
          <p:nvPr/>
        </p:nvCxnSpPr>
        <p:spPr>
          <a:xfrm flipV="1">
            <a:off x="4606920" y="3563280"/>
            <a:ext cx="550080" cy="1640520"/>
          </a:xfrm>
          <a:prstGeom prst="bentConnector3">
            <a:avLst>
              <a:gd name="adj1" fmla="val 4970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09" idx="2"/>
            <a:endCxn id="710" idx="0"/>
          </p:cNvCxnSpPr>
          <p:nvPr/>
        </p:nvCxnSpPr>
        <p:spPr>
          <a:xfrm rot="5400000">
            <a:off x="5938920" y="3878640"/>
            <a:ext cx="321480" cy="230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09" idx="2"/>
            <a:endCxn id="714" idx="0"/>
          </p:cNvCxnSpPr>
          <p:nvPr/>
        </p:nvCxnSpPr>
        <p:spPr>
          <a:xfrm flipH="1" rot="16200000">
            <a:off x="6885360" y="3161880"/>
            <a:ext cx="327960" cy="1670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10" idx="2"/>
            <a:endCxn id="711" idx="0"/>
          </p:cNvCxnSpPr>
          <p:nvPr/>
        </p:nvCxnSpPr>
        <p:spPr>
          <a:xfrm flipV="1" rot="10800000">
            <a:off x="5984280" y="4554000"/>
            <a:ext cx="1080" cy="180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1" idx="2"/>
            <a:endCxn id="712" idx="0"/>
          </p:cNvCxnSpPr>
          <p:nvPr/>
        </p:nvCxnSpPr>
        <p:spPr>
          <a:xfrm flipH="1" rot="16200000">
            <a:off x="5848920" y="5269320"/>
            <a:ext cx="275400" cy="3600"/>
          </a:xfrm>
          <a:prstGeom prst="bentConnector3">
            <a:avLst>
              <a:gd name="adj1" fmla="val 496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2" idx="2"/>
            <a:endCxn id="713" idx="0"/>
          </p:cNvCxnSpPr>
          <p:nvPr/>
        </p:nvCxnSpPr>
        <p:spPr>
          <a:xfrm rot="5400000">
            <a:off x="5603040" y="5924160"/>
            <a:ext cx="361080" cy="40860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>
            <a:off x="2060640" y="4603680"/>
            <a:ext cx="8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05" idx="2"/>
            <a:endCxn id="724" idx="0"/>
          </p:cNvCxnSpPr>
          <p:nvPr/>
        </p:nvCxnSpPr>
        <p:spPr>
          <a:xfrm flipH="1" rot="16200000">
            <a:off x="1583280" y="4086000"/>
            <a:ext cx="410400" cy="626040"/>
          </a:xfrm>
          <a:prstGeom prst="bentConnector3">
            <a:avLst>
              <a:gd name="adj1" fmla="val 4995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6" name=""/>
          <p:cNvCxnSpPr>
            <a:stCxn id="724" idx="0"/>
            <a:endCxn id="724" idx="2"/>
          </p:cNvCxnSpPr>
          <p:nvPr/>
        </p:nvCxnSpPr>
        <p:spPr>
          <a:xfrm>
            <a:off x="2101320" y="460332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2"/>
            <a:endCxn id="707" idx="0"/>
          </p:cNvCxnSpPr>
          <p:nvPr/>
        </p:nvCxnSpPr>
        <p:spPr>
          <a:xfrm rot="5400000">
            <a:off x="1547640" y="4899600"/>
            <a:ext cx="450000" cy="65772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2951280" y="5904000"/>
            <a:ext cx="8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07" idx="3"/>
            <a:endCxn id="728" idx="1"/>
          </p:cNvCxnSpPr>
          <p:nvPr/>
        </p:nvCxnSpPr>
        <p:spPr>
          <a:xfrm>
            <a:off x="2592000" y="5859000"/>
            <a:ext cx="359640" cy="244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8" idx="1"/>
            <a:endCxn id="728" idx="3"/>
          </p:cNvCxnSpPr>
          <p:nvPr/>
        </p:nvCxnSpPr>
        <p:spPr>
          <a:xfrm>
            <a:off x="2950920" y="6103440"/>
            <a:ext cx="81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28" idx="3"/>
            <a:endCxn id="709" idx="1"/>
          </p:cNvCxnSpPr>
          <p:nvPr/>
        </p:nvCxnSpPr>
        <p:spPr>
          <a:xfrm flipV="1">
            <a:off x="3032280" y="3563280"/>
            <a:ext cx="2124720" cy="2540520"/>
          </a:xfrm>
          <a:prstGeom prst="bentConnector3">
            <a:avLst>
              <a:gd name="adj1" fmla="val 8720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6867360" y="6308640"/>
            <a:ext cx="1656000" cy="399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목록으로 이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"/>
          <p:cNvCxnSpPr>
            <a:stCxn id="713" idx="3"/>
            <a:endCxn id="732" idx="1"/>
          </p:cNvCxnSpPr>
          <p:nvPr/>
        </p:nvCxnSpPr>
        <p:spPr>
          <a:xfrm>
            <a:off x="6407280" y="6508440"/>
            <a:ext cx="460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836280" y="414972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61280" y="414972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410920" y="509436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01280" y="599436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95560" y="378936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95520" y="378936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46280" y="595008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5786280" y="638280"/>
            <a:ext cx="33577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1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수정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수정 권한검사 및 패스워드 입력 양식 출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수정 양식 출력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패스워드가 일치했을 경우 출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글 수정 코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flag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파라미터의 값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일 경우 글 수정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71640" y="1449360"/>
            <a:ext cx="6210360" cy="30193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password != null &amp;&amp; (password.trim()).equals(noticePasswor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Manager.setSuccess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boardManager.getSucces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글 수정 양식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글 수정 코드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name="chkPass" method="po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ion="boardUpdate.jsp?boardName=&lt;%=boardName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password" name="passwor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 }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7002360" y="3114720"/>
            <a:ext cx="2105280" cy="17445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 flipH="1">
            <a:off x="8681760" y="266400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4929120" y="2309400"/>
            <a:ext cx="2117880" cy="1099080"/>
          </a:xfrm>
          <a:prstGeom prst="cloudCallout">
            <a:avLst>
              <a:gd name="adj1" fmla="val 112504"/>
              <a:gd name="adj2" fmla="val 6833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패스워드 양식을 통해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sswor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필드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Update.jsp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즉 자기 자신에게 전달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34000" y="1500840"/>
            <a:ext cx="2494080" cy="1337760"/>
          </a:xfrm>
          <a:prstGeom prst="cloudCallout">
            <a:avLst>
              <a:gd name="adj1" fmla="val 32157"/>
              <a:gd name="adj2" fmla="val 10929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원문 글의 패스워드와 입력양식을 통해 입력된 패스워드가 일치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tSuccess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를 이용해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값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설정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5937120" y="54000"/>
            <a:ext cx="3135600" cy="1411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942200" y="3743280"/>
            <a:ext cx="36324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type="password" name="passwor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40240" y="3490920"/>
            <a:ext cx="13388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da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6640" y="4869000"/>
            <a:ext cx="832644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rm name="write" method="post" action="boardUpdate.jsp?boardName=&lt;%=boardName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hidden" name="flag" value="tru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35080" y="5160960"/>
            <a:ext cx="40514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type="hidden" name="flag" value="tru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93160" y="4927680"/>
            <a:ext cx="13388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da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71640" y="6083280"/>
            <a:ext cx="7291440" cy="67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ditData.setNum(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 flag.equals("true") ){ boardManager.updateNotice(boardName, editData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25960" y="6415200"/>
            <a:ext cx="15004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lag.equals("tru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81640" y="5189040"/>
            <a:ext cx="2025720" cy="1099080"/>
          </a:xfrm>
          <a:prstGeom prst="cloudCallout">
            <a:avLst>
              <a:gd name="adj1" fmla="val 69027"/>
              <a:gd name="adj2" fmla="val 5693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lag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의 값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면 글을 수정한 후 수정되었다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List.jsp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이동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4"/>
          <a:stretch/>
        </p:blipFill>
        <p:spPr>
          <a:xfrm>
            <a:off x="8397720" y="5319720"/>
            <a:ext cx="459000" cy="125424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772600" y="4508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88320" y="108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1" idx="3"/>
            <a:endCxn id="747" idx="1"/>
          </p:cNvCxnSpPr>
          <p:nvPr/>
        </p:nvCxnSpPr>
        <p:spPr>
          <a:xfrm flipV="1">
            <a:off x="5877000" y="3987000"/>
            <a:ext cx="1126080" cy="685080"/>
          </a:xfrm>
          <a:prstGeom prst="curvedConnector5">
            <a:avLst>
              <a:gd name="adj1" fmla="val 49920"/>
              <a:gd name="adj2" fmla="val 50000"/>
              <a:gd name="adj3" fmla="val 4992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764" name=""/>
          <p:cNvCxnSpPr>
            <a:stCxn id="762" idx="3"/>
            <a:endCxn id="751" idx="1"/>
          </p:cNvCxnSpPr>
          <p:nvPr/>
        </p:nvCxnSpPr>
        <p:spPr>
          <a:xfrm flipV="1">
            <a:off x="5292720" y="759600"/>
            <a:ext cx="645120" cy="492840"/>
          </a:xfrm>
          <a:prstGeom prst="curvedConnector5">
            <a:avLst>
              <a:gd name="adj1" fmla="val 49748"/>
              <a:gd name="adj2" fmla="val 50000"/>
              <a:gd name="adj3" fmla="val 4974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1280" y="1042920"/>
            <a:ext cx="9001440" cy="16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2.1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글 삭제하기의 구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Delete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삭제를 위한 패스워드 입력 양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3440" y="1415880"/>
            <a:ext cx="224928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62720" y="1628640"/>
            <a:ext cx="1889280" cy="5302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0960" y="239220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01640" y="1403280"/>
            <a:ext cx="4454640" cy="9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43880" y="239220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02000" y="1508040"/>
            <a:ext cx="1619280" cy="389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02000" y="1897200"/>
            <a:ext cx="1619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ele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2720" y="192708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44560" y="1432080"/>
            <a:ext cx="7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6640" y="1509840"/>
            <a:ext cx="1619280" cy="388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6640" y="1898640"/>
            <a:ext cx="1619280" cy="388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457360" y="192708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53840" y="1506600"/>
            <a:ext cx="756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71640" y="3294000"/>
            <a:ext cx="6840360" cy="103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name="chkPass" method="post" action="boardDelete.jsp?...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password" name="passwor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submit" value=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4730760"/>
            <a:ext cx="6840360" cy="202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request.getParameter("password")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noticePassword = boardManager.getPassword(boardName,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!noticePassword.equals(password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비밀 번호가 맞지 않습니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다시 입력해 주세요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msg = boardManager.deleteNotice(boardName, num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504720"/>
                <a:tab algn="l" pos="1009800"/>
                <a:tab algn="l" pos="1514520"/>
                <a:tab algn="l" pos="2019240"/>
                <a:tab algn="l" pos="2523960"/>
                <a:tab algn="l" pos="3029040"/>
                <a:tab algn="l" pos="3533760"/>
                <a:tab algn="l" pos="4038480"/>
                <a:tab algn="l" pos="4543560"/>
                <a:tab algn="l" pos="5048280"/>
                <a:tab algn="l" pos="5553000"/>
                <a:tab algn="l" pos="6058080"/>
                <a:tab algn="l" pos="6562800"/>
                <a:tab algn="l" pos="7067520"/>
                <a:tab algn="l" pos="7572240"/>
                <a:tab algn="l" pos="8077320"/>
                <a:tab algn="l" pos="8582040"/>
                <a:tab algn="l" pos="9086760"/>
                <a:tab algn="l" pos="9591840"/>
                <a:tab algn="l" pos="100965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6145200" y="3652920"/>
            <a:ext cx="2882880" cy="1306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4383720" y="6027840"/>
            <a:ext cx="25686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leteNotice(boardName, 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89640" y="5803560"/>
            <a:ext cx="1827360" cy="860760"/>
          </a:xfrm>
          <a:prstGeom prst="cloudCallout">
            <a:avLst>
              <a:gd name="adj1" fmla="val -67884"/>
              <a:gd name="adj2" fmla="val -2725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deleteNotice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답글이 달려있을 경우 글을 삭제하지 않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87800" y="3338640"/>
            <a:ext cx="12808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ele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8" idx="2"/>
            <a:endCxn id="784" idx="0"/>
          </p:cNvCxnSpPr>
          <p:nvPr/>
        </p:nvCxnSpPr>
        <p:spPr>
          <a:xfrm rot="5400000">
            <a:off x="4417920" y="3520440"/>
            <a:ext cx="1185120" cy="1236960"/>
          </a:xfrm>
          <a:prstGeom prst="curvedConnector5">
            <a:avLst>
              <a:gd name="adj1" fmla="val 59647"/>
              <a:gd name="adj2" fmla="val 49985"/>
              <a:gd name="adj3" fmla="val 5964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기능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컴포넌트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2720" y="2257560"/>
            <a:ext cx="2340000" cy="382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2720" y="1808280"/>
            <a:ext cx="23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2360" y="288756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02360" y="333684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2360" y="3787920"/>
            <a:ext cx="198108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02360" y="4237200"/>
            <a:ext cx="198108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02360" y="468792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02360" y="5137200"/>
            <a:ext cx="198108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02360" y="243828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물 목록보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000" y="1719360"/>
            <a:ext cx="41400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21640" y="4508640"/>
            <a:ext cx="1266840" cy="765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3520" y="627840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614376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기능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3"/>
            <a:endCxn id="117" idx="1"/>
          </p:cNvCxnSpPr>
          <p:nvPr/>
        </p:nvCxnSpPr>
        <p:spPr>
          <a:xfrm flipV="1">
            <a:off x="4302000" y="2033280"/>
            <a:ext cx="721440" cy="1937520"/>
          </a:xfrm>
          <a:prstGeom prst="bentConnector3">
            <a:avLst>
              <a:gd name="adj1" fmla="val 49975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30" name=""/>
          <p:cNvCxnSpPr>
            <a:stCxn id="131" idx="2"/>
            <a:endCxn id="126" idx="1"/>
          </p:cNvCxnSpPr>
          <p:nvPr/>
        </p:nvCxnSpPr>
        <p:spPr>
          <a:xfrm flipH="1" rot="16200000">
            <a:off x="7970760" y="4124160"/>
            <a:ext cx="766080" cy="3600"/>
          </a:xfrm>
          <a:prstGeom prst="bentConnector3">
            <a:avLst>
              <a:gd name="adj1" fmla="val 49788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5589720"/>
            <a:ext cx="198108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페이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1935000" cy="96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6280" y="3246480"/>
            <a:ext cx="139536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276640" y="1854360"/>
            <a:ext cx="1935000" cy="95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4778280"/>
            <a:ext cx="1935000" cy="10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502000" y="3303720"/>
            <a:ext cx="1619280" cy="50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276640" y="4416480"/>
            <a:ext cx="1935000" cy="1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805120" y="5321160"/>
            <a:ext cx="961920" cy="2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876240" y="2843280"/>
            <a:ext cx="62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게시물 목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2520" y="2800440"/>
            <a:ext cx="41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0680" y="5857920"/>
            <a:ext cx="41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글 쓰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86040" y="4371840"/>
            <a:ext cx="41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답변 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3200" y="4597560"/>
            <a:ext cx="36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페이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5440" y="3832200"/>
            <a:ext cx="26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47320" y="5587920"/>
            <a:ext cx="67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수정 및 삭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21640" y="2887560"/>
            <a:ext cx="1260360" cy="85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67480" y="189864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상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12000" y="1089000"/>
            <a:ext cx="1260360" cy="4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8" idx="1"/>
            <a:endCxn id="117" idx="0"/>
          </p:cNvCxnSpPr>
          <p:nvPr/>
        </p:nvCxnSpPr>
        <p:spPr>
          <a:xfrm flipV="1" rot="10800000">
            <a:off x="6192000" y="1336320"/>
            <a:ext cx="720000" cy="47232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 flipH="1">
            <a:off x="7407360" y="1854360"/>
            <a:ext cx="1079280" cy="990360"/>
          </a:xfrm>
          <a:custGeom>
            <a:avLst/>
            <a:gdLst>
              <a:gd name="textAreaLeft" fmla="*/ 360 w 1079280"/>
              <a:gd name="textAreaRight" fmla="*/ 1080000 w 10792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기능을 위한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oardManager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컴포넌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게시판의 주요 기능인 글 읽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쓰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 및 글 목록과 페이징 등의 기능을 제공하는 컴포넌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dminManag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상속받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701800"/>
            <a:ext cx="5986440" cy="3562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BoardManager extends AdminManag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작업이 성공적으로 끝났는지를 확인하기 위한 변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boolean 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작업 수행의 결과를 리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boolean getSuccess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작업 수행의 결과를 설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Success(boolean succes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success = success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입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새로운 글 입력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현재 게시판에서 가장 큰 글 번호 찾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가장 높은 글 번호보다 하나 더 큰 글 번호를 갖는 게시물 등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가장 큰 글 번호 찾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물 등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98640"/>
            <a:ext cx="5986440" cy="139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getMaxNum(String boardNam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max(Num) from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maxNum = 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max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4827600"/>
            <a:ext cx="7156440" cy="1841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writeNotice(String boardName, BoardData data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noticeNum = this.getMaxNum(boardName)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Insert into " + boardName + 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(num, name, ..., childCount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values(" + noticeNum +", '" + data.getName() + "', " + ... + ", 0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7960" y="5173560"/>
            <a:ext cx="42069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noticeNum = this.getMaxNum(boardName)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3"/>
            <a:endCxn id="158" idx="3"/>
          </p:cNvCxnSpPr>
          <p:nvPr/>
        </p:nvCxnSpPr>
        <p:spPr>
          <a:xfrm flipV="1">
            <a:off x="6162480" y="3496680"/>
            <a:ext cx="795960" cy="1781640"/>
          </a:xfrm>
          <a:prstGeom prst="curvedConnector5">
            <a:avLst>
              <a:gd name="adj1" fmla="val 171040"/>
              <a:gd name="adj2" fmla="val 50000"/>
              <a:gd name="adj3" fmla="val 17104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17000" y="4059360"/>
            <a:ext cx="636480" cy="107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597720" y="2218680"/>
            <a:ext cx="2097000" cy="860400"/>
          </a:xfrm>
          <a:prstGeom prst="cloudCallout">
            <a:avLst>
              <a:gd name="adj1" fmla="val 31444"/>
              <a:gd name="adj2" fmla="val 14184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새로 등록되는 게시물은 현재 가장 높은 글 번호보다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큰 값을 갖도록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글 읽기 메소드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getNotice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628640"/>
            <a:ext cx="6705360" cy="21178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BoardData getNotice(String boardName, int nu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* from " + boardName + " where num=" +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ector v = admin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data = (BoardData)v.elementA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7720" y="4289400"/>
            <a:ext cx="4545000" cy="2019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ublic Vector adminExecuteQuery(String sq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Vector v = new Vec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sultSet rs = stmt.executeQuery(sq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while(rs.next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BoardData data = new BoardDat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v.addElement(da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turn v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3640" y="2424240"/>
            <a:ext cx="30168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ector v = admin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90560" y="3919680"/>
            <a:ext cx="1937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dminManage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3"/>
            <a:endCxn id="167" idx="0"/>
          </p:cNvCxnSpPr>
          <p:nvPr/>
        </p:nvCxnSpPr>
        <p:spPr>
          <a:xfrm>
            <a:off x="4965480" y="2529000"/>
            <a:ext cx="1835640" cy="17611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906640" y="53640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6280" y="5076360"/>
            <a:ext cx="2027160" cy="1099080"/>
          </a:xfrm>
          <a:prstGeom prst="cloudCallout">
            <a:avLst>
              <a:gd name="adj1" fmla="val 85703"/>
              <a:gd name="adj2" fmla="val -2619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Notice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하나의 글에 대한 데이터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Data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객체로 가져와서 반환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2000" y="3658680"/>
            <a:ext cx="2476800" cy="860400"/>
          </a:xfrm>
          <a:prstGeom prst="cloudCallout">
            <a:avLst>
              <a:gd name="adj1" fmla="val 11847"/>
              <a:gd name="adj2" fmla="val 14259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글 번호를 조건으로 질의를 하기 때문에 반환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는 하나의 데이터만 들어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7600" y="2747880"/>
            <a:ext cx="37864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data = (BoardData)v.elementA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2"/>
            <a:endCxn id="173" idx="0"/>
          </p:cNvCxnSpPr>
          <p:nvPr/>
        </p:nvCxnSpPr>
        <p:spPr>
          <a:xfrm rot="5400000">
            <a:off x="3186360" y="2969280"/>
            <a:ext cx="668880" cy="642240"/>
          </a:xfrm>
          <a:prstGeom prst="curvedConnector5">
            <a:avLst>
              <a:gd name="adj1" fmla="val 45341"/>
              <a:gd name="adj2" fmla="val 49971"/>
              <a:gd name="adj3" fmla="val 4534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수정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글 작성 시 입력한 비밀번호 확인을 거쳐 수정 권한 획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새로운 데이터로 글 수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비밀번호 확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2708280"/>
            <a:ext cx="7335720" cy="148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tring getPassword(String boardName, int nu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password from " + boardName + " where num=" +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ssword = adminExecuteQueryString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passwo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4643280"/>
            <a:ext cx="7335720" cy="211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updateNotice(String boardName, BoardData data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update " + boardName + " set name='" + data.getN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', subject='" + data.getSubject() + "', content='" + data.getCont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' where num=" + data.getN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setSuccess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1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작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답변 글과 관련된 데이터베이스 필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um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번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작성 순서에 따라 순차적으로 할당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f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이 참조하는 원문 번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tep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출력 순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epth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깊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ildCount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2760" y="3203640"/>
          <a:ext cx="7335720" cy="2655720"/>
        </p:xfrm>
        <a:graphic>
          <a:graphicData uri="http://schemas.openxmlformats.org/drawingml/2006/table">
            <a:tbl>
              <a:tblPr/>
              <a:tblGrid>
                <a:gridCol w="539640"/>
                <a:gridCol w="2926080"/>
                <a:gridCol w="855360"/>
                <a:gridCol w="854280"/>
                <a:gridCol w="855720"/>
                <a:gridCol w="988920"/>
                <a:gridCol w="315720"/>
              </a:tblGrid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42000" y="2214720"/>
            <a:ext cx="606240" cy="93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37360" y="1566360"/>
            <a:ext cx="1575000" cy="860400"/>
          </a:xfrm>
          <a:prstGeom prst="cloudCallout">
            <a:avLst>
              <a:gd name="adj1" fmla="val -103722"/>
              <a:gd name="adj2" fmla="val 2870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그럼 답변 글을 구현하기 위한 절차를 따라가면서 살펴보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32360" y="3530520"/>
            <a:ext cx="3240" cy="336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633800" y="3868560"/>
            <a:ext cx="3240" cy="336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633800" y="4199040"/>
            <a:ext cx="3240" cy="336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633800" y="4535640"/>
            <a:ext cx="3240" cy="336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33800" y="4869000"/>
            <a:ext cx="3240" cy="336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33800" y="5200560"/>
            <a:ext cx="3240" cy="336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637040" y="5522760"/>
            <a:ext cx="3240" cy="336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2920" y="4370400"/>
            <a:ext cx="336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27040" y="3375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14080" y="5668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96" idx="3"/>
          </p:cNvCxnSpPr>
          <p:nvPr/>
        </p:nvCxnSpPr>
        <p:spPr>
          <a:xfrm flipH="1">
            <a:off x="7817760" y="3538440"/>
            <a:ext cx="13320" cy="2294640"/>
          </a:xfrm>
          <a:prstGeom prst="bentConnector3">
            <a:avLst>
              <a:gd name="adj1" fmla="val -4775000"/>
            </a:avLst>
          </a:prstGeom>
          <a:ln w="19080">
            <a:solidFill>
              <a:srgbClr val="ff0000"/>
            </a:solidFill>
            <a:prstDash val="sysDot"/>
            <a:miter/>
          </a:ln>
        </p:spPr>
      </p:cxnSp>
      <p:sp>
        <p:nvSpPr>
          <p:cNvPr id="198" name=""/>
          <p:cNvSpPr/>
          <p:nvPr/>
        </p:nvSpPr>
        <p:spPr>
          <a:xfrm>
            <a:off x="8514000" y="4551480"/>
            <a:ext cx="24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25640" y="5859360"/>
            <a:ext cx="0" cy="27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859360"/>
            <a:ext cx="0" cy="27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6720" y="5859360"/>
            <a:ext cx="0" cy="27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6720" y="5859360"/>
            <a:ext cx="0" cy="27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5994360"/>
            <a:ext cx="2696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94360"/>
            <a:ext cx="27000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6720" y="5994360"/>
            <a:ext cx="27000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4480" y="6035760"/>
            <a:ext cx="44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1800" y="609444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66200" y="610704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34400" y="610704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6280" y="356400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76280" y="390204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76280" y="423864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76280" y="457668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76280" y="489096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76280" y="522936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6280" y="5567400"/>
            <a:ext cx="123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2:18Z</dcterms:modified>
  <cp:revision>8401</cp:revision>
  <dc:subject/>
  <dc:title>프로그래밍 언어</dc:title>
</cp:coreProperties>
</file>