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.wmf" ContentType="image/x-wmf"/>
  <Override PartName="/ppt/media/image2.png" ContentType="image/png"/>
  <Override PartName="/ppt/media/image3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DBC-62D4-409C-B6F1-61E41C43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1B8-9F2C-4DBB-A5AC-5DE3CAD8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3BE-74E4-4EE2-9D71-12F6AE3E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BD5-F89A-40E4-9D06-A670E2D5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E578-586F-4298-AEA6-184FBDE4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21DA-6B98-45B4-9BF5-5D9C591E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A833-F733-4AFD-9D25-4582226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7708-D260-4B10-A23D-CC012509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0023-775F-4710-B5E9-D52ADFB7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1DF7-DD54-4595-A7C6-D42833CF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36CC-0681-4E77-BCF8-C0F2618F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645-ECE1-456B-A925-FDB1B3E1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5CA6-AC02-418D-9EC8-1418A4F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8298-2704-4A78-BB5F-2C110B7F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7479-0122-4476-8967-4D8F0F78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16FE-663C-44B5-9EDE-1B5DC29D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660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7640" y="108864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92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660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7640" y="3815280"/>
            <a:ext cx="26956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846C-979D-4C65-9F00-114E40C7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BCD-76F5-4DEF-A0E9-D3578199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661-D1C3-4EA1-BB42-D1DA1547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DF8-688A-49FC-8650-9E05D50A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40" y="97920"/>
            <a:ext cx="913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0AF-4B08-4A9B-939C-EF51BA7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723-DD17-4A50-A3AB-A9B2A330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680" y="381528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38C-0556-4C75-A794-A2FCF33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088640"/>
            <a:ext cx="408528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920" y="3815280"/>
            <a:ext cx="83721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1A9-B70A-4209-961C-F3FEF68C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38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04D5-BB0B-43DF-B892-544175323D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3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907920"/>
            <a:ext cx="9131400" cy="0"/>
          </a:xfrm>
          <a:prstGeom prst="line">
            <a:avLst/>
          </a:prstGeom>
          <a:ln w="117360">
            <a:solidFill>
              <a:srgbClr val="a8a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600" y="635472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360" y="609480"/>
            <a:ext cx="8801280" cy="5639040"/>
          </a:xfrm>
          <a:prstGeom prst="rect">
            <a:avLst/>
          </a:prstGeom>
          <a:solidFill>
            <a:srgbClr val="ffead5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760320"/>
            <a:ext cx="8464320" cy="53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26828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529000"/>
            <a:ext cx="777708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86440" y="608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FDB6-C3DA-44CF-ABFF-5DA9CDA80C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58080" y="5184720"/>
            <a:ext cx="188892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.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Directive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이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irectiv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라이언트의 요청에 의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가 실행될 때 필요한 정보를 기술하기 위해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 인코딩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래스 임포트 정보 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지시문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%@ ~ %&g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호를 사용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시문의 종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li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flipH="1" rot="1576800">
            <a:off x="7497360" y="4208040"/>
            <a:ext cx="988920" cy="88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032360" y="4813200"/>
            <a:ext cx="2293920" cy="860760"/>
          </a:xfrm>
          <a:prstGeom prst="cloudCallout">
            <a:avLst>
              <a:gd name="adj1" fmla="val 94967"/>
              <a:gd name="adj2" fmla="val -914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rectiv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페이지를 실행하는데 필요한 부가 정보를 기술하기 위해 사용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3429000"/>
            <a:ext cx="697536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름     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   ...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.2 pag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에 대한 정보를 지정하는 데 사용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문서 타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래스 임포트 정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에러 페이지 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시문의 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지시문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를 실행하는데 필요한 기본 정보를 지정하기 때문에 가장 윗줄에 사용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401328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 page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   ...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 rot="1384800">
            <a:off x="3806640" y="4914720"/>
            <a:ext cx="671400" cy="834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25920" y="5188680"/>
            <a:ext cx="2027520" cy="621720"/>
          </a:xfrm>
          <a:prstGeom prst="cloudCallout">
            <a:avLst>
              <a:gd name="adj1" fmla="val -87101"/>
              <a:gd name="adj2" fmla="val -7841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지시문은 일반적으로 가장 첫 줄에 사용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.3 pag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지시문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tTyp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지시문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ntentTyp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IM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타입과 문자 인코딩 정보를 기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ntentTyp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속성의 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본 값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"text/html;charset=ISO-8859-1"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IM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타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현재 문서의 컨텐츠를 나타내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텍스트 형태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문서이기 때문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ext/htm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기술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har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문자 인코딩 정보를 기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한글을 사용하고자 한다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euc-kr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사용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71640" y="3024360"/>
            <a:ext cx="6345000" cy="49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 page     contentType="MIME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타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charset=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인코딩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정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.4 contentTyp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속성의 사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4109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잘못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Typ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109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제대로 작성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Typ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280" y="1987560"/>
            <a:ext cx="4456440" cy="274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contentType="image/gif; charset=iso-8859-1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title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잘못된 한글 인코딩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2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한글이 안보여요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&lt;/h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16280" y="1986120"/>
            <a:ext cx="4456440" cy="274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contentType="text/html; charset=euc-kr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title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제대로 작성한 한글 인코딩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2&gt;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한글이 너무 잘 보여요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&lt;/h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31920" y="4849920"/>
            <a:ext cx="3925800" cy="14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21200" y="4830840"/>
            <a:ext cx="3925800" cy="1414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357720" y="2349360"/>
            <a:ext cx="80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02720" y="2349360"/>
            <a:ext cx="44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5920" y="1628640"/>
            <a:ext cx="1791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wrong_encoding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63440" y="1628640"/>
            <a:ext cx="166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right_encoding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.5 pag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지시문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지시문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코드 내에서 사용할 자바 패키지를 지정하기 위한 속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속성의 사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2664000"/>
            <a:ext cx="6345000" cy="49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 page     import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사용할 패키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사용할 패키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...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6280" y="3249720"/>
            <a:ext cx="4456080" cy="34671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contentType="text/html; charset=euc-kr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import="java.util.*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title&gt;page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지시문의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import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속성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ring str = "Hello JSP~~~!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Vector vector = new Vec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vector.addElement(st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ln("&lt;h2&gt;" + vector.elementAt(0) + "&lt;/h2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207040" y="3384720"/>
            <a:ext cx="3505320" cy="14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111640" y="5319720"/>
            <a:ext cx="552600" cy="125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462720" y="5141520"/>
            <a:ext cx="2494080" cy="1393560"/>
          </a:xfrm>
          <a:prstGeom prst="cloudCallout">
            <a:avLst>
              <a:gd name="adj1" fmla="val -82384"/>
              <a:gd name="adj2" fmla="val -4587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좌측의 코드에서 만약 패키지를 임포트하지 않았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ava.util.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라고 기술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5400" y="3429000"/>
            <a:ext cx="8856360" cy="3368520"/>
          </a:xfrm>
          <a:custGeom>
            <a:avLst/>
            <a:gdLst/>
            <a:ahLst/>
            <a:rect l="l" t="t" r="r" b="b"/>
            <a:pathLst>
              <a:path w="5579" h="2122">
                <a:moveTo>
                  <a:pt x="4634" y="85"/>
                </a:moveTo>
                <a:cubicBezTo>
                  <a:pt x="4393" y="123"/>
                  <a:pt x="3874" y="217"/>
                  <a:pt x="3614" y="283"/>
                </a:cubicBezTo>
                <a:cubicBezTo>
                  <a:pt x="3354" y="349"/>
                  <a:pt x="3297" y="444"/>
                  <a:pt x="3075" y="482"/>
                </a:cubicBezTo>
                <a:cubicBezTo>
                  <a:pt x="2853" y="520"/>
                  <a:pt x="2517" y="519"/>
                  <a:pt x="2281" y="510"/>
                </a:cubicBezTo>
                <a:cubicBezTo>
                  <a:pt x="2045" y="501"/>
                  <a:pt x="1993" y="444"/>
                  <a:pt x="1658" y="425"/>
                </a:cubicBezTo>
                <a:cubicBezTo>
                  <a:pt x="1323" y="406"/>
                  <a:pt x="538" y="312"/>
                  <a:pt x="269" y="397"/>
                </a:cubicBezTo>
                <a:cubicBezTo>
                  <a:pt x="0" y="482"/>
                  <a:pt x="61" y="757"/>
                  <a:pt x="42" y="936"/>
                </a:cubicBezTo>
                <a:cubicBezTo>
                  <a:pt x="23" y="1115"/>
                  <a:pt x="146" y="1304"/>
                  <a:pt x="155" y="1474"/>
                </a:cubicBezTo>
                <a:cubicBezTo>
                  <a:pt x="164" y="1644"/>
                  <a:pt x="74" y="1852"/>
                  <a:pt x="98" y="1956"/>
                </a:cubicBezTo>
                <a:cubicBezTo>
                  <a:pt x="122" y="2060"/>
                  <a:pt x="65" y="2074"/>
                  <a:pt x="297" y="2098"/>
                </a:cubicBezTo>
                <a:cubicBezTo>
                  <a:pt x="529" y="2122"/>
                  <a:pt x="1096" y="2112"/>
                  <a:pt x="1488" y="2098"/>
                </a:cubicBezTo>
                <a:cubicBezTo>
                  <a:pt x="1880" y="2084"/>
                  <a:pt x="2286" y="2018"/>
                  <a:pt x="2650" y="2013"/>
                </a:cubicBezTo>
                <a:cubicBezTo>
                  <a:pt x="3014" y="2008"/>
                  <a:pt x="3382" y="2065"/>
                  <a:pt x="3670" y="2070"/>
                </a:cubicBezTo>
                <a:cubicBezTo>
                  <a:pt x="3958" y="2075"/>
                  <a:pt x="4129" y="2046"/>
                  <a:pt x="4379" y="2041"/>
                </a:cubicBezTo>
                <a:cubicBezTo>
                  <a:pt x="4629" y="2036"/>
                  <a:pt x="4993" y="2088"/>
                  <a:pt x="5173" y="2041"/>
                </a:cubicBezTo>
                <a:cubicBezTo>
                  <a:pt x="5353" y="1994"/>
                  <a:pt x="5391" y="1947"/>
                  <a:pt x="5457" y="1758"/>
                </a:cubicBezTo>
                <a:cubicBezTo>
                  <a:pt x="5523" y="1569"/>
                  <a:pt x="5579" y="1134"/>
                  <a:pt x="5570" y="907"/>
                </a:cubicBezTo>
                <a:cubicBezTo>
                  <a:pt x="5561" y="680"/>
                  <a:pt x="5485" y="539"/>
                  <a:pt x="5400" y="397"/>
                </a:cubicBezTo>
                <a:cubicBezTo>
                  <a:pt x="5315" y="255"/>
                  <a:pt x="5188" y="114"/>
                  <a:pt x="5060" y="57"/>
                </a:cubicBezTo>
                <a:cubicBezTo>
                  <a:pt x="4932" y="0"/>
                  <a:pt x="4875" y="47"/>
                  <a:pt x="4634" y="85"/>
                </a:cubicBez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.6 includ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현재 페이지에 포함될 파일을 텍스트 형태 그대로 원래 페이지에 삽입 후 처리하기 위한 구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지시문의 사용 방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지시문의 처리 과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279864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@ include     file="includ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될 파일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L"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464000"/>
            <a:ext cx="1828800" cy="2205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%@include file="included.jsp"%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7320" y="4103640"/>
            <a:ext cx="1544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Include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34840" y="4599000"/>
            <a:ext cx="1161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d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4959360"/>
            <a:ext cx="1082880" cy="1305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560" y="5273640"/>
            <a:ext cx="1665360" cy="316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4" idx="3"/>
            <a:endCxn id="252" idx="1"/>
          </p:cNvCxnSpPr>
          <p:nvPr/>
        </p:nvCxnSpPr>
        <p:spPr>
          <a:xfrm flipV="1">
            <a:off x="2339640" y="4761720"/>
            <a:ext cx="1197360" cy="670680"/>
          </a:xfrm>
          <a:prstGeom prst="curvedConnector5">
            <a:avLst>
              <a:gd name="adj1" fmla="val 49082"/>
              <a:gd name="adj2" fmla="val 50000"/>
              <a:gd name="adj3" fmla="val 49082"/>
            </a:avLst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2920680" y="5229360"/>
            <a:ext cx="230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포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1280" y="4869000"/>
            <a:ext cx="1079640" cy="1304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4284720"/>
            <a:ext cx="1828800" cy="2205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83760" y="3913200"/>
            <a:ext cx="1544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Include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42000" y="4959360"/>
            <a:ext cx="1576440" cy="6573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ed.js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5080" y="4194000"/>
            <a:ext cx="511200" cy="5353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2720" y="4103640"/>
            <a:ext cx="511200" cy="5349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92720" y="3968640"/>
            <a:ext cx="511200" cy="5349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.3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스크립트 요소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3.1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스크립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cript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요소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스크립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cript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요소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스크립트 요소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프로그래밍에서 사용되는 자바 코드의 표현 형태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블릿 코드로 자동 변환되는 성질을 가지고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 스크립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cript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요소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스크립트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cript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자바 코드를 작성하는 부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% ~ 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선언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cla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 전체에서 참조될 멤버 변수나 멤버 메소드를 선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%! ~ 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표현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출력될 자바 변수의 내용을 표현하기 위해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%=  ~ 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flipH="1">
            <a:off x="5920920" y="2843280"/>
            <a:ext cx="461880" cy="1295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47000" y="2353680"/>
            <a:ext cx="1604880" cy="860400"/>
          </a:xfrm>
          <a:prstGeom prst="cloudCallout">
            <a:avLst>
              <a:gd name="adj1" fmla="val -89759"/>
              <a:gd name="adj2" fmla="val 2231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스크립트 요소의 내용들은 서블릿 코드 생성시 반영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403960" y="3114720"/>
            <a:ext cx="3510000" cy="27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4680" y="1403280"/>
            <a:ext cx="1439640" cy="126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03960" y="3833640"/>
            <a:ext cx="1439640" cy="27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03960" y="4194000"/>
            <a:ext cx="1439640" cy="449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03960" y="5138640"/>
            <a:ext cx="1439640" cy="270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83240" y="4734000"/>
            <a:ext cx="1440000" cy="269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3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스크립트 요소와 서블릿의 관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0920" y="1089000"/>
            <a:ext cx="837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%@ page contentType="text/html; charset=euc-kr" %&gt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tml&gt;&lt;body&gt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%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tring name = "jsp"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nt a = 5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nt b = 15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ublic int sum(){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return a + b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%&gt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%= sum() %&gt;&lt;p&gt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%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nt i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for(i=0; i&lt;2; i++) {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%&gt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%=name%&gt;&lt;p&gt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%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 %&gt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body&gt;&lt;/html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280" y="1042920"/>
            <a:ext cx="3870360" cy="31608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280" y="1854360"/>
            <a:ext cx="2565720" cy="16650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280" y="3654360"/>
            <a:ext cx="2565720" cy="31428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280" y="4103640"/>
            <a:ext cx="2565720" cy="8114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280" y="5049720"/>
            <a:ext cx="2565720" cy="31428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280" y="5454720"/>
            <a:ext cx="2565720" cy="36036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2360" y="1042920"/>
            <a:ext cx="718920" cy="314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지시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27360" y="2529000"/>
            <a:ext cx="719280" cy="314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선언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7360" y="3654360"/>
            <a:ext cx="719280" cy="314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표현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27360" y="4329000"/>
            <a:ext cx="990720" cy="314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스크립트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27360" y="5049720"/>
            <a:ext cx="719280" cy="314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표현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27360" y="5499000"/>
            <a:ext cx="990720" cy="314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스크립트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73600" y="1098720"/>
            <a:ext cx="4299120" cy="561636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ublic final class script_005fservlet_jsp extends ... implements ...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String name = "jsp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nt a = 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nt b = 1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ublic int sum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return a + b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ublic void _jspService(...) throws ...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response.setContentType("text/html; charset=euc-k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.write("&lt;html&gt;&lt;body&gt; \r\n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.print( sum()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nt i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for(i=0; i&lt;2; i++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.print(nam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.write("&lt;/body&gt;&lt;/html&gt;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 catch (Throwable t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 finall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3"/>
            <a:endCxn id="271" idx="1"/>
          </p:cNvCxnSpPr>
          <p:nvPr/>
        </p:nvCxnSpPr>
        <p:spPr>
          <a:xfrm flipV="1">
            <a:off x="3446280" y="2033280"/>
            <a:ext cx="1508760" cy="653040"/>
          </a:xfrm>
          <a:prstGeom prst="curvedConnector5">
            <a:avLst>
              <a:gd name="adj1" fmla="val 49880"/>
              <a:gd name="adj2" fmla="val 49972"/>
              <a:gd name="adj3" fmla="val 4988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94" name=""/>
          <p:cNvCxnSpPr>
            <a:stCxn id="286" idx="2"/>
            <a:endCxn id="270" idx="1"/>
          </p:cNvCxnSpPr>
          <p:nvPr/>
        </p:nvCxnSpPr>
        <p:spPr>
          <a:xfrm flipH="1" rot="16200000">
            <a:off x="3951000" y="1797480"/>
            <a:ext cx="1893240" cy="10119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95" name=""/>
          <p:cNvCxnSpPr>
            <a:stCxn id="288" idx="3"/>
            <a:endCxn id="272" idx="1"/>
          </p:cNvCxnSpPr>
          <p:nvPr/>
        </p:nvCxnSpPr>
        <p:spPr>
          <a:xfrm>
            <a:off x="3446280" y="3811680"/>
            <a:ext cx="1958040" cy="157680"/>
          </a:xfrm>
          <a:prstGeom prst="curvedConnector5">
            <a:avLst>
              <a:gd name="adj1" fmla="val 49944"/>
              <a:gd name="adj2" fmla="val 49885"/>
              <a:gd name="adj3" fmla="val 4994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96" name=""/>
          <p:cNvCxnSpPr>
            <a:stCxn id="290" idx="3"/>
            <a:endCxn id="275" idx="1"/>
          </p:cNvCxnSpPr>
          <p:nvPr/>
        </p:nvCxnSpPr>
        <p:spPr>
          <a:xfrm flipV="1">
            <a:off x="3446280" y="4868280"/>
            <a:ext cx="2136960" cy="338760"/>
          </a:xfrm>
          <a:prstGeom prst="curvedConnector5">
            <a:avLst>
              <a:gd name="adj1" fmla="val 49924"/>
              <a:gd name="adj2" fmla="val 50000"/>
              <a:gd name="adj3" fmla="val 49924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97" name=""/>
          <p:cNvCxnSpPr>
            <a:stCxn id="289" idx="3"/>
            <a:endCxn id="273" idx="1"/>
          </p:cNvCxnSpPr>
          <p:nvPr/>
        </p:nvCxnSpPr>
        <p:spPr>
          <a:xfrm flipV="1">
            <a:off x="3717720" y="4419000"/>
            <a:ext cx="1686600" cy="6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98" name=""/>
          <p:cNvCxnSpPr>
            <a:stCxn id="291" idx="3"/>
            <a:endCxn id="274" idx="1"/>
          </p:cNvCxnSpPr>
          <p:nvPr/>
        </p:nvCxnSpPr>
        <p:spPr>
          <a:xfrm flipV="1">
            <a:off x="3717720" y="5272920"/>
            <a:ext cx="1686600" cy="383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7540560" y="3654360"/>
            <a:ext cx="1487520" cy="297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실행 결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720" y="5230800"/>
            <a:ext cx="130644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tml&gt;&lt;body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20&lt;p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&lt;p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&lt;p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0" t="19080" r="59936" b="18988"/>
          <a:stretch/>
        </p:blipFill>
        <p:spPr>
          <a:xfrm>
            <a:off x="7632720" y="3968640"/>
            <a:ext cx="130644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1280" y="414360"/>
            <a:ext cx="8912160" cy="5851440"/>
            <a:chOff x="71280" y="414360"/>
            <a:chExt cx="8912160" cy="5851440"/>
          </a:xfrm>
        </p:grpSpPr>
        <p:grpSp>
          <p:nvGrpSpPr>
            <p:cNvPr id="97" name=""/>
            <p:cNvGrpSpPr/>
            <p:nvPr/>
          </p:nvGrpSpPr>
          <p:grpSpPr>
            <a:xfrm>
              <a:off x="71280" y="414360"/>
              <a:ext cx="8912160" cy="5851440"/>
              <a:chOff x="71280" y="414360"/>
              <a:chExt cx="8912160" cy="5851440"/>
            </a:xfrm>
          </p:grpSpPr>
          <p:sp>
            <p:nvSpPr>
              <p:cNvPr id="98" name=""/>
              <p:cNvSpPr/>
              <p:nvPr/>
            </p:nvSpPr>
            <p:spPr>
              <a:xfrm>
                <a:off x="71280" y="414360"/>
                <a:ext cx="8912160" cy="5851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280" y="639720"/>
                <a:ext cx="8642160" cy="540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95360" y="5308560"/>
              <a:ext cx="457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이 명 진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,  </a:t>
              </a:r>
              <a:r>
                <a:rPr b="0" lang="ko-KR" sz="900" spc="-1" strike="noStrike">
                  <a:solidFill>
                    <a:srgbClr val="0000cc"/>
                  </a:solidFill>
                  <a:latin typeface="Times New Roman"/>
                </a:rPr>
                <a:t>최 영 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6699ff"/>
                  </a:solidFill>
                  <a:latin typeface="Times New Roman"/>
                  <a:ea typeface="바탕"/>
                </a:rPr>
                <a:t>Powered by http://www.jabook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5000" y="3286080"/>
              <a:ext cx="1827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66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2</a:t>
              </a:r>
              <a:r>
                <a:rPr b="0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nd</a:t>
              </a: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8120" y="3338640"/>
              <a:ext cx="47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소설같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4480" y="360360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699ff"/>
                  </a:solidFill>
                  <a:latin typeface="휴먼모음T"/>
                  <a:ea typeface="휴먼모음T"/>
                </a:rPr>
                <a:t>J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8520" y="3398760"/>
              <a:ext cx="180720" cy="164880"/>
              <a:chOff x="4808520" y="3398760"/>
              <a:chExt cx="180720" cy="16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08520" y="3398760"/>
                <a:ext cx="10404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33000" y="346572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5560" y="3422160"/>
                <a:ext cx="103680" cy="9792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80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049640" y="4778280"/>
              <a:ext cx="10350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57240" y="1449360"/>
              <a:ext cx="5097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장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의 기본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3.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스크립트 요소 정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선언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eclara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서 사용할 멤버 변수나 멤버 메소드를 선언하기 위한 영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 파일로 변경될 때 해당 클래스의 멤버 변수와 멤버 메소드로 선언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스크립트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criptle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에서 자바 코드를 작성하기 위한 구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서블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java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파일이 생성될 때 스크립트릿의 코드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 내부에 선언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표현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xpress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선언한 변수나 메소드의 리턴 값을 출력하는데 사용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.pri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축약 구문이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표현식에서는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붙이지 않는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217600"/>
            <a:ext cx="4140000" cy="8067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멤버 변수 및 멤버 메소드 선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71640" y="4194000"/>
            <a:ext cx="4140000" cy="8096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자바 코드 선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6308640"/>
            <a:ext cx="279072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=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출력값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1280" y="5950080"/>
            <a:ext cx="3060720" cy="765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out.print(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출력값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86280" y="6219720"/>
            <a:ext cx="1081080" cy="35892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47560" y="6489720"/>
            <a:ext cx="7102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동일 구문이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902720" y="2303640"/>
            <a:ext cx="739800" cy="1253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562720" y="2084040"/>
            <a:ext cx="2027160" cy="860760"/>
          </a:xfrm>
          <a:prstGeom prst="cloudCallout">
            <a:avLst>
              <a:gd name="adj1" fmla="val 66972"/>
              <a:gd name="adj2" fmla="val 8156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%!~%&gt;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의 내용은 해당 클래스의 멤버 변수와 멤버 메소드로 선언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516640" y="423864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047000" y="4468320"/>
            <a:ext cx="2027160" cy="1099080"/>
          </a:xfrm>
          <a:prstGeom prst="cloudCallout">
            <a:avLst>
              <a:gd name="adj1" fmla="val -77875"/>
              <a:gd name="adj2" fmla="val -6836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변수값을 출력하기 위해 표현식을 쓰던 스크립트릿 형태로 작성하던 결과는 동일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██████████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6850080"/>
          </a:xfrm>
          <a:prstGeom prst="rect">
            <a:avLst/>
          </a:prstGeom>
          <a:solidFill>
            <a:srgbClr val="ffeb9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311640" y="2259000"/>
            <a:ext cx="2206440" cy="178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02360" y="5184720"/>
            <a:ext cx="2744640" cy="11300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cc00"/>
                </a:solidFill>
                <a:latin typeface="Tahoma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520" y="1267920"/>
            <a:ext cx="818496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.1 JSP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의 동작 원리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63400" y="3141720"/>
            <a:ext cx="44578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86400" y="1238400"/>
            <a:ext cx="4471920" cy="5086080"/>
          </a:xfrm>
          <a:custGeom>
            <a:avLst/>
            <a:gdLst/>
            <a:ahLst/>
            <a:rect l="l" t="t" r="r" b="b"/>
            <a:pathLst>
              <a:path w="2817" h="3204">
                <a:moveTo>
                  <a:pt x="2486" y="303"/>
                </a:moveTo>
                <a:cubicBezTo>
                  <a:pt x="2363" y="223"/>
                  <a:pt x="2221" y="38"/>
                  <a:pt x="2032" y="19"/>
                </a:cubicBezTo>
                <a:cubicBezTo>
                  <a:pt x="1843" y="0"/>
                  <a:pt x="1499" y="57"/>
                  <a:pt x="1352" y="189"/>
                </a:cubicBezTo>
                <a:cubicBezTo>
                  <a:pt x="1205" y="321"/>
                  <a:pt x="1191" y="572"/>
                  <a:pt x="1153" y="813"/>
                </a:cubicBezTo>
                <a:cubicBezTo>
                  <a:pt x="1115" y="1054"/>
                  <a:pt x="1186" y="1517"/>
                  <a:pt x="1125" y="1635"/>
                </a:cubicBezTo>
                <a:cubicBezTo>
                  <a:pt x="1064" y="1753"/>
                  <a:pt x="969" y="1494"/>
                  <a:pt x="785" y="1522"/>
                </a:cubicBezTo>
                <a:cubicBezTo>
                  <a:pt x="601" y="1550"/>
                  <a:pt x="38" y="1559"/>
                  <a:pt x="19" y="1805"/>
                </a:cubicBezTo>
                <a:cubicBezTo>
                  <a:pt x="0" y="2051"/>
                  <a:pt x="454" y="2788"/>
                  <a:pt x="671" y="2996"/>
                </a:cubicBezTo>
                <a:cubicBezTo>
                  <a:pt x="888" y="3204"/>
                  <a:pt x="1091" y="3067"/>
                  <a:pt x="1323" y="3053"/>
                </a:cubicBezTo>
                <a:cubicBezTo>
                  <a:pt x="1555" y="3039"/>
                  <a:pt x="1853" y="2916"/>
                  <a:pt x="2061" y="2911"/>
                </a:cubicBezTo>
                <a:cubicBezTo>
                  <a:pt x="2269" y="2906"/>
                  <a:pt x="2453" y="3048"/>
                  <a:pt x="2571" y="3024"/>
                </a:cubicBezTo>
                <a:cubicBezTo>
                  <a:pt x="2689" y="3000"/>
                  <a:pt x="2731" y="3019"/>
                  <a:pt x="2769" y="2769"/>
                </a:cubicBezTo>
                <a:cubicBezTo>
                  <a:pt x="2807" y="2519"/>
                  <a:pt x="2817" y="1810"/>
                  <a:pt x="2798" y="1522"/>
                </a:cubicBezTo>
                <a:cubicBezTo>
                  <a:pt x="2779" y="1234"/>
                  <a:pt x="2661" y="1210"/>
                  <a:pt x="2656" y="1040"/>
                </a:cubicBezTo>
                <a:cubicBezTo>
                  <a:pt x="2651" y="870"/>
                  <a:pt x="2802" y="629"/>
                  <a:pt x="2769" y="501"/>
                </a:cubicBezTo>
                <a:cubicBezTo>
                  <a:pt x="2736" y="373"/>
                  <a:pt x="2609" y="383"/>
                  <a:pt x="2486" y="303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.1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동작 과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7000" y="1268280"/>
            <a:ext cx="1177920" cy="912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62360" y="1314360"/>
            <a:ext cx="3195720" cy="202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37000" y="1854360"/>
            <a:ext cx="2025720" cy="128268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897360" y="2319480"/>
            <a:ext cx="720720" cy="614160"/>
            <a:chOff x="3897360" y="2319480"/>
            <a:chExt cx="720720" cy="614160"/>
          </a:xfrm>
        </p:grpSpPr>
        <p:sp>
          <p:nvSpPr>
            <p:cNvPr id="119" name="Gear"/>
            <p:cNvSpPr/>
            <p:nvPr/>
          </p:nvSpPr>
          <p:spPr>
            <a:xfrm>
              <a:off x="4296960" y="2319480"/>
              <a:ext cx="321120" cy="281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2435400"/>
              <a:ext cx="384120" cy="3366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6480" y="2559600"/>
              <a:ext cx="426600" cy="374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77000" y="2214720"/>
            <a:ext cx="803160" cy="1014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93080" y="3789360"/>
            <a:ext cx="803160" cy="1014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llo.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97720" y="4778280"/>
            <a:ext cx="803160" cy="1014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hello.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7" idx="3"/>
            <a:endCxn id="122" idx="0"/>
          </p:cNvCxnSpPr>
          <p:nvPr/>
        </p:nvCxnSpPr>
        <p:spPr>
          <a:xfrm flipV="1">
            <a:off x="5562360" y="2214360"/>
            <a:ext cx="1616760" cy="281520"/>
          </a:xfrm>
          <a:prstGeom prst="curvedConnector5">
            <a:avLst>
              <a:gd name="adj1" fmla="val 37505"/>
              <a:gd name="adj2" fmla="val 143661"/>
              <a:gd name="adj3" fmla="val 37505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2" idx="3"/>
            <a:endCxn id="123" idx="0"/>
          </p:cNvCxnSpPr>
          <p:nvPr/>
        </p:nvCxnSpPr>
        <p:spPr>
          <a:xfrm>
            <a:off x="7579800" y="2722320"/>
            <a:ext cx="815400" cy="106740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7" name=""/>
          <p:cNvCxnSpPr>
            <a:stCxn id="123" idx="2"/>
            <a:endCxn id="124" idx="3"/>
          </p:cNvCxnSpPr>
          <p:nvPr/>
        </p:nvCxnSpPr>
        <p:spPr>
          <a:xfrm rot="5400000">
            <a:off x="7655760" y="4547880"/>
            <a:ext cx="483120" cy="99468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8" name=""/>
          <p:cNvCxnSpPr>
            <a:stCxn id="124" idx="1"/>
            <a:endCxn id="121" idx="4"/>
          </p:cNvCxnSpPr>
          <p:nvPr/>
        </p:nvCxnSpPr>
        <p:spPr>
          <a:xfrm rot="10800000">
            <a:off x="4360320" y="2932920"/>
            <a:ext cx="2237400" cy="235332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000560" y="1538280"/>
            <a:ext cx="8262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lo.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83440" y="2600280"/>
            <a:ext cx="6746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hello.java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일로 변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02720" y="5229360"/>
            <a:ext cx="900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컴파일하여 서블릿 객체 생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42000" y="4060800"/>
            <a:ext cx="1395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서블릿 컨테이너에 로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0" idx="4"/>
            <a:endCxn id="115" idx="2"/>
          </p:cNvCxnSpPr>
          <p:nvPr/>
        </p:nvCxnSpPr>
        <p:spPr>
          <a:xfrm rot="10800000">
            <a:off x="885240" y="2180520"/>
            <a:ext cx="3012120" cy="42300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861280" y="1562040"/>
            <a:ext cx="1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15" idx="3"/>
            <a:endCxn id="134" idx="1"/>
          </p:cNvCxnSpPr>
          <p:nvPr/>
        </p:nvCxnSpPr>
        <p:spPr>
          <a:xfrm>
            <a:off x="1474920" y="1725120"/>
            <a:ext cx="1388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34840" y="1449360"/>
            <a:ext cx="8262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lo.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요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9480" y="2641680"/>
            <a:ext cx="8262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lo.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응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62360" y="509436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2720" y="3837600"/>
            <a:ext cx="2133720" cy="1337760"/>
          </a:xfrm>
          <a:prstGeom prst="cloudCallout">
            <a:avLst>
              <a:gd name="adj1" fmla="val 98393"/>
              <a:gd name="adj2" fmla="val 4458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가 요청되면 해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파일이 자동으로 자바 코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.java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로 변환되고 컴파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.class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이 동적으로 이루어 진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.2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생명 주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5560" y="1088640"/>
            <a:ext cx="4141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 생명 주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Init(), _jspService(), jspDestroy(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소드로 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 생명 주기 메소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In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에 대한 첫 요청이 올 경우 서블릿으로 변환된 후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Init()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메소드가 호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서블릿의 초기화 및 서비스를 시작하기 위한 준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메소드 호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jspServi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클라이언트의 요청을 처리하는 메소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Destro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서블릿 객체가 메모리에서 제거될 때 호출되는 메소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52840" y="1089000"/>
            <a:ext cx="4664160" cy="5064120"/>
          </a:xfrm>
          <a:custGeom>
            <a:avLst/>
            <a:gdLst/>
            <a:ahLst/>
            <a:rect l="l" t="t" r="r" b="b"/>
            <a:pathLst>
              <a:path w="2938" h="3190">
                <a:moveTo>
                  <a:pt x="2258" y="142"/>
                </a:moveTo>
                <a:cubicBezTo>
                  <a:pt x="2074" y="123"/>
                  <a:pt x="1696" y="0"/>
                  <a:pt x="1436" y="0"/>
                </a:cubicBezTo>
                <a:cubicBezTo>
                  <a:pt x="1176" y="0"/>
                  <a:pt x="879" y="81"/>
                  <a:pt x="699" y="142"/>
                </a:cubicBezTo>
                <a:cubicBezTo>
                  <a:pt x="519" y="203"/>
                  <a:pt x="467" y="245"/>
                  <a:pt x="358" y="368"/>
                </a:cubicBezTo>
                <a:cubicBezTo>
                  <a:pt x="249" y="491"/>
                  <a:pt x="94" y="737"/>
                  <a:pt x="47" y="879"/>
                </a:cubicBezTo>
                <a:cubicBezTo>
                  <a:pt x="0" y="1021"/>
                  <a:pt x="52" y="1073"/>
                  <a:pt x="75" y="1219"/>
                </a:cubicBezTo>
                <a:cubicBezTo>
                  <a:pt x="98" y="1365"/>
                  <a:pt x="174" y="1587"/>
                  <a:pt x="188" y="1757"/>
                </a:cubicBezTo>
                <a:cubicBezTo>
                  <a:pt x="202" y="1927"/>
                  <a:pt x="155" y="2026"/>
                  <a:pt x="160" y="2239"/>
                </a:cubicBezTo>
                <a:cubicBezTo>
                  <a:pt x="165" y="2452"/>
                  <a:pt x="28" y="2877"/>
                  <a:pt x="217" y="3033"/>
                </a:cubicBezTo>
                <a:cubicBezTo>
                  <a:pt x="406" y="3189"/>
                  <a:pt x="992" y="3170"/>
                  <a:pt x="1294" y="3175"/>
                </a:cubicBezTo>
                <a:cubicBezTo>
                  <a:pt x="1596" y="3180"/>
                  <a:pt x="1790" y="3081"/>
                  <a:pt x="2031" y="3062"/>
                </a:cubicBezTo>
                <a:cubicBezTo>
                  <a:pt x="2272" y="3043"/>
                  <a:pt x="2598" y="3190"/>
                  <a:pt x="2740" y="3062"/>
                </a:cubicBezTo>
                <a:cubicBezTo>
                  <a:pt x="2882" y="2934"/>
                  <a:pt x="2854" y="2579"/>
                  <a:pt x="2882" y="2296"/>
                </a:cubicBezTo>
                <a:cubicBezTo>
                  <a:pt x="2910" y="2013"/>
                  <a:pt x="2938" y="1644"/>
                  <a:pt x="2910" y="1361"/>
                </a:cubicBezTo>
                <a:cubicBezTo>
                  <a:pt x="2882" y="1078"/>
                  <a:pt x="2773" y="803"/>
                  <a:pt x="2712" y="595"/>
                </a:cubicBezTo>
                <a:cubicBezTo>
                  <a:pt x="2651" y="387"/>
                  <a:pt x="2617" y="188"/>
                  <a:pt x="2541" y="113"/>
                </a:cubicBezTo>
                <a:cubicBezTo>
                  <a:pt x="2465" y="38"/>
                  <a:pt x="2442" y="161"/>
                  <a:pt x="2258" y="142"/>
                </a:cubicBez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81880" y="4159080"/>
            <a:ext cx="0" cy="665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5600" y="1808280"/>
            <a:ext cx="1486080" cy="63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spInit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21400" y="3276720"/>
            <a:ext cx="1978200" cy="85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jspService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35600" y="4857840"/>
            <a:ext cx="1486080" cy="59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spDestroy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8656560" y="3094920"/>
            <a:ext cx="325440" cy="1203480"/>
          </a:xfrm>
          <a:custGeom>
            <a:avLst/>
            <a:gdLst>
              <a:gd name="textAreaLeft" fmla="*/ 43560 w 325440"/>
              <a:gd name="textAreaRight" fmla="*/ 281880 w 325440"/>
              <a:gd name="textAreaTop" fmla="*/ 210600 h 1203480"/>
              <a:gd name="textAreaBottom" fmla="*/ 872640 h 120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60960" y="3186000"/>
            <a:ext cx="327240" cy="1204920"/>
          </a:xfrm>
          <a:custGeom>
            <a:avLst/>
            <a:gdLst>
              <a:gd name="textAreaLeft" fmla="*/ 43560 w 327240"/>
              <a:gd name="textAreaRight" fmla="*/ 283680 w 327240"/>
              <a:gd name="textAreaTop" fmla="*/ 210600 h 1204920"/>
              <a:gd name="textAreaBottom" fmla="*/ 873720 h 12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0440" y="3065400"/>
            <a:ext cx="2403360" cy="1330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81880" y="2438280"/>
            <a:ext cx="0" cy="811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2320" y="1989000"/>
            <a:ext cx="7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9200" y="3429000"/>
            <a:ext cx="62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95200" y="3741840"/>
            <a:ext cx="73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28040" y="5049720"/>
            <a:ext cx="100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troy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3608280"/>
            <a:ext cx="85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607000" y="3876840"/>
            <a:ext cx="80964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7360" y="2124000"/>
            <a:ext cx="98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5184720"/>
            <a:ext cx="67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6640" y="3789360"/>
            <a:ext cx="5761080" cy="44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.3 JS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 동작 시 생성되는 파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5920" y="1088640"/>
            <a:ext cx="8372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실행 후 생성되는 파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.java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파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을 서블릿을 위한 자바 코드로 변경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trans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.class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파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바 코드를 서블릿 클래스로 컴파일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comp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자바 파일과 클래스 파일이 생성되는 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%CATALINA_HOME%\work\Catalina\localhost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86280" y="4351320"/>
            <a:ext cx="3224520" cy="2408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832360" y="4869000"/>
            <a:ext cx="1260720" cy="49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9" idx="2"/>
            <a:endCxn id="163" idx="1"/>
          </p:cNvCxnSpPr>
          <p:nvPr/>
        </p:nvCxnSpPr>
        <p:spPr>
          <a:xfrm flipH="1" rot="16200000">
            <a:off x="4326480" y="3629520"/>
            <a:ext cx="878760" cy="209592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6640" y="5184720"/>
            <a:ext cx="606600" cy="934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1640" y="4649040"/>
            <a:ext cx="2314440" cy="1099440"/>
          </a:xfrm>
          <a:prstGeom prst="cloudCallout">
            <a:avLst>
              <a:gd name="adj1" fmla="val 89421"/>
              <a:gd name="adj2" fmla="val 2178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파일이 자동으로 변환된 자바 파일과 클래스 파일은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work\Catalina\localhost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디렉터리에 위치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.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간단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파일 작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rective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페이지에 대한 설정 정보를 지정하기 위해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지시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페이지의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ME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타입과 인코딩 정보를 지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스크립트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criptlet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&lt;%"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기호로 시작하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%&gt;"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로 끝나는 부분으로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자바 코드를 작성하는 부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표현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xpression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작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데이터를 출력하는 부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2349360"/>
            <a:ext cx="6345000" cy="8557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&lt;%@ page contentType = "text/html; charset=euc-kr"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06640" y="2778120"/>
            <a:ext cx="346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06640" y="2867040"/>
            <a:ext cx="16171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현재 문서의 타입과 인코딩 정보 지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4284720"/>
            <a:ext cx="6345000" cy="11239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nam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소설같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P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author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이명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6219720"/>
            <a:ext cx="6345000" cy="49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= name %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의 저자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%= author %&gt;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입니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자동 생성된 자바 파일 분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패키지 선언 및 클래스 임포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asicTest_jsp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_jspService()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의 요청에 따라 수행되는 메소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내장 객체 선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굴림"/>
              <a:buChar char="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선언하지 않아도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에서 기본적으로 제공되는 객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내장 객체 초기화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403280"/>
            <a:ext cx="7065720" cy="94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ackage org.apache.js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import javax.servl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import javax.servlet.http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import javax.servlet.jsp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708280"/>
            <a:ext cx="706572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ublic final class basicTest_jsp extends HttpJspBase implements JspSourceDepende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3787920"/>
            <a:ext cx="7065720" cy="40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ublic void _jspService(HttpServletRequest request, HttpServletResponse response) throws ...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4824360"/>
            <a:ext cx="7065720" cy="7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JspFactory _jspxFactory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ageContext pageContext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타 내장객체 선언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994360"/>
            <a:ext cx="7065720" cy="76536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jspxFactory = JspFactory.getDefault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ageContext = _jspxFactory.getPageContext(this, request, response, null, true, 8192, tru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타 내장 객체 초기화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72000" y="1137600"/>
            <a:ext cx="2027520" cy="860400"/>
          </a:xfrm>
          <a:prstGeom prst="cloudCallout">
            <a:avLst>
              <a:gd name="adj1" fmla="val 60171"/>
              <a:gd name="adj2" fmla="val 11214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코드는 실행시 다음과 같은 서블릿 코드로 변환되어 실행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812000" y="2124000"/>
            <a:ext cx="579600" cy="906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67360" y="5049720"/>
            <a:ext cx="1031760" cy="83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642000" y="4992480"/>
            <a:ext cx="2430720" cy="860760"/>
          </a:xfrm>
          <a:prstGeom prst="cloudCallout">
            <a:avLst>
              <a:gd name="adj1" fmla="val -79259"/>
              <a:gd name="adj2" fmla="val -51083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내장객체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코드에서 선언하지 않아도 사용할 수 있도록 미리 선언되어 있는 객체를 말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173640"/>
            <a:ext cx="9144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600" y="6804000"/>
            <a:ext cx="9131400" cy="0"/>
          </a:xfrm>
          <a:prstGeom prst="line">
            <a:avLst/>
          </a:prstGeom>
          <a:ln w="12600">
            <a:solidFill>
              <a:srgbClr val="8c8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16280" y="1023840"/>
            <a:ext cx="4411800" cy="571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t">
            <a:no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코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40" y="97920"/>
            <a:ext cx="9131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.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자동 생성된 자바 파일 분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089000"/>
            <a:ext cx="8372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지시문 코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시작 코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스크립트릿 코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표현식 코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HY신명조"/>
              <a:buChar char="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종료 코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920" y="2212920"/>
            <a:ext cx="4095720" cy="12160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&lt;html&gt;\r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\t&lt;head&gt;\r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\t\t&lt;title&gt;jsp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페이지 구성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title&gt;\r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\t&lt;/head&gt;\r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\t&lt;body&gt;\r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5920" y="3833640"/>
            <a:ext cx="4095720" cy="58428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name = "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소설같은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author = "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이명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920" y="1401840"/>
            <a:ext cx="4095720" cy="406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sponse.setContentType("text/html; charset=euc-k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62360" y="3564000"/>
            <a:ext cx="4319640" cy="103500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name = "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소설같은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author = "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이명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62360" y="1403280"/>
            <a:ext cx="4319640" cy="4064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%@ page contentType = "text/html; charset=euc-kr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62360" y="2214720"/>
            <a:ext cx="4319640" cy="12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title&gt;jsp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페이지 구성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13080" y="2619360"/>
            <a:ext cx="449280" cy="314280"/>
          </a:xfrm>
          <a:prstGeom prst="leftRightArrow">
            <a:avLst>
              <a:gd name="adj1" fmla="val 50000"/>
              <a:gd name="adj2" fmla="val 284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5094360"/>
            <a:ext cx="449280" cy="314280"/>
          </a:xfrm>
          <a:prstGeom prst="leftRightArrow">
            <a:avLst>
              <a:gd name="adj1" fmla="val 50000"/>
              <a:gd name="adj2" fmla="val 284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3080" y="1447920"/>
            <a:ext cx="449280" cy="314280"/>
          </a:xfrm>
          <a:prstGeom prst="leftRightArrow">
            <a:avLst>
              <a:gd name="adj1" fmla="val 50000"/>
              <a:gd name="adj2" fmla="val 284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920" y="4813200"/>
            <a:ext cx="4095720" cy="9558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( name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의 저자는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print( author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입니다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\r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62360" y="5049720"/>
            <a:ext cx="4319640" cy="4064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%= name %&g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저자는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%= author %&gt;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입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13080" y="3924360"/>
            <a:ext cx="449280" cy="314280"/>
          </a:xfrm>
          <a:prstGeom prst="leftRightArrow">
            <a:avLst>
              <a:gd name="adj1" fmla="val 50000"/>
              <a:gd name="adj2" fmla="val 284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5920" y="6129360"/>
            <a:ext cx="4095720" cy="58752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\t&lt;/body&gt;\r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ut.write("&lt;/html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62360" y="6129360"/>
            <a:ext cx="4319640" cy="5857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noAutofit/>
          </a:bodyPr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3080" y="6303960"/>
            <a:ext cx="449280" cy="314280"/>
          </a:xfrm>
          <a:prstGeom prst="leftRightArrow">
            <a:avLst>
              <a:gd name="adj1" fmla="val 50000"/>
              <a:gd name="adj2" fmla="val 284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5:03:27Z</dcterms:created>
  <dc:creator>최영관</dc:creator>
  <dc:description/>
  <cp:keywords>프로그래밍 언어</cp:keywords>
  <dc:language>en-US</dc:language>
  <cp:lastModifiedBy>Chamsae</cp:lastModifiedBy>
  <cp:lastPrinted>1999-07-19T06:05:37Z</cp:lastPrinted>
  <dcterms:modified xsi:type="dcterms:W3CDTF">2008-04-11T13:17:05Z</dcterms:modified>
  <cp:revision>8401</cp:revision>
  <dc:subject/>
  <dc:title>프로그래밍 언어</dc:title>
</cp:coreProperties>
</file>