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wmf" ContentType="image/x-wmf"/>
  <Override PartName="/ppt/media/image1.wmf" ContentType="image/x-wmf"/>
  <Override PartName="/ppt/media/image28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0.png" ContentType="image/png"/>
  <Override PartName="/ppt/media/image36.wmf" ContentType="image/x-wmf"/>
  <Override PartName="/ppt/media/image39.wmf" ContentType="image/x-wmf"/>
  <Override PartName="/ppt/media/image41.png" ContentType="image/png"/>
  <Override PartName="/ppt/media/image9.wmf" ContentType="image/x-wmf"/>
  <Override PartName="/ppt/media/image38.wmf" ContentType="image/x-wmf"/>
  <Override PartName="/ppt/media/image40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3.wmf" ContentType="image/x-wmf"/>
  <Override PartName="/ppt/media/image13.png" ContentType="image/png"/>
  <Override PartName="/ppt/media/image46.png" ContentType="image/png"/>
  <Override PartName="/ppt/media/image11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B79-3A7D-4990-97CC-606B1D7B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9AC-5456-4C79-9AEB-8D5B1A6E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7E4-1A2E-498B-8750-E977B9E8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715-5737-4705-9E23-4DB72DAD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6AEB-05FB-4720-8160-D60D1333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B179-E7A0-4401-AD2F-DD800F03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7978-B849-4646-8C2C-800FA43E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3AAC-80B2-4B7F-B530-D9AA68A5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1D96-1480-461C-8B8F-C58AB798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1A3F-BBAC-4E91-89AD-1C766BD4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90F4-D2A8-4128-B0AE-384BB68E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376-829E-46BC-8FC5-699A06C2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041A-E2A9-403E-9FC6-4845207F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D155-2D48-43D9-8833-524A5344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C6AD-B571-4966-A97C-26F69371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9F79-612D-4469-9B9E-8127384B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AC95-8D7D-4939-BAFF-4FD6905B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98A-C461-4D57-841A-1203CB24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D9A-79E2-4AD6-8950-33648ADD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17B-F3E2-49D8-AD32-EAF2B363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746-45C4-456F-AA50-C112F7C3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228-1B2A-4786-916E-56637607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AAB-1928-48B5-8CBC-42B9C9F7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4F2-26EC-449B-B80C-6A306A3A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38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B2E1-6749-44D5-AF13-D34B2A034C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907920"/>
            <a:ext cx="9131400" cy="0"/>
          </a:xfrm>
          <a:prstGeom prst="line">
            <a:avLst/>
          </a:prstGeom>
          <a:ln w="117360">
            <a:solidFill>
              <a:srgbClr val="a8a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360" y="609480"/>
            <a:ext cx="8801280" cy="5639040"/>
          </a:xfrm>
          <a:prstGeom prst="rect">
            <a:avLst/>
          </a:prstGeom>
          <a:solidFill>
            <a:srgbClr val="ffead5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760320"/>
            <a:ext cx="8464320" cy="53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26828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52900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86440" y="608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583D-3E12-452A-A453-016EACEF70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58080" y="5184720"/>
            <a:ext cx="188892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새로운 웹 애플리케이션 만들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디렉터리 밑에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파일을 작성한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.xml :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웹 애플리케이션을 실행하기 위한 환경설정 파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OT\WEB-INF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디렉터리에 있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파일을 복사해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ample\WEB-INF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디렉터리에 붙여 넣는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클래스 파일들을 저장하기 위한 디렉터리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디렉터리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디렉터리 밑에 만든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3"/>
            <a:endCxn id="194" idx="1"/>
          </p:cNvCxnSpPr>
          <p:nvPr/>
        </p:nvCxnSpPr>
        <p:spPr>
          <a:xfrm>
            <a:off x="3916440" y="3114720"/>
            <a:ext cx="1735920" cy="356400"/>
          </a:xfrm>
          <a:prstGeom prst="curvedConnector5">
            <a:avLst>
              <a:gd name="adj1" fmla="val 49388"/>
              <a:gd name="adj2" fmla="val 49949"/>
              <a:gd name="adj3" fmla="val 49388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821480" y="3024360"/>
            <a:ext cx="26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복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22360" y="5046840"/>
            <a:ext cx="2724120" cy="1126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80920" y="2529000"/>
            <a:ext cx="3144960" cy="1396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402000" y="2844720"/>
            <a:ext cx="495360" cy="5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651640" y="2971800"/>
            <a:ext cx="2178000" cy="996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002360" y="3332160"/>
            <a:ext cx="495360" cy="5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95760" y="5407200"/>
            <a:ext cx="495000" cy="5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5021280" y="5138640"/>
            <a:ext cx="579600" cy="906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507000" y="4872600"/>
            <a:ext cx="2494080" cy="1337760"/>
          </a:xfrm>
          <a:prstGeom prst="cloudCallout">
            <a:avLst>
              <a:gd name="adj1" fmla="val -82958"/>
              <a:gd name="adj2" fmla="val -2040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밑에 작성하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파일과 클래스 파일들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INF\classes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에 작성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62720" y="1588680"/>
            <a:ext cx="1665360" cy="1099080"/>
          </a:xfrm>
          <a:prstGeom prst="cloudCallout">
            <a:avLst>
              <a:gd name="adj1" fmla="val -46782"/>
              <a:gd name="adj2" fmla="val 10124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이 반드시 있어야만 하나의 웹 어플리케이션으로써 동작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124600" y="5003640"/>
            <a:ext cx="3948120" cy="1738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50920" y="4734000"/>
            <a:ext cx="4591080" cy="76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8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새로운 웹 애플리케이션 만들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MySampl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디렉터리에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일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myhello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myhello.htm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일의 위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540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%CATALINA_HOME%\webapps\MyS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웹 애플리케이션 실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ttp://localhost:8080/MySample/myhello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1719360"/>
            <a:ext cx="5211720" cy="1695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lvl="1" marL="1792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1&gt;Hello!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ySamp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Application&lt;/h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216480" y="2798640"/>
            <a:ext cx="2721240" cy="1509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453440" y="3608280"/>
            <a:ext cx="1304640" cy="49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146640" y="1673280"/>
            <a:ext cx="689040" cy="966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093080" y="1137600"/>
            <a:ext cx="2027160" cy="860400"/>
          </a:xfrm>
          <a:prstGeom prst="cloudCallout">
            <a:avLst>
              <a:gd name="adj1" fmla="val -58518"/>
              <a:gd name="adj2" fmla="val 7655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상위에 위치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67000" y="504972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46640" y="5049720"/>
            <a:ext cx="121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40520" y="5138640"/>
            <a:ext cx="6357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4960" y="5138640"/>
            <a:ext cx="9586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4960" y="5632560"/>
            <a:ext cx="2160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 flipH="1">
            <a:off x="4437000" y="5543640"/>
            <a:ext cx="579600" cy="934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7000" y="5559480"/>
            <a:ext cx="3558960" cy="1154160"/>
          </a:xfrm>
          <a:prstGeom prst="cloudCallout">
            <a:avLst>
              <a:gd name="adj1" fmla="val 68231"/>
              <a:gd name="adj2" fmla="val -4479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사용자 정의 웹 애플리케이션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이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HT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이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형식으로 접근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2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간단한 서블릿 만들기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톰캣의 환경 설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4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톰캣의 환경 설정 파일 설정하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%CATALINA_HOME%\conf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디렉터리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파일 수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파일 변경 이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톰캣에서 서블릿을 실행할 수 있도록 서블릿의 접근 방법을 지정해 주어야만 서블릿을 실행할 수 있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 flipH="1">
            <a:off x="7542000" y="1179360"/>
            <a:ext cx="988920" cy="885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7000" y="2444400"/>
            <a:ext cx="2027520" cy="860760"/>
          </a:xfrm>
          <a:prstGeom prst="cloudCallout">
            <a:avLst>
              <a:gd name="adj1" fmla="val 54365"/>
              <a:gd name="adj2" fmla="val -11780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톰캣에서 서블릿을 실행하기 위해서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을 수정해야만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74800" y="1808280"/>
            <a:ext cx="3832200" cy="1439640"/>
            <a:chOff x="874800" y="1808280"/>
            <a:chExt cx="3832200" cy="143964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rcRect l="0" t="0" r="0" b="41069"/>
            <a:stretch/>
          </p:blipFill>
          <p:spPr>
            <a:xfrm>
              <a:off x="874800" y="1808280"/>
              <a:ext cx="38322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"/>
            <a:srcRect l="45781" t="66291" r="2528" b="6047"/>
            <a:stretch/>
          </p:blipFill>
          <p:spPr>
            <a:xfrm>
              <a:off x="2637000" y="2257560"/>
              <a:ext cx="1981080" cy="6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3897360" y="2301840"/>
            <a:ext cx="631800" cy="62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2000" y="2843280"/>
            <a:ext cx="809640" cy="26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5920" y="4284720"/>
            <a:ext cx="410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번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10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번째 줄 주석 해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4284720"/>
            <a:ext cx="410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번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35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번째 줄 주석 해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49400" y="4734000"/>
            <a:ext cx="4332240" cy="188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4751280" y="4734000"/>
            <a:ext cx="4260960" cy="101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5562720" y="5815080"/>
            <a:ext cx="671400" cy="834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137360" y="5758920"/>
            <a:ext cx="1781280" cy="860400"/>
          </a:xfrm>
          <a:prstGeom prst="cloudCallout">
            <a:avLst>
              <a:gd name="adj1" fmla="val -103282"/>
              <a:gd name="adj2" fmla="val -2934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두 군데 주석을 풀어주어야만 서블릿을 실행할 수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간단한 서블릿 만들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톰캣에서 서블릿을 만드는 절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주의 사항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웹 애플리케이션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하위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렉터리 내에서 작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lasspath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rvlet-api.jar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일이 잡혀 있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서블릿을 지원하는 클래스들을 프로그램적으로 이용하기 위해서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rvlet-api.jar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일을 클래스 패스에 추가해 주어야 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%CATALINA_HOME%\common\lib\servlet-api.j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11320" y="1538280"/>
            <a:ext cx="2786040" cy="7081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서블릿 코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.java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를 작성한 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폴더 하위에 저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11320" y="2529000"/>
            <a:ext cx="2786040" cy="7077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서블릿 코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.java)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컴파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06640" y="3564000"/>
            <a:ext cx="2786040" cy="7081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서블릿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3" idx="2"/>
            <a:endCxn id="244" idx="0"/>
          </p:cNvCxnSpPr>
          <p:nvPr/>
        </p:nvCxnSpPr>
        <p:spPr>
          <a:xfrm>
            <a:off x="2504880" y="2246040"/>
            <a:ext cx="1080" cy="2833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47" name=""/>
          <p:cNvCxnSpPr>
            <a:stCxn id="244" idx="2"/>
            <a:endCxn id="245" idx="0"/>
          </p:cNvCxnSpPr>
          <p:nvPr/>
        </p:nvCxnSpPr>
        <p:spPr>
          <a:xfrm flipH="1">
            <a:off x="2499840" y="3236400"/>
            <a:ext cx="5760" cy="3279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 flipH="1">
            <a:off x="4842000" y="1224000"/>
            <a:ext cx="552240" cy="1251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102360" y="1183680"/>
            <a:ext cx="2027160" cy="1099440"/>
          </a:xfrm>
          <a:prstGeom prst="cloudCallout">
            <a:avLst>
              <a:gd name="adj1" fmla="val -84675"/>
              <a:gd name="adj2" fmla="val -3743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또한 자바 코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.java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므로 컴파일 한 후 웹 브라우저를 이용해서 실행할 수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886280" y="3429000"/>
            <a:ext cx="383868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.3 HelloServle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코드 작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서블릿 클래스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ervlet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을 만들기 위해서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ervl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을 반드시 상속받아야 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Get(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방식 호출을 처리하기 위해서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et(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를 재정의하고 그곳에 코드를 작성하면 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71640" y="1538280"/>
            <a:ext cx="7650000" cy="7300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mport javax.servlet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mport javax.servlet.http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3146400"/>
            <a:ext cx="7650000" cy="1092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HelloServlet extends HttpServ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1640" y="5364000"/>
            <a:ext cx="7650000" cy="139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doGet(HttpServletRequest request, HttpServletResponse respon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rows ServletException, IO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서블릿 코드 작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50920" y="5319720"/>
            <a:ext cx="5041800" cy="81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.4 HelloServle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코드 저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컴파일 및 실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elloServle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코드 저장 위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일명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HelloServlet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렉터리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%CATALINA_HOME%\webapps\MySample\WEB-INF\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elloServlet.java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컴파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웹 브라우저에서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elloServle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ttp://localhost:8080/MySample/servlet/Hello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150920" y="2214720"/>
            <a:ext cx="3249720" cy="1277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15920" y="4057560"/>
            <a:ext cx="5400720" cy="58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:\...\MySample\WEB-INF\classes&gt; javac   HelloServlet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697360" y="2349360"/>
            <a:ext cx="3246480" cy="1687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816280" y="2665440"/>
            <a:ext cx="1351080" cy="5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62720" y="3273480"/>
            <a:ext cx="1441440" cy="5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2" idx="3"/>
            <a:endCxn id="265" idx="2"/>
          </p:cNvCxnSpPr>
          <p:nvPr/>
        </p:nvCxnSpPr>
        <p:spPr>
          <a:xfrm flipV="1">
            <a:off x="5516640" y="3831840"/>
            <a:ext cx="2567520" cy="51984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1376280" y="2800440"/>
            <a:ext cx="1170000" cy="5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 flipH="1">
            <a:off x="8486640" y="998640"/>
            <a:ext cx="462240" cy="1295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562720" y="867960"/>
            <a:ext cx="2027160" cy="860400"/>
          </a:xfrm>
          <a:prstGeom prst="cloudCallout">
            <a:avLst>
              <a:gd name="adj1" fmla="val 93925"/>
              <a:gd name="adj2" fmla="val -2695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의 클래스 파일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IN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밑에 존재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76640" y="568008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57720" y="5680080"/>
            <a:ext cx="58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5680080"/>
            <a:ext cx="103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8080" y="5769000"/>
            <a:ext cx="6357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53400" y="5776920"/>
            <a:ext cx="6098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패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72120" y="5776920"/>
            <a:ext cx="5443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4"/>
          <a:srcRect l="0" t="0" r="35458" b="0"/>
          <a:stretch/>
        </p:blipFill>
        <p:spPr>
          <a:xfrm>
            <a:off x="6551640" y="4599000"/>
            <a:ext cx="2476440" cy="1673280"/>
          </a:xfrm>
          <a:prstGeom prst="rect">
            <a:avLst/>
          </a:prstGeom>
          <a:ln w="0">
            <a:noFill/>
          </a:ln>
        </p:spPr>
      </p:pic>
      <p:cxnSp>
        <p:nvCxnSpPr>
          <p:cNvPr id="277" name=""/>
          <p:cNvCxnSpPr>
            <a:stCxn id="258" idx="3"/>
            <a:endCxn id="276" idx="1"/>
          </p:cNvCxnSpPr>
          <p:nvPr/>
        </p:nvCxnSpPr>
        <p:spPr>
          <a:xfrm flipV="1">
            <a:off x="6192360" y="5434920"/>
            <a:ext cx="359640" cy="291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패키지 형태의 서블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패키지 형태의 서블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을 패키지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폴더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묶어서 관리하기 위해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패키지로 묶는 이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 페이지가 많아지면 한 곳에서 관리하기 어렵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젝트 관리가 가능하며 작업 분류가 쉽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패키지 형태의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HelloPackageServle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만들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 코드 작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 코드 컴파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웹 브라우저를 이용해서 실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35200" y="2079720"/>
            <a:ext cx="3466800" cy="94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2.6 HelloPackageServlet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코드 작성 및 저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패키지 형태의 서블릿을 만드는 방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소스 코드 첫 줄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명령어를 붙여주면 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ackage   org.jabook.myhel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서블릿 코드 저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일명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HelloPackageServlet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렉터리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%CATALINA_HOME%\webapps\MySample\WEB-INF\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97000" y="2529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41640" y="252900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6640" y="2619360"/>
            <a:ext cx="3218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명령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2635200"/>
            <a:ext cx="5443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패키지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374920" y="4734000"/>
            <a:ext cx="3952800" cy="1419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211640" y="5229360"/>
            <a:ext cx="1981080" cy="5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46280" y="5408640"/>
            <a:ext cx="1349280" cy="54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886280" y="2529000"/>
            <a:ext cx="459000" cy="12538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27720" y="1764720"/>
            <a:ext cx="2341440" cy="1485000"/>
          </a:xfrm>
          <a:prstGeom prst="cloudCallout">
            <a:avLst>
              <a:gd name="adj1" fmla="val -82666"/>
              <a:gd name="adj2" fmla="val 1652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패키지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명령어와 함께 패키지의 이름을 적어주면 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."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은 디렉터리 구분자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\"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와 동일한 의미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614840" y="2558880"/>
            <a:ext cx="4457880" cy="1905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2.7 HelloPackageServlet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컴파일 및 실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elloPackageServlet.java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컴파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d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옵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d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옵션을 이용해서 컴파일을 하면 패키지 디렉터리와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일이 자동으로 생성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웹 브라우저에서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elloPackageServle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패키지 형태의 서블릿 실행 시 서블릿 이름과 함께 패키지 명을 기술해 주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280" y="2438280"/>
            <a:ext cx="6569280" cy="5860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:\...\MySample\WEB-INF\classes&gt; javac   -d   .   HelloPackageServlet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91280" y="3743280"/>
            <a:ext cx="1258920" cy="525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19840" y="3054240"/>
            <a:ext cx="1981440" cy="63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7" idx="2"/>
            <a:endCxn id="298" idx="1"/>
          </p:cNvCxnSpPr>
          <p:nvPr/>
        </p:nvCxnSpPr>
        <p:spPr>
          <a:xfrm flipH="1" rot="16200000">
            <a:off x="3821760" y="2557080"/>
            <a:ext cx="983160" cy="191700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 flipH="1">
            <a:off x="2815920" y="3473280"/>
            <a:ext cx="1500120" cy="905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297000" y="3225240"/>
            <a:ext cx="2027160" cy="1099440"/>
          </a:xfrm>
          <a:prstGeom prst="cloudCallout">
            <a:avLst>
              <a:gd name="adj1" fmla="val 104097"/>
              <a:gd name="adj2" fmla="val 4286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옵션 뒤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."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은 현재 디렉터리를 기준으로 패키지 디렉터리를 생성하겠다는 의미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6280" y="5543640"/>
            <a:ext cx="8105760" cy="103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localhost:8080/MySample/servlet/org.jabook.myhello.HelloPackageServ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70200" y="6084720"/>
            <a:ext cx="94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5200" y="6084720"/>
            <a:ext cx="63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24480" y="6084720"/>
            <a:ext cx="1757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16640" y="6084720"/>
            <a:ext cx="188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07000" y="6195960"/>
            <a:ext cx="6357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29680" y="6195960"/>
            <a:ext cx="6098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패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26040" y="6195960"/>
            <a:ext cx="5443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패키지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70760" y="6195960"/>
            <a:ext cx="5443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1280" y="414360"/>
            <a:ext cx="8912160" cy="5851440"/>
            <a:chOff x="71280" y="414360"/>
            <a:chExt cx="8912160" cy="5851440"/>
          </a:xfrm>
        </p:grpSpPr>
        <p:sp>
          <p:nvSpPr>
            <p:cNvPr id="97" name=""/>
            <p:cNvSpPr/>
            <p:nvPr/>
          </p:nvSpPr>
          <p:spPr>
            <a:xfrm>
              <a:off x="71280" y="414360"/>
              <a:ext cx="8912160" cy="5851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6280" y="639720"/>
              <a:ext cx="8642160" cy="54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295360" y="5308560"/>
            <a:ext cx="4572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cc"/>
                </a:solidFill>
                <a:latin typeface="Times New Roman"/>
              </a:rPr>
              <a:t>이 명 진</a:t>
            </a:r>
            <a:r>
              <a:rPr b="0" lang="ko-KR" sz="900" spc="-1" strike="noStrike">
                <a:solidFill>
                  <a:srgbClr val="0000cc"/>
                </a:solidFill>
                <a:latin typeface="Times New Roman"/>
              </a:rPr>
              <a:t>,  </a:t>
            </a:r>
            <a:r>
              <a:rPr b="0" lang="ko-KR" sz="900" spc="-1" strike="noStrike">
                <a:solidFill>
                  <a:srgbClr val="0000cc"/>
                </a:solidFill>
                <a:latin typeface="Times New Roman"/>
              </a:rPr>
              <a:t>최 영 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99ff"/>
                </a:solidFill>
                <a:latin typeface="Times New Roman"/>
                <a:ea typeface="바탕"/>
              </a:rPr>
              <a:t>Powered by http://www.jabook.or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45000" y="3286080"/>
            <a:ext cx="1827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2</a:t>
            </a:r>
            <a:r>
              <a:rPr b="0" lang="ko-KR" sz="24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nd</a:t>
            </a:r>
            <a:r>
              <a:rPr b="0" lang="ko-KR" sz="18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8120" y="3338640"/>
            <a:ext cx="47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소설같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14480" y="3603600"/>
            <a:ext cx="373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08520" y="3398760"/>
            <a:ext cx="180720" cy="164880"/>
            <a:chOff x="4808520" y="3398760"/>
            <a:chExt cx="180720" cy="164880"/>
          </a:xfrm>
        </p:grpSpPr>
        <p:sp>
          <p:nvSpPr>
            <p:cNvPr id="104" name=""/>
            <p:cNvSpPr/>
            <p:nvPr/>
          </p:nvSpPr>
          <p:spPr>
            <a:xfrm>
              <a:off x="4808520" y="3398760"/>
              <a:ext cx="104040" cy="9792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33000" y="3465720"/>
              <a:ext cx="103680" cy="9792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85560" y="3422160"/>
              <a:ext cx="103680" cy="9792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049640" y="4778280"/>
            <a:ext cx="1035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449360"/>
            <a:ext cx="509400" cy="765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장 서블릿과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시작하기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3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간단한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만들기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3.1 HelloJSP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코드 작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페이지의 한글 설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한글 설정을 해 주어야만 한글을 제대로 출력할 수 있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코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는 페이지코드 안에 자바 코드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코드가 섞여있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50920" y="1584360"/>
            <a:ext cx="5715000" cy="5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@page contentType="text/html; charset=euc-kr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50920" y="3701880"/>
            <a:ext cx="5715000" cy="30132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title&gt;Hello JSP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ln("&lt;h1&gt; Hello World JSP Test!!&lt;/h1&gt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 flipH="1">
            <a:off x="7676640" y="1719360"/>
            <a:ext cx="933480" cy="1071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47000" y="3674520"/>
            <a:ext cx="2027160" cy="1099440"/>
          </a:xfrm>
          <a:prstGeom prst="cloudCallout">
            <a:avLst>
              <a:gd name="adj1" fmla="val 4171"/>
              <a:gd name="adj2" fmla="val -11925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한글을 출력하기 위해서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코드의 맨 위에 한글 사용을 위한 선언을 해주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3.2 HelloJSP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저장 및 실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코드 저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일명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hello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렉터리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%CATALINA_HOME%\webapps\My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elloJSP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295280" y="2214720"/>
            <a:ext cx="3051360" cy="16891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06280" y="4824360"/>
            <a:ext cx="4545000" cy="103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localhost:8080/MySample/hello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46280" y="5365800"/>
            <a:ext cx="94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581280" y="5363640"/>
            <a:ext cx="8557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83080" y="5477040"/>
            <a:ext cx="6357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26360" y="5477040"/>
            <a:ext cx="5349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342040" y="4419720"/>
            <a:ext cx="3686040" cy="1733400"/>
          </a:xfrm>
          <a:prstGeom prst="rect">
            <a:avLst/>
          </a:prstGeom>
          <a:ln w="0">
            <a:noFill/>
          </a:ln>
        </p:spPr>
      </p:pic>
      <p:cxnSp>
        <p:nvCxnSpPr>
          <p:cNvPr id="331" name=""/>
          <p:cNvCxnSpPr>
            <a:stCxn id="325" idx="3"/>
            <a:endCxn id="330" idx="1"/>
          </p:cNvCxnSpPr>
          <p:nvPr/>
        </p:nvCxnSpPr>
        <p:spPr>
          <a:xfrm flipV="1">
            <a:off x="4750920" y="5285520"/>
            <a:ext cx="591120" cy="56520"/>
          </a:xfrm>
          <a:prstGeom prst="curvedConnector5">
            <a:avLst>
              <a:gd name="adj1" fmla="val 49725"/>
              <a:gd name="adj2" fmla="val 50000"/>
              <a:gd name="adj3" fmla="val 49725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7767720" y="1584360"/>
            <a:ext cx="636480" cy="1079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697360" y="2413800"/>
            <a:ext cx="1468440" cy="860400"/>
          </a:xfrm>
          <a:prstGeom prst="cloudCallout">
            <a:avLst>
              <a:gd name="adj1" fmla="val 85023"/>
              <a:gd name="adj2" fmla="val -6835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코드는 컴파일을 할 필요가 없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2360" y="3114720"/>
            <a:ext cx="1440000" cy="58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34960" y="2955960"/>
            <a:ext cx="85428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58080" y="3344400"/>
            <a:ext cx="1981080" cy="860400"/>
          </a:xfrm>
          <a:prstGeom prst="cloudCallout">
            <a:avLst>
              <a:gd name="adj1" fmla="val 6393"/>
              <a:gd name="adj2" fmla="val -13427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처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을 접속할 때 내부에서 자동으로 컴파일이 이루어진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4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간단한 자바빈즈 만들기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4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자바빈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JavaBean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자바빈즈란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즈니스 로직을 담고 있으며 자바빈즈 규약을 따르는 클래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ttp://java.sun.com/products/javabeans/docs/spec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특정 데이터를 관리하고 표현하기 위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사용하는 특수한 형태의 클래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자바빈즈의 구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생성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멤버 필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저장을 위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et~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태의 멤버 메소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추출을 위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get~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태의 멤버 메소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416640" y="5319720"/>
            <a:ext cx="1031760" cy="836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912000" y="3313080"/>
            <a:ext cx="2027160" cy="1099440"/>
          </a:xfrm>
          <a:prstGeom prst="cloudCallout">
            <a:avLst>
              <a:gd name="adj1" fmla="val -41782"/>
              <a:gd name="adj2" fmla="val 12858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바빈즈는 특정 데이터나 데이터 집합을 관리하기 위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에서 사용하는 특수한 형태의 클래스를 일컫는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4.2 HelloBea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코드 작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패키지 선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자바빈즈는 패키지 형태로 관리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멤버 필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~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멤버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~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멤버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50920" y="1898640"/>
            <a:ext cx="5715000" cy="5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age hel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50920" y="2979720"/>
            <a:ext cx="5715000" cy="5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String 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50920" y="4059360"/>
            <a:ext cx="5715000" cy="9874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setStatement(String name)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.name = 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0920" y="5543640"/>
            <a:ext cx="5715000" cy="9874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ring getStatement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"Hello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 + this.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7316640" y="5364000"/>
            <a:ext cx="606600" cy="9352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958080" y="3614400"/>
            <a:ext cx="2027160" cy="860760"/>
          </a:xfrm>
          <a:prstGeom prst="cloudCallout">
            <a:avLst>
              <a:gd name="adj1" fmla="val -5916"/>
              <a:gd name="adj2" fmla="val 14891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용도에 따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~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~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가 없는 형태의 자바빈즈도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988920"/>
            <a:ext cx="9144000" cy="534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6200" y="2556000"/>
            <a:ext cx="838188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6200" y="1069920"/>
            <a:ext cx="8381880" cy="12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4.3 JS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에서 자바빈즈 사용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자바 코드를 이용하는 방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내에서 자바 코드를 이용하여 자바빈즈 객체를 생성하고 이용하는 방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 액션 태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ction Tag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를 이용하는 방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의 액션 태그 중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jsp:useBean&gt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액션 태그를 이용해서 자바빈즈 객체를 생성하고 이용하는 방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ction Tag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페이지에서 특별한 기능을 위해 정의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형태의 태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jsp:useBean&gt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페이지에서 자바빈즈를 이용하기 위한 태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281640" y="5454720"/>
            <a:ext cx="671760" cy="834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272360" y="4813200"/>
            <a:ext cx="1692360" cy="621720"/>
          </a:xfrm>
          <a:prstGeom prst="cloudCallout">
            <a:avLst>
              <a:gd name="adj1" fmla="val -63671"/>
              <a:gd name="adj2" fmla="val 14345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바빈즈를 이용하는 방법에는 두 가지가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4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자바 코드를 이용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loBea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이용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loBe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을 사용하기 위한 클래스 임포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loBean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래스를 임포트 해야지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loBean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를 생성해서 사용할 수 있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loBea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객체 생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loBea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객체 사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50920" y="2122560"/>
            <a:ext cx="5221440" cy="5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&lt;%@page import="hello.HelloBean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50920" y="3473280"/>
            <a:ext cx="5221440" cy="5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HelloBean myHello = new HelloBea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50920" y="4824360"/>
            <a:ext cx="5221440" cy="944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myHello.setStatement("Grace Byun!!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str = myHello.getState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 flipH="1">
            <a:off x="8037360" y="4689360"/>
            <a:ext cx="579600" cy="9352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507000" y="2742480"/>
            <a:ext cx="2449800" cy="1099440"/>
          </a:xfrm>
          <a:prstGeom prst="cloudCallout">
            <a:avLst>
              <a:gd name="adj1" fmla="val 7416"/>
              <a:gd name="adj2" fmla="val 14872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바 코드를 이용해서 자바빈즈를 사용하는 방법은 우리가 자바 프로그래밍에서 일반적으로 객체를 생성하는 것과 동일하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4.5 helloBean.jsp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저장과 실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7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코드 저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일명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helloBean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렉터리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%CATALINA_HOME%\webapps\My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elloBean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6280" y="4824360"/>
            <a:ext cx="4545000" cy="103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localhost:8080/MySample/helloBean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13000" y="5365800"/>
            <a:ext cx="94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02000" y="5364000"/>
            <a:ext cx="1212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49800" y="5477040"/>
            <a:ext cx="6357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26360" y="5477040"/>
            <a:ext cx="5349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241280" y="2259000"/>
            <a:ext cx="3041640" cy="16621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472000" y="4464000"/>
            <a:ext cx="3487680" cy="1687680"/>
          </a:xfrm>
          <a:prstGeom prst="rect">
            <a:avLst/>
          </a:prstGeom>
          <a:ln w="0">
            <a:noFill/>
          </a:ln>
        </p:spPr>
      </p:pic>
      <p:cxnSp>
        <p:nvCxnSpPr>
          <p:cNvPr id="376" name=""/>
          <p:cNvCxnSpPr>
            <a:stCxn id="369" idx="3"/>
            <a:endCxn id="375" idx="1"/>
          </p:cNvCxnSpPr>
          <p:nvPr/>
        </p:nvCxnSpPr>
        <p:spPr>
          <a:xfrm flipV="1">
            <a:off x="4751280" y="5307840"/>
            <a:ext cx="721440" cy="3420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590920" y="3159000"/>
            <a:ext cx="1395360" cy="5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76280" y="2979720"/>
            <a:ext cx="94608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4.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액션 태그를 이용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loBea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이용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jsp:useBean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자바빈즈 클래스의 객체를 생성하기 위한 액션 태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jsp:useBean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액션 태그의 사용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어트리뷰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객체의 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어트리뷰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사용하려는 자바빈즈 클래스 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패키지 명과 자바빈즈 클래스 이름을 함께 기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p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어트리뷰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값을 가질 경우 자바빈즈의 유효범위를 현재 페이지로 제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위 구문은 아래와 동일한 구문이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0960" y="2484360"/>
            <a:ext cx="7556400" cy="103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&lt;jsp:useBean     id="hello"     class="HelloWorld"     scope="page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62360" y="3025800"/>
            <a:ext cx="91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22720" y="3024360"/>
            <a:ext cx="1844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1640" y="3025800"/>
            <a:ext cx="11746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67200" y="3137040"/>
            <a:ext cx="5443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의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4160" y="3137040"/>
            <a:ext cx="9496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바빈즈 클래스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345000" y="3137040"/>
            <a:ext cx="11325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바빈즈의 유효범위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41280" y="5994360"/>
            <a:ext cx="5221440" cy="5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HelloWorld hello = new HelloWorl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톰캣 애플리케이션 만들기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4.7 helloBeanTag.jsp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코드 작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jsp:useBean&g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액션 태그를 사용해서  객체 생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loBea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객체 사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50920" y="1763640"/>
            <a:ext cx="6165720" cy="5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&lt;jsp:useBean id="myHello" class="hello.HelloBean" scope="page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50920" y="5184720"/>
            <a:ext cx="5221440" cy="944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myHello.setStatement("MyungJin Lee!!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str = myHello.getState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7000" y="2617920"/>
            <a:ext cx="477036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&lt;%@page import="hello.HelloBean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HelloBean myHello = new HelloBea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39800" y="2033640"/>
            <a:ext cx="232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5" idx="1"/>
          </p:cNvCxnSpPr>
          <p:nvPr/>
        </p:nvCxnSpPr>
        <p:spPr>
          <a:xfrm flipH="1" rot="16200000">
            <a:off x="2715120" y="2246400"/>
            <a:ext cx="1032840" cy="115200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871640" y="2943360"/>
            <a:ext cx="552600" cy="1250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06280" y="2667960"/>
            <a:ext cx="1170000" cy="621720"/>
          </a:xfrm>
          <a:prstGeom prst="cloudCallout">
            <a:avLst>
              <a:gd name="adj1" fmla="val 85000"/>
              <a:gd name="adj2" fmla="val 9287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두 개는 동일한 구문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4.8 helloBeanTag.jsp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저장과 실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7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코드 저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파일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elloBeanTag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디렉터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%CATALINA_HOME%\webapps\My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loBeanTag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5920" y="4824360"/>
            <a:ext cx="4816440" cy="103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localhost:8080/MySample/helloBeanTag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89160" y="5365800"/>
            <a:ext cx="94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0240" y="5364000"/>
            <a:ext cx="157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25960" y="5477040"/>
            <a:ext cx="6357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74240" y="5477040"/>
            <a:ext cx="5349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216080" y="2259000"/>
            <a:ext cx="3041640" cy="1662120"/>
          </a:xfrm>
          <a:prstGeom prst="rect">
            <a:avLst/>
          </a:prstGeom>
          <a:ln w="0">
            <a:noFill/>
          </a:ln>
        </p:spPr>
      </p:pic>
      <p:cxnSp>
        <p:nvCxnSpPr>
          <p:cNvPr id="408" name=""/>
          <p:cNvCxnSpPr>
            <a:stCxn id="402" idx="3"/>
            <a:endCxn id="409" idx="1"/>
          </p:cNvCxnSpPr>
          <p:nvPr/>
        </p:nvCxnSpPr>
        <p:spPr>
          <a:xfrm flipV="1">
            <a:off x="4932000" y="5263920"/>
            <a:ext cx="585000" cy="78480"/>
          </a:xfrm>
          <a:prstGeom prst="curvedConnector5">
            <a:avLst>
              <a:gd name="adj1" fmla="val 50000"/>
              <a:gd name="adj2" fmla="val 49769"/>
              <a:gd name="adj3" fmla="val 500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2590920" y="3159000"/>
            <a:ext cx="1395360" cy="5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76280" y="2979720"/>
            <a:ext cx="94608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516640" y="4419720"/>
            <a:ext cx="3487680" cy="16873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 flipH="1">
            <a:off x="5606640" y="2619360"/>
            <a:ext cx="461880" cy="12952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7047000" y="2084040"/>
            <a:ext cx="1604880" cy="860760"/>
          </a:xfrm>
          <a:prstGeom prst="cloudCallout">
            <a:avLst>
              <a:gd name="adj1" fmla="val -94782"/>
              <a:gd name="adj2" fmla="val 6333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액션 태그를 이용하면 코드를 간결화 시킬 수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102360" y="5184720"/>
            <a:ext cx="274464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톰캣의 웹 애플리케이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웹 애플리케이션이란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웹 환경에서 디렉터리는 애플리케이션의 의미를 담고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ebapps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렉터리 밑에 존재하는 디렉터리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ebapps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디렉터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톰캣의 웹 애플리케이션들이 존재하는 디렉터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웹 애플리케이션의 구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웹 애플리케이션 디렉터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JSP(.jsp), HTML(.html)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일들이 위치하는 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웹을 통해 공개되므로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일들을 직접 실행 가능하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렉터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.class)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일과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일이 위치하는 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서블릿 파일이 위치하는 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웹을 통해 공개되지 않으므로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직접 접근이 불가능하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웹 애플리케이션의 환경설정 파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7044" t="22479" r="5281" b="0"/>
          <a:stretch/>
        </p:blipFill>
        <p:spPr>
          <a:xfrm>
            <a:off x="7183440" y="1017720"/>
            <a:ext cx="1844640" cy="295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7497720" y="2322360"/>
            <a:ext cx="1440000" cy="1530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6280" y="1949040"/>
            <a:ext cx="1305000" cy="383040"/>
          </a:xfrm>
          <a:prstGeom prst="cloudCallout">
            <a:avLst>
              <a:gd name="adj1" fmla="val 75037"/>
              <a:gd name="adj2" fmla="val 12802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웹 애플리케이션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732720" y="4865760"/>
            <a:ext cx="2249280" cy="1398600"/>
            <a:chOff x="6732720" y="4865760"/>
            <a:chExt cx="2249280" cy="1398600"/>
          </a:xfrm>
        </p:grpSpPr>
        <p:sp>
          <p:nvSpPr>
            <p:cNvPr id="118" name=""/>
            <p:cNvSpPr/>
            <p:nvPr/>
          </p:nvSpPr>
          <p:spPr>
            <a:xfrm>
              <a:off x="6732720" y="4913280"/>
              <a:ext cx="2249280" cy="1351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8172360" y="6027840"/>
              <a:ext cx="75204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6821280" y="4865760"/>
              <a:ext cx="1466640" cy="275040"/>
              <a:chOff x="6821280" y="4865760"/>
              <a:chExt cx="1466640" cy="275040"/>
            </a:xfrm>
          </p:grpSpPr>
          <p:pic>
            <p:nvPicPr>
              <p:cNvPr id="1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21280" y="4956120"/>
                <a:ext cx="146664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6821280" y="4865760"/>
                <a:ext cx="23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바탕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137000" y="5135760"/>
              <a:ext cx="799920" cy="275040"/>
              <a:chOff x="7137000" y="5135760"/>
              <a:chExt cx="799920" cy="275040"/>
            </a:xfrm>
          </p:grpSpPr>
          <p:pic>
            <p:nvPicPr>
              <p:cNvPr id="12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137360" y="5227560"/>
                <a:ext cx="799560" cy="17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7137000" y="5135760"/>
                <a:ext cx="23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바탕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495920" y="5408640"/>
              <a:ext cx="637920" cy="275040"/>
              <a:chOff x="7495920" y="5408640"/>
              <a:chExt cx="637920" cy="275040"/>
            </a:xfrm>
          </p:grpSpPr>
          <p:pic>
            <p:nvPicPr>
              <p:cNvPr id="1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495920" y="5497560"/>
                <a:ext cx="637920" cy="17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7495920" y="5408640"/>
                <a:ext cx="23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바탕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811640" y="5678640"/>
              <a:ext cx="781200" cy="280440"/>
              <a:chOff x="7811640" y="5678640"/>
              <a:chExt cx="781200" cy="280440"/>
            </a:xfrm>
          </p:grpSpPr>
          <p:pic>
            <p:nvPicPr>
              <p:cNvPr id="13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12000" y="5769000"/>
                <a:ext cx="780840" cy="19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7811640" y="5678640"/>
                <a:ext cx="23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바탕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22" idx="2"/>
              <a:endCxn id="125" idx="1"/>
            </p:cNvCxnSpPr>
            <p:nvPr/>
          </p:nvCxnSpPr>
          <p:spPr>
            <a:xfrm flipH="1" rot="16200000">
              <a:off x="6969240" y="5105160"/>
              <a:ext cx="134280" cy="20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5" idx="2"/>
              <a:endCxn id="128" idx="1"/>
            </p:cNvCxnSpPr>
            <p:nvPr/>
          </p:nvCxnSpPr>
          <p:spPr>
            <a:xfrm flipH="1" rot="16200000">
              <a:off x="7305120" y="5355360"/>
              <a:ext cx="137160" cy="2430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34" name=""/>
            <p:cNvCxnSpPr>
              <a:stCxn id="128" idx="2"/>
              <a:endCxn id="131" idx="1"/>
            </p:cNvCxnSpPr>
            <p:nvPr/>
          </p:nvCxnSpPr>
          <p:spPr>
            <a:xfrm flipH="1" rot="16200000">
              <a:off x="7644240" y="5648400"/>
              <a:ext cx="133560" cy="20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31" idx="2"/>
              <a:endCxn id="119" idx="1"/>
            </p:cNvCxnSpPr>
            <p:nvPr/>
          </p:nvCxnSpPr>
          <p:spPr>
            <a:xfrm flipH="1" rot="16200000">
              <a:off x="7964280" y="5914800"/>
              <a:ext cx="172080" cy="2448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7002360" y="4014720"/>
            <a:ext cx="579600" cy="906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00560" y="2683800"/>
            <a:ext cx="2027160" cy="1099440"/>
          </a:xfrm>
          <a:prstGeom prst="cloudCallout">
            <a:avLst>
              <a:gd name="adj1" fmla="val 32453"/>
              <a:gd name="adj2" fmla="val 11042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웹 애플리케이션이 되려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이 있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2.1.2 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웹 애플리케이션을 위한 파일들의 저장 위치</a:t>
            </a:r>
            <a:endParaRPr b="1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3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TML(.html, .htm)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JSP(.jsp)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위에 작성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렉터리에 저장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클래스 파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EB-INF/classes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렉터리에 존재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폴더가 존재하지 않으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만들어서 사용하면 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524560" y="1314360"/>
            <a:ext cx="3187800" cy="1568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92360" y="4508640"/>
            <a:ext cx="3187440" cy="1568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66280" y="113364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5560" y="216864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4840" y="32497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3" idx="3"/>
            <a:endCxn id="140" idx="1"/>
          </p:cNvCxnSpPr>
          <p:nvPr/>
        </p:nvCxnSpPr>
        <p:spPr>
          <a:xfrm flipV="1">
            <a:off x="2379600" y="2098440"/>
            <a:ext cx="3145680" cy="234000"/>
          </a:xfrm>
          <a:prstGeom prst="curvedConnector5">
            <a:avLst>
              <a:gd name="adj1" fmla="val 49971"/>
              <a:gd name="adj2" fmla="val 49922"/>
              <a:gd name="adj3" fmla="val 49971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1"/>
            <a:endCxn id="141" idx="1"/>
          </p:cNvCxnSpPr>
          <p:nvPr/>
        </p:nvCxnSpPr>
        <p:spPr>
          <a:xfrm flipH="1" flipV="1" rot="10800000">
            <a:off x="384840" y="3412080"/>
            <a:ext cx="1307160" cy="1880280"/>
          </a:xfrm>
          <a:prstGeom prst="curvedConnector5">
            <a:avLst>
              <a:gd name="adj1" fmla="val -17493"/>
              <a:gd name="adj2" fmla="val 50000"/>
              <a:gd name="adj3" fmla="val -17493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182000" y="2170080"/>
            <a:ext cx="76500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46640" y="2214720"/>
            <a:ext cx="85428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2000" y="5543640"/>
            <a:ext cx="76500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02000" y="5229360"/>
            <a:ext cx="117000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993080" y="3608280"/>
            <a:ext cx="606240" cy="935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967360" y="4873320"/>
            <a:ext cx="2027160" cy="860760"/>
          </a:xfrm>
          <a:prstGeom prst="cloudCallout">
            <a:avLst>
              <a:gd name="adj1" fmla="val 41759"/>
              <a:gd name="adj2" fmla="val -12424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웹 애플리케이션을 위해 모든 파일들은 특정 디렉터리에 존재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ROO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애플리케이션과 디폴트 웹 페이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애플리케이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톰캣의 홈 디렉터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위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CATALINA_HOME%\webapps\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디폴트 웹 페이지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웹 애플리케이션에 접근할 때 가장 먼저 실행되는 파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.jsp, index.html, 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애플리케이션의 접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ocalhost:80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디폴트 웹 페이지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.j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가 자동 실행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35099"/>
          <a:stretch/>
        </p:blipFill>
        <p:spPr>
          <a:xfrm>
            <a:off x="4707000" y="4014720"/>
            <a:ext cx="4392720" cy="2246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094360" y="4640400"/>
            <a:ext cx="1484280" cy="26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000" y="5484960"/>
            <a:ext cx="2054520" cy="3268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://localhost:80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7" idx="0"/>
            <a:endCxn id="156" idx="2"/>
          </p:cNvCxnSpPr>
          <p:nvPr/>
        </p:nvCxnSpPr>
        <p:spPr>
          <a:xfrm flipV="1" rot="16200000">
            <a:off x="5881320" y="4884120"/>
            <a:ext cx="556560" cy="645120"/>
          </a:xfrm>
          <a:prstGeom prst="curvedConnector5">
            <a:avLst>
              <a:gd name="adj1" fmla="val 51650"/>
              <a:gd name="adj2" fmla="val 49972"/>
              <a:gd name="adj3" fmla="val 5165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128080" y="2933640"/>
            <a:ext cx="671400" cy="835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46640" y="1363320"/>
            <a:ext cx="2027520" cy="860760"/>
          </a:xfrm>
          <a:prstGeom prst="cloudCallout">
            <a:avLst>
              <a:gd name="adj1" fmla="val 43023"/>
              <a:gd name="adj2" fmla="val 15037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애플리케이션에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x.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이 디폴트 웹 페이지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2.1.4 ROOT 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애플리케이션에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파일 만들기</a:t>
            </a:r>
            <a:endParaRPr b="1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lo.htm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소스코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lo.htm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파일의 위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%CATALINA_HOME%\webapps\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lo.htm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실행하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localhost:8080/hello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21360" y="4419720"/>
            <a:ext cx="3771720" cy="1833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651640" y="1268280"/>
            <a:ext cx="3187440" cy="2862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562720" y="5173560"/>
            <a:ext cx="1711080" cy="316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95200" y="4678200"/>
            <a:ext cx="3104640" cy="3268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://localhost:8080/hello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6" idx="3"/>
            <a:endCxn id="165" idx="3"/>
          </p:cNvCxnSpPr>
          <p:nvPr/>
        </p:nvCxnSpPr>
        <p:spPr>
          <a:xfrm flipH="1">
            <a:off x="7292520" y="4842000"/>
            <a:ext cx="605520" cy="491040"/>
          </a:xfrm>
          <a:prstGeom prst="curvedConnector5">
            <a:avLst>
              <a:gd name="adj1" fmla="val -37477"/>
              <a:gd name="adj2" fmla="val 49963"/>
              <a:gd name="adj3" fmla="val -3747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39560" y="1620720"/>
            <a:ext cx="4581720" cy="18147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lvl="1" marL="1792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1&gt;Hello!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OO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Application&lt;/h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사용자 정의 웹 애플리케이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사용자 정의 웹 애플리케이션이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O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디렉터리와 같은 웹 애플리케이션을 사용자가 직접 새롭게 만든 웹 애플리케이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%CATALINA_HOME%\webapps\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 디렉터리 형태로 관리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사용자 정의 웹 애플리케이션 작성 절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280" y="3249720"/>
            <a:ext cx="2727360" cy="103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apps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디렉터리 하위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웹 애플리케이션으로 사용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디렉터리를 만든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65560" y="3249720"/>
            <a:ext cx="2727360" cy="103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작성된 디렉터리의 하위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디렉터리를 만든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72360" y="3249720"/>
            <a:ext cx="2727360" cy="103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디렉터리 밑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파일을 작성한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280" y="4802040"/>
            <a:ext cx="265608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클래스 파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.class)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파일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있을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디렉터리 밑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디렉터리를 만들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그곳에 위치시킨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67000" y="5005440"/>
            <a:ext cx="2727360" cy="103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파일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작성한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5005440"/>
            <a:ext cx="2727360" cy="103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웹 애플리케이션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실행한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1" idx="3"/>
            <a:endCxn id="172" idx="1"/>
          </p:cNvCxnSpPr>
          <p:nvPr/>
        </p:nvCxnSpPr>
        <p:spPr>
          <a:xfrm>
            <a:off x="2798280" y="3766680"/>
            <a:ext cx="46764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8" name=""/>
          <p:cNvCxnSpPr>
            <a:stCxn id="172" idx="3"/>
            <a:endCxn id="173" idx="1"/>
          </p:cNvCxnSpPr>
          <p:nvPr/>
        </p:nvCxnSpPr>
        <p:spPr>
          <a:xfrm>
            <a:off x="5992920" y="3766680"/>
            <a:ext cx="380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9" name=""/>
          <p:cNvCxnSpPr>
            <a:stCxn id="174" idx="3"/>
            <a:endCxn id="175" idx="1"/>
          </p:cNvCxnSpPr>
          <p:nvPr/>
        </p:nvCxnSpPr>
        <p:spPr>
          <a:xfrm>
            <a:off x="2727000" y="5522400"/>
            <a:ext cx="5403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80" name=""/>
          <p:cNvCxnSpPr>
            <a:stCxn id="175" idx="3"/>
            <a:endCxn id="176" idx="1"/>
          </p:cNvCxnSpPr>
          <p:nvPr/>
        </p:nvCxnSpPr>
        <p:spPr>
          <a:xfrm>
            <a:off x="5994360" y="5522400"/>
            <a:ext cx="37872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81" name=""/>
          <p:cNvCxnSpPr>
            <a:stCxn id="173" idx="2"/>
            <a:endCxn id="174" idx="0"/>
          </p:cNvCxnSpPr>
          <p:nvPr/>
        </p:nvCxnSpPr>
        <p:spPr>
          <a:xfrm rot="5400000">
            <a:off x="4308840" y="1375200"/>
            <a:ext cx="518040" cy="633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새로운 웹 애플리케이션 만들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%CATALINA_HOME%\webapps\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하위에 새로운 웹 애플리케이션을 위한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Sampl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디렉터리를 만든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웹 애플리케이션은 하나의 디렉터리로 관리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Sampl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디렉터리 하위에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디렉터리를 만든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디렉터리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파일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래스 파일들을 작성하기 위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디렉터리이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651640" y="2889360"/>
            <a:ext cx="3101760" cy="3193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06960" y="5092560"/>
            <a:ext cx="1035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122720" y="5094360"/>
            <a:ext cx="606600" cy="934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80920" y="3928320"/>
            <a:ext cx="2791080" cy="1337760"/>
          </a:xfrm>
          <a:prstGeom prst="cloudCallout">
            <a:avLst>
              <a:gd name="adj1" fmla="val 62055"/>
              <a:gd name="adj2" fmla="val 7676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새로운 웹 애플리케이션을 만들기 위해서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apps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에 웹 애플리케이션을 위한 디렉터리를 만들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그 하위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를 만든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21280" y="4419720"/>
            <a:ext cx="765360" cy="26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1"/>
            <a:endCxn id="185" idx="1"/>
          </p:cNvCxnSpPr>
          <p:nvPr/>
        </p:nvCxnSpPr>
        <p:spPr>
          <a:xfrm flipH="1" flipV="1" rot="10800000">
            <a:off x="5901840" y="4554000"/>
            <a:ext cx="86400" cy="720000"/>
          </a:xfrm>
          <a:prstGeom prst="curvedConnector5">
            <a:avLst>
              <a:gd name="adj1" fmla="val -710878"/>
              <a:gd name="adj2" fmla="val 49974"/>
              <a:gd name="adj3" fmla="val -71087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5:03:27Z</dcterms:created>
  <dc:creator>최영관</dc:creator>
  <dc:description/>
  <cp:keywords>프로그래밍 언어</cp:keywords>
  <dc:language>en-US</dc:language>
  <cp:lastModifiedBy>Chamsae</cp:lastModifiedBy>
  <cp:lastPrinted>1999-07-19T06:05:37Z</cp:lastPrinted>
  <dcterms:modified xsi:type="dcterms:W3CDTF">2008-04-11T13:17:17Z</dcterms:modified>
  <cp:revision>8401</cp:revision>
  <dc:subject/>
  <dc:title>프로그래밍 언어</dc:title>
</cp:coreProperties>
</file>