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320" y="3813480"/>
            <a:ext cx="89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320" y="381348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6240" y="381348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8160" y="144936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9640" y="144936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320" y="381348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8160" y="381348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9640" y="3813480"/>
            <a:ext cx="28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960" y="274320"/>
            <a:ext cx="889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320" y="381348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6240" y="381348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240" y="1449360"/>
            <a:ext cx="436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20" y="3813480"/>
            <a:ext cx="89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12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22800"/>
            <a:ext cx="9144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13760" y="6485040"/>
            <a:ext cx="1554120" cy="155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44440" y="6407280"/>
            <a:ext cx="1181160" cy="3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*Mart Application </a:t>
            </a:r>
            <a:r>
              <a:rPr b="0" lang="ko-KR" sz="3600" spc="-1" strike="noStrike">
                <a:solidFill>
                  <a:srgbClr val="ffffff"/>
                </a:solidFill>
                <a:latin typeface="Arial"/>
              </a:rPr>
              <a:t>감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70408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c00"/>
                </a:solidFill>
                <a:latin typeface="Arial"/>
              </a:rPr>
              <a:t>절차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vigation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구조 작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con AMS Tree Editor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사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트리 구조 배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시스템 정보 설정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-SQL Database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에 트리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정보 저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72880" y="2633760"/>
            <a:ext cx="8704440" cy="3340080"/>
            <a:chOff x="272880" y="2633760"/>
            <a:chExt cx="8704440" cy="334008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272880" y="2633760"/>
              <a:ext cx="197028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2513160" y="2633760"/>
              <a:ext cx="196992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4770360" y="2633760"/>
              <a:ext cx="197028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7007400" y="2633760"/>
              <a:ext cx="196992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6"/>
            <a:stretch/>
          </p:blipFill>
          <p:spPr>
            <a:xfrm>
              <a:off x="7007400" y="4397400"/>
              <a:ext cx="196992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7"/>
            <a:stretch/>
          </p:blipFill>
          <p:spPr>
            <a:xfrm>
              <a:off x="4770360" y="4397400"/>
              <a:ext cx="197028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8"/>
            <a:stretch/>
          </p:blipFill>
          <p:spPr>
            <a:xfrm>
              <a:off x="2513160" y="4397400"/>
              <a:ext cx="196992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243160" y="3348000"/>
              <a:ext cx="27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11520" y="3349440"/>
              <a:ext cx="27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57920" y="3351240"/>
              <a:ext cx="27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59600" y="4210200"/>
              <a:ext cx="0" cy="18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6757560" y="5224320"/>
              <a:ext cx="24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492800" y="5226120"/>
              <a:ext cx="249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*Mart Application </a:t>
            </a:r>
            <a:r>
              <a:rPr b="0" lang="ko-KR" sz="3600" spc="-1" strike="noStrike">
                <a:solidFill>
                  <a:srgbClr val="ffffff"/>
                </a:solidFill>
                <a:latin typeface="Arial"/>
              </a:rPr>
              <a:t>감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70408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c00"/>
                </a:solidFill>
                <a:latin typeface="Arial"/>
              </a:rPr>
              <a:t>절차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데이터 연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con Log Viewer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사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ication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에서 남기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정보의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tering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설정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ication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에서 남기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정보의 수집 기능을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설정 정보 등의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를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-SQL Database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저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222960" y="3813120"/>
            <a:ext cx="1855800" cy="163044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1042920" y="3481560"/>
            <a:ext cx="4997520" cy="2259000"/>
            <a:chOff x="1042920" y="3481560"/>
            <a:chExt cx="4997520" cy="2259000"/>
          </a:xfrm>
        </p:grpSpPr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1042920" y="3481560"/>
              <a:ext cx="1997280" cy="22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3833640" y="3481560"/>
              <a:ext cx="163692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260880" y="4524480"/>
              <a:ext cx="42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18160" y="4525920"/>
              <a:ext cx="42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*Mart Application </a:t>
            </a:r>
            <a:r>
              <a:rPr b="0" lang="ko-KR" sz="3600" spc="-1" strike="noStrike">
                <a:solidFill>
                  <a:srgbClr val="ffffff"/>
                </a:solidFill>
                <a:latin typeface="Arial"/>
              </a:rPr>
              <a:t>감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70408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cc00"/>
                </a:solidFill>
                <a:latin typeface="Arial"/>
              </a:rPr>
              <a:t>절차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감시 시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con AMS Viewer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사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통합관제센터 및 업무 담당자들이 사용하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에서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MS Viewer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실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자동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arm Alerting (alerting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정보의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base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저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장애 발생 부분으로 자동 화면 이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초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MS Viewer running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시점에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MS-SQL Database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로부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k Data Transaction(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초기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30640" y="3463920"/>
            <a:ext cx="2754360" cy="220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221520" y="3463920"/>
            <a:ext cx="2754360" cy="2206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71440" y="3463920"/>
            <a:ext cx="2789280" cy="223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*Mart Application </a:t>
            </a:r>
            <a:r>
              <a:rPr b="0" lang="ko-KR" sz="3600" spc="-1" strike="noStrike">
                <a:solidFill>
                  <a:srgbClr val="ffffff"/>
                </a:solidFill>
                <a:latin typeface="Arial"/>
              </a:rPr>
              <a:t>감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1449360"/>
            <a:ext cx="889956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기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의 관리 요소를 점차 확대시키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상세화하는 것이 용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과 관리프로그램이 상호 비의존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장애원인 및 장애 부분의 신속한 인지 가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장애에 따른 후속 장애 발생 가능 요소의 사전 방지 가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잦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수정에도 신속하게 관리 적용 가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관리 이벤트 데이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Log)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들의 자동 관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크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이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삭제 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신규 시스템 개발 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표준 관리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적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등의 이벤트 표시 절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de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의 정형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관리 화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low-Diagram, Batch Schedule …)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등에 대한 설계 반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Arial"/>
              </a:rPr>
              <a:t>조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44936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제품 선택 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uture Load Map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이 보장되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다양한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방법을 제공하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form S/W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를 선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-SQL (Platform S/W)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의 기초활용에 그치지 말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제공되는 최대한의 기능들을 활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form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의 성능 및 안정성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form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구축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에서부터 시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15:00:00Z</dcterms:created>
  <dc:creator/>
  <dc:description/>
  <cp:keywords/>
  <dc:language>en-US</dc:language>
  <cp:lastModifiedBy/>
  <dcterms:modified xsi:type="dcterms:W3CDTF">2007-12-05T02:21:24Z</dcterms:modified>
  <cp:revision>9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gram">
    <vt:lpwstr>TechNet</vt:lpwstr>
  </property>
  <property fmtid="{D5CDD505-2E9C-101B-9397-08002B2CF9AE}" pid="3" name="Session ID">
    <vt:lpwstr>TNTx-xx</vt:lpwstr>
  </property>
  <property fmtid="{D5CDD505-2E9C-101B-9397-08002B2CF9AE}" pid="4" name="Status">
    <vt:lpwstr>Work in Progress</vt:lpwstr>
  </property>
  <property fmtid="{D5CDD505-2E9C-101B-9397-08002B2CF9AE}" pid="5" name="Support">
    <vt:lpwstr>devhelp@microsoft.com</vt:lpwstr>
  </property>
  <property fmtid="{D5CDD505-2E9C-101B-9397-08002B2CF9AE}" pid="6" name="Version">
    <vt:lpwstr>3.0</vt:lpwstr>
  </property>
  <property fmtid="{D5CDD505-2E9C-101B-9397-08002B2CF9AE}" pid="7" name="build">
    <vt:lpwstr>0</vt:lpwstr>
  </property>
</Properties>
</file>