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9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320" y="3813480"/>
            <a:ext cx="89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6240" y="144936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320" y="381348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6240" y="381348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28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8160" y="1449360"/>
            <a:ext cx="28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9640" y="1449360"/>
            <a:ext cx="28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320" y="3813480"/>
            <a:ext cx="28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8160" y="3813480"/>
            <a:ext cx="28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9640" y="3813480"/>
            <a:ext cx="28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436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6240" y="1449360"/>
            <a:ext cx="436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960" y="274320"/>
            <a:ext cx="8899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6240" y="1449360"/>
            <a:ext cx="436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320" y="381348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436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6240" y="144936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6240" y="381348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6240" y="144936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320" y="3813480"/>
            <a:ext cx="89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612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8168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22800"/>
            <a:ext cx="91440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313760" y="6485040"/>
            <a:ext cx="1554120" cy="155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44440" y="6407280"/>
            <a:ext cx="1181160" cy="3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50025.www5.hp.com/hpcom/kr_kr/8_1_79_536summary.ht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000" y="411120"/>
            <a:ext cx="89582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목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8760" y="1208160"/>
            <a:ext cx="802800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회사소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프로젝트 개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목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시스템 구성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구성제품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/W, H/W)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및 사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구축 시스템 개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QL Server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선정 사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문제점 및 해결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기대 효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*Mart Application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감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조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구축 시스템 개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100" spc="-1" strike="noStrike">
                <a:solidFill>
                  <a:srgbClr val="ffffff"/>
                </a:solidFill>
                <a:latin typeface="Arial"/>
              </a:rPr>
              <a:t>적용 부문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Arial"/>
              </a:rPr>
              <a:t>소프트위드솔루션 社의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nicon </a:t>
            </a:r>
            <a:r>
              <a:rPr b="0" lang="ko-KR" sz="2700" spc="-1" strike="noStrike">
                <a:solidFill>
                  <a:srgbClr val="ffffff"/>
                </a:solidFill>
                <a:latin typeface="Arial"/>
              </a:rPr>
              <a:t>제품 기반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(www.softwith.com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ffffff"/>
                </a:solidFill>
                <a:latin typeface="Arial"/>
              </a:rPr>
              <a:t>통합상황시스템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ffffff"/>
                </a:solidFill>
                <a:latin typeface="Arial"/>
              </a:rPr>
              <a:t>시스템 관리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pplication </a:t>
            </a:r>
            <a:r>
              <a:rPr b="0" lang="ko-KR" sz="2300" spc="-1" strike="noStrike">
                <a:solidFill>
                  <a:srgbClr val="ffffff"/>
                </a:solidFill>
                <a:latin typeface="Arial"/>
              </a:rPr>
              <a:t>관리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Helpdesk </a:t>
            </a:r>
            <a:r>
              <a:rPr b="0" lang="ko-KR" sz="2300" spc="-1" strike="noStrike">
                <a:solidFill>
                  <a:srgbClr val="ffffff"/>
                </a:solidFill>
                <a:latin typeface="Arial"/>
              </a:rPr>
              <a:t>시스템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ffffff"/>
                </a:solidFill>
                <a:latin typeface="Arial"/>
              </a:rPr>
              <a:t>자원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2300" spc="-1" strike="noStrike">
                <a:solidFill>
                  <a:srgbClr val="ffffff"/>
                </a:solidFill>
                <a:latin typeface="Arial"/>
              </a:rPr>
              <a:t>자산관리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구축 시스템 개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100" spc="-1" strike="noStrike">
                <a:solidFill>
                  <a:srgbClr val="ffffff"/>
                </a:solidFill>
                <a:latin typeface="Arial"/>
              </a:rPr>
              <a:t>통합상황시스템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pplication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등에서 발생된 모든 이벤트에 대한 통합 표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390760" y="2409840"/>
            <a:ext cx="4456080" cy="3565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구축 시스템 개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xt IT Management Paradigm </a:t>
            </a:r>
            <a:r>
              <a:rPr b="0" lang="ko-KR" sz="3100" spc="-1" strike="noStrike">
                <a:solidFill>
                  <a:srgbClr val="ffffff"/>
                </a:solidFill>
                <a:latin typeface="Arial"/>
              </a:rPr>
              <a:t>구축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기존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ment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환경의 연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기존 업무 관리 프로그램의 연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타 관리 플랫폼 정보의 연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신규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인프라 전반에 대한 관리 환경의 통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시스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Application-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관리인력의 연계 체계 구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 Management, Application Management, Helpdesk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등의 연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정보 및 이벤트의 통합 관리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자동화 관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에 대한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진보된 관리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mework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구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구축 시스템 개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100" spc="-1" strike="noStrike">
                <a:solidFill>
                  <a:srgbClr val="ffffff"/>
                </a:solidFill>
                <a:latin typeface="Arial"/>
              </a:rPr>
              <a:t>시스템관리시스템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ata Center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서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점포전산실서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점포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터미널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물류센터 서버 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, Database, Middle-ware, POS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주변장치 등에 대한 성능감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장애 감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원격제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Log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통합 등의 시스템관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990880" y="3133800"/>
            <a:ext cx="3498840" cy="2803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구축 시스템 개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pplication </a:t>
            </a:r>
            <a:r>
              <a:rPr b="0" lang="ko-KR" sz="3100" spc="-1" strike="noStrike">
                <a:solidFill>
                  <a:srgbClr val="ffffff"/>
                </a:solidFill>
                <a:latin typeface="Arial"/>
              </a:rPr>
              <a:t>관리시스템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업무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에 대한 감시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,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내부 처리 오류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배치처리 상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데이터정합성 점검 등에 대한 통합 감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230640" y="3463920"/>
            <a:ext cx="2754360" cy="220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221520" y="3463920"/>
            <a:ext cx="2754360" cy="2206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271440" y="3463920"/>
            <a:ext cx="2789280" cy="2233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구축 시스템 개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porting </a:t>
            </a:r>
            <a:r>
              <a:rPr b="0" lang="ko-KR" sz="3100" spc="-1" strike="noStrike">
                <a:solidFill>
                  <a:srgbClr val="ffffff"/>
                </a:solidFill>
                <a:latin typeface="Arial"/>
              </a:rPr>
              <a:t>서비스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S-SQL Reporting Services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기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 Reporting  /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다양한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rt (Excel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11200" y="3076560"/>
            <a:ext cx="3621240" cy="26240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5062680" y="3090960"/>
            <a:ext cx="3584520" cy="25970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888880" y="56595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소망M"/>
              </a:rPr>
              <a:t>Excel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10640" y="564840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소망M"/>
              </a:rPr>
              <a:t>Web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32440" y="4400640"/>
            <a:ext cx="9302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34600" y="406404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소망M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구축 시스템 개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960" y="1449360"/>
            <a:ext cx="565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4.6 ~ 1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누적 데이터 크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1 T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일 평균 신규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ord : 300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만 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일 평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 : 2,000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만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ck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280040" y="3146400"/>
            <a:ext cx="4784760" cy="2808360"/>
            <a:chOff x="4280040" y="3146400"/>
            <a:chExt cx="4784760" cy="2808360"/>
          </a:xfrm>
        </p:grpSpPr>
        <p:graphicFrame>
          <p:nvGraphicFramePr>
            <p:cNvPr id="250" name=""/>
            <p:cNvGraphicFramePr/>
            <p:nvPr/>
          </p:nvGraphicFramePr>
          <p:xfrm>
            <a:off x="4280040" y="3146400"/>
            <a:ext cx="4784760" cy="28083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280040" y="3146400"/>
                      <a:ext cx="4784760" cy="280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2" name=""/>
            <p:cNvSpPr/>
            <p:nvPr/>
          </p:nvSpPr>
          <p:spPr>
            <a:xfrm>
              <a:off x="5258160" y="5697360"/>
              <a:ext cx="42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소망M"/>
                </a:rPr>
                <a:t>10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소망M"/>
                </a:rPr>
                <a:t>월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2360" y="5699160"/>
              <a:ext cx="42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소망M"/>
                </a:rPr>
                <a:t>11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소망M"/>
                </a:rPr>
                <a:t>월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99560" y="5699160"/>
              <a:ext cx="42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소망M"/>
                </a:rPr>
                <a:t>12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소망M"/>
                </a:rPr>
                <a:t>월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94920" y="5699160"/>
              <a:ext cx="35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소망M"/>
                </a:rPr>
                <a:t>1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소망M"/>
                </a:rPr>
                <a:t>월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02880" y="5699160"/>
              <a:ext cx="35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소망M"/>
                </a:rPr>
                <a:t>2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소망M"/>
                </a:rPr>
                <a:t>월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구축 시스템 개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-SQL DTS </a:t>
            </a:r>
            <a:r>
              <a:rPr b="0" lang="ko-KR" sz="3100" spc="-1" strike="noStrike">
                <a:solidFill>
                  <a:srgbClr val="ffffff"/>
                </a:solidFill>
                <a:latin typeface="Arial"/>
              </a:rPr>
              <a:t>기능 활용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TS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를 활용한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들의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ld-Record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들에 대한 자동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e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기능 이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S-SQL Server Agent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활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많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story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의 축적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action Cost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증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TS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기능 설정을 통한 주기적으로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들의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ld Record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들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up Table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로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e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하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ccess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하는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의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rd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관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action Cost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의 감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3046320" y="4162320"/>
            <a:ext cx="2766960" cy="18129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5952960" y="4035600"/>
            <a:ext cx="2789280" cy="1939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QL Server </a:t>
            </a: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선정 사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높은 성능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안정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다양한 기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관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ry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성능 분석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lk Data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처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TS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기능 등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부가 기능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Reporting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문제점 및 해결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Tu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하나의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Size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가 작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동시에 다량의 상이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들에 대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tion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에 대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문제 발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-SQL Tuning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을 통한 해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올바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lk Data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에 대한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ry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Low Performance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문제 발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QL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수정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Bulk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처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Lock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문제 해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S-SQL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의 도구 이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누적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rd Data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의 저장 공간 문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낮은 성능 문제 발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TS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를 이용한 자동 설정으로 문제 해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프로젝트 개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프로젝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*Mart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중앙감시시스템 구축 프로젝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기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구축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2005.1 ~ 2005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사후 보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 Tuning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2005.7 ~ 2005.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대상 시스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005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년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월 현재 기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Center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서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물류센터 서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4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개 물류센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 7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점포 서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73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개 점포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 400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대 이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점포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시스템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73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개 점포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 3,000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대 이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Arial"/>
              </a:rPr>
              <a:t>기대 효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I / TCO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절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점포 전산 인력 무인화에 따른 인건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절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점포 수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명에 대한 인건비 총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– 40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억 원 이상 절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장애인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장애원인규명 및 장애조치에 대한 빠른 대처로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-Time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의 최소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Stop Service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를 통한 체계적인 전산 관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전국 무인 관리 체계 및 중앙감시 집중화에 따른 관리 공백을 자동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장애사전예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장애인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장애조치의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감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처리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”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의 표준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人災에 의한 장애 방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-Stop Service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를 통한 관리 효율성 증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Database/Middleware, Application, POS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주변기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점포전산실 출입감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Virus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통합감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점포 전산실 항온항습기 등에 대한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Management View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를 통한 실시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감시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원격제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*Mart Application </a:t>
            </a:r>
            <a:r>
              <a:rPr b="0" lang="ko-KR" sz="3600" spc="-1" strike="noStrike">
                <a:solidFill>
                  <a:srgbClr val="ffffff"/>
                </a:solidFill>
                <a:latin typeface="Arial"/>
              </a:rPr>
              <a:t>감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7040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 Modeling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방식의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con AMS” Package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사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의 내부 처리까지의 관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84280" y="3278160"/>
          <a:ext cx="3592440" cy="1476360"/>
        </p:xfrm>
        <a:graphic>
          <a:graphicData uri="http://schemas.openxmlformats.org/drawingml/2006/table">
            <a:tbl>
              <a:tblPr/>
              <a:tblGrid>
                <a:gridCol w="3592440"/>
              </a:tblGrid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구축 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Application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의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Process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의 기동 상태 점검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필요 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Application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의 시스템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esource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사용 점검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필요 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장애 발생 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장애 발생 원인을 찾기 위한 시간 소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4732200" y="3265560"/>
          <a:ext cx="3784320" cy="2598480"/>
        </p:xfrm>
        <a:graphic>
          <a:graphicData uri="http://schemas.openxmlformats.org/drawingml/2006/table">
            <a:tbl>
              <a:tblPr/>
              <a:tblGrid>
                <a:gridCol w="3784320"/>
              </a:tblGrid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구축 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Application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의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Process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기동 상태 자동 감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Application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의 시스템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esource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사용 상태 자동 감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Application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의 장애 요소의 실시간 파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Application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의 여러 프로그램들간의 데이터 정합성 감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Batch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작업의 수행 결과 실시간 감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Client-Server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간의 프로세스 처리 상태 감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*Mart Application </a:t>
            </a:r>
            <a:r>
              <a:rPr b="0" lang="ko-KR" sz="3600" spc="-1" strike="noStrike">
                <a:solidFill>
                  <a:srgbClr val="ffffff"/>
                </a:solidFill>
                <a:latin typeface="Arial"/>
              </a:rPr>
              <a:t>감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70408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c00"/>
                </a:solidFill>
                <a:latin typeface="Arial"/>
              </a:rPr>
              <a:t>정책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pplication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과 감시시스템과의 상호의존도 제거 방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채택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og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기록 방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195560" y="2325600"/>
            <a:ext cx="6800760" cy="3659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*Mart Application </a:t>
            </a:r>
            <a:r>
              <a:rPr b="0" lang="ko-KR" sz="3600" spc="-1" strike="noStrike">
                <a:solidFill>
                  <a:srgbClr val="ffffff"/>
                </a:solidFill>
                <a:latin typeface="Arial"/>
              </a:rPr>
              <a:t>감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70408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c00"/>
                </a:solidFill>
                <a:latin typeface="Arial"/>
              </a:rPr>
              <a:t>절차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기존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 Code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혹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ll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프로그램 내부에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con AMS”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의 적용을 위한 코드 추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57240" y="2438280"/>
            <a:ext cx="2638440" cy="3457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include “emart_comm.h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void main(int argc, char *argv[]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    </a:t>
            </a:r>
            <a:r>
              <a:rPr b="1" lang="en-US" sz="900" spc="-1" strike="noStrike">
                <a:solidFill>
                  <a:srgbClr val="ff0000"/>
                </a:solidFill>
                <a:latin typeface="Courier New"/>
                <a:ea typeface="굴림체"/>
              </a:rPr>
              <a:t>AmsLogPrint(“STA LOG”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if (erro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        </a:t>
            </a:r>
            <a:r>
              <a:rPr b="1" lang="en-US" sz="900" spc="-1" strike="noStrike">
                <a:solidFill>
                  <a:srgbClr val="ff0000"/>
                </a:solidFill>
                <a:latin typeface="Courier New"/>
                <a:ea typeface="굴림체"/>
              </a:rPr>
              <a:t>AmsLogPrint(“ERR LOG”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    </a:t>
            </a:r>
            <a:r>
              <a:rPr b="1" lang="en-US" sz="900" spc="-1" strike="noStrike">
                <a:solidFill>
                  <a:srgbClr val="ff0000"/>
                </a:solidFill>
                <a:latin typeface="Courier New"/>
                <a:ea typeface="굴림체"/>
              </a:rPr>
              <a:t>AmsLogPrint(“END LOG”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exit(0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void select_func(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if (erro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    </a:t>
            </a:r>
            <a:r>
              <a:rPr b="1" lang="en-US" sz="900" spc="-1" strike="noStrike">
                <a:solidFill>
                  <a:srgbClr val="ff0000"/>
                </a:solidFill>
                <a:latin typeface="Courier New"/>
                <a:ea typeface="굴림체"/>
              </a:rPr>
              <a:t>AmsLogPrint(“ERR LOG”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    </a:t>
            </a:r>
            <a:r>
              <a:rPr b="1" lang="en-US" sz="900" spc="-1" strike="noStrike">
                <a:solidFill>
                  <a:srgbClr val="ff0000"/>
                </a:solidFill>
                <a:latin typeface="Courier New"/>
                <a:ea typeface="굴림체"/>
              </a:rPr>
              <a:t>AmsLogPrint(“INF LOG”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굴림체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35400" y="3092400"/>
            <a:ext cx="3840120" cy="306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▶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rogram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始作時 無條件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START LOG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기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10200" y="3952800"/>
            <a:ext cx="3867120" cy="710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▶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Error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시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Error Log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기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▶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處理件數 等의 情報는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nformation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情報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nformation Log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기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97240" y="5427720"/>
            <a:ext cx="3868920" cy="306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▶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rogram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終了時 無條件 終了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Log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기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28960" y="3251160"/>
            <a:ext cx="12906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28960" y="4255920"/>
            <a:ext cx="1268280" cy="1171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11560" y="3952800"/>
            <a:ext cx="985680" cy="303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928960" y="4255560"/>
            <a:ext cx="1268280" cy="855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928960" y="4255560"/>
            <a:ext cx="1268280" cy="117180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*Mart Application </a:t>
            </a:r>
            <a:r>
              <a:rPr b="0" lang="ko-KR" sz="3600" spc="-1" strike="noStrike">
                <a:solidFill>
                  <a:srgbClr val="ffffff"/>
                </a:solidFill>
                <a:latin typeface="Arial"/>
              </a:rPr>
              <a:t>감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70408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c00"/>
                </a:solidFill>
                <a:latin typeface="Arial"/>
              </a:rPr>
              <a:t>절차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관리 화면의 구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표시 항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ow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표시 방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적용 시스템 표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정보 표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정보 표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데이터 저장 공간 표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Schedule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표시 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6800" y="5651640"/>
            <a:ext cx="304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소망M"/>
              </a:rPr>
              <a:t>* </a:t>
            </a: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소망M"/>
              </a:rPr>
              <a:t>신규 시스템 개발 시 </a:t>
            </a: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소망M"/>
              </a:rPr>
              <a:t> </a:t>
            </a: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소망M"/>
              </a:rPr>
              <a:t>설계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소망M"/>
              </a:rPr>
              <a:t>/</a:t>
            </a: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소망M"/>
              </a:rPr>
              <a:t>분석 자료 활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목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Cost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운영을 위한 전산 운영 비용 절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안정적인 정보 시스템 서비스 제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점포 전산 시스템의 무인관리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효율적 운영체계 구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전산 시스템 운영 수준 선진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시스템 구성도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전체 구성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36800" y="1417680"/>
            <a:ext cx="7045200" cy="453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시스템 구성도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87440" y="1276200"/>
            <a:ext cx="6480360" cy="46166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889760" y="3002040"/>
            <a:ext cx="0" cy="1106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43720" y="3000240"/>
            <a:ext cx="0" cy="1106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시스템 구성도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서버 구성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99280" y="1133640"/>
            <a:ext cx="972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6360" y="4105440"/>
            <a:ext cx="833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00280" y="364824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82720" y="41054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23080" y="410544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240" y="1362240"/>
            <a:ext cx="2049480" cy="24912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12600">
            <a:solidFill>
              <a:srgbClr val="efe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중앙감시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87880" y="1362240"/>
            <a:ext cx="2577960" cy="24912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12600">
            <a:solidFill>
              <a:srgbClr val="efe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Helpdesk / Reporting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04760" y="5670720"/>
            <a:ext cx="1374840" cy="24912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12600">
            <a:solidFill>
              <a:srgbClr val="efe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Virus </a:t>
            </a:r>
            <a:r>
              <a:rPr b="1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감시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1969920"/>
            <a:ext cx="876240" cy="54324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12600">
            <a:solidFill>
              <a:srgbClr val="efe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File </a:t>
            </a:r>
            <a:r>
              <a:rPr b="1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배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04000" y="1969920"/>
            <a:ext cx="876600" cy="5511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12600">
            <a:solidFill>
              <a:srgbClr val="efe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출입통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330200" y="1747800"/>
            <a:ext cx="761760" cy="533160"/>
            <a:chOff x="1330200" y="1747800"/>
            <a:chExt cx="761760" cy="533160"/>
          </a:xfrm>
        </p:grpSpPr>
        <p:sp>
          <p:nvSpPr>
            <p:cNvPr id="67" name=""/>
            <p:cNvSpPr/>
            <p:nvPr/>
          </p:nvSpPr>
          <p:spPr>
            <a:xfrm>
              <a:off x="1330200" y="2059920"/>
              <a:ext cx="761760" cy="2210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30200" y="1837080"/>
              <a:ext cx="761760" cy="3312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30200" y="1747800"/>
              <a:ext cx="761760" cy="22068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447920" y="168588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소망M"/>
              </a:rPr>
              <a:t>2T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53720" y="2587680"/>
            <a:ext cx="10814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HP DL7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소망M"/>
              </a:rPr>
              <a:t>-Xeon 2GHz *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소망M"/>
              </a:rPr>
              <a:t>-M/M : 4G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07720" y="5003640"/>
            <a:ext cx="10814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HP DL3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소망M"/>
              </a:rPr>
              <a:t>-Xeon 3GHz *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소망M"/>
              </a:rPr>
              <a:t>-M/M : 2G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18160" y="3205080"/>
            <a:ext cx="108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HP DL5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소망M"/>
              </a:rPr>
              <a:t>-Xeon 2GHz *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소망M"/>
              </a:rPr>
              <a:t>-M/M : 2G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소망M"/>
              </a:rPr>
              <a:t>-400GB Di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45000" y="319896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소망M"/>
              </a:rPr>
              <a:t>Microsoft Clus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67" idx="4"/>
            <a:endCxn id="76" idx="0"/>
          </p:cNvCxnSpPr>
          <p:nvPr/>
        </p:nvCxnSpPr>
        <p:spPr>
          <a:xfrm rot="5400000">
            <a:off x="1019880" y="1947600"/>
            <a:ext cx="357840" cy="1024920"/>
          </a:xfrm>
          <a:prstGeom prst="bentConnector3">
            <a:avLst>
              <a:gd name="adj1" fmla="val 49748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77" name=""/>
          <p:cNvCxnSpPr>
            <a:stCxn id="67" idx="4"/>
            <a:endCxn id="78" idx="0"/>
          </p:cNvCxnSpPr>
          <p:nvPr/>
        </p:nvCxnSpPr>
        <p:spPr>
          <a:xfrm flipH="1" rot="16200000">
            <a:off x="2043360" y="1949040"/>
            <a:ext cx="358920" cy="1023120"/>
          </a:xfrm>
          <a:prstGeom prst="bentConnector3">
            <a:avLst>
              <a:gd name="adj1" fmla="val 49598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79" name=""/>
          <p:cNvCxnSpPr>
            <a:stCxn id="76" idx="2"/>
            <a:endCxn id="58" idx="0"/>
          </p:cNvCxnSpPr>
          <p:nvPr/>
        </p:nvCxnSpPr>
        <p:spPr>
          <a:xfrm flipH="1" rot="16200000">
            <a:off x="971280" y="2918880"/>
            <a:ext cx="445320" cy="101376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80" name=""/>
          <p:cNvCxnSpPr>
            <a:stCxn id="78" idx="2"/>
            <a:endCxn id="58" idx="0"/>
          </p:cNvCxnSpPr>
          <p:nvPr/>
        </p:nvCxnSpPr>
        <p:spPr>
          <a:xfrm rot="5400000">
            <a:off x="1994760" y="2909880"/>
            <a:ext cx="443880" cy="1033920"/>
          </a:xfrm>
          <a:prstGeom prst="bentConnector3">
            <a:avLst>
              <a:gd name="adj1" fmla="val 49756"/>
            </a:avLst>
          </a:prstGeom>
          <a:ln w="12600">
            <a:solidFill>
              <a:srgbClr val="ffffff"/>
            </a:solidFill>
            <a:miter/>
          </a:ln>
        </p:spPr>
      </p:cxnSp>
      <p:pic>
        <p:nvPicPr>
          <p:cNvPr id="81" name="" descr="(HP ProLiant DL760G2 시리즈 - HP ProLiant &amp; IA-32 서버 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040" y="2638440"/>
            <a:ext cx="806400" cy="565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(HP ProLiant DL760G2 시리즈 - HP ProLiant &amp; IA-32 서버 )"/>
          <p:cNvPicPr/>
          <p:nvPr/>
        </p:nvPicPr>
        <p:blipFill>
          <a:blip r:embed="rId4"/>
          <a:stretch/>
        </p:blipFill>
        <p:spPr>
          <a:xfrm>
            <a:off x="2330280" y="2639880"/>
            <a:ext cx="806760" cy="565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83760" y="196848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소망M"/>
              </a:rPr>
              <a:t>MS-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68840" y="3649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299120" y="1749600"/>
            <a:ext cx="761400" cy="532800"/>
            <a:chOff x="4299120" y="1749600"/>
            <a:chExt cx="761400" cy="532800"/>
          </a:xfrm>
        </p:grpSpPr>
        <p:sp>
          <p:nvSpPr>
            <p:cNvPr id="86" name=""/>
            <p:cNvSpPr/>
            <p:nvPr/>
          </p:nvSpPr>
          <p:spPr>
            <a:xfrm>
              <a:off x="4299120" y="2061720"/>
              <a:ext cx="761400" cy="220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99120" y="1838880"/>
              <a:ext cx="761400" cy="3312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99120" y="1749600"/>
              <a:ext cx="761400" cy="2203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416480" y="168768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소망M"/>
              </a:rPr>
              <a:t>2T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22640" y="2589120"/>
            <a:ext cx="10814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HP DL7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소망M"/>
              </a:rPr>
              <a:t>-Xeon 2GHz *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소망M"/>
              </a:rPr>
              <a:t>-M/M : 4G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13560" y="320040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소망M"/>
              </a:rPr>
              <a:t>Microsoft Clus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86" idx="4"/>
            <a:endCxn id="93" idx="0"/>
          </p:cNvCxnSpPr>
          <p:nvPr/>
        </p:nvCxnSpPr>
        <p:spPr>
          <a:xfrm rot="5400000">
            <a:off x="3988800" y="1949400"/>
            <a:ext cx="357840" cy="1024560"/>
          </a:xfrm>
          <a:prstGeom prst="bentConnector3">
            <a:avLst>
              <a:gd name="adj1" fmla="val 49748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94" name=""/>
          <p:cNvCxnSpPr>
            <a:stCxn id="86" idx="4"/>
            <a:endCxn id="95" idx="0"/>
          </p:cNvCxnSpPr>
          <p:nvPr/>
        </p:nvCxnSpPr>
        <p:spPr>
          <a:xfrm flipH="1" rot="16200000">
            <a:off x="5011560" y="1950480"/>
            <a:ext cx="359640" cy="1023120"/>
          </a:xfrm>
          <a:prstGeom prst="bentConnector3">
            <a:avLst>
              <a:gd name="adj1" fmla="val 49498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96" name=""/>
          <p:cNvCxnSpPr>
            <a:stCxn id="93" idx="2"/>
            <a:endCxn id="84" idx="0"/>
          </p:cNvCxnSpPr>
          <p:nvPr/>
        </p:nvCxnSpPr>
        <p:spPr>
          <a:xfrm flipH="1" rot="16200000">
            <a:off x="3939120" y="2920680"/>
            <a:ext cx="445320" cy="101340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97" name=""/>
          <p:cNvCxnSpPr>
            <a:stCxn id="95" idx="2"/>
            <a:endCxn id="84" idx="0"/>
          </p:cNvCxnSpPr>
          <p:nvPr/>
        </p:nvCxnSpPr>
        <p:spPr>
          <a:xfrm rot="5400000">
            <a:off x="4963320" y="2911680"/>
            <a:ext cx="443520" cy="1033920"/>
          </a:xfrm>
          <a:prstGeom prst="bentConnector3">
            <a:avLst>
              <a:gd name="adj1" fmla="val 49796"/>
            </a:avLst>
          </a:prstGeom>
          <a:ln w="12600">
            <a:solidFill>
              <a:srgbClr val="ffffff"/>
            </a:solidFill>
            <a:miter/>
          </a:ln>
        </p:spPr>
      </p:cxnSp>
      <p:pic>
        <p:nvPicPr>
          <p:cNvPr id="98" name="" descr="(HP ProLiant DL760G2 시리즈 - HP ProLiant &amp; IA-32 서버 )"/>
          <p:cNvPicPr/>
          <p:nvPr/>
        </p:nvPicPr>
        <p:blipFill>
          <a:blip r:embed="rId5"/>
          <a:stretch/>
        </p:blipFill>
        <p:spPr>
          <a:xfrm>
            <a:off x="3252960" y="2639880"/>
            <a:ext cx="806400" cy="565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(HP ProLiant DL760G2 시리즈 - HP ProLiant &amp; IA-32 서버 )"/>
          <p:cNvPicPr/>
          <p:nvPr/>
        </p:nvPicPr>
        <p:blipFill>
          <a:blip r:embed="rId6"/>
          <a:stretch/>
        </p:blipFill>
        <p:spPr>
          <a:xfrm>
            <a:off x="5299200" y="2641680"/>
            <a:ext cx="806400" cy="565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252320" y="196992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소망M"/>
              </a:rPr>
              <a:t>MS-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(HP ProLiant DL380G3 시리즈 - HP ProLiant &amp; IA-32 서버 )"/>
          <p:cNvPicPr/>
          <p:nvPr/>
        </p:nvPicPr>
        <p:blipFill>
          <a:blip r:embed="rId7"/>
          <a:stretch/>
        </p:blipFill>
        <p:spPr>
          <a:xfrm>
            <a:off x="1143000" y="4437000"/>
            <a:ext cx="1143000" cy="800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(HP ProLiant DL580G2 시리즈 - HP ProLiant &amp; IA-32 서버 )"/>
          <p:cNvPicPr/>
          <p:nvPr/>
        </p:nvPicPr>
        <p:blipFill>
          <a:blip r:embed="rId8"/>
          <a:stretch/>
        </p:blipFill>
        <p:spPr>
          <a:xfrm>
            <a:off x="6335640" y="2627280"/>
            <a:ext cx="914400" cy="639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(HP ProLiant DL580G2 시리즈 - HP ProLiant &amp; IA-32 서버 )"/>
          <p:cNvPicPr/>
          <p:nvPr/>
        </p:nvPicPr>
        <p:blipFill>
          <a:blip r:embed="rId9"/>
          <a:stretch/>
        </p:blipFill>
        <p:spPr>
          <a:xfrm>
            <a:off x="7704000" y="2639880"/>
            <a:ext cx="914400" cy="639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864200" y="3195720"/>
            <a:ext cx="108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HP DL5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소망M"/>
              </a:rPr>
              <a:t>-Xeon 2GHz *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소망M"/>
              </a:rPr>
              <a:t>-M/M : 2G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소망M"/>
              </a:rPr>
              <a:t>-400GB Di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4520" y="4106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06560" y="5672160"/>
            <a:ext cx="1374840" cy="24912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12600">
            <a:solidFill>
              <a:srgbClr val="efe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Virus </a:t>
            </a:r>
            <a:r>
              <a:rPr b="1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감시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09520" y="5005440"/>
            <a:ext cx="10814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HP DL3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소망M"/>
              </a:rPr>
              <a:t>-Xeon 3GHz *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소망M"/>
              </a:rPr>
              <a:t>-M/M : 2G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(HP ProLiant DL380G3 시리즈 - HP ProLiant &amp; IA-32 서버 )"/>
          <p:cNvPicPr/>
          <p:nvPr/>
        </p:nvPicPr>
        <p:blipFill>
          <a:blip r:embed="rId10"/>
          <a:stretch/>
        </p:blipFill>
        <p:spPr>
          <a:xfrm>
            <a:off x="2944800" y="4438800"/>
            <a:ext cx="1143000" cy="79992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119160" y="4516560"/>
            <a:ext cx="761400" cy="532800"/>
            <a:chOff x="119160" y="4516560"/>
            <a:chExt cx="761400" cy="532800"/>
          </a:xfrm>
        </p:grpSpPr>
        <p:sp>
          <p:nvSpPr>
            <p:cNvPr id="110" name=""/>
            <p:cNvSpPr/>
            <p:nvPr/>
          </p:nvSpPr>
          <p:spPr>
            <a:xfrm>
              <a:off x="119160" y="4828680"/>
              <a:ext cx="761400" cy="220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9160" y="4605840"/>
              <a:ext cx="761400" cy="3312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9160" y="4516560"/>
              <a:ext cx="761400" cy="2203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72360" y="473724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소망M"/>
              </a:rPr>
              <a:t>MS-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80920" y="4792680"/>
            <a:ext cx="262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421160" y="4529160"/>
            <a:ext cx="761760" cy="533160"/>
            <a:chOff x="4421160" y="4529160"/>
            <a:chExt cx="761760" cy="533160"/>
          </a:xfrm>
        </p:grpSpPr>
        <p:sp>
          <p:nvSpPr>
            <p:cNvPr id="116" name=""/>
            <p:cNvSpPr/>
            <p:nvPr/>
          </p:nvSpPr>
          <p:spPr>
            <a:xfrm>
              <a:off x="4421160" y="4841280"/>
              <a:ext cx="761760" cy="2210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1160" y="4618440"/>
              <a:ext cx="761760" cy="3312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21160" y="4529160"/>
              <a:ext cx="761760" cy="22068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374720" y="474984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소망M"/>
              </a:rPr>
              <a:t>MS-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87800" y="4829040"/>
            <a:ext cx="328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467480" y="4519440"/>
            <a:ext cx="761760" cy="533160"/>
            <a:chOff x="7467480" y="4519440"/>
            <a:chExt cx="761760" cy="533160"/>
          </a:xfrm>
        </p:grpSpPr>
        <p:sp>
          <p:nvSpPr>
            <p:cNvPr id="122" name=""/>
            <p:cNvSpPr/>
            <p:nvPr/>
          </p:nvSpPr>
          <p:spPr>
            <a:xfrm>
              <a:off x="7467480" y="4831560"/>
              <a:ext cx="761760" cy="2210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67480" y="4608720"/>
              <a:ext cx="761760" cy="3312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67480" y="4519440"/>
              <a:ext cx="761760" cy="22068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421040" y="474012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소망M"/>
              </a:rPr>
              <a:t>MS-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34120" y="4819680"/>
            <a:ext cx="328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1"/>
          <a:stretch/>
        </p:blipFill>
        <p:spPr>
          <a:xfrm flipH="1">
            <a:off x="6535440" y="4511520"/>
            <a:ext cx="608040" cy="708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278400" y="5329080"/>
            <a:ext cx="1374840" cy="24948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12600">
            <a:solidFill>
              <a:srgbClr val="efe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CTI 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30760" y="1895400"/>
            <a:ext cx="8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소망M"/>
              </a:rPr>
              <a:t>RAID 1+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32800" y="1897200"/>
            <a:ext cx="8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소망M"/>
              </a:rPr>
              <a:t>RAID 1+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7360" y="4470480"/>
            <a:ext cx="10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소망M"/>
              </a:rPr>
              <a:t>800G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21160" y="4484520"/>
            <a:ext cx="10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소망M"/>
              </a:rPr>
              <a:t>800G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39000" y="5292720"/>
            <a:ext cx="11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Intel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7353360" y="2933280"/>
            <a:ext cx="23400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6887520" y="2521080"/>
            <a:ext cx="116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cc00"/>
                </a:solidFill>
                <a:latin typeface="Arial"/>
                <a:ea typeface="소망M"/>
              </a:rPr>
              <a:t>수동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소망M"/>
              </a:rPr>
              <a:t>Take-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구성제품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/W, H/W) </a:t>
            </a: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및 사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66000" y="5495760"/>
            <a:ext cx="29476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굴림"/>
              </a:rPr>
              <a:t>SQL Server 2000 Stand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49840" y="5495760"/>
            <a:ext cx="2216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Windows 2000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13040" y="5495760"/>
            <a:ext cx="10368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소망M"/>
              </a:rPr>
              <a:t>Intel 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소망M"/>
              </a:rPr>
              <a:t>호환서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89200" y="5495760"/>
            <a:ext cx="5158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1G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87480" y="5495760"/>
            <a:ext cx="7938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2GHz x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66000" y="5014800"/>
            <a:ext cx="29476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소망M"/>
              </a:rPr>
              <a:t>Ahn Lab  A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49840" y="5014800"/>
            <a:ext cx="2216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Windows 2003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Enterprise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3040" y="5014800"/>
            <a:ext cx="10368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HP DL3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89200" y="5014800"/>
            <a:ext cx="515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2G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87480" y="5014800"/>
            <a:ext cx="7938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3GHz x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66000" y="4535640"/>
            <a:ext cx="2947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돋움"/>
              </a:rPr>
              <a:t>출입통제 서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49840" y="4535640"/>
            <a:ext cx="22161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Windows 2003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Enterprise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3040" y="4535640"/>
            <a:ext cx="10368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HP DL 5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89200" y="4535640"/>
            <a:ext cx="5158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2G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87480" y="4535640"/>
            <a:ext cx="7938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2GHz x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66000" y="4054320"/>
            <a:ext cx="29476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굴림"/>
              </a:rPr>
              <a:t>Unicon File 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굴림"/>
              </a:rPr>
              <a:t>배포 서버 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49840" y="4054320"/>
            <a:ext cx="2216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Windows 2003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Enterprise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3040" y="4054320"/>
            <a:ext cx="103680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HP DL5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89200" y="4054320"/>
            <a:ext cx="5158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2G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87480" y="4054320"/>
            <a:ext cx="79380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2GHz x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66000" y="3656160"/>
            <a:ext cx="29476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굴림"/>
              </a:rPr>
              <a:t>SQL Server 2000 Enterpr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굴림"/>
              </a:rPr>
              <a:t>Microsoft Clustering / Microsoft Repor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49840" y="3656160"/>
            <a:ext cx="22161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Windows 2003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Enterprise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3040" y="3656160"/>
            <a:ext cx="10368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HP DL7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89200" y="3656160"/>
            <a:ext cx="5158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4G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87480" y="3656160"/>
            <a:ext cx="7938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2GHz x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66000" y="3211560"/>
            <a:ext cx="29476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굴림"/>
              </a:rPr>
              <a:t>SQL Server 2000 Enterpr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굴림"/>
              </a:rPr>
              <a:t>Microsoft Clustering / Unicon Helpdesk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굴림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9840" y="3211560"/>
            <a:ext cx="22161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Windows 2003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Enterprise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3040" y="3211560"/>
            <a:ext cx="10368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HP DL7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89200" y="3211560"/>
            <a:ext cx="5158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4G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87480" y="3211560"/>
            <a:ext cx="7938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2GHz x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66000" y="2765520"/>
            <a:ext cx="2947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굴림"/>
              </a:rPr>
              <a:t>SQL Server 2000 Enterpr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굴림"/>
              </a:rPr>
              <a:t>Microsoft Clustering / Unicon SMS, AMS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49840" y="2765520"/>
            <a:ext cx="2216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Windows 2003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Enterprise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13040" y="2765520"/>
            <a:ext cx="1036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HP DL7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89200" y="2765520"/>
            <a:ext cx="515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4G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87480" y="2765520"/>
            <a:ext cx="793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2GHz x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66000" y="2332080"/>
            <a:ext cx="2947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굴림"/>
              </a:rPr>
              <a:t>SQL Server 2000 Enterpr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굴림"/>
              </a:rPr>
              <a:t>Microsoft Clustering / Unicon SMS, AMS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49840" y="2332080"/>
            <a:ext cx="2216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Windows 2003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Enterprise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3040" y="2332080"/>
            <a:ext cx="1036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소망M"/>
              </a:rPr>
              <a:t>HP DL7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89200" y="2332080"/>
            <a:ext cx="515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4G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87480" y="2332080"/>
            <a:ext cx="793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2GHz x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2332080"/>
            <a:ext cx="4190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66000" y="1776240"/>
            <a:ext cx="29476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돋움"/>
              </a:rPr>
              <a:t>DB &amp; </a:t>
            </a:r>
            <a:r>
              <a:rPr b="0" lang="ko-KR" sz="1100" spc="-1" strike="noStrike">
                <a:solidFill>
                  <a:srgbClr val="ffffff"/>
                </a:solidFill>
                <a:latin typeface="Arial"/>
                <a:ea typeface="돋움"/>
              </a:rPr>
              <a:t>기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49840" y="1776240"/>
            <a:ext cx="22161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돋움"/>
              </a:rPr>
              <a:t>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3040" y="1776240"/>
            <a:ext cx="103680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돋움"/>
              </a:rPr>
              <a:t>Mo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89200" y="1776240"/>
            <a:ext cx="5158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돋움"/>
              </a:rPr>
              <a:t>M/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87480" y="1776240"/>
            <a:ext cx="79380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돋움"/>
              </a:rPr>
              <a:t>CP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49840" y="1449360"/>
            <a:ext cx="5163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돋움"/>
              </a:rPr>
              <a:t>S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87480" y="1449360"/>
            <a:ext cx="2862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돋움"/>
              </a:rPr>
              <a:t>H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1449360"/>
            <a:ext cx="9111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돋움"/>
              </a:rPr>
              <a:t>Appl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2332080"/>
            <a:ext cx="8937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87480" y="1449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05080" y="1776240"/>
            <a:ext cx="0" cy="419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87480" y="1776240"/>
            <a:ext cx="8026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9840" y="1449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89200" y="1776240"/>
            <a:ext cx="0" cy="419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66000" y="1776240"/>
            <a:ext cx="0" cy="419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06640" y="3656160"/>
            <a:ext cx="610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06640" y="2765520"/>
            <a:ext cx="610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320" y="3211560"/>
            <a:ext cx="8937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4054320"/>
            <a:ext cx="8937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320" y="4535640"/>
            <a:ext cx="8937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160" y="5014800"/>
            <a:ext cx="8948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160" y="5495760"/>
            <a:ext cx="8948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320" y="1449360"/>
            <a:ext cx="89373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320" y="144936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013680" y="144936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320" y="5975280"/>
            <a:ext cx="89373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520" y="2549520"/>
            <a:ext cx="58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중앙 감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서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3640" y="3240000"/>
            <a:ext cx="81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Help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서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6440" y="4091040"/>
            <a:ext cx="79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파일배포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Log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시스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920" y="455292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출입통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서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760" y="5049720"/>
            <a:ext cx="79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Virus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감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서버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(2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대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6520" y="5506920"/>
            <a:ext cx="42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소망M"/>
              </a:rPr>
              <a:t>C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  <a:ea typeface="소망M"/>
              </a:rPr>
              <a:t>서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06640" y="1755720"/>
            <a:ext cx="0" cy="419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24160" y="5497560"/>
            <a:ext cx="5158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80G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24160" y="5016600"/>
            <a:ext cx="515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G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4160" y="4537080"/>
            <a:ext cx="5158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G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24160" y="4056120"/>
            <a:ext cx="515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G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24160" y="2589120"/>
            <a:ext cx="515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2T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24160" y="1778040"/>
            <a:ext cx="5158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돋움"/>
              </a:rPr>
              <a:t>Dis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999720" y="2765520"/>
            <a:ext cx="1305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25600" y="3457440"/>
            <a:ext cx="515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돋움"/>
              </a:rPr>
              <a:t>2T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001880" y="3633840"/>
            <a:ext cx="1304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구축 시스템 개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100" spc="-1" strike="noStrike">
                <a:solidFill>
                  <a:srgbClr val="ffffff"/>
                </a:solidFill>
                <a:latin typeface="Arial"/>
              </a:rPr>
              <a:t>관리 대상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전국 점포 전산실 서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전국 점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터미널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주변장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물류센터 서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enter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서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점포전산실 시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구축 시스템 개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100" spc="-1" strike="noStrike">
                <a:solidFill>
                  <a:srgbClr val="ffffff"/>
                </a:solidFill>
                <a:latin typeface="Arial"/>
              </a:rPr>
              <a:t>중앙감시서버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/ Helpdesk </a:t>
            </a:r>
            <a:r>
              <a:rPr b="0" lang="ko-KR" sz="3100" spc="-1" strike="noStrike">
                <a:solidFill>
                  <a:srgbClr val="ffffff"/>
                </a:solidFill>
                <a:latin typeface="Arial"/>
              </a:rPr>
              <a:t>서버 등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社의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uster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구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uster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를 이용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-SQL Take-Over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기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, Dual Control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D 1 +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영역을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D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공간에 지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15:00:00Z</dcterms:created>
  <dc:creator/>
  <dc:description/>
  <cp:keywords/>
  <dc:language>en-US</dc:language>
  <cp:lastModifiedBy/>
  <dcterms:modified xsi:type="dcterms:W3CDTF">2007-12-05T02:23:57Z</dcterms:modified>
  <cp:revision>3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gram">
    <vt:lpwstr>TechNet</vt:lpwstr>
  </property>
  <property fmtid="{D5CDD505-2E9C-101B-9397-08002B2CF9AE}" pid="3" name="Session ID">
    <vt:lpwstr>TNTx-xx</vt:lpwstr>
  </property>
  <property fmtid="{D5CDD505-2E9C-101B-9397-08002B2CF9AE}" pid="4" name="Status">
    <vt:lpwstr>Work in Progress</vt:lpwstr>
  </property>
  <property fmtid="{D5CDD505-2E9C-101B-9397-08002B2CF9AE}" pid="5" name="Support">
    <vt:lpwstr>devhelp@microsoft.com</vt:lpwstr>
  </property>
  <property fmtid="{D5CDD505-2E9C-101B-9397-08002B2CF9AE}" pid="6" name="Version">
    <vt:lpwstr>3.0</vt:lpwstr>
  </property>
  <property fmtid="{D5CDD505-2E9C-101B-9397-08002B2CF9AE}" pid="7" name="build">
    <vt:lpwstr>0</vt:lpwstr>
  </property>
</Properties>
</file>