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4482-376C-4611-96DC-D040AA55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255-F1DF-44C9-AE9C-B68DC446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8622-784A-4079-9CC6-C2A057E5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1BDD-646C-46E4-B2E7-4A5CF699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2BB3-9A7A-42E7-A6E2-E8581E6F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BAE-9841-4910-AD21-988E2423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897-7B8A-4DDB-8266-33053B44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BEAA-65B3-493A-8E8E-0BD03D3F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6639-6B43-4A91-8BEB-CA38401B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7063-F0B3-48AB-9777-48150AFD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ACE5-C793-4EA1-BB58-3AFCB987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6FE0-5824-4F08-9352-74B77EA5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DCF0-3FC1-4105-8C9D-B0E75D1513FA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6390000"/>
            <a:ext cx="914400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6381720"/>
            <a:ext cx="878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1440" y="-25560"/>
            <a:ext cx="9141120" cy="6882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205000"/>
            <a:ext cx="76309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SSO (Single Sign-On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사용자 인증 및 권한부여 통합 관리 시스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Impact"/>
                <a:ea typeface="굵은돋움체"/>
              </a:rPr>
              <a:t>XXXX</a:t>
            </a:r>
            <a:r>
              <a:rPr b="0" lang="ko-KR" sz="3600" spc="-1" strike="noStrike">
                <a:solidFill>
                  <a:srgbClr val="000000"/>
                </a:solidFill>
                <a:latin typeface="Impact"/>
              </a:rPr>
              <a:t> SSO </a:t>
            </a:r>
            <a:r>
              <a:rPr b="0" lang="ko-KR" sz="3600" spc="-1" strike="noStrike">
                <a:solidFill>
                  <a:srgbClr val="000000"/>
                </a:solidFill>
                <a:latin typeface="Impact"/>
                <a:ea typeface="굵은돋움체"/>
              </a:rPr>
              <a:t>구축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2270160" y="4005360"/>
            <a:ext cx="53974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제 출 기 관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: XXXXXX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작   성   일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:  2005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작 성 회 사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: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씨아이씨라이프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작 성 부 서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: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터넷 개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작   성   자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: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  정  표  과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12000" y="6124680"/>
            <a:ext cx="3036600" cy="6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81080" y="1413000"/>
            <a:ext cx="8781840" cy="482112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808080"/>
            </a:solidFill>
            <a:miter/>
          </a:ln>
          <a:effectLst>
            <a:outerShdw dist="117181" dir="243836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662200" y="2022480"/>
            <a:ext cx="2033640" cy="1682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698920" y="4724280"/>
            <a:ext cx="949320" cy="90180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318960" y="2055960"/>
            <a:ext cx="1535400" cy="1749240"/>
            <a:chOff x="318960" y="2055960"/>
            <a:chExt cx="1535400" cy="174924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318960" y="2055960"/>
              <a:ext cx="153540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20840" y="2517840"/>
              <a:ext cx="13190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000000"/>
                  </a:solidFill>
                  <a:latin typeface="굴림"/>
                </a:rPr>
                <a:t>회원 </a:t>
              </a:r>
              <a:r>
                <a:rPr b="1" lang="ko-KR" sz="1000" spc="-1" strike="noStrike">
                  <a:solidFill>
                    <a:srgbClr val="000000"/>
                  </a:solidFill>
                  <a:latin typeface="굴림"/>
                </a:rPr>
                <a:t>tabl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000000"/>
                  </a:solidFill>
                  <a:latin typeface="굴림"/>
                </a:rPr>
                <a:t>인증정보 </a:t>
              </a:r>
              <a:r>
                <a:rPr b="1" lang="ko-KR" sz="1000" spc="-1" strike="noStrike">
                  <a:solidFill>
                    <a:srgbClr val="000000"/>
                  </a:solidFill>
                  <a:latin typeface="굴림"/>
                </a:rPr>
                <a:t>tabl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5653080" y="2127240"/>
            <a:ext cx="1509840" cy="107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7227720" y="2127240"/>
            <a:ext cx="1509840" cy="107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5653080" y="3278160"/>
            <a:ext cx="1509840" cy="107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7227720" y="3279600"/>
            <a:ext cx="1509840" cy="1078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4065480" y="4724280"/>
            <a:ext cx="838440" cy="855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981080" y="2852640"/>
            <a:ext cx="644760" cy="139680"/>
          </a:xfrm>
          <a:prstGeom prst="leftArrow">
            <a:avLst>
              <a:gd name="adj1" fmla="val 50000"/>
              <a:gd name="adj2" fmla="val 11535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2007720" y="2600280"/>
            <a:ext cx="56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용자인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2003400" y="3141720"/>
            <a:ext cx="646200" cy="141120"/>
          </a:xfrm>
          <a:prstGeom prst="rightArrow">
            <a:avLst>
              <a:gd name="adj1" fmla="val 50000"/>
              <a:gd name="adj2" fmla="val 11447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009160" y="3255840"/>
            <a:ext cx="489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권한부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3421080" y="4078440"/>
            <a:ext cx="573120" cy="500040"/>
          </a:xfrm>
          <a:prstGeom prst="upArrow">
            <a:avLst>
              <a:gd name="adj1" fmla="val 50000"/>
              <a:gd name="adj2" fmla="val 2499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2944080" y="4292640"/>
            <a:ext cx="489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인증요청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5581800" y="2062080"/>
            <a:ext cx="3236760" cy="266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4718160" y="2637000"/>
            <a:ext cx="788760" cy="501480"/>
          </a:xfrm>
          <a:prstGeom prst="rightArrow">
            <a:avLst>
              <a:gd name="adj1" fmla="val 50000"/>
              <a:gd name="adj2" fmla="val 3933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4605120" y="2419200"/>
            <a:ext cx="88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Naviga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484360" y="4653000"/>
            <a:ext cx="2733840" cy="1438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306400" y="5632560"/>
            <a:ext cx="974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Contents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제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6381720"/>
            <a:ext cx="878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6702480" y="6386400"/>
            <a:ext cx="2346120" cy="489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364000" y="4795920"/>
            <a:ext cx="865440" cy="795240"/>
          </a:xfrm>
          <a:custGeom>
            <a:avLst/>
            <a:gdLst/>
            <a:ahLst/>
            <a:rect l="l" t="t" r="r" b="b"/>
            <a:pathLst>
              <a:path w="545" h="501">
                <a:moveTo>
                  <a:pt x="0" y="359"/>
                </a:moveTo>
                <a:lnTo>
                  <a:pt x="163" y="500"/>
                </a:lnTo>
                <a:lnTo>
                  <a:pt x="163" y="433"/>
                </a:lnTo>
                <a:lnTo>
                  <a:pt x="231" y="433"/>
                </a:lnTo>
                <a:lnTo>
                  <a:pt x="263" y="432"/>
                </a:lnTo>
                <a:lnTo>
                  <a:pt x="294" y="429"/>
                </a:lnTo>
                <a:lnTo>
                  <a:pt x="324" y="423"/>
                </a:lnTo>
                <a:lnTo>
                  <a:pt x="353" y="416"/>
                </a:lnTo>
                <a:lnTo>
                  <a:pt x="380" y="407"/>
                </a:lnTo>
                <a:lnTo>
                  <a:pt x="406" y="396"/>
                </a:lnTo>
                <a:lnTo>
                  <a:pt x="430" y="384"/>
                </a:lnTo>
                <a:lnTo>
                  <a:pt x="453" y="370"/>
                </a:lnTo>
                <a:lnTo>
                  <a:pt x="473" y="355"/>
                </a:lnTo>
                <a:lnTo>
                  <a:pt x="491" y="338"/>
                </a:lnTo>
                <a:lnTo>
                  <a:pt x="507" y="321"/>
                </a:lnTo>
                <a:lnTo>
                  <a:pt x="520" y="302"/>
                </a:lnTo>
                <a:lnTo>
                  <a:pt x="530" y="282"/>
                </a:lnTo>
                <a:lnTo>
                  <a:pt x="538" y="262"/>
                </a:lnTo>
                <a:lnTo>
                  <a:pt x="542" y="240"/>
                </a:lnTo>
                <a:lnTo>
                  <a:pt x="544" y="219"/>
                </a:lnTo>
                <a:lnTo>
                  <a:pt x="544" y="0"/>
                </a:lnTo>
                <a:lnTo>
                  <a:pt x="381" y="0"/>
                </a:lnTo>
                <a:lnTo>
                  <a:pt x="381" y="219"/>
                </a:lnTo>
                <a:lnTo>
                  <a:pt x="380" y="226"/>
                </a:lnTo>
                <a:lnTo>
                  <a:pt x="378" y="232"/>
                </a:lnTo>
                <a:lnTo>
                  <a:pt x="374" y="239"/>
                </a:lnTo>
                <a:lnTo>
                  <a:pt x="370" y="245"/>
                </a:lnTo>
                <a:lnTo>
                  <a:pt x="363" y="251"/>
                </a:lnTo>
                <a:lnTo>
                  <a:pt x="356" y="257"/>
                </a:lnTo>
                <a:lnTo>
                  <a:pt x="347" y="261"/>
                </a:lnTo>
                <a:lnTo>
                  <a:pt x="337" y="266"/>
                </a:lnTo>
                <a:lnTo>
                  <a:pt x="326" y="271"/>
                </a:lnTo>
                <a:lnTo>
                  <a:pt x="315" y="275"/>
                </a:lnTo>
                <a:lnTo>
                  <a:pt x="290" y="281"/>
                </a:lnTo>
                <a:lnTo>
                  <a:pt x="262" y="285"/>
                </a:lnTo>
                <a:lnTo>
                  <a:pt x="231" y="286"/>
                </a:lnTo>
                <a:lnTo>
                  <a:pt x="163" y="286"/>
                </a:lnTo>
                <a:lnTo>
                  <a:pt x="163" y="219"/>
                </a:lnTo>
                <a:lnTo>
                  <a:pt x="0" y="359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863720" y="217440"/>
            <a:ext cx="5243400" cy="993960"/>
            <a:chOff x="1863720" y="217440"/>
            <a:chExt cx="5243400" cy="993960"/>
          </a:xfrm>
        </p:grpSpPr>
        <p:pic>
          <p:nvPicPr>
            <p:cNvPr id="223" name="" descr=""/>
            <p:cNvPicPr/>
            <p:nvPr/>
          </p:nvPicPr>
          <p:blipFill>
            <a:blip r:embed="rId7"/>
            <a:stretch/>
          </p:blipFill>
          <p:spPr>
            <a:xfrm>
              <a:off x="1863720" y="217440"/>
              <a:ext cx="52434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071800" y="379440"/>
              <a:ext cx="4929120" cy="7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600" spc="-1" strike="noStrike">
                  <a:solidFill>
                    <a:srgbClr val="000000"/>
                  </a:solidFill>
                  <a:latin typeface="Impact"/>
                  <a:ea typeface="굵은돋움체"/>
                </a:rPr>
                <a:t>xxxx</a:t>
              </a:r>
              <a:r>
                <a:rPr b="0" lang="ko-KR" sz="3600" spc="-1" strike="noStrike">
                  <a:solidFill>
                    <a:srgbClr val="000000"/>
                  </a:solidFill>
                  <a:latin typeface="Impact"/>
                </a:rPr>
                <a:t> SSO</a:t>
              </a:r>
              <a:r>
                <a:rPr b="0" lang="ko-KR" sz="3600" spc="-1" strike="noStrike">
                  <a:solidFill>
                    <a:srgbClr val="000000"/>
                  </a:solidFill>
                  <a:latin typeface="굵은돋움체"/>
                  <a:ea typeface="굵은돋움체"/>
                </a:rPr>
                <a:t>의 구성도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69800" y="4006800"/>
            <a:ext cx="1220760" cy="284040"/>
          </a:xfrm>
          <a:prstGeom prst="roundRect">
            <a:avLst>
              <a:gd name="adj" fmla="val 16657"/>
            </a:avLst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8160" y="5735520"/>
            <a:ext cx="1220760" cy="284400"/>
          </a:xfrm>
          <a:prstGeom prst="roundRect">
            <a:avLst>
              <a:gd name="adj" fmla="val 16657"/>
            </a:avLst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User Grou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6540480" y="4400640"/>
            <a:ext cx="1220760" cy="284040"/>
          </a:xfrm>
          <a:prstGeom prst="roundRect">
            <a:avLst>
              <a:gd name="adj" fmla="val 16657"/>
            </a:avLst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Web Service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60720" y="3718080"/>
            <a:ext cx="1220760" cy="284040"/>
          </a:xfrm>
          <a:prstGeom prst="roundRect">
            <a:avLst>
              <a:gd name="adj" fmla="val 16657"/>
            </a:avLst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SSO Serv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81080" y="1413000"/>
            <a:ext cx="8781840" cy="482112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808080"/>
            </a:solidFill>
            <a:miter/>
          </a:ln>
          <a:effectLst>
            <a:outerShdw dist="117181" dir="243836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684360" y="177336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1023480" y="2646360"/>
            <a:ext cx="721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분석 및 기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018240" y="1773360"/>
            <a:ext cx="40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  <a:ea typeface="돋움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679320" y="2565360"/>
            <a:ext cx="785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84360" y="1773360"/>
            <a:ext cx="0" cy="374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4923000" y="1773360"/>
            <a:ext cx="79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  <a:ea typeface="돋움"/>
              </a:rPr>
              <a:t>m + 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7031160" y="1773360"/>
            <a:ext cx="79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  <a:ea typeface="돋움"/>
              </a:rPr>
              <a:t>m + 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2195640" y="2133720"/>
            <a:ext cx="63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2700360" y="2133720"/>
            <a:ext cx="0" cy="338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2262600" y="2125800"/>
            <a:ext cx="3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  <a:ea typeface="돋움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665080" y="2136600"/>
            <a:ext cx="64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  <a:ea typeface="돋움"/>
              </a:rPr>
              <a:t>w+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188880" y="2133720"/>
            <a:ext cx="64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  <a:ea typeface="돋움"/>
              </a:rPr>
              <a:t>w+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705120" y="2133720"/>
            <a:ext cx="64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  <a:ea typeface="돋움"/>
              </a:rPr>
              <a:t>w+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300920" y="2133720"/>
            <a:ext cx="3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  <a:ea typeface="돋움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703400" y="2144880"/>
            <a:ext cx="64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  <a:ea typeface="돋움"/>
              </a:rPr>
              <a:t>w+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5227200" y="2141640"/>
            <a:ext cx="64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  <a:ea typeface="돋움"/>
              </a:rPr>
              <a:t>w+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743440" y="2141640"/>
            <a:ext cx="64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  <a:ea typeface="돋움"/>
              </a:rPr>
              <a:t>w+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6461640" y="2133720"/>
            <a:ext cx="3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  <a:ea typeface="돋움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6864120" y="2144880"/>
            <a:ext cx="64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  <a:ea typeface="돋움"/>
              </a:rPr>
              <a:t>w+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7387920" y="2141640"/>
            <a:ext cx="64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  <a:ea typeface="돋움"/>
              </a:rPr>
              <a:t>w+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7903800" y="2141640"/>
            <a:ext cx="64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  <a:ea typeface="돋움"/>
              </a:rPr>
              <a:t>w+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896040" y="3009960"/>
            <a:ext cx="108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본설계 및 상세설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864360" y="3357720"/>
            <a:ext cx="1158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Database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구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1020600" y="3716280"/>
            <a:ext cx="81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모듈 통합 작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925920" y="4091040"/>
            <a:ext cx="1027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통합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CMS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구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051200" y="4449600"/>
            <a:ext cx="90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인증모듈 재 구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1045440" y="4809960"/>
            <a:ext cx="86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프로그램 디버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918000" y="5170320"/>
            <a:ext cx="459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테스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684360" y="5516640"/>
            <a:ext cx="785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2195640" y="1773360"/>
            <a:ext cx="0" cy="374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4284720" y="1773360"/>
            <a:ext cx="0" cy="374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372360" y="1773360"/>
            <a:ext cx="0" cy="374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8532720" y="1773360"/>
            <a:ext cx="0" cy="374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203640" y="2133720"/>
            <a:ext cx="0" cy="338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3741840" y="2133720"/>
            <a:ext cx="0" cy="338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4738680" y="2133720"/>
            <a:ext cx="0" cy="338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5270400" y="2133720"/>
            <a:ext cx="0" cy="338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5796000" y="2133720"/>
            <a:ext cx="0" cy="338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877080" y="2133720"/>
            <a:ext cx="0" cy="338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7440480" y="2133720"/>
            <a:ext cx="0" cy="338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7956720" y="2133720"/>
            <a:ext cx="0" cy="338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2195640" y="27082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3203640" y="310212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3492360" y="3429000"/>
            <a:ext cx="505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3995640" y="3860640"/>
            <a:ext cx="180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5303880" y="4221000"/>
            <a:ext cx="1789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7093080" y="4581360"/>
            <a:ext cx="57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7597800" y="4941720"/>
            <a:ext cx="57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7958160" y="5373720"/>
            <a:ext cx="57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684360" y="292428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684360" y="328464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684360" y="364500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684360" y="400536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4360" y="436572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684360" y="472428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508464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878040" y="5603760"/>
            <a:ext cx="1699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xxxx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웹서비스의 통합이 기준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79280" y="6381720"/>
            <a:ext cx="878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6702480" y="6386400"/>
            <a:ext cx="2346120" cy="48924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1863720" y="217440"/>
            <a:ext cx="5243400" cy="993960"/>
            <a:chOff x="1863720" y="217440"/>
            <a:chExt cx="5243400" cy="993960"/>
          </a:xfrm>
        </p:grpSpPr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1863720" y="217440"/>
              <a:ext cx="52434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071800" y="379440"/>
              <a:ext cx="4929120" cy="7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600" spc="-1" strike="noStrike">
                  <a:solidFill>
                    <a:srgbClr val="000000"/>
                  </a:solidFill>
                  <a:latin typeface="Impact"/>
                </a:rPr>
                <a:t>SSO</a:t>
              </a:r>
              <a:r>
                <a:rPr b="0" lang="ko-KR" sz="3600" spc="-1" strike="noStrike">
                  <a:solidFill>
                    <a:srgbClr val="000000"/>
                  </a:solidFill>
                  <a:latin typeface="굵은돋움체"/>
                  <a:ea typeface="굵은돋움체"/>
                </a:rPr>
                <a:t> </a:t>
              </a:r>
              <a:r>
                <a:rPr b="0" lang="ko-KR" sz="3600" spc="-1" strike="noStrike">
                  <a:solidFill>
                    <a:srgbClr val="000000"/>
                  </a:solidFill>
                  <a:latin typeface="굵은돋움체"/>
                  <a:ea typeface="굵은돋움체"/>
                </a:rPr>
                <a:t>구축일정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1080" y="1413000"/>
            <a:ext cx="8781840" cy="482112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808080"/>
            </a:solidFill>
            <a:miter/>
          </a:ln>
          <a:effectLst>
            <a:outerShdw dist="117181" dir="243836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1700280"/>
            <a:ext cx="65530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O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개념              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------ 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O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요구사항        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------ 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O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증방식        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------ 3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O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구현모델        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------ 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O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구축 기대효과 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------ 7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XXXXXXX SSO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구성도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------ 8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O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구축일정        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------ 9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투입인원               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------ 10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6381720"/>
            <a:ext cx="878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702480" y="6386400"/>
            <a:ext cx="2346120" cy="489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79640" y="333360"/>
            <a:ext cx="5113440" cy="8636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굵은돋움체"/>
                <a:ea typeface="굵은돋움체"/>
              </a:rPr>
              <a:t>목  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1080" y="1413000"/>
            <a:ext cx="8781840" cy="482112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808080"/>
            </a:solidFill>
            <a:miter/>
          </a:ln>
          <a:effectLst>
            <a:outerShdw dist="117181" dir="243836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615960" y="1562040"/>
            <a:ext cx="7621560" cy="143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단일 인증으로 해당기관의 각종 업무 시스템 또는 인터넷 서비스에 접속할 수 있게 해주는 알고리즘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인증 및 권한부여 통합 관리 시스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Intranet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Extranet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서비스를 동시에 수행하는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IT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인프라 시스템을 안전하게 구성하고 효율적인 관리를 수행할 수 있는 환경 제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6381720"/>
            <a:ext cx="878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702480" y="6396120"/>
            <a:ext cx="2346120" cy="488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79640" y="333360"/>
            <a:ext cx="5113440" cy="8636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Impact"/>
              </a:rPr>
              <a:t>SSO</a:t>
            </a:r>
            <a:r>
              <a:rPr b="0" lang="ko-KR" sz="3600" spc="-1" strike="noStrike">
                <a:solidFill>
                  <a:srgbClr val="000000"/>
                </a:solidFill>
                <a:latin typeface="굵은돋움체"/>
                <a:ea typeface="굵은돋움체"/>
              </a:rPr>
              <a:t> </a:t>
            </a:r>
            <a:r>
              <a:rPr b="0" lang="ko-KR" sz="3600" spc="-1" strike="noStrike">
                <a:solidFill>
                  <a:srgbClr val="000000"/>
                </a:solidFill>
                <a:latin typeface="굵은돋움체"/>
                <a:ea typeface="굵은돋움체"/>
              </a:rPr>
              <a:t>개념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263600" y="4010040"/>
            <a:ext cx="2727360" cy="1935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1693800" y="3802320"/>
            <a:ext cx="1793880" cy="406440"/>
          </a:xfrm>
          <a:prstGeom prst="roundRect">
            <a:avLst>
              <a:gd name="adj" fmla="val 16657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Extrane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503600" y="3995640"/>
            <a:ext cx="3303720" cy="19494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5294160" y="3787920"/>
            <a:ext cx="1793880" cy="406440"/>
          </a:xfrm>
          <a:prstGeom prst="roundRect">
            <a:avLst>
              <a:gd name="adj" fmla="val 16657"/>
            </a:avLst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Intrane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4336920"/>
            <a:ext cx="1365480" cy="646200"/>
          </a:xfrm>
          <a:prstGeom prst="roundRect">
            <a:avLst>
              <a:gd name="adj" fmla="val 16657"/>
            </a:avLst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Group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6229440" y="4336920"/>
            <a:ext cx="1365120" cy="646200"/>
          </a:xfrm>
          <a:prstGeom prst="roundRect">
            <a:avLst>
              <a:gd name="adj" fmla="val 16657"/>
            </a:avLst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ER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4716360" y="5129280"/>
            <a:ext cx="1365480" cy="646200"/>
          </a:xfrm>
          <a:prstGeom prst="roundRect">
            <a:avLst>
              <a:gd name="adj" fmla="val 16657"/>
            </a:avLst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CR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6229440" y="5129280"/>
            <a:ext cx="1365120" cy="646200"/>
          </a:xfrm>
          <a:prstGeom prst="roundRect">
            <a:avLst>
              <a:gd name="adj" fmla="val 16657"/>
            </a:avLst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H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08000" y="4294080"/>
            <a:ext cx="1365480" cy="428760"/>
          </a:xfrm>
          <a:prstGeom prst="roundRect">
            <a:avLst>
              <a:gd name="adj" fmla="val 16657"/>
            </a:avLst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Web Serv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1908000" y="4799160"/>
            <a:ext cx="1365480" cy="428400"/>
          </a:xfrm>
          <a:prstGeom prst="roundRect">
            <a:avLst>
              <a:gd name="adj" fmla="val 16657"/>
            </a:avLst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Mail Serv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5375160"/>
            <a:ext cx="1365480" cy="428760"/>
          </a:xfrm>
          <a:prstGeom prst="roundRect">
            <a:avLst>
              <a:gd name="adj" fmla="val 16657"/>
            </a:avLst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Member Serv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3357720"/>
            <a:ext cx="7128000" cy="27352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3214800" y="3071880"/>
            <a:ext cx="2570040" cy="555480"/>
          </a:xfrm>
          <a:prstGeom prst="roundRect">
            <a:avLst>
              <a:gd name="adj" fmla="val 1665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SSO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인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81080" y="1413000"/>
            <a:ext cx="8781840" cy="482112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808080"/>
            </a:solidFill>
            <a:miter/>
          </a:ln>
          <a:effectLst>
            <a:outerShdw dist="117181" dir="243836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6381720"/>
            <a:ext cx="878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702480" y="6396120"/>
            <a:ext cx="2346120" cy="488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79640" y="333360"/>
            <a:ext cx="5113440" cy="8636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Impact"/>
              </a:rPr>
              <a:t>SSO</a:t>
            </a:r>
            <a:r>
              <a:rPr b="0" lang="ko-KR" sz="3600" spc="-1" strike="noStrike">
                <a:solidFill>
                  <a:srgbClr val="000000"/>
                </a:solidFill>
                <a:latin typeface="굵은돋움체"/>
                <a:ea typeface="굵은돋움체"/>
              </a:rPr>
              <a:t> </a:t>
            </a:r>
            <a:r>
              <a:rPr b="0" lang="ko-KR" sz="3600" spc="-1" strike="noStrike">
                <a:solidFill>
                  <a:srgbClr val="000000"/>
                </a:solidFill>
                <a:latin typeface="굵은돋움체"/>
                <a:ea typeface="굵은돋움체"/>
              </a:rPr>
              <a:t>요구사항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1760400" y="2994120"/>
            <a:ext cx="5492880" cy="12700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1836720" y="3105000"/>
            <a:ext cx="251460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체"/>
                <a:ea typeface="돋움체"/>
              </a:rPr>
              <a:t>      </a:t>
            </a:r>
            <a:r>
              <a:rPr b="1" lang="ko-KR" sz="1200" spc="-1" strike="noStrike">
                <a:solidFill>
                  <a:srgbClr val="000000"/>
                </a:solidFill>
                <a:latin typeface="돋움체"/>
                <a:ea typeface="돋움체"/>
              </a:rPr>
              <a:t>인증</a:t>
            </a:r>
            <a:r>
              <a:rPr b="1" lang="ko-KR" sz="1200" spc="-1" strike="noStrike">
                <a:solidFill>
                  <a:srgbClr val="000000"/>
                </a:solidFill>
                <a:latin typeface="돋움체"/>
                <a:ea typeface="돋움체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Authentication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1836720" y="3679920"/>
            <a:ext cx="251460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체"/>
                <a:ea typeface="돋움체"/>
              </a:rPr>
              <a:t>    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개인화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(Personalization)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4503600" y="3679920"/>
            <a:ext cx="259092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체"/>
                <a:ea typeface="돋움체"/>
              </a:rPr>
              <a:t>    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관리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(Administration)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1836720" y="316404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3300"/>
                </a:solidFill>
                <a:latin typeface="HY견고딕"/>
                <a:ea typeface="HY견고딕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1836720" y="372888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3300"/>
                </a:solidFill>
                <a:latin typeface="HY견고딕"/>
                <a:ea typeface="HY견고딕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4503600" y="372888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3300"/>
                </a:solidFill>
                <a:latin typeface="HY견고딕"/>
                <a:ea typeface="HY견고딕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4506840" y="3105000"/>
            <a:ext cx="260028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체"/>
                <a:ea typeface="돋움체"/>
              </a:rPr>
              <a:t>    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인가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접근제어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(Authorization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4503600" y="316404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3300"/>
                </a:solidFill>
                <a:latin typeface="HY견고딕"/>
                <a:ea typeface="HY견고딕"/>
              </a:rPr>
              <a:t>02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2557440" y="1774800"/>
            <a:ext cx="3957840" cy="573120"/>
          </a:xfrm>
          <a:prstGeom prst="roundRect">
            <a:avLst>
              <a:gd name="adj" fmla="val 1665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xxxx SS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835280" y="4292640"/>
            <a:ext cx="5473440" cy="1701720"/>
            <a:chOff x="1835280" y="4292640"/>
            <a:chExt cx="5473440" cy="1701720"/>
          </a:xfrm>
        </p:grpSpPr>
        <p:sp>
          <p:nvSpPr>
            <p:cNvPr id="86" name=""/>
            <p:cNvSpPr/>
            <p:nvPr/>
          </p:nvSpPr>
          <p:spPr>
            <a:xfrm>
              <a:off x="1835280" y="4292640"/>
              <a:ext cx="5473440" cy="1701720"/>
            </a:xfrm>
            <a:custGeom>
              <a:avLst/>
              <a:gdLst/>
              <a:ahLst/>
              <a:rect l="l" t="t" r="r" b="b"/>
              <a:pathLst>
                <a:path w="3448" h="1072">
                  <a:moveTo>
                    <a:pt x="0" y="357"/>
                  </a:moveTo>
                  <a:lnTo>
                    <a:pt x="1293" y="357"/>
                  </a:lnTo>
                  <a:lnTo>
                    <a:pt x="1293" y="178"/>
                  </a:lnTo>
                  <a:lnTo>
                    <a:pt x="862" y="178"/>
                  </a:lnTo>
                  <a:lnTo>
                    <a:pt x="1723" y="0"/>
                  </a:lnTo>
                  <a:lnTo>
                    <a:pt x="2585" y="178"/>
                  </a:lnTo>
                  <a:lnTo>
                    <a:pt x="2154" y="178"/>
                  </a:lnTo>
                  <a:lnTo>
                    <a:pt x="2154" y="357"/>
                  </a:lnTo>
                  <a:lnTo>
                    <a:pt x="3447" y="357"/>
                  </a:lnTo>
                  <a:lnTo>
                    <a:pt x="3447" y="1071"/>
                  </a:lnTo>
                  <a:lnTo>
                    <a:pt x="0" y="1071"/>
                  </a:lnTo>
                  <a:lnTo>
                    <a:pt x="0" y="357"/>
                  </a:lnTo>
                </a:path>
              </a:pathLst>
            </a:custGeom>
            <a:gradFill rotWithShape="0">
              <a:gsLst>
                <a:gs pos="0">
                  <a:srgbClr val="e3f7dd"/>
                </a:gs>
                <a:gs pos="100000">
                  <a:srgbClr val="ffffff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33560" y="4876920"/>
              <a:ext cx="5275440" cy="10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909800" y="4943520"/>
            <a:ext cx="257652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시스템접근 사용자 확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1909800" y="5518080"/>
            <a:ext cx="2576520" cy="42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접근 범위 및 권한 설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4591080" y="4946760"/>
            <a:ext cx="2643120" cy="496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개별서비스에서의 사용자 정보 확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4591080" y="5518080"/>
            <a:ext cx="2643120" cy="43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계정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로그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권한 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3060720" y="2494080"/>
            <a:ext cx="2732040" cy="401400"/>
          </a:xfrm>
          <a:prstGeom prst="upArrow">
            <a:avLst>
              <a:gd name="adj1" fmla="val 50000"/>
              <a:gd name="adj2" fmla="val 24991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목표달성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81080" y="1413000"/>
            <a:ext cx="8781840" cy="482112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808080"/>
            </a:solidFill>
            <a:miter/>
          </a:ln>
          <a:effectLst>
            <a:outerShdw dist="117181" dir="243836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6381720"/>
            <a:ext cx="878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702480" y="6396120"/>
            <a:ext cx="2346120" cy="488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79640" y="333360"/>
            <a:ext cx="5113440" cy="8636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SO</a:t>
            </a:r>
            <a:r>
              <a:rPr b="0" lang="en-US" sz="3600" spc="-1" strike="noStrike">
                <a:solidFill>
                  <a:srgbClr val="000000"/>
                </a:solidFill>
                <a:latin typeface="굵은돋움체"/>
                <a:ea typeface="굵은돋움체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굵은돋움체"/>
                <a:ea typeface="굵은돋움체"/>
              </a:rPr>
              <a:t>인증방식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299880" y="1568520"/>
            <a:ext cx="8520120" cy="162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SO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시스템에서 사용자 인증에 관련된 보안 기술은 전체 시스템의 보안성에 중요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부분을 차지한다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이와 관련해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SO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시스템에서 사용될 수 있는 다양한 인증방법 기술 중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Basic ID/PWD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방식을 채택하고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만약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Password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를 분실 할 경우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One Time Password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인증 방식을 이용하여 인증절차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거치게 한다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746520"/>
            <a:ext cx="8229600" cy="7621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357360"/>
            <a:ext cx="2286000" cy="30564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993"/>
                </a:solidFill>
                <a:latin typeface="굴림"/>
              </a:rPr>
              <a:t>Basic ID/PWD </a:t>
            </a:r>
            <a:r>
              <a:rPr b="1" lang="zh-CN" sz="1400" spc="-1" strike="noStrike">
                <a:solidFill>
                  <a:srgbClr val="004993"/>
                </a:solidFill>
                <a:latin typeface="굴림"/>
              </a:rPr>
              <a:t>인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933720"/>
            <a:ext cx="762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프로토콜을 사용하는 경우 사용자가 입력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와 패스워드가 네트워크를 통해 암호화되지 않고 전송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TTPS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프로토콜을 이용하는 경우에는 암호화돼 전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4962600"/>
            <a:ext cx="8153280" cy="914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4779720"/>
            <a:ext cx="2286000" cy="30564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993"/>
                </a:solidFill>
                <a:latin typeface="굴림"/>
              </a:rPr>
              <a:t>One Time Password </a:t>
            </a:r>
            <a:r>
              <a:rPr b="1" lang="zh-CN" sz="1400" spc="-1" strike="noStrike">
                <a:solidFill>
                  <a:srgbClr val="004993"/>
                </a:solidFill>
                <a:latin typeface="굴림"/>
              </a:rPr>
              <a:t>인증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5191200"/>
            <a:ext cx="7619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한 번만 사용될 수 있는 패스워드를 이용해 사용자를 인증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사용자에게 미리 전달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OTP Token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을 이용하여 사용자를 인증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추후 사용자에게 패스워드 수정 요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4080" y="1449360"/>
            <a:ext cx="8781840" cy="482112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808080"/>
            </a:solidFill>
            <a:miter/>
          </a:ln>
          <a:effectLst>
            <a:outerShdw dist="117181" dir="243836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6381720"/>
            <a:ext cx="878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702480" y="6396120"/>
            <a:ext cx="2346120" cy="488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79640" y="333360"/>
            <a:ext cx="5113440" cy="8636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SO</a:t>
            </a:r>
            <a:r>
              <a:rPr b="0" lang="en-US" sz="3600" spc="-1" strike="noStrike">
                <a:solidFill>
                  <a:srgbClr val="000000"/>
                </a:solidFill>
                <a:latin typeface="굵은돋움체"/>
                <a:ea typeface="굵은돋움체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굵은돋움체"/>
                <a:ea typeface="굵은돋움체"/>
              </a:rPr>
              <a:t>구현모델 </a:t>
            </a:r>
            <a:r>
              <a:rPr b="0" lang="en-US" sz="3600" spc="-1" strike="noStrike">
                <a:solidFill>
                  <a:srgbClr val="000000"/>
                </a:solidFill>
                <a:latin typeface="굵은돋움체"/>
                <a:ea typeface="굵은돋움체"/>
              </a:rPr>
              <a:t>- ①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51000" y="1492200"/>
            <a:ext cx="30204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인증 위임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en-US" sz="2100" spc="-1" strike="noStrike">
                <a:solidFill>
                  <a:srgbClr val="000000"/>
                </a:solidFill>
                <a:latin typeface="굴림"/>
              </a:rPr>
              <a:t>delegation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방식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2057400"/>
            <a:ext cx="85341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해당 시스템의 인증 방식을 변경하기 어려울 때 많이 사용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해당 시스템의 인증 방식을 전혀 변경하지 않고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사용자의 인증 정보를 에이전트가 관리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사용자 대신 로그온 해주는 방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즉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arget Server 1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을 로그온 할 때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User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가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arget Service 1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에 접근할 때 에이전트가 대신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ID/PWD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정보를 전달해서 로그온 시켜준다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4254480"/>
            <a:ext cx="677880" cy="62064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5106960" y="3735360"/>
            <a:ext cx="1189080" cy="45396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Service 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5108400" y="4344840"/>
            <a:ext cx="1189080" cy="45432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Service 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5108400" y="5106960"/>
            <a:ext cx="1189080" cy="45396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Service 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1290600" y="4565520"/>
            <a:ext cx="1149480" cy="7920"/>
          </a:xfrm>
          <a:custGeom>
            <a:avLst/>
            <a:gdLst/>
            <a:ahLst/>
            <a:rect l="l" t="t" r="r" b="b"/>
            <a:pathLst>
              <a:path w="724" h="5">
                <a:moveTo>
                  <a:pt x="0" y="0"/>
                </a:moveTo>
                <a:lnTo>
                  <a:pt x="723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2440080" y="4344840"/>
            <a:ext cx="1539720" cy="454320"/>
          </a:xfrm>
          <a:prstGeom prst="rect">
            <a:avLst/>
          </a:prstGeom>
          <a:solidFill>
            <a:srgbClr val="cc99ff"/>
          </a:solidFill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Sign 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052720" y="5176800"/>
            <a:ext cx="2308320" cy="804960"/>
            <a:chOff x="2052720" y="5176800"/>
            <a:chExt cx="2308320" cy="804960"/>
          </a:xfrm>
        </p:grpSpPr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2052720" y="5176800"/>
              <a:ext cx="23083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152800" y="5411880"/>
              <a:ext cx="20952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"/>
                </a:rPr>
                <a:t>Authentication Infos for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"/>
                </a:rPr>
                <a:t>Each Service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297480" y="3962520"/>
            <a:ext cx="561960" cy="6120"/>
          </a:xfrm>
          <a:custGeom>
            <a:avLst/>
            <a:gdLst/>
            <a:ahLst/>
            <a:rect l="l" t="t" r="r" b="b"/>
            <a:pathLst>
              <a:path w="354" h="4">
                <a:moveTo>
                  <a:pt x="0" y="0"/>
                </a:moveTo>
                <a:lnTo>
                  <a:pt x="353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3981600" y="3962520"/>
            <a:ext cx="1125360" cy="610920"/>
          </a:xfrm>
          <a:custGeom>
            <a:avLst/>
            <a:gdLst/>
            <a:ahLst/>
            <a:rect l="l" t="t" r="r" b="b"/>
            <a:pathLst>
              <a:path w="709" h="385">
                <a:moveTo>
                  <a:pt x="0" y="384"/>
                </a:moveTo>
                <a:lnTo>
                  <a:pt x="70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3981600" y="4572000"/>
            <a:ext cx="1126800" cy="1440"/>
          </a:xfrm>
          <a:custGeom>
            <a:avLst/>
            <a:gdLst/>
            <a:ahLst/>
            <a:rect l="l" t="t" r="r" b="b"/>
            <a:pathLst>
              <a:path w="710" h="1">
                <a:moveTo>
                  <a:pt x="0" y="0"/>
                </a:moveTo>
                <a:lnTo>
                  <a:pt x="70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3981600" y="4572000"/>
            <a:ext cx="1126800" cy="763560"/>
          </a:xfrm>
          <a:custGeom>
            <a:avLst/>
            <a:gdLst/>
            <a:ahLst/>
            <a:rect l="l" t="t" r="r" b="b"/>
            <a:pathLst>
              <a:path w="710" h="481">
                <a:moveTo>
                  <a:pt x="0" y="0"/>
                </a:moveTo>
                <a:lnTo>
                  <a:pt x="709" y="48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853320" y="3695760"/>
            <a:ext cx="1089000" cy="555480"/>
            <a:chOff x="6853320" y="3695760"/>
            <a:chExt cx="1089000" cy="555480"/>
          </a:xfrm>
        </p:grpSpPr>
        <p:pic>
          <p:nvPicPr>
            <p:cNvPr id="124" name="" descr=""/>
            <p:cNvPicPr/>
            <p:nvPr/>
          </p:nvPicPr>
          <p:blipFill>
            <a:blip r:embed="rId4"/>
            <a:stretch/>
          </p:blipFill>
          <p:spPr>
            <a:xfrm>
              <a:off x="6853320" y="3695760"/>
              <a:ext cx="108900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953400" y="3865680"/>
              <a:ext cx="8762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굴림"/>
                </a:rPr>
                <a:t>User DB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853320" y="4307040"/>
            <a:ext cx="1089000" cy="555480"/>
            <a:chOff x="6853320" y="4307040"/>
            <a:chExt cx="1089000" cy="555480"/>
          </a:xfrm>
        </p:grpSpPr>
        <p:pic>
          <p:nvPicPr>
            <p:cNvPr id="127" name="" descr=""/>
            <p:cNvPicPr/>
            <p:nvPr/>
          </p:nvPicPr>
          <p:blipFill>
            <a:blip r:embed="rId5"/>
            <a:stretch/>
          </p:blipFill>
          <p:spPr>
            <a:xfrm>
              <a:off x="6853320" y="4307040"/>
              <a:ext cx="108900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953400" y="4476600"/>
              <a:ext cx="8762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굴림"/>
                </a:rPr>
                <a:t>User DB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853320" y="5072040"/>
            <a:ext cx="1089000" cy="555480"/>
            <a:chOff x="6853320" y="5072040"/>
            <a:chExt cx="1089000" cy="555480"/>
          </a:xfrm>
        </p:grpSpPr>
        <p:pic>
          <p:nvPicPr>
            <p:cNvPr id="130" name="" descr=""/>
            <p:cNvPicPr/>
            <p:nvPr/>
          </p:nvPicPr>
          <p:blipFill>
            <a:blip r:embed="rId6"/>
            <a:stretch/>
          </p:blipFill>
          <p:spPr>
            <a:xfrm>
              <a:off x="6853320" y="5072040"/>
              <a:ext cx="108900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953400" y="5241960"/>
              <a:ext cx="8762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굴림"/>
                </a:rPr>
                <a:t>User DB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299280" y="4572000"/>
            <a:ext cx="560160" cy="7920"/>
          </a:xfrm>
          <a:custGeom>
            <a:avLst/>
            <a:gdLst/>
            <a:ahLst/>
            <a:rect l="l" t="t" r="r" b="b"/>
            <a:pathLst>
              <a:path w="353" h="5">
                <a:moveTo>
                  <a:pt x="0" y="0"/>
                </a:moveTo>
                <a:lnTo>
                  <a:pt x="352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6299280" y="5334120"/>
            <a:ext cx="560160" cy="11160"/>
          </a:xfrm>
          <a:custGeom>
            <a:avLst/>
            <a:gdLst/>
            <a:ahLst/>
            <a:rect l="l" t="t" r="r" b="b"/>
            <a:pathLst>
              <a:path w="353" h="7">
                <a:moveTo>
                  <a:pt x="0" y="0"/>
                </a:moveTo>
                <a:lnTo>
                  <a:pt x="352" y="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4800600"/>
            <a:ext cx="11160" cy="382680"/>
          </a:xfrm>
          <a:custGeom>
            <a:avLst/>
            <a:gdLst/>
            <a:ahLst/>
            <a:rect l="l" t="t" r="r" b="b"/>
            <a:pathLst>
              <a:path w="7" h="241">
                <a:moveTo>
                  <a:pt x="6" y="0"/>
                </a:moveTo>
                <a:lnTo>
                  <a:pt x="0" y="24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237920" y="4541760"/>
            <a:ext cx="868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Sign 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1080" y="1406520"/>
            <a:ext cx="8781840" cy="482112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808080"/>
            </a:solidFill>
            <a:miter/>
          </a:ln>
          <a:effectLst>
            <a:outerShdw dist="117181" dir="243836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6375240"/>
            <a:ext cx="878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702480" y="6389640"/>
            <a:ext cx="2346120" cy="488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979640" y="326880"/>
            <a:ext cx="5113440" cy="8636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SO</a:t>
            </a:r>
            <a:r>
              <a:rPr b="0" lang="en-US" sz="3600" spc="-1" strike="noStrike">
                <a:solidFill>
                  <a:srgbClr val="000000"/>
                </a:solidFill>
                <a:latin typeface="굵은돋움체"/>
                <a:ea typeface="굵은돋움체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굵은돋움체"/>
                <a:ea typeface="굵은돋움체"/>
              </a:rPr>
              <a:t>구현모델 </a:t>
            </a:r>
            <a:r>
              <a:rPr b="0" lang="en-US" sz="3600" spc="-1" strike="noStrike">
                <a:solidFill>
                  <a:srgbClr val="000000"/>
                </a:solidFill>
                <a:latin typeface="굵은돋움체"/>
                <a:ea typeface="굵은돋움체"/>
              </a:rPr>
              <a:t>- ②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1714680" y="2004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17181" dir="243836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425160" y="1413000"/>
            <a:ext cx="3311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토큰 전달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en-US" sz="2100" spc="-1" strike="noStrike">
                <a:solidFill>
                  <a:srgbClr val="000000"/>
                </a:solidFill>
                <a:latin typeface="굴림"/>
              </a:rPr>
              <a:t>propagation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방식 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981080"/>
            <a:ext cx="8610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통합 인증을 수행하는 곳에서 인증을 받아 해당 시스템에 전달할 토큰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(Token)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을 발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해당 시스템에 사용자가 접근할 때 토큰을 자동으로 전달해 사용자를 확인하는 방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웹 환경에서는 쿠키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(Cookie)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라는 기술을 이용해 토큰을 자동으로 해당 시스템에 전달할 수 있다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이러한 웹 환경의 이점으로 웹 환경에서의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SO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는 대부분 이 모델을 채택하고 있다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1270080" y="4719600"/>
            <a:ext cx="677880" cy="62064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3633840" y="4262400"/>
            <a:ext cx="1189080" cy="45396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Targ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ervice 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3633840" y="4797360"/>
            <a:ext cx="1189080" cy="45396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Targ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ervice 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3633840" y="5557680"/>
            <a:ext cx="1189080" cy="45432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Targ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ervice 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1949400" y="5024520"/>
            <a:ext cx="1684440" cy="7920"/>
          </a:xfrm>
          <a:custGeom>
            <a:avLst/>
            <a:gdLst/>
            <a:ahLst/>
            <a:rect l="l" t="t" r="r" b="b"/>
            <a:pathLst>
              <a:path w="1061" h="5">
                <a:moveTo>
                  <a:pt x="0" y="4"/>
                </a:moveTo>
                <a:lnTo>
                  <a:pt x="106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4489560"/>
            <a:ext cx="434880" cy="1296720"/>
          </a:xfrm>
          <a:custGeom>
            <a:avLst/>
            <a:gdLst/>
            <a:ahLst/>
            <a:rect l="l" t="t" r="r" b="b"/>
            <a:pathLst>
              <a:path w="274" h="817">
                <a:moveTo>
                  <a:pt x="272" y="0"/>
                </a:moveTo>
                <a:lnTo>
                  <a:pt x="0" y="0"/>
                </a:lnTo>
                <a:lnTo>
                  <a:pt x="0" y="816"/>
                </a:lnTo>
                <a:lnTo>
                  <a:pt x="273" y="8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3467160" y="3500280"/>
            <a:ext cx="1539720" cy="454320"/>
          </a:xfrm>
          <a:prstGeom prst="rect">
            <a:avLst/>
          </a:prstGeom>
          <a:solidFill>
            <a:srgbClr val="cc99ff"/>
          </a:solidFill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인증 서비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635800" y="3321000"/>
            <a:ext cx="1809720" cy="804960"/>
            <a:chOff x="5635800" y="3321000"/>
            <a:chExt cx="1809720" cy="80496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5635800" y="3321000"/>
              <a:ext cx="18097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735880" y="3556080"/>
              <a:ext cx="15969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굴림"/>
                </a:rPr>
                <a:t>User </a:t>
              </a:r>
              <a:r>
                <a:rPr b="1" lang="zh-CN" sz="1200" spc="-1" strike="noStrike">
                  <a:solidFill>
                    <a:srgbClr val="000000"/>
                  </a:solidFill>
                  <a:latin typeface="굴림"/>
                </a:rPr>
                <a:t>인증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굴림"/>
                </a:rPr>
                <a:t>데이터 베이스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008680" y="3718080"/>
            <a:ext cx="633240" cy="10800"/>
          </a:xfrm>
          <a:custGeom>
            <a:avLst/>
            <a:gdLst/>
            <a:ahLst/>
            <a:rect l="l" t="t" r="r" b="b"/>
            <a:pathLst>
              <a:path w="399" h="7">
                <a:moveTo>
                  <a:pt x="0" y="6"/>
                </a:moveTo>
                <a:lnTo>
                  <a:pt x="39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78120" y="3649320"/>
            <a:ext cx="137160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030040" y="3727440"/>
            <a:ext cx="1359000" cy="90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4834080" y="4108320"/>
            <a:ext cx="1711080" cy="382680"/>
          </a:xfrm>
          <a:custGeom>
            <a:avLst/>
            <a:gdLst/>
            <a:ahLst/>
            <a:rect l="l" t="t" r="r" b="b"/>
            <a:pathLst>
              <a:path w="1078" h="241">
                <a:moveTo>
                  <a:pt x="0" y="240"/>
                </a:moveTo>
                <a:lnTo>
                  <a:pt x="1077" y="240"/>
                </a:lnTo>
                <a:lnTo>
                  <a:pt x="1077" y="0"/>
                </a:lnTo>
              </a:path>
            </a:pathLst>
          </a:custGeom>
          <a:noFill/>
          <a:ln cap="rnd" w="1260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4824360" y="4498920"/>
            <a:ext cx="1717560" cy="527040"/>
          </a:xfrm>
          <a:custGeom>
            <a:avLst/>
            <a:gdLst/>
            <a:ahLst/>
            <a:rect l="l" t="t" r="r" b="b"/>
            <a:pathLst>
              <a:path w="1082" h="332">
                <a:moveTo>
                  <a:pt x="0" y="331"/>
                </a:moveTo>
                <a:lnTo>
                  <a:pt x="1081" y="331"/>
                </a:lnTo>
                <a:lnTo>
                  <a:pt x="1081" y="0"/>
                </a:lnTo>
                <a:lnTo>
                  <a:pt x="1068" y="0"/>
                </a:lnTo>
              </a:path>
            </a:pathLst>
          </a:custGeom>
          <a:noFill/>
          <a:ln cap="rnd" w="1260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4824360" y="5027760"/>
            <a:ext cx="1716120" cy="758520"/>
          </a:xfrm>
          <a:custGeom>
            <a:avLst/>
            <a:gdLst/>
            <a:ahLst/>
            <a:rect l="l" t="t" r="r" b="b"/>
            <a:pathLst>
              <a:path w="1081" h="478">
                <a:moveTo>
                  <a:pt x="0" y="477"/>
                </a:moveTo>
                <a:lnTo>
                  <a:pt x="1080" y="477"/>
                </a:lnTo>
                <a:lnTo>
                  <a:pt x="1080" y="0"/>
                </a:lnTo>
                <a:lnTo>
                  <a:pt x="1050" y="0"/>
                </a:lnTo>
              </a:path>
            </a:pathLst>
          </a:custGeom>
          <a:noFill/>
          <a:ln cap="rnd" w="1260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 rot="19500000">
            <a:off x="2349720" y="4206960"/>
            <a:ext cx="900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인증 토큰 서비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 rot="19500000">
            <a:off x="1767240" y="3803400"/>
            <a:ext cx="126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target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서비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2178360" y="5022720"/>
            <a:ext cx="900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인증 토큰 서비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5716080" y="4641840"/>
            <a:ext cx="92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6565320" y="4641840"/>
            <a:ext cx="92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178680" y="42318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7026120" y="42750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81080" y="1406520"/>
            <a:ext cx="8781840" cy="482112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808080"/>
            </a:solidFill>
            <a:miter/>
          </a:ln>
          <a:effectLst>
            <a:outerShdw dist="117181" dir="243836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6375240"/>
            <a:ext cx="878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702480" y="6389640"/>
            <a:ext cx="2346120" cy="488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979640" y="326880"/>
            <a:ext cx="5113440" cy="8636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SO</a:t>
            </a:r>
            <a:r>
              <a:rPr b="0" lang="en-US" sz="3600" spc="-1" strike="noStrike">
                <a:solidFill>
                  <a:srgbClr val="000000"/>
                </a:solidFill>
                <a:latin typeface="굵은돋움체"/>
                <a:ea typeface="굵은돋움체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굵은돋움체"/>
                <a:ea typeface="굵은돋움체"/>
              </a:rPr>
              <a:t>구현모델 </a:t>
            </a:r>
            <a:r>
              <a:rPr b="0" lang="en-US" sz="3600" spc="-1" strike="noStrike">
                <a:solidFill>
                  <a:srgbClr val="000000"/>
                </a:solidFill>
                <a:latin typeface="굵은돋움체"/>
                <a:ea typeface="굵은돋움체"/>
              </a:rPr>
              <a:t>- ③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1714680" y="2004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17181" dir="243836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1714680" y="1757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17181" dir="243836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874080" y="1447920"/>
            <a:ext cx="27792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굴림"/>
              </a:rPr>
              <a:t>인증위임 </a:t>
            </a:r>
            <a:r>
              <a:rPr b="1" lang="en-US" sz="2100" spc="-1" strike="noStrike">
                <a:solidFill>
                  <a:srgbClr val="000000"/>
                </a:solidFill>
                <a:latin typeface="굴림"/>
              </a:rPr>
              <a:t>&amp; </a:t>
            </a:r>
            <a:r>
              <a:rPr b="1" lang="zh-CN" sz="2100" spc="-1" strike="noStrike">
                <a:solidFill>
                  <a:srgbClr val="000000"/>
                </a:solidFill>
                <a:latin typeface="굴림"/>
              </a:rPr>
              <a:t>토큰전달 통합 방식 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1981080"/>
            <a:ext cx="86104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웹 환경이라고 하더라도 토큰전달 방식이 모두 적용될 수는 없다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특히 웹 애플리케이션의 변경이 전혀 불가능하고 사용자 통합이 어려운 경우 인증위임 방식을 사용하게 된다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또한 대상 애플리케이션들이 많이 있고 애플리케이션의 특성들이 다양한 경우 각 애플리케이션에 인증위임 방식과 토큰전달 방식을 혼용해서 전체 시스템의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SO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을 구성한다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879560" y="4205160"/>
            <a:ext cx="677880" cy="62100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537000" y="3413160"/>
            <a:ext cx="1539720" cy="453960"/>
          </a:xfrm>
          <a:prstGeom prst="rect">
            <a:avLst/>
          </a:prstGeom>
          <a:solidFill>
            <a:srgbClr val="cc99ff"/>
          </a:solidFill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통합 인증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5911920" y="4276800"/>
            <a:ext cx="1189080" cy="45396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Service 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14840" y="5191200"/>
            <a:ext cx="1189080" cy="45396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Service 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599920" y="3629160"/>
            <a:ext cx="86364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600280" y="456408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600280" y="4997520"/>
            <a:ext cx="93672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5119560" y="3773520"/>
            <a:ext cx="1008360" cy="503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4255920" y="3916440"/>
            <a:ext cx="0" cy="1152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976640" y="4746240"/>
            <a:ext cx="1079640" cy="538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2814480" y="426420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15960" y="3429000"/>
            <a:ext cx="10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Token Ke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2688840" y="51958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431800" y="35560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6384240" y="4780080"/>
            <a:ext cx="10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Token Ke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4944600" y="5500800"/>
            <a:ext cx="10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Token Ke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81080" y="1413000"/>
            <a:ext cx="8781840" cy="482112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808080"/>
            </a:solidFill>
            <a:miter/>
          </a:ln>
          <a:effectLst>
            <a:outerShdw dist="117181" dir="243836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2349360"/>
            <a:ext cx="76309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합 관리로 인한 편리한 관리환경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안전한 인증과 권한부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Network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서도 통합 서비스 제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용자 편의 증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증정책의 수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변경에 유동적인 대처환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리환경의 개선으로 인한 업무의 감소효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6381720"/>
            <a:ext cx="878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702480" y="6386400"/>
            <a:ext cx="2346120" cy="48924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1863720" y="217440"/>
            <a:ext cx="5243400" cy="993960"/>
            <a:chOff x="1863720" y="217440"/>
            <a:chExt cx="5243400" cy="993960"/>
          </a:xfrm>
        </p:grpSpPr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1863720" y="217440"/>
              <a:ext cx="52434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071800" y="379440"/>
              <a:ext cx="4929120" cy="7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600" spc="-1" strike="noStrike">
                  <a:solidFill>
                    <a:srgbClr val="000000"/>
                  </a:solidFill>
                  <a:latin typeface="Impact"/>
                </a:rPr>
                <a:t>SSO</a:t>
              </a:r>
              <a:r>
                <a:rPr b="0" lang="ko-KR" sz="3600" spc="-1" strike="noStrike">
                  <a:solidFill>
                    <a:srgbClr val="000000"/>
                  </a:solidFill>
                  <a:latin typeface="굵은돋움체"/>
                  <a:ea typeface="굵은돋움체"/>
                </a:rPr>
                <a:t> </a:t>
              </a:r>
              <a:r>
                <a:rPr b="0" lang="ko-KR" sz="3600" spc="-1" strike="noStrike">
                  <a:solidFill>
                    <a:srgbClr val="000000"/>
                  </a:solidFill>
                  <a:latin typeface="굵은돋움체"/>
                  <a:ea typeface="굵은돋움체"/>
                </a:rPr>
                <a:t>구축 기대효과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4:34:47Z</dcterms:created>
  <dc:creator>한정표과장</dc:creator>
  <dc:description/>
  <dc:language>en-US</dc:language>
  <cp:lastModifiedBy>hanjum</cp:lastModifiedBy>
  <dcterms:modified xsi:type="dcterms:W3CDTF">2005-04-10T07:44:09Z</dcterms:modified>
  <cp:revision>30</cp:revision>
  <dc:subject/>
  <dc:title>슬라이드 1</dc:title>
</cp:coreProperties>
</file>