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320" y="3813480"/>
            <a:ext cx="89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6240" y="144936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320" y="381348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6240" y="381348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28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8160" y="1449360"/>
            <a:ext cx="28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9640" y="1449360"/>
            <a:ext cx="28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320" y="3813480"/>
            <a:ext cx="28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8160" y="3813480"/>
            <a:ext cx="28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9640" y="3813480"/>
            <a:ext cx="28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436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6240" y="1449360"/>
            <a:ext cx="436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960" y="274320"/>
            <a:ext cx="8899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6240" y="1449360"/>
            <a:ext cx="436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320" y="381348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436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240" y="144936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6240" y="381348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240" y="144936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320" y="3813480"/>
            <a:ext cx="89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612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22800"/>
            <a:ext cx="91440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313760" y="6485040"/>
            <a:ext cx="1554120" cy="155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44440" y="6407280"/>
            <a:ext cx="1181160" cy="3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*Mart Application </a:t>
            </a:r>
            <a:r>
              <a:rPr b="0" lang="ko-KR" sz="3600" spc="-1" strike="noStrike">
                <a:solidFill>
                  <a:srgbClr val="ffffff"/>
                </a:solidFill>
                <a:latin typeface="Arial"/>
              </a:rPr>
              <a:t>감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70408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c00"/>
                </a:solidFill>
                <a:latin typeface="Arial"/>
              </a:rPr>
              <a:t>절차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관리 화면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– Unicon AMS Designer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사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aw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-SQL Database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에 관리 화면의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정보 저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06520" y="2463840"/>
            <a:ext cx="8388000" cy="3530520"/>
            <a:chOff x="506520" y="2463840"/>
            <a:chExt cx="8388000" cy="353052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06520" y="2463840"/>
              <a:ext cx="141264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2252520" y="2463840"/>
              <a:ext cx="141300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4068720" y="2463840"/>
              <a:ext cx="141300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5905440" y="2463840"/>
              <a:ext cx="1408320" cy="11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6"/>
            <a:stretch/>
          </p:blipFill>
          <p:spPr>
            <a:xfrm>
              <a:off x="5905440" y="4856040"/>
              <a:ext cx="140832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7"/>
            <a:stretch/>
          </p:blipFill>
          <p:spPr>
            <a:xfrm>
              <a:off x="4086360" y="3627360"/>
              <a:ext cx="140796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8"/>
            <a:stretch/>
          </p:blipFill>
          <p:spPr>
            <a:xfrm>
              <a:off x="5905440" y="3627360"/>
              <a:ext cx="14083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919160" y="3093840"/>
              <a:ext cx="33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87840" y="3095640"/>
              <a:ext cx="33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33920" y="3097080"/>
              <a:ext cx="33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24560" y="4154400"/>
              <a:ext cx="33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14840" y="5400720"/>
              <a:ext cx="33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9"/>
            <a:stretch/>
          </p:blipFill>
          <p:spPr>
            <a:xfrm>
              <a:off x="506520" y="3632040"/>
              <a:ext cx="141912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0"/>
            <a:stretch/>
          </p:blipFill>
          <p:spPr>
            <a:xfrm>
              <a:off x="2268360" y="3632040"/>
              <a:ext cx="14194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920960" y="4140000"/>
              <a:ext cx="33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89280" y="4141800"/>
              <a:ext cx="33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11"/>
            <a:stretch/>
          </p:blipFill>
          <p:spPr>
            <a:xfrm>
              <a:off x="2279520" y="4857480"/>
              <a:ext cx="139572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2"/>
            <a:stretch/>
          </p:blipFill>
          <p:spPr>
            <a:xfrm>
              <a:off x="4086360" y="4865400"/>
              <a:ext cx="139536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3"/>
            <a:stretch/>
          </p:blipFill>
          <p:spPr>
            <a:xfrm>
              <a:off x="527040" y="4876560"/>
              <a:ext cx="139536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922400" y="5419440"/>
              <a:ext cx="33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91080" y="5421240"/>
              <a:ext cx="33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13760" y="2730240"/>
              <a:ext cx="645840" cy="3048120"/>
            </a:xfrm>
            <a:custGeom>
              <a:avLst/>
              <a:gdLst>
                <a:gd name="textAreaLeft" fmla="*/ 0 w 645840"/>
                <a:gd name="textAreaRight" fmla="*/ 233280 w 645840"/>
                <a:gd name="textAreaTop" fmla="*/ 79200 h 3048120"/>
                <a:gd name="textAreaBottom" fmla="*/ 296892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77600" y="3863880"/>
              <a:ext cx="916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Arial"/>
                  <a:ea typeface="소망M"/>
                </a:rPr>
                <a:t>관리화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Arial"/>
                  <a:ea typeface="소망M"/>
                </a:rPr>
                <a:t>완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소망M"/>
                </a:rPr>
                <a:t>(Map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15:00:00Z</dcterms:created>
  <dc:creator/>
  <dc:description/>
  <cp:keywords/>
  <dc:language>en-US</dc:language>
  <cp:lastModifiedBy/>
  <dcterms:modified xsi:type="dcterms:W3CDTF">2007-12-05T02:23:13Z</dcterms:modified>
  <cp:revision>5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gram">
    <vt:lpwstr>TechNet</vt:lpwstr>
  </property>
  <property fmtid="{D5CDD505-2E9C-101B-9397-08002B2CF9AE}" pid="3" name="Session ID">
    <vt:lpwstr>TNTx-xx</vt:lpwstr>
  </property>
  <property fmtid="{D5CDD505-2E9C-101B-9397-08002B2CF9AE}" pid="4" name="Status">
    <vt:lpwstr>Work in Progress</vt:lpwstr>
  </property>
  <property fmtid="{D5CDD505-2E9C-101B-9397-08002B2CF9AE}" pid="5" name="Support">
    <vt:lpwstr>devhelp@microsoft.com</vt:lpwstr>
  </property>
  <property fmtid="{D5CDD505-2E9C-101B-9397-08002B2CF9AE}" pid="6" name="Version">
    <vt:lpwstr>3.0</vt:lpwstr>
  </property>
  <property fmtid="{D5CDD505-2E9C-101B-9397-08002B2CF9AE}" pid="7" name="build">
    <vt:lpwstr>0</vt:lpwstr>
  </property>
</Properties>
</file>