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1E4-BB7A-41CE-975B-2F5B3DE8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8EA-6A0E-46C3-BB34-7D925FD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E16-2960-4D71-889E-424D93D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A89-8EB9-4697-AADB-BC4573A9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F5B-0326-4AD4-9378-C39EB0BC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5D49-265C-430A-AAB1-86BEC1C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63A-BEEA-4018-B943-F7BE545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75D3-ABEB-4195-957F-86C7985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36D0-8012-4F32-94C3-5EFEFF01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3F7E-AC9D-4967-BB80-A7A995D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67E-1469-4F9A-AF01-F76D50C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EB4-5A58-4B28-89AF-EDE8E8D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82E-6DBC-4C22-B822-BA6DB6F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195E-6C91-4EA8-A733-936E160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305-2C8F-4F8B-B5C4-E0B63EA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D18-7D3E-44CA-843D-E71815CF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773-390C-4B63-A8E9-AB63A79D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E33-5CF9-4936-B68C-593B20CA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4FB-35D5-40E0-985F-BA261FBE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4C3-4248-4CA9-8784-6AFBA18F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722-85E8-4693-B765-78FF3CCE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D61-9E85-4A8E-8130-3A2EDF4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057-C5CB-45F0-AF67-FF7296F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6B5-81C2-4362-84B5-A415154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94D-E820-4143-93C7-895590EC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138-ACB9-422A-94A9-654640196E3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Third Outline Level</a:t>
            </a:r>
            <a:endParaRPr b="1" lang="en-US" sz="2000" spc="-1" strike="noStrike">
              <a:solidFill>
                <a:srgbClr val="000066"/>
              </a:solidFill>
              <a:latin typeface="굴림"/>
            </a:endParaRPr>
          </a:p>
          <a:p>
            <a:pPr lvl="3" marL="1371600" algn="ctr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lnSpc>
                <a:spcPct val="8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굴림"/>
              </a:rPr>
              <a:t>22</a:t>
            </a:r>
            <a:r>
              <a:rPr b="0" lang="zh-CN" sz="4400" spc="-1" strike="noStrike">
                <a:solidFill>
                  <a:srgbClr val="3333cc"/>
                </a:solidFill>
                <a:latin typeface="굴림"/>
              </a:rPr>
              <a:t>장 카운터</a:t>
            </a:r>
            <a:r>
              <a:rPr b="0" lang="en-US" sz="4400" spc="-1" strike="noStrike">
                <a:solidFill>
                  <a:srgbClr val="3333cc"/>
                </a:solidFill>
                <a:latin typeface="굴림"/>
              </a:rPr>
              <a:t>/</a:t>
            </a:r>
            <a:r>
              <a:rPr b="0" lang="zh-CN" sz="4400" spc="-1" strike="noStrike">
                <a:solidFill>
                  <a:srgbClr val="3333cc"/>
                </a:solidFill>
                <a:latin typeface="굴림"/>
              </a:rPr>
              <a:t>메시지 보드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640" y="3885840"/>
            <a:ext cx="8137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웹 어플리케이션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카운터 만들기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Application </a:t>
            </a: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변수와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ession </a:t>
            </a: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변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사용자 인증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Windows </a:t>
            </a: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모드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, Forms </a:t>
            </a: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모드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XML/XML</a:t>
            </a:r>
            <a:r>
              <a:rPr b="1" lang="zh-CN" sz="2400" spc="-1" strike="noStrike">
                <a:solidFill>
                  <a:srgbClr val="ff0000"/>
                </a:solidFill>
                <a:latin typeface="굴림"/>
              </a:rPr>
              <a:t>을 이용한 메시지 보드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Server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객체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5134320" cy="237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531504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3560" y="270828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rver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server.aspx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931080" y="48020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브라우저로 본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636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636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Global.asax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파일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481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 파일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Global.asax.c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코드 파일로 연결되어 있으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다음과 같은 이벤트 핸들러가 정의되어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2421000"/>
          <a:ext cx="8642160" cy="3962160"/>
        </p:xfrm>
        <a:graphic>
          <a:graphicData uri="http://schemas.openxmlformats.org/drawingml/2006/table">
            <a:tbl>
              <a:tblPr/>
              <a:tblGrid>
                <a:gridCol w="3025800"/>
                <a:gridCol w="561636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이벤트 핸들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Application_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애플리케이션이 시작될 때 불려진다</a:t>
                      </a:r>
                      <a:r>
                        <a:rPr b="1" lang="ko-KR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Application_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애플리케이션이 종료될 때 불려진다</a:t>
                      </a:r>
                      <a:r>
                        <a:rPr b="1" lang="ko-KR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Session_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클라이언트가 연결되어 세션이 시작될 때 불려진다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Session_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클라이언트가 연결이 끊겨 세션이 종료될 때 불려진다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Application_Begin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클라이언트 요구가 들어올 때마다 불려진다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Application_End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클라이언트 요구가 끝날 때마다 불려진다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상태 정보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상태 정보는 애플리케이션 변수와 세션 변수에 나누어 저장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Application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변수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Cache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변수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모든 사용자를 대상으로 하기 때문에 각 사용자 별로 정보를 저장할 수는 없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Session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변수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하나의 클라이언트가 웹 페이지간에 데이터를 공유할 때 사용한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Application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변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78487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Applicat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의 경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동시에 두 개 이상의 클라이언트가 같은 변수에 접근할 수 없도록 락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lock)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걸어주고 사용이 끝나면 락을 풀어준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Application.Lock();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Application[“count”]=123;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Application.UnLock();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ach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는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Applicat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와 마찬가지로 애플리케이션이 실행되는 동안 쓸 수 있는 변수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내부적으로 락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lock)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처리해주기 때문에 락 없이 바로 쓸 수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ache[“name”]=“sky”;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Session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변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클라이언트가 서버와 연결된 동안 쓰이는 정보를 저장하는데 사용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클라이언트 연결이 끊어짐과 동시에 세션 변수도 없어진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Session[“starttime”]=DateTime.Now;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Session[“userid”]=userid;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Session[“email”]=email;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87280" y="2276640"/>
            <a:ext cx="51850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프로젝트 유형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ASP.NET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웹 응용 프로그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프로젝트 이름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①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사이트를 방문한 총 방문자 수를 구해보는 예제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214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②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솔루션 탐색기에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Global.asax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열어 보면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열린 페이지 중간쯤에 코드 윈도우를 열기 위한 링크가 보이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링크를 선택하면 코드 윈도우가 열린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7488360" cy="2986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02120" y="58770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lobal.asax.cs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64000" y="57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③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카운터를 파일로 저장하는데 필요한 네임스페이스를 추가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④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Globa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클래스에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OUNTER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퍼티를 추가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OUNTER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퍼티는 값을 가져올 때는 파일로부터 값을 읽어서 리턴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값을 넣을 때는 파일에 저장하도록 구현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276640"/>
            <a:ext cx="7561440" cy="9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using System.IO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using System.Tex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564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⑤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OUNTER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퍼티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ge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메서드를 구현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“counter.txt”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로부터 카운터 값을 읽어서 리턴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1773360"/>
            <a:ext cx="7489800" cy="33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ublic int COUNT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“counter.txt”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파일로부터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Counter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값을 읽어옵니다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“counter.txt”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파일로부터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Counter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값을 지정합니다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404820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8209080" cy="465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1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실제 파일 경로 구하기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, c:\inetpub\wwwroot\counter\counter.t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path = Server.MapPath(“counter.txt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 열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ileStream fs = new FileStream( path, FileMode.Open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                     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ileAccess.Read, FileShare.ReadWrit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현재 카운터를 구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sCount = reader.ReadLin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int count = int.Parse( sCount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4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 닫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eader.Clos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s. Clos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웹 애플리케이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303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윈도우 애플리케이션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실행파일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DL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파일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데이터 파일로 구성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애플리케이션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가상 디렉토리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virtual directory)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를 말함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888000" cy="367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3809880" cy="174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096320" y="5661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상 디렉토리 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43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587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5892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5788440" y="609912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브라우저로 본 웹 애플리케이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⑥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OUNTER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퍼티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se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메서드를 구현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입력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value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값을 “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ounter.txt”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 에 저장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66560" y="2492280"/>
            <a:ext cx="8282160" cy="403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1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실제 파일 경로 구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path = Server.MapPath(“counter.txt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 열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ileStream fs = new FileStream( path, FileMode.Open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                     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ileAccess.Write, FileShare.ReadWrit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eamWriter writer = new StreamWriter(fs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카운터를 저장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writer.Write( value.ToString()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4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 닫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writer.Clos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fs.Clos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78390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⑦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Application_start/Session_Star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애플리케이션이 시작되었을 때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에 저장된 카운터 값을 읽어온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세션이 시작될 때 마다 값을 증가시켜주면 애플리케이션을 사용한 총 방문자 수를 구할 수 있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4005360"/>
            <a:ext cx="7561080" cy="16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rotected void Application_Start(Object sender, EventArgs 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현재 카운터 값을 읽어옵니다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Application[“count”] = COUNTER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700280"/>
            <a:ext cx="7777080" cy="367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otected void Session_start(Object sender, 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카운터 값을 증가시킵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Application.Lock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Application.[“count”] = 1 + (int)Application[“count”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Application.UnLock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현재 카운터 값을 저장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OUNTER = (int)Application[“count”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세션이 연결된 시간은 세션 변수에 저장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ession[ “starttime” ] = DateTime.Now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5661000"/>
            <a:ext cx="77770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굴림"/>
              </a:rPr>
              <a:t>Application </a:t>
            </a:r>
            <a:r>
              <a:rPr b="1" lang="zh-CN" sz="1600" spc="-1" strike="noStrike">
                <a:solidFill>
                  <a:srgbClr val="660066"/>
                </a:solidFill>
                <a:latin typeface="굴림"/>
              </a:rPr>
              <a:t>변수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굴림"/>
              </a:rPr>
              <a:t>Application </a:t>
            </a:r>
            <a:r>
              <a:rPr b="1" lang="zh-CN" sz="1600" spc="-1" strike="noStrike">
                <a:solidFill>
                  <a:srgbClr val="333399"/>
                </a:solidFill>
                <a:latin typeface="굴림"/>
              </a:rPr>
              <a:t>변수는 하나의 클라이언트에서만 사용하는 것이 아니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굴림"/>
              </a:rPr>
              <a:t>러 클라이언트에서 공유하도록 하는 변수이다</a:t>
            </a:r>
            <a:r>
              <a:rPr b="1" lang="en-US" sz="1600" spc="-1" strike="noStrike">
                <a:solidFill>
                  <a:srgbClr val="333399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굴림"/>
              </a:rPr>
              <a:t>동시에 사용할 수 없도록 사용하기 전에 락</a:t>
            </a:r>
            <a:r>
              <a:rPr b="1" lang="en-US" sz="1600" spc="-1" strike="noStrike">
                <a:solidFill>
                  <a:srgbClr val="333399"/>
                </a:solidFill>
                <a:latin typeface="굴림"/>
              </a:rPr>
              <a:t>(Lock)</a:t>
            </a:r>
            <a:r>
              <a:rPr b="1" lang="zh-CN" sz="1600" spc="-1" strike="noStrike">
                <a:solidFill>
                  <a:srgbClr val="333399"/>
                </a:solidFill>
                <a:latin typeface="굴림"/>
              </a:rPr>
              <a:t>을 걸어주고 사용하도록 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7912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⑧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Application_BeginRequest/Application_EndReques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에 다음과 같이 구현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가 불려지는 지 알 수 있도록 메시지를 출력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708280"/>
            <a:ext cx="8137440" cy="28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otected void Application_BeginRequest(Object sender, 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esponse.Write(“Application_BeginRequest() &lt;br&gt;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otected void Application_EndRequest(Object sender, 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esponse.Write(“Application_EndRequest() &lt;br&gt;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⑨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Form1.aspx.c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파일을 열어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Page_Load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에 다음과 같이 구현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492280"/>
            <a:ext cx="8353440" cy="28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rivate void Page_Load(object sender, System.Eventargs 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Write( “&lt;hr&gt;”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Write( “WebForm1.aspx …”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Write( “&lt;br&gt;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총 방문자 수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: “ + Application[ “count” ]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Write( “&lt;br&gt;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세션 시작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: “ + Session[ “starttime” ] ) 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Write( “&lt;hr&gt;”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024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⑩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예제를 실행해보세요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가 실행되면서 총 방문자 수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현재 세션이 연결된 시간을 보여줄 것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counter.tx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파일에 어떤 숫자가 들어 있었는지 확인해보기 바란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5881680" cy="3245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19040" y="5084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총 방문자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94800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카운터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024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⑪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에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F5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키를 눌러서 페이지를 다시 읽어보면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세션이 연결된 후에는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Session_Start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가 불려지지 않는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BeginReques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EndReques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는 매번 불려진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5226120" cy="3446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30280" y="4797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페이지를 다시 읽었을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940360" y="501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(eXtensible Markup Lnguage)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란 태그를 사용자가 정의함으로서 확장이 가능한 문서 형식을 말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5318280" cy="3332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83280" y="3933720"/>
            <a:ext cx="12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XML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문서 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1636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626320" cy="27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①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사용자 리스트를 담고 있는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문서를 정의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노드와 어트리뷰트를 추가해보는 예제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2708280"/>
            <a:ext cx="727236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젝트 유형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Windows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응용 프로그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젝트 이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XMLT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0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②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문서를 다루기 위해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System.Xml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네임스페이스를 추가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XmlDocumen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객체를 멤버로 추가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4170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웹 애플리케이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2140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 페이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(*.aspx)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 코드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(*.aspx.cs)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환경 설정 파일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(Web.Config)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Global.asax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/bin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디렉토리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264360" cy="3065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③ 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다음과 같이 폼 윈도우를 구성하고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840720" cy="3840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708280"/>
            <a:ext cx="7777080" cy="388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ivate void btnLoad_Click(object sender, System.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1. XmlDocument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oc = new XmlDocument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user.xml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을 읽어옵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oc.Load(@”C:\project\db\user.xml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user.xml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이 없는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oc.LoadXml(“&lt;crednetials&gt;&lt;/crednetials&gt;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listBox1.Items.Add( “user.xml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파일을 읽었습니다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.”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1628640"/>
            <a:ext cx="727236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[XML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열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파일이 존재하면 파일을 읽어오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없으면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&lt;credentials&gt;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태그를 갖는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XM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를 정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⑤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저장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⑥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자식 노드 추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565360"/>
            <a:ext cx="7993080" cy="20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rivate void btnSave_Click(object sender, System.EventArgs 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user.xml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파일을 저장합니다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doc.Save(@”c:\project\db\user.xml”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listBox1.Items.Add( “ user.xml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파일을 저장했습니다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. “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773360"/>
            <a:ext cx="8713800" cy="453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ivate void btnAddChild_Click(object sender, System.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1. &lt;user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노드를 추가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root = doc.DocumentElemen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node = doc.CreateElement(“user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oot.AppendChild( nod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&lt;user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노드에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&lt;name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자식 노들르 추가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child = doc.CreateElement(txtName.Tex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.InnerText = txtValue.Tex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node.AppendChild( child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메시지 출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str = String.Format(“&lt;user&gt;&lt;{0}&gt;&lt;/user&gt;”,txtName.Text,txtValue.Text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listBox1.Items.Add( str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⑦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어트리뷰트 추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2205000"/>
            <a:ext cx="7848360" cy="446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private void btnAddAttr_Click(object sender, System.EventArgs 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1. &lt;user&gt;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노드를 추가합니다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XmlNode root = doc.DocumentElemen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XmlNode node = doc.CreateElement(“user”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2. &lt;user&gt;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노드에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name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어트리뷰트를 추가합니다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XmlAttribute attr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attr = doc.CreateAttribute( txtName.Text 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Attr.InnerText = txtValue.Tex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node.Attributes.Append( attr 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root.AppendChild( node 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메시지 출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string str = String.Format(“user {0}={1}/&gt;”,txtName.Text,txtValue.Tex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listBox1.Items.Add( str 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⑧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예제를 실행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먼저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읽어온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름과 값에 각각 다음과 같이 입력하고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자식 노드 추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과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어트리뷰트 추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을 누른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5689440" cy="333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XML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노드 다루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024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⑨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브라우저로 열어 보면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자식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(Child)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노드로 추가된 노드와 어트리뷰트를 가진 노드가 보인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6840720" cy="3711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① 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형식으로 메시지를 저장하는 간단한 메시지 보드를 만들어보는 예제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2565360"/>
            <a:ext cx="734400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프로젝트 유형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ASP.NET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웹 응용 프로그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프로젝트 이름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0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② 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파일을 추가하기 위해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[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프로젝트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]-[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새 항목 추가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메뉴를 선택하면 다음과 같이 “새 항목 추가” 대화상자가 나타나며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 “XML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파일” 항목을 선택하고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파일 이름을 입력해서 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파일을 만든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408720" cy="326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21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③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messages.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에 다음과 같이 데이터를 입력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솔루션 탐색기에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더블클릭하면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이 열린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488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웹 애플리케이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629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/bin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디렉토리는 애플리케이션 디렉토리 바로 아래에 위치하며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애플리케이션에서 사용하는 닷넷 어셈블리를 담고 있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5184720" cy="3263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79160" y="465300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웹 애플리케이션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bi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940360" y="494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024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④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솔루션 탐색기에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WebForm1.aspx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 이름을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list.aspx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로 바꾸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Lis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을 다음과 같이 구성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632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⑤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DataLis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컨트롤에 보여줄 데이터 템플릿을 정의하기 위해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[HTML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탭을 열어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DataLis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컨트롤이 정의된 태그 사이에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&lt;ItemTemplate&gt;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태그를 추가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다음과 같이 템플릿을 입력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3141720"/>
            <a:ext cx="8136000" cy="32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asp:datalist id=“DataList1” style=“Z-INDEX: 101; LEFT: 15px; POSITION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absolute; TOP: 31px” runat=“server” Width=“580px” Height=“300px”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ItemTemplate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able width=“98%” border=“2”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width=“10%” bgcolor=“PapayaWhip”&gt;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글쓴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width=“40%”&gt;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1628640"/>
            <a:ext cx="7993080" cy="475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%# DataBinder.Eval(Container.DataItem, “name”) %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%# DataBinder.Eval(Container.DataItem, “email”) %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width=“10%” bgcolor=“PapayaWhip”&gt;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날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width=“40%”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%# DataBinder.Eval(Container.DataItem, “date”) %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width=“10%” bgcolor=“PapayaWhip”&gt;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제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td colspan=“3”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%# DataBinder.Eval(Container.DataItem, “title”) %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ItemTemplate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&lt;/asp:datalist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⑥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list.aspx.cs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열어서 네임스페이스를 추가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⑦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list.aspx.cs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열어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Page_Load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하기 위해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읽어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DataLis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객체의 데이터 소스와 연결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276640"/>
            <a:ext cx="734544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using System.Xml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653000"/>
            <a:ext cx="7416720" cy="151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private void Page_Load(object sender, System.EventArgs 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1. XML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파일 경로 구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xname = “messages.xml”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string fname = Server.MapPath( xnam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1700280"/>
            <a:ext cx="7920000" cy="453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XML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문서 열기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읽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DataDocument doc = XmlDataDocument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oc.DataSet.ReadXml( fnam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데이터 소스 연결 및 데이터 바인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ataList1.DataSource = doc.DataSet.Tables[0].DefaultView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ataList1.DataBind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doc = null;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Label1.Text = “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보여줄 데이터가 없습니다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.”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간단한 메시지보드 만들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21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⑧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예제를 실행하면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XML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파일에 들어있는 메시지를 보여줄 것이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6327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①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Board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젝트를 열어서 계속 작업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②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글 쓰기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Redirec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메서드는 다른페이지로 이동 시킬 때 사용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Redirect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메서드를 불러서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Wirte.aspx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페이지로 이동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3645000"/>
            <a:ext cx="7705800" cy="172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rivate void btnWrite_Click(object sender, System.Eventargs 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[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글 쓰기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페이지로 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Response.Redirect( “write.aspx”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024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③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프로젝트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-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 추가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메뉴를 선택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을 추가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폼 추가 대화상자에서 “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Write.aspx”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라고 입력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다음과 같이 테이블에서 서버 컨트롤을 추가해서 웹 폼을 구성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840720" cy="338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422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④ 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[HTML]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탭을 열어보면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웹 폼에서 구성한 테이블과 서버 컨트롤이 추가된 것을 볼 수 있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예제 코드를 참조해서 멋진 웹 폼을 구성한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632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⑤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Write.aspx.cs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영러서 네임스페이스를 추가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⑥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저장하기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Clic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이벤트 핸들러를 구현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 XML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파일을 열어서 새로운 노드를 생성하고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추가한다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2276640"/>
            <a:ext cx="741672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using System.Xml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4292640"/>
            <a:ext cx="7848720" cy="22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private void btnSave_Click(object sender, System.EventArgs 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// 1. XML </a:t>
            </a:r>
            <a:r>
              <a:rPr b="1" lang="ko-KR" sz="2000" spc="-1" strike="noStrike">
                <a:solidFill>
                  <a:srgbClr val="339933"/>
                </a:solidFill>
                <a:latin typeface="굴림"/>
              </a:rPr>
              <a:t>파일 열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string xname = “messages.xml”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string fname = Server.MapPath( xname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XmlDocument doc = new XmlDocument(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333399"/>
                </a:solidFill>
                <a:latin typeface="굴림"/>
              </a:rPr>
              <a:t>doc.Load( fname 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요구와 응답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0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Request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객체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클라이언트가 보내준 데이터를 가져올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Response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객체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클라이언트로 데이터를 전송할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5524560" cy="3066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476840" y="51577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요구와 응답객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20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700280"/>
            <a:ext cx="7993080" cy="46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2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새로운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&lt;message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노드를 추가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root = doc.DocumentElemen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node = doc.CreateElement(“message”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root.AppendChild( node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새로 추가한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&lt;message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노드에 자식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(child)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노드를 추가합니다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XmlNode child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 = doc.CreateElement(“name”);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1 &lt;name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.InnerText = txtName.Tex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node.AppendChild(child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 = doc.CreateElement(“email”);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2 &lt;email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.InnerText = txtEmail.Tex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node.AppendChild(child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 = doc.CreateElement(“date”);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// 3.3 &lt;date&gt; </a:t>
            </a:r>
            <a:r>
              <a:rPr b="1" lang="ko-KR" sz="1800" spc="-1" strike="noStrike">
                <a:solidFill>
                  <a:srgbClr val="339933"/>
                </a:solidFill>
                <a:latin typeface="굴림"/>
              </a:rPr>
              <a:t>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child.InnerText = DateTime.Now.ToString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333399"/>
                </a:solidFill>
                <a:latin typeface="굴림"/>
              </a:rPr>
              <a:t>node.AppendChild(child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62456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844640"/>
            <a:ext cx="7920000" cy="453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hild = doc.CreateElement(“title”);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3.4 &lt;title&gt;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추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hild.InnerText = txtTitle.Tex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node.AppendChild(child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4.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내용에 들어 있는 줄 바꿈 문자를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&lt;br&gt;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로 바꾸어줍니다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string sbody = txtBody.Tex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sbody = sbody.Replace(“\n”,”&lt;br&gt;”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hild = doc.CreateElement(“body”);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3.5 &lt;body&gt;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추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hild.InnerText = sbody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node.AppendChild(child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5. XML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파일에 저장합니다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doc.Save( fname 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doc = null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// 6. </a:t>
            </a:r>
            <a:r>
              <a:rPr b="1" lang="ko-KR" sz="1600" spc="-1" strike="noStrike">
                <a:solidFill>
                  <a:srgbClr val="339933"/>
                </a:solidFill>
                <a:latin typeface="굴림"/>
              </a:rPr>
              <a:t>리스트 페이지로 이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Response.Redirect(“list.aspx”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글 쓰기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⑦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예제를 실행하고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[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글 쓰기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버튼을 눌러서 메시지를 입력한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 [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저장하기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버튼을 누르면 메시지 보드에 추가된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3995640" cy="3630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4249440" cy="364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172320" y="6381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글 쓰기 페이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7606080" y="63817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메시지 보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484360" y="63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093080" y="63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659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마무리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애플리케이션이란 하나의 가상 디렉토리를 말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애플리케이션을 구축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Global.asax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파일을 이용하는 방법을 알아보았습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카운터 예제를 통해서 각 이벤트를 쓰는 예를 알아보았습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웹 폼 페이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*.aspx)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웹 폼 코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*.aspx.cs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환경 설정 파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Web.Config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lobal.asax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Applicat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ach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Sess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를 쓰는 방법을 알아보았씁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Sess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는 하나의 클라이언트 내에서 사용하는 변수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Applicat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ach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변수는 여러 클라이언트에서 공유할 수 있는 변수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마무리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Server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객체는 서버에서 사용할 수 있는 유틸리티 기능을 제공합니다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. Server.MapPath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메서드는 자주 쓰이는 메서드이므로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알아두는 것이 좋겠죠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1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XML(eXtensible Markup Language)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은 사용자가 태그를 정의해서 사용하는 확장이 가능한 문서 형식입니다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. XML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기술은 닷넷에서 없어서는 안될 핵심 요서 기술로 거의 모든 분야에서 사용되고 있습니다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간단한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XML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메시지 보드를 만들어보면서 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XML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에 대해서 알아보았습니다</a:t>
            </a:r>
            <a:r>
              <a:rPr b="1" lang="ko-KR" sz="21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1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요구와 응답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Request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객체를 이용하면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클라이언트 정보가 기타 주변 정보를 구할 수 있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5410080" cy="195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5311800" cy="194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28920" y="350028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eques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request.aspx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4328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53672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브라우저로 본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27440" y="5578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요구와 응답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Response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객체는 클라이언트로 데이터를 전송할 때 쓰인다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482472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4903920" cy="217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300720" y="350028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espons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response.aspx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67359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브라우저로 본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795640" y="38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867280" y="5516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세션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2422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와 서버가 연결되어 통신하는 것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세션의 시작은 클라이언트가 처음으로 페이지를 요구 했을 때 연결되지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끊어지는 시점은 불분명하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Sessi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객체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Abando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불러 임의로 세션을 종료할 수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5346720" cy="2803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15960" y="53006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플리케이션과 세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15600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Server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객체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629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서버에서 필요한 유틸리티 기능을 모아놓은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HttpServerUtility 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클래스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2637000"/>
          <a:ext cx="8496000" cy="3673440"/>
        </p:xfrm>
        <a:graphic>
          <a:graphicData uri="http://schemas.openxmlformats.org/drawingml/2006/table">
            <a:tbl>
              <a:tblPr/>
              <a:tblGrid>
                <a:gridCol w="2952720"/>
                <a:gridCol w="554328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멤 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Machin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서버 이름을 알려주는 프로퍼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HtmlEncode/HtmlDe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주어진 문자열을 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HTML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로 인코딩 또는 디코딩한다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UrlEncode/UrlDe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주어진 문자열을 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URL 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인코딩 또는 디코딩할 때 사용한다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Map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주어진 가상 디렉토리를 서버의 실제 물리적 디렉토리 경로로 변환해준다</a:t>
                      </a:r>
                      <a:r>
                        <a:rPr b="1" lang="ko-KR" sz="1800" spc="-1" strike="noStrike">
                          <a:solidFill>
                            <a:srgbClr val="660066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1:37:26Z</dcterms:created>
  <dc:creator>박대영</dc:creator>
  <dc:description/>
  <dc:language>en-US</dc:language>
  <cp:lastModifiedBy>임정목</cp:lastModifiedBy>
  <dcterms:modified xsi:type="dcterms:W3CDTF">2002-11-12T09:50:55Z</dcterms:modified>
  <cp:revision>25</cp:revision>
  <dc:subject/>
  <dc:title>22장 카운터/메시지 보드</dc:title>
</cp:coreProperties>
</file>