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923-97F5-427B-83CB-7DFE82C6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303-D191-4A88-9250-26AE4EF1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195-6F42-42B2-9CCE-4D461A20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BAE-F2AB-402D-9EF3-B5C167BD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AB0D-DC95-48E4-93C9-D727D73B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22D7-2B3A-4112-9328-6976C619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C864-1376-4D51-A368-51BC0643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B445-D3AE-49B4-ABCA-653AEF42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8318-1CE1-42A6-BFF7-5F56E7E2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7A1D-6206-407A-8E46-4374B06E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D652-913D-46C2-A3CE-A2452926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093-2C5C-45EC-9EAC-A753B3C6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8338-5C3E-4269-A49B-A4B923BE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847D-17E3-421D-9413-548CE5F4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1FD5-E8AA-4BB5-BDA8-7E15577A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F89D-C995-4E79-8F53-DC874040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AEE0-5C9F-4AEC-BDF9-EF12F29F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663-B507-4113-87C4-78C46DB9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564-BD4C-4EC5-90F0-ABCB760C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C48-FB3C-4E71-BCB2-9F3D2C9A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D40-B935-4954-8D60-15BD897B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44D-D681-45FF-B346-8629A249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04B-D7B0-4E0A-B151-F0C1C533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AEE-42FC-4F78-A68C-5A05D466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AutoShape 4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" name="AutoShape 5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" name="AutoShape 6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" name="AutoShape 7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" name="AutoShape 10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" name="AutoShape 11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" name="AutoShape 12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AutoShape 13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" name="AutoShape 14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" name="AutoShape 15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AutoShape 16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AutoShape 17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" name="AutoShape 18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" name="AutoShape 19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" name="AutoShape 20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" name="AutoShape 21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" name="AutoShape 22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" name="AutoShape 23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" name="AutoShape 24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" name="AutoShape 25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AutoShape 27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" name="AutoShape 28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" name="AutoShape 29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" name="AutoShape 30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" name="AutoShape 31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" name="AutoShape 32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" name="AutoShape 33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" name="AutoShape 34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" name="AutoShape 35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" name="AutoShape 36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" name="AutoShape 37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" name="AutoShape 38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" name="AutoShape 39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" name="AutoShape 40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" name="AutoShape 41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" name="AutoShape 42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" name="AutoShape 43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" name="AutoShape 44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" name="AutoShape 45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" name="AutoShape 46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" name="AutoShape 47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" name="AutoShape 48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7" name="Group 49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Line 50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" name="Group 51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AutoShape 52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2840" y="538200"/>
                <a:ext cx="301680" cy="250920"/>
              </a:xfrm>
              <a:prstGeom prst="pie">
                <a:avLst/>
              </a:pr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942840" y="785880"/>
                <a:ext cx="304920" cy="250920"/>
              </a:xfrm>
              <a:prstGeom prst="pie">
                <a:avLst/>
              </a:pr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AutoShape 55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717480" y="538200"/>
                <a:ext cx="304920" cy="25092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714240" y="785880"/>
                <a:ext cx="308160" cy="2538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647640" y="623880"/>
                <a:ext cx="136440" cy="1620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647640" y="785880"/>
                <a:ext cx="136440" cy="16200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8" name="Group 60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AutoShape 61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8205840" y="538200"/>
                <a:ext cx="301680" cy="250920"/>
              </a:xfrm>
              <a:prstGeom prst="pie">
                <a:avLst/>
              </a:pr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205840" y="785880"/>
                <a:ext cx="304920" cy="250920"/>
              </a:xfrm>
              <a:prstGeom prst="pie">
                <a:avLst/>
              </a:pr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AutoShape 64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7980480" y="538200"/>
                <a:ext cx="304920" cy="25092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977240" y="785880"/>
                <a:ext cx="308160" cy="2538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7910640" y="623880"/>
                <a:ext cx="136440" cy="1620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7910640" y="785880"/>
                <a:ext cx="136440" cy="16200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2F3A-3C53-44B5-ABE9-6691FCE71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Group 3"/>
            <p:cNvGrpSpPr/>
            <p:nvPr/>
          </p:nvGrpSpPr>
          <p:grpSpPr>
            <a:xfrm>
              <a:off x="0" y="6505560"/>
              <a:ext cx="4566240" cy="304200"/>
              <a:chOff x="0" y="6505560"/>
              <a:chExt cx="4566240" cy="304200"/>
            </a:xfrm>
          </p:grpSpPr>
          <p:sp>
            <p:nvSpPr>
              <p:cNvPr id="110" name="AutoShape 4"/>
              <p:cNvSpPr/>
              <p:nvPr/>
            </p:nvSpPr>
            <p:spPr>
              <a:xfrm>
                <a:off x="4262040" y="6513120"/>
                <a:ext cx="30420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AutoShape 5"/>
              <p:cNvSpPr/>
              <p:nvPr/>
            </p:nvSpPr>
            <p:spPr>
              <a:xfrm>
                <a:off x="4262040" y="6516720"/>
                <a:ext cx="30420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AutoShape 6"/>
              <p:cNvSpPr/>
              <p:nvPr/>
            </p:nvSpPr>
            <p:spPr>
              <a:xfrm>
                <a:off x="3957480" y="6513120"/>
                <a:ext cx="30420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AutoShape 7"/>
              <p:cNvSpPr/>
              <p:nvPr/>
            </p:nvSpPr>
            <p:spPr>
              <a:xfrm>
                <a:off x="3652920" y="6513120"/>
                <a:ext cx="30420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AutoShape 8"/>
              <p:cNvSpPr/>
              <p:nvPr/>
            </p:nvSpPr>
            <p:spPr>
              <a:xfrm>
                <a:off x="3652920" y="6516720"/>
                <a:ext cx="30420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AutoShape 9"/>
              <p:cNvSpPr/>
              <p:nvPr/>
            </p:nvSpPr>
            <p:spPr>
              <a:xfrm>
                <a:off x="3348720" y="6513120"/>
                <a:ext cx="30420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AutoShape 10"/>
              <p:cNvSpPr/>
              <p:nvPr/>
            </p:nvSpPr>
            <p:spPr>
              <a:xfrm>
                <a:off x="3044160" y="6509160"/>
                <a:ext cx="30420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AutoShape 11"/>
              <p:cNvSpPr/>
              <p:nvPr/>
            </p:nvSpPr>
            <p:spPr>
              <a:xfrm>
                <a:off x="3044160" y="6513120"/>
                <a:ext cx="30420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AutoShape 12"/>
              <p:cNvSpPr/>
              <p:nvPr/>
            </p:nvSpPr>
            <p:spPr>
              <a:xfrm>
                <a:off x="2739600" y="6509160"/>
                <a:ext cx="30420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AutoShape 13"/>
              <p:cNvSpPr/>
              <p:nvPr/>
            </p:nvSpPr>
            <p:spPr>
              <a:xfrm>
                <a:off x="2435400" y="6509160"/>
                <a:ext cx="30420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AutoShape 14"/>
              <p:cNvSpPr/>
              <p:nvPr/>
            </p:nvSpPr>
            <p:spPr>
              <a:xfrm>
                <a:off x="2435400" y="6513120"/>
                <a:ext cx="30420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AutoShape 15"/>
              <p:cNvSpPr/>
              <p:nvPr/>
            </p:nvSpPr>
            <p:spPr>
              <a:xfrm>
                <a:off x="2130840" y="6509160"/>
                <a:ext cx="30420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AutoShape 16"/>
              <p:cNvSpPr/>
              <p:nvPr/>
            </p:nvSpPr>
            <p:spPr>
              <a:xfrm>
                <a:off x="1522080" y="6509160"/>
                <a:ext cx="30420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AutoShape 17"/>
              <p:cNvSpPr/>
              <p:nvPr/>
            </p:nvSpPr>
            <p:spPr>
              <a:xfrm>
                <a:off x="1522080" y="6513120"/>
                <a:ext cx="30420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AutoShape 18"/>
              <p:cNvSpPr/>
              <p:nvPr/>
            </p:nvSpPr>
            <p:spPr>
              <a:xfrm>
                <a:off x="1217520" y="6509160"/>
                <a:ext cx="30420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AutoShape 19"/>
              <p:cNvSpPr/>
              <p:nvPr/>
            </p:nvSpPr>
            <p:spPr>
              <a:xfrm>
                <a:off x="912960" y="6505560"/>
                <a:ext cx="30420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AutoShape 20"/>
              <p:cNvSpPr/>
              <p:nvPr/>
            </p:nvSpPr>
            <p:spPr>
              <a:xfrm>
                <a:off x="912960" y="6509160"/>
                <a:ext cx="30420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AutoShape 21"/>
              <p:cNvSpPr/>
              <p:nvPr/>
            </p:nvSpPr>
            <p:spPr>
              <a:xfrm>
                <a:off x="608760" y="6505560"/>
                <a:ext cx="30420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AutoShape 22"/>
              <p:cNvSpPr/>
              <p:nvPr/>
            </p:nvSpPr>
            <p:spPr>
              <a:xfrm>
                <a:off x="304200" y="6505560"/>
                <a:ext cx="30420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AutoShape 23"/>
              <p:cNvSpPr/>
              <p:nvPr/>
            </p:nvSpPr>
            <p:spPr>
              <a:xfrm>
                <a:off x="304200" y="6509160"/>
                <a:ext cx="30420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AutoShape 24"/>
              <p:cNvSpPr/>
              <p:nvPr/>
            </p:nvSpPr>
            <p:spPr>
              <a:xfrm>
                <a:off x="0" y="6505560"/>
                <a:ext cx="30420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AutoShape 25"/>
              <p:cNvSpPr/>
              <p:nvPr/>
            </p:nvSpPr>
            <p:spPr>
              <a:xfrm>
                <a:off x="1826280" y="6513120"/>
                <a:ext cx="30420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2" name="Group 26"/>
            <p:cNvGrpSpPr/>
            <p:nvPr/>
          </p:nvGrpSpPr>
          <p:grpSpPr>
            <a:xfrm>
              <a:off x="4577400" y="6505560"/>
              <a:ext cx="4566240" cy="304200"/>
              <a:chOff x="4577400" y="6505560"/>
              <a:chExt cx="4566240" cy="304200"/>
            </a:xfrm>
          </p:grpSpPr>
          <p:sp>
            <p:nvSpPr>
              <p:cNvPr id="133" name="AutoShape 27"/>
              <p:cNvSpPr/>
              <p:nvPr/>
            </p:nvSpPr>
            <p:spPr>
              <a:xfrm>
                <a:off x="8839440" y="6513120"/>
                <a:ext cx="30420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AutoShape 28"/>
              <p:cNvSpPr/>
              <p:nvPr/>
            </p:nvSpPr>
            <p:spPr>
              <a:xfrm>
                <a:off x="8839440" y="6516720"/>
                <a:ext cx="30420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AutoShape 29"/>
              <p:cNvSpPr/>
              <p:nvPr/>
            </p:nvSpPr>
            <p:spPr>
              <a:xfrm>
                <a:off x="8534880" y="6513120"/>
                <a:ext cx="30420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AutoShape 30"/>
              <p:cNvSpPr/>
              <p:nvPr/>
            </p:nvSpPr>
            <p:spPr>
              <a:xfrm>
                <a:off x="8230320" y="6513120"/>
                <a:ext cx="30420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AutoShape 31"/>
              <p:cNvSpPr/>
              <p:nvPr/>
            </p:nvSpPr>
            <p:spPr>
              <a:xfrm>
                <a:off x="8230320" y="6516720"/>
                <a:ext cx="30420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AutoShape 32"/>
              <p:cNvSpPr/>
              <p:nvPr/>
            </p:nvSpPr>
            <p:spPr>
              <a:xfrm>
                <a:off x="7926120" y="6513120"/>
                <a:ext cx="30420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AutoShape 33"/>
              <p:cNvSpPr/>
              <p:nvPr/>
            </p:nvSpPr>
            <p:spPr>
              <a:xfrm>
                <a:off x="7621560" y="6509160"/>
                <a:ext cx="30420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AutoShape 34"/>
              <p:cNvSpPr/>
              <p:nvPr/>
            </p:nvSpPr>
            <p:spPr>
              <a:xfrm>
                <a:off x="7621560" y="6513120"/>
                <a:ext cx="30420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AutoShape 35"/>
              <p:cNvSpPr/>
              <p:nvPr/>
            </p:nvSpPr>
            <p:spPr>
              <a:xfrm>
                <a:off x="7317000" y="6509160"/>
                <a:ext cx="30420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AutoShape 36"/>
              <p:cNvSpPr/>
              <p:nvPr/>
            </p:nvSpPr>
            <p:spPr>
              <a:xfrm>
                <a:off x="7012800" y="6509160"/>
                <a:ext cx="30420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AutoShape 37"/>
              <p:cNvSpPr/>
              <p:nvPr/>
            </p:nvSpPr>
            <p:spPr>
              <a:xfrm>
                <a:off x="7012800" y="6513120"/>
                <a:ext cx="30420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AutoShape 38"/>
              <p:cNvSpPr/>
              <p:nvPr/>
            </p:nvSpPr>
            <p:spPr>
              <a:xfrm>
                <a:off x="6708240" y="6509160"/>
                <a:ext cx="30420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AutoShape 39"/>
              <p:cNvSpPr/>
              <p:nvPr/>
            </p:nvSpPr>
            <p:spPr>
              <a:xfrm>
                <a:off x="6099480" y="6509160"/>
                <a:ext cx="30420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AutoShape 40"/>
              <p:cNvSpPr/>
              <p:nvPr/>
            </p:nvSpPr>
            <p:spPr>
              <a:xfrm>
                <a:off x="6099480" y="6513120"/>
                <a:ext cx="30420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AutoShape 41"/>
              <p:cNvSpPr/>
              <p:nvPr/>
            </p:nvSpPr>
            <p:spPr>
              <a:xfrm>
                <a:off x="5794920" y="6509160"/>
                <a:ext cx="30420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AutoShape 42"/>
              <p:cNvSpPr/>
              <p:nvPr/>
            </p:nvSpPr>
            <p:spPr>
              <a:xfrm>
                <a:off x="5490360" y="6505560"/>
                <a:ext cx="30420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AutoShape 43"/>
              <p:cNvSpPr/>
              <p:nvPr/>
            </p:nvSpPr>
            <p:spPr>
              <a:xfrm>
                <a:off x="5490360" y="6509160"/>
                <a:ext cx="30420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AutoShape 44"/>
              <p:cNvSpPr/>
              <p:nvPr/>
            </p:nvSpPr>
            <p:spPr>
              <a:xfrm>
                <a:off x="5186160" y="6505560"/>
                <a:ext cx="30420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AutoShape 45"/>
              <p:cNvSpPr/>
              <p:nvPr/>
            </p:nvSpPr>
            <p:spPr>
              <a:xfrm>
                <a:off x="4881600" y="6505560"/>
                <a:ext cx="30420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AutoShape 46"/>
              <p:cNvSpPr/>
              <p:nvPr/>
            </p:nvSpPr>
            <p:spPr>
              <a:xfrm>
                <a:off x="4881600" y="6509160"/>
                <a:ext cx="30420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AutoShape 47"/>
              <p:cNvSpPr/>
              <p:nvPr/>
            </p:nvSpPr>
            <p:spPr>
              <a:xfrm>
                <a:off x="4577400" y="6505560"/>
                <a:ext cx="30420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AutoShape 48"/>
              <p:cNvSpPr/>
              <p:nvPr/>
            </p:nvSpPr>
            <p:spPr>
              <a:xfrm>
                <a:off x="6403680" y="6513120"/>
                <a:ext cx="30420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55" name="Group 49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Line 50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Line 51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8" name="Group 52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AutoShape 53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Freeform 54"/>
              <p:cNvSpPr/>
              <p:nvPr/>
            </p:nvSpPr>
            <p:spPr>
              <a:xfrm>
                <a:off x="1030320" y="2401920"/>
                <a:ext cx="384120" cy="341280"/>
              </a:xfrm>
              <a:prstGeom prst="pie">
                <a:avLst/>
              </a:pr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Freeform 55"/>
              <p:cNvSpPr/>
              <p:nvPr/>
            </p:nvSpPr>
            <p:spPr>
              <a:xfrm>
                <a:off x="1030320" y="2738520"/>
                <a:ext cx="384120" cy="334800"/>
              </a:xfrm>
              <a:prstGeom prst="pie">
                <a:avLst/>
              </a:pr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AutoShape 56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Freeform 57"/>
              <p:cNvSpPr/>
              <p:nvPr/>
            </p:nvSpPr>
            <p:spPr>
              <a:xfrm>
                <a:off x="746280" y="2408400"/>
                <a:ext cx="384120" cy="33480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Freeform 58"/>
              <p:cNvSpPr/>
              <p:nvPr/>
            </p:nvSpPr>
            <p:spPr>
              <a:xfrm>
                <a:off x="741240" y="2738520"/>
                <a:ext cx="389160" cy="3348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Freeform 59"/>
              <p:cNvSpPr/>
              <p:nvPr/>
            </p:nvSpPr>
            <p:spPr>
              <a:xfrm>
                <a:off x="657360" y="2522520"/>
                <a:ext cx="172800" cy="2160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Freeform 60"/>
              <p:cNvSpPr/>
              <p:nvPr/>
            </p:nvSpPr>
            <p:spPr>
              <a:xfrm>
                <a:off x="657360" y="2738520"/>
                <a:ext cx="172800" cy="21744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7" name="Group 61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AutoShape 62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Freeform 63"/>
              <p:cNvSpPr/>
              <p:nvPr/>
            </p:nvSpPr>
            <p:spPr>
              <a:xfrm>
                <a:off x="8169120" y="2409840"/>
                <a:ext cx="365400" cy="333360"/>
              </a:xfrm>
              <a:prstGeom prst="pie">
                <a:avLst/>
              </a:pr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Freeform 64"/>
              <p:cNvSpPr/>
              <p:nvPr/>
            </p:nvSpPr>
            <p:spPr>
              <a:xfrm>
                <a:off x="8169120" y="2738520"/>
                <a:ext cx="365400" cy="334800"/>
              </a:xfrm>
              <a:prstGeom prst="pie">
                <a:avLst/>
              </a:pr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AutoShape 65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Freeform 66"/>
              <p:cNvSpPr/>
              <p:nvPr/>
            </p:nvSpPr>
            <p:spPr>
              <a:xfrm>
                <a:off x="7899480" y="2408400"/>
                <a:ext cx="365040" cy="33480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Freeform 67"/>
              <p:cNvSpPr/>
              <p:nvPr/>
            </p:nvSpPr>
            <p:spPr>
              <a:xfrm>
                <a:off x="7896240" y="2738520"/>
                <a:ext cx="368280" cy="3348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Freeform 68"/>
              <p:cNvSpPr/>
              <p:nvPr/>
            </p:nvSpPr>
            <p:spPr>
              <a:xfrm>
                <a:off x="7816680" y="2522520"/>
                <a:ext cx="163800" cy="2160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Freeform 69"/>
              <p:cNvSpPr/>
              <p:nvPr/>
            </p:nvSpPr>
            <p:spPr>
              <a:xfrm>
                <a:off x="7816680" y="2738520"/>
                <a:ext cx="163800" cy="21744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76" name="Text Box 75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5B07-30EB-4C4F-9498-ED1FD3816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6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ko-KR" sz="4000" spc="-1" strike="noStrike">
                <a:solidFill>
                  <a:srgbClr val="0000cc"/>
                </a:solidFill>
                <a:latin typeface="굴림"/>
              </a:rPr>
              <a:t>파일 </a:t>
            </a:r>
            <a:r>
              <a:rPr b="1" lang="en-US" sz="4000" spc="-1" strike="noStrike">
                <a:solidFill>
                  <a:srgbClr val="0000cc"/>
                </a:solidFill>
                <a:latin typeface="굴림"/>
              </a:rPr>
              <a:t>/ </a:t>
            </a:r>
            <a:r>
              <a:rPr b="1" lang="ko-KR" sz="4000" spc="-1" strike="noStrike">
                <a:solidFill>
                  <a:srgbClr val="0000cc"/>
                </a:solidFill>
                <a:latin typeface="굴림"/>
              </a:rPr>
              <a:t>디렉토리 다루기</a:t>
            </a:r>
            <a:endParaRPr b="1" lang="en-US" sz="4000" spc="-1" strike="noStrike">
              <a:solidFill>
                <a:srgbClr val="cc66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71280" y="1412640"/>
            <a:ext cx="6707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1.DirectoryInfo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클래스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2.FileInfo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클래스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파일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디렉토리에서 공통 사용하는 속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파일 및 디렉토리 조작 예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5. FileFind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파일검색프로그램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만들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목    차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1.DirectoryInfo 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클래스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.Directory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클래스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ystem.IO.Directory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클래스 메쏘드를 이용해서 디렉토리에 대한 삭제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복사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동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목록 추출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존재 유무 등의 정보를 추출할 수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DirectoryInfo[ ] DirectoryInfo.GetDirectories(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해당 디렉토리 내의 디렉토리 정보 목록 추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void Create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DirectoryInfo CreateSubdirectory(string path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해당 디렉토리 내의 디렉토리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void MoveTo(string destDirName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해당 디렉토리을 이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2.FileInfo </a:t>
            </a: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클래스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684360" y="1341360"/>
            <a:ext cx="7920000" cy="52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2. File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클래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ystem.IO.File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클래스 메쏘드를 이용해서 파일에 대한 삭제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복사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이동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파일 존재 유무 등의 정보를 추출할 수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ublic FileInfo[ ] DirectoryInfo.GetFiles(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해당 디렉토리 내의 최 상단 파일 정보 추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ublic FileInfo FileInfo.CopyTo(string path, bool overwrite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해당 파일을 복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ublic void FileInfo.Delete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해당 파일을 삭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ublic void FileInfo.MoveTo(string destpath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해당 파일을 이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3. 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파일</a:t>
            </a: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,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디렉토리의 속성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91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FileAttributes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Attributes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 s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속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DateTime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CreationTime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 s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생성일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string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Extension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확장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string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FullName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 전체경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long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Length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크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string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이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나머지는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SDN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참고 하세요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4. </a:t>
            </a: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파일 및 디렉토리 조작 예제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6551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1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디렉토리 정보 보기 예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2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파일 정보 보기 예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3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디렉토리내의 폴더 와 파일 정보 보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4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파일 조작 예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5.FileFind(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파일검색프로그램</a:t>
            </a: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)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만들기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31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irectoryInfo dinfo = new DirectoryInfo(DirectoryPath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Directory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객체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DirectoryPath 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경로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ileInfo finfo = new FileInfo(FileName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File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객체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FileName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해당 디렉토리의 파일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irectory.GetDirectorys(DirectoryPath); 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목록 가져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irectory.GetFiles(DirectroyPath,SearchPattern); 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목록 가져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ileInfo.Exists 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의 존재유무 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irectoryInfo.Exists 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존재유무 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5.FileFind(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파일검색프로그램</a:t>
            </a: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)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만들기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232" name="Picture 5" descr="제목 없음"/>
          <p:cNvPicPr/>
          <p:nvPr/>
        </p:nvPicPr>
        <p:blipFill>
          <a:blip r:embed="rId1"/>
          <a:stretch/>
        </p:blipFill>
        <p:spPr>
          <a:xfrm>
            <a:off x="755640" y="1197000"/>
            <a:ext cx="5181480" cy="30956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7"/>
          <p:cNvSpPr/>
          <p:nvPr/>
        </p:nvSpPr>
        <p:spPr>
          <a:xfrm>
            <a:off x="755640" y="4292640"/>
            <a:ext cx="741672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Button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btn_Path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Button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btn_Search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ListView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lst_View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TextBox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txt_Filename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Label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lbl_Dir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TextBox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txt_Dir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156360" y="1700280"/>
            <a:ext cx="23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6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폼 디자인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9:25:25Z</dcterms:created>
  <dc:creator>leedh</dc:creator>
  <dc:description/>
  <dc:language>en-US</dc:language>
  <cp:lastModifiedBy>kkt</cp:lastModifiedBy>
  <dcterms:modified xsi:type="dcterms:W3CDTF">2008-04-10T23:51:37Z</dcterms:modified>
  <cp:revision>7</cp:revision>
  <dc:subject/>
  <dc:title>아아아</dc:title>
</cp:coreProperties>
</file>