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663A-4E00-43B6-96B6-1C0097FF78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B784-F3F3-4E02-A757-87582B73D6B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N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Assembly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공유해 놓고 다른 애플리케이션에서도 사용해야 한다면 애초에 만들고 컴파일 할 때 특정키를 삽입시 사용하는 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I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리고 나서 공유할 수 있는 위치에 저장을 할 수 있게 하는 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6B9-93FB-4B7F-A063-E4BA75F075B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echEd2001 .NET Framewor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03084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116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3680" y="106056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6480" y="106056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0308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3680" y="30308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6480" y="30308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0605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05560" cy="259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0605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7116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03084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03084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7116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43680" y="106056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6480" y="106056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0308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43680" y="30308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6480" y="30308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05560" cy="259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1160" y="30308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06056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03084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0605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2055" descr="E:\Doc Collection\dotNET\_Etc\sonny_character.gif"/>
          <p:cNvPicPr/>
          <p:nvPr/>
        </p:nvPicPr>
        <p:blipFill>
          <a:blip r:embed="rId3"/>
          <a:stretch/>
        </p:blipFill>
        <p:spPr>
          <a:xfrm>
            <a:off x="0" y="0"/>
            <a:ext cx="49680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0880" y="10605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Jupiter.AILAB\바탕 화면\netforms_1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52480" y="6019920"/>
            <a:ext cx="5486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:\&gt; csc  /target:library   namespace1.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47920" y="1143000"/>
            <a:ext cx="6933960" cy="396252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체"/>
              </a:rPr>
              <a:t>/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namespace1.c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namespace 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굴림체"/>
              </a:rPr>
              <a:t>AILab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public class Hello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public string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return("Hello, World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342800" y="55278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1143000" y="1219320"/>
            <a:ext cx="7467480" cy="342900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체"/>
              </a:rPr>
              <a:t>//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namespace2.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class HelloA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public static void Mai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굴림"/>
              </a:rPr>
              <a:t>AILab.NE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.HelloMessage msg;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msg = new 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굴림"/>
              </a:rPr>
              <a:t>AILab.NE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.HelloMessage();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 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굴림체"/>
              </a:rPr>
              <a:t>System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.Console.WriteLine(msg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29"/>
          <p:cNvSpPr/>
          <p:nvPr/>
        </p:nvSpPr>
        <p:spPr>
          <a:xfrm>
            <a:off x="1523880" y="5715000"/>
            <a:ext cx="5867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:\&gt; csc  /r:namespace1.dll   namespace2.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:\&gt; namespace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30"/>
          <p:cNvSpPr/>
          <p:nvPr/>
        </p:nvSpPr>
        <p:spPr>
          <a:xfrm>
            <a:off x="1114200" y="52261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ssembly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002960"/>
            <a:ext cx="876312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LL Hell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과 배포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설치문제를 해결하기 위한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S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기계어 코드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mbly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언어와는 다르다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독립된 형태로 수행될 수 있는 코드의 집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공유된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mbly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는 동시에 다른 버전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mbly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존재 가능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 Framework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벽돌 역할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mbly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로 배포한 다음 논리적으로 이름을 인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, Package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와는 다른 개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ild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번호가 변할 때 까지는 서로 호환 유지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26"/>
          <p:cNvGrpSpPr/>
          <p:nvPr/>
        </p:nvGrpSpPr>
        <p:grpSpPr>
          <a:xfrm>
            <a:off x="1611360" y="5607000"/>
            <a:ext cx="5246640" cy="794520"/>
            <a:chOff x="1611360" y="5607000"/>
            <a:chExt cx="5246640" cy="794520"/>
          </a:xfrm>
        </p:grpSpPr>
        <p:sp>
          <p:nvSpPr>
            <p:cNvPr id="130" name="Rectangle 20"/>
            <p:cNvSpPr/>
            <p:nvPr/>
          </p:nvSpPr>
          <p:spPr>
            <a:xfrm>
              <a:off x="1611360" y="5607000"/>
              <a:ext cx="12956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Maj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2928960" y="5607000"/>
              <a:ext cx="12956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Min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4246560" y="5607000"/>
              <a:ext cx="1295640" cy="380880"/>
            </a:xfrm>
            <a:prstGeom prst="rect">
              <a:avLst/>
            </a:prstGeom>
            <a:solidFill>
              <a:srgbClr val="fee99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Bui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562720" y="5607000"/>
              <a:ext cx="1295280" cy="380880"/>
            </a:xfrm>
            <a:prstGeom prst="rect">
              <a:avLst/>
            </a:prstGeom>
            <a:solidFill>
              <a:srgbClr val="fee99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Revi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24"/>
            <p:cNvSpPr/>
            <p:nvPr/>
          </p:nvSpPr>
          <p:spPr>
            <a:xfrm>
              <a:off x="2617200" y="606420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"/>
                </a:rPr>
                <a:t>호환 안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5195160" y="606420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"/>
                </a:rPr>
                <a:t>호환 가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ssembly Component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002960"/>
            <a:ext cx="8763120" cy="41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infe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mbly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자체에 대한 데이터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mbly Metadat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LDASM.exe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로 확인 가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버전 정보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mbly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구성 요소들의 목록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사용권한 등등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기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y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가 가지고 있던 정보를 자체적으로 내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L Co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mbly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범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참조하는 모든 것들에 대한 정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ssembly  Type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03320"/>
            <a:ext cx="89154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Public Assemb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현재의 공유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LL/EX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특정키 삽입하기 위한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N.exe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과 공유 위치에 저장키 위한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l.exe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가 이용됨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:\WINNT\Assembly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에서 확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NET Security/Versioning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관리 기능 사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Private Assemb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특정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cation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에서만 사용되는 단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ssembly(EXE/DL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ault folder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.cfg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NET Security / Version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관리 기능 없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제작과 사용에 별다른 제한이 없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601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굴림"/>
              </a:rPr>
              <a:t>고로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Application</a:t>
            </a: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굴림"/>
              </a:rPr>
              <a:t>과 충돌 날 가능성이 없음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TP / COPY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배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38080" y="5486400"/>
            <a:ext cx="8151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0&gt;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csc /t:library MyLib.cs /a.keyfile:MyKey.snk /a.version:1.0.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295280" y="838080"/>
            <a:ext cx="7315200" cy="327672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// MyLib.cs  Version 1.0.0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//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값을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개 입력 받아서 더하는 라이브러리</a:t>
            </a:r>
            <a:br>
              <a:rPr sz="1600"/>
            </a:br>
            <a:r>
              <a:rPr b="1" lang="ko-KR" sz="1000" spc="-1" strike="noStrike">
                <a:solidFill>
                  <a:srgbClr val="000000"/>
                </a:solidFill>
                <a:latin typeface="Verdana"/>
                <a:ea typeface="굴림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namespace AspDotNetKo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public class MyLib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public static string Add (int a, int 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return (a+b).ToString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20640" y="50292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38080" y="4572000"/>
            <a:ext cx="5486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:\assembly\1.0.0.0&gt;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굴림"/>
              </a:rPr>
              <a:t>sn -k MyKey.snk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52480" y="419112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Verdana"/>
                <a:ea typeface="굴림"/>
              </a:rPr>
              <a:t>공유키 값 생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838080" y="62485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l /install:MyLib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62760" y="5867280"/>
            <a:ext cx="14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Assembly </a:t>
            </a:r>
            <a:r>
              <a:rPr b="1" lang="ko-KR" sz="1600" spc="-1" strike="noStrike">
                <a:solidFill>
                  <a:srgbClr val="ffffff"/>
                </a:solidFill>
                <a:latin typeface="Verdana"/>
                <a:ea typeface="굴림"/>
              </a:rPr>
              <a:t>등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046040" y="6216480"/>
            <a:ext cx="30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:\WINNT\Assembly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에서 확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3429000" y="6248520"/>
            <a:ext cx="304920" cy="304560"/>
          </a:xfrm>
          <a:prstGeom prst="leftArrow">
            <a:avLst>
              <a:gd name="adj1" fmla="val 50000"/>
              <a:gd name="adj2" fmla="val 25030"/>
            </a:avLst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87164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sharedassemblyinshell"/>
          <p:cNvPicPr/>
          <p:nvPr/>
        </p:nvPicPr>
        <p:blipFill>
          <a:blip r:embed="rId1"/>
          <a:stretch/>
        </p:blipFill>
        <p:spPr>
          <a:xfrm>
            <a:off x="1600200" y="1450800"/>
            <a:ext cx="6858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38080" y="5181480"/>
            <a:ext cx="8151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0&gt;C:\assembly\1.0.0.0&gt;csc /t:exe /r:MyLib.dll Caller1.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43000" y="838080"/>
            <a:ext cx="7772400" cy="388620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// Caller1.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// MyLib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버전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1.0.0.0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호출하는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Caller1.exe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파일 만들기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using AspDotNetKore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namespace ShellAspDotNe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public class MyClas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static void Main(string [] args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int a = Int32.Parse(args[0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int b = Int32.Parse(args[1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onsole.WriteLine(“1.0.0.0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버전을 참조했습니다”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onsole.WriteLine(MyLibClass.Add(a,b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20640" y="47242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838080" y="5943600"/>
            <a:ext cx="5486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0&gt;Caller1.exe 3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1.0.0.0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버전을 참조했습니다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705960" y="5562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Verdana"/>
                <a:ea typeface="굴림"/>
              </a:rPr>
              <a:t>실행 결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60" name="Rectangle 1027"/>
          <p:cNvSpPr/>
          <p:nvPr/>
        </p:nvSpPr>
        <p:spPr>
          <a:xfrm>
            <a:off x="838080" y="5486400"/>
            <a:ext cx="8151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1&gt;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csc /t:library MyLib.cs /a.keyfile:MyKey.snk /a.version:1.0.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28"/>
          <p:cNvSpPr/>
          <p:nvPr/>
        </p:nvSpPr>
        <p:spPr>
          <a:xfrm>
            <a:off x="1295280" y="838080"/>
            <a:ext cx="7315200" cy="327672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// MyLib.cs  Version 1.0.0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//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앞의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MyLib.dll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을 업그레이드</a:t>
            </a:r>
            <a:br>
              <a:rPr sz="1600"/>
            </a:br>
            <a:r>
              <a:rPr b="1" lang="ko-KR" sz="1000" spc="-1" strike="noStrike">
                <a:solidFill>
                  <a:srgbClr val="000000"/>
                </a:solidFill>
                <a:latin typeface="Verdana"/>
                <a:ea typeface="굴림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namespace AspDotNetKo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public class MyLib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public static string Add (int a, int 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return (a+b+100).ToString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9"/>
          <p:cNvSpPr/>
          <p:nvPr/>
        </p:nvSpPr>
        <p:spPr>
          <a:xfrm>
            <a:off x="620640" y="50292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31"/>
          <p:cNvSpPr/>
          <p:nvPr/>
        </p:nvSpPr>
        <p:spPr>
          <a:xfrm>
            <a:off x="914400" y="4311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키 값은 공급자가 같기 때문에 위의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1.0.0.0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버전을 만들 때 사용했던 키를 복사해서 사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032"/>
          <p:cNvSpPr/>
          <p:nvPr/>
        </p:nvSpPr>
        <p:spPr>
          <a:xfrm>
            <a:off x="838080" y="62485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l /install:MyLib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33"/>
          <p:cNvSpPr/>
          <p:nvPr/>
        </p:nvSpPr>
        <p:spPr>
          <a:xfrm>
            <a:off x="703080" y="58672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Assembly </a:t>
            </a:r>
            <a:r>
              <a:rPr b="1" lang="ko-KR" sz="1600" spc="-1" strike="noStrike">
                <a:solidFill>
                  <a:srgbClr val="ffffff"/>
                </a:solidFill>
                <a:latin typeface="Verdana"/>
                <a:ea typeface="굴림"/>
              </a:rPr>
              <a:t>재등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034"/>
          <p:cNvSpPr/>
          <p:nvPr/>
        </p:nvSpPr>
        <p:spPr>
          <a:xfrm>
            <a:off x="4046040" y="6216480"/>
            <a:ext cx="30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:\WINNT\Assembly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에서 확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035"/>
          <p:cNvSpPr/>
          <p:nvPr/>
        </p:nvSpPr>
        <p:spPr>
          <a:xfrm>
            <a:off x="3429000" y="6248520"/>
            <a:ext cx="304920" cy="304560"/>
          </a:xfrm>
          <a:prstGeom prst="leftArrow">
            <a:avLst>
              <a:gd name="adj1" fmla="val 50000"/>
              <a:gd name="adj2" fmla="val 25030"/>
            </a:avLst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164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sharedassemblyinshellsidebyside"/>
          <p:cNvPicPr/>
          <p:nvPr/>
        </p:nvPicPr>
        <p:blipFill>
          <a:blip r:embed="rId1"/>
          <a:stretch/>
        </p:blipFill>
        <p:spPr>
          <a:xfrm>
            <a:off x="1676520" y="1523880"/>
            <a:ext cx="6815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112400"/>
            <a:ext cx="601956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cf50"/>
                </a:solidFill>
                <a:latin typeface="Verdana"/>
                <a:ea typeface="굴림"/>
              </a:rPr>
              <a:t>.NET </a:t>
            </a:r>
            <a:br>
              <a:rPr sz="6000"/>
            </a:br>
            <a:r>
              <a:rPr b="1" lang="en-US" sz="2000" spc="-1" strike="noStrike">
                <a:solidFill>
                  <a:srgbClr val="fccf50"/>
                </a:solidFill>
                <a:latin typeface="Verdana"/>
                <a:ea typeface="굴림"/>
              </a:rPr>
              <a:t>    </a:t>
            </a:r>
            <a:br>
              <a:rPr sz="2000"/>
            </a:br>
            <a:r>
              <a:rPr b="1" lang="en-US" sz="6000" spc="-1" strike="noStrike">
                <a:solidFill>
                  <a:srgbClr val="fccf50"/>
                </a:solidFill>
                <a:latin typeface="Verdana"/>
                <a:ea typeface="굴림"/>
              </a:rPr>
              <a:t>Tour Guide</a:t>
            </a:r>
            <a:endParaRPr b="1" lang="en-US" sz="60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52700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</a:rPr>
              <a:t>우리가 꿈꾸는 세상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the .NET, by the .NET, for the 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72" name="Rectangle 1027"/>
          <p:cNvSpPr/>
          <p:nvPr/>
        </p:nvSpPr>
        <p:spPr>
          <a:xfrm>
            <a:off x="838080" y="5029200"/>
            <a:ext cx="8151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0&gt;C:\assembly\1.0.0.1&gt;csc /t:exe /r:MyLib.dll Caller2.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1143000" y="838080"/>
            <a:ext cx="7772400" cy="358164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// Caller2.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// MyLib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버전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1.0.0.1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호출하는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Caller2.exe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파일 만들기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using AspDotNetKore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namespace ShellAspDotNe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public class MyClas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static void Main(string [] args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int a = Int32.Parse(args[0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int b = Int32.Parse(args[1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onsole.WriteLine(“1.0.0.1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버전을 참조했습니다”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onsole.WriteLine(MyLibClass.Add(a,b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029"/>
          <p:cNvSpPr/>
          <p:nvPr/>
        </p:nvSpPr>
        <p:spPr>
          <a:xfrm>
            <a:off x="620640" y="45720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030"/>
          <p:cNvSpPr/>
          <p:nvPr/>
        </p:nvSpPr>
        <p:spPr>
          <a:xfrm>
            <a:off x="838080" y="5791320"/>
            <a:ext cx="5486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1&gt;Caller2.exe 3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1.0.0.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버전을 참조했습니다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10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031"/>
          <p:cNvSpPr/>
          <p:nvPr/>
        </p:nvSpPr>
        <p:spPr>
          <a:xfrm>
            <a:off x="705960" y="5410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Verdana"/>
                <a:ea typeface="굴림"/>
              </a:rPr>
              <a:t>실행 결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ployment  Problem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03320"/>
            <a:ext cx="8763120" cy="21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Application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충돌의 원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Application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유지 보수가 어려움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Software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개발 시 하위 버전과의 호환성 문제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DLL Hell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Registry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관리의 어려움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1043"/>
          <p:cNvGrpSpPr/>
          <p:nvPr/>
        </p:nvGrpSpPr>
        <p:grpSpPr>
          <a:xfrm>
            <a:off x="2590920" y="3573360"/>
            <a:ext cx="4647600" cy="2827440"/>
            <a:chOff x="2590920" y="3573360"/>
            <a:chExt cx="4647600" cy="2827440"/>
          </a:xfrm>
        </p:grpSpPr>
        <p:pic>
          <p:nvPicPr>
            <p:cNvPr id="180" name="Picture 1028" descr="C:\Documents and Settings\sonny\Application Data\Microsoft\Media Catalog\Downloaded Clips\cl61\j0244983.wmf"/>
            <p:cNvPicPr/>
            <p:nvPr/>
          </p:nvPicPr>
          <p:blipFill>
            <a:blip r:embed="rId1"/>
            <a:stretch/>
          </p:blipFill>
          <p:spPr>
            <a:xfrm>
              <a:off x="6333840" y="3573360"/>
              <a:ext cx="90468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029" descr="C:\Documents and Settings\sonny\Application Data\Microsoft\Media Catalog\Downloaded Clips\cl62\j0245325.wmf"/>
            <p:cNvPicPr/>
            <p:nvPr/>
          </p:nvPicPr>
          <p:blipFill>
            <a:blip r:embed="rId2"/>
            <a:stretch/>
          </p:blipFill>
          <p:spPr>
            <a:xfrm>
              <a:off x="2590920" y="3649680"/>
              <a:ext cx="89820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30" descr="C:\Documents and Settings\sonny\Application Data\Microsoft\Media Catalog\Downloaded Clips\cl28\j0100600.wmf"/>
            <p:cNvPicPr/>
            <p:nvPr/>
          </p:nvPicPr>
          <p:blipFill>
            <a:blip r:embed="rId3"/>
            <a:stretch/>
          </p:blipFill>
          <p:spPr>
            <a:xfrm>
              <a:off x="3962160" y="5173560"/>
              <a:ext cx="157284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Line 1034"/>
            <p:cNvSpPr/>
            <p:nvPr/>
          </p:nvSpPr>
          <p:spPr>
            <a:xfrm>
              <a:off x="3047760" y="4411440"/>
              <a:ext cx="1218960" cy="106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35"/>
            <p:cNvSpPr/>
            <p:nvPr/>
          </p:nvSpPr>
          <p:spPr>
            <a:xfrm flipV="1">
              <a:off x="5181480" y="4335120"/>
              <a:ext cx="1294920" cy="106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36"/>
            <p:cNvSpPr/>
            <p:nvPr/>
          </p:nvSpPr>
          <p:spPr>
            <a:xfrm flipH="1" flipV="1">
              <a:off x="3276360" y="4259160"/>
              <a:ext cx="1142640" cy="99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37"/>
            <p:cNvSpPr/>
            <p:nvPr/>
          </p:nvSpPr>
          <p:spPr>
            <a:xfrm flipV="1">
              <a:off x="5029200" y="4182840"/>
              <a:ext cx="1294920" cy="106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038"/>
            <p:cNvSpPr/>
            <p:nvPr/>
          </p:nvSpPr>
          <p:spPr>
            <a:xfrm>
              <a:off x="2590920" y="486864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Version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p !!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39"/>
            <p:cNvSpPr/>
            <p:nvPr/>
          </p:nvSpPr>
          <p:spPr>
            <a:xfrm>
              <a:off x="3809880" y="437976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LL </a:t>
              </a:r>
              <a:r>
                <a:rPr b="1" lang="ko-KR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공유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041"/>
            <p:cNvSpPr/>
            <p:nvPr/>
          </p:nvSpPr>
          <p:spPr>
            <a:xfrm>
              <a:off x="6105240" y="4868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LL He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042"/>
            <p:cNvSpPr/>
            <p:nvPr/>
          </p:nvSpPr>
          <p:spPr>
            <a:xfrm>
              <a:off x="4952880" y="418284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LL </a:t>
              </a:r>
              <a:r>
                <a:rPr b="1" lang="ko-KR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공유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ployment &amp; Versioning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003320"/>
            <a:ext cx="8763120" cy="42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No registration requir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cation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내에 자신의 정보를 담고 있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Just ‘ XCOPY 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Zero-impact instal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stalling one application will not affect ano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Side-by-side execu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ultiple component versions can co-ex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mbly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은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loyment, Versioning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문제 해결을 위한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7164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" descr="sharedassemblyinshelldelete"/>
          <p:cNvPicPr/>
          <p:nvPr/>
        </p:nvPicPr>
        <p:blipFill>
          <a:blip r:embed="rId1"/>
          <a:stretch/>
        </p:blipFill>
        <p:spPr>
          <a:xfrm>
            <a:off x="2895480" y="914400"/>
            <a:ext cx="5867640" cy="37306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600200" y="5791320"/>
            <a:ext cx="5486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:\assembly\1.0.0.1&gt;Caller1.exe 3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1.0.0.0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버전을 참조했습니다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10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467720" y="5410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Verdana"/>
                <a:ea typeface="굴림"/>
              </a:rPr>
              <a:t>실행 결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295280" y="4876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ccf5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fccf5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ccf50"/>
                </a:solidFill>
                <a:latin typeface="Arial"/>
              </a:rPr>
              <a:t>1.0.0.0</a:t>
            </a:r>
            <a:r>
              <a:rPr b="1" lang="ko-KR" sz="1800" spc="-1" strike="noStrike">
                <a:solidFill>
                  <a:srgbClr val="fccf50"/>
                </a:solidFill>
                <a:latin typeface="Arial"/>
              </a:rPr>
              <a:t>버전을 참조하고 있었지만 내부적으로는 </a:t>
            </a:r>
            <a:r>
              <a:rPr b="1" lang="ko-KR" sz="1800" spc="-1" strike="noStrike">
                <a:solidFill>
                  <a:srgbClr val="fccf50"/>
                </a:solidFill>
                <a:latin typeface="Arial"/>
              </a:rPr>
              <a:t>1.0.0.1</a:t>
            </a:r>
            <a:r>
              <a:rPr b="1" lang="ko-KR" sz="1800" spc="-1" strike="noStrike">
                <a:solidFill>
                  <a:srgbClr val="fccf50"/>
                </a:solidFill>
                <a:latin typeface="Arial"/>
              </a:rPr>
              <a:t>버전을 사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.NET Framework Namespac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295280" y="4432320"/>
            <a:ext cx="6782040" cy="13590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ase Class Library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295280" y="3505320"/>
            <a:ext cx="3341880" cy="8586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ADO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26080" y="3505320"/>
            <a:ext cx="3341520" cy="8586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95280" y="1600200"/>
            <a:ext cx="3341880" cy="183204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ASP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741920" y="1612800"/>
            <a:ext cx="3335400" cy="181764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BCL  Hierarchy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54040" y="4627440"/>
            <a:ext cx="8209080" cy="17352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stem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68440" y="3465360"/>
            <a:ext cx="4027320" cy="109728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stem.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32200" y="3465360"/>
            <a:ext cx="4027680" cy="109728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stem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68440" y="1066680"/>
            <a:ext cx="4027320" cy="23400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stem.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716040" y="5932440"/>
            <a:ext cx="18320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Globa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716040" y="5610240"/>
            <a:ext cx="1832040" cy="2570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716040" y="5286240"/>
            <a:ext cx="18320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716040" y="4964040"/>
            <a:ext cx="18320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lle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693880" y="5932440"/>
            <a:ext cx="175896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e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693880" y="5610240"/>
            <a:ext cx="1758960" cy="2570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2693880" y="5286240"/>
            <a:ext cx="175896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693880" y="4964040"/>
            <a:ext cx="175896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4595760" y="5932440"/>
            <a:ext cx="18320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hre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4595760" y="5610240"/>
            <a:ext cx="1832040" cy="2570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4595760" y="5286240"/>
            <a:ext cx="18320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rvic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4595760" y="4964040"/>
            <a:ext cx="18320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716040" y="4175280"/>
            <a:ext cx="1780920" cy="25848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716040" y="3852720"/>
            <a:ext cx="1780920" cy="25740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2644920" y="4175280"/>
            <a:ext cx="1779480" cy="25848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QL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2644920" y="3852720"/>
            <a:ext cx="1779480" cy="25740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Q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4879800" y="4175280"/>
            <a:ext cx="1779840" cy="25848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XP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4879800" y="3852720"/>
            <a:ext cx="1779840" cy="25740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XS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6586560" y="4964040"/>
            <a:ext cx="1977840" cy="12272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un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6647040" y="5222880"/>
            <a:ext cx="1819080" cy="2570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Interop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6647040" y="5545080"/>
            <a:ext cx="1819080" cy="2588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emo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6647040" y="5867280"/>
            <a:ext cx="1819080" cy="2588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ria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6808680" y="3852720"/>
            <a:ext cx="1741680" cy="5810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ria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716040" y="3054240"/>
            <a:ext cx="178092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2644920" y="3054240"/>
            <a:ext cx="177948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ssionSt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716040" y="2732040"/>
            <a:ext cx="178092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ach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2644920" y="2732040"/>
            <a:ext cx="177948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716040" y="1441440"/>
            <a:ext cx="1780920" cy="12254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790560" y="1700280"/>
            <a:ext cx="1636560" cy="2570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790560" y="2022480"/>
            <a:ext cx="1636560" cy="2588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Disco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790560" y="2344680"/>
            <a:ext cx="1636560" cy="2588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oc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2644920" y="1441440"/>
            <a:ext cx="1779480" cy="12254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U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2719440" y="1700280"/>
            <a:ext cx="1635120" cy="2570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HtmlContr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2719440" y="2022480"/>
            <a:ext cx="1635120" cy="581040"/>
          </a:xfrm>
          <a:prstGeom prst="rect">
            <a:avLst/>
          </a:prstGeom>
          <a:solidFill>
            <a:srgbClr val="8c57d9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bContr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4732200" y="2265480"/>
            <a:ext cx="4019760" cy="11412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stem.Dra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4879800" y="3054240"/>
            <a:ext cx="17798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Ima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4879800" y="2732040"/>
            <a:ext cx="177984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Drawing2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6808680" y="3041640"/>
            <a:ext cx="1743120" cy="2714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6808680" y="2732040"/>
            <a:ext cx="1743120" cy="25884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in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7"/>
          <p:cNvSpPr/>
          <p:nvPr/>
        </p:nvSpPr>
        <p:spPr>
          <a:xfrm>
            <a:off x="4732200" y="1066680"/>
            <a:ext cx="4019760" cy="116208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100000">
                <a:srgbClr val="e5970b"/>
              </a:gs>
            </a:gsLst>
            <a:lin ang="5400000"/>
          </a:gradFill>
          <a:ln w="12600">
            <a:solidFill>
              <a:srgbClr val="e59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stem.Win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4879800" y="1441440"/>
            <a:ext cx="1409760" cy="64620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Desig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6437160" y="1441440"/>
            <a:ext cx="2089440" cy="646200"/>
          </a:xfrm>
          <a:prstGeom prst="rect">
            <a:avLst/>
          </a:prstGeom>
          <a:solidFill>
            <a:srgbClr val="8c57d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mponent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BCL  Commen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04920" y="1119240"/>
            <a:ext cx="177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Name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2320920" y="111924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Com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343400" y="1119240"/>
            <a:ext cx="341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Class Examp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515880" y="1523880"/>
            <a:ext cx="177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2397240" y="15238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모든 형들의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root, </a:t>
            </a: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모든 기본형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5181480" y="152388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Object, Array, Int32, Exception, String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515880" y="1828800"/>
            <a:ext cx="177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Colle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9"/>
          <p:cNvSpPr/>
          <p:nvPr/>
        </p:nvSpPr>
        <p:spPr>
          <a:xfrm>
            <a:off x="515880" y="2333520"/>
            <a:ext cx="177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515880" y="2670120"/>
            <a:ext cx="177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Glob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515880" y="3171960"/>
            <a:ext cx="177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515880" y="3625920"/>
            <a:ext cx="177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515880" y="4130640"/>
            <a:ext cx="177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Ref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4"/>
          <p:cNvSpPr/>
          <p:nvPr/>
        </p:nvSpPr>
        <p:spPr>
          <a:xfrm>
            <a:off x="515880" y="4587840"/>
            <a:ext cx="177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Runtime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5"/>
          <p:cNvSpPr/>
          <p:nvPr/>
        </p:nvSpPr>
        <p:spPr>
          <a:xfrm>
            <a:off x="515880" y="5045040"/>
            <a:ext cx="177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6"/>
          <p:cNvSpPr/>
          <p:nvPr/>
        </p:nvSpPr>
        <p:spPr>
          <a:xfrm>
            <a:off x="515880" y="5397480"/>
            <a:ext cx="1770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Web.UI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WebContr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57"/>
          <p:cNvSpPr/>
          <p:nvPr/>
        </p:nvSpPr>
        <p:spPr>
          <a:xfrm>
            <a:off x="515880" y="5916600"/>
            <a:ext cx="1770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ystem.Win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58"/>
          <p:cNvSpPr/>
          <p:nvPr/>
        </p:nvSpPr>
        <p:spPr>
          <a:xfrm>
            <a:off x="239724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객체 집합을 관리할 수 있는 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59"/>
          <p:cNvSpPr/>
          <p:nvPr/>
        </p:nvSpPr>
        <p:spPr>
          <a:xfrm>
            <a:off x="2397240" y="23335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기본적인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DB </a:t>
            </a: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관리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0"/>
          <p:cNvSpPr/>
          <p:nvPr/>
        </p:nvSpPr>
        <p:spPr>
          <a:xfrm>
            <a:off x="2397240" y="2670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국가언어 지원</a:t>
            </a: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, </a:t>
            </a: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문자열비교 등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2397240" y="317196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데이터 스트림에 대하여 읽기</a:t>
            </a: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/</a:t>
            </a: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쓰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2"/>
          <p:cNvSpPr/>
          <p:nvPr/>
        </p:nvSpPr>
        <p:spPr>
          <a:xfrm>
            <a:off x="2397240" y="362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네트워크 통신을 허용하는 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63"/>
          <p:cNvSpPr/>
          <p:nvPr/>
        </p:nvSpPr>
        <p:spPr>
          <a:xfrm>
            <a:off x="2397240" y="41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메타데이터를 검색할 수 있는 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4"/>
          <p:cNvSpPr/>
          <p:nvPr/>
        </p:nvSpPr>
        <p:spPr>
          <a:xfrm>
            <a:off x="2397240" y="4587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관리형 원격객체를 허용하는 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65"/>
          <p:cNvSpPr/>
          <p:nvPr/>
        </p:nvSpPr>
        <p:spPr>
          <a:xfrm>
            <a:off x="2397240" y="504504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보안 기능을 제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6"/>
          <p:cNvSpPr/>
          <p:nvPr/>
        </p:nvSpPr>
        <p:spPr>
          <a:xfrm>
            <a:off x="2397240" y="5397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웹기반 애플리케이션에 풍부한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UI </a:t>
            </a: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컨트롤을 사용 할 수 있는 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67"/>
          <p:cNvSpPr/>
          <p:nvPr/>
        </p:nvSpPr>
        <p:spPr>
          <a:xfrm>
            <a:off x="2397240" y="5916600"/>
            <a:ext cx="289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데스크탑 애플리케이션에 풍부한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UI </a:t>
            </a: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컨트롤을 사용할 수 있는 형을 지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8"/>
          <p:cNvSpPr/>
          <p:nvPr/>
        </p:nvSpPr>
        <p:spPr>
          <a:xfrm>
            <a:off x="5181480" y="1828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ArrayList, Dictionary, Hashtable, Queu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SortedList,Stack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69"/>
          <p:cNvSpPr/>
          <p:nvPr/>
        </p:nvSpPr>
        <p:spPr>
          <a:xfrm>
            <a:off x="5181480" y="233352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DataBinding, DataSet, DataTable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70"/>
          <p:cNvSpPr/>
          <p:nvPr/>
        </p:nvSpPr>
        <p:spPr>
          <a:xfrm>
            <a:off x="5181480" y="2670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Calendar, CultureInfo, JulianCalendar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NumberFormatInfo, NumberStyles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71"/>
          <p:cNvSpPr/>
          <p:nvPr/>
        </p:nvSpPr>
        <p:spPr>
          <a:xfrm>
            <a:off x="5181480" y="317196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ByteStream, FileStream, MemoryStream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File, StreamReader, StreamWriter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2"/>
          <p:cNvSpPr/>
          <p:nvPr/>
        </p:nvSpPr>
        <p:spPr>
          <a:xfrm>
            <a:off x="5181480" y="3625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WebRequest, WebResponse, TcpClient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TcpListener, UdpClient, Socket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3"/>
          <p:cNvSpPr/>
          <p:nvPr/>
        </p:nvSpPr>
        <p:spPr>
          <a:xfrm>
            <a:off x="5181480" y="4130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Assembly, FieldInfo, MemberInfo,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MethodInfo, ParameterInfo, Module,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74"/>
          <p:cNvSpPr/>
          <p:nvPr/>
        </p:nvSpPr>
        <p:spPr>
          <a:xfrm>
            <a:off x="5181480" y="45878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ChannelServices, RemotingServices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5"/>
          <p:cNvSpPr/>
          <p:nvPr/>
        </p:nvSpPr>
        <p:spPr>
          <a:xfrm>
            <a:off x="5181480" y="504504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Permissions, Policy, Principal,Util, 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5181480" y="5397480"/>
            <a:ext cx="365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AdRotator, BorderStyle, DataGrid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HyperLink, ListBox, Panel, Tables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5181480" y="5916600"/>
            <a:ext cx="3657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Button, CheckBox, DataGrid, FileDialog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Form, ListBox, MainMenu, RichEdit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78"/>
          <p:cNvSpPr/>
          <p:nvPr/>
        </p:nvSpPr>
        <p:spPr>
          <a:xfrm>
            <a:off x="573120" y="2301840"/>
            <a:ext cx="819288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79"/>
          <p:cNvSpPr/>
          <p:nvPr/>
        </p:nvSpPr>
        <p:spPr>
          <a:xfrm>
            <a:off x="569880" y="267012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80"/>
          <p:cNvSpPr/>
          <p:nvPr/>
        </p:nvSpPr>
        <p:spPr>
          <a:xfrm>
            <a:off x="577800" y="3151080"/>
            <a:ext cx="819324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81"/>
          <p:cNvSpPr/>
          <p:nvPr/>
        </p:nvSpPr>
        <p:spPr>
          <a:xfrm>
            <a:off x="569880" y="3608280"/>
            <a:ext cx="819324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2"/>
          <p:cNvSpPr/>
          <p:nvPr/>
        </p:nvSpPr>
        <p:spPr>
          <a:xfrm>
            <a:off x="569880" y="411012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83"/>
          <p:cNvSpPr/>
          <p:nvPr/>
        </p:nvSpPr>
        <p:spPr>
          <a:xfrm>
            <a:off x="569880" y="459108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4"/>
          <p:cNvSpPr/>
          <p:nvPr/>
        </p:nvSpPr>
        <p:spPr>
          <a:xfrm>
            <a:off x="569880" y="506880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85"/>
          <p:cNvSpPr/>
          <p:nvPr/>
        </p:nvSpPr>
        <p:spPr>
          <a:xfrm>
            <a:off x="569880" y="536112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86"/>
          <p:cNvSpPr/>
          <p:nvPr/>
        </p:nvSpPr>
        <p:spPr>
          <a:xfrm>
            <a:off x="569880" y="587844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87"/>
          <p:cNvSpPr/>
          <p:nvPr/>
        </p:nvSpPr>
        <p:spPr>
          <a:xfrm>
            <a:off x="569880" y="6411960"/>
            <a:ext cx="81932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88"/>
          <p:cNvSpPr/>
          <p:nvPr/>
        </p:nvSpPr>
        <p:spPr>
          <a:xfrm>
            <a:off x="549360" y="1849320"/>
            <a:ext cx="81928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0"/>
          <p:cNvSpPr/>
          <p:nvPr/>
        </p:nvSpPr>
        <p:spPr>
          <a:xfrm>
            <a:off x="380880" y="1500120"/>
            <a:ext cx="856476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Physical Path of BCL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pic>
        <p:nvPicPr>
          <p:cNvPr id="302" name="Picture 5" descr="C:\Documents and Settings\sonny\바탕 화면\세미나 발표자료\Physical_Position of BCL.gif"/>
          <p:cNvPicPr/>
          <p:nvPr/>
        </p:nvPicPr>
        <p:blipFill>
          <a:blip r:embed="rId1"/>
          <a:stretch/>
        </p:blipFill>
        <p:spPr>
          <a:xfrm>
            <a:off x="1600200" y="1066680"/>
            <a:ext cx="69343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XML  Documenta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46784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utput is XML pa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소스 코드로부터 자동 생성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sed by the Compil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은 물론이고 데이타로서의 의미 지님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ree slashes(///)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로 표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iler option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으로도 생성 가능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sc /doc:test.xml  test.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mply standard tags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제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사용자 정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gs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사용 가능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확장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 : type, F : field, M : memb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XML Documentation</a:t>
            </a: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 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Tags Se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143000" y="12193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g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1130400" y="1676520"/>
            <a:ext cx="18414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130400" y="199692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d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130400" y="230976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amp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1130400" y="262260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ceptio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1130400" y="2935440"/>
            <a:ext cx="18414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130400" y="324792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a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1130400" y="356076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amref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1130400" y="3873600"/>
            <a:ext cx="18414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ermissio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130400" y="418608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mark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1130400" y="449892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turn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1130400" y="481176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e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1130400" y="5124600"/>
            <a:ext cx="18414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eealso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1130400" y="543708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ummar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1130400" y="5749920"/>
            <a:ext cx="18414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alu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2971800" y="1219320"/>
            <a:ext cx="5181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3008160" y="1676520"/>
            <a:ext cx="541044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ks text within a line up as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3008160" y="199692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ks multiple lines as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3008160" y="230976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ks up a code ex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3008160" y="262260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ocuments an exception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3008160" y="2935440"/>
            <a:ext cx="541044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serts a list into docu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3008160" y="324792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ks up a metho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3008160" y="356076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dicates that a word is a metho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3008160" y="3873600"/>
            <a:ext cx="541044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ocuments access to a mem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3008160" y="418608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dds a description for a mem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3008160" y="449892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ocuments the return value for a met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008160" y="481176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vides a cross-reference to another mem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3008160" y="5124600"/>
            <a:ext cx="541044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vides a ‘see also’ section in a descri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3008160" y="543708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vides a short description of an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3008160" y="5749920"/>
            <a:ext cx="541044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scribes a proper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genda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03320"/>
            <a:ext cx="632484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1 : Introduction to .NET (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3300"/>
                </a:solidFill>
                <a:uFillTx/>
                <a:latin typeface="Arial"/>
              </a:rPr>
              <a:t>Part 2 : Introduction to .NET (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3 : ASP.NET and ADO.N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4 : ASP.NET for Web Serv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5 : C# 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6 : Microsoft .NET  vs  Sun ON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19320" y="1384200"/>
            <a:ext cx="7696080" cy="456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StringCollection class implements a collection class that can be us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see&gt;IEnumerable&lt;/see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/summar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public class StringCollection : ienumerab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{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summary&gt; Test data strings for use with this class  &lt;/summary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private string[] ss = new string[] {  "one", "two", "three", "four" }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summary&gt; The default constructor &lt;/summar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public StringCollection(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{     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summary&gt; GetEnumerator creates a new Enumerator object &lt;/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/// &lt;returns&gt; The IEnumerator interface on an enumeration object &lt;/returns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public virtual IEnumerator GetEnumerator(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eturn new Enumerator(thi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01992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ffffcc"/>
                </a:solidFill>
                <a:latin typeface="Verdana"/>
                <a:ea typeface="굴림"/>
              </a:rPr>
              <a:t>- 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  <a:ea typeface="굴림"/>
              </a:rPr>
              <a:t>Documentation.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447920" y="1295280"/>
            <a:ext cx="7238880" cy="520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?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xml version="1.0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?xml-stylesheet type="text/xsl" href="documentation.xsl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doc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assembl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name&gt;documentation&lt;/na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assembl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members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member name="T:StringCollection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summary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StringCollection class implements a collection class that can be use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see&gt;IEnumerable&lt;/see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memb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member name="F:StringCollection.ss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Test data strings for use with this c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memb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member name="M:StringCollection.GetEnumerator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GetEnumerator creates a new Enumerator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summary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returns&gt;The IEnumerator interface on an enumeration object &lt;/returns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memb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members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가는으뜸체"/>
              </a:rPr>
              <a:t>&lt;/doc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791320" y="5335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ffffcc"/>
                </a:solidFill>
                <a:latin typeface="Verdana"/>
                <a:ea typeface="굴림"/>
              </a:rPr>
              <a:t>- 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  <a:ea typeface="굴림"/>
              </a:rPr>
              <a:t>Documentation.x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Demo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7238880" y="533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ffffcc"/>
                </a:solidFill>
                <a:latin typeface="Verdana"/>
                <a:ea typeface="굴림"/>
              </a:rPr>
              <a:t>- 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  <a:ea typeface="굴림"/>
              </a:rPr>
              <a:t>Brow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E:\Backup\Backup_doc\Doc_collection(new)\C#\wrox_c#_programming_sources\C# Programming\Chapter 06\documentation_browsing.jpg"/>
          <p:cNvPicPr/>
          <p:nvPr/>
        </p:nvPicPr>
        <p:blipFill>
          <a:blip r:embed="rId1"/>
          <a:stretch/>
        </p:blipFill>
        <p:spPr>
          <a:xfrm>
            <a:off x="1219320" y="1371600"/>
            <a:ext cx="75438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Standardiza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091880"/>
            <a:ext cx="8763120" cy="56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표준화의 의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Generation Langu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tion, Not Rev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다양한 플랫폼으로 포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# &amp; CLR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은 더 이상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사의 등록상표가 아니다</a:t>
            </a:r>
            <a:br>
              <a:rPr sz="2000"/>
            </a:b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표준화에 포함 되어진 명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R Archite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R Instruction S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R Base Class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37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# Language Specificatio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예상되는 표준화 진행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MA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표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O Fast Track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Standardiza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003320"/>
            <a:ext cx="8763120" cy="47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2000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ECMA TC 3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mpaq, HP, IBM, Microsoft, Netscape, Sun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언어에 대한 어떠한 확장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변형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지원도 허용하며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Microsof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사는 이에 대한 모든 권리를 포기한다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공개 표준화 작업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ECMA, ISO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NET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관련 기술 공개 표준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#, CLR, .NET Framework,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XM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XML Schema, SOAP, XPath,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업계 참여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BM, Intel, HP, Microsoft,….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마침내 …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u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Today </a:t>
            </a:r>
            <a:r>
              <a:rPr b="1" lang="en-US" sz="2400" spc="-1" strike="noStrike">
                <a:solidFill>
                  <a:srgbClr val="fccf50"/>
                </a:solidFill>
                <a:latin typeface="Verdana"/>
                <a:ea typeface="굴림"/>
              </a:rPr>
              <a:t>(1)</a:t>
            </a:r>
            <a:endParaRPr b="1" lang="en-US" sz="2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845640"/>
            <a:ext cx="8763120" cy="57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N World Onl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$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는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으로 현대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가 제공해야 할 기본적인 기술들을 향상 시켰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연구 개발 비의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80%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투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sof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와 협력하여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에 포팅 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im Farley (Java Enterprise in a Nutshell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공동저자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0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준비하라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!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전쟁의 본질이 바뀌었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ko-K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rly S. Fiorina (Hewlett Packard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회장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모든 사람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사물들이 네트워크로 연결되는 세상인 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l town’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라는 신조어를 회사의 모토로 내걸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B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 표준화 되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와 동일 선상에서 지원하겠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용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Tool kit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발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Today </a:t>
            </a:r>
            <a:r>
              <a:rPr b="1" lang="en-US" sz="2400" spc="-1" strike="noStrike">
                <a:solidFill>
                  <a:srgbClr val="fccf50"/>
                </a:solidFill>
                <a:latin typeface="Verdana"/>
                <a:ea typeface="굴림"/>
              </a:rPr>
              <a:t>(2)</a:t>
            </a:r>
            <a:endParaRPr b="1" lang="en-US" sz="2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062000"/>
            <a:ext cx="7391520" cy="45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차세대 매킨토시에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표준을 지원토록 할 것이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표준에 참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은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와 유사하며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에 종속적이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artner Grou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미래의 인터넷은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과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과 지배할 것이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MG (Object Management Group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을 다른 언어와 동일하게 지원하겠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Study Guide Lin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060200"/>
            <a:ext cx="8763120" cy="577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자신이 관심있어 하는 언어 학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B.NET, C#, C++ With Managed Extensio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#, .NET Framework Premium Language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2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기본적인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 Framework Base Class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학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2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3.XML / SOAP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에 관한 학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8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ervice / XML Process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에 관한 학습</a:t>
            </a:r>
            <a:br>
              <a:rPr sz="1800"/>
            </a:b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2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4.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목적에 따라 선택하여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 Framework BCL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학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8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Form (ASP.NET), Win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8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.Net.Class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8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.Threading.Clas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8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2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5. COM+ 1.0 Ser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8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osoft.ComServices.Classes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Referenc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003320"/>
            <a:ext cx="876312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msdn.microsoft.com/net/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www.devpia.co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www.mcpworld.co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www.aspdotnet.co.k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# Programming with the Public Be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About ASP.NET Programming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Epilogu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002960"/>
            <a:ext cx="8763120" cy="416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NET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은  서비스 지향적인 플랫폼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imple, modern, multi-language, object oriented, XML built 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언어 혼용을 위한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BCL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TS, CLS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에 합당한 범위 내에서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ASP.NET is a great web platfor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trol-based pages, intuitive web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Fast, scalable, reliable,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와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이 인터넷을 지배할 것이다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어떤 길로 가실래요…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1523880" y="1447920"/>
            <a:ext cx="72392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돋움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Verdana"/>
                <a:ea typeface="돋움"/>
              </a:rPr>
              <a:t>Introduction to .N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13372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ee99e"/>
                </a:solidFill>
                <a:latin typeface="Verdana"/>
                <a:ea typeface="가는으뜸체"/>
              </a:rPr>
              <a:t>“</a:t>
            </a:r>
            <a:r>
              <a:rPr b="1" lang="ko-KR" sz="3200" spc="-1" strike="noStrike">
                <a:solidFill>
                  <a:srgbClr val="fee99e"/>
                </a:solidFill>
                <a:latin typeface="가는으뜸체"/>
                <a:ea typeface="가는으뜸체"/>
              </a:rPr>
              <a:t> </a:t>
            </a:r>
            <a:r>
              <a:rPr b="1" lang="ko-KR" sz="3200" spc="-1" strike="noStrike">
                <a:solidFill>
                  <a:srgbClr val="fee99e"/>
                </a:solidFill>
                <a:latin typeface="가는으뜸체"/>
                <a:ea typeface="가는으뜸체"/>
              </a:rPr>
              <a:t>나는 노는 물이 달라</a:t>
            </a:r>
            <a:r>
              <a:rPr b="1" lang="en-US" sz="3200" spc="-1" strike="noStrike">
                <a:solidFill>
                  <a:srgbClr val="fee99e"/>
                </a:solidFill>
                <a:latin typeface="가는으뜸체"/>
                <a:ea typeface="가는으뜸체"/>
              </a:rPr>
              <a:t> </a:t>
            </a:r>
            <a:r>
              <a:rPr b="1" lang="en-US" sz="3200" spc="-1" strike="noStrike">
                <a:solidFill>
                  <a:srgbClr val="fee99e"/>
                </a:solidFill>
                <a:latin typeface="Verdana"/>
                <a:ea typeface="가는으뜸체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xt Par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062000"/>
            <a:ext cx="7239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olution of Web Tech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P  vs  ASP.N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P.NET Feat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P.NET Archite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Forms Feat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le Uploa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O.NET Feat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O  vs  ADO.N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Set and DataRead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aged Provid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ndling ADO.N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838080" y="190512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굴림"/>
              </a:rPr>
              <a:t>Thank you..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048120" y="36576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970b"/>
                </a:solidFill>
                <a:latin typeface="Arial"/>
                <a:ea typeface="굴림"/>
              </a:rPr>
              <a:t>Question..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Outlin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02960"/>
            <a:ext cx="8763120" cy="48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Namespa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Assemb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ication Deploy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ication Versio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Document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Standardiz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Toda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Study Guide L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pilog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amespac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044720"/>
            <a:ext cx="868680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90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클래스 이름과 기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ype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의 이름이 충돌하지 않게 방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90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클래스 및 기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ype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을 구조화 하기 위해서 사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ing alias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범위는 그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mespace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블록 안에서만 유효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 가장 일반적으로 사용되어지는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sp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 Framework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은 다양한 기본 클래스를 제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모든 클래스는 네임 스페이스로 조직화된 상태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6095880"/>
            <a:ext cx="792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[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참고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]  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익산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에 살고있는 오지현과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서울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에 살고있는 오지현은 이름은 </a:t>
            </a:r>
            <a:br>
              <a:rPr sz="1600"/>
            </a:b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	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같지만 전혀 다른 사람이다</a:t>
            </a:r>
            <a:r>
              <a:rPr b="1" lang="ko-KR" sz="1600" spc="-1" strike="noStrike">
                <a:solidFill>
                  <a:srgbClr val="fee99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1828800" y="4191120"/>
            <a:ext cx="5867280" cy="1904760"/>
            <a:chOff x="1828800" y="4191120"/>
            <a:chExt cx="5867280" cy="1904760"/>
          </a:xfrm>
        </p:grpSpPr>
        <p:pic>
          <p:nvPicPr>
            <p:cNvPr id="97" name="Picture 7" descr="E:\Images\people\Woman_02.gif"/>
            <p:cNvPicPr/>
            <p:nvPr/>
          </p:nvPicPr>
          <p:blipFill>
            <a:blip r:embed="rId1"/>
            <a:stretch/>
          </p:blipFill>
          <p:spPr>
            <a:xfrm>
              <a:off x="2971800" y="47242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AutoShape 8"/>
            <p:cNvSpPr/>
            <p:nvPr/>
          </p:nvSpPr>
          <p:spPr>
            <a:xfrm>
              <a:off x="1828800" y="4267080"/>
              <a:ext cx="1600200" cy="762120"/>
            </a:xfrm>
            <a:prstGeom prst="wedgeEllipseCallout">
              <a:avLst>
                <a:gd name="adj1" fmla="val 47319"/>
                <a:gd name="adj2" fmla="val 53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</a:rPr>
                <a:t>나 오지현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</a:rPr>
                <a:t>넌 누구니</a:t>
              </a:r>
              <a:r>
                <a:rPr b="1" lang="ko-KR" sz="1600" spc="-1" strike="noStrike">
                  <a:solidFill>
                    <a:srgbClr val="000000"/>
                  </a:solidFill>
                  <a:latin typeface="Arial"/>
                </a:rPr>
                <a:t>..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Picture 10" descr="E:\Images\people\Woman_03.gif"/>
            <p:cNvPicPr/>
            <p:nvPr/>
          </p:nvPicPr>
          <p:blipFill>
            <a:blip r:embed="rId2"/>
            <a:stretch/>
          </p:blipFill>
          <p:spPr>
            <a:xfrm>
              <a:off x="4724280" y="4648320"/>
              <a:ext cx="182880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1"/>
            <p:cNvSpPr/>
            <p:nvPr/>
          </p:nvSpPr>
          <p:spPr>
            <a:xfrm>
              <a:off x="5791320" y="4191120"/>
              <a:ext cx="1904760" cy="838080"/>
            </a:xfrm>
            <a:prstGeom prst="wedgeEllipseCallout">
              <a:avLst>
                <a:gd name="adj1" fmla="val -40000"/>
                <a:gd name="adj2" fmla="val 57574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</a:rPr>
                <a:t>나도 오지현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</a:rPr>
                <a:t>이름이 같네 </a:t>
              </a:r>
              <a:r>
                <a:rPr b="1" lang="ko-KR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Using  Namespac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90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특정 벤더에서 제공하는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space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는 일반적으로 회사명으로 시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0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cf50"/>
                </a:solidFill>
                <a:latin typeface="Arial"/>
              </a:rPr>
              <a:t>u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Microsoft.ComServices, AILab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…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Framework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CL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mespace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선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대부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으로 시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System.Net, System.Threading, …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실제로는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:\WINNT\Microsoft.NET\Framework\v1.0.2204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내의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l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파일을 참조</a:t>
            </a:r>
            <a:br>
              <a:rPr sz="2000"/>
            </a:b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209680" y="5022720"/>
            <a:ext cx="4800600" cy="1378080"/>
          </a:xfrm>
          <a:prstGeom prst="rect">
            <a:avLst/>
          </a:prstGeom>
          <a:solidFill>
            <a:srgbClr val="fee99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286000" y="5025960"/>
            <a:ext cx="3200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amespace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정의</a:t>
            </a:r>
            <a:br>
              <a:rPr sz="1400"/>
            </a:br>
            <a:r>
              <a:rPr b="1" lang="ko-KR" sz="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amespace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AILab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…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724280" y="5022720"/>
            <a:ext cx="22100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amespace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사용</a:t>
            </a:r>
            <a:br>
              <a:rPr sz="1400"/>
            </a:br>
            <a:r>
              <a:rPr b="1" lang="ko-KR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AILab;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ing System;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amespace  Defini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1676520" y="1371600"/>
            <a:ext cx="6019560" cy="4729320"/>
            <a:chOff x="1676520" y="1371600"/>
            <a:chExt cx="6019560" cy="4729320"/>
          </a:xfrm>
        </p:grpSpPr>
        <p:sp>
          <p:nvSpPr>
            <p:cNvPr id="108" name="Text Box 5"/>
            <p:cNvSpPr/>
            <p:nvPr/>
          </p:nvSpPr>
          <p:spPr>
            <a:xfrm>
              <a:off x="1676520" y="1371600"/>
              <a:ext cx="6019560" cy="1270800"/>
            </a:xfrm>
            <a:prstGeom prst="rect">
              <a:avLst/>
            </a:prstGeom>
            <a:solidFill>
              <a:srgbClr val="fee99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Namespace MySpace.Sonn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{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     class inputClass { statement_1; }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     class outputClass { statement_2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}  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6"/>
            <p:cNvSpPr/>
            <p:nvPr/>
          </p:nvSpPr>
          <p:spPr>
            <a:xfrm>
              <a:off x="1676520" y="4190760"/>
              <a:ext cx="6019560" cy="1910160"/>
            </a:xfrm>
            <a:prstGeom prst="rect">
              <a:avLst/>
            </a:prstGeom>
            <a:solidFill>
              <a:srgbClr val="fee99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namespace  MySpa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{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namespace Sonn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{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     class inputClass { statement_1; }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     class outputClass { statement_2; }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}  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 flipV="1">
              <a:off x="5778360" y="2882880"/>
              <a:ext cx="609120" cy="1218960"/>
            </a:xfrm>
            <a:prstGeom prst="downArrow">
              <a:avLst>
                <a:gd name="adj1" fmla="val 50000"/>
                <a:gd name="adj2" fmla="val 50030"/>
              </a:avLst>
            </a:pr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5181480" y="3174840"/>
              <a:ext cx="1752120" cy="762120"/>
            </a:xfrm>
            <a:prstGeom prst="irregularSeal1">
              <a:avLst/>
            </a:prstGeom>
            <a:gradFill rotWithShape="0">
              <a:gsLst>
                <a:gs pos="0">
                  <a:srgbClr val="8ca9a9"/>
                </a:gs>
                <a:gs pos="50000">
                  <a:srgbClr val="d2fefd"/>
                </a:gs>
                <a:gs pos="100000">
                  <a:srgbClr val="8ca9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d4d4d"/>
                  </a:solidFill>
                  <a:latin typeface="Arial"/>
                </a:rPr>
                <a:t>축약형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3124080" y="2895480"/>
              <a:ext cx="609120" cy="1219320"/>
            </a:xfrm>
            <a:prstGeom prst="downArrow">
              <a:avLst>
                <a:gd name="adj1" fmla="val 59898"/>
                <a:gd name="adj2" fmla="val 36699"/>
              </a:avLst>
            </a:pr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2514600" y="3047760"/>
              <a:ext cx="1752120" cy="762120"/>
            </a:xfrm>
            <a:prstGeom prst="irregularSeal1">
              <a:avLst/>
            </a:prstGeom>
            <a:gradFill rotWithShape="0">
              <a:gsLst>
                <a:gs pos="0">
                  <a:srgbClr val="93b1b1"/>
                </a:gs>
                <a:gs pos="50000">
                  <a:srgbClr val="d2fefd"/>
                </a:gs>
                <a:gs pos="100000">
                  <a:srgbClr val="93b1b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d4d4d"/>
                  </a:solidFill>
                  <a:latin typeface="Arial"/>
                </a:rPr>
                <a:t>확장형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Using Namespac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002960"/>
            <a:ext cx="8763120" cy="40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mespace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명시적 사용</a:t>
            </a:r>
            <a:br>
              <a:rPr sz="2200"/>
            </a:br>
            <a:br>
              <a:rPr sz="2200"/>
            </a:b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mespace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묵시적 사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37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라는 키워드를 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ko-KR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ias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를 이용한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mespace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사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838080" y="1600200"/>
            <a:ext cx="8229600" cy="41004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MySpace.Sonny.inputClass in = new MySpace.Sonny.inputClass 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33"/>
          <p:cNvSpPr/>
          <p:nvPr/>
        </p:nvSpPr>
        <p:spPr>
          <a:xfrm>
            <a:off x="838080" y="3200400"/>
            <a:ext cx="6019920" cy="58248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using MySpace.Sonn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inputClass in = new inputClass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34"/>
          <p:cNvSpPr/>
          <p:nvPr/>
        </p:nvSpPr>
        <p:spPr>
          <a:xfrm>
            <a:off x="838080" y="4648320"/>
            <a:ext cx="6096240" cy="582480"/>
          </a:xfrm>
          <a:prstGeom prst="rect">
            <a:avLst/>
          </a:prstGeom>
          <a:solidFill>
            <a:srgbClr val="fee9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using foo 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MySpace.Sonny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foo.inputClass in = new foo.inputClass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23:42:50Z</dcterms:created>
  <dc:creator>wonhyuk chung</dc:creator>
  <dc:description>template:  Christine Lee (SF)
No formatting
</dc:description>
  <dc:language>en-US</dc:language>
  <cp:lastModifiedBy>KKT_OFFICE</cp:lastModifiedBy>
  <dcterms:modified xsi:type="dcterms:W3CDTF">2008-09-29T04:41:07Z</dcterms:modified>
  <cp:revision>212</cp:revision>
  <dc:subject>SQL 2000</dc:subject>
  <dc:title>SQL 2000 for Developers</dc:title>
</cp:coreProperties>
</file>