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42.png" ContentType="image/pn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4.png" ContentType="image/png"/>
  <Override PartName="/ppt/media/image12.jpeg" ContentType="image/jpeg"/>
  <Override PartName="/ppt/media/image11.jpeg" ContentType="image/jpeg"/>
  <Override PartName="/ppt/media/image36.jpeg" ContentType="image/jpeg"/>
  <Override PartName="/ppt/media/image32.jpeg" ContentType="image/jpeg"/>
  <Override PartName="/ppt/media/image37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3.png" ContentType="image/png"/>
  <Override PartName="/ppt/media/image47.jpeg" ContentType="image/jpeg"/>
  <Override PartName="/ppt/media/image31.jpeg" ContentType="image/jpeg"/>
  <Override PartName="/ppt/media/image41.png" ContentType="image/png"/>
  <Override PartName="/ppt/media/image48.jpeg" ContentType="image/jpeg"/>
  <Override PartName="/ppt/media/image38.png" ContentType="image/png"/>
  <Override PartName="/ppt/media/image8.png" ContentType="image/png"/>
  <Override PartName="/ppt/media/image14.jpeg" ContentType="image/jpeg"/>
  <Override PartName="/ppt/media/image34.jpeg" ContentType="image/jpeg"/>
  <Override PartName="/ppt/media/image7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6.png" ContentType="image/png"/>
  <Override PartName="/ppt/media/image5.png" ContentType="image/png"/>
  <Override PartName="/ppt/media/image29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C571-543E-465E-BA9C-06B633CB9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5EA3-750E-4751-9BE7-F319F9D2B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680B-875F-4190-81DF-61F56A120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AACF-9CF0-4137-8D50-B3BB96CA1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216E-3D0A-4F9E-9540-1063542FF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92BC-50D9-47ED-B773-0BE9C870B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FE3A-F353-436C-BC26-1C00CFC07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7439-D22F-4BA0-9CF6-3796C72FD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3CD9-7AE3-4F6A-83D7-3FC4D6B97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C1CC-C814-4ACD-829E-BAA0E096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24BD-3239-4995-903A-9FD59D56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F624-8C39-4556-8BE3-9B9662B6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A4389-2B3F-4FC5-BC64-0BAF79CC7685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08000" y="0"/>
            <a:ext cx="512640" cy="37450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6638760" y="6087960"/>
            <a:ext cx="2448000" cy="708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msra.co.kr/" TargetMode="External"/><Relationship Id="rId2" Type="http://schemas.openxmlformats.org/officeDocument/2006/relationships/hyperlink" Target="http://www.symanteczone.com/" TargetMode="External"/><Relationship Id="rId3" Type="http://schemas.openxmlformats.org/officeDocument/2006/relationships/hyperlink" Target="http://www.bsr.co.kr/" TargetMode="External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hyperlink" Target="http://www.jtstore.co.kr/jt06/ptf_board.asp?nc=te&amp;ni=82&amp;page=1&amp;startpage=1" TargetMode="External"/><Relationship Id="rId3" Type="http://schemas.openxmlformats.org/officeDocument/2006/relationships/image" Target="../media/image34.jpeg"/><Relationship Id="rId4" Type="http://schemas.openxmlformats.org/officeDocument/2006/relationships/hyperlink" Target="http://www.jtstore.co.kr/jt06/ptf_board.asp?nc=te&amp;ni=74&amp;page=1&amp;startpage=1" TargetMode="External"/><Relationship Id="rId5" Type="http://schemas.openxmlformats.org/officeDocument/2006/relationships/image" Target="../media/image35.jpeg"/><Relationship Id="rId6" Type="http://schemas.openxmlformats.org/officeDocument/2006/relationships/hyperlink" Target="http://www.jtstore.co.kr/jt06/ptf_board.asp?nc=te&amp;ni=77&amp;page=1&amp;startpage=1" TargetMode="External"/><Relationship Id="rId7" Type="http://schemas.openxmlformats.org/officeDocument/2006/relationships/image" Target="../media/image36.jpeg"/><Relationship Id="rId8" Type="http://schemas.openxmlformats.org/officeDocument/2006/relationships/hyperlink" Target="http://www.jtstore.co.kr/jt06/ptf_board.asp?nc=te&amp;ni=68&amp;page=2&amp;startpage=1" TargetMode="External"/><Relationship Id="rId9" Type="http://schemas.openxmlformats.org/officeDocument/2006/relationships/image" Target="../media/image37.jpeg"/><Relationship Id="rId10" Type="http://schemas.openxmlformats.org/officeDocument/2006/relationships/hyperlink" Target="http://www.jtstore.co.kr/jt06/ptf_board.asp?nc=te&amp;ni=66&amp;page=2&amp;startpage=1" TargetMode="External"/><Relationship Id="rId11" Type="http://schemas.openxmlformats.org/officeDocument/2006/relationships/image" Target="../media/image38.png"/><Relationship Id="rId12" Type="http://schemas.openxmlformats.org/officeDocument/2006/relationships/hyperlink" Target="http://www.jtstore.co.kr/jt06/ptf_board.asp?nc=te&amp;ni=64&amp;page=2&amp;startpage=1" TargetMode="External"/><Relationship Id="rId13" Type="http://schemas.openxmlformats.org/officeDocument/2006/relationships/image" Target="../media/image39.png"/><Relationship Id="rId14" Type="http://schemas.openxmlformats.org/officeDocument/2006/relationships/hyperlink" Target="http://www.jtstore.co.kr/jt06/ptf_board.asp?nc=te&amp;ni=69&amp;page=2&amp;startpage=1" TargetMode="External"/><Relationship Id="rId15" Type="http://schemas.openxmlformats.org/officeDocument/2006/relationships/image" Target="../media/image40.jpeg"/><Relationship Id="rId16" Type="http://schemas.openxmlformats.org/officeDocument/2006/relationships/hyperlink" Target="http://www.jtstore.co.kr/jt06/ptf_board.asp?nc=te&amp;ni=70&amp;page=2&amp;startpage=1" TargetMode="External"/><Relationship Id="rId17" Type="http://schemas.openxmlformats.org/officeDocument/2006/relationships/image" Target="../media/image41.png"/><Relationship Id="rId18" Type="http://schemas.openxmlformats.org/officeDocument/2006/relationships/hyperlink" Target="http://www.jtstore.co.kr/jt06/ptf_board.asp?nc=te&amp;ni=63&amp;page=2&amp;startpage=1" TargetMode="External"/><Relationship Id="rId19" Type="http://schemas.openxmlformats.org/officeDocument/2006/relationships/image" Target="../media/image42.png"/><Relationship Id="rId20" Type="http://schemas.openxmlformats.org/officeDocument/2006/relationships/hyperlink" Target="http://www.jtstore.co.kr/jt06/ptf_board.asp?nc=te&amp;ni=54&amp;page=3&amp;startpage=1" TargetMode="External"/><Relationship Id="rId21" Type="http://schemas.openxmlformats.org/officeDocument/2006/relationships/image" Target="../media/image43.png"/><Relationship Id="rId22" Type="http://schemas.openxmlformats.org/officeDocument/2006/relationships/hyperlink" Target="http://www.jtstore.co.kr/jt06/ptf_board.asp?nc=te&amp;ni=55&amp;page=3&amp;startpage=1" TargetMode="External"/><Relationship Id="rId23" Type="http://schemas.openxmlformats.org/officeDocument/2006/relationships/image" Target="../media/image44.png"/><Relationship Id="rId24" Type="http://schemas.openxmlformats.org/officeDocument/2006/relationships/image" Target="../media/image45.jpeg"/><Relationship Id="rId2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jtmg.co.kr/" TargetMode="External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hyperlink" Target="http://www.juncotommy.co.kr/" TargetMode="External"/><Relationship Id="rId6" Type="http://schemas.openxmlformats.org/officeDocument/2006/relationships/image" Target="../media/image6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9.pn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jtmg.co.kr/" TargetMode="External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jtmg.co.kr/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jtmg.co.kr/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848680" y="2550960"/>
            <a:ext cx="6150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Juncotommy Comp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rof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08200" y="163440"/>
            <a:ext cx="1952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헤드라인M"/>
              </a:rPr>
              <a:t>Design Portfolio (Catalog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712800" y="236520"/>
            <a:ext cx="99720" cy="201600"/>
            <a:chOff x="712800" y="236520"/>
            <a:chExt cx="99720" cy="201600"/>
          </a:xfrm>
        </p:grpSpPr>
        <p:sp>
          <p:nvSpPr>
            <p:cNvPr id="201" name=""/>
            <p:cNvSpPr/>
            <p:nvPr/>
          </p:nvSpPr>
          <p:spPr>
            <a:xfrm>
              <a:off x="756360" y="236520"/>
              <a:ext cx="56160" cy="201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e7533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12800" y="236520"/>
              <a:ext cx="56160" cy="201600"/>
            </a:xfrm>
            <a:prstGeom prst="rect">
              <a:avLst/>
            </a:prstGeom>
            <a:solidFill>
              <a:srgbClr val="8c1e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e7533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229320" y="6324480"/>
            <a:ext cx="13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jtmg.co.k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201760" y="598320"/>
            <a:ext cx="5251680" cy="529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003320" y="3828960"/>
            <a:ext cx="161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Client:Hanaro Tele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23680" y="3828960"/>
            <a:ext cx="119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Client:i-netban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48160" y="3828960"/>
            <a:ext cx="1050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Client:Symb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84120" y="1617840"/>
            <a:ext cx="140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www.bizfos.co.k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06880" y="161460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www.symbolkorea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72040" y="163368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www.i-netbank.co.k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70120" y="4854600"/>
            <a:ext cx="48974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그 외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www.msra.co.kr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                     Microso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www.symanteczone.com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      Symant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Tahoma"/>
                <a:hlinkClick r:id="rId3"/>
              </a:rPr>
              <a:t>www.bsr.co.kr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                        Borl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ww.isd.co.kr                         Auto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08200" y="163440"/>
            <a:ext cx="280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헤드라인M"/>
              </a:rPr>
              <a:t>Programing Portfol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712800" y="236520"/>
            <a:ext cx="142560" cy="286920"/>
            <a:chOff x="712800" y="236520"/>
            <a:chExt cx="142560" cy="286920"/>
          </a:xfrm>
        </p:grpSpPr>
        <p:sp>
          <p:nvSpPr>
            <p:cNvPr id="214" name=""/>
            <p:cNvSpPr/>
            <p:nvPr/>
          </p:nvSpPr>
          <p:spPr>
            <a:xfrm>
              <a:off x="775080" y="236520"/>
              <a:ext cx="80280" cy="286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e7533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12800" y="236520"/>
              <a:ext cx="80280" cy="286920"/>
            </a:xfrm>
            <a:prstGeom prst="rect">
              <a:avLst/>
            </a:prstGeom>
            <a:solidFill>
              <a:srgbClr val="8c1e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e7533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6505560" y="1862280"/>
            <a:ext cx="2398680" cy="19825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3656160" y="1857240"/>
            <a:ext cx="2552400" cy="19846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6"/>
          <a:stretch/>
        </p:blipFill>
        <p:spPr>
          <a:xfrm>
            <a:off x="690480" y="1859040"/>
            <a:ext cx="261792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808200" y="163440"/>
            <a:ext cx="280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헤드라인M"/>
              </a:rPr>
              <a:t>Gift Portfol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12800" y="236520"/>
            <a:ext cx="142560" cy="286920"/>
            <a:chOff x="712800" y="236520"/>
            <a:chExt cx="142560" cy="286920"/>
          </a:xfrm>
        </p:grpSpPr>
        <p:sp>
          <p:nvSpPr>
            <p:cNvPr id="221" name=""/>
            <p:cNvSpPr/>
            <p:nvPr/>
          </p:nvSpPr>
          <p:spPr>
            <a:xfrm>
              <a:off x="775080" y="236520"/>
              <a:ext cx="80280" cy="286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e7533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12800" y="236520"/>
              <a:ext cx="80280" cy="286920"/>
            </a:xfrm>
            <a:prstGeom prst="rect">
              <a:avLst/>
            </a:prstGeom>
            <a:solidFill>
              <a:srgbClr val="8c1e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e7533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66680" y="5886360"/>
            <a:ext cx="1971720" cy="7812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00240" y="733320"/>
            <a:ext cx="2038320" cy="10288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502320" y="717480"/>
            <a:ext cx="2019240" cy="10191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209600" y="2019240"/>
            <a:ext cx="2038320" cy="10288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876840" y="2019240"/>
            <a:ext cx="2038320" cy="10288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508800" y="2014560"/>
            <a:ext cx="2038320" cy="10285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3876840" y="3305160"/>
            <a:ext cx="2038320" cy="10288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1209600" y="3305160"/>
            <a:ext cx="2038320" cy="10288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6513480" y="3286080"/>
            <a:ext cx="2038320" cy="10288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1200240" y="4619520"/>
            <a:ext cx="2038320" cy="10288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3886200" y="4610160"/>
            <a:ext cx="2038320" cy="10285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>
            <a:hlinkClick r:id="rId22"/>
          </p:cNvPr>
          <p:cNvPicPr/>
          <p:nvPr/>
        </p:nvPicPr>
        <p:blipFill>
          <a:blip r:embed="rId23"/>
          <a:stretch/>
        </p:blipFill>
        <p:spPr>
          <a:xfrm>
            <a:off x="6526080" y="4591080"/>
            <a:ext cx="2038320" cy="10285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4"/>
          <a:stretch/>
        </p:blipFill>
        <p:spPr>
          <a:xfrm>
            <a:off x="3868560" y="730080"/>
            <a:ext cx="2044800" cy="10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808200" y="163440"/>
            <a:ext cx="280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헤드라인M"/>
              </a:rPr>
              <a:t>Gift Pro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712800" y="236520"/>
            <a:ext cx="142560" cy="286920"/>
            <a:chOff x="712800" y="236520"/>
            <a:chExt cx="142560" cy="286920"/>
          </a:xfrm>
        </p:grpSpPr>
        <p:sp>
          <p:nvSpPr>
            <p:cNvPr id="238" name=""/>
            <p:cNvSpPr/>
            <p:nvPr/>
          </p:nvSpPr>
          <p:spPr>
            <a:xfrm>
              <a:off x="775080" y="236520"/>
              <a:ext cx="80280" cy="286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e7533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12800" y="236520"/>
              <a:ext cx="80280" cy="286920"/>
            </a:xfrm>
            <a:prstGeom prst="rect">
              <a:avLst/>
            </a:prstGeom>
            <a:solidFill>
              <a:srgbClr val="8c1e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e7533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66680" y="5886360"/>
            <a:ext cx="1971720" cy="7812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1409760" y="720720"/>
            <a:ext cx="2976480" cy="5151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5241960" y="704880"/>
            <a:ext cx="2928960" cy="517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447840" y="1004760"/>
            <a:ext cx="255096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굴림"/>
              </a:rPr>
              <a:t>Contac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762280" y="3052800"/>
            <a:ext cx="406404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HY신명조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HY신명조"/>
              </a:rPr>
              <a:t>Tel 0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HY신명조"/>
              </a:rPr>
              <a:t>31 757 2814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HY신명조"/>
              </a:rPr>
              <a:t>Fax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HY신명조"/>
              </a:rPr>
              <a:t> 031 757 28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7562880" y="3965400"/>
            <a:ext cx="1325520" cy="217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73000" y="353880"/>
            <a:ext cx="28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헤드라인M"/>
              </a:rPr>
              <a:t>Corporate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20880" y="1343160"/>
            <a:ext cx="302400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97240" y="2233440"/>
            <a:ext cx="58323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97240" y="3036960"/>
            <a:ext cx="58323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97240" y="3676680"/>
            <a:ext cx="58323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97240" y="3684600"/>
            <a:ext cx="58323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97240" y="4403880"/>
            <a:ext cx="58323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97240" y="5810400"/>
            <a:ext cx="58323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20880" y="2244600"/>
            <a:ext cx="8135640" cy="0"/>
          </a:xfrm>
          <a:prstGeom prst="line">
            <a:avLst/>
          </a:prstGeom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20880" y="3027240"/>
            <a:ext cx="8135640" cy="0"/>
          </a:xfrm>
          <a:prstGeom prst="line">
            <a:avLst/>
          </a:prstGeom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20880" y="3732120"/>
            <a:ext cx="8135640" cy="0"/>
          </a:xfrm>
          <a:prstGeom prst="line">
            <a:avLst/>
          </a:prstGeom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20880" y="4468680"/>
            <a:ext cx="8135640" cy="0"/>
          </a:xfrm>
          <a:prstGeom prst="line">
            <a:avLst/>
          </a:prstGeom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08160" y="1528920"/>
            <a:ext cx="0" cy="44686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79440" y="1878120"/>
            <a:ext cx="73080" cy="73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79440" y="2617920"/>
            <a:ext cx="73080" cy="72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79440" y="3341520"/>
            <a:ext cx="73080" cy="73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79440" y="4068720"/>
            <a:ext cx="73080" cy="73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79440" y="5557680"/>
            <a:ext cx="73080" cy="73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925560" y="1525320"/>
            <a:ext cx="8129520" cy="139680"/>
          </a:xfrm>
          <a:prstGeom prst="rect">
            <a:avLst/>
          </a:prstGeom>
          <a:solidFill>
            <a:srgbClr val="b332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12960" y="5950080"/>
            <a:ext cx="8143560" cy="69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768240" y="417600"/>
            <a:ext cx="142560" cy="286920"/>
            <a:chOff x="768240" y="417600"/>
            <a:chExt cx="142560" cy="286920"/>
          </a:xfrm>
        </p:grpSpPr>
        <p:sp>
          <p:nvSpPr>
            <p:cNvPr id="65" name=""/>
            <p:cNvSpPr/>
            <p:nvPr/>
          </p:nvSpPr>
          <p:spPr>
            <a:xfrm>
              <a:off x="830520" y="417600"/>
              <a:ext cx="80280" cy="286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e7533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68240" y="417600"/>
              <a:ext cx="80280" cy="286920"/>
            </a:xfrm>
            <a:prstGeom prst="rect">
              <a:avLst/>
            </a:prstGeom>
            <a:solidFill>
              <a:srgbClr val="8c1e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e7533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1274760" y="1770120"/>
            <a:ext cx="1152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rebuchet MS"/>
              </a:rPr>
              <a:t>회   사   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14720" y="1770120"/>
            <a:ext cx="3095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㈜</a:t>
            </a:r>
            <a:r>
              <a:rPr b="1" lang="ko-KR" sz="1200" spc="-1" strike="noStrike">
                <a:solidFill>
                  <a:srgbClr val="000000"/>
                </a:solidFill>
                <a:latin typeface="Trebuchet MS"/>
              </a:rPr>
              <a:t>준코토미컴퍼니</a:t>
            </a: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(Juncotommy Compan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57480" y="2530440"/>
            <a:ext cx="1152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rebuchet MS"/>
              </a:rPr>
              <a:t>설   립   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4080" y="2532240"/>
            <a:ext cx="3095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2003</a:t>
            </a:r>
            <a:r>
              <a:rPr b="1" lang="ko-KR" sz="1200" spc="-1" strike="noStrike">
                <a:solidFill>
                  <a:srgbClr val="000000"/>
                </a:solidFill>
                <a:latin typeface="Trebuchet MS"/>
              </a:rPr>
              <a:t>년 </a:t>
            </a: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4</a:t>
            </a:r>
            <a:r>
              <a:rPr b="1" lang="ko-KR" sz="1200" spc="-1" strike="noStrike">
                <a:solidFill>
                  <a:srgbClr val="000000"/>
                </a:solidFill>
                <a:latin typeface="Trebuchet MS"/>
              </a:rPr>
              <a:t>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19400" y="3238560"/>
            <a:ext cx="3095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rebuchet MS"/>
              </a:rPr>
              <a:t>이 하 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62160" y="3238560"/>
            <a:ext cx="1152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rebuchet MS"/>
              </a:rPr>
              <a:t>대 표 이 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95280" y="3981600"/>
            <a:ext cx="1152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rebuchet MS"/>
              </a:rPr>
              <a:t>사 업 분 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932200" y="3981600"/>
            <a:ext cx="2438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81240" y="5445000"/>
            <a:ext cx="1152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rebuchet MS"/>
              </a:rPr>
              <a:t>소   재   지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43160" y="5433840"/>
            <a:ext cx="2438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rebuchet MS"/>
              </a:rPr>
              <a:t>경기도 성남시 수정구 복정동 </a:t>
            </a: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650-9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97240" y="5176800"/>
            <a:ext cx="58323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20880" y="5241960"/>
            <a:ext cx="8135640" cy="0"/>
          </a:xfrm>
          <a:prstGeom prst="line">
            <a:avLst/>
          </a:prstGeom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79440" y="4795920"/>
            <a:ext cx="73080" cy="73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81240" y="4694400"/>
            <a:ext cx="1152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U    R    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71880" y="4437000"/>
            <a:ext cx="52243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www.juncotommy.co.kr/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rebuchet MS"/>
                <a:hlinkClick r:id="rId1"/>
              </a:rPr>
              <a:t>www.jtmg.co.kr/</a:t>
            </a: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  www.jtstore.co.k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32000" y="3933720"/>
            <a:ext cx="3095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rebuchet MS"/>
              </a:rPr>
              <a:t>디자인 </a:t>
            </a: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/ </a:t>
            </a:r>
            <a:r>
              <a:rPr b="1" lang="ko-KR" sz="1200" spc="-1" strike="noStrike">
                <a:solidFill>
                  <a:srgbClr val="000000"/>
                </a:solidFill>
                <a:latin typeface="Trebuchet MS"/>
              </a:rPr>
              <a:t>비즈니스기프트 </a:t>
            </a: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/ </a:t>
            </a:r>
            <a:r>
              <a:rPr b="1" lang="ko-KR" sz="1200" spc="-1" strike="noStrike">
                <a:solidFill>
                  <a:srgbClr val="000000"/>
                </a:solidFill>
                <a:latin typeface="Trebuchet MS"/>
              </a:rPr>
              <a:t>기업행사 대행 </a:t>
            </a: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/ </a:t>
            </a:r>
            <a:r>
              <a:rPr b="1" lang="ko-KR" sz="1200" spc="-1" strike="noStrike">
                <a:solidFill>
                  <a:srgbClr val="000000"/>
                </a:solidFill>
                <a:latin typeface="Trebuchet MS"/>
              </a:rPr>
              <a:t>웹프로그래밍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857160"/>
            <a:ext cx="7925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ahoma"/>
              </a:rPr>
              <a:t>준코토미컴퍼니는 건축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ko-KR" sz="1000" spc="-1" strike="noStrike">
                <a:solidFill>
                  <a:srgbClr val="000000"/>
                </a:solidFill>
                <a:latin typeface="Tahoma"/>
              </a:rPr>
              <a:t>영화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ko-KR" sz="1000" spc="-1" strike="noStrike">
                <a:solidFill>
                  <a:srgbClr val="000000"/>
                </a:solidFill>
                <a:latin typeface="Tahoma"/>
              </a:rPr>
              <a:t>정보통신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ko-KR" sz="1000" spc="-1" strike="noStrike">
                <a:solidFill>
                  <a:srgbClr val="000000"/>
                </a:solidFill>
                <a:latin typeface="Tahoma"/>
              </a:rPr>
              <a:t>패션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ko-KR" sz="1000" spc="-1" strike="noStrike">
                <a:solidFill>
                  <a:srgbClr val="000000"/>
                </a:solidFill>
                <a:latin typeface="Tahoma"/>
              </a:rPr>
              <a:t>미술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ko-KR" sz="1000" spc="-1" strike="noStrike">
                <a:solidFill>
                  <a:srgbClr val="000000"/>
                </a:solidFill>
                <a:latin typeface="Tahoma"/>
              </a:rPr>
              <a:t>음악등 다양한 전공을 한 젊은 사람들이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'</a:t>
            </a:r>
            <a:r>
              <a:rPr b="0" lang="ko-KR" sz="1000" spc="-1" strike="noStrike">
                <a:solidFill>
                  <a:srgbClr val="000000"/>
                </a:solidFill>
                <a:latin typeface="Tahoma"/>
              </a:rPr>
              <a:t>노동과 놀이가 같이 하는 삶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'</a:t>
            </a:r>
            <a:r>
              <a:rPr b="0" lang="ko-KR" sz="1000" spc="-1" strike="noStrike">
                <a:solidFill>
                  <a:srgbClr val="000000"/>
                </a:solidFill>
                <a:latin typeface="Tahoma"/>
              </a:rPr>
              <a:t>이라는 회사모토를 근간으로 마케팅에 집중하는 회사를 대상으로 복잡한 마케팅 절차를 대행함으로써 클라이언트의 업무향상을 도모하고 있습니다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ahoma"/>
              </a:rPr>
              <a:t>마케팅에 관련된 일이라면 준코토미컴퍼니와 상의하시기 바랍니다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>
            <a:grayscl/>
            <a:lum bright="50000"/>
          </a:blip>
          <a:stretch/>
        </p:blipFill>
        <p:spPr>
          <a:xfrm>
            <a:off x="2062080" y="2052720"/>
            <a:ext cx="5286600" cy="2301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808200" y="163440"/>
            <a:ext cx="280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헤드라인M"/>
              </a:rPr>
              <a:t>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712800" y="236520"/>
            <a:ext cx="142560" cy="286920"/>
            <a:chOff x="712800" y="236520"/>
            <a:chExt cx="142560" cy="286920"/>
          </a:xfrm>
        </p:grpSpPr>
        <p:sp>
          <p:nvSpPr>
            <p:cNvPr id="87" name=""/>
            <p:cNvSpPr/>
            <p:nvPr/>
          </p:nvSpPr>
          <p:spPr>
            <a:xfrm>
              <a:off x="775080" y="236520"/>
              <a:ext cx="80280" cy="286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e7533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12800" y="236520"/>
              <a:ext cx="80280" cy="286920"/>
            </a:xfrm>
            <a:prstGeom prst="rect">
              <a:avLst/>
            </a:prstGeom>
            <a:solidFill>
              <a:srgbClr val="8c1e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e7533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241200" y="4633920"/>
            <a:ext cx="1306440" cy="13003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844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735200" y="5143680"/>
            <a:ext cx="220680" cy="293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궁서"/>
              </a:rPr>
              <a:t>+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궁서"/>
              <a:ea typeface="궁서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3359160" y="941400"/>
            <a:ext cx="2663280" cy="1152360"/>
            <a:chOff x="3359160" y="941400"/>
            <a:chExt cx="2663280" cy="1152360"/>
          </a:xfrm>
        </p:grpSpPr>
        <p:sp>
          <p:nvSpPr>
            <p:cNvPr id="92" name=""/>
            <p:cNvSpPr/>
            <p:nvPr/>
          </p:nvSpPr>
          <p:spPr>
            <a:xfrm>
              <a:off x="3359160" y="941400"/>
              <a:ext cx="144000" cy="1152360"/>
            </a:xfrm>
            <a:custGeom>
              <a:avLst/>
              <a:gdLst>
                <a:gd name="textAreaLeft" fmla="*/ 42120 w 144000"/>
                <a:gd name="textAreaRight" fmla="*/ 144360 w 144000"/>
                <a:gd name="textAreaTop" fmla="*/ 47880 h 1152360"/>
                <a:gd name="textAreaBottom" fmla="*/ 1104480 h 115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99cc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78080" y="941400"/>
              <a:ext cx="144360" cy="1152360"/>
            </a:xfrm>
            <a:custGeom>
              <a:avLst/>
              <a:gdLst>
                <a:gd name="textAreaLeft" fmla="*/ 0 w 144360"/>
                <a:gd name="textAreaRight" fmla="*/ 101160 w 144360"/>
                <a:gd name="textAreaTop" fmla="*/ 47880 h 1152360"/>
                <a:gd name="textAreaBottom" fmla="*/ 1104480 h 115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99cc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4" name="" descr="">
              <a:hlinkClick r:id="rId5"/>
            </p:cNvPr>
            <p:cNvPicPr/>
            <p:nvPr/>
          </p:nvPicPr>
          <p:blipFill>
            <a:blip r:embed="rId6"/>
            <a:srcRect l="0" t="36696" r="0" b="14660"/>
            <a:stretch/>
          </p:blipFill>
          <p:spPr>
            <a:xfrm>
              <a:off x="3841560" y="1277640"/>
              <a:ext cx="1685520" cy="57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384840" y="424980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65160" y="423540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usiness Gi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28400" y="4767120"/>
            <a:ext cx="964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-WEBS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-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-CI/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-CATALO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-BROCH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-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36880" y="4633920"/>
            <a:ext cx="1306440" cy="130032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2844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82960" y="4633920"/>
            <a:ext cx="1306440" cy="130032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2844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689440" y="4633920"/>
            <a:ext cx="1306800" cy="130032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2844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500960" y="4633920"/>
            <a:ext cx="1306440" cy="1300320"/>
          </a:xfrm>
          <a:prstGeom prst="ellipse">
            <a:avLst/>
          </a:prstGeom>
          <a:blipFill rotWithShape="0">
            <a:blip r:embed="rId10"/>
            <a:srcRect/>
            <a:stretch/>
          </a:blipFill>
          <a:ln w="2844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11760" y="4205160"/>
            <a:ext cx="139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orpora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v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510880" y="4213080"/>
            <a:ext cx="161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T Inf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uil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09320" y="4249800"/>
            <a:ext cx="138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08320" y="4748040"/>
            <a:ext cx="8395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-Liv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ash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ff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d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92480" y="4756320"/>
            <a:ext cx="968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-Semin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-Golf 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-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11680" y="5045040"/>
            <a:ext cx="1635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-WEB PROGRA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-PARTNER POR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521160" y="5143680"/>
            <a:ext cx="220680" cy="293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latin typeface="궁서"/>
              </a:rPr>
              <a:t>+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stretch/>
              </a:blipFill>
              <a:latin typeface="궁서"/>
              <a:ea typeface="궁서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72280" y="5143680"/>
            <a:ext cx="220320" cy="293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latin typeface="궁서"/>
              </a:rPr>
              <a:t>+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stretch/>
              </a:blipFill>
              <a:latin typeface="궁서"/>
              <a:ea typeface="궁서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210440" y="5143680"/>
            <a:ext cx="220680" cy="293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5"/>
                  <a:srcRect/>
                  <a:stretch/>
                </a:blipFill>
                <a:latin typeface="궁서"/>
              </a:rPr>
              <a:t>+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6"/>
                <a:srcRect/>
                <a:stretch/>
              </a:blipFill>
              <a:latin typeface="궁서"/>
              <a:ea typeface="궁서"/>
            </a:endParaRPr>
          </a:p>
        </p:txBody>
      </p:sp>
      <p:sp>
        <p:nvSpPr>
          <p:cNvPr id="111" name=""/>
          <p:cNvSpPr/>
          <p:nvPr/>
        </p:nvSpPr>
        <p:spPr>
          <a:xfrm>
            <a:off x="7508880" y="4979880"/>
            <a:ext cx="163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-Marketing Divi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-Domestic S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-Promo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276800" y="333360"/>
            <a:ext cx="730080" cy="8604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874080" y="1141560"/>
            <a:ext cx="76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21920" y="115884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usiness gi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33640" y="1155600"/>
            <a:ext cx="154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rporate E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81800" y="1144440"/>
            <a:ext cx="147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t infra Buil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rcRect l="7462" t="24319" r="71306" b="66433"/>
          <a:stretch/>
        </p:blipFill>
        <p:spPr>
          <a:xfrm>
            <a:off x="971640" y="2641680"/>
            <a:ext cx="785880" cy="10000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rcRect l="5147" t="47930" r="71306" b="42115"/>
          <a:stretch/>
        </p:blipFill>
        <p:spPr>
          <a:xfrm>
            <a:off x="885960" y="3930480"/>
            <a:ext cx="871560" cy="10764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rcRect l="7978" t="70839" r="71306" b="20090"/>
          <a:stretch/>
        </p:blipFill>
        <p:spPr>
          <a:xfrm>
            <a:off x="971640" y="5372280"/>
            <a:ext cx="718920" cy="919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rcRect l="6649" t="82345" r="74473" b="12275"/>
          <a:stretch/>
        </p:blipFill>
        <p:spPr>
          <a:xfrm>
            <a:off x="7580160" y="1419120"/>
            <a:ext cx="652680" cy="882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rcRect l="8468" t="1878" r="74279" b="92634"/>
          <a:stretch/>
        </p:blipFill>
        <p:spPr>
          <a:xfrm>
            <a:off x="4371840" y="1460520"/>
            <a:ext cx="655920" cy="8604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7"/>
          <a:srcRect l="7449" t="58352" r="73144" b="36492"/>
          <a:stretch/>
        </p:blipFill>
        <p:spPr>
          <a:xfrm>
            <a:off x="7562880" y="2685960"/>
            <a:ext cx="695160" cy="8762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8"/>
          <a:srcRect l="6914" t="39518" r="68088" b="55102"/>
          <a:stretch/>
        </p:blipFill>
        <p:spPr>
          <a:xfrm>
            <a:off x="2468520" y="1461960"/>
            <a:ext cx="854280" cy="873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9"/>
          <a:srcRect l="7849" t="41568" r="75260" b="48314"/>
          <a:stretch/>
        </p:blipFill>
        <p:spPr>
          <a:xfrm>
            <a:off x="5945040" y="2711520"/>
            <a:ext cx="738360" cy="895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871200" y="2290680"/>
            <a:ext cx="104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휴먼옛체"/>
              </a:rPr>
              <a:t>김인중팀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휴먼옛체"/>
              </a:rPr>
              <a:t>Web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19360" y="35956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휴먼옛체"/>
              </a:rPr>
              <a:t>이동은대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휴먼옛체"/>
              </a:rPr>
              <a:t>Graphic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3280" y="495000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휴먼옛체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휴먼옛체"/>
              </a:rPr>
              <a:t>정유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휴먼옛체"/>
              </a:rPr>
              <a:t>Graphic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5360" y="624204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휴먼옛체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휴먼옛체"/>
              </a:rPr>
              <a:t>최정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휴먼옛체"/>
              </a:rPr>
              <a:t>Graphic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59960" y="2303640"/>
            <a:ext cx="706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휴먼옛체"/>
              </a:rPr>
              <a:t>임희규대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휴먼옛체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휴먼옛체"/>
              </a:rPr>
              <a:t>S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13640" y="2282760"/>
            <a:ext cx="66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휴먼옛체"/>
              </a:rPr>
              <a:t>이희철대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휴먼옛체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휴먼옛체"/>
              </a:rPr>
              <a:t>S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13600" y="2286000"/>
            <a:ext cx="649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휴먼옛체"/>
              </a:rPr>
              <a:t>조종현차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휴먼옛체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휴먼옛체"/>
              </a:rPr>
              <a:t>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741800" y="3521160"/>
            <a:ext cx="45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휴먼옛체"/>
              </a:rPr>
              <a:t>장인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휴먼옛체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휴먼옛체"/>
              </a:rPr>
              <a:t>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07320" y="2282760"/>
            <a:ext cx="63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휴먼옛체"/>
              </a:rPr>
              <a:t>김태중팀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휴먼옛체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휴먼옛체"/>
              </a:rPr>
              <a:t>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43160" y="4376880"/>
            <a:ext cx="1105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휴먼옛체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휴먼옛체"/>
              </a:rPr>
              <a:t>조재훈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휴먼옛체"/>
              </a:rPr>
              <a:t>Progra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639720"/>
            <a:ext cx="86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휴먼옛체"/>
              </a:rPr>
              <a:t>이하룡대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휴먼옛체"/>
              </a:rPr>
              <a:t>Presid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08200" y="163440"/>
            <a:ext cx="280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헤드라인M"/>
              </a:rPr>
              <a:t>Orga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712800" y="236520"/>
            <a:ext cx="142560" cy="286920"/>
            <a:chOff x="712800" y="236520"/>
            <a:chExt cx="142560" cy="286920"/>
          </a:xfrm>
        </p:grpSpPr>
        <p:sp>
          <p:nvSpPr>
            <p:cNvPr id="138" name=""/>
            <p:cNvSpPr/>
            <p:nvPr/>
          </p:nvSpPr>
          <p:spPr>
            <a:xfrm>
              <a:off x="775080" y="236520"/>
              <a:ext cx="80280" cy="286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e7533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12800" y="236520"/>
              <a:ext cx="80280" cy="286920"/>
            </a:xfrm>
            <a:prstGeom prst="rect">
              <a:avLst/>
            </a:prstGeom>
            <a:solidFill>
              <a:srgbClr val="8c1e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e7533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468160" y="3573360"/>
            <a:ext cx="104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휴먼옛체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휴먼옛체"/>
              </a:rPr>
              <a:t>나미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휴먼옛체"/>
              </a:rPr>
              <a:t>Web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02160" y="4916520"/>
            <a:ext cx="482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휴먼옛체"/>
              </a:rPr>
              <a:t>박주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휴먼옛체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휴먼옛체"/>
              </a:rPr>
              <a:t>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81040" y="3038400"/>
            <a:ext cx="204804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0"/>
          <a:srcRect l="6037" t="20222" r="68088" b="73774"/>
          <a:stretch/>
        </p:blipFill>
        <p:spPr>
          <a:xfrm>
            <a:off x="4314960" y="2695680"/>
            <a:ext cx="834840" cy="9205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491000" y="3579840"/>
            <a:ext cx="482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휴먼옛체"/>
              </a:rPr>
              <a:t>신혜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휴먼옛체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휴먼옛체"/>
              </a:rPr>
              <a:t>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397640" y="1136520"/>
            <a:ext cx="108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arket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22680" y="5608800"/>
            <a:ext cx="482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휴먼옛체"/>
              </a:rPr>
              <a:t>이왕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휴먼옛체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휴먼옛체"/>
              </a:rPr>
              <a:t>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628720" y="4352760"/>
            <a:ext cx="587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휴먼옛체"/>
              </a:rPr>
              <a:t>김한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휴먼옛체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휴먼옛체"/>
              </a:rPr>
              <a:t>S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1"/>
          <a:stretch/>
        </p:blipFill>
        <p:spPr>
          <a:xfrm>
            <a:off x="870120" y="1433520"/>
            <a:ext cx="755640" cy="9018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2"/>
          <a:stretch/>
        </p:blipFill>
        <p:spPr>
          <a:xfrm>
            <a:off x="2565360" y="2759040"/>
            <a:ext cx="704880" cy="8604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3"/>
          <a:stretch/>
        </p:blipFill>
        <p:spPr>
          <a:xfrm>
            <a:off x="4373640" y="4059360"/>
            <a:ext cx="796680" cy="8967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4"/>
          <a:stretch/>
        </p:blipFill>
        <p:spPr>
          <a:xfrm>
            <a:off x="5916600" y="1498680"/>
            <a:ext cx="698400" cy="8301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843160" y="3573360"/>
            <a:ext cx="1105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휴먼옛체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휴먼옛체"/>
              </a:rPr>
              <a:t>김준영대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휴먼옛체"/>
              </a:rPr>
              <a:t>Progra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808200" y="163440"/>
            <a:ext cx="1952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ust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712800" y="236520"/>
            <a:ext cx="99720" cy="201600"/>
            <a:chOff x="712800" y="236520"/>
            <a:chExt cx="99720" cy="201600"/>
          </a:xfrm>
        </p:grpSpPr>
        <p:sp>
          <p:nvSpPr>
            <p:cNvPr id="155" name=""/>
            <p:cNvSpPr/>
            <p:nvPr/>
          </p:nvSpPr>
          <p:spPr>
            <a:xfrm>
              <a:off x="756360" y="236520"/>
              <a:ext cx="56160" cy="201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e7533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2800" y="236520"/>
              <a:ext cx="56160" cy="201600"/>
            </a:xfrm>
            <a:prstGeom prst="rect">
              <a:avLst/>
            </a:prstGeom>
            <a:solidFill>
              <a:srgbClr val="8c1e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e7533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229320" y="6324480"/>
            <a:ext cx="13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jtmg.co.k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73120" y="866880"/>
            <a:ext cx="8420040" cy="522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808200" y="163440"/>
            <a:ext cx="280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헤드라인M"/>
              </a:rPr>
              <a:t>Corporate Event Portfol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712800" y="236520"/>
            <a:ext cx="142560" cy="286920"/>
            <a:chOff x="712800" y="236520"/>
            <a:chExt cx="142560" cy="286920"/>
          </a:xfrm>
        </p:grpSpPr>
        <p:sp>
          <p:nvSpPr>
            <p:cNvPr id="161" name=""/>
            <p:cNvSpPr/>
            <p:nvPr/>
          </p:nvSpPr>
          <p:spPr>
            <a:xfrm>
              <a:off x="775080" y="236520"/>
              <a:ext cx="80280" cy="286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e7533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12800" y="236520"/>
              <a:ext cx="80280" cy="286920"/>
            </a:xfrm>
            <a:prstGeom prst="rect">
              <a:avLst/>
            </a:prstGeom>
            <a:solidFill>
              <a:srgbClr val="8c1e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e7533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486720" y="6211800"/>
            <a:ext cx="188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juncotommy.co.k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860400" y="1984320"/>
            <a:ext cx="2263680" cy="41054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3513240" y="1271520"/>
            <a:ext cx="2401920" cy="41227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6264360" y="706320"/>
            <a:ext cx="2512800" cy="409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96000" y="2592360"/>
            <a:ext cx="176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Cisco-Links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726440" y="257328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M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328880" y="258588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Juni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08200" y="163440"/>
            <a:ext cx="1952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헤드라인M"/>
              </a:rPr>
              <a:t>Design Portfol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712800" y="236520"/>
            <a:ext cx="99720" cy="201600"/>
            <a:chOff x="712800" y="236520"/>
            <a:chExt cx="99720" cy="201600"/>
          </a:xfrm>
        </p:grpSpPr>
        <p:sp>
          <p:nvSpPr>
            <p:cNvPr id="172" name=""/>
            <p:cNvSpPr/>
            <p:nvPr/>
          </p:nvSpPr>
          <p:spPr>
            <a:xfrm>
              <a:off x="756360" y="236520"/>
              <a:ext cx="56160" cy="201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e7533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2800" y="236520"/>
              <a:ext cx="56160" cy="201600"/>
            </a:xfrm>
            <a:prstGeom prst="rect">
              <a:avLst/>
            </a:prstGeom>
            <a:solidFill>
              <a:srgbClr val="8c1e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e7533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229320" y="6324480"/>
            <a:ext cx="1306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www.jtmg.co.k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49280" y="418788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Microso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261480" y="5584680"/>
            <a:ext cx="176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Cisco-Links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75640" y="42879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3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77720" y="557676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utode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6261120" y="4243320"/>
            <a:ext cx="2200320" cy="6508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6259680" y="4927680"/>
            <a:ext cx="2230200" cy="6602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4336920" y="865080"/>
            <a:ext cx="1246320" cy="17258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1413000" y="863640"/>
            <a:ext cx="1261800" cy="17319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6"/>
          <a:stretch/>
        </p:blipFill>
        <p:spPr>
          <a:xfrm>
            <a:off x="1414440" y="3335400"/>
            <a:ext cx="1558800" cy="8618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7"/>
          <a:stretch/>
        </p:blipFill>
        <p:spPr>
          <a:xfrm>
            <a:off x="4237200" y="3238560"/>
            <a:ext cx="1339560" cy="9586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8"/>
          <a:stretch/>
        </p:blipFill>
        <p:spPr>
          <a:xfrm>
            <a:off x="1444680" y="4950000"/>
            <a:ext cx="2663640" cy="6318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9"/>
          <a:stretch/>
        </p:blipFill>
        <p:spPr>
          <a:xfrm>
            <a:off x="7216920" y="868320"/>
            <a:ext cx="121428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808200" y="163440"/>
            <a:ext cx="1952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헤드라인M"/>
              </a:rPr>
              <a:t>Design Portfolio (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712800" y="236520"/>
            <a:ext cx="99720" cy="201600"/>
            <a:chOff x="712800" y="236520"/>
            <a:chExt cx="99720" cy="201600"/>
          </a:xfrm>
        </p:grpSpPr>
        <p:sp>
          <p:nvSpPr>
            <p:cNvPr id="189" name=""/>
            <p:cNvSpPr/>
            <p:nvPr/>
          </p:nvSpPr>
          <p:spPr>
            <a:xfrm>
              <a:off x="756360" y="236520"/>
              <a:ext cx="56160" cy="201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e7533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12800" y="236520"/>
              <a:ext cx="56160" cy="201600"/>
            </a:xfrm>
            <a:prstGeom prst="rect">
              <a:avLst/>
            </a:prstGeom>
            <a:solidFill>
              <a:srgbClr val="8c1e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e7533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229320" y="6324480"/>
            <a:ext cx="1306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www.jtmg.co.k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2190600" y="638280"/>
            <a:ext cx="4762800" cy="529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808200" y="163440"/>
            <a:ext cx="1952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헤드라인M"/>
              </a:rPr>
              <a:t>Design Portfolio (Broch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712800" y="236520"/>
            <a:ext cx="99720" cy="201600"/>
            <a:chOff x="712800" y="236520"/>
            <a:chExt cx="99720" cy="201600"/>
          </a:xfrm>
        </p:grpSpPr>
        <p:sp>
          <p:nvSpPr>
            <p:cNvPr id="195" name=""/>
            <p:cNvSpPr/>
            <p:nvPr/>
          </p:nvSpPr>
          <p:spPr>
            <a:xfrm>
              <a:off x="756360" y="236520"/>
              <a:ext cx="56160" cy="201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e7533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12800" y="236520"/>
              <a:ext cx="56160" cy="201600"/>
            </a:xfrm>
            <a:prstGeom prst="rect">
              <a:avLst/>
            </a:prstGeom>
            <a:solidFill>
              <a:srgbClr val="8c1e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e7533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229320" y="6324480"/>
            <a:ext cx="1306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www.jtmg.co.k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2271600" y="639720"/>
            <a:ext cx="4762440" cy="5295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4T13:08:56Z</dcterms:created>
  <dc:creator>Brown Inc</dc:creator>
  <dc:description/>
  <dc:language>en-US</dc:language>
  <cp:lastModifiedBy>이희철</cp:lastModifiedBy>
  <cp:lastPrinted>2007-11-01T07:56:42Z</cp:lastPrinted>
  <dcterms:modified xsi:type="dcterms:W3CDTF">2007-11-06T02:29:44Z</dcterms:modified>
  <cp:revision>986</cp:revision>
  <dc:subject/>
  <dc:title>No Slide Title</dc:title>
</cp:coreProperties>
</file>