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328-F7C4-4ABC-A1DE-DA5B59C3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BF0-7AD2-4FE4-8071-F6B8647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FA7-0E63-4D0B-A8EC-33E400FF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4B1-6FAA-4686-AAAD-942CDCEB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C155-EC9E-4FC8-951A-E2372F39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096F-A584-4DA4-8B81-EC4EA547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CD0-65FF-4683-A318-B82E6136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5721-DAF0-4371-B991-59CB18A4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8AC0-23B5-4A34-8807-727FC5C1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8B9E-4183-4435-81C6-12EF37D5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3053-DA9C-4082-B9AF-2BBAD293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E8E-F924-4CB6-851B-5DFE1582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FE6D-EE8F-4DD8-A612-4F9800D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91AA-E0C1-4FCD-998F-9F2B859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4093-53CA-47C2-86B8-8CF301D4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ECBB-8628-43B8-909F-D602C2EB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41D4-92EB-4B6D-ADFC-0468F59B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DC1-0F48-49E4-B1BF-4366B204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2DA-BA0E-4E9B-AB07-1DF03712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902-3B1D-4433-87C3-C1689532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BDB-5043-47BF-B7B7-0E61D82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1B7-C0B4-4DBA-8382-33B630C8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5E2-12ED-4E33-BA7D-E7E64C8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22A-F925-487B-89C4-C1C9D00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638-FA4D-4B3B-925A-653FEC1C7F46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F56-5199-4A00-9309-3E1B878716E7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56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  <a:ea typeface="바탕"/>
              </a:rPr>
              <a:t>EAM </a:t>
            </a:r>
            <a:r>
              <a:rPr b="1" lang="zh-CN" sz="2000" spc="-1" strike="noStrike">
                <a:solidFill>
                  <a:srgbClr val="ffffff"/>
                </a:solidFill>
                <a:latin typeface="굴림"/>
                <a:ea typeface="바탕"/>
              </a:rPr>
              <a:t>시스템의 요구사항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EAM </a:t>
            </a:r>
            <a:r>
              <a:rPr b="0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시스템은 적어도 다음과 같은 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가지 요구사항 항목을 가진다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◆ </a:t>
            </a:r>
            <a:r>
              <a:rPr b="1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인증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(Authentication)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시스템에 접근하는 사용자를 확인한다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일반적으로 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ID/PWD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방식이 가장 널리 사용되며 보안성을 강화하기 위해 암호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PKI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기술들이 이용된다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◆ 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SO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 :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통합 인증된 사용자가 개별 애플리케이션에 추가적인 인증 요구 없이 사용할 수 있어야 한다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◆ </a:t>
            </a:r>
            <a:r>
              <a:rPr b="1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인가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1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접근제어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(Authorization)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 :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개별 애플리케이션의 각 자원 및 서비스에 대한 인가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접근제어 권한을 관리 툴로 설정하고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설정된 인가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접근제어 권한이 개별 애플리케이션 동작에 적용이 돼야 한다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◆ </a:t>
            </a:r>
            <a:r>
              <a:rPr b="1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개인화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(Personalization) 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통합 인증된 사용자가 개별 애플리케이션에 접근할 때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접근하는 사용자의 아이덴티티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(Identity)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와 사용자의 정보를 확인할 수 있는 기술이 제공돼야 한다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◆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관리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(Aministration)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 :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통합 인증을 위한 사용자 계정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개별 애플리케이션의 인가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접근제어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개인화를 위한 정보제공의 범위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감사기능 등을 편리하게 관리할 수 있는 기능이 제공돼야 한다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◆ </a:t>
            </a:r>
            <a:r>
              <a:rPr b="1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감사</a:t>
            </a: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(Auditing)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 :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전체 시스템에 접근해 통합 인증을 받고 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SO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으로 개별 애플리케이션에 접근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인가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바탕"/>
                <a:ea typeface="바탕"/>
              </a:rPr>
              <a:t>접근제어가 수행되는 모든 과정이 감사 기록으로 남아야 한다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인증</a:t>
            </a:r>
            <a:r>
              <a:rPr b="1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(Authenication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520"/>
            <a:ext cx="9144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▷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Basic ID/PWD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HTTP/HTTPS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프로토콜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BASIC Authentication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법을 이용해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ID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와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Password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로 사용자 인증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인증 방법은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HTTP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프로토콜을 사용하는 경우 사용자가 입력한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ID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와 패스워드가 네트워크를 통해 암호화되지 않고 전송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HTTPS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프로토콜을 이용하는 경우에는 암호화돼 전달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▷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Digest Authentic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HTTP/HTTPS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프로토콜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Digest Authentication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법을 이용해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ID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와 패스워드로 사용자를 인증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인증방법은 패스워드가 평문으로 전달되지 않아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Basic ID/PWD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인증보다 향상된 보안 서비스를 제공하지만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패스워드가 저장될 때 반드시 패스워드 원본 혹은 복호화될 수 있는 정보로 저장돼야 하기 때문에 서버에서의 패스워드 관리에 각별한 주의가 요구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▷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Form Based Authentic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Customized Form(HTML/JSP/ASP etc.)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을 이용해 사용자를 확인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폼에 입력되는 인증 정보는 사용자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ID/PWD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만으로 구성될 수도 있고 사용자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ID/PWD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외의 다른 정보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예를 들어 사용자 주민등록번호 등을 추가적으로 포함해 사용할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전달되는 정보의 암호화를 위해서는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HTTPS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프로토콜이나 기타 암호 제품을 사용할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▷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X.509 Client Certificate over SSL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HTTPS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프로토콜의 사용자 인증서 인증 프로토콜을 이용해 인증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인증서의 폐기 여부 확인을 위해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CRL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검증과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OCSP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검증 방법을 사용할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▷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One Time Password </a:t>
            </a:r>
            <a:r>
              <a:rPr b="1" lang="zh-CN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인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한 번만 사용될 수 있는 패스워드를 이용해 사용자를 인증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사용자에게 미리 전달된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OTP Token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을 이용하여 사용자를 인증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▷ </a:t>
            </a:r>
            <a:r>
              <a:rPr b="1" lang="zh-CN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생체 인식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사용자의 지문이나 홍채 등을 이용해 사용자를 인증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아직은 널리 사용되고 있지 않으나 지문 인식의 경우 그 영역이 확대되고 있는 추세이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SSO </a:t>
            </a:r>
            <a:r>
              <a:rPr b="1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모델</a:t>
            </a:r>
            <a:br>
              <a:rPr sz="2000"/>
            </a:br>
            <a:br>
              <a:rPr sz="9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일반적으로 사용되는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시스템은 두 가지 모델로 구분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SSO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대상 애플리케이션에서 사용되는 사용자 인증 방법을 별도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에이전트가 대행해주는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Delegation(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인증 대행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)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식과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시스템과 신뢰관계를 토대로 사용자를 인증한 사실을 전달받아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를 구현하는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Propagation(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인증정보 전달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)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식으로 구분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Delegation </a:t>
            </a:r>
            <a:r>
              <a:rPr b="1" lang="zh-CN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방식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대상 애플리케이션의 인증 방식을 전혀 변경하지 않고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사용자의 대상 애플리케이션 인증 정보를 에이전트가 관리해 사용자 대신 로그온 해주는 방식이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즉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Target Server 1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을 로그온 할 때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User1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alice/alice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라는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ID/PWD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가 필요하다면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에이전트가 이 정보를 가지고 있고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User1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Target Service 1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에 접근할 때 에이전트가 대신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alice/alice ID/PWD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정보를 전달해서 로그온 시켜준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Propagation </a:t>
            </a:r>
            <a:r>
              <a:rPr b="1" lang="zh-CN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방식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통합 인증을 수행하는 곳에서 인증을 받아 대상 애플리케이션으로 전달한 토큰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(Token)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을 발급 받는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대상 애플리케이션에 사용자가 접근할 때 토큰을 자동으로 전달해 대상 애플리케이션이 사용자를 확인할 수 있도록 하는 방식이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웹 환경에서는 쿠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(Cookie)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라는 기술을 이용해 토큰을 자동으로 대상 애플리케이션에 전달할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러한 웹 환경의 이점으로 웹 환경에서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는 대부분 이 모델을 채택하고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Delegation &amp; Progation </a:t>
            </a:r>
            <a:r>
              <a:rPr b="1" lang="zh-CN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방식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웹 환경이라고 하더라도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Propagation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식이 모두 적용될 수는 없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특히 웹 애플리케이션의 변경이 전혀 불가능하고 사용자 통합이 어려운 경우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Delegation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식을 사용하게 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또한 대상 애플리케이션들이 많이 있고 애플리케이션의 특성들이 다양한 각 애플리케이션에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Delegation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식과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Propagation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방식을 혼용해서 전체 시스템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을 구성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Web </a:t>
            </a:r>
            <a:r>
              <a:rPr b="1" lang="zh-CN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기반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One Cookie Domain SSO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SSO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대상 서비스와 응용 애플리케이션들이 하나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Cookie Domain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안에 존재할 때 사용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일반적인 기업 내부의 컴퓨팅 환경이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통합 인증을 받은 사용자는 토큰을 발급받게 되고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토큰은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Cookie Domain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에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Cookie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로 설정되어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Cookie Domain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내의 다른 서비스로 접근할 때 자동으로 토큰을 서비스에 제공하게 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서비스에서 동작되는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에이전트는 토큰으로부터 사용자 신원을 확인하고 요청된 자원에 대한 접근을 허가 해 준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74521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724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0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Web </a:t>
            </a:r>
            <a:r>
              <a:rPr b="1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기반 </a:t>
            </a:r>
            <a:r>
              <a:rPr b="1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Multi Cookie Domain SSO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09640"/>
            <a:ext cx="914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One Token for All Multi Cookie Domain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모든 도메인이 하나의 토큰을 공유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모든 시스템은 서로 신뢰관계를 가져야 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이 하나만 사용되므로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마스터 에이전트는 사용자 인증 및 각 도메인에 대한 토큰 제공에 대해서만 수행하게 돼 에이전트들의 관리 및 구성이 매우 간단하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하지만 모든 도메인들이 서로 신뢰관계를 가져야 한다는 제약사항으로 인해 적용대상이 제한적이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일반적으로 하나의 기업에서 운영하는 다중 도메인 서비스들을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O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로 구성할 때 많이 사용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5756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△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One Token for each cookie domain &amp; One Token for Master Agen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마스터 에이전트와 각 도메인들이 각각 토큰을 가진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마스터 에이전트는 각 도메인의 에이전트들과 신뢰 관계를 가지며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각 도메인의 에이전트들 사이는 신뢰관계를 가지지 않는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마스터 에이전트는 각 도메인의 에이전트에게 전달할 사용자 토큰을 발행하므로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에이번트들의 레벨이나 속성에 따라 토큰에 저장되는 사용자 정보의 양을 조절할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이 각 도메인 별로 발행되므로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도메인별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Replay Attack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등에 취약성이 전체 시스템에 영향을 주지 않는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SSO </a:t>
            </a:r>
            <a:r>
              <a:rPr b="1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보안 기술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Data Confidentiality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은 주요 암호 알고리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(AES, SEED)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과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128bit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상의 키로 암호화돼 보호되어야 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Data Integrity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은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MAC(Message Authentication Code)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등을 포함해 데이터의 무결성을 보장해야 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Replay Attack Protec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은 사용자와 대상 애플리케이션 사이에 전달되는 인증정보이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일반적으로 토큰은 네트워크에 노출되며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노출된 토큰을 사용해 다른 사용자가 인증을 받고 들어올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(Replay Attack) 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특히 웹 환경에서 이러한 문제점이 중요한 이슈로 등장하고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러한 문제점을 근본적으로 해결하기 위해서는 토큰을 네트워크에 노출 시키지 않아야 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을 네트워크에 노출시키지 않기 위해서는 항상 사용자와 대상 애플리케이션 사이에 암호 채널을 형성해야 하며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채널을 통해 토큰을 전달해야 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그러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L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과 같은 채널 암호를 사용하는 데에는 매우 많은 비용이 요구되어 실제로 많이 사용되고 있지는 않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SSL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과 같은 암호채널을 사용하지 않으면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Replay Attack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발생할 수 있는 상황을 줄일 수 있도록 다음과 같은 보안 기술들이 사용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zh-CN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사용자 주소 제한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이 발행될 때 접속한 사용자 주소 정보를 토큰 내부나 토큰을 발행한 서버에서 기억함으로써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Token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이 제출된 사용자 주소와 최초 발생시 기업된 주소를 비교하여 접속한 곳 이외에서의 접속을 제한할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사용자 주소가 업무진행 중에 자주 변경되지 않는 시스템일 경우 유효하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예를 들어 회사내의 인터넷 환경일 경우 사용될 수 있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인터넷 환경의 경우에는 사용자 주소가 특정 범위에서 자주 바뀔 수 있는 환경도 있기 때문에 불특정 다수를 위한 일반적인 인터넷 서비스에 사용하기에는 부적합하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△ </a:t>
            </a:r>
            <a:r>
              <a:rPr b="1" lang="zh-CN" sz="14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유효시간 제한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토큰의 유효시간을 매우 짧게 줌으로써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Replay Attack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에 사용될 수 있는 시간을 제한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유효시간내에 임계시간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예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: 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유효시간의 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1/2)</a:t>
            </a:r>
            <a:r>
              <a:rPr b="0" lang="zh-CN" sz="1400" spc="-1" strike="noStrike">
                <a:solidFill>
                  <a:srgbClr val="ffffff"/>
                </a:solidFill>
                <a:latin typeface="바탕"/>
                <a:ea typeface="바탕"/>
              </a:rPr>
              <a:t>을 넘으면 자동으로 토큰을 재 발행하여 사용자는 의식하지 못하고 서비스를 계속 사용하게 한다</a:t>
            </a:r>
            <a:r>
              <a:rPr b="0" lang="en-US" sz="14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07:19:09Z</dcterms:created>
  <dc:creator>hanjum</dc:creator>
  <dc:description/>
  <dc:language>en-US</dc:language>
  <cp:lastModifiedBy>hanjum</cp:lastModifiedBy>
  <dcterms:modified xsi:type="dcterms:W3CDTF">2005-04-10T07:41:08Z</dcterms:modified>
  <cp:revision>8</cp:revision>
  <dc:subject/>
  <dc:title>PowerPoint 프레젠테이션</dc:title>
</cp:coreProperties>
</file>