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67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5280" y="4001760"/>
            <a:ext cx="8367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24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95280" y="400176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240" y="400176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4520" y="129528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4120" y="129528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5280" y="400176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4520" y="400176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4120" y="400176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C47-5C46-4C45-8326-71308BF9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7B2-0E03-4B33-AA74-24B05848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975-6328-4CD2-8DD2-F3DE36DF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4083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1295280"/>
            <a:ext cx="4083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80E-D7A0-4E0B-8EDE-F5EBF736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36C-3B25-45B6-8A2C-834E64D0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3393-2D38-4094-8CB8-352F48A8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295280"/>
            <a:ext cx="4083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400176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5D0D-699D-45CD-92E4-AC940364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4083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400176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3BEF-3BD4-41FF-A127-AA7EE365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4001760"/>
            <a:ext cx="8367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411A-BE83-4780-9191-A88EEC8E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67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4001760"/>
            <a:ext cx="8367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624-7771-4F66-8A8F-E7149242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400176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400176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EA55-1755-4237-B940-6A36951B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129528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29528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400176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400176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4001760"/>
            <a:ext cx="2694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6CDE-DD8E-43D6-9C78-68E1AC60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4083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240" y="1295280"/>
            <a:ext cx="4083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240" y="1295280"/>
            <a:ext cx="4083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95280" y="400176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4083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24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240" y="400176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240" y="1295280"/>
            <a:ext cx="4083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5280" y="4001760"/>
            <a:ext cx="8367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SzPct val="90000"/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90000"/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90000"/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AC Banner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500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8D96-7C1F-41BF-9DD7-54E4CC0E26A0}" type="slidenum">
              <a:rPr b="0" lang="ko-K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AC Half Banner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685800" y="345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2311560"/>
          <a:ext cx="3124080" cy="104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11560"/>
                    <a:ext cx="312408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geofstone@interdev.co.krv" TargetMode="External"/><Relationship Id="rId2" Type="http://schemas.openxmlformats.org/officeDocument/2006/relationships/hyperlink" Target="mailto:ageofstone@interdev.co.krv" TargetMode="External"/><Relationship Id="rId3" Type="http://schemas.openxmlformats.org/officeDocument/2006/relationships/hyperlink" Target="mailto:ageofstone@interdev.co.krv" TargetMode="External"/><Relationship Id="rId4" Type="http://schemas.openxmlformats.org/officeDocument/2006/relationships/hyperlink" Target="mailto:ageofstone@interdev.co.krv" TargetMode="Externa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굴림"/>
              </a:rPr>
              <a:t>C# Even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9520" y="4266720"/>
            <a:ext cx="4953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㈜ 인터데브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솔루션 개발 사업부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준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6633"/>
                </a:solidFill>
                <a:uFillTx/>
                <a:latin typeface="Tahoma"/>
                <a:ea typeface="굴림"/>
                <a:hlinkClick r:id="rId1"/>
              </a:rPr>
              <a:t>ageofstone@</a:t>
            </a:r>
            <a:r>
              <a:rPr b="1" lang="en-US" sz="2400" spc="-1" strike="noStrike" u="sng">
                <a:solidFill>
                  <a:srgbClr val="996633"/>
                </a:solidFill>
                <a:uFillTx/>
                <a:latin typeface="Tahoma"/>
                <a:ea typeface="굴림"/>
                <a:hlinkClick r:id="rId2"/>
              </a:rPr>
              <a:t>interdev</a:t>
            </a:r>
            <a:r>
              <a:rPr b="1" lang="en-US" sz="2400" spc="-1" strike="noStrike" u="sng">
                <a:solidFill>
                  <a:srgbClr val="996633"/>
                </a:solidFill>
                <a:uFillTx/>
                <a:latin typeface="Tahoma"/>
                <a:ea typeface="굴림"/>
                <a:hlinkClick r:id="rId3"/>
              </a:rPr>
              <a:t>.co.</a:t>
            </a:r>
            <a:r>
              <a:rPr b="1" lang="en-US" sz="2400" spc="-1" strike="noStrike" u="sng">
                <a:solidFill>
                  <a:srgbClr val="996633"/>
                </a:solidFill>
                <a:uFillTx/>
                <a:latin typeface="Tahoma"/>
                <a:ea typeface="굴림"/>
                <a:hlinkClick r:id="rId4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ahoma"/>
                <a:ea typeface="굴림"/>
              </a:rPr>
              <a:t>정리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의 및 사용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 Guideli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ahoma"/>
                <a:ea typeface="굴림"/>
              </a:rPr>
              <a:t>학습 내용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의 및 사용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 Guideli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Even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어떤 사건이 발생했을 때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pplication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통보하는 방법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이벤트 발생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blisher) :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이벤트 발생시 다른 객체에 이벤트발생을 통보하는 일을 담당하는 객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이벤트 처리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bscriber) :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이벤트 발생시 실제 호출될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thod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이벤트 핸들러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 등록된 객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85800" y="3429000"/>
            <a:ext cx="7772400" cy="2514600"/>
            <a:chOff x="685800" y="3429000"/>
            <a:chExt cx="7772400" cy="2514600"/>
          </a:xfrm>
        </p:grpSpPr>
        <p:sp>
          <p:nvSpPr>
            <p:cNvPr id="89" name=""/>
            <p:cNvSpPr/>
            <p:nvPr/>
          </p:nvSpPr>
          <p:spPr>
            <a:xfrm>
              <a:off x="685800" y="3429000"/>
              <a:ext cx="2362320" cy="2514600"/>
            </a:xfrm>
            <a:prstGeom prst="rect">
              <a:avLst/>
            </a:prstGeom>
            <a:solidFill>
              <a:srgbClr val="b5fde3"/>
            </a:solidFill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Lucida Sans Typewriter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Lucida Sans Typewriter"/>
                </a:rPr>
                <a:t>이벤트 처리기</a:t>
              </a:r>
              <a:r>
                <a:rPr b="0" lang="ko-KR" sz="1800" spc="-1" strike="noStrike">
                  <a:solidFill>
                    <a:srgbClr val="000000"/>
                  </a:solidFill>
                  <a:latin typeface="Lucida Sans Typewriter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86400" y="3429000"/>
              <a:ext cx="2362320" cy="2514600"/>
            </a:xfrm>
            <a:prstGeom prst="rect">
              <a:avLst/>
            </a:prstGeom>
            <a:solidFill>
              <a:srgbClr val="b5fde3"/>
            </a:solidFill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Lucida Sans Typewriter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Lucida Sans Typewriter"/>
                </a:rPr>
                <a:t>이벤트 발생기</a:t>
              </a:r>
              <a:r>
                <a:rPr b="0" lang="ko-KR" sz="1800" spc="-1" strike="noStrike">
                  <a:solidFill>
                    <a:srgbClr val="000000"/>
                  </a:solidFill>
                  <a:latin typeface="Lucida Sans Typewriter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19320" y="4648320"/>
              <a:ext cx="1828800" cy="838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Lucida Sans Typewriter"/>
                </a:rPr>
                <a:t>OnClick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Lucida Sans Typewriter"/>
                </a:rPr>
                <a:t>이벤트 핸들러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8120" y="403884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8120" y="518184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05720" y="4343400"/>
              <a:ext cx="175248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Lucida Sans Typewriter"/>
                </a:rPr>
                <a:t>Mouse Click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8120" y="3657600"/>
              <a:ext cx="21337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Lucida Sans Typewriter"/>
                </a:rPr>
                <a:t>이벤트 통보 대기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38840" y="5257800"/>
              <a:ext cx="1523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Lucida Sans Typewriter"/>
                </a:rPr>
                <a:t>이벤트 통보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Event </a:t>
            </a:r>
            <a:r>
              <a:rPr b="1" lang="ko-KR" sz="3200" spc="-1" strike="noStrike">
                <a:solidFill>
                  <a:srgbClr val="ffffff"/>
                </a:solidFill>
                <a:latin typeface="Tahoma"/>
                <a:ea typeface="굴림"/>
              </a:rPr>
              <a:t>선언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함께 사용될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굴림"/>
              </a:rPr>
              <a:t>delegate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정의 확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legate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는 호출할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thod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의 형식만 정의한 것이기 때문에 해당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thod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의 형식이 이미 지정된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legate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 있다면 그대로 사용이 가능하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굴림"/>
              </a:rPr>
              <a:t>ev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키워드를 사용하여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lass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 member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의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blic, protected, private, internal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등의 접근제한자와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tatic, new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등의 키워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2900520"/>
            <a:ext cx="84582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ublic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  <a:ea typeface="굴림"/>
              </a:rPr>
              <a:t>deleg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void </a:t>
            </a:r>
            <a:r>
              <a:rPr b="1" lang="en-US" sz="1800" spc="-1" strike="noStrike">
                <a:solidFill>
                  <a:srgbClr val="ff6600"/>
                </a:solidFill>
                <a:latin typeface="Tahoma"/>
                <a:ea typeface="굴림"/>
              </a:rPr>
              <a:t>AnyEventHandl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(object sender, EventArgs e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741920"/>
            <a:ext cx="8458200" cy="120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class MyClass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ublic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  <a:ea typeface="굴림"/>
              </a:rPr>
              <a:t>ev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Tahoma"/>
                <a:ea typeface="굴림"/>
              </a:rPr>
              <a:t>AnyEventHandl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MyEv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;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Event </a:t>
            </a:r>
            <a:r>
              <a:rPr b="1" lang="ko-KR" sz="3200" spc="-1" strike="noStrike">
                <a:solidFill>
                  <a:srgbClr val="ffffff"/>
                </a:solidFill>
                <a:latin typeface="Tahoma"/>
                <a:ea typeface="굴림"/>
              </a:rPr>
              <a:t>호출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67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lass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선언하면 해당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지정된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legate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식의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ember field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럼 사용 가능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lass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객체를 생성하는 클라이언트가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legate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연결하지 않았으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ull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 된다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legate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연결하였다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legate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참조하게 된다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따라서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호출은 일반적으로 우선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ull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지 확인한 다음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호출하여 실행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해당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선언한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lass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만 호출 가능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038480"/>
            <a:ext cx="8458200" cy="162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rotected virtual void AnyMethod(EventArgs e) 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MyEv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!= null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MyEv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(this, e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Event </a:t>
            </a:r>
            <a:r>
              <a:rPr b="1" lang="ko-KR" sz="3200" spc="-1" strike="noStrike">
                <a:solidFill>
                  <a:srgbClr val="ffffff"/>
                </a:solidFill>
                <a:latin typeface="Tahoma"/>
                <a:ea typeface="굴림"/>
              </a:rPr>
              <a:t>연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선언한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lass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밖에서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ember field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럼 보이지만 할 수 있는 작업은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legate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추가하거나 제거하는 일만 가능하다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legate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추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legate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제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357720"/>
            <a:ext cx="84582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굴림"/>
              </a:rPr>
              <a:t>anyobject.MyEvent += new AnyEventHandler(CalledMethod)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500720"/>
            <a:ext cx="84582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굴림"/>
              </a:rPr>
              <a:t>anyobject.Myevent –= new AnyEventHandler(CalledMethod)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Event</a:t>
            </a:r>
            <a:r>
              <a:rPr b="1" lang="ko-KR" sz="3200" spc="-1" strike="noStrike">
                <a:solidFill>
                  <a:srgbClr val="ffffff"/>
                </a:solidFill>
                <a:latin typeface="Tahoma"/>
                <a:ea typeface="굴림"/>
              </a:rPr>
              <a:t>와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Delegat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발생시키는 코드는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legate instance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호출하는 것과 동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 member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정의된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lass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사용하는 측에서 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lass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stance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발생하는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받기 위해서는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legate instance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생성하고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 member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legate instance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추가해야 한다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Event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 Handler(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벤트 발생시 호출되는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ethod)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ET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 guideline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따라 아래의 두 개의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arameter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받는 메쏘드로 정의된다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bject class type parameter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동일한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Event Handler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가 복수의 이벤트 발생기에 등록되어 질 수 있으므로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sender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는 일반적으로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Event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를 발생한 이벤트 발생기 객체에 대한 참조를 포함한다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ventArgs class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b class type parameter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이벤트 발생기로 부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Event Handler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로 전달할 부가적인 정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4665600"/>
            <a:ext cx="8458200" cy="120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void OnClick(objec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  <a:ea typeface="굴림"/>
              </a:rPr>
              <a:t>send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, EventArgs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  <a:ea typeface="굴림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)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  <a:ea typeface="굴림"/>
              </a:rPr>
              <a:t>// </a:t>
            </a:r>
            <a:r>
              <a:rPr b="0" lang="ko-KR" sz="1800" spc="-1" strike="noStrike">
                <a:solidFill>
                  <a:srgbClr val="006600"/>
                </a:solidFill>
                <a:latin typeface="Tahoma"/>
                <a:ea typeface="굴림"/>
              </a:rPr>
              <a:t>이벤트를 처리하는 코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Dem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67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t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정의하고 사용하는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m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박준호</dc:creator>
  <dc:description/>
  <dc:language>en-US</dc:language>
  <cp:lastModifiedBy>ageofstone</cp:lastModifiedBy>
  <dcterms:modified xsi:type="dcterms:W3CDTF">2002-04-09T09:27:28Z</dcterms:modified>
  <cp:revision>17</cp:revision>
  <dc:subject/>
  <dc:title>C# Event</dc:title>
</cp:coreProperties>
</file>