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5280" y="400176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24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452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412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528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452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412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552-0728-4A76-8266-0B551141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02C-A1F1-4062-9AFA-5CEDDD2A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FAB-396E-469B-B999-487E47FA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B42-100C-4661-B3AD-478E39B7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54E-C905-47CD-A39E-98D059DD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7E1-CB37-450A-9894-0DC21E5A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CDF-7B3F-4E4B-844C-3FA17B2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BAD-D43E-4322-8D31-BA10595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611-B40E-4CDF-938F-F581855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400176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521-E4D1-4C77-A2E6-EAA949DD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13F-835A-4059-B15B-9E7EBA35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F17-2596-4599-A98B-0C786F8F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24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AC Banner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500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CCEB-4935-41CF-BBF1-6824BDCEE077}" type="slidenum">
              <a:rPr b="0" lang="ko-K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AC Half Banner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345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2311560"/>
          <a:ext cx="3124080" cy="104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11560"/>
                    <a:ext cx="312408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geofstone@interdev.co.krv" TargetMode="External"/><Relationship Id="rId2" Type="http://schemas.openxmlformats.org/officeDocument/2006/relationships/hyperlink" Target="mailto:ageofstone@interdev.co.krv" TargetMode="External"/><Relationship Id="rId3" Type="http://schemas.openxmlformats.org/officeDocument/2006/relationships/hyperlink" Target="mailto:ageofstone@interdev.co.krv" TargetMode="External"/><Relationship Id="rId4" Type="http://schemas.openxmlformats.org/officeDocument/2006/relationships/hyperlink" Target="mailto:ageofstone@interdev.co.kr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굴림"/>
              </a:rPr>
              <a:t>C# Deleg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9520" y="4266720"/>
            <a:ext cx="4953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㈜ 인터데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솔루션 개발 사업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준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ahoma"/>
                <a:ea typeface="굴림"/>
                <a:hlinkClick r:id="rId1"/>
              </a:rPr>
              <a:t>ageofstone@</a:t>
            </a:r>
            <a:r>
              <a:rPr b="1" lang="en-US" sz="2400" spc="-1" strike="noStrike" u="sng">
                <a:solidFill>
                  <a:srgbClr val="996633"/>
                </a:solidFill>
                <a:uFillTx/>
                <a:latin typeface="Tahoma"/>
                <a:ea typeface="굴림"/>
                <a:hlinkClick r:id="rId2"/>
              </a:rPr>
              <a:t>interdev</a:t>
            </a:r>
            <a:r>
              <a:rPr b="1" lang="en-US" sz="2400" spc="-1" strike="noStrike" u="sng">
                <a:solidFill>
                  <a:srgbClr val="996633"/>
                </a:solidFill>
                <a:uFillTx/>
                <a:latin typeface="Tahoma"/>
                <a:ea typeface="굴림"/>
                <a:hlinkClick r:id="rId3"/>
              </a:rPr>
              <a:t>.co.</a:t>
            </a:r>
            <a:r>
              <a:rPr b="1" lang="en-US" sz="2400" spc="-1" strike="noStrike" u="sng">
                <a:solidFill>
                  <a:srgbClr val="996633"/>
                </a:solidFill>
                <a:uFillTx/>
                <a:latin typeface="Tahoma"/>
                <a:ea typeface="굴림"/>
                <a:hlinkClick r:id="rId4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학습 내용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 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 instance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cast Deleg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leg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객체의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자기를 생성한 객체의 함수를 호출해야 할 필요가 있을 때 사용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한 시스템에 있는 객체가 다른 객체를 생성해서 그것을 사용하고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 그 생성된 객체가 자기를 생성한 객체의 함수를 호출하는 형태의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양방향 호출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indows AP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allback function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콜백함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생성하기 위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unction point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을 더 안정적으로 확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함께 사용되어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T Framework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에 많이 사용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달리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mpile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에는 매개변수로 전달되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무엇인지 알지 못한다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legate</a:t>
            </a: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의 정의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294920"/>
            <a:ext cx="83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재 정의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어떤 종류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나타내는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mpil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게 알려주는 것을 의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정의할 때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나타내고자 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ignatur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완전한 사항을 명시해야 한다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blic, private, protecte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접근자 사용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429000"/>
            <a:ext cx="8458200" cy="32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gate void OneOperation(uint X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하나의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uint parameter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를 가지고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void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를 반환하는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ethod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의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delega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gate double TwoOperation(long L1, long L2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두개의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long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을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parameter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로 받아들이고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double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을 반환하는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ethod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의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delega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delegate string ThreeOperation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parameter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가 없으며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string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을 반환하는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ethod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의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delega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legate</a:t>
            </a: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의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instance </a:t>
            </a: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생성 및 사용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w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산자를 통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stanc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생성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atanc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통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호출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514600"/>
            <a:ext cx="8458200" cy="162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gat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yDelegate(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string 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Hell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string 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{ ....} 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가 호출할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yDelegate md = new MyDelegate(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Hell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 instance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d("Hello World~!"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 instance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를 통해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Hello method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를 호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4557600"/>
            <a:ext cx="8458200" cy="162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gat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nt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yDelegate(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string 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IntV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string 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{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return 12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} 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가 호출할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yDelegate md = new MyDelegate(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IntV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 instance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nt 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md("Hello World~!"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 instance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를 통해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Hello method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를 호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Multicast Deleg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통해 두 개 이상의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호출하는 것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의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turn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값에 있어서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ulticase delegat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구현한다는 것은 한번의 호출로 두개 이상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실행하는 것인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 호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etur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값이 여러개라면 어떤 것을 받을 것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마지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etur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값 이외에는 리턴받을 수 없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와 함께 주로 사용됨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054320"/>
            <a:ext cx="8458200" cy="254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gat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yDelegate(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string 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Hell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string 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{ ....} 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가 호출할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ethod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string 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{ ....} 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가 호출할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ethod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yDelegate md = new MyDelegate(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Hell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첫번째 호출될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ethod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지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d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+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w MyDelegate(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두번째 호출될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ethod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지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d("Hello World~!");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// delegate instance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를 통해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Hello method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</a:rPr>
              <a:t>를 호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m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정리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 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 instance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cast Deleg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박준호</dc:creator>
  <dc:description/>
  <dc:language>en-US</dc:language>
  <cp:lastModifiedBy>ageofstone</cp:lastModifiedBy>
  <dcterms:modified xsi:type="dcterms:W3CDTF">2002-04-08T11:23:20Z</dcterms:modified>
  <cp:revision>16</cp:revision>
  <dc:subject/>
  <dc:title>C# Delegate</dc:title>
</cp:coreProperties>
</file>